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3550-9712-44B0-A9DC-F891D99E55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D127-4F87-4A37-8C9D-775AFF1A0D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ACC-09A6-4CE3-A03F-15AFFB4E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A78-8324-44A2-B045-9BABEEAB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16C-C12A-42E1-865C-81233FF4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C89-86CE-4F93-A945-D50D1252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9E6-BC4D-4030-9D9B-C30404C6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509-B450-46AC-8119-C294AC0A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A46-EE7F-4FA3-A076-4911B238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AD1-4C42-4F3A-944E-9DA94344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FF7-2B69-460C-9900-6C875D95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819-BA14-43B0-821D-1F48868D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B81-1290-4667-AC36-F29C4DD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E5E-5F34-4923-AC68-D6D872FC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1949-742A-46E6-A05F-C14CBFF4F9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220932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健康成长"/>
          <p:cNvPicPr/>
          <p:nvPr/>
        </p:nvPicPr>
        <p:blipFill>
          <a:blip r:embed="rId2"/>
          <a:stretch/>
        </p:blipFill>
        <p:spPr>
          <a:xfrm>
            <a:off x="1905120" y="1828800"/>
            <a:ext cx="5238720" cy="39211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3692520" y="5867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母关爱我们健康成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701160" y="5791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给我们讲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爷爷讲故事"/>
          <p:cNvPicPr/>
          <p:nvPr/>
        </p:nvPicPr>
        <p:blipFill>
          <a:blip r:embed="rId2"/>
          <a:stretch/>
        </p:blipFill>
        <p:spPr>
          <a:xfrm>
            <a:off x="2133720" y="1770120"/>
            <a:ext cx="5135400" cy="38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卡通小孩-2"/>
          <p:cNvPicPr/>
          <p:nvPr/>
        </p:nvPicPr>
        <p:blipFill>
          <a:blip r:embed="rId2"/>
          <a:stretch/>
        </p:blipFill>
        <p:spPr>
          <a:xfrm>
            <a:off x="2006640" y="2514600"/>
            <a:ext cx="1887480" cy="28386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4038480" y="1295280"/>
            <a:ext cx="3505320" cy="1828800"/>
          </a:xfrm>
          <a:prstGeom prst="cloudCallout">
            <a:avLst>
              <a:gd name="adj1" fmla="val -49185"/>
              <a:gd name="adj2" fmla="val 6684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让我也来讲讲家里人的故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卡通小孩-3"/>
          <p:cNvPicPr/>
          <p:nvPr/>
        </p:nvPicPr>
        <p:blipFill>
          <a:blip r:embed="rId2"/>
          <a:stretch/>
        </p:blipFill>
        <p:spPr>
          <a:xfrm>
            <a:off x="2036880" y="2479680"/>
            <a:ext cx="1468440" cy="3235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4038480" y="1295280"/>
            <a:ext cx="3657600" cy="2286000"/>
          </a:xfrm>
          <a:prstGeom prst="cloudCallout">
            <a:avLst>
              <a:gd name="adj1" fmla="val -55078"/>
              <a:gd name="adj2" fmla="val 5444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你能说出家人间的相互关系吗？让我们试试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914400" y="1828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爷爷是爸爸的爸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09480" y="23623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奶奶是爸爸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480" y="3443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姥爷（外公）是妈妈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09480" y="28954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姥姥（外婆）是妈妈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066680" y="5272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舅舅是妈妈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066680" y="46623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叔叔是爸爸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990720" y="4052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姑姑是爸爸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5881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阿姨是妈妈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952880" y="34304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爸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200400" y="2362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　妈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648320" y="29084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　妈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5812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姐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657600" y="5272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兄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6576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姐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3606840" y="463716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弟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卡通小孩-3"/>
          <p:cNvPicPr/>
          <p:nvPr/>
        </p:nvPicPr>
        <p:blipFill>
          <a:blip r:embed="rId2"/>
          <a:stretch/>
        </p:blipFill>
        <p:spPr>
          <a:xfrm>
            <a:off x="6877080" y="2133720"/>
            <a:ext cx="1467000" cy="323532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755640" y="765000"/>
            <a:ext cx="6765480" cy="4968360"/>
            <a:chOff x="755640" y="765000"/>
            <a:chExt cx="6765480" cy="4968360"/>
          </a:xfrm>
        </p:grpSpPr>
        <p:grpSp>
          <p:nvGrpSpPr>
            <p:cNvPr id="102" name="Group 5"/>
            <p:cNvGrpSpPr/>
            <p:nvPr/>
          </p:nvGrpSpPr>
          <p:grpSpPr>
            <a:xfrm>
              <a:off x="755640" y="1197360"/>
              <a:ext cx="6191280" cy="4536000"/>
              <a:chOff x="755640" y="1197360"/>
              <a:chExt cx="6191280" cy="4536000"/>
            </a:xfrm>
          </p:grpSpPr>
          <p:sp>
            <p:nvSpPr>
              <p:cNvPr id="103" name="Rectangle 6"/>
              <p:cNvSpPr/>
              <p:nvPr/>
            </p:nvSpPr>
            <p:spPr>
              <a:xfrm>
                <a:off x="5289120" y="1197360"/>
                <a:ext cx="360000" cy="10083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Group 7"/>
              <p:cNvGrpSpPr/>
              <p:nvPr/>
            </p:nvGrpSpPr>
            <p:grpSpPr>
              <a:xfrm>
                <a:off x="755640" y="1485360"/>
                <a:ext cx="6191280" cy="4248000"/>
                <a:chOff x="755640" y="1485360"/>
                <a:chExt cx="6191280" cy="4248000"/>
              </a:xfrm>
            </p:grpSpPr>
            <p:sp>
              <p:nvSpPr>
                <p:cNvPr id="105" name="Rectangle 8"/>
                <p:cNvSpPr/>
                <p:nvPr/>
              </p:nvSpPr>
              <p:spPr>
                <a:xfrm>
                  <a:off x="1239120" y="2547000"/>
                  <a:ext cx="5223960" cy="318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AutoShape 9"/>
                <p:cNvSpPr/>
                <p:nvPr/>
              </p:nvSpPr>
              <p:spPr>
                <a:xfrm>
                  <a:off x="755640" y="1485360"/>
                  <a:ext cx="6191280" cy="1061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" name="Group 10"/>
            <p:cNvGrpSpPr/>
            <p:nvPr/>
          </p:nvGrpSpPr>
          <p:grpSpPr>
            <a:xfrm>
              <a:off x="6081120" y="765000"/>
              <a:ext cx="1440000" cy="503280"/>
              <a:chOff x="6081120" y="765000"/>
              <a:chExt cx="1440000" cy="503280"/>
            </a:xfrm>
          </p:grpSpPr>
          <p:sp>
            <p:nvSpPr>
              <p:cNvPr id="108" name="Oval 11"/>
              <p:cNvSpPr/>
              <p:nvPr/>
            </p:nvSpPr>
            <p:spPr>
              <a:xfrm>
                <a:off x="6081120" y="1052640"/>
                <a:ext cx="288000" cy="2156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12"/>
              <p:cNvSpPr/>
              <p:nvPr/>
            </p:nvSpPr>
            <p:spPr>
              <a:xfrm>
                <a:off x="6801120" y="765000"/>
                <a:ext cx="720000" cy="4323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Text Box 13"/>
          <p:cNvSpPr/>
          <p:nvPr/>
        </p:nvSpPr>
        <p:spPr>
          <a:xfrm>
            <a:off x="2844720" y="191772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一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1332000" y="2924280"/>
            <a:ext cx="23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爸爸的兄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332000" y="364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爸爸的姐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33200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妈妈的兄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403280" y="508464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妈妈的姐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067280" y="292428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姑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姑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140360" y="357336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姨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4140360" y="4365720"/>
            <a:ext cx="15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伯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叔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4140360" y="5013360"/>
            <a:ext cx="16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舅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舅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2916360" y="3213000"/>
            <a:ext cx="1296720" cy="1297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2987640" y="3213000"/>
            <a:ext cx="1152720" cy="72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2987640" y="458136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5"/>
          <p:cNvSpPr/>
          <p:nvPr/>
        </p:nvSpPr>
        <p:spPr>
          <a:xfrm flipV="1">
            <a:off x="2987640" y="3789000"/>
            <a:ext cx="1224000" cy="158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3"/>
          <p:cNvPicPr/>
          <p:nvPr/>
        </p:nvPicPr>
        <p:blipFill>
          <a:blip r:embed="rId1"/>
          <a:stretch/>
        </p:blipFill>
        <p:spPr>
          <a:xfrm>
            <a:off x="620640" y="1044720"/>
            <a:ext cx="2503440" cy="707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20040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676520" y="17524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请贴上自己和家人在一起的照片或画画自己和全家人的图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2438280"/>
            <a:ext cx="3681360" cy="2819520"/>
          </a:xfrm>
          <a:prstGeom prst="cloudCallout">
            <a:avLst>
              <a:gd name="adj1" fmla="val -69157"/>
              <a:gd name="adj2" fmla="val 3062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把照片或画好的图片里的故事，讲给同学们听一听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卡通小孩-4"/>
          <p:cNvPicPr/>
          <p:nvPr/>
        </p:nvPicPr>
        <p:blipFill>
          <a:blip r:embed="rId3"/>
          <a:stretch/>
        </p:blipFill>
        <p:spPr>
          <a:xfrm>
            <a:off x="2286000" y="3184560"/>
            <a:ext cx="161784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1FC9-A35C-4BF4-9EF8-57C6827276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"/>
          <p:cNvSpPr/>
          <p:nvPr/>
        </p:nvSpPr>
        <p:spPr>
          <a:xfrm>
            <a:off x="4572000" y="1600200"/>
            <a:ext cx="2971800" cy="1531800"/>
          </a:xfrm>
          <a:prstGeom prst="cloudCallout">
            <a:avLst>
              <a:gd name="adj1" fmla="val -55981"/>
              <a:gd name="adj2" fmla="val 6285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你的家里都有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卡通小孩-1"/>
          <p:cNvPicPr/>
          <p:nvPr/>
        </p:nvPicPr>
        <p:blipFill>
          <a:blip r:embed="rId3"/>
          <a:stretch/>
        </p:blipFill>
        <p:spPr>
          <a:xfrm>
            <a:off x="2535120" y="2590920"/>
            <a:ext cx="1438560" cy="321156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"/>
          <p:cNvSpPr/>
          <p:nvPr/>
        </p:nvSpPr>
        <p:spPr>
          <a:xfrm>
            <a:off x="704880" y="6087960"/>
            <a:ext cx="68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B052864_9"/>
          <p:cNvPicPr/>
          <p:nvPr/>
        </p:nvPicPr>
        <p:blipFill>
          <a:blip r:embed="rId1"/>
          <a:stretch/>
        </p:blipFill>
        <p:spPr>
          <a:xfrm>
            <a:off x="490680" y="1600200"/>
            <a:ext cx="3970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200895101618445_2"/>
          <p:cNvPicPr/>
          <p:nvPr/>
        </p:nvPicPr>
        <p:blipFill>
          <a:blip r:embed="rId2"/>
          <a:stretch/>
        </p:blipFill>
        <p:spPr>
          <a:xfrm>
            <a:off x="4419720" y="1413000"/>
            <a:ext cx="4122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70-1009212004470"/>
          <p:cNvPicPr/>
          <p:nvPr/>
        </p:nvPicPr>
        <p:blipFill>
          <a:blip r:embed="rId1"/>
          <a:stretch/>
        </p:blipFill>
        <p:spPr>
          <a:xfrm>
            <a:off x="252360" y="593640"/>
            <a:ext cx="84106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3320946_134827031473_2"/>
          <p:cNvPicPr/>
          <p:nvPr/>
        </p:nvPicPr>
        <p:blipFill>
          <a:blip r:embed="rId1"/>
          <a:stretch/>
        </p:blipFill>
        <p:spPr>
          <a:xfrm>
            <a:off x="826920" y="1365120"/>
            <a:ext cx="72741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375377_201003011401411.thumb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600200" y="19051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一听我们小朋友家里人有些什么故事或有趣的事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2268360" y="2924280"/>
            <a:ext cx="434520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幸福的晚年"/>
          <p:cNvPicPr/>
          <p:nvPr/>
        </p:nvPicPr>
        <p:blipFill>
          <a:blip r:embed="rId2"/>
          <a:stretch/>
        </p:blipFill>
        <p:spPr>
          <a:xfrm>
            <a:off x="1924200" y="1736640"/>
            <a:ext cx="5314680" cy="3978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2971800" y="5638680"/>
            <a:ext cx="2743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乐的家庭聚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父母的抚养和教导"/>
          <p:cNvPicPr/>
          <p:nvPr/>
        </p:nvPicPr>
        <p:blipFill>
          <a:blip r:embed="rId1"/>
          <a:stretch/>
        </p:blipFill>
        <p:spPr>
          <a:xfrm>
            <a:off x="1692360" y="1557360"/>
            <a:ext cx="5067360" cy="3790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01"/>
          <p:cNvPicPr/>
          <p:nvPr/>
        </p:nvPicPr>
        <p:blipFill>
          <a:blip r:embed="rId2"/>
          <a:stretch/>
        </p:blipFill>
        <p:spPr>
          <a:xfrm>
            <a:off x="684360" y="1052640"/>
            <a:ext cx="247968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143000" y="5229360"/>
            <a:ext cx="8001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人人都有自己的家，都离不开父母亲人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抚养和教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03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49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