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A1A-5006-470A-A83F-949EB3C8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42F-29B4-4CDA-A0AD-0A3CB057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9D7-9017-49EF-8A16-86A78381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25E-225D-4A5B-84D9-049AC3A9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758-0C3B-40C6-8CC9-6DF18781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D097-6011-47F4-97E9-AB0A4E39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6BE-9808-4FF6-9785-9DAEE91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08F-E6DF-4AE0-8D81-5AC7A3A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0105-CCA5-4FB5-A601-A95BDDDB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591-AA3C-4FB2-B2C9-D49334C6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4644-4918-4D5E-B078-610C424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7CC-6997-4DAE-A50C-5681804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F066-B5B9-4DE1-9C18-448E7AD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3DB-04C8-4BAF-A343-21AB606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7800-A963-4307-86B5-2AC1A5F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F918-C29F-4F3E-8B9B-13655163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EAA-B9A1-4D70-B9B7-38FF5229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4726E-DA9B-452F-91FC-B542781B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8683F-8091-4F03-B551-A2F2F9A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393E0-6AC4-4CDB-BA54-5D5DC9A1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39687-3A25-44EF-B80E-E5A4479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E521A-B5A0-40EE-ADD7-6F05F741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80E-BF58-4F80-9FB4-B285B77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16E4E-8200-4DA5-8C97-C0408919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42E30-B767-4393-B153-4E9F7B8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879A5-135E-4ED2-9D75-AE7915D4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8A57C-BF50-4F4F-BAA3-0AD36BC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81E61-8801-4863-8E03-EED2A92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C005D-F3D1-46F5-9DD7-483388EC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22A22-9A15-4464-B960-890DC0BA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766-0564-4750-866C-B5BB607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2ED-18FD-48F0-BEC1-657D9BB4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7B1-D2B4-45B9-B0C8-D87D6D7D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1AD-602C-4BF6-A349-85F2356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B0B-3347-4FFD-B0A0-A67FB37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EE7-564B-4C37-BDC3-7C198E9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E3E7-4A84-4774-AB60-D0F229AB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053A-A42B-42DC-982A-F9BA77F3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A283-0B2C-4567-8F57-B443319A4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91917.com.cn/newgame/0219/0219-3.as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eoples.ru/art/literature/poetry/contemporary/esenin/esenin_sergey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91917.com.cn/newgame/0219/0219-3.asp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l3.net/Pweb/lxiao/zp-picture.htm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xnr.zijian.net/29/226973/" TargetMode="External"/><Relationship Id="rId17" Type="http://schemas.openxmlformats.org/officeDocument/2006/relationships/image" Target="../media/image4.gif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inaphotocenter.com/cphoto/2001-12/2001-12p76.html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6niao.net/type.asp?typeid=7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pnet.com.cn/forum/forum_show_new.asp?id=2053995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enorth.com.cn/system/2003/02/08/000503792.s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enorth.com.cn/system/2003/02/08/000503792.s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nmi.net/printpage.asp?BoardID=3&amp;id=137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888"/>
          <p:cNvPicPr/>
          <p:nvPr/>
        </p:nvPicPr>
        <p:blipFill>
          <a:blip r:embed="rId1"/>
          <a:stretch/>
        </p:blipFill>
        <p:spPr>
          <a:xfrm>
            <a:off x="0" y="569592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164" name="页脚占位符 2"/>
          <p:cNvSpPr/>
          <p:nvPr/>
        </p:nvSpPr>
        <p:spPr>
          <a:xfrm>
            <a:off x="2195640" y="6093000"/>
            <a:ext cx="6797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777"/>
          <p:cNvPicPr/>
          <p:nvPr/>
        </p:nvPicPr>
        <p:blipFill>
          <a:blip r:embed="rId2"/>
          <a:stretch/>
        </p:blipFill>
        <p:spPr>
          <a:xfrm>
            <a:off x="6084720" y="476280"/>
            <a:ext cx="2686320" cy="241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6"/>
          <p:cNvPicPr/>
          <p:nvPr/>
        </p:nvPicPr>
        <p:blipFill>
          <a:blip r:embed="rId3"/>
          <a:stretch/>
        </p:blipFill>
        <p:spPr>
          <a:xfrm>
            <a:off x="539640" y="4292640"/>
            <a:ext cx="1462320" cy="14619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7"/>
          <p:cNvSpPr txBox="1"/>
          <p:nvPr/>
        </p:nvSpPr>
        <p:spPr>
          <a:xfrm>
            <a:off x="684360" y="907920"/>
            <a:ext cx="69120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《外国诗两首》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0219wow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7" name="WordArt 6"/>
          <p:cNvSpPr txBox="1"/>
          <p:nvPr/>
        </p:nvSpPr>
        <p:spPr>
          <a:xfrm>
            <a:off x="4932360" y="1125360"/>
            <a:ext cx="2676600" cy="189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夜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627280" y="4076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叶赛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esenin_serg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60280"/>
            <a:ext cx="2457360" cy="3753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0" y="0"/>
            <a:ext cx="61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叶赛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被誉为“天才的乡村歌手”、苏维埃诗歌奠基人之一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第一本诗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扫墓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版。同年应征入伍，一年后，时值二月革命、十月革命，诗人写了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变容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乐土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约旦河的鸽子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著名诗作，以抒情的方式，抒发个人对革命的感受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参加意象派并成为中心人物，写出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四旬祭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一个流氓的自由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诗人与到莫斯科访问的美国舞蹈家邓肯相识，热恋成婚，并出游西欧、美国。两人很快由热恋变为争吵，终于离异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诗人回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0" y="4575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出版了轰动文坛的诗集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莫斯科酒馆之音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展示了诗人抑郁消沉的心灵。诗人创作高峰期，写出了组诗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波斯抒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长诗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安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斯涅金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诗集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苏维埃俄罗斯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三度结婚（与列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托尔斯泰的孙女）。然而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便因精神病住院治疗，完成自我审判式的长诗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忧郁的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写下绝笔诗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拂晓在列宁格勒的一家旅馆投缳自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0219wow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25" name="WordArt 5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1993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684360" y="981000"/>
            <a:ext cx="770256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用自己的话，描绘一下诗中描写的意境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1403280" y="3284640"/>
            <a:ext cx="6400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说说你最欣赏的诗句，为什么？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仿宋_GB2312"/>
              </a:rPr>
              <a:t>这首诗传达出诗人怎样的心境？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280" y="1628280"/>
            <a:ext cx="74278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者着力表现夜的静谧、美丽，传达出对自然的热爱和他安适、宁静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11280" y="3068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仿宋_GB2312"/>
              </a:rPr>
              <a:t>诗人在描绘夜景时，采用了哪些不同的角度展开描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187280" y="4724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别从听觉和视觉的角度描写了动景和静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wp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395280" y="328464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首诗写得宁静、典雅，遣词造句和诗行的组织，都富有古典诗词的风味。在这笔墨空灵的画图中，蕴含着诗人深沉的遐想。异国海边的静夜，有着“对月流珠”的鲛人的幻影，这难道不是诗人眷怀祖国、感怀世事的心灵的投射吗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5445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你还能背诵有关夜色的文学作品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724360" y="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静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6335640" y="981000"/>
            <a:ext cx="2808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月光淡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笼罩着村外的松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白云团团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漏出了几点疏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天河何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远远的海雾模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怕会有鲛人在岸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对月泣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0" y="260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比较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C07C-5F4E-4DA3-81F3-6732822AF8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9"/>
          <p:cNvSpPr/>
          <p:nvPr/>
        </p:nvSpPr>
        <p:spPr>
          <a:xfrm>
            <a:off x="1692360" y="15876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24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0" y="47628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1187280" y="90792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歌唱自然，赞美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340000" y="2349360"/>
            <a:ext cx="68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诗歌的永恒主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2556000" y="3716280"/>
            <a:ext cx="396072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田园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Picture 8" descr="888"/>
          <p:cNvPicPr/>
          <p:nvPr/>
        </p:nvPicPr>
        <p:blipFill>
          <a:blip r:embed="rId18"/>
          <a:stretch/>
        </p:blipFill>
        <p:spPr>
          <a:xfrm>
            <a:off x="0" y="5735520"/>
            <a:ext cx="8820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keats"/>
          <p:cNvPicPr/>
          <p:nvPr/>
        </p:nvPicPr>
        <p:blipFill>
          <a:blip r:embed="rId1"/>
          <a:stretch/>
        </p:blipFill>
        <p:spPr>
          <a:xfrm>
            <a:off x="250920" y="549360"/>
            <a:ext cx="3068640" cy="3068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3348000" y="333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济慈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英国浪漫主义诗人，自幼家境窘困，是当时英国文坛上一颗光彩夺目的巨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济慈创作的第一首诗是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仿斯宾塞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接着又写了许多优秀的十四行诗，次年，他根据古希腊一个美丽神话写成的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安狄米恩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世，全诗想象丰富，色彩绚丽，洋溢着对自由的渴望，表现了反古典主义的进步倾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68360" y="400536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是济慈诗歌创作的鼎盛时期，他先后完成了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伊莎贝拉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圣亚尼节前夜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许佩里恩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著名长诗，最脍炙人口的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夜莺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希腊古瓮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秋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名篇也是在这一时期内写成的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济慈诗才横溢，与雪莱、拜伦齐名。死时他年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可是他遗下的诗篇一直誉满人间，被认为完美地体现了西方浪漫主义诗歌的特色，并被推崇为欧洲浪漫主义运动的杰出代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2001-12p78-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537000"/>
            <a:ext cx="4427640" cy="331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20045269594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715000" cy="4248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0"/>
          <p:cNvSpPr txBox="1"/>
          <p:nvPr/>
        </p:nvSpPr>
        <p:spPr>
          <a:xfrm>
            <a:off x="826920" y="3860640"/>
            <a:ext cx="520092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《蝈蝈与蛐蛐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1889280" y="38736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%7b8719243C-8816-4154-A71A-7AEBD0713C55%7d">
            <a:hlinkClick r:id="rId1"/>
          </p:cNvPr>
          <p:cNvPicPr/>
          <p:nvPr/>
        </p:nvPicPr>
        <p:blipFill>
          <a:blip r:embed="rId2"/>
          <a:srcRect l="0" t="0" r="0" b="5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900000" y="981000"/>
            <a:ext cx="82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感情的朗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注意把握诗的语调、重音和停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sjf03020805">
            <a:hlinkClick r:id="rId1"/>
          </p:cNvPr>
          <p:cNvPicPr/>
          <p:nvPr/>
        </p:nvPicPr>
        <p:blipFill>
          <a:blip r:embed="rId2">
            <a:lum contrast="-24000"/>
          </a:blip>
          <a:srcRect l="0" t="0" r="0" b="84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684360" y="404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两首外国诗并不以词语的精炼见长，而是以意境深远、情感隽永出色。试着体验诗中的情感和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39640" y="2421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诗人把夏天蝈蝈的“乐音”和冬天蛐蛐的“歌儿”称为“大地的诗歌”，你是怎么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900000" y="4797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诗人把蝈蝈和蛐蛐当作大自然的歌手，把他们的鸣唱当作大自然的诗歌，借以表达对大自然的无限热爱和由衷的赞美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sjf03020805">
            <a:hlinkClick r:id="rId1"/>
          </p:cNvPr>
          <p:cNvPicPr/>
          <p:nvPr/>
        </p:nvPicPr>
        <p:blipFill>
          <a:blip r:embed="rId2"/>
          <a:srcRect l="0" t="0" r="0" b="69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1116000" y="83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蝈蝈与蛐蛐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〉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哪些句子点明了主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26920" y="2924280"/>
            <a:ext cx="781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ffff"/>
                </a:solidFill>
                <a:latin typeface="Arial"/>
              </a:rPr>
              <a:t>大地的诗歌从来不会死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ffff"/>
                </a:solidFill>
                <a:latin typeface="Arial"/>
              </a:rPr>
              <a:t>大地的诗歌呀，从来没有停息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20044211157219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755640" y="83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蝈蝈与蛐蛐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要表达怎样的主题思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900000" y="4005360"/>
            <a:ext cx="684216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全诗虽然只勾勒了夏、冬两幅小景，但它所揭示的却是大自然一年四季歌声不断、充满生机的规律，歌颂了大自然周而复始、生命不息的永恒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032d"/>
          <p:cNvPicPr/>
          <p:nvPr/>
        </p:nvPicPr>
        <p:blipFill>
          <a:blip r:embed="rId1"/>
          <a:stretch/>
        </p:blipFill>
        <p:spPr>
          <a:xfrm>
            <a:off x="5867280" y="692280"/>
            <a:ext cx="3535560" cy="5759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684360" y="333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蝈蝈与蛐蛐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诗构思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68360" y="256536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a800"/>
                </a:solidFill>
                <a:latin typeface="Arial"/>
              </a:rPr>
              <a:t>大地的诗歌从来不会死亡。（点明主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3564000" y="2924280"/>
            <a:ext cx="718920" cy="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427640" y="2565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a800"/>
                </a:solidFill>
                <a:latin typeface="Arial"/>
              </a:rPr>
              <a:t>生机勃勃的盛夏（动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468360" y="3933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大地的诗歌呀，从来没有停息（再次点明主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564000" y="4437000"/>
            <a:ext cx="792000" cy="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356000" y="3933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宁寂严冬和温馨家庭（静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1116000" y="1773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构思巧妙，短小精致而又十分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3851280" y="3141720"/>
            <a:ext cx="0" cy="107928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3851280" y="4653000"/>
            <a:ext cx="0" cy="86364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488760" y="2997360"/>
            <a:ext cx="911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后呼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3561840" y="4797360"/>
            <a:ext cx="91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联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1908000" y="5661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夏冬两幅画面叠印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1:52:50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46:29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