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4B5-34BD-46C8-BAE4-6588B722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98C-966D-4224-B6FE-0E1D41B1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7FE-D3E4-474A-9DBD-686D196E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2C5-19E0-4D2C-B2A0-626FC145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5EB-CA59-420B-AC17-9A6E64F7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CEE5-3F67-41E2-95A5-2BED389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2407-FC49-4ABB-89A3-3DF58464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D543-524D-4F94-8CA4-3557E132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C9C4-FB4B-4CA4-A023-312386B1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C95D-0AF9-4669-93D2-87C1A2A8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B106-A614-4B6F-A150-AD3122E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725-D7D7-41D0-9E3D-C02C34A7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32AD-B609-44B5-894C-7C615057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977D-10A6-4C21-B1C3-0B5B28D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3B9C-5E5D-4360-B6F0-F6C808C8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3DAB-4A3A-4759-ADF4-BFD29A79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64AC-4D29-4911-8AB1-1DEDE410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6B32-A030-4B86-A47F-F75C8C81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730B-5FDA-43C1-B580-EF6CE70B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50EB-0D1F-495F-9B85-B60A7F53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811F1-B63A-4C16-B0DD-0C54E9F8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E4D1-79A8-4231-9B56-EC14060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7CC-E21C-47DB-B34A-2E2A67F1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FF7F-39B0-4597-886B-531A023F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9613-BC03-416B-B867-C2916E20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A137-9AF1-487D-8F14-2BFA0F6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ABA3-F7F4-4EF2-A704-6383D7D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B40F-8BAE-4D9D-A0E1-6FE8D33C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F581-EFFE-47BC-ADCB-1BD4392C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BA33-9A48-454A-8713-B551EB67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6B3-18BB-45E3-A1D6-C166A68D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32D-F7D3-45E3-B24B-9B22A879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4AF-7E7A-4314-8600-285E7FD6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266-B2EB-4F76-9BDB-D04E5C5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998-10B5-46C9-9096-01BF5076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0CB-87C0-4AC1-BFA1-F61BB8BE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F2A2-5005-44C8-B4C8-1748014FD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3E9E-5F44-4E77-A540-D336403FB2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9A57-CEB9-4892-A222-CD48BECF8EE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水滴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6"/>
          <p:cNvSpPr txBox="1"/>
          <p:nvPr/>
        </p:nvSpPr>
        <p:spPr>
          <a:xfrm>
            <a:off x="1835280" y="1989000"/>
            <a:ext cx="64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我是什么</a:t>
            </a:r>
            <a:endParaRPr b="0" lang="en-US" sz="54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6" name="矩形 8"/>
          <p:cNvSpPr/>
          <p:nvPr/>
        </p:nvSpPr>
        <p:spPr>
          <a:xfrm>
            <a:off x="239148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水的用途.mpg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7909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6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十三陵水库"/>
          <p:cNvPicPr/>
          <p:nvPr/>
        </p:nvPicPr>
        <p:blipFill>
          <a:blip r:embed="rId1"/>
          <a:stretch/>
        </p:blipFill>
        <p:spPr>
          <a:xfrm>
            <a:off x="0" y="0"/>
            <a:ext cx="4211640" cy="3141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水库"/>
          <p:cNvPicPr/>
          <p:nvPr/>
        </p:nvPicPr>
        <p:blipFill>
          <a:blip r:embed="rId2"/>
          <a:stretch/>
        </p:blipFill>
        <p:spPr>
          <a:xfrm>
            <a:off x="4103640" y="0"/>
            <a:ext cx="5040360" cy="3141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水库大坝"/>
          <p:cNvPicPr/>
          <p:nvPr/>
        </p:nvPicPr>
        <p:blipFill>
          <a:blip r:embed="rId3"/>
          <a:stretch/>
        </p:blipFill>
        <p:spPr>
          <a:xfrm>
            <a:off x="4140360" y="3112920"/>
            <a:ext cx="5003640" cy="3745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三峡大坝1"/>
          <p:cNvPicPr/>
          <p:nvPr/>
        </p:nvPicPr>
        <p:blipFill>
          <a:blip r:embed="rId4"/>
          <a:stretch/>
        </p:blipFill>
        <p:spPr>
          <a:xfrm>
            <a:off x="0" y="3141720"/>
            <a:ext cx="4140360" cy="3716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三峡大坝"/>
          <p:cNvPicPr/>
          <p:nvPr/>
        </p:nvPicPr>
        <p:blipFill>
          <a:blip r:embed="rId5"/>
          <a:stretch/>
        </p:blipFill>
        <p:spPr>
          <a:xfrm rot="2674200">
            <a:off x="1980720" y="990720"/>
            <a:ext cx="4676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9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WordArt 4"/>
          <p:cNvSpPr txBox="1"/>
          <p:nvPr/>
        </p:nvSpPr>
        <p:spPr>
          <a:xfrm>
            <a:off x="900000" y="549360"/>
            <a:ext cx="39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新魏"/>
              </a:rPr>
              <a:t>我也学着说</a:t>
            </a:r>
            <a:endParaRPr b="1" lang="en-US" sz="48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611280" y="141300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会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太阳一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就变成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升到空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就变成无数极小极小的点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连成一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空中飘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815840" y="1779480"/>
            <a:ext cx="42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生活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见过水还在变吗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187280" y="4221000"/>
            <a:ext cx="7056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1359720" y="4267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楷体_GB2312"/>
              </a:rPr>
              <a:t>奔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207080" y="1752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楷体_GB2312"/>
              </a:rPr>
              <a:t>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2057400" y="1447920"/>
            <a:ext cx="76320" cy="152388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2057400" y="3962520"/>
            <a:ext cx="76320" cy="152388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2086560" y="112716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方正姚体"/>
              </a:rPr>
              <a:t>é</a:t>
            </a:r>
            <a:r>
              <a:rPr b="0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2193840" y="2575080"/>
            <a:ext cx="8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m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2209680" y="3794040"/>
            <a:ext cx="91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bē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152800" y="50292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方正姚体"/>
              </a:rPr>
              <a:t>è</a:t>
            </a:r>
            <a:r>
              <a:rPr b="0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3875040" y="99072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楷体_GB2312"/>
              </a:rPr>
              <a:t>没有  没事  没关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3762360" y="25336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楷体_GB2312"/>
              </a:rPr>
              <a:t>淹没  埋没  没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3676320" y="38098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楷体_GB2312"/>
              </a:rPr>
              <a:t>奔波  奔跑   奔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3828960" y="50482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楷体_GB2312"/>
              </a:rPr>
              <a:t>奔向  奔命   投奔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AutoShape 16">
            <a:hlinkClick r:id="rId1" action="ppaction://hlinksldjump"/>
          </p:cNvPr>
          <p:cNvSpPr/>
          <p:nvPr/>
        </p:nvSpPr>
        <p:spPr>
          <a:xfrm>
            <a:off x="15228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C258-D88A-43A9-AA57-9E47C6365F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Cloud"/>
          <p:cNvSpPr/>
          <p:nvPr/>
        </p:nvSpPr>
        <p:spPr>
          <a:xfrm>
            <a:off x="3124080" y="533520"/>
            <a:ext cx="2089440" cy="107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冰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8" name="Group 41"/>
          <p:cNvGrpSpPr/>
          <p:nvPr/>
        </p:nvGrpSpPr>
        <p:grpSpPr>
          <a:xfrm>
            <a:off x="755640" y="404640"/>
            <a:ext cx="1800000" cy="1008000"/>
            <a:chOff x="755640" y="404640"/>
            <a:chExt cx="1800000" cy="1008000"/>
          </a:xfrm>
        </p:grpSpPr>
        <p:sp>
          <p:nvSpPr>
            <p:cNvPr id="239" name="AutoShape 4"/>
            <p:cNvSpPr/>
            <p:nvPr/>
          </p:nvSpPr>
          <p:spPr>
            <a:xfrm>
              <a:off x="755640" y="404640"/>
              <a:ext cx="1800000" cy="1008000"/>
            </a:xfrm>
            <a:prstGeom prst="cloudCallout">
              <a:avLst>
                <a:gd name="adj1" fmla="val -41356"/>
                <a:gd name="adj2" fmla="val 4527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>
              <a:off x="971280" y="476280"/>
              <a:ext cx="1305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飘浮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1" name="AutoShape 22"/>
          <p:cNvSpPr/>
          <p:nvPr/>
        </p:nvSpPr>
        <p:spPr>
          <a:xfrm>
            <a:off x="900000" y="1916280"/>
            <a:ext cx="2305080" cy="1008000"/>
          </a:xfrm>
          <a:prstGeom prst="cloudCallout">
            <a:avLst>
              <a:gd name="adj1" fmla="val -36777"/>
              <a:gd name="adj2" fmla="val 21337"/>
            </a:avLst>
          </a:prstGeom>
          <a:solidFill>
            <a:srgbClr val="ed494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暴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Cloud"/>
          <p:cNvSpPr/>
          <p:nvPr/>
        </p:nvSpPr>
        <p:spPr>
          <a:xfrm>
            <a:off x="3809880" y="3657600"/>
            <a:ext cx="2016360" cy="1224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冲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Cloud"/>
          <p:cNvSpPr/>
          <p:nvPr/>
        </p:nvSpPr>
        <p:spPr>
          <a:xfrm>
            <a:off x="1547640" y="3500280"/>
            <a:ext cx="1944720" cy="1079640"/>
          </a:xfrm>
          <a:prstGeom prst="pie">
            <a:avLst/>
          </a:prstGeom>
          <a:solidFill>
            <a:srgbClr val="15f20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庄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Cloud"/>
          <p:cNvSpPr/>
          <p:nvPr/>
        </p:nvSpPr>
        <p:spPr>
          <a:xfrm>
            <a:off x="6372360" y="2492280"/>
            <a:ext cx="2016000" cy="1224000"/>
          </a:xfrm>
          <a:prstGeom prst="pie">
            <a:avLst/>
          </a:prstGeom>
          <a:solidFill>
            <a:srgbClr val="9ce0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淹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Cloud"/>
          <p:cNvSpPr/>
          <p:nvPr/>
        </p:nvSpPr>
        <p:spPr>
          <a:xfrm>
            <a:off x="6012000" y="476280"/>
            <a:ext cx="2016000" cy="1008000"/>
          </a:xfrm>
          <a:prstGeom prst="pie">
            <a:avLst/>
          </a:prstGeom>
          <a:solidFill>
            <a:srgbClr val="e4e49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灌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Group 42"/>
          <p:cNvGrpSpPr/>
          <p:nvPr/>
        </p:nvGrpSpPr>
        <p:grpSpPr>
          <a:xfrm>
            <a:off x="3336480" y="1939680"/>
            <a:ext cx="2272680" cy="1539360"/>
            <a:chOff x="3336480" y="1939680"/>
            <a:chExt cx="2272680" cy="1539360"/>
          </a:xfrm>
        </p:grpSpPr>
        <p:sp>
          <p:nvSpPr>
            <p:cNvPr id="247" name="AutoShape 23"/>
            <p:cNvSpPr/>
            <p:nvPr/>
          </p:nvSpPr>
          <p:spPr>
            <a:xfrm rot="11478600">
              <a:off x="3429000" y="2133000"/>
              <a:ext cx="2087280" cy="1152360"/>
            </a:xfrm>
            <a:prstGeom prst="cloudCallout">
              <a:avLst>
                <a:gd name="adj1" fmla="val -16782"/>
                <a:gd name="adj2" fmla="val 36384"/>
              </a:avLst>
            </a:prstGeom>
            <a:solidFill>
              <a:srgbClr val="ff99ff"/>
            </a:solidFill>
            <a:ln w="936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Text Box 32"/>
            <p:cNvSpPr/>
            <p:nvPr/>
          </p:nvSpPr>
          <p:spPr>
            <a:xfrm>
              <a:off x="3717720" y="2349720"/>
              <a:ext cx="159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机器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9" name="Group 40"/>
          <p:cNvGrpSpPr/>
          <p:nvPr/>
        </p:nvGrpSpPr>
        <p:grpSpPr>
          <a:xfrm>
            <a:off x="539640" y="5084640"/>
            <a:ext cx="2376720" cy="1150920"/>
            <a:chOff x="539640" y="5084640"/>
            <a:chExt cx="2376720" cy="1150920"/>
          </a:xfrm>
        </p:grpSpPr>
        <p:sp>
          <p:nvSpPr>
            <p:cNvPr id="250" name="AutoShape 31"/>
            <p:cNvSpPr/>
            <p:nvPr/>
          </p:nvSpPr>
          <p:spPr>
            <a:xfrm>
              <a:off x="539640" y="5084640"/>
              <a:ext cx="1944720" cy="1150920"/>
            </a:xfrm>
            <a:prstGeom prst="cloudCallout">
              <a:avLst>
                <a:gd name="adj1" fmla="val -41101"/>
                <a:gd name="adj2" fmla="val 32342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Text Box 37"/>
            <p:cNvSpPr/>
            <p:nvPr/>
          </p:nvSpPr>
          <p:spPr>
            <a:xfrm>
              <a:off x="826920" y="5227560"/>
              <a:ext cx="208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毁灭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6084720" y="4941720"/>
            <a:ext cx="1944720" cy="1009800"/>
            <a:chOff x="6084720" y="4941720"/>
            <a:chExt cx="1944720" cy="1009800"/>
          </a:xfrm>
        </p:grpSpPr>
        <p:sp>
          <p:nvSpPr>
            <p:cNvPr id="253" name="AutoShape 30"/>
            <p:cNvSpPr/>
            <p:nvPr/>
          </p:nvSpPr>
          <p:spPr>
            <a:xfrm>
              <a:off x="6084720" y="4941720"/>
              <a:ext cx="1944720" cy="1009800"/>
            </a:xfrm>
            <a:prstGeom prst="cloudCallout">
              <a:avLst>
                <a:gd name="adj1" fmla="val -30569"/>
                <a:gd name="adj2" fmla="val 13995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Text Box 38"/>
            <p:cNvSpPr/>
            <p:nvPr/>
          </p:nvSpPr>
          <p:spPr>
            <a:xfrm>
              <a:off x="6373440" y="5014800"/>
              <a:ext cx="165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灾害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5" name="Cloud"/>
          <p:cNvSpPr/>
          <p:nvPr/>
        </p:nvSpPr>
        <p:spPr>
          <a:xfrm>
            <a:off x="3124080" y="5257800"/>
            <a:ext cx="2089440" cy="1079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奔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44">
            <a:hlinkClick r:id="rId1" action="ppaction://hlinksldjump"/>
          </p:cNvPr>
          <p:cNvSpPr/>
          <p:nvPr/>
        </p:nvSpPr>
        <p:spPr>
          <a:xfrm>
            <a:off x="8153280" y="3581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AutoShape 45">
            <a:hlinkClick r:id="rId2" action="ppaction://hlinksldjump"/>
          </p:cNvPr>
          <p:cNvSpPr/>
          <p:nvPr/>
        </p:nvSpPr>
        <p:spPr>
          <a:xfrm>
            <a:off x="45720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loud"/>
          <p:cNvSpPr/>
          <p:nvPr/>
        </p:nvSpPr>
        <p:spPr>
          <a:xfrm>
            <a:off x="3657600" y="457200"/>
            <a:ext cx="2089080" cy="1079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755640" y="404640"/>
            <a:ext cx="1800000" cy="1008000"/>
            <a:chOff x="755640" y="404640"/>
            <a:chExt cx="1800000" cy="1008000"/>
          </a:xfrm>
        </p:grpSpPr>
        <p:sp>
          <p:nvSpPr>
            <p:cNvPr id="260" name="AutoShape 4"/>
            <p:cNvSpPr/>
            <p:nvPr/>
          </p:nvSpPr>
          <p:spPr>
            <a:xfrm>
              <a:off x="755640" y="404640"/>
              <a:ext cx="1800000" cy="1008000"/>
            </a:xfrm>
            <a:prstGeom prst="cloudCallout">
              <a:avLst>
                <a:gd name="adj1" fmla="val -41356"/>
                <a:gd name="adj2" fmla="val 4527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Text Box 5"/>
            <p:cNvSpPr/>
            <p:nvPr/>
          </p:nvSpPr>
          <p:spPr>
            <a:xfrm>
              <a:off x="971280" y="476280"/>
              <a:ext cx="1305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浮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2" name="AutoShape 6"/>
          <p:cNvSpPr/>
          <p:nvPr/>
        </p:nvSpPr>
        <p:spPr>
          <a:xfrm>
            <a:off x="533520" y="2057400"/>
            <a:ext cx="2305080" cy="1008000"/>
          </a:xfrm>
          <a:prstGeom prst="cloudCallout">
            <a:avLst>
              <a:gd name="adj1" fmla="val -36777"/>
              <a:gd name="adj2" fmla="val 21337"/>
            </a:avLst>
          </a:prstGeom>
          <a:solidFill>
            <a:srgbClr val="ed494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Cloud"/>
          <p:cNvSpPr/>
          <p:nvPr/>
        </p:nvSpPr>
        <p:spPr>
          <a:xfrm>
            <a:off x="3276720" y="3886200"/>
            <a:ext cx="1944720" cy="1079640"/>
          </a:xfrm>
          <a:prstGeom prst="pie">
            <a:avLst/>
          </a:prstGeom>
          <a:solidFill>
            <a:srgbClr val="15f20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Cloud"/>
          <p:cNvSpPr/>
          <p:nvPr/>
        </p:nvSpPr>
        <p:spPr>
          <a:xfrm>
            <a:off x="6372360" y="2492280"/>
            <a:ext cx="2016000" cy="1224000"/>
          </a:xfrm>
          <a:prstGeom prst="pie">
            <a:avLst/>
          </a:prstGeom>
          <a:solidFill>
            <a:srgbClr val="9ce09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Cloud"/>
          <p:cNvSpPr/>
          <p:nvPr/>
        </p:nvSpPr>
        <p:spPr>
          <a:xfrm>
            <a:off x="6012000" y="476280"/>
            <a:ext cx="2016000" cy="1008000"/>
          </a:xfrm>
          <a:prstGeom prst="pie">
            <a:avLst/>
          </a:prstGeom>
          <a:solidFill>
            <a:srgbClr val="e4e49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6" name="Group 11"/>
          <p:cNvGrpSpPr/>
          <p:nvPr/>
        </p:nvGrpSpPr>
        <p:grpSpPr>
          <a:xfrm>
            <a:off x="4098600" y="1863360"/>
            <a:ext cx="2272680" cy="1539360"/>
            <a:chOff x="4098600" y="1863360"/>
            <a:chExt cx="2272680" cy="1539360"/>
          </a:xfrm>
        </p:grpSpPr>
        <p:sp>
          <p:nvSpPr>
            <p:cNvPr id="267" name="AutoShape 12"/>
            <p:cNvSpPr/>
            <p:nvPr/>
          </p:nvSpPr>
          <p:spPr>
            <a:xfrm rot="11478600">
              <a:off x="4191120" y="2056680"/>
              <a:ext cx="2087280" cy="1152360"/>
            </a:xfrm>
            <a:prstGeom prst="cloudCallout">
              <a:avLst>
                <a:gd name="adj1" fmla="val -16782"/>
                <a:gd name="adj2" fmla="val 36384"/>
              </a:avLst>
            </a:prstGeom>
            <a:solidFill>
              <a:srgbClr val="ff99ff"/>
            </a:solidFill>
            <a:ln w="936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4479840" y="2273400"/>
              <a:ext cx="1595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器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9" name="Group 14"/>
          <p:cNvGrpSpPr/>
          <p:nvPr/>
        </p:nvGrpSpPr>
        <p:grpSpPr>
          <a:xfrm>
            <a:off x="304920" y="4191120"/>
            <a:ext cx="2376000" cy="1150920"/>
            <a:chOff x="304920" y="4191120"/>
            <a:chExt cx="2376000" cy="1150920"/>
          </a:xfrm>
        </p:grpSpPr>
        <p:sp>
          <p:nvSpPr>
            <p:cNvPr id="270" name="AutoShape 15"/>
            <p:cNvSpPr/>
            <p:nvPr/>
          </p:nvSpPr>
          <p:spPr>
            <a:xfrm>
              <a:off x="304920" y="4191120"/>
              <a:ext cx="1944360" cy="1150920"/>
            </a:xfrm>
            <a:prstGeom prst="cloudCallout">
              <a:avLst>
                <a:gd name="adj1" fmla="val -41101"/>
                <a:gd name="adj2" fmla="val 32342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Text Box 16"/>
            <p:cNvSpPr/>
            <p:nvPr/>
          </p:nvSpPr>
          <p:spPr>
            <a:xfrm>
              <a:off x="591840" y="4334040"/>
              <a:ext cx="208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毁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2" name="Group 17"/>
          <p:cNvGrpSpPr/>
          <p:nvPr/>
        </p:nvGrpSpPr>
        <p:grpSpPr>
          <a:xfrm>
            <a:off x="4343400" y="5410080"/>
            <a:ext cx="1944720" cy="1009800"/>
            <a:chOff x="4343400" y="5410080"/>
            <a:chExt cx="1944720" cy="1009800"/>
          </a:xfrm>
        </p:grpSpPr>
        <p:sp>
          <p:nvSpPr>
            <p:cNvPr id="273" name="AutoShape 18"/>
            <p:cNvSpPr/>
            <p:nvPr/>
          </p:nvSpPr>
          <p:spPr>
            <a:xfrm>
              <a:off x="4343400" y="5410080"/>
              <a:ext cx="1944720" cy="1009800"/>
            </a:xfrm>
            <a:prstGeom prst="cloudCallout">
              <a:avLst>
                <a:gd name="adj1" fmla="val -30569"/>
                <a:gd name="adj2" fmla="val 13995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Text Box 19"/>
            <p:cNvSpPr/>
            <p:nvPr/>
          </p:nvSpPr>
          <p:spPr>
            <a:xfrm>
              <a:off x="4632120" y="5483160"/>
              <a:ext cx="165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灾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5" name="Group 22"/>
          <p:cNvGrpSpPr/>
          <p:nvPr/>
        </p:nvGrpSpPr>
        <p:grpSpPr>
          <a:xfrm>
            <a:off x="2133720" y="1219320"/>
            <a:ext cx="1366560" cy="825480"/>
            <a:chOff x="2133720" y="1219320"/>
            <a:chExt cx="1366560" cy="825480"/>
          </a:xfrm>
        </p:grpSpPr>
        <p:sp>
          <p:nvSpPr>
            <p:cNvPr id="276" name="AutoShape 20"/>
            <p:cNvSpPr/>
            <p:nvPr/>
          </p:nvSpPr>
          <p:spPr>
            <a:xfrm>
              <a:off x="2133720" y="1219320"/>
              <a:ext cx="1366560" cy="825480"/>
            </a:xfrm>
            <a:prstGeom prst="wedgeEllipseCallout">
              <a:avLst>
                <a:gd name="adj1" fmla="val -30023"/>
                <a:gd name="adj2" fmla="val 64805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Text Box 21"/>
            <p:cNvSpPr/>
            <p:nvPr/>
          </p:nvSpPr>
          <p:spPr>
            <a:xfrm>
              <a:off x="2421000" y="1363680"/>
              <a:ext cx="64728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ahoma"/>
                </a:rPr>
                <a:t>操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8" name="Group 26"/>
          <p:cNvGrpSpPr/>
          <p:nvPr/>
        </p:nvGrpSpPr>
        <p:grpSpPr>
          <a:xfrm>
            <a:off x="2133360" y="2971440"/>
            <a:ext cx="936360" cy="754200"/>
            <a:chOff x="2133360" y="2971440"/>
            <a:chExt cx="936360" cy="754200"/>
          </a:xfrm>
        </p:grpSpPr>
        <p:sp>
          <p:nvSpPr>
            <p:cNvPr id="279" name="AutoShape 24"/>
            <p:cNvSpPr/>
            <p:nvPr/>
          </p:nvSpPr>
          <p:spPr>
            <a:xfrm rot="10800000">
              <a:off x="2133360" y="2971440"/>
              <a:ext cx="936360" cy="754200"/>
            </a:xfrm>
            <a:prstGeom prst="wedgeRoundRectCallout">
              <a:avLst>
                <a:gd name="adj1" fmla="val 45759"/>
                <a:gd name="adj2" fmla="val 62000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Text Box 25"/>
            <p:cNvSpPr/>
            <p:nvPr/>
          </p:nvSpPr>
          <p:spPr>
            <a:xfrm>
              <a:off x="2298240" y="3043440"/>
              <a:ext cx="45504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ahoma"/>
                </a:rPr>
                <a:t>澡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1" name="Group 28"/>
          <p:cNvGrpSpPr/>
          <p:nvPr/>
        </p:nvGrpSpPr>
        <p:grpSpPr>
          <a:xfrm>
            <a:off x="2730240" y="1889280"/>
            <a:ext cx="1431720" cy="1615680"/>
            <a:chOff x="2730240" y="1889280"/>
            <a:chExt cx="1431720" cy="1615680"/>
          </a:xfrm>
        </p:grpSpPr>
        <p:sp>
          <p:nvSpPr>
            <p:cNvPr id="282" name="AutoShape 29"/>
            <p:cNvSpPr/>
            <p:nvPr/>
          </p:nvSpPr>
          <p:spPr>
            <a:xfrm rot="3345600">
              <a:off x="2723760" y="2322360"/>
              <a:ext cx="1444320" cy="749160"/>
            </a:xfrm>
            <a:prstGeom prst="wedgeEllipseCallout">
              <a:avLst>
                <a:gd name="adj1" fmla="val -30023"/>
                <a:gd name="adj2" fmla="val 64805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Text Box 30"/>
            <p:cNvSpPr/>
            <p:nvPr/>
          </p:nvSpPr>
          <p:spPr>
            <a:xfrm rot="3345600">
              <a:off x="2933640" y="2415240"/>
              <a:ext cx="855360" cy="550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4" name="Text Box 31"/>
          <p:cNvSpPr/>
          <p:nvPr/>
        </p:nvSpPr>
        <p:spPr>
          <a:xfrm>
            <a:off x="3152160" y="2209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5" name="Group 32"/>
          <p:cNvGrpSpPr/>
          <p:nvPr/>
        </p:nvGrpSpPr>
        <p:grpSpPr>
          <a:xfrm>
            <a:off x="1905120" y="5257800"/>
            <a:ext cx="1944720" cy="1009800"/>
            <a:chOff x="1905120" y="5257800"/>
            <a:chExt cx="1944720" cy="1009800"/>
          </a:xfrm>
        </p:grpSpPr>
        <p:sp>
          <p:nvSpPr>
            <p:cNvPr id="286" name="AutoShape 33"/>
            <p:cNvSpPr/>
            <p:nvPr/>
          </p:nvSpPr>
          <p:spPr>
            <a:xfrm>
              <a:off x="1905120" y="5257800"/>
              <a:ext cx="1944720" cy="1009800"/>
            </a:xfrm>
            <a:prstGeom prst="cloudCallout">
              <a:avLst>
                <a:gd name="adj1" fmla="val -30569"/>
                <a:gd name="adj2" fmla="val 13995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Text Box 34"/>
            <p:cNvSpPr/>
            <p:nvPr/>
          </p:nvSpPr>
          <p:spPr>
            <a:xfrm>
              <a:off x="2193840" y="5330880"/>
              <a:ext cx="165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溉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8" name="Cloud"/>
          <p:cNvSpPr/>
          <p:nvPr/>
        </p:nvSpPr>
        <p:spPr>
          <a:xfrm>
            <a:off x="6781680" y="4800600"/>
            <a:ext cx="1944720" cy="1079640"/>
          </a:xfrm>
          <a:prstGeom prst="pie">
            <a:avLst/>
          </a:prstGeom>
          <a:solidFill>
            <a:srgbClr val="15f20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水滴"/>
          <p:cNvPicPr/>
          <p:nvPr/>
        </p:nvPicPr>
        <p:blipFill>
          <a:blip r:embed="rId1"/>
          <a:stretch/>
        </p:blipFill>
        <p:spPr>
          <a:xfrm>
            <a:off x="0" y="-138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"/>
          <p:cNvSpPr/>
          <p:nvPr/>
        </p:nvSpPr>
        <p:spPr>
          <a:xfrm>
            <a:off x="431640" y="6081840"/>
            <a:ext cx="63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12"/>
          <p:cNvPicPr/>
          <p:nvPr/>
        </p:nvPicPr>
        <p:blipFill>
          <a:blip r:embed="rId1"/>
          <a:stretch/>
        </p:blipFill>
        <p:spPr>
          <a:xfrm>
            <a:off x="324000" y="404640"/>
            <a:ext cx="9505800" cy="68788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 flipH="1">
            <a:off x="8748720" y="1413000"/>
            <a:ext cx="151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468360" y="189000"/>
            <a:ext cx="230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ffcc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我会想</a:t>
            </a:r>
            <a:endParaRPr b="1" lang="en-US" sz="6600" spc="1" strike="noStrike">
              <a:ln w="9360">
                <a:solidFill>
                  <a:srgbClr val="ccffcc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1692360" y="3068640"/>
            <a:ext cx="4966920" cy="2374920"/>
            <a:chOff x="1692360" y="3068640"/>
            <a:chExt cx="4966920" cy="2374920"/>
          </a:xfrm>
        </p:grpSpPr>
        <p:sp>
          <p:nvSpPr>
            <p:cNvPr id="295" name="AutoShape 6"/>
            <p:cNvSpPr/>
            <p:nvPr/>
          </p:nvSpPr>
          <p:spPr>
            <a:xfrm>
              <a:off x="1692360" y="3068640"/>
              <a:ext cx="4966920" cy="2374920"/>
            </a:xfrm>
            <a:prstGeom prst="cloudCallout">
              <a:avLst>
                <a:gd name="adj1" fmla="val -42981"/>
                <a:gd name="adj2" fmla="val 53694"/>
              </a:avLst>
            </a:prstGeom>
            <a:solidFill>
              <a:srgbClr val="e1bdd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Text Box 7"/>
            <p:cNvSpPr/>
            <p:nvPr/>
          </p:nvSpPr>
          <p:spPr>
            <a:xfrm>
              <a:off x="2410560" y="3479400"/>
              <a:ext cx="3330720" cy="1191240"/>
            </a:xfrm>
            <a:prstGeom prst="rect">
              <a:avLst/>
            </a:prstGeom>
            <a:solidFill>
              <a:srgbClr val="e1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33cc"/>
                  </a:solidFill>
                  <a:latin typeface="Tahoma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: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我会变什么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我是怎么变的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well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Sunset"/>
          <p:cNvPicPr/>
          <p:nvPr/>
        </p:nvPicPr>
        <p:blipFill>
          <a:blip r:embed="rId1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乌云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baiyun"/>
          <p:cNvPicPr/>
          <p:nvPr/>
        </p:nvPicPr>
        <p:blipFill>
          <a:blip r:embed="rId3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6" descr="12"/>
          <p:cNvPicPr/>
          <p:nvPr/>
        </p:nvPicPr>
        <p:blipFill>
          <a:blip r:embed="rId2"/>
          <a:stretch/>
        </p:blipFill>
        <p:spPr>
          <a:xfrm>
            <a:off x="0" y="0"/>
            <a:ext cx="9505800" cy="68785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8"/>
          <p:cNvSpPr/>
          <p:nvPr/>
        </p:nvSpPr>
        <p:spPr>
          <a:xfrm flipH="1">
            <a:off x="8748720" y="1413000"/>
            <a:ext cx="151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468360" y="189000"/>
            <a:ext cx="230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ffcc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我会想</a:t>
            </a:r>
            <a:endParaRPr b="1" lang="en-US" sz="6600" spc="1" strike="noStrike">
              <a:ln w="9360">
                <a:solidFill>
                  <a:srgbClr val="ccffcc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-29880" y="954720"/>
            <a:ext cx="5192280" cy="4011840"/>
            <a:chOff x="-29880" y="954720"/>
            <a:chExt cx="5192280" cy="4011840"/>
          </a:xfrm>
        </p:grpSpPr>
        <p:sp>
          <p:nvSpPr>
            <p:cNvPr id="305" name="AutoShape 10"/>
            <p:cNvSpPr/>
            <p:nvPr/>
          </p:nvSpPr>
          <p:spPr>
            <a:xfrm rot="20203200">
              <a:off x="250920" y="1773000"/>
              <a:ext cx="4630680" cy="2374920"/>
            </a:xfrm>
            <a:prstGeom prst="cloudCallout">
              <a:avLst>
                <a:gd name="adj1" fmla="val -42981"/>
                <a:gd name="adj2" fmla="val 53694"/>
              </a:avLst>
            </a:prstGeom>
            <a:solidFill>
              <a:srgbClr val="e1bdd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Text Box 11"/>
            <p:cNvSpPr/>
            <p:nvPr/>
          </p:nvSpPr>
          <p:spPr>
            <a:xfrm rot="20203200">
              <a:off x="856440" y="2235240"/>
              <a:ext cx="3105000" cy="1191240"/>
            </a:xfrm>
            <a:prstGeom prst="rect">
              <a:avLst/>
            </a:prstGeom>
            <a:solidFill>
              <a:srgbClr val="e1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33cc"/>
                  </a:solidFill>
                  <a:latin typeface="Tahoma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: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我会变什么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我是怎么变的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7" name="Group 27"/>
          <p:cNvGrpSpPr/>
          <p:nvPr/>
        </p:nvGrpSpPr>
        <p:grpSpPr>
          <a:xfrm>
            <a:off x="3671280" y="3642120"/>
            <a:ext cx="4262040" cy="2886480"/>
            <a:chOff x="3671280" y="3642120"/>
            <a:chExt cx="4262040" cy="2886480"/>
          </a:xfrm>
        </p:grpSpPr>
        <p:sp>
          <p:nvSpPr>
            <p:cNvPr id="308" name="AutoShape 14"/>
            <p:cNvSpPr/>
            <p:nvPr/>
          </p:nvSpPr>
          <p:spPr>
            <a:xfrm rot="20924400">
              <a:off x="3844800" y="4003200"/>
              <a:ext cx="3915000" cy="2163960"/>
            </a:xfrm>
            <a:prstGeom prst="wedgeEllipseCallout">
              <a:avLst>
                <a:gd name="adj1" fmla="val 58458"/>
                <a:gd name="adj2" fmla="val 57976"/>
              </a:avLst>
            </a:prstGeom>
            <a:solidFill>
              <a:srgbClr val="9999ff">
                <a:alpha val="88000"/>
              </a:srgbClr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Text Box 15"/>
            <p:cNvSpPr/>
            <p:nvPr/>
          </p:nvSpPr>
          <p:spPr>
            <a:xfrm rot="20924400">
              <a:off x="4499640" y="4436640"/>
              <a:ext cx="2703240" cy="1312920"/>
            </a:xfrm>
            <a:prstGeom prst="rect">
              <a:avLst/>
            </a:prstGeom>
            <a:solidFill>
              <a:srgbClr val="9999ff">
                <a:alpha val="88000"/>
              </a:srgbClr>
            </a:soli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00"/>
                  </a:solidFill>
                  <a:latin typeface="Tahoma"/>
                </a:rPr>
                <a:t>２</a:t>
              </a:r>
              <a:r>
                <a:rPr b="1" lang="zh-CN" sz="3600" spc="-1" strike="noStrike">
                  <a:solidFill>
                    <a:srgbClr val="800000"/>
                  </a:solidFill>
                  <a:latin typeface="Tahoma"/>
                </a:rPr>
                <a:t>、</a:t>
              </a:r>
              <a:r>
                <a:rPr b="1" lang="zh-CN" sz="4000" spc="-1" strike="noStrike">
                  <a:solidFill>
                    <a:srgbClr val="000000"/>
                  </a:solidFill>
                  <a:latin typeface="Tahoma"/>
                </a:rPr>
                <a:t>我平常住在哪里</a:t>
              </a:r>
              <a:r>
                <a:rPr b="1" lang="en-US" sz="40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0" name="AutoShape 18"/>
          <p:cNvSpPr/>
          <p:nvPr/>
        </p:nvSpPr>
        <p:spPr>
          <a:xfrm rot="11458800">
            <a:off x="4206960" y="1809360"/>
            <a:ext cx="4464000" cy="1900440"/>
          </a:xfrm>
          <a:prstGeom prst="cloudCallout">
            <a:avLst>
              <a:gd name="adj1" fmla="val -15930"/>
              <a:gd name="adj2" fmla="val 83125"/>
            </a:avLst>
          </a:prstGeom>
          <a:solidFill>
            <a:srgbClr val="ffcc00">
              <a:alpha val="6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３</a:t>
            </a:r>
            <a:r>
              <a:rPr b="1" lang="zh-CN" sz="1800" spc="-1" strike="noStrike">
                <a:solidFill>
                  <a:srgbClr val="cc0099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我为人们做些什么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海啸.mpg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2:38:31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52:32Z</dcterms:modified>
  <cp:revision>2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