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22.png" ContentType="image/png"/>
  <Override PartName="/ppt/media/image1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2960" y="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FBE0-4960-4463-8CB2-23E91729478F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3"/>
          </p:nvPr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26BC-474E-4365-968A-0760484E32E4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3882960" y="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0EB9-D04B-47B2-B056-1E753329EB77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灯片编号占位符 4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6AD8-E394-4F5D-8BCB-AD1D362ADA27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png"/><Relationship Id="rId3" Type="http://schemas.openxmlformats.org/officeDocument/2006/relationships/slide" Target="slide5.xm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MCj04271190000[1]"/>
          <p:cNvPicPr/>
          <p:nvPr/>
        </p:nvPicPr>
        <p:blipFill>
          <a:blip r:embed="rId1"/>
          <a:stretch/>
        </p:blipFill>
        <p:spPr>
          <a:xfrm>
            <a:off x="5500800" y="3840120"/>
            <a:ext cx="3527280" cy="2908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22356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10702"/>
                </a:solidFill>
                <a:latin typeface="华文中宋"/>
                <a:ea typeface="华文中宋"/>
              </a:rPr>
              <a:t>一年级下册品德与生活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0" y="2195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华文中宋"/>
                <a:ea typeface="华文中宋"/>
              </a:rPr>
              <a:t>我为家人添欢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468360" y="6067440"/>
            <a:ext cx="273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740160" y="58644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帮做家务"/>
          <p:cNvPicPr/>
          <p:nvPr/>
        </p:nvPicPr>
        <p:blipFill>
          <a:blip r:embed="rId1"/>
          <a:stretch/>
        </p:blipFill>
        <p:spPr>
          <a:xfrm>
            <a:off x="1187280" y="1389240"/>
            <a:ext cx="6769440" cy="5064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03"/>
          <p:cNvPicPr/>
          <p:nvPr/>
        </p:nvPicPr>
        <p:blipFill>
          <a:blip r:embed="rId2"/>
          <a:stretch/>
        </p:blipFill>
        <p:spPr>
          <a:xfrm>
            <a:off x="250920" y="260280"/>
            <a:ext cx="3519360" cy="995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05800" y="4815000"/>
            <a:ext cx="1687320" cy="16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02"/>
          <p:cNvPicPr/>
          <p:nvPr/>
        </p:nvPicPr>
        <p:blipFill>
          <a:blip r:embed="rId1"/>
          <a:stretch/>
        </p:blipFill>
        <p:spPr>
          <a:xfrm>
            <a:off x="176040" y="777960"/>
            <a:ext cx="3075120" cy="8064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1447920" y="1676520"/>
            <a:ext cx="6095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少儿_GBK"/>
              </a:rPr>
              <a:t>遇到这样的情境时，我们应该怎样做？表演一下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905120" y="3124080"/>
            <a:ext cx="6095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少儿_GBK"/>
                <a:ea typeface="方正少儿_GBK"/>
              </a:rPr>
              <a:t>奶奶病了，躺在床上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905120" y="3962520"/>
            <a:ext cx="6095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少儿_GBK"/>
                <a:ea typeface="方正少儿_GBK"/>
              </a:rPr>
              <a:t>妈妈下班回到家，很累了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905120" y="4724280"/>
            <a:ext cx="4876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少儿_GBK"/>
                <a:ea typeface="方正少儿_GBK"/>
              </a:rPr>
              <a:t>爷爷在家闷得慌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219320" y="5486400"/>
            <a:ext cx="6095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方正少儿_GBK"/>
                <a:ea typeface="方正少儿_GBK"/>
              </a:rPr>
              <a:t>爸爸正在休息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p11-1"/>
          <p:cNvPicPr/>
          <p:nvPr/>
        </p:nvPicPr>
        <p:blipFill>
          <a:blip r:embed="rId1"/>
          <a:stretch/>
        </p:blipFill>
        <p:spPr>
          <a:xfrm>
            <a:off x="54000" y="2163600"/>
            <a:ext cx="4921200" cy="444528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3"/>
          <p:cNvSpPr/>
          <p:nvPr/>
        </p:nvSpPr>
        <p:spPr>
          <a:xfrm>
            <a:off x="4343400" y="1341360"/>
            <a:ext cx="4800600" cy="2819520"/>
          </a:xfrm>
          <a:prstGeom prst="cloudCallout">
            <a:avLst>
              <a:gd name="adj1" fmla="val -66203"/>
              <a:gd name="adj2" fmla="val 44425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把你能为家里做的事，写在向日葵的花瓣里，然后涂上自己喜欢的颜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03"/>
          <p:cNvPicPr/>
          <p:nvPr/>
        </p:nvPicPr>
        <p:blipFill>
          <a:blip r:embed="rId3"/>
          <a:stretch/>
        </p:blipFill>
        <p:spPr>
          <a:xfrm>
            <a:off x="0" y="333360"/>
            <a:ext cx="3492360" cy="98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03"/>
          <p:cNvPicPr/>
          <p:nvPr/>
        </p:nvPicPr>
        <p:blipFill>
          <a:blip r:embed="rId1"/>
          <a:stretch/>
        </p:blipFill>
        <p:spPr>
          <a:xfrm>
            <a:off x="95400" y="592200"/>
            <a:ext cx="2885760" cy="8175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1295280" y="169056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方正少儿_GBK"/>
              </a:rPr>
              <a:t>谁做得对，谁做得不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做父母的好帮手"/>
          <p:cNvPicPr/>
          <p:nvPr/>
        </p:nvPicPr>
        <p:blipFill>
          <a:blip r:embed="rId2"/>
          <a:stretch/>
        </p:blipFill>
        <p:spPr>
          <a:xfrm>
            <a:off x="1378080" y="2171880"/>
            <a:ext cx="6051600" cy="38480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3352680" y="603396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方正少儿_GBK"/>
              </a:rPr>
              <a:t>做父母的好帮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03"/>
          <p:cNvPicPr/>
          <p:nvPr/>
        </p:nvPicPr>
        <p:blipFill>
          <a:blip r:embed="rId1"/>
          <a:stretch/>
        </p:blipFill>
        <p:spPr>
          <a:xfrm>
            <a:off x="222120" y="550800"/>
            <a:ext cx="3221280" cy="9111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3352680" y="5867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下班回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爸爸下班回家"/>
          <p:cNvPicPr/>
          <p:nvPr/>
        </p:nvPicPr>
        <p:blipFill>
          <a:blip r:embed="rId2"/>
          <a:stretch/>
        </p:blipFill>
        <p:spPr>
          <a:xfrm>
            <a:off x="1136520" y="1752480"/>
            <a:ext cx="6618240" cy="4057920"/>
          </a:xfrm>
          <a:prstGeom prst="rect">
            <a:avLst/>
          </a:prstGeom>
          <a:ln w="0">
            <a:noFill/>
          </a:ln>
        </p:spPr>
      </p:pic>
      <p:sp>
        <p:nvSpPr>
          <p:cNvPr id="137" name="文本框 1"/>
          <p:cNvSpPr/>
          <p:nvPr/>
        </p:nvSpPr>
        <p:spPr>
          <a:xfrm>
            <a:off x="492120" y="65160"/>
            <a:ext cx="587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03"/>
          <p:cNvPicPr/>
          <p:nvPr/>
        </p:nvPicPr>
        <p:blipFill>
          <a:blip r:embed="rId1"/>
          <a:stretch/>
        </p:blipFill>
        <p:spPr>
          <a:xfrm>
            <a:off x="74520" y="444600"/>
            <a:ext cx="3330720" cy="9428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6095880" y="2286000"/>
            <a:ext cx="685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少儿_GBK"/>
                <a:ea typeface="方正少儿_GBK"/>
              </a:rPr>
              <a:t>不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方正少儿_GBK"/>
                <a:ea typeface="方正少儿_GBK"/>
              </a:rPr>
              <a:t>替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方正少儿_GBK"/>
                <a:ea typeface="方正少儿_GBK"/>
              </a:rPr>
              <a:t>父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方正少儿_GBK"/>
                <a:ea typeface="方正少儿_GBK"/>
              </a:rPr>
              <a:t>母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方正少儿_GBK"/>
                <a:ea typeface="方正少儿_GBK"/>
              </a:rPr>
              <a:t>分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方正少儿_GBK"/>
                <a:ea typeface="方正少儿_GBK"/>
              </a:rPr>
              <a:t>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方正少儿_GBK"/>
                <a:ea typeface="方正少儿_GBK"/>
              </a:rPr>
              <a:t>家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方正少儿_GBK"/>
                <a:ea typeface="方正少儿_GBK"/>
              </a:rPr>
              <a:t>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不替父母分担家务"/>
          <p:cNvPicPr/>
          <p:nvPr/>
        </p:nvPicPr>
        <p:blipFill>
          <a:blip r:embed="rId2"/>
          <a:stretch/>
        </p:blipFill>
        <p:spPr>
          <a:xfrm>
            <a:off x="873000" y="1762200"/>
            <a:ext cx="4915080" cy="46479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3276720" y="1104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77760" y="526104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7763040" y="13572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6865920" y="4075200"/>
            <a:ext cx="2185920" cy="21859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1454040" y="2030400"/>
            <a:ext cx="58737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000000"/>
                </a:solidFill>
                <a:latin typeface="Arial"/>
                <a:ea typeface="方正少儿_GBK"/>
              </a:rPr>
              <a:t>再见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4"/>
          <a:stretch/>
        </p:blipFill>
        <p:spPr>
          <a:xfrm>
            <a:off x="933480" y="151776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7257-ECF8-4F79-8018-05B6AD55B82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-250920" y="3033720"/>
            <a:ext cx="993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少儿_GBK"/>
              </a:rPr>
              <a:t>我是一颗开心果，爱说爱笑会唱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少儿_GBK"/>
              </a:rPr>
              <a:t>能给爸爸倒杯水，会帮妈妈擦饭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少儿_GBK"/>
              </a:rPr>
              <a:t>常给奶奶捶捶背，爷爷乐得笑呵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少儿_GBK"/>
              </a:rPr>
              <a:t>人人夸我好娃娃，家庭有我欢乐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619280" y="333360"/>
            <a:ext cx="381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468360" y="1857240"/>
            <a:ext cx="68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方正少儿_GBK"/>
              </a:rPr>
              <a:t>我是家里的开心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482760" y="39384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ject 3" descr=""/>
          <p:cNvPicPr/>
          <p:nvPr/>
        </p:nvPicPr>
        <p:blipFill>
          <a:blip r:embed="rId2"/>
          <a:stretch/>
        </p:blipFill>
        <p:spPr>
          <a:xfrm>
            <a:off x="6659640" y="260280"/>
            <a:ext cx="2289240" cy="230364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4"/>
          <p:cNvSpPr/>
          <p:nvPr/>
        </p:nvSpPr>
        <p:spPr>
          <a:xfrm flipH="1">
            <a:off x="755640" y="549360"/>
            <a:ext cx="4896000" cy="1512720"/>
          </a:xfrm>
          <a:prstGeom prst="cloudCallout">
            <a:avLst>
              <a:gd name="adj1" fmla="val -70916"/>
              <a:gd name="adj2" fmla="val -16004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baseline="-25000">
                <a:solidFill>
                  <a:srgbClr val="000000"/>
                </a:solidFill>
                <a:latin typeface="方正少儿_GBK"/>
                <a:ea typeface="方正少儿_GBK"/>
              </a:rPr>
              <a:t>这首儿歌里做了哪些让家人开心的事呢？</a:t>
            </a:r>
            <a:r>
              <a:rPr b="0" lang="zh-CN" sz="4000" spc="-1" strike="noStrike" baseline="-25000">
                <a:solidFill>
                  <a:srgbClr val="000000"/>
                </a:solidFill>
                <a:latin typeface="方正少儿_GBK"/>
                <a:ea typeface="方正少儿_GB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539640" y="4292640"/>
            <a:ext cx="759636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 baseline="-25000">
                <a:solidFill>
                  <a:srgbClr val="ff00ff"/>
                </a:solidFill>
                <a:latin typeface="Arial"/>
              </a:rPr>
              <a:t>   </a:t>
            </a:r>
            <a:r>
              <a:rPr b="1" lang="zh-CN" sz="5000" spc="-1" strike="noStrike" baseline="-25000">
                <a:solidFill>
                  <a:srgbClr val="800080"/>
                </a:solidFill>
                <a:latin typeface="Arial"/>
              </a:rPr>
              <a:t> </a:t>
            </a:r>
            <a:r>
              <a:rPr b="1" lang="zh-CN" sz="6000" spc="-1" strike="noStrike" baseline="-25000">
                <a:solidFill>
                  <a:srgbClr val="000000"/>
                </a:solidFill>
                <a:latin typeface="Arial"/>
                <a:ea typeface="方正少儿_GBK"/>
              </a:rPr>
              <a:t>（２）倒水捶背擦饭桌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144360" y="2421000"/>
            <a:ext cx="759636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 baseline="-25000">
                <a:solidFill>
                  <a:srgbClr val="ff00ff"/>
                </a:solidFill>
                <a:latin typeface="Arial"/>
              </a:rPr>
              <a:t>       </a:t>
            </a:r>
            <a:r>
              <a:rPr b="1" lang="zh-CN" sz="6000" spc="-1" strike="noStrike" baseline="-25000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6000" spc="-1" strike="noStrike" baseline="-25000">
                <a:solidFill>
                  <a:srgbClr val="000000"/>
                </a:solidFill>
                <a:latin typeface="Arial"/>
                <a:ea typeface="方正少儿_GBK"/>
              </a:rPr>
              <a:t>（１）爱说爱笑爱唱歌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1924200" y="3357720"/>
            <a:ext cx="601164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 baseline="-25000">
                <a:solidFill>
                  <a:srgbClr val="000000"/>
                </a:solidFill>
                <a:latin typeface="Arial"/>
                <a:ea typeface="方正少儿_GBK"/>
              </a:rPr>
              <a:t>把自己的快乐传递给家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739880" y="5157720"/>
            <a:ext cx="61959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方正少儿_GBK"/>
                <a:ea typeface="方正少儿_GBK"/>
              </a:rPr>
              <a:t> </a:t>
            </a:r>
            <a:r>
              <a:rPr b="1" lang="zh-CN" sz="5400" spc="-1" strike="noStrike" baseline="-25000">
                <a:solidFill>
                  <a:srgbClr val="000000"/>
                </a:solidFill>
                <a:latin typeface="方正少儿_GBK"/>
                <a:ea typeface="方正少儿_GBK"/>
              </a:rPr>
              <a:t>为家人做力所能及的事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02"/>
          <p:cNvPicPr/>
          <p:nvPr/>
        </p:nvPicPr>
        <p:blipFill>
          <a:blip r:embed="rId1"/>
          <a:stretch/>
        </p:blipFill>
        <p:spPr>
          <a:xfrm>
            <a:off x="-92160" y="627120"/>
            <a:ext cx="37195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3"/>
          <p:cNvSpPr/>
          <p:nvPr/>
        </p:nvSpPr>
        <p:spPr>
          <a:xfrm>
            <a:off x="3471840" y="2751120"/>
            <a:ext cx="4386240" cy="2303640"/>
          </a:xfrm>
          <a:prstGeom prst="cloudCallout">
            <a:avLst>
              <a:gd name="adj1" fmla="val -72634"/>
              <a:gd name="adj2" fmla="val 18574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少儿_GBK"/>
              </a:rPr>
              <a:t>想一想，你做过哪些让家人高兴的事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卡通小孩-5"/>
          <p:cNvPicPr/>
          <p:nvPr/>
        </p:nvPicPr>
        <p:blipFill>
          <a:blip r:embed="rId3"/>
          <a:stretch/>
        </p:blipFill>
        <p:spPr>
          <a:xfrm>
            <a:off x="909720" y="2502000"/>
            <a:ext cx="189072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89080" y="1546200"/>
            <a:ext cx="897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少儿_GBK"/>
                <a:ea typeface="方正少儿_GBK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方正少儿_GBK"/>
                <a:ea typeface="方正少儿_GBK"/>
              </a:rPr>
              <a:t>、管好自己：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74600" y="1359000"/>
            <a:ext cx="8775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少儿_GBK"/>
                <a:ea typeface="方正少儿_GBK"/>
              </a:rPr>
              <a:t>                             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方正少儿_GBK"/>
                <a:ea typeface="方正少儿_GBK"/>
              </a:rPr>
              <a:t>老师布置的作业要</a:t>
            </a:r>
            <a:r>
              <a:rPr b="0" lang="zh-CN" sz="3600" spc="-1" strike="noStrike">
                <a:solidFill>
                  <a:srgbClr val="000000"/>
                </a:solidFill>
                <a:latin typeface="方正少儿_GBK"/>
                <a:ea typeface="方正少儿_GBK"/>
              </a:rPr>
              <a:t>.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少儿_GBK"/>
                <a:ea typeface="方正少儿_GBK"/>
              </a:rPr>
              <a:t>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方正少儿_GBK"/>
                <a:ea typeface="方正少儿_GBK"/>
              </a:rPr>
              <a:t>看电视的时候要</a:t>
            </a:r>
            <a:r>
              <a:rPr b="0" lang="zh-CN" sz="3600" spc="-1" strike="noStrike">
                <a:solidFill>
                  <a:srgbClr val="000000"/>
                </a:solidFill>
                <a:latin typeface="方正少儿_GBK"/>
                <a:ea typeface="方正少儿_GBK"/>
              </a:rPr>
              <a:t>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少儿_GBK"/>
                <a:ea typeface="方正少儿_GBK"/>
              </a:rPr>
              <a:t>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方正少儿_GBK"/>
                <a:ea typeface="方正少儿_GBK"/>
              </a:rPr>
              <a:t>自己的事情要</a:t>
            </a:r>
            <a:r>
              <a:rPr b="0" lang="zh-CN" sz="3600" spc="-1" strike="noStrike">
                <a:solidFill>
                  <a:srgbClr val="000000"/>
                </a:solidFill>
                <a:latin typeface="方正少儿_GBK"/>
                <a:ea typeface="方正少儿_GBK"/>
              </a:rPr>
              <a:t>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93760" y="3456000"/>
            <a:ext cx="30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少儿_GBK"/>
                <a:ea typeface="方正少儿_GBK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方正少儿_GBK"/>
                <a:ea typeface="方正少儿_GBK"/>
              </a:rPr>
              <a:t>、体察家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4016520" y="3476520"/>
            <a:ext cx="42685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少儿_GBK"/>
                <a:ea typeface="方正少儿_GBK"/>
              </a:rPr>
              <a:t>家人累了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方正少儿_GBK"/>
                <a:ea typeface="方正少儿_GBK"/>
                <a:hlinkClick r:id="rId1" action="ppaction://hlinksldjump"/>
              </a:rPr>
              <a:t>要.</a:t>
            </a:r>
            <a:r>
              <a:rPr b="0" lang="zh-CN" sz="3600" spc="-1" strike="noStrike">
                <a:solidFill>
                  <a:srgbClr val="000000"/>
                </a:solidFill>
                <a:latin typeface="方正少儿_GBK"/>
                <a:ea typeface="方正少儿_GBK"/>
              </a:rPr>
              <a:t>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26880" y="5156280"/>
            <a:ext cx="80870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少儿_GBK"/>
                <a:ea typeface="方正少儿_GBK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方正少儿_GBK"/>
                <a:ea typeface="方正少儿_GBK"/>
              </a:rPr>
              <a:t>、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方正少儿_GBK"/>
                <a:ea typeface="方正少儿_GBK"/>
                <a:hlinkClick r:id="rId2" action="ppaction://hlinksldjump"/>
              </a:rPr>
              <a:t>主动</a:t>
            </a:r>
            <a:r>
              <a:rPr b="0" lang="zh-CN" sz="3600" spc="-1" strike="noStrike">
                <a:solidFill>
                  <a:srgbClr val="000000"/>
                </a:solidFill>
                <a:latin typeface="方正少儿_GBK"/>
                <a:ea typeface="方正少儿_GBK"/>
              </a:rPr>
              <a:t>帮家人做事，不会做的就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02"/>
          <p:cNvPicPr/>
          <p:nvPr/>
        </p:nvPicPr>
        <p:blipFill>
          <a:blip r:embed="rId1"/>
          <a:stretch/>
        </p:blipFill>
        <p:spPr>
          <a:xfrm>
            <a:off x="-6480" y="576360"/>
            <a:ext cx="3100680" cy="8143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1320840" y="1442880"/>
            <a:ext cx="674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少儿_GBK"/>
              </a:rPr>
              <a:t>孝敬父母是中华民族的传统美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扇枕温衾"/>
          <p:cNvPicPr/>
          <p:nvPr/>
        </p:nvPicPr>
        <p:blipFill>
          <a:blip r:embed="rId2"/>
          <a:stretch/>
        </p:blipFill>
        <p:spPr>
          <a:xfrm>
            <a:off x="893880" y="2193840"/>
            <a:ext cx="7211880" cy="35337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1376280" y="5769000"/>
            <a:ext cx="670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方正少儿_GBK"/>
                <a:ea typeface="方正少儿_GBK"/>
              </a:rPr>
              <a:t>扇</a:t>
            </a:r>
            <a:r>
              <a:rPr b="1" lang="zh-CN" sz="3200" spc="-1" strike="noStrike">
                <a:solidFill>
                  <a:srgbClr val="000000"/>
                </a:solidFill>
                <a:latin typeface="方正少儿_GBK"/>
                <a:ea typeface="方正少儿_GBK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方正少儿_GBK"/>
                <a:ea typeface="方正少儿_GBK"/>
              </a:rPr>
              <a:t>sàn)</a:t>
            </a:r>
            <a:r>
              <a:rPr b="1" lang="zh-CN" sz="3200" spc="-1" strike="noStrike">
                <a:solidFill>
                  <a:srgbClr val="000000"/>
                </a:solidFill>
                <a:latin typeface="方正少儿_GBK"/>
                <a:ea typeface="方正少儿_GBK"/>
              </a:rPr>
              <a:t>枕</a:t>
            </a:r>
            <a:r>
              <a:rPr b="1" lang="zh-CN" sz="3200" spc="-1" strike="noStrike">
                <a:solidFill>
                  <a:srgbClr val="000000"/>
                </a:solidFill>
                <a:latin typeface="方正少儿_GBK"/>
                <a:ea typeface="方正少儿_GBK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方正少儿_GBK"/>
                <a:ea typeface="方正少儿_GBK"/>
              </a:rPr>
              <a:t>zhěn)</a:t>
            </a:r>
            <a:r>
              <a:rPr b="1" lang="zh-CN" sz="3200" spc="-1" strike="noStrike">
                <a:solidFill>
                  <a:srgbClr val="000000"/>
                </a:solidFill>
                <a:latin typeface="方正少儿_GBK"/>
                <a:ea typeface="方正少儿_GBK"/>
              </a:rPr>
              <a:t>温</a:t>
            </a:r>
            <a:r>
              <a:rPr b="1" lang="zh-CN" sz="3200" spc="-1" strike="noStrike">
                <a:solidFill>
                  <a:srgbClr val="000000"/>
                </a:solidFill>
                <a:latin typeface="方正少儿_GBK"/>
                <a:ea typeface="方正少儿_GBK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方正少儿_GBK"/>
                <a:ea typeface="方正少儿_GBK"/>
              </a:rPr>
              <a:t>wēn)</a:t>
            </a:r>
            <a:r>
              <a:rPr b="1" lang="zh-CN" sz="3200" spc="-1" strike="noStrike">
                <a:solidFill>
                  <a:srgbClr val="000000"/>
                </a:solidFill>
                <a:latin typeface="方正少儿_GBK"/>
                <a:ea typeface="方正少儿_GBK"/>
              </a:rPr>
              <a:t>衾</a:t>
            </a:r>
            <a:r>
              <a:rPr b="1" lang="zh-CN" sz="3200" spc="-1" strike="noStrike">
                <a:solidFill>
                  <a:srgbClr val="000000"/>
                </a:solidFill>
                <a:latin typeface="方正少儿_GBK"/>
                <a:ea typeface="方正少儿_GBK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方正少儿_GBK"/>
                <a:ea typeface="方正少儿_GBK"/>
              </a:rPr>
              <a:t>qī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02"/>
          <p:cNvPicPr/>
          <p:nvPr/>
        </p:nvPicPr>
        <p:blipFill>
          <a:blip r:embed="rId1"/>
          <a:stretch/>
        </p:blipFill>
        <p:spPr>
          <a:xfrm>
            <a:off x="-6480" y="555480"/>
            <a:ext cx="3372120" cy="8859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1523880" y="2362320"/>
            <a:ext cx="632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方正少儿_GBK"/>
                <a:ea typeface="方正少儿_GBK"/>
              </a:rPr>
              <a:t>“扇枕温衾”的故事：古时候，有个小孩子，从小没有了妈妈，对父亲很孝顺，夏天时为父亲扇凉枕席；寒冬时用身体为父亲温暖被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85760" y="5218200"/>
            <a:ext cx="714240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做父母的好帮手"/>
          <p:cNvPicPr/>
          <p:nvPr/>
        </p:nvPicPr>
        <p:blipFill>
          <a:blip r:embed="rId1"/>
          <a:stretch/>
        </p:blipFill>
        <p:spPr>
          <a:xfrm>
            <a:off x="1332000" y="1268280"/>
            <a:ext cx="6335640" cy="5256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03"/>
          <p:cNvPicPr/>
          <p:nvPr/>
        </p:nvPicPr>
        <p:blipFill>
          <a:blip r:embed="rId2"/>
          <a:stretch/>
        </p:blipFill>
        <p:spPr>
          <a:xfrm>
            <a:off x="395280" y="189000"/>
            <a:ext cx="3519360" cy="99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妈妈买菜回来"/>
          <p:cNvPicPr/>
          <p:nvPr/>
        </p:nvPicPr>
        <p:blipFill>
          <a:blip r:embed="rId1"/>
          <a:stretch/>
        </p:blipFill>
        <p:spPr>
          <a:xfrm>
            <a:off x="2268360" y="1125360"/>
            <a:ext cx="4359600" cy="5732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03"/>
          <p:cNvPicPr/>
          <p:nvPr/>
        </p:nvPicPr>
        <p:blipFill>
          <a:blip r:embed="rId2"/>
          <a:stretch/>
        </p:blipFill>
        <p:spPr>
          <a:xfrm>
            <a:off x="179280" y="115920"/>
            <a:ext cx="3519720" cy="99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9:10:0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1:49Z</dcterms:modified>
  <cp:revision>3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