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6D4-21F4-4F7E-8AAC-E2649450A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D9A-2022-4B05-A512-E751C249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372F-F131-4CE2-B2DC-3EFA9961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986-8108-42D0-A10D-317D270B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66B4-A516-45E3-AA8F-0A99972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775-9201-4832-A0A2-EA18F3AE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1C66-B7BC-4CB8-98B8-13439792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DFA9-3482-4C61-AFC2-5D91D68E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C1E3-542A-4744-84CC-2DE372DE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12A0-CCBD-4691-B838-12E160D3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F48A-E07A-4389-82D2-338076C8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955-F209-45BA-9C29-CD6C7801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639E-E150-4887-B65D-611015634C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image" Target="../media/image9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8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http://www.hgxx.net/Soft/UploadSoftPic/20031114151099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685800" y="57636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5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小柳树和小枣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39148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454400" y="1523880"/>
            <a:ext cx="588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喂，小枣树，你的树枝多难看哪！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我，多漂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喂，小枣树，你怎么不长叶子呀？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看我，多漂亮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351160" y="1066680"/>
            <a:ext cx="4295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枣树说：“你虽然不会结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子，可是一到春天，你就发芽长叶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比我绿得早；到了秋天，你比我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叶晚。再说，你长得也比我快，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你长大了，人们在树阴下乘凉，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有多好啊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355760" y="1620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73560" y="990720"/>
            <a:ext cx="5642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小枣树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温和地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说：“你虽然不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结枣子，可是一到春天，你就发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长叶，比我绿得早；到了秋天，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比我落叶晚。再说，你长得也比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快，等你长大了，人们在树阴下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凉，那有多好啊！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B409-ABFD-42C1-B519-5841809DFA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ject 2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1722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66688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Object 2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781680" cy="449604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"/>
          <p:cNvSpPr/>
          <p:nvPr/>
        </p:nvSpPr>
        <p:spPr>
          <a:xfrm>
            <a:off x="2666880" y="5818320"/>
            <a:ext cx="64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30976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http://10.55.0.178:8080//resource/chinese/人教语文/第2册/02柳树醒了/images/liutiaotupian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629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380880" y="476280"/>
            <a:ext cx="8001000" cy="561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380880" y="457200"/>
            <a:ext cx="8001000" cy="563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4"/>
          <a:stretch/>
        </p:blipFill>
        <p:spPr>
          <a:xfrm>
            <a:off x="380880" y="457200"/>
            <a:ext cx="8001000" cy="56386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8"/>
          <p:cNvGrpSpPr/>
          <p:nvPr/>
        </p:nvGrpSpPr>
        <p:grpSpPr>
          <a:xfrm>
            <a:off x="380880" y="-76320"/>
            <a:ext cx="8153640" cy="6165720"/>
            <a:chOff x="380880" y="-76320"/>
            <a:chExt cx="8153640" cy="6165720"/>
          </a:xfrm>
        </p:grpSpPr>
        <p:pic>
          <p:nvPicPr>
            <p:cNvPr id="56" name="Picture 13" descr="http://www.gansudaily.com.cn/20020926/151/hz.jpg"/>
            <p:cNvPicPr/>
            <p:nvPr/>
          </p:nvPicPr>
          <p:blipFill>
            <a:blip r:embed="rId5"/>
            <a:stretch/>
          </p:blipFill>
          <p:spPr>
            <a:xfrm>
              <a:off x="380880" y="385560"/>
              <a:ext cx="8153640" cy="57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WordArt 14"/>
            <p:cNvSpPr txBox="1"/>
            <p:nvPr/>
          </p:nvSpPr>
          <p:spPr>
            <a:xfrm>
              <a:off x="2149560" y="-76320"/>
              <a:ext cx="5538600" cy="1001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4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隶书"/>
                </a:rPr>
                <a:t>大红枣，甜又甜</a:t>
              </a:r>
              <a:endParaRPr b="0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58" name="AutoShape 16">
            <a:hlinkClick r:id="rId6" action="ppaction://hlinksldjump"/>
          </p:cNvPr>
          <p:cNvSpPr/>
          <p:nvPr/>
        </p:nvSpPr>
        <p:spPr>
          <a:xfrm>
            <a:off x="4227480" y="6165720"/>
            <a:ext cx="1000080" cy="540000"/>
          </a:xfrm>
          <a:custGeom>
            <a:avLst/>
            <a:gdLst>
              <a:gd name="textAreaLeft" fmla="*/ 34920 w 1000080"/>
              <a:gd name="textAreaRight" fmla="*/ 965160 w 10000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39991" h="21600">
                <a:moveTo>
                  <a:pt x="0" y="0"/>
                </a:moveTo>
                <a:lnTo>
                  <a:pt x="39991" y="0"/>
                </a:lnTo>
                <a:lnTo>
                  <a:pt x="39991" y="21600"/>
                </a:lnTo>
                <a:lnTo>
                  <a:pt x="0" y="21600"/>
                </a:lnTo>
                <a:close/>
              </a:path>
              <a:path fill="lightenLess" w="39991" h="21600">
                <a:moveTo>
                  <a:pt x="0" y="0"/>
                </a:moveTo>
                <a:lnTo>
                  <a:pt x="39991" y="0"/>
                </a:lnTo>
                <a:lnTo>
                  <a:pt x="38591" y="1400"/>
                </a:lnTo>
                <a:lnTo>
                  <a:pt x="1400" y="1400"/>
                </a:lnTo>
                <a:close/>
              </a:path>
              <a:path fill="darken" w="39991" h="21600">
                <a:moveTo>
                  <a:pt x="39991" y="0"/>
                </a:moveTo>
                <a:lnTo>
                  <a:pt x="39991" y="21600"/>
                </a:lnTo>
                <a:lnTo>
                  <a:pt x="38591" y="20200"/>
                </a:lnTo>
                <a:lnTo>
                  <a:pt x="38591" y="1400"/>
                </a:lnTo>
                <a:close/>
              </a:path>
              <a:path fill="darkenLess" w="39991" h="21600">
                <a:moveTo>
                  <a:pt x="3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91" y="20200"/>
                </a:lnTo>
                <a:close/>
              </a:path>
              <a:path fill="lighten" w="3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91" h="21600">
                <a:moveTo>
                  <a:pt x="12989" y="3794"/>
                </a:moveTo>
                <a:lnTo>
                  <a:pt x="27002" y="10800"/>
                </a:lnTo>
                <a:lnTo>
                  <a:pt x="1298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7">
            <a:hlinkClick r:id="rId7" action="ppaction://hlinksldjump"/>
          </p:cNvPr>
          <p:cNvSpPr/>
          <p:nvPr/>
        </p:nvSpPr>
        <p:spPr>
          <a:xfrm>
            <a:off x="6996240" y="6243480"/>
            <a:ext cx="922320" cy="384480"/>
          </a:xfrm>
          <a:custGeom>
            <a:avLst/>
            <a:gdLst>
              <a:gd name="textAreaLeft" fmla="*/ 24840 w 922320"/>
              <a:gd name="textAreaRight" fmla="*/ 897480 w 922320"/>
              <a:gd name="textAreaTop" fmla="*/ 24840 h 384480"/>
              <a:gd name="textAreaBottom" fmla="*/ 359640 h 384480"/>
            </a:gdLst>
            <a:ahLst/>
            <a:rect l="textAreaLeft" t="textAreaTop" r="textAreaRight" b="textAreaBottom"/>
            <a:pathLst>
              <a:path w="51787" h="21600">
                <a:moveTo>
                  <a:pt x="0" y="0"/>
                </a:moveTo>
                <a:lnTo>
                  <a:pt x="51787" y="0"/>
                </a:lnTo>
                <a:lnTo>
                  <a:pt x="51787" y="21600"/>
                </a:lnTo>
                <a:lnTo>
                  <a:pt x="0" y="21600"/>
                </a:lnTo>
                <a:close/>
              </a:path>
              <a:path fill="lightenLess" w="51787" h="21600">
                <a:moveTo>
                  <a:pt x="0" y="0"/>
                </a:moveTo>
                <a:lnTo>
                  <a:pt x="51787" y="0"/>
                </a:lnTo>
                <a:lnTo>
                  <a:pt x="50387" y="1400"/>
                </a:lnTo>
                <a:lnTo>
                  <a:pt x="1400" y="1400"/>
                </a:lnTo>
                <a:close/>
              </a:path>
              <a:path fill="darken" w="51787" h="21600">
                <a:moveTo>
                  <a:pt x="51787" y="0"/>
                </a:moveTo>
                <a:lnTo>
                  <a:pt x="51787" y="21600"/>
                </a:lnTo>
                <a:lnTo>
                  <a:pt x="50387" y="20200"/>
                </a:lnTo>
                <a:lnTo>
                  <a:pt x="50387" y="1400"/>
                </a:lnTo>
                <a:close/>
              </a:path>
              <a:path fill="darkenLess" w="51787" h="21600">
                <a:moveTo>
                  <a:pt x="51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87" y="20200"/>
                </a:lnTo>
                <a:close/>
              </a:path>
              <a:path fill="lighten" w="51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87" h="21600">
                <a:moveTo>
                  <a:pt x="18887" y="3794"/>
                </a:moveTo>
                <a:lnTo>
                  <a:pt x="32900" y="10800"/>
                </a:lnTo>
                <a:lnTo>
                  <a:pt x="1888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9">
            <a:hlinkClick r:id="rId8" action="ppaction://hlinksldjump"/>
          </p:cNvPr>
          <p:cNvSpPr/>
          <p:nvPr/>
        </p:nvSpPr>
        <p:spPr>
          <a:xfrm>
            <a:off x="1295280" y="640080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3794"/>
                </a:moveTo>
                <a:lnTo>
                  <a:pt x="26805" y="10800"/>
                </a:lnTo>
                <a:lnTo>
                  <a:pt x="1279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0"/>
          <p:cNvSpPr/>
          <p:nvPr/>
        </p:nvSpPr>
        <p:spPr>
          <a:xfrm>
            <a:off x="4191120" y="6324480"/>
            <a:ext cx="990360" cy="533520"/>
          </a:xfrm>
          <a:custGeom>
            <a:avLst/>
            <a:gdLst>
              <a:gd name="textAreaLeft" fmla="*/ 34560 w 990360"/>
              <a:gd name="textAreaRight" fmla="*/ 955800 w 9903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83" h="21600">
                <a:moveTo>
                  <a:pt x="0" y="0"/>
                </a:moveTo>
                <a:lnTo>
                  <a:pt x="40083" y="0"/>
                </a:lnTo>
                <a:lnTo>
                  <a:pt x="40083" y="21600"/>
                </a:lnTo>
                <a:lnTo>
                  <a:pt x="0" y="21600"/>
                </a:lnTo>
                <a:close/>
              </a:path>
              <a:path fill="lightenLess" w="40083" h="21600">
                <a:moveTo>
                  <a:pt x="0" y="0"/>
                </a:moveTo>
                <a:lnTo>
                  <a:pt x="40083" y="0"/>
                </a:lnTo>
                <a:lnTo>
                  <a:pt x="38683" y="1400"/>
                </a:lnTo>
                <a:lnTo>
                  <a:pt x="1400" y="1400"/>
                </a:lnTo>
                <a:close/>
              </a:path>
              <a:path fill="darken" w="40083" h="21600">
                <a:moveTo>
                  <a:pt x="40083" y="0"/>
                </a:moveTo>
                <a:lnTo>
                  <a:pt x="40083" y="21600"/>
                </a:lnTo>
                <a:lnTo>
                  <a:pt x="38683" y="20200"/>
                </a:lnTo>
                <a:lnTo>
                  <a:pt x="38683" y="1400"/>
                </a:lnTo>
                <a:close/>
              </a:path>
              <a:path fill="darkenLess" w="40083" h="21600">
                <a:moveTo>
                  <a:pt x="40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83" y="20200"/>
                </a:lnTo>
                <a:close/>
              </a:path>
              <a:path fill="lighten" w="40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83" h="21600">
                <a:moveTo>
                  <a:pt x="13035" y="3794"/>
                </a:moveTo>
                <a:lnTo>
                  <a:pt x="27048" y="10800"/>
                </a:lnTo>
                <a:lnTo>
                  <a:pt x="1303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1">
            <a:hlinkClick r:id="rId9" action="ppaction://hlinksldjump"/>
          </p:cNvPr>
          <p:cNvSpPr/>
          <p:nvPr/>
        </p:nvSpPr>
        <p:spPr>
          <a:xfrm>
            <a:off x="6934320" y="640080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3794"/>
                </a:moveTo>
                <a:lnTo>
                  <a:pt x="32920" y="10800"/>
                </a:lnTo>
                <a:lnTo>
                  <a:pt x="1890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1905120" y="640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4419720" y="6394320"/>
            <a:ext cx="3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4"/>
          <p:cNvSpPr/>
          <p:nvPr/>
        </p:nvSpPr>
        <p:spPr>
          <a:xfrm>
            <a:off x="7224840" y="6283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轻音乐.wav" descr=""/>
          <p:cNvPicPr/>
          <p:nvPr/>
        </p:nvPicPr>
        <p:blipFill>
          <a:blip r:embed="rId10"/>
          <a:stretch/>
        </p:blipFill>
        <p:spPr>
          <a:xfrm>
            <a:off x="-30492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27">
            <a:hlinkClick r:id="rId11" action="ppaction://hlinksldjump"/>
          </p:cNvPr>
          <p:cNvSpPr/>
          <p:nvPr/>
        </p:nvSpPr>
        <p:spPr>
          <a:xfrm>
            <a:off x="1828800" y="6400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8">
            <a:hlinkClick r:id="rId12" action="ppaction://hlinksldjump"/>
          </p:cNvPr>
          <p:cNvSpPr/>
          <p:nvPr/>
        </p:nvSpPr>
        <p:spPr>
          <a:xfrm>
            <a:off x="4114800" y="63244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9">
            <a:hlinkClick r:id="rId13" action="ppaction://hlinksldjump"/>
          </p:cNvPr>
          <p:cNvSpPr/>
          <p:nvPr/>
        </p:nvSpPr>
        <p:spPr>
          <a:xfrm>
            <a:off x="7010280" y="60958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" dur="indefinite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500"/>
                            </p:stCondLst>
                            <p:childTnLst>
                              <p:par>
                                <p:cTn id="16" dur="indefinite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785960" y="990720"/>
            <a:ext cx="53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小柳树的腰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细细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树枝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绿绿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真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600200" y="388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1600" y="3062160"/>
            <a:ext cx="773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小柳树看看小枣树，树枝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弯弯曲曲</a:t>
            </a:r>
            <a:r>
              <a:rPr b="1" lang="zh-CN" sz="3600" spc="-1" strike="noStrike">
                <a:solidFill>
                  <a:srgbClr val="3366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，一点儿也不好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335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9">
            <a:hlinkClick r:id="rId2" action="ppaction://hlinksldjump"/>
          </p:cNvPr>
          <p:cNvSpPr/>
          <p:nvPr/>
        </p:nvSpPr>
        <p:spPr>
          <a:xfrm>
            <a:off x="1066680" y="60199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6234120" y="621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1">
            <a:hlinkClick r:id="rId3" action="ppaction://hlinksldjump"/>
          </p:cNvPr>
          <p:cNvSpPr/>
          <p:nvPr/>
        </p:nvSpPr>
        <p:spPr>
          <a:xfrm>
            <a:off x="5943600" y="60199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8687880" y="640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3">
            <a:hlinkClick r:id="rId4" action="ppaction://hlinksldjump"/>
          </p:cNvPr>
          <p:cNvSpPr/>
          <p:nvPr/>
        </p:nvSpPr>
        <p:spPr>
          <a:xfrm>
            <a:off x="8305920" y="64008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3794"/>
                </a:moveTo>
                <a:lnTo>
                  <a:pt x="26797" y="10800"/>
                </a:lnTo>
                <a:lnTo>
                  <a:pt x="1278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838080" y="3352680"/>
            <a:ext cx="783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过了几天，小柳树的芽儿变成小叶子，她穿上一身浅绿色的衣服，真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">
            <a:hlinkClick r:id="" action="ppaction://hlinkshowjump?jump=nextslide"/>
          </p:cNvPr>
          <p:cNvSpPr/>
          <p:nvPr/>
        </p:nvSpPr>
        <p:spPr>
          <a:xfrm>
            <a:off x="2286000" y="3581280"/>
            <a:ext cx="4267080" cy="1043280"/>
          </a:xfrm>
          <a:custGeom>
            <a:avLst/>
            <a:gdLst>
              <a:gd name="textAreaLeft" fmla="*/ 67320 w 4267080"/>
              <a:gd name="textAreaRight" fmla="*/ 4199760 w 42670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88322" h="21600">
                <a:moveTo>
                  <a:pt x="0" y="0"/>
                </a:moveTo>
                <a:lnTo>
                  <a:pt x="88322" y="0"/>
                </a:lnTo>
                <a:lnTo>
                  <a:pt x="88322" y="21600"/>
                </a:lnTo>
                <a:lnTo>
                  <a:pt x="0" y="21600"/>
                </a:lnTo>
                <a:close/>
              </a:path>
              <a:path fill="lightenLess" w="88322" h="21600">
                <a:moveTo>
                  <a:pt x="0" y="0"/>
                </a:moveTo>
                <a:lnTo>
                  <a:pt x="88322" y="0"/>
                </a:lnTo>
                <a:lnTo>
                  <a:pt x="86922" y="1400"/>
                </a:lnTo>
                <a:lnTo>
                  <a:pt x="1400" y="1400"/>
                </a:lnTo>
                <a:close/>
              </a:path>
              <a:path fill="darken" w="88322" h="21600">
                <a:moveTo>
                  <a:pt x="88322" y="0"/>
                </a:moveTo>
                <a:lnTo>
                  <a:pt x="88322" y="21600"/>
                </a:lnTo>
                <a:lnTo>
                  <a:pt x="86922" y="20200"/>
                </a:lnTo>
                <a:lnTo>
                  <a:pt x="86922" y="1400"/>
                </a:lnTo>
                <a:close/>
              </a:path>
              <a:path fill="darkenLess" w="88322" h="21600">
                <a:moveTo>
                  <a:pt x="883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22" y="20200"/>
                </a:lnTo>
                <a:close/>
              </a:path>
              <a:path fill="lighten" w="883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8322" h="21600">
                <a:moveTo>
                  <a:pt x="37155" y="3794"/>
                </a:moveTo>
                <a:lnTo>
                  <a:pt x="51168" y="10800"/>
                </a:lnTo>
                <a:lnTo>
                  <a:pt x="3715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533520" y="1371600"/>
            <a:ext cx="7696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过了几天，小柳树的芽儿变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小叶子，她穿上一身浅绿色的衣 服，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像一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真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1981080" y="3809880"/>
            <a:ext cx="5715000" cy="0"/>
          </a:xfrm>
          <a:prstGeom prst="line">
            <a:avLst/>
          </a:prstGeom>
          <a:ln w="442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57931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7">
            <a:hlinkClick r:id="rId1" action="ppaction://hlinksldjump"/>
          </p:cNvPr>
          <p:cNvSpPr/>
          <p:nvPr/>
        </p:nvSpPr>
        <p:spPr>
          <a:xfrm>
            <a:off x="5410080" y="586728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2426" y="3794"/>
                </a:moveTo>
                <a:lnTo>
                  <a:pt x="26439" y="10800"/>
                </a:lnTo>
                <a:lnTo>
                  <a:pt x="1242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13552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9">
            <a:hlinkClick r:id="rId2" action="ppaction://hlinksldjump"/>
          </p:cNvPr>
          <p:cNvSpPr/>
          <p:nvPr/>
        </p:nvSpPr>
        <p:spPr>
          <a:xfrm>
            <a:off x="1828800" y="60958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10800"/>
                </a:moveTo>
                <a:lnTo>
                  <a:pt x="25511" y="3794"/>
                </a:lnTo>
                <a:lnTo>
                  <a:pt x="2551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8672040" y="6365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11">
            <a:hlinkClick r:id="rId3" action="ppaction://hlinksldjump"/>
          </p:cNvPr>
          <p:cNvSpPr/>
          <p:nvPr/>
        </p:nvSpPr>
        <p:spPr>
          <a:xfrm>
            <a:off x="8253360" y="6324480"/>
            <a:ext cx="890640" cy="533520"/>
          </a:xfrm>
          <a:custGeom>
            <a:avLst/>
            <a:gdLst>
              <a:gd name="textAreaLeft" fmla="*/ 34560 w 890640"/>
              <a:gd name="textAreaRight" fmla="*/ 856080 w 890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6049" h="21600">
                <a:moveTo>
                  <a:pt x="0" y="0"/>
                </a:moveTo>
                <a:lnTo>
                  <a:pt x="36049" y="0"/>
                </a:lnTo>
                <a:lnTo>
                  <a:pt x="36049" y="21600"/>
                </a:lnTo>
                <a:lnTo>
                  <a:pt x="0" y="21600"/>
                </a:lnTo>
                <a:close/>
              </a:path>
              <a:path fill="lightenLess" w="36049" h="21600">
                <a:moveTo>
                  <a:pt x="0" y="0"/>
                </a:moveTo>
                <a:lnTo>
                  <a:pt x="36049" y="0"/>
                </a:lnTo>
                <a:lnTo>
                  <a:pt x="34649" y="1400"/>
                </a:lnTo>
                <a:lnTo>
                  <a:pt x="1400" y="1400"/>
                </a:lnTo>
                <a:close/>
              </a:path>
              <a:path fill="darken" w="36049" h="21600">
                <a:moveTo>
                  <a:pt x="36049" y="0"/>
                </a:moveTo>
                <a:lnTo>
                  <a:pt x="36049" y="21600"/>
                </a:lnTo>
                <a:lnTo>
                  <a:pt x="34649" y="20200"/>
                </a:lnTo>
                <a:lnTo>
                  <a:pt x="34649" y="1400"/>
                </a:lnTo>
                <a:close/>
              </a:path>
              <a:path fill="darkenLess" w="36049" h="21600">
                <a:moveTo>
                  <a:pt x="36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49" y="20200"/>
                </a:lnTo>
                <a:close/>
              </a:path>
              <a:path fill="lighten" w="36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49" h="21600">
                <a:moveTo>
                  <a:pt x="11018" y="3794"/>
                </a:moveTo>
                <a:lnTo>
                  <a:pt x="25031" y="10800"/>
                </a:lnTo>
                <a:lnTo>
                  <a:pt x="1101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939320" y="3276720"/>
            <a:ext cx="486828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又过了好些日子，小枣树才长出了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小的叶子。小柳树的叶子已经长得又细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长了。她在微风里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楷体_GB2312"/>
              </a:rPr>
              <a:t>得意地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  <a:ea typeface="楷体_GB2312"/>
              </a:rPr>
              <a:t>跳起舞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424240" y="62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rId2" action="ppaction://hlinksldjump"/>
          </p:cNvPr>
          <p:cNvSpPr/>
          <p:nvPr/>
        </p:nvSpPr>
        <p:spPr>
          <a:xfrm>
            <a:off x="2209680" y="6248520"/>
            <a:ext cx="838440" cy="457200"/>
          </a:xfrm>
          <a:custGeom>
            <a:avLst/>
            <a:gdLst>
              <a:gd name="textAreaLeft" fmla="*/ 29520 w 838440"/>
              <a:gd name="textAreaRight" fmla="*/ 808920 w 8384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97" h="21600">
                <a:moveTo>
                  <a:pt x="0" y="0"/>
                </a:moveTo>
                <a:lnTo>
                  <a:pt x="39597" y="0"/>
                </a:lnTo>
                <a:lnTo>
                  <a:pt x="39597" y="21600"/>
                </a:lnTo>
                <a:lnTo>
                  <a:pt x="0" y="21600"/>
                </a:lnTo>
                <a:close/>
              </a:path>
              <a:path fill="lightenLess" w="39597" h="21600">
                <a:moveTo>
                  <a:pt x="0" y="0"/>
                </a:moveTo>
                <a:lnTo>
                  <a:pt x="39597" y="0"/>
                </a:lnTo>
                <a:lnTo>
                  <a:pt x="38197" y="1400"/>
                </a:lnTo>
                <a:lnTo>
                  <a:pt x="1400" y="1400"/>
                </a:lnTo>
                <a:close/>
              </a:path>
              <a:path fill="darken" w="39597" h="21600">
                <a:moveTo>
                  <a:pt x="39597" y="0"/>
                </a:moveTo>
                <a:lnTo>
                  <a:pt x="39597" y="21600"/>
                </a:lnTo>
                <a:lnTo>
                  <a:pt x="38197" y="20200"/>
                </a:lnTo>
                <a:lnTo>
                  <a:pt x="38197" y="1400"/>
                </a:lnTo>
                <a:close/>
              </a:path>
              <a:path fill="darkenLess" w="39597" h="21600">
                <a:moveTo>
                  <a:pt x="39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97" y="20200"/>
                </a:lnTo>
                <a:close/>
              </a:path>
              <a:path fill="lighten" w="39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97" h="21600">
                <a:moveTo>
                  <a:pt x="12792" y="10800"/>
                </a:moveTo>
                <a:lnTo>
                  <a:pt x="26805" y="3794"/>
                </a:lnTo>
                <a:lnTo>
                  <a:pt x="2680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396040" y="636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>
            <a:hlinkClick r:id="rId3" action="ppaction://hlinksldjump"/>
          </p:cNvPr>
          <p:cNvSpPr/>
          <p:nvPr/>
        </p:nvSpPr>
        <p:spPr>
          <a:xfrm>
            <a:off x="5029200" y="63244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10800"/>
                </a:moveTo>
                <a:lnTo>
                  <a:pt x="27055" y="3794"/>
                </a:lnTo>
                <a:lnTo>
                  <a:pt x="2705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610480" y="6400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>
            <a:hlinkClick r:id="rId4" action="ppaction://hlinksldjump"/>
          </p:cNvPr>
          <p:cNvSpPr/>
          <p:nvPr/>
        </p:nvSpPr>
        <p:spPr>
          <a:xfrm>
            <a:off x="8305920" y="64771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533520"/>
            <a:ext cx="69343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66"/>
                </a:solidFill>
                <a:latin typeface="隶书"/>
                <a:ea typeface="隶书"/>
              </a:rPr>
              <a:t>咏 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碧玉妆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万条垂下绿丝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993366"/>
                </a:solidFill>
                <a:latin typeface="楷体_GB2312"/>
                <a:ea typeface="楷体_GB2312"/>
              </a:rPr>
              <a:t>二月春风似剪刀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846000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4">
            <a:hlinkClick r:id="rId2" action="ppaction://hlinksldjump"/>
          </p:cNvPr>
          <p:cNvSpPr/>
          <p:nvPr/>
        </p:nvSpPr>
        <p:spPr>
          <a:xfrm>
            <a:off x="8153280" y="6095880"/>
            <a:ext cx="990720" cy="586080"/>
          </a:xfrm>
          <a:custGeom>
            <a:avLst/>
            <a:gdLst>
              <a:gd name="textAreaLeft" fmla="*/ 37800 w 990720"/>
              <a:gd name="textAreaRight" fmla="*/ 952920 w 9907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36504" h="21600">
                <a:moveTo>
                  <a:pt x="0" y="0"/>
                </a:moveTo>
                <a:lnTo>
                  <a:pt x="36504" y="0"/>
                </a:lnTo>
                <a:lnTo>
                  <a:pt x="36504" y="21600"/>
                </a:lnTo>
                <a:lnTo>
                  <a:pt x="0" y="21600"/>
                </a:lnTo>
                <a:close/>
              </a:path>
              <a:path fill="lightenLess" w="36504" h="21600">
                <a:moveTo>
                  <a:pt x="0" y="0"/>
                </a:moveTo>
                <a:lnTo>
                  <a:pt x="36504" y="0"/>
                </a:lnTo>
                <a:lnTo>
                  <a:pt x="35104" y="1400"/>
                </a:lnTo>
                <a:lnTo>
                  <a:pt x="1400" y="1400"/>
                </a:lnTo>
                <a:close/>
              </a:path>
              <a:path fill="darken" w="36504" h="21600">
                <a:moveTo>
                  <a:pt x="36504" y="0"/>
                </a:moveTo>
                <a:lnTo>
                  <a:pt x="36504" y="21600"/>
                </a:lnTo>
                <a:lnTo>
                  <a:pt x="35104" y="20200"/>
                </a:lnTo>
                <a:lnTo>
                  <a:pt x="35104" y="1400"/>
                </a:lnTo>
                <a:close/>
              </a:path>
              <a:path fill="darkenLess" w="36504" h="21600">
                <a:moveTo>
                  <a:pt x="36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04" y="20200"/>
                </a:lnTo>
                <a:close/>
              </a:path>
              <a:path fill="lighten" w="36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04" h="21600">
                <a:moveTo>
                  <a:pt x="11245" y="3794"/>
                </a:moveTo>
                <a:lnTo>
                  <a:pt x="25258" y="10800"/>
                </a:lnTo>
                <a:lnTo>
                  <a:pt x="1124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1:38:00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48:37Z</dcterms:modified>
  <cp:revision>29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