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90DA-69D5-4CA1-9635-4555BD605DA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88F7-CA61-450E-8543-392BB6FD646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62AA-EDFA-4972-A2B5-B0FCDA573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58EE-40D0-4F25-B443-EDD4B4F4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6A4C-A5C8-4FA9-BD36-B2188EF8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CCAF-0C5C-4AEB-842A-CA00E0203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1DC3-63EA-4AE7-AE85-577D7611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E1D9-5C9B-4B7D-85CB-22DF41CA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5F78-1980-4209-B1A4-FB1A92AE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A808-21B3-44A3-8A05-B907E3A9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5F60-7DC2-4241-824A-376E36B5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22C2-A8FD-4429-97F9-4C658FC1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F2F9-8687-4B38-94E1-20EA7D09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3F20-4370-4048-A60A-2D6D9FFB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07D8-0637-4F84-8A06-42CBB00F6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20073141713292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1196640"/>
            <a:ext cx="561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华文中宋"/>
                <a:ea typeface="华文中宋"/>
              </a:rPr>
              <a:t>斜面的作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矩形 4" descr=""/>
          <p:cNvPicPr/>
          <p:nvPr/>
        </p:nvPicPr>
        <p:blipFill>
          <a:blip r:embed="rId2"/>
          <a:stretch/>
        </p:blipFill>
        <p:spPr>
          <a:xfrm>
            <a:off x="1730520" y="5810400"/>
            <a:ext cx="576900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1701D"/>
          <p:cNvPicPr/>
          <p:nvPr/>
        </p:nvPicPr>
        <p:blipFill>
          <a:blip r:embed="rId1"/>
          <a:stretch/>
        </p:blipFill>
        <p:spPr>
          <a:xfrm>
            <a:off x="4211640" y="3429000"/>
            <a:ext cx="4932360" cy="3429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371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找找斜面，说说运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1" descr="1712D"/>
          <p:cNvPicPr/>
          <p:nvPr/>
        </p:nvPicPr>
        <p:blipFill>
          <a:blip r:embed="rId2"/>
          <a:stretch/>
        </p:blipFill>
        <p:spPr>
          <a:xfrm>
            <a:off x="0" y="1817640"/>
            <a:ext cx="4211640" cy="5040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1705D"/>
          <p:cNvPicPr/>
          <p:nvPr/>
        </p:nvPicPr>
        <p:blipFill>
          <a:blip r:embed="rId3"/>
          <a:stretch/>
        </p:blipFill>
        <p:spPr>
          <a:xfrm>
            <a:off x="4211640" y="0"/>
            <a:ext cx="4932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1704D"/>
          <p:cNvPicPr/>
          <p:nvPr/>
        </p:nvPicPr>
        <p:blipFill>
          <a:blip r:embed="rId1"/>
          <a:stretch/>
        </p:blipFill>
        <p:spPr>
          <a:xfrm>
            <a:off x="0" y="0"/>
            <a:ext cx="324648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1703D"/>
          <p:cNvPicPr/>
          <p:nvPr/>
        </p:nvPicPr>
        <p:blipFill>
          <a:blip r:embed="rId2"/>
          <a:stretch/>
        </p:blipFill>
        <p:spPr>
          <a:xfrm>
            <a:off x="3203640" y="0"/>
            <a:ext cx="5940360" cy="3362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1707D"/>
          <p:cNvPicPr/>
          <p:nvPr/>
        </p:nvPicPr>
        <p:blipFill>
          <a:blip r:embed="rId3"/>
          <a:stretch/>
        </p:blipFill>
        <p:spPr>
          <a:xfrm>
            <a:off x="3203640" y="3357720"/>
            <a:ext cx="59403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1706D"/>
          <p:cNvPicPr/>
          <p:nvPr/>
        </p:nvPicPr>
        <p:blipFill>
          <a:blip r:embed="rId1"/>
          <a:stretch/>
        </p:blipFill>
        <p:spPr>
          <a:xfrm>
            <a:off x="0" y="0"/>
            <a:ext cx="914400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20073141712511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Arial"/>
              </a:rPr>
              <a:t>课余探究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10920" y="2205000"/>
            <a:ext cx="7993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当人在骑自行车遇到上坡时，怎样骑会更省力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01"/>
          <p:cNvPicPr/>
          <p:nvPr/>
        </p:nvPicPr>
        <p:blipFill>
          <a:blip r:embed="rId2"/>
          <a:stretch/>
        </p:blipFill>
        <p:spPr>
          <a:xfrm flipH="1">
            <a:off x="2951280" y="4005360"/>
            <a:ext cx="3240000" cy="2448000"/>
          </a:xfrm>
          <a:prstGeom prst="rect">
            <a:avLst/>
          </a:prstGeom>
          <a:ln w="0">
            <a:noFill/>
          </a:ln>
        </p:spPr>
      </p:pic>
      <p:sp>
        <p:nvSpPr>
          <p:cNvPr id="90" name="文本框 1"/>
          <p:cNvSpPr/>
          <p:nvPr/>
        </p:nvSpPr>
        <p:spPr>
          <a:xfrm>
            <a:off x="250920" y="6253200"/>
            <a:ext cx="701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1F74-A4CB-47E1-A8FC-8CCAF799543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1186892316"/>
          <p:cNvPicPr/>
          <p:nvPr/>
        </p:nvPicPr>
        <p:blipFill>
          <a:blip r:embed="rId1"/>
          <a:stretch/>
        </p:blipFill>
        <p:spPr>
          <a:xfrm>
            <a:off x="0" y="3726000"/>
            <a:ext cx="4140360" cy="3132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2006228115171394"/>
          <p:cNvPicPr/>
          <p:nvPr/>
        </p:nvPicPr>
        <p:blipFill>
          <a:blip r:embed="rId2"/>
          <a:stretch/>
        </p:blipFill>
        <p:spPr>
          <a:xfrm>
            <a:off x="2627280" y="0"/>
            <a:ext cx="651672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Image21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42926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0" y="4365720"/>
            <a:ext cx="91440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像搭在汽车车厢上的木板那样的简单机械，叫做斜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4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1713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"/>
          <p:cNvSpPr/>
          <p:nvPr/>
        </p:nvSpPr>
        <p:spPr>
          <a:xfrm>
            <a:off x="1116000" y="33336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33cc"/>
                </a:solidFill>
                <a:latin typeface="Arial"/>
              </a:rPr>
              <a:t>斜面能省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实验计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50560" y="836640"/>
            <a:ext cx="88930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验名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验器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验步骤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2268360" y="7650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研究斜面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268360" y="148428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斜面、重物、测力计、铁架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195640" y="2133720"/>
            <a:ext cx="6948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搭好实验装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先测出直接提升物体的力，再测出沿斜面提升物体的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改变物体的重量，按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复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讨论、整理实验发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250920" y="4869000"/>
            <a:ext cx="91440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温馨提示：</a:t>
            </a: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只能改变物体的重量，不能改变斜面的高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                         </a:t>
            </a: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拉测力计的要求是匀速直线，边拉边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                         </a:t>
            </a: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注重小组合作、边实验边记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3180600" y="309240"/>
            <a:ext cx="34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研究斜面作用的实验记录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95280" y="1197000"/>
          <a:ext cx="8353440" cy="3527280"/>
        </p:xfrm>
        <a:graphic>
          <a:graphicData uri="http://schemas.openxmlformats.org/drawingml/2006/table">
            <a:tbl>
              <a:tblPr/>
              <a:tblGrid>
                <a:gridCol w="1415880"/>
                <a:gridCol w="1298880"/>
                <a:gridCol w="1355760"/>
                <a:gridCol w="1355400"/>
                <a:gridCol w="1274760"/>
                <a:gridCol w="1652760"/>
              </a:tblGrid>
              <a:tr h="504720">
                <a:tc row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提升不同的物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我们的发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2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直接提升物体的力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0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沿斜面提升物体的力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7" name="Rectangle 206"/>
          <p:cNvSpPr/>
          <p:nvPr/>
        </p:nvSpPr>
        <p:spPr>
          <a:xfrm>
            <a:off x="0" y="52513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13"/>
          <p:cNvSpPr/>
          <p:nvPr/>
        </p:nvSpPr>
        <p:spPr>
          <a:xfrm>
            <a:off x="826920" y="5013360"/>
            <a:ext cx="76345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ff33cc"/>
                </a:solidFill>
                <a:latin typeface="Arial"/>
              </a:rPr>
              <a:t>学会倾听，是一种美德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16"/>
          <p:cNvSpPr/>
          <p:nvPr/>
        </p:nvSpPr>
        <p:spPr>
          <a:xfrm>
            <a:off x="8783640" y="6426360"/>
            <a:ext cx="360360" cy="43164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44704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温馨提示：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不能改变物体的重量，只能改变坡度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拉测力计的要求是匀速直线，边拉边读。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注重小组合作、边实验边记录。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完成实验的小组整理好桌上的实验器材，并 </a:t>
            </a:r>
            <a:br>
              <a:rPr sz="3200"/>
            </a:b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   思考发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2259000" y="331920"/>
            <a:ext cx="4594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研究不同坡度斜面作用的实验记录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表示坡度由小到大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68360" y="1484280"/>
          <a:ext cx="8424720" cy="3600360"/>
        </p:xfrm>
        <a:graphic>
          <a:graphicData uri="http://schemas.openxmlformats.org/drawingml/2006/table">
            <a:tbl>
              <a:tblPr/>
              <a:tblGrid>
                <a:gridCol w="1523880"/>
                <a:gridCol w="1360440"/>
                <a:gridCol w="1305000"/>
                <a:gridCol w="1109880"/>
                <a:gridCol w="1038240"/>
                <a:gridCol w="2087280"/>
              </a:tblGrid>
              <a:tr h="838080"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直接提升物体的力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沿不同斜面提升物体的力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我们的发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2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AutoShape 237"/>
          <p:cNvSpPr/>
          <p:nvPr/>
        </p:nvSpPr>
        <p:spPr>
          <a:xfrm>
            <a:off x="8748720" y="6453360"/>
            <a:ext cx="395280" cy="40464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38"/>
          <p:cNvSpPr/>
          <p:nvPr/>
        </p:nvSpPr>
        <p:spPr>
          <a:xfrm>
            <a:off x="971640" y="5373720"/>
            <a:ext cx="7129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Arial"/>
              </a:rPr>
              <a:t>学会倾听，学会质疑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1341000"/>
            <a:ext cx="4464000" cy="11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Arial"/>
              </a:rPr>
              <a:t>斜面都能省力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3492360" y="2852640"/>
            <a:ext cx="489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Arial"/>
              </a:rPr>
              <a:t>坡度越小越省力，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ff33cc"/>
                </a:solidFill>
                <a:latin typeface="Arial"/>
              </a:rPr>
              <a:t>坡度越大越费力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13:20:4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5:58Z</dcterms:modified>
  <cp:revision>5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