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0E8-52F7-4992-A784-732EC4FD3E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22B-C49F-4366-B3C4-D73B88F13A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800-D24E-46A3-B3F4-38E030E8B3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011-218A-4DC9-A8F3-77AB3D24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A64-BFFD-4086-A6B9-4D247B9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B78-CF53-4F2B-AC31-820EF2A0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418-6D77-4095-9923-0B02ED37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94F1-1B6E-4EB6-BBC4-F3D363DC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A41-2D0C-4D94-8E12-2B53D17C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ED9-4D83-4FA6-A54D-906C847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3A5-FE27-400E-8CB4-D314737B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59C7-3C06-4B8E-B05E-1408427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8350-1593-4216-9DD2-FCA7C155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8E65-F380-4299-8324-5E52D7B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A09-30D3-476F-859D-0206E3E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AF84-EAC4-432A-A1CD-8F1B825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5991-B240-4D91-8346-0ED9288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F65A-D543-4176-95E8-0B7C65B3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17B-E76A-4817-8E63-942DD3F4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8E0-7CF6-4AA7-BADA-1AE6A4F5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BCBE-FC43-4DA6-A5EA-23C3B647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2550-7BAC-4419-9E13-2F77B9A1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8444-F853-4004-8D82-24AB741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8395-FBFB-4A02-A705-C82840F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8ADA-EF7C-4EB9-BF05-6FDB6E7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91D-E31E-4291-AD8D-4B06123F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917E-FB00-4C19-A0C0-B7909293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DD11-A363-45A1-A76A-BAA45FA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5C5C-F128-421F-857B-E0BEE3F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E789-8EA5-428E-A3E2-83DB5BA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35F7-5C03-4349-A821-9D9AE04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10B4-A887-402D-84FF-14198E28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9A96-8F0C-4ADB-BFF9-16BB0B9F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A82D-D885-40BC-A0E3-012A9F9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38BD-C62E-414F-B9C9-2337112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BD3C-2DA8-47F5-86BC-A03C5EE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97F-1727-4CD3-8F33-296113D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1B8D-4129-4EDF-8D33-9BB3A75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5576-3C4E-4264-8023-502C5BF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110B-226E-4234-81D8-0A65299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D3C4-760C-4A0E-8F54-690DBEC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0C4E-9F2F-4619-9B60-99A3FA7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AFFCC-254F-4794-81E5-8C07589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62AF-A548-4974-B0F8-453FDC0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701B-F761-4320-8922-1DD230C6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8177-68B6-4786-B319-7D865D95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21C8-7FFA-4234-A8E6-ADBB8863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F32-5399-41A3-B3A2-BC17BB2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E697-2ADA-4370-8294-27CB5E2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0D6E-B620-4CAC-8CAD-E5D17A0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A14D-6E1B-45BC-AE4C-F1FF764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3EDE-B1A1-45DB-802F-1079AC4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2EF1-F0F1-4198-BDE1-A6B30D1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AF8C-2321-4151-B627-99C07AE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E764-F0C6-4E25-AD78-DAC0C7F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149E-D96B-48C4-AA4B-91DA7827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B631-2223-45C8-BE46-D24EDEF5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7D92-E1E9-40EF-B1B1-CC2E79D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091-DC04-4B50-AF8B-DBF7944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700E-355A-4662-B9ED-38F9A102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35F-5A6A-4D30-9E41-5B38ADD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551-3FC6-4218-9BC0-9842D697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722-F8E3-4655-A4EB-9B0C4B4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05B-6707-475C-826C-B2ECE7B2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5E5-58A3-4C92-9D3B-2F6BACBE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ABCE-9DC9-43B8-911B-E475E468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434-EFE9-4537-B763-577525E8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5D3-268A-4B49-91C6-DC7020ABC4A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3"/>
          <p:cNvSpPr/>
          <p:nvPr/>
        </p:nvSpPr>
        <p:spPr>
          <a:xfrm>
            <a:off x="2619000" y="249228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貌各异的我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2106720" y="5640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舌   头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51" name="Picture 5" descr="u=1553097364,1975842310&amp;fm=52&amp;gp=0"/>
          <p:cNvPicPr/>
          <p:nvPr/>
        </p:nvPicPr>
        <p:blipFill>
          <a:blip r:embed="rId1"/>
          <a:stretch/>
        </p:blipFill>
        <p:spPr>
          <a:xfrm>
            <a:off x="611280" y="2060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u=24218123,3255812451&amp;fm=51&amp;gp=0"/>
          <p:cNvPicPr/>
          <p:nvPr/>
        </p:nvPicPr>
        <p:blipFill>
          <a:blip r:embed="rId2"/>
          <a:stretch/>
        </p:blipFill>
        <p:spPr>
          <a:xfrm>
            <a:off x="4859280" y="2060640"/>
            <a:ext cx="3457800" cy="3060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1609920" y="5373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卷曲的舌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580000" y="5373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能卷曲的舌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89000"/>
            <a:ext cx="8540640" cy="1295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统计班级里具有每一种相貌特征的人数，完成下表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18440" cy="90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50480" y="679320"/>
            <a:ext cx="484416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我们哪些相貌特征相同，哪些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进行组合，会有多少种相貌不同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想一想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我们的相貌是唯一的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班级里能找到两个相貌完全相同的人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2987640" y="1844640"/>
            <a:ext cx="3144960" cy="3170160"/>
            <a:chOff x="2987640" y="1844640"/>
            <a:chExt cx="3144960" cy="3170160"/>
          </a:xfrm>
        </p:grpSpPr>
        <p:pic>
          <p:nvPicPr>
            <p:cNvPr id="263" name="Picture 3" descr="001"/>
            <p:cNvPicPr/>
            <p:nvPr/>
          </p:nvPicPr>
          <p:blipFill>
            <a:blip r:embed="rId1"/>
            <a:stretch/>
          </p:blipFill>
          <p:spPr>
            <a:xfrm>
              <a:off x="2987640" y="1844640"/>
              <a:ext cx="3144960" cy="31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Group 4"/>
            <p:cNvGrpSpPr/>
            <p:nvPr/>
          </p:nvGrpSpPr>
          <p:grpSpPr>
            <a:xfrm>
              <a:off x="3959280" y="2782800"/>
              <a:ext cx="1177920" cy="1371600"/>
              <a:chOff x="3959280" y="2782800"/>
              <a:chExt cx="1177920" cy="1371600"/>
            </a:xfrm>
          </p:grpSpPr>
          <p:sp>
            <p:nvSpPr>
              <p:cNvPr id="265" name="WordArt 5"/>
              <p:cNvSpPr txBox="1"/>
              <p:nvPr/>
            </p:nvSpPr>
            <p:spPr>
              <a:xfrm rot="16200000">
                <a:off x="3502080" y="3240000"/>
                <a:ext cx="137160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有耳垂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66" name="WordArt 6"/>
              <p:cNvSpPr txBox="1"/>
              <p:nvPr/>
            </p:nvSpPr>
            <p:spPr>
              <a:xfrm rot="5400000">
                <a:off x="4222800" y="3240000"/>
                <a:ext cx="137160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无耳垂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</p:grpSp>
        <p:sp>
          <p:nvSpPr>
            <p:cNvPr id="267" name="WordArt 7"/>
            <p:cNvSpPr txBox="1"/>
            <p:nvPr/>
          </p:nvSpPr>
          <p:spPr>
            <a:xfrm>
              <a:off x="3192480" y="3070080"/>
              <a:ext cx="21600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268" name="WordArt 8"/>
            <p:cNvSpPr txBox="1"/>
            <p:nvPr/>
          </p:nvSpPr>
          <p:spPr>
            <a:xfrm>
              <a:off x="5713200" y="2998800"/>
              <a:ext cx="21600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3835080" y="4039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性状组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2278440" y="537300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个相貌特征表现出两种性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2484360" y="765000"/>
            <a:ext cx="4138560" cy="4121280"/>
            <a:chOff x="2484360" y="765000"/>
            <a:chExt cx="4138560" cy="4121280"/>
          </a:xfrm>
        </p:grpSpPr>
        <p:pic>
          <p:nvPicPr>
            <p:cNvPr id="272" name="Picture 3" descr="002"/>
            <p:cNvPicPr/>
            <p:nvPr/>
          </p:nvPicPr>
          <p:blipFill>
            <a:blip r:embed="rId1"/>
            <a:stretch/>
          </p:blipFill>
          <p:spPr>
            <a:xfrm>
              <a:off x="2484360" y="765000"/>
              <a:ext cx="4138560" cy="412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Group 4"/>
            <p:cNvGrpSpPr/>
            <p:nvPr/>
          </p:nvGrpSpPr>
          <p:grpSpPr>
            <a:xfrm>
              <a:off x="3067200" y="1417320"/>
              <a:ext cx="2894040" cy="2849760"/>
              <a:chOff x="3067200" y="1417320"/>
              <a:chExt cx="2894040" cy="2849760"/>
            </a:xfrm>
          </p:grpSpPr>
          <p:grpSp>
            <p:nvGrpSpPr>
              <p:cNvPr id="274" name="Group 5"/>
              <p:cNvGrpSpPr/>
              <p:nvPr/>
            </p:nvGrpSpPr>
            <p:grpSpPr>
              <a:xfrm>
                <a:off x="3978000" y="2178000"/>
                <a:ext cx="1177920" cy="1371600"/>
                <a:chOff x="3978000" y="2178000"/>
                <a:chExt cx="1177920" cy="1371600"/>
              </a:xfrm>
            </p:grpSpPr>
            <p:sp>
              <p:nvSpPr>
                <p:cNvPr id="275" name="WordArt 6"/>
                <p:cNvSpPr txBox="1"/>
                <p:nvPr/>
              </p:nvSpPr>
              <p:spPr>
                <a:xfrm rot="16200000">
                  <a:off x="3520800" y="2635200"/>
                  <a:ext cx="1371600" cy="4572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有耳垂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276" name="WordArt 7"/>
                <p:cNvSpPr txBox="1"/>
                <p:nvPr/>
              </p:nvSpPr>
              <p:spPr>
                <a:xfrm rot="5400000">
                  <a:off x="4241520" y="2635200"/>
                  <a:ext cx="1371600" cy="4572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无耳垂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</p:grpSp>
          <p:sp>
            <p:nvSpPr>
              <p:cNvPr id="277" name="WordArt 8"/>
              <p:cNvSpPr txBox="1"/>
              <p:nvPr/>
            </p:nvSpPr>
            <p:spPr>
              <a:xfrm rot="7918200">
                <a:off x="4495320" y="3228480"/>
                <a:ext cx="1500120" cy="576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前额“</a:t>
                </a: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V”</a:t>
                </a: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发尖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78" name="WordArt 9"/>
              <p:cNvSpPr txBox="1"/>
              <p:nvPr/>
            </p:nvSpPr>
            <p:spPr>
              <a:xfrm rot="18932400">
                <a:off x="3054240" y="1860120"/>
                <a:ext cx="1500120" cy="576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前额“</a:t>
                </a: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V”</a:t>
                </a: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发尖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79" name="WordArt 10"/>
              <p:cNvSpPr txBox="1"/>
              <p:nvPr/>
            </p:nvSpPr>
            <p:spPr>
              <a:xfrm rot="2970000">
                <a:off x="4745880" y="1897200"/>
                <a:ext cx="1224000" cy="360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平发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80" name="WordArt 11"/>
              <p:cNvSpPr txBox="1"/>
              <p:nvPr/>
            </p:nvSpPr>
            <p:spPr>
              <a:xfrm rot="13770000">
                <a:off x="3062160" y="3395520"/>
                <a:ext cx="1224000" cy="287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平发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</p:grpSp>
        <p:sp>
          <p:nvSpPr>
            <p:cNvPr id="281" name="WordArt 12"/>
            <p:cNvSpPr txBox="1"/>
            <p:nvPr/>
          </p:nvSpPr>
          <p:spPr>
            <a:xfrm rot="19129800">
              <a:off x="3165120" y="1555200"/>
              <a:ext cx="216000" cy="71640"/>
            </a:xfrm>
            <a:prstGeom prst="rect">
              <a:avLst/>
            </a:prstGeom>
          </p:spPr>
          <p:txBody>
            <a:bodyPr wrap="none" fromWordArt="1" lIns="90000" rIns="90000" tIns="25200" bIns="252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282" name="WordArt 13"/>
            <p:cNvSpPr txBox="1"/>
            <p:nvPr/>
          </p:nvSpPr>
          <p:spPr>
            <a:xfrm rot="14106600">
              <a:off x="3291120" y="3938760"/>
              <a:ext cx="144360" cy="216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283" name="WordArt 14"/>
            <p:cNvSpPr txBox="1"/>
            <p:nvPr/>
          </p:nvSpPr>
          <p:spPr>
            <a:xfrm rot="7298400">
              <a:off x="5751720" y="3924720"/>
              <a:ext cx="268560" cy="79200"/>
            </a:xfrm>
            <a:prstGeom prst="rect">
              <a:avLst/>
            </a:prstGeom>
          </p:spPr>
          <p:txBody>
            <a:bodyPr wrap="none" fromWordArt="1" lIns="90000" rIns="90000" tIns="32760" bIns="3276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284" name="WordArt 15"/>
            <p:cNvSpPr txBox="1"/>
            <p:nvPr/>
          </p:nvSpPr>
          <p:spPr>
            <a:xfrm rot="3645000">
              <a:off x="5747760" y="1631880"/>
              <a:ext cx="272880" cy="69840"/>
            </a:xfrm>
            <a:prstGeom prst="rect">
              <a:avLst/>
            </a:prstGeom>
          </p:spPr>
          <p:txBody>
            <a:bodyPr wrap="none" fromWordArt="1" lIns="90000" rIns="90000" tIns="23040" bIns="230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285" name="Rectangle 16"/>
          <p:cNvSpPr/>
          <p:nvPr/>
        </p:nvSpPr>
        <p:spPr>
          <a:xfrm>
            <a:off x="1929600" y="52999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两个相貌特征的性状两两组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可以产生四种不同的相貌。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2×2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1979640" y="189000"/>
            <a:ext cx="5187600" cy="5205240"/>
            <a:chOff x="1979640" y="189000"/>
            <a:chExt cx="5187600" cy="5205240"/>
          </a:xfrm>
        </p:grpSpPr>
        <p:pic>
          <p:nvPicPr>
            <p:cNvPr id="287" name="Picture 3" descr="003"/>
            <p:cNvPicPr/>
            <p:nvPr/>
          </p:nvPicPr>
          <p:blipFill>
            <a:blip r:embed="rId1"/>
            <a:stretch/>
          </p:blipFill>
          <p:spPr>
            <a:xfrm>
              <a:off x="1979640" y="189000"/>
              <a:ext cx="5187600" cy="520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4"/>
            <p:cNvGrpSpPr/>
            <p:nvPr/>
          </p:nvGrpSpPr>
          <p:grpSpPr>
            <a:xfrm>
              <a:off x="2697120" y="915120"/>
              <a:ext cx="3814920" cy="3819600"/>
              <a:chOff x="2697120" y="915120"/>
              <a:chExt cx="3814920" cy="3819600"/>
            </a:xfrm>
          </p:grpSpPr>
          <p:grpSp>
            <p:nvGrpSpPr>
              <p:cNvPr id="289" name="Group 5"/>
              <p:cNvGrpSpPr/>
              <p:nvPr/>
            </p:nvGrpSpPr>
            <p:grpSpPr>
              <a:xfrm>
                <a:off x="3089160" y="1383120"/>
                <a:ext cx="2894040" cy="2849400"/>
                <a:chOff x="3089160" y="1383120"/>
                <a:chExt cx="2894040" cy="2849400"/>
              </a:xfrm>
            </p:grpSpPr>
            <p:grpSp>
              <p:nvGrpSpPr>
                <p:cNvPr id="290" name="Group 6"/>
                <p:cNvGrpSpPr/>
                <p:nvPr/>
              </p:nvGrpSpPr>
              <p:grpSpPr>
                <a:xfrm>
                  <a:off x="3999960" y="2143440"/>
                  <a:ext cx="1177920" cy="1371600"/>
                  <a:chOff x="3999960" y="2143440"/>
                  <a:chExt cx="1177920" cy="1371600"/>
                </a:xfrm>
              </p:grpSpPr>
              <p:sp>
                <p:nvSpPr>
                  <p:cNvPr id="291" name="WordArt 7"/>
                  <p:cNvSpPr txBox="1"/>
                  <p:nvPr/>
                </p:nvSpPr>
                <p:spPr>
                  <a:xfrm rot="16200000">
                    <a:off x="3542760" y="2600280"/>
                    <a:ext cx="1371240" cy="4572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有耳垂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292" name="WordArt 8"/>
                  <p:cNvSpPr txBox="1"/>
                  <p:nvPr/>
                </p:nvSpPr>
                <p:spPr>
                  <a:xfrm rot="5400000">
                    <a:off x="4263480" y="2600640"/>
                    <a:ext cx="1371240" cy="4572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无耳垂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</p:grpSp>
            <p:sp>
              <p:nvSpPr>
                <p:cNvPr id="293" name="WordArt 9"/>
                <p:cNvSpPr txBox="1"/>
                <p:nvPr/>
              </p:nvSpPr>
              <p:spPr>
                <a:xfrm rot="7918200">
                  <a:off x="4517280" y="3193920"/>
                  <a:ext cx="1499760" cy="57636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前额“</a:t>
                  </a: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V”</a:t>
                  </a: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发尖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294" name="WordArt 10"/>
                <p:cNvSpPr txBox="1"/>
                <p:nvPr/>
              </p:nvSpPr>
              <p:spPr>
                <a:xfrm rot="18932400">
                  <a:off x="3075840" y="1825920"/>
                  <a:ext cx="1500120" cy="5760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前额“</a:t>
                  </a: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V”</a:t>
                  </a: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发尖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295" name="WordArt 11"/>
                <p:cNvSpPr txBox="1"/>
                <p:nvPr/>
              </p:nvSpPr>
              <p:spPr>
                <a:xfrm rot="2970000">
                  <a:off x="4768200" y="1862640"/>
                  <a:ext cx="1223640" cy="36036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平发际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296" name="WordArt 12"/>
                <p:cNvSpPr txBox="1"/>
                <p:nvPr/>
              </p:nvSpPr>
              <p:spPr>
                <a:xfrm rot="13770000">
                  <a:off x="3084120" y="3360600"/>
                  <a:ext cx="1223640" cy="2872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平发际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</p:grpSp>
          <p:sp>
            <p:nvSpPr>
              <p:cNvPr id="297" name="WordArt 13"/>
              <p:cNvSpPr txBox="1"/>
              <p:nvPr/>
            </p:nvSpPr>
            <p:spPr>
              <a:xfrm rot="20111400">
                <a:off x="3466440" y="1134360"/>
                <a:ext cx="1081080" cy="364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有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98" name="WordArt 14"/>
              <p:cNvSpPr txBox="1"/>
              <p:nvPr/>
            </p:nvSpPr>
            <p:spPr>
              <a:xfrm rot="9310800">
                <a:off x="4647240" y="4159800"/>
                <a:ext cx="1081080" cy="364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有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299" name="WordArt 15"/>
              <p:cNvSpPr txBox="1"/>
              <p:nvPr/>
            </p:nvSpPr>
            <p:spPr>
              <a:xfrm rot="14622000">
                <a:off x="2559600" y="3217680"/>
                <a:ext cx="1080720" cy="3650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有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00" name="WordArt 16"/>
              <p:cNvSpPr txBox="1"/>
              <p:nvPr/>
            </p:nvSpPr>
            <p:spPr>
              <a:xfrm rot="3944400">
                <a:off x="5583240" y="1993680"/>
                <a:ext cx="1080720" cy="365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有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01" name="WordArt 17"/>
              <p:cNvSpPr txBox="1"/>
              <p:nvPr/>
            </p:nvSpPr>
            <p:spPr>
              <a:xfrm rot="17524800">
                <a:off x="2554920" y="1993680"/>
                <a:ext cx="1080720" cy="3650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无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02" name="WordArt 18"/>
              <p:cNvSpPr txBox="1"/>
              <p:nvPr/>
            </p:nvSpPr>
            <p:spPr>
              <a:xfrm rot="1542000">
                <a:off x="4720320" y="1131120"/>
                <a:ext cx="1081080" cy="3650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无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03" name="WordArt 19"/>
              <p:cNvSpPr txBox="1"/>
              <p:nvPr/>
            </p:nvSpPr>
            <p:spPr>
              <a:xfrm rot="12129000">
                <a:off x="3423240" y="4155120"/>
                <a:ext cx="1081080" cy="364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无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04" name="WordArt 20"/>
              <p:cNvSpPr txBox="1"/>
              <p:nvPr/>
            </p:nvSpPr>
            <p:spPr>
              <a:xfrm rot="6666000">
                <a:off x="5583240" y="3217680"/>
                <a:ext cx="1080720" cy="365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下颌中央无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</p:grpSp>
        <p:sp>
          <p:nvSpPr>
            <p:cNvPr id="305" name="WordArt 21"/>
            <p:cNvSpPr txBox="1"/>
            <p:nvPr/>
          </p:nvSpPr>
          <p:spPr>
            <a:xfrm rot="19725000">
              <a:off x="3493440" y="488160"/>
              <a:ext cx="336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06" name="WordArt 22"/>
            <p:cNvSpPr txBox="1"/>
            <p:nvPr/>
          </p:nvSpPr>
          <p:spPr>
            <a:xfrm rot="17862000">
              <a:off x="2292120" y="1690200"/>
              <a:ext cx="3362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07" name="WordArt 23"/>
            <p:cNvSpPr txBox="1"/>
            <p:nvPr/>
          </p:nvSpPr>
          <p:spPr>
            <a:xfrm rot="15073200">
              <a:off x="2292120" y="3416760"/>
              <a:ext cx="3362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08" name="WordArt 24"/>
            <p:cNvSpPr txBox="1"/>
            <p:nvPr/>
          </p:nvSpPr>
          <p:spPr>
            <a:xfrm rot="12768600">
              <a:off x="3515760" y="4736520"/>
              <a:ext cx="336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09" name="WordArt 25"/>
            <p:cNvSpPr txBox="1"/>
            <p:nvPr/>
          </p:nvSpPr>
          <p:spPr>
            <a:xfrm rot="9458400">
              <a:off x="5365080" y="4736520"/>
              <a:ext cx="336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10" name="WordArt 26"/>
            <p:cNvSpPr txBox="1"/>
            <p:nvPr/>
          </p:nvSpPr>
          <p:spPr>
            <a:xfrm rot="6562800">
              <a:off x="6540480" y="3490560"/>
              <a:ext cx="3362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11" name="WordArt 27"/>
            <p:cNvSpPr txBox="1"/>
            <p:nvPr/>
          </p:nvSpPr>
          <p:spPr>
            <a:xfrm rot="4101600">
              <a:off x="6540120" y="1690200"/>
              <a:ext cx="3362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12" name="WordArt 28"/>
            <p:cNvSpPr txBox="1"/>
            <p:nvPr/>
          </p:nvSpPr>
          <p:spPr>
            <a:xfrm rot="1597800">
              <a:off x="5365440" y="488520"/>
              <a:ext cx="336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313" name="Rectangle 29"/>
          <p:cNvSpPr/>
          <p:nvPr/>
        </p:nvSpPr>
        <p:spPr>
          <a:xfrm>
            <a:off x="1551960" y="5314680"/>
            <a:ext cx="55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三种相貌特征组合，会产生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种不同的相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2×2×2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＝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2411280" y="189000"/>
            <a:ext cx="6254640" cy="6254640"/>
            <a:chOff x="2411280" y="189000"/>
            <a:chExt cx="6254640" cy="6254640"/>
          </a:xfrm>
        </p:grpSpPr>
        <p:pic>
          <p:nvPicPr>
            <p:cNvPr id="315" name="Picture 3" descr="004"/>
            <p:cNvPicPr/>
            <p:nvPr/>
          </p:nvPicPr>
          <p:blipFill>
            <a:blip r:embed="rId1"/>
            <a:stretch/>
          </p:blipFill>
          <p:spPr>
            <a:xfrm>
              <a:off x="2411280" y="189000"/>
              <a:ext cx="6254640" cy="625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Group 4"/>
            <p:cNvGrpSpPr/>
            <p:nvPr/>
          </p:nvGrpSpPr>
          <p:grpSpPr>
            <a:xfrm>
              <a:off x="3145320" y="910440"/>
              <a:ext cx="4739400" cy="4791240"/>
              <a:chOff x="3145320" y="910440"/>
              <a:chExt cx="4739400" cy="4791240"/>
            </a:xfrm>
          </p:grpSpPr>
          <p:grpSp>
            <p:nvGrpSpPr>
              <p:cNvPr id="317" name="Group 5"/>
              <p:cNvGrpSpPr/>
              <p:nvPr/>
            </p:nvGrpSpPr>
            <p:grpSpPr>
              <a:xfrm>
                <a:off x="3665160" y="1439280"/>
                <a:ext cx="3815640" cy="3820680"/>
                <a:chOff x="3665160" y="1439280"/>
                <a:chExt cx="3815640" cy="3820680"/>
              </a:xfrm>
            </p:grpSpPr>
            <p:grpSp>
              <p:nvGrpSpPr>
                <p:cNvPr id="318" name="Group 6"/>
                <p:cNvGrpSpPr/>
                <p:nvPr/>
              </p:nvGrpSpPr>
              <p:grpSpPr>
                <a:xfrm>
                  <a:off x="4057560" y="1908000"/>
                  <a:ext cx="2894040" cy="2849760"/>
                  <a:chOff x="4057560" y="1908000"/>
                  <a:chExt cx="2894040" cy="2849760"/>
                </a:xfrm>
              </p:grpSpPr>
              <p:grpSp>
                <p:nvGrpSpPr>
                  <p:cNvPr id="319" name="Group 7"/>
                  <p:cNvGrpSpPr/>
                  <p:nvPr/>
                </p:nvGrpSpPr>
                <p:grpSpPr>
                  <a:xfrm>
                    <a:off x="4968360" y="2668680"/>
                    <a:ext cx="1177920" cy="1371600"/>
                    <a:chOff x="4968360" y="2668680"/>
                    <a:chExt cx="1177920" cy="1371600"/>
                  </a:xfrm>
                </p:grpSpPr>
                <p:sp>
                  <p:nvSpPr>
                    <p:cNvPr id="320" name="WordArt 8"/>
                    <p:cNvSpPr txBox="1"/>
                    <p:nvPr/>
                  </p:nvSpPr>
                  <p:spPr>
                    <a:xfrm rot="16200000">
                      <a:off x="4511160" y="3125880"/>
                      <a:ext cx="1371600" cy="45720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Up">
                        <a:avLst>
                          <a:gd name="adj" fmla="val 1080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1" strike="noStrike"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  <a:solidFill>
                            <a:srgbClr val="000000"/>
                          </a:solidFill>
                          <a:latin typeface="华文新魏"/>
                        </a:rPr>
                        <a:t>有耳垂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  <a:ea typeface="华文新魏"/>
                      </a:endParaRPr>
                    </a:p>
                  </p:txBody>
                </p:sp>
                <p:sp>
                  <p:nvSpPr>
                    <p:cNvPr id="321" name="WordArt 9"/>
                    <p:cNvSpPr txBox="1"/>
                    <p:nvPr/>
                  </p:nvSpPr>
                  <p:spPr>
                    <a:xfrm rot="5400000">
                      <a:off x="5231880" y="3125880"/>
                      <a:ext cx="1371600" cy="45720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Up">
                        <a:avLst>
                          <a:gd name="adj" fmla="val 1080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1" strike="noStrike"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  <a:solidFill>
                            <a:srgbClr val="000000"/>
                          </a:solidFill>
                          <a:latin typeface="华文新魏"/>
                        </a:rPr>
                        <a:t>无耳垂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  <a:ea typeface="华文新魏"/>
                      </a:endParaRPr>
                    </a:p>
                  </p:txBody>
                </p:sp>
              </p:grpSp>
              <p:sp>
                <p:nvSpPr>
                  <p:cNvPr id="322" name="WordArt 10"/>
                  <p:cNvSpPr txBox="1"/>
                  <p:nvPr/>
                </p:nvSpPr>
                <p:spPr>
                  <a:xfrm rot="7918200">
                    <a:off x="5485680" y="3719160"/>
                    <a:ext cx="1500120" cy="5763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前额“</a:t>
                    </a: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V”</a:t>
                    </a: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发尖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23" name="WordArt 11"/>
                  <p:cNvSpPr txBox="1"/>
                  <p:nvPr/>
                </p:nvSpPr>
                <p:spPr>
                  <a:xfrm rot="18932400">
                    <a:off x="4044600" y="2350800"/>
                    <a:ext cx="1500120" cy="5763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前额“</a:t>
                    </a: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V”</a:t>
                    </a: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发尖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24" name="WordArt 12"/>
                  <p:cNvSpPr txBox="1"/>
                  <p:nvPr/>
                </p:nvSpPr>
                <p:spPr>
                  <a:xfrm rot="2970000">
                    <a:off x="5736240" y="2387880"/>
                    <a:ext cx="1224000" cy="3603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平发际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25" name="WordArt 13"/>
                  <p:cNvSpPr txBox="1"/>
                  <p:nvPr/>
                </p:nvSpPr>
                <p:spPr>
                  <a:xfrm rot="13770000">
                    <a:off x="4052520" y="3886200"/>
                    <a:ext cx="1224000" cy="28728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平发际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</p:grpSp>
            <p:sp>
              <p:nvSpPr>
                <p:cNvPr id="326" name="WordArt 14"/>
                <p:cNvSpPr txBox="1"/>
                <p:nvPr/>
              </p:nvSpPr>
              <p:spPr>
                <a:xfrm rot="20111400">
                  <a:off x="4435200" y="165888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27" name="WordArt 15"/>
                <p:cNvSpPr txBox="1"/>
                <p:nvPr/>
              </p:nvSpPr>
              <p:spPr>
                <a:xfrm rot="9310800">
                  <a:off x="5615280" y="468468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28" name="WordArt 16"/>
                <p:cNvSpPr txBox="1"/>
                <p:nvPr/>
              </p:nvSpPr>
              <p:spPr>
                <a:xfrm rot="14622000">
                  <a:off x="3527640" y="374220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29" name="WordArt 17"/>
                <p:cNvSpPr txBox="1"/>
                <p:nvPr/>
              </p:nvSpPr>
              <p:spPr>
                <a:xfrm rot="3944400">
                  <a:off x="6551280" y="2518200"/>
                  <a:ext cx="1081080" cy="36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30" name="WordArt 18"/>
                <p:cNvSpPr txBox="1"/>
                <p:nvPr/>
              </p:nvSpPr>
              <p:spPr>
                <a:xfrm rot="17524800">
                  <a:off x="3522960" y="251820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31" name="WordArt 19"/>
                <p:cNvSpPr txBox="1"/>
                <p:nvPr/>
              </p:nvSpPr>
              <p:spPr>
                <a:xfrm rot="1542000">
                  <a:off x="5688720" y="1655280"/>
                  <a:ext cx="1081080" cy="36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32" name="WordArt 20"/>
                <p:cNvSpPr txBox="1"/>
                <p:nvPr/>
              </p:nvSpPr>
              <p:spPr>
                <a:xfrm rot="12129000">
                  <a:off x="4391640" y="468000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33" name="WordArt 21"/>
                <p:cNvSpPr txBox="1"/>
                <p:nvPr/>
              </p:nvSpPr>
              <p:spPr>
                <a:xfrm rot="6666000">
                  <a:off x="6551280" y="3742200"/>
                  <a:ext cx="1081080" cy="36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</p:grpSp>
          <p:sp>
            <p:nvSpPr>
              <p:cNvPr id="334" name="WordArt 22"/>
              <p:cNvSpPr txBox="1"/>
              <p:nvPr/>
            </p:nvSpPr>
            <p:spPr>
              <a:xfrm rot="20935800">
                <a:off x="4678200" y="101268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35" name="WordArt 23"/>
              <p:cNvSpPr txBox="1"/>
              <p:nvPr/>
            </p:nvSpPr>
            <p:spPr>
              <a:xfrm rot="18403200">
                <a:off x="3262680" y="197352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36" name="WordArt 24"/>
              <p:cNvSpPr txBox="1"/>
              <p:nvPr/>
            </p:nvSpPr>
            <p:spPr>
              <a:xfrm rot="15466200">
                <a:off x="2946960" y="367272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37" name="WordArt 25"/>
              <p:cNvSpPr txBox="1"/>
              <p:nvPr/>
            </p:nvSpPr>
            <p:spPr>
              <a:xfrm rot="12993600">
                <a:off x="3929040" y="505908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38" name="WordArt 26"/>
              <p:cNvSpPr txBox="1"/>
              <p:nvPr/>
            </p:nvSpPr>
            <p:spPr>
              <a:xfrm rot="10141200">
                <a:off x="5584320" y="537696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39" name="WordArt 27"/>
              <p:cNvSpPr txBox="1"/>
              <p:nvPr/>
            </p:nvSpPr>
            <p:spPr>
              <a:xfrm rot="7827000">
                <a:off x="6936120" y="448056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0" name="WordArt 28"/>
              <p:cNvSpPr txBox="1"/>
              <p:nvPr/>
            </p:nvSpPr>
            <p:spPr>
              <a:xfrm rot="4977600">
                <a:off x="7309080" y="275184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1" name="WordArt 29"/>
              <p:cNvSpPr txBox="1"/>
              <p:nvPr/>
            </p:nvSpPr>
            <p:spPr>
              <a:xfrm rot="2120400">
                <a:off x="6362280" y="135684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2" name="WordArt 30"/>
              <p:cNvSpPr txBox="1"/>
              <p:nvPr/>
            </p:nvSpPr>
            <p:spPr>
              <a:xfrm rot="19449000">
                <a:off x="3871800" y="132840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3" name="WordArt 31"/>
              <p:cNvSpPr txBox="1"/>
              <p:nvPr/>
            </p:nvSpPr>
            <p:spPr>
              <a:xfrm rot="16744800">
                <a:off x="2918160" y="279468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4" name="WordArt 32"/>
              <p:cNvSpPr txBox="1"/>
              <p:nvPr/>
            </p:nvSpPr>
            <p:spPr>
              <a:xfrm rot="14379600">
                <a:off x="3234240" y="446436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5" name="WordArt 33"/>
              <p:cNvSpPr txBox="1"/>
              <p:nvPr/>
            </p:nvSpPr>
            <p:spPr>
              <a:xfrm rot="11536800">
                <a:off x="4677480" y="5403600"/>
                <a:ext cx="79236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6" name="WordArt 34"/>
              <p:cNvSpPr txBox="1"/>
              <p:nvPr/>
            </p:nvSpPr>
            <p:spPr>
              <a:xfrm rot="8739600">
                <a:off x="6376680" y="507312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7" name="WordArt 35"/>
              <p:cNvSpPr txBox="1"/>
              <p:nvPr/>
            </p:nvSpPr>
            <p:spPr>
              <a:xfrm rot="6169800">
                <a:off x="7295400" y="367236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8" name="WordArt 36"/>
              <p:cNvSpPr txBox="1"/>
              <p:nvPr/>
            </p:nvSpPr>
            <p:spPr>
              <a:xfrm rot="3248400">
                <a:off x="6979320" y="194544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49" name="WordArt 37"/>
              <p:cNvSpPr txBox="1"/>
              <p:nvPr/>
            </p:nvSpPr>
            <p:spPr>
              <a:xfrm rot="918000">
                <a:off x="5541480" y="101088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</p:grpSp>
        <p:sp>
          <p:nvSpPr>
            <p:cNvPr id="350" name="WordArt 38"/>
            <p:cNvSpPr txBox="1"/>
            <p:nvPr/>
          </p:nvSpPr>
          <p:spPr>
            <a:xfrm rot="21089400">
              <a:off x="4817520" y="291600"/>
              <a:ext cx="3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1" name="WordArt 39"/>
            <p:cNvSpPr txBox="1"/>
            <p:nvPr/>
          </p:nvSpPr>
          <p:spPr>
            <a:xfrm rot="19481400">
              <a:off x="3738240" y="72360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2" name="WordArt 40"/>
            <p:cNvSpPr txBox="1"/>
            <p:nvPr/>
          </p:nvSpPr>
          <p:spPr>
            <a:xfrm rot="18234600">
              <a:off x="2999880" y="146196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3" name="WordArt 41"/>
            <p:cNvSpPr txBox="1"/>
            <p:nvPr/>
          </p:nvSpPr>
          <p:spPr>
            <a:xfrm rot="16640400">
              <a:off x="2567880" y="2541600"/>
              <a:ext cx="3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4" name="WordArt 42"/>
            <p:cNvSpPr txBox="1"/>
            <p:nvPr/>
          </p:nvSpPr>
          <p:spPr>
            <a:xfrm rot="15102600">
              <a:off x="2568240" y="3693960"/>
              <a:ext cx="3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5" name="WordArt 43"/>
            <p:cNvSpPr txBox="1"/>
            <p:nvPr/>
          </p:nvSpPr>
          <p:spPr>
            <a:xfrm rot="14239200">
              <a:off x="2971440" y="467352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6" name="WordArt 44"/>
            <p:cNvSpPr txBox="1"/>
            <p:nvPr/>
          </p:nvSpPr>
          <p:spPr>
            <a:xfrm rot="12827400">
              <a:off x="3809520" y="5446440"/>
              <a:ext cx="32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7" name="WordArt 45"/>
            <p:cNvSpPr txBox="1"/>
            <p:nvPr/>
          </p:nvSpPr>
          <p:spPr>
            <a:xfrm rot="12166800">
              <a:off x="4789080" y="5851080"/>
              <a:ext cx="32364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8" name="WordArt 46"/>
            <p:cNvSpPr txBox="1"/>
            <p:nvPr/>
          </p:nvSpPr>
          <p:spPr>
            <a:xfrm rot="10027800">
              <a:off x="5898600" y="586548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59" name="WordArt 47"/>
            <p:cNvSpPr txBox="1"/>
            <p:nvPr/>
          </p:nvSpPr>
          <p:spPr>
            <a:xfrm rot="8532600">
              <a:off x="6906960" y="547668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0" name="WordArt 48"/>
            <p:cNvSpPr txBox="1"/>
            <p:nvPr/>
          </p:nvSpPr>
          <p:spPr>
            <a:xfrm rot="7290000">
              <a:off x="7679520" y="4701960"/>
              <a:ext cx="32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1" name="WordArt 49"/>
            <p:cNvSpPr txBox="1"/>
            <p:nvPr/>
          </p:nvSpPr>
          <p:spPr>
            <a:xfrm rot="6336600">
              <a:off x="8112960" y="369396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2" name="WordArt 50"/>
            <p:cNvSpPr txBox="1"/>
            <p:nvPr/>
          </p:nvSpPr>
          <p:spPr>
            <a:xfrm rot="4765200">
              <a:off x="8155800" y="2541600"/>
              <a:ext cx="3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3" name="WordArt 51"/>
            <p:cNvSpPr txBox="1"/>
            <p:nvPr/>
          </p:nvSpPr>
          <p:spPr>
            <a:xfrm rot="3309000">
              <a:off x="7708320" y="1504800"/>
              <a:ext cx="3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4" name="WordArt 52"/>
            <p:cNvSpPr txBox="1"/>
            <p:nvPr/>
          </p:nvSpPr>
          <p:spPr>
            <a:xfrm rot="2140200">
              <a:off x="6978600" y="723960"/>
              <a:ext cx="32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65" name="WordArt 53"/>
            <p:cNvSpPr txBox="1"/>
            <p:nvPr/>
          </p:nvSpPr>
          <p:spPr>
            <a:xfrm rot="1000800">
              <a:off x="5941440" y="306000"/>
              <a:ext cx="3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366" name="Rectangle 54"/>
          <p:cNvSpPr/>
          <p:nvPr/>
        </p:nvSpPr>
        <p:spPr>
          <a:xfrm>
            <a:off x="432720" y="2426040"/>
            <a:ext cx="1622160" cy="2288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四种组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会产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种不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相貌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5"/>
          <p:cNvSpPr/>
          <p:nvPr/>
        </p:nvSpPr>
        <p:spPr>
          <a:xfrm>
            <a:off x="420840" y="5877000"/>
            <a:ext cx="26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×2×2×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1763640" y="-353880"/>
            <a:ext cx="7156440" cy="7211880"/>
            <a:chOff x="1763640" y="-353880"/>
            <a:chExt cx="7156440" cy="7211880"/>
          </a:xfrm>
        </p:grpSpPr>
        <p:pic>
          <p:nvPicPr>
            <p:cNvPr id="369" name="Picture 3" descr="005"/>
            <p:cNvPicPr/>
            <p:nvPr/>
          </p:nvPicPr>
          <p:blipFill>
            <a:blip r:embed="rId1"/>
            <a:stretch/>
          </p:blipFill>
          <p:spPr>
            <a:xfrm>
              <a:off x="1763640" y="-353880"/>
              <a:ext cx="7156440" cy="721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4"/>
            <p:cNvGrpSpPr/>
            <p:nvPr/>
          </p:nvGrpSpPr>
          <p:grpSpPr>
            <a:xfrm>
              <a:off x="2948400" y="845640"/>
              <a:ext cx="4738320" cy="4790880"/>
              <a:chOff x="2948400" y="845640"/>
              <a:chExt cx="4738320" cy="4790880"/>
            </a:xfrm>
          </p:grpSpPr>
          <p:grpSp>
            <p:nvGrpSpPr>
              <p:cNvPr id="371" name="Group 5"/>
              <p:cNvGrpSpPr/>
              <p:nvPr/>
            </p:nvGrpSpPr>
            <p:grpSpPr>
              <a:xfrm>
                <a:off x="3467160" y="1374120"/>
                <a:ext cx="3816000" cy="3820320"/>
                <a:chOff x="3467160" y="1374120"/>
                <a:chExt cx="3816000" cy="3820320"/>
              </a:xfrm>
            </p:grpSpPr>
            <p:grpSp>
              <p:nvGrpSpPr>
                <p:cNvPr id="372" name="Group 6"/>
                <p:cNvGrpSpPr/>
                <p:nvPr/>
              </p:nvGrpSpPr>
              <p:grpSpPr>
                <a:xfrm>
                  <a:off x="3859920" y="1843200"/>
                  <a:ext cx="2893680" cy="2849400"/>
                  <a:chOff x="3859920" y="1843200"/>
                  <a:chExt cx="2893680" cy="2849400"/>
                </a:xfrm>
              </p:grpSpPr>
              <p:grpSp>
                <p:nvGrpSpPr>
                  <p:cNvPr id="373" name="Group 7"/>
                  <p:cNvGrpSpPr/>
                  <p:nvPr/>
                </p:nvGrpSpPr>
                <p:grpSpPr>
                  <a:xfrm>
                    <a:off x="4770360" y="2603520"/>
                    <a:ext cx="1176840" cy="1371600"/>
                    <a:chOff x="4770360" y="2603520"/>
                    <a:chExt cx="1176840" cy="1371600"/>
                  </a:xfrm>
                </p:grpSpPr>
                <p:sp>
                  <p:nvSpPr>
                    <p:cNvPr id="374" name="WordArt 8"/>
                    <p:cNvSpPr txBox="1"/>
                    <p:nvPr/>
                  </p:nvSpPr>
                  <p:spPr>
                    <a:xfrm rot="16200000">
                      <a:off x="4312800" y="3060720"/>
                      <a:ext cx="1371600" cy="45684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Up">
                        <a:avLst>
                          <a:gd name="adj" fmla="val 1080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1" strike="noStrike"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  <a:solidFill>
                            <a:srgbClr val="000000"/>
                          </a:solidFill>
                          <a:latin typeface="华文新魏"/>
                        </a:rPr>
                        <a:t>有耳垂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  <a:ea typeface="华文新魏"/>
                      </a:endParaRPr>
                    </a:p>
                  </p:txBody>
                </p:sp>
                <p:sp>
                  <p:nvSpPr>
                    <p:cNvPr id="375" name="WordArt 9"/>
                    <p:cNvSpPr txBox="1"/>
                    <p:nvPr/>
                  </p:nvSpPr>
                  <p:spPr>
                    <a:xfrm rot="5400000">
                      <a:off x="5032800" y="3060720"/>
                      <a:ext cx="1371600" cy="45684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Up">
                        <a:avLst>
                          <a:gd name="adj" fmla="val 1080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1" strike="noStrike"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  <a:solidFill>
                            <a:srgbClr val="000000"/>
                          </a:solidFill>
                          <a:latin typeface="华文新魏"/>
                        </a:rPr>
                        <a:t>无耳垂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  <a:ea typeface="华文新魏"/>
                      </a:endParaRPr>
                    </a:p>
                  </p:txBody>
                </p:sp>
              </p:grpSp>
              <p:sp>
                <p:nvSpPr>
                  <p:cNvPr id="376" name="WordArt 10"/>
                  <p:cNvSpPr txBox="1"/>
                  <p:nvPr/>
                </p:nvSpPr>
                <p:spPr>
                  <a:xfrm rot="7918200">
                    <a:off x="5287680" y="3654360"/>
                    <a:ext cx="1500120" cy="5760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前额“</a:t>
                    </a: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V”</a:t>
                    </a: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发尖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77" name="WordArt 11"/>
                  <p:cNvSpPr txBox="1"/>
                  <p:nvPr/>
                </p:nvSpPr>
                <p:spPr>
                  <a:xfrm rot="18932400">
                    <a:off x="3846960" y="2285640"/>
                    <a:ext cx="1499760" cy="5763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前额“</a:t>
                    </a: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V”</a:t>
                    </a: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发尖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78" name="WordArt 12"/>
                  <p:cNvSpPr txBox="1"/>
                  <p:nvPr/>
                </p:nvSpPr>
                <p:spPr>
                  <a:xfrm rot="2970000">
                    <a:off x="5538240" y="2322720"/>
                    <a:ext cx="1224000" cy="3600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平发际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  <p:sp>
                <p:nvSpPr>
                  <p:cNvPr id="379" name="WordArt 13"/>
                  <p:cNvSpPr txBox="1"/>
                  <p:nvPr/>
                </p:nvSpPr>
                <p:spPr>
                  <a:xfrm rot="13770000">
                    <a:off x="3853800" y="3821040"/>
                    <a:ext cx="1224000" cy="28692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80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华文新魏"/>
                      </a:rPr>
                      <a:t>平发际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  <a:ea typeface="华文新魏"/>
                    </a:endParaRPr>
                  </a:p>
                </p:txBody>
              </p:sp>
            </p:grpSp>
            <p:sp>
              <p:nvSpPr>
                <p:cNvPr id="380" name="WordArt 14"/>
                <p:cNvSpPr txBox="1"/>
                <p:nvPr/>
              </p:nvSpPr>
              <p:spPr>
                <a:xfrm rot="20111400">
                  <a:off x="4237560" y="1593720"/>
                  <a:ext cx="108072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1" name="WordArt 15"/>
                <p:cNvSpPr txBox="1"/>
                <p:nvPr/>
              </p:nvSpPr>
              <p:spPr>
                <a:xfrm rot="9310800">
                  <a:off x="5418000" y="4619160"/>
                  <a:ext cx="108072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2" name="WordArt 16"/>
                <p:cNvSpPr txBox="1"/>
                <p:nvPr/>
              </p:nvSpPr>
              <p:spPr>
                <a:xfrm rot="14622000">
                  <a:off x="3329640" y="3677400"/>
                  <a:ext cx="1081080" cy="364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3" name="WordArt 17"/>
                <p:cNvSpPr txBox="1"/>
                <p:nvPr/>
              </p:nvSpPr>
              <p:spPr>
                <a:xfrm rot="3944400">
                  <a:off x="6354000" y="245340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有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4" name="WordArt 18"/>
                <p:cNvSpPr txBox="1"/>
                <p:nvPr/>
              </p:nvSpPr>
              <p:spPr>
                <a:xfrm rot="17524800">
                  <a:off x="3325680" y="2453400"/>
                  <a:ext cx="1081080" cy="364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5" name="WordArt 19"/>
                <p:cNvSpPr txBox="1"/>
                <p:nvPr/>
              </p:nvSpPr>
              <p:spPr>
                <a:xfrm rot="1542000">
                  <a:off x="5491080" y="1590120"/>
                  <a:ext cx="1080720" cy="36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6" name="WordArt 20"/>
                <p:cNvSpPr txBox="1"/>
                <p:nvPr/>
              </p:nvSpPr>
              <p:spPr>
                <a:xfrm rot="12129000">
                  <a:off x="4194360" y="4614840"/>
                  <a:ext cx="108072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  <p:sp>
              <p:nvSpPr>
                <p:cNvPr id="387" name="WordArt 21"/>
                <p:cNvSpPr txBox="1"/>
                <p:nvPr/>
              </p:nvSpPr>
              <p:spPr>
                <a:xfrm rot="6666000">
                  <a:off x="6353640" y="3677400"/>
                  <a:ext cx="1081080" cy="3650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华文新魏"/>
                    </a:rPr>
                    <a:t>下颌中央无沟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  <a:ea typeface="华文新魏"/>
                  </a:endParaRPr>
                </a:p>
              </p:txBody>
            </p:sp>
          </p:grpSp>
          <p:sp>
            <p:nvSpPr>
              <p:cNvPr id="388" name="WordArt 22"/>
              <p:cNvSpPr txBox="1"/>
              <p:nvPr/>
            </p:nvSpPr>
            <p:spPr>
              <a:xfrm rot="20935800">
                <a:off x="4480920" y="94752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89" name="WordArt 23"/>
              <p:cNvSpPr txBox="1"/>
              <p:nvPr/>
            </p:nvSpPr>
            <p:spPr>
              <a:xfrm rot="18403200">
                <a:off x="3065400" y="1908720"/>
                <a:ext cx="79236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0" name="WordArt 24"/>
              <p:cNvSpPr txBox="1"/>
              <p:nvPr/>
            </p:nvSpPr>
            <p:spPr>
              <a:xfrm rot="15466200">
                <a:off x="2749680" y="3607560"/>
                <a:ext cx="792000" cy="215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1" name="WordArt 25"/>
              <p:cNvSpPr txBox="1"/>
              <p:nvPr/>
            </p:nvSpPr>
            <p:spPr>
              <a:xfrm rot="12993600">
                <a:off x="3731400" y="4994280"/>
                <a:ext cx="79164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2" name="WordArt 26"/>
              <p:cNvSpPr txBox="1"/>
              <p:nvPr/>
            </p:nvSpPr>
            <p:spPr>
              <a:xfrm rot="10141200">
                <a:off x="5387040" y="531180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3" name="WordArt 27"/>
              <p:cNvSpPr txBox="1"/>
              <p:nvPr/>
            </p:nvSpPr>
            <p:spPr>
              <a:xfrm rot="7827000">
                <a:off x="6738120" y="4415400"/>
                <a:ext cx="79236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4" name="WordArt 28"/>
              <p:cNvSpPr txBox="1"/>
              <p:nvPr/>
            </p:nvSpPr>
            <p:spPr>
              <a:xfrm rot="4977600">
                <a:off x="7112160" y="2687040"/>
                <a:ext cx="792000" cy="215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5" name="WordArt 29"/>
              <p:cNvSpPr txBox="1"/>
              <p:nvPr/>
            </p:nvSpPr>
            <p:spPr>
              <a:xfrm rot="2120400">
                <a:off x="6165000" y="1292040"/>
                <a:ext cx="79164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卷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6" name="WordArt 30"/>
              <p:cNvSpPr txBox="1"/>
              <p:nvPr/>
            </p:nvSpPr>
            <p:spPr>
              <a:xfrm rot="19449000">
                <a:off x="3674520" y="1263240"/>
                <a:ext cx="79164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7" name="WordArt 31"/>
              <p:cNvSpPr txBox="1"/>
              <p:nvPr/>
            </p:nvSpPr>
            <p:spPr>
              <a:xfrm rot="16744800">
                <a:off x="2721240" y="272952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8" name="WordArt 32"/>
              <p:cNvSpPr txBox="1"/>
              <p:nvPr/>
            </p:nvSpPr>
            <p:spPr>
              <a:xfrm rot="14379600">
                <a:off x="3036960" y="4399200"/>
                <a:ext cx="79236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399" name="WordArt 33"/>
              <p:cNvSpPr txBox="1"/>
              <p:nvPr/>
            </p:nvSpPr>
            <p:spPr>
              <a:xfrm rot="11536800">
                <a:off x="4480560" y="5338440"/>
                <a:ext cx="79200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400" name="WordArt 34"/>
              <p:cNvSpPr txBox="1"/>
              <p:nvPr/>
            </p:nvSpPr>
            <p:spPr>
              <a:xfrm rot="8739600">
                <a:off x="6179040" y="5008320"/>
                <a:ext cx="79164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401" name="WordArt 35"/>
              <p:cNvSpPr txBox="1"/>
              <p:nvPr/>
            </p:nvSpPr>
            <p:spPr>
              <a:xfrm rot="6169800">
                <a:off x="7097400" y="360756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402" name="WordArt 36"/>
              <p:cNvSpPr txBox="1"/>
              <p:nvPr/>
            </p:nvSpPr>
            <p:spPr>
              <a:xfrm rot="3248400">
                <a:off x="6781320" y="1880280"/>
                <a:ext cx="792000" cy="21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  <p:sp>
            <p:nvSpPr>
              <p:cNvPr id="403" name="WordArt 37"/>
              <p:cNvSpPr txBox="1"/>
              <p:nvPr/>
            </p:nvSpPr>
            <p:spPr>
              <a:xfrm rot="918000">
                <a:off x="5344200" y="946080"/>
                <a:ext cx="791640" cy="21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华文新魏"/>
                  </a:rPr>
                  <a:t>直发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  <a:ea typeface="华文新魏"/>
                </a:endParaRPr>
              </a:p>
            </p:txBody>
          </p:sp>
        </p:grpSp>
        <p:sp>
          <p:nvSpPr>
            <p:cNvPr id="404" name="WordArt 38"/>
            <p:cNvSpPr txBox="1"/>
            <p:nvPr/>
          </p:nvSpPr>
          <p:spPr>
            <a:xfrm rot="18599400">
              <a:off x="2785320" y="140292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05" name="WordArt 39"/>
            <p:cNvSpPr txBox="1"/>
            <p:nvPr/>
          </p:nvSpPr>
          <p:spPr>
            <a:xfrm rot="17622600">
              <a:off x="2433240" y="191088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06" name="WordArt 40"/>
            <p:cNvSpPr txBox="1"/>
            <p:nvPr/>
          </p:nvSpPr>
          <p:spPr>
            <a:xfrm rot="19710600">
              <a:off x="3676320" y="61596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07" name="WordArt 41"/>
            <p:cNvSpPr txBox="1"/>
            <p:nvPr/>
          </p:nvSpPr>
          <p:spPr>
            <a:xfrm rot="21234600">
              <a:off x="4765320" y="29844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08" name="WordArt 42"/>
            <p:cNvSpPr txBox="1"/>
            <p:nvPr/>
          </p:nvSpPr>
          <p:spPr>
            <a:xfrm rot="19108200">
              <a:off x="3196800" y="95580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09" name="WordArt 43"/>
            <p:cNvSpPr txBox="1"/>
            <p:nvPr/>
          </p:nvSpPr>
          <p:spPr>
            <a:xfrm rot="20717400">
              <a:off x="4179240" y="399600"/>
              <a:ext cx="57600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0" name="WordArt 44"/>
            <p:cNvSpPr txBox="1"/>
            <p:nvPr/>
          </p:nvSpPr>
          <p:spPr>
            <a:xfrm rot="17101200">
              <a:off x="2244240" y="2415960"/>
              <a:ext cx="57636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1" name="WordArt 45"/>
            <p:cNvSpPr txBox="1"/>
            <p:nvPr/>
          </p:nvSpPr>
          <p:spPr>
            <a:xfrm rot="15724800">
              <a:off x="2143800" y="3514680"/>
              <a:ext cx="57636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2" name="WordArt 46"/>
            <p:cNvSpPr txBox="1"/>
            <p:nvPr/>
          </p:nvSpPr>
          <p:spPr>
            <a:xfrm rot="16509600">
              <a:off x="2125440" y="294804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3" name="WordArt 47"/>
            <p:cNvSpPr txBox="1"/>
            <p:nvPr/>
          </p:nvSpPr>
          <p:spPr>
            <a:xfrm rot="15010800">
              <a:off x="2221560" y="408096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4" name="WordArt 48"/>
            <p:cNvSpPr txBox="1"/>
            <p:nvPr/>
          </p:nvSpPr>
          <p:spPr>
            <a:xfrm rot="13668600">
              <a:off x="2774160" y="5088960"/>
              <a:ext cx="57636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5" name="WordArt 49"/>
            <p:cNvSpPr txBox="1"/>
            <p:nvPr/>
          </p:nvSpPr>
          <p:spPr>
            <a:xfrm rot="14496000">
              <a:off x="2455200" y="461916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6" name="WordArt 50"/>
            <p:cNvSpPr txBox="1"/>
            <p:nvPr/>
          </p:nvSpPr>
          <p:spPr>
            <a:xfrm rot="12326400">
              <a:off x="3679200" y="5828760"/>
              <a:ext cx="57600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7" name="WordArt 51"/>
            <p:cNvSpPr txBox="1"/>
            <p:nvPr/>
          </p:nvSpPr>
          <p:spPr>
            <a:xfrm rot="13394400">
              <a:off x="3200040" y="549252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8" name="WordArt 52"/>
            <p:cNvSpPr txBox="1"/>
            <p:nvPr/>
          </p:nvSpPr>
          <p:spPr>
            <a:xfrm rot="11751000">
              <a:off x="4176360" y="6052680"/>
              <a:ext cx="57600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19" name="WordArt 53"/>
            <p:cNvSpPr txBox="1"/>
            <p:nvPr/>
          </p:nvSpPr>
          <p:spPr>
            <a:xfrm rot="11134800">
              <a:off x="4745880" y="616392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0" name="WordArt 54"/>
            <p:cNvSpPr txBox="1"/>
            <p:nvPr/>
          </p:nvSpPr>
          <p:spPr>
            <a:xfrm rot="10435800">
              <a:off x="5312520" y="6159600"/>
              <a:ext cx="57564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1" name="WordArt 55"/>
            <p:cNvSpPr txBox="1"/>
            <p:nvPr/>
          </p:nvSpPr>
          <p:spPr>
            <a:xfrm rot="9819600">
              <a:off x="5884560" y="606240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2" name="WordArt 56"/>
            <p:cNvSpPr txBox="1"/>
            <p:nvPr/>
          </p:nvSpPr>
          <p:spPr>
            <a:xfrm rot="8830800">
              <a:off x="6426000" y="581472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3" name="WordArt 57"/>
            <p:cNvSpPr txBox="1"/>
            <p:nvPr/>
          </p:nvSpPr>
          <p:spPr>
            <a:xfrm rot="8214600">
              <a:off x="6901560" y="5482800"/>
              <a:ext cx="57564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4" name="WordArt 58"/>
            <p:cNvSpPr txBox="1"/>
            <p:nvPr/>
          </p:nvSpPr>
          <p:spPr>
            <a:xfrm rot="7775400">
              <a:off x="7295400" y="510840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5" name="WordArt 59"/>
            <p:cNvSpPr txBox="1"/>
            <p:nvPr/>
          </p:nvSpPr>
          <p:spPr>
            <a:xfrm rot="7023000">
              <a:off x="7601760" y="4672080"/>
              <a:ext cx="57600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6" name="WordArt 60"/>
            <p:cNvSpPr txBox="1"/>
            <p:nvPr/>
          </p:nvSpPr>
          <p:spPr>
            <a:xfrm rot="6425400">
              <a:off x="7831800" y="4148280"/>
              <a:ext cx="57636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7" name="WordArt 61"/>
            <p:cNvSpPr txBox="1"/>
            <p:nvPr/>
          </p:nvSpPr>
          <p:spPr>
            <a:xfrm rot="5673000">
              <a:off x="7952760" y="352404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8" name="WordArt 62"/>
            <p:cNvSpPr txBox="1"/>
            <p:nvPr/>
          </p:nvSpPr>
          <p:spPr>
            <a:xfrm rot="1243800">
              <a:off x="5889240" y="39852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29" name="WordArt 63"/>
            <p:cNvSpPr txBox="1"/>
            <p:nvPr/>
          </p:nvSpPr>
          <p:spPr>
            <a:xfrm rot="230400">
              <a:off x="5303520" y="27468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0" name="WordArt 64"/>
            <p:cNvSpPr txBox="1"/>
            <p:nvPr/>
          </p:nvSpPr>
          <p:spPr>
            <a:xfrm rot="2586600">
              <a:off x="6911640" y="964800"/>
              <a:ext cx="57600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1" name="WordArt 65"/>
            <p:cNvSpPr txBox="1"/>
            <p:nvPr/>
          </p:nvSpPr>
          <p:spPr>
            <a:xfrm rot="2001600">
              <a:off x="6431760" y="628200"/>
              <a:ext cx="576000" cy="8748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2" name="WordArt 66"/>
            <p:cNvSpPr txBox="1"/>
            <p:nvPr/>
          </p:nvSpPr>
          <p:spPr>
            <a:xfrm rot="2996400">
              <a:off x="7329240" y="1363680"/>
              <a:ext cx="57600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3" name="WordArt 67"/>
            <p:cNvSpPr txBox="1"/>
            <p:nvPr/>
          </p:nvSpPr>
          <p:spPr>
            <a:xfrm rot="3699000">
              <a:off x="7665120" y="1839960"/>
              <a:ext cx="576000" cy="86760"/>
            </a:xfrm>
            <a:prstGeom prst="rect">
              <a:avLst/>
            </a:prstGeom>
          </p:spPr>
          <p:txBody>
            <a:bodyPr wrap="none" fromWordArt="1" lIns="90000" rIns="90000" tIns="40320" bIns="4032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4" name="WordArt 68"/>
            <p:cNvSpPr txBox="1"/>
            <p:nvPr/>
          </p:nvSpPr>
          <p:spPr>
            <a:xfrm rot="4203000">
              <a:off x="7880040" y="237168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无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5" name="WordArt 69"/>
            <p:cNvSpPr txBox="1"/>
            <p:nvPr/>
          </p:nvSpPr>
          <p:spPr>
            <a:xfrm rot="5014200">
              <a:off x="7976520" y="2957400"/>
              <a:ext cx="576360" cy="87120"/>
            </a:xfrm>
            <a:prstGeom prst="rect">
              <a:avLst/>
            </a:prstGeom>
          </p:spPr>
          <p:txBody>
            <a:bodyPr wrap="none" fromWordArt="1" lIns="90000" rIns="90000" tIns="40680" bIns="4068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新魏"/>
                </a:rPr>
                <a:t>有双眼皮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436" name="WordArt 70"/>
            <p:cNvSpPr txBox="1"/>
            <p:nvPr/>
          </p:nvSpPr>
          <p:spPr>
            <a:xfrm rot="21235800">
              <a:off x="4909680" y="-17748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37" name="WordArt 71"/>
            <p:cNvSpPr txBox="1"/>
            <p:nvPr/>
          </p:nvSpPr>
          <p:spPr>
            <a:xfrm rot="20580000">
              <a:off x="4261680" y="-5544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38" name="WordArt 72"/>
            <p:cNvSpPr txBox="1"/>
            <p:nvPr/>
          </p:nvSpPr>
          <p:spPr>
            <a:xfrm rot="19920000">
              <a:off x="3714480" y="1695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39" name="WordArt 73"/>
            <p:cNvSpPr txBox="1"/>
            <p:nvPr/>
          </p:nvSpPr>
          <p:spPr>
            <a:xfrm rot="19200000">
              <a:off x="3123720" y="5493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0" name="WordArt 74"/>
            <p:cNvSpPr txBox="1"/>
            <p:nvPr/>
          </p:nvSpPr>
          <p:spPr>
            <a:xfrm rot="18540000">
              <a:off x="2648160" y="103248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1" name="WordArt 75"/>
            <p:cNvSpPr txBox="1"/>
            <p:nvPr/>
          </p:nvSpPr>
          <p:spPr>
            <a:xfrm rot="17880000">
              <a:off x="2273760" y="159444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2" name="WordArt 76"/>
            <p:cNvSpPr txBox="1"/>
            <p:nvPr/>
          </p:nvSpPr>
          <p:spPr>
            <a:xfrm rot="17160000">
              <a:off x="2072160" y="219888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3" name="WordArt 77"/>
            <p:cNvSpPr txBox="1"/>
            <p:nvPr/>
          </p:nvSpPr>
          <p:spPr>
            <a:xfrm rot="16500000">
              <a:off x="1970280" y="280368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4" name="WordArt 78"/>
            <p:cNvSpPr txBox="1"/>
            <p:nvPr/>
          </p:nvSpPr>
          <p:spPr>
            <a:xfrm rot="15840000">
              <a:off x="1969920" y="3451680"/>
              <a:ext cx="14472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5" name="WordArt 79"/>
            <p:cNvSpPr txBox="1"/>
            <p:nvPr/>
          </p:nvSpPr>
          <p:spPr>
            <a:xfrm rot="15180000">
              <a:off x="2086200" y="4129920"/>
              <a:ext cx="14472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6" name="WordArt 80"/>
            <p:cNvSpPr txBox="1"/>
            <p:nvPr/>
          </p:nvSpPr>
          <p:spPr>
            <a:xfrm rot="14520000">
              <a:off x="2330640" y="4675680"/>
              <a:ext cx="14472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7" name="WordArt 81"/>
            <p:cNvSpPr txBox="1"/>
            <p:nvPr/>
          </p:nvSpPr>
          <p:spPr>
            <a:xfrm rot="13800000">
              <a:off x="2713320" y="520884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8" name="WordArt 82"/>
            <p:cNvSpPr txBox="1"/>
            <p:nvPr/>
          </p:nvSpPr>
          <p:spPr>
            <a:xfrm rot="13140000">
              <a:off x="3180600" y="567684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49" name="WordArt 83"/>
            <p:cNvSpPr txBox="1"/>
            <p:nvPr/>
          </p:nvSpPr>
          <p:spPr>
            <a:xfrm rot="12480000">
              <a:off x="3713040" y="6049080"/>
              <a:ext cx="144000" cy="31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0" name="WordArt 84"/>
            <p:cNvSpPr txBox="1"/>
            <p:nvPr/>
          </p:nvSpPr>
          <p:spPr>
            <a:xfrm rot="11820000">
              <a:off x="4319280" y="63039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1" name="WordArt 85"/>
            <p:cNvSpPr txBox="1"/>
            <p:nvPr/>
          </p:nvSpPr>
          <p:spPr>
            <a:xfrm rot="11100000">
              <a:off x="4893480" y="6417720"/>
              <a:ext cx="144360" cy="31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2" name="WordArt 86"/>
            <p:cNvSpPr txBox="1"/>
            <p:nvPr/>
          </p:nvSpPr>
          <p:spPr>
            <a:xfrm rot="10440000">
              <a:off x="5542920" y="641988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3" name="WordArt 87"/>
            <p:cNvSpPr txBox="1"/>
            <p:nvPr/>
          </p:nvSpPr>
          <p:spPr>
            <a:xfrm rot="9780000">
              <a:off x="6205320" y="63039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4" name="WordArt 88"/>
            <p:cNvSpPr txBox="1"/>
            <p:nvPr/>
          </p:nvSpPr>
          <p:spPr>
            <a:xfrm rot="9120000">
              <a:off x="6809760" y="605952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19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5" name="WordArt 89"/>
            <p:cNvSpPr txBox="1"/>
            <p:nvPr/>
          </p:nvSpPr>
          <p:spPr>
            <a:xfrm rot="8460000">
              <a:off x="7399800" y="5684760"/>
              <a:ext cx="14436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6" name="WordArt 90"/>
            <p:cNvSpPr txBox="1"/>
            <p:nvPr/>
          </p:nvSpPr>
          <p:spPr>
            <a:xfrm rot="7800000">
              <a:off x="7840800" y="526788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7" name="WordArt 91"/>
            <p:cNvSpPr txBox="1"/>
            <p:nvPr/>
          </p:nvSpPr>
          <p:spPr>
            <a:xfrm rot="7140000">
              <a:off x="8205480" y="474876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8" name="WordArt 92"/>
            <p:cNvSpPr txBox="1"/>
            <p:nvPr/>
          </p:nvSpPr>
          <p:spPr>
            <a:xfrm rot="6480000">
              <a:off x="8488440" y="411552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3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59" name="WordArt 93"/>
            <p:cNvSpPr txBox="1"/>
            <p:nvPr/>
          </p:nvSpPr>
          <p:spPr>
            <a:xfrm rot="5760000">
              <a:off x="8589600" y="3452040"/>
              <a:ext cx="14472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0" name="WordArt 94"/>
            <p:cNvSpPr txBox="1"/>
            <p:nvPr/>
          </p:nvSpPr>
          <p:spPr>
            <a:xfrm rot="5040000">
              <a:off x="8589960" y="280440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1" name="WordArt 95"/>
            <p:cNvSpPr txBox="1"/>
            <p:nvPr/>
          </p:nvSpPr>
          <p:spPr>
            <a:xfrm rot="4380000">
              <a:off x="8480520" y="2128320"/>
              <a:ext cx="1443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6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2" name="WordArt 96"/>
            <p:cNvSpPr txBox="1"/>
            <p:nvPr/>
          </p:nvSpPr>
          <p:spPr>
            <a:xfrm rot="3720000">
              <a:off x="8229240" y="1507320"/>
              <a:ext cx="14472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3" name="WordArt 97"/>
            <p:cNvSpPr txBox="1"/>
            <p:nvPr/>
          </p:nvSpPr>
          <p:spPr>
            <a:xfrm rot="3000000">
              <a:off x="7855200" y="960840"/>
              <a:ext cx="14472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4" name="WordArt 98"/>
            <p:cNvSpPr txBox="1"/>
            <p:nvPr/>
          </p:nvSpPr>
          <p:spPr>
            <a:xfrm rot="2340000">
              <a:off x="7414560" y="5061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29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5" name="WordArt 99"/>
            <p:cNvSpPr txBox="1"/>
            <p:nvPr/>
          </p:nvSpPr>
          <p:spPr>
            <a:xfrm rot="1680000">
              <a:off x="6825600" y="141120"/>
              <a:ext cx="144000" cy="31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6" name="WordArt 100"/>
            <p:cNvSpPr txBox="1"/>
            <p:nvPr/>
          </p:nvSpPr>
          <p:spPr>
            <a:xfrm rot="1020000">
              <a:off x="6219360" y="-11916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1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467" name="WordArt 101"/>
            <p:cNvSpPr txBox="1"/>
            <p:nvPr/>
          </p:nvSpPr>
          <p:spPr>
            <a:xfrm rot="300000">
              <a:off x="5557320" y="-214200"/>
              <a:ext cx="144000" cy="3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468" name="Rectangle 102"/>
          <p:cNvSpPr/>
          <p:nvPr/>
        </p:nvSpPr>
        <p:spPr>
          <a:xfrm>
            <a:off x="179280" y="0"/>
            <a:ext cx="1619280" cy="283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五种组合，会产生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种不同的相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3"/>
          <p:cNvSpPr/>
          <p:nvPr/>
        </p:nvSpPr>
        <p:spPr>
          <a:xfrm>
            <a:off x="326520" y="6278400"/>
            <a:ext cx="31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×2×2×2×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55736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同一种生物不同个体之间也存在着差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生物有不同的性状特征，这些特征的不同组合造就了多样的生命个体 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在班级里找不到两个相貌完全相同的人。世界上也很难找到两个相貌完全相同的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是这样，其他生物也是这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0720" cy="17524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让我们在班级中找出某一位同学，我们会毫不费力地做到这件事。我们想过这是为什么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6912000" cy="29098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477720" y="6334200"/>
            <a:ext cx="58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当堂检测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、判断题（对的打√，错的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孪生兄弟长得一定一模一样。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孩子与父母的相貌特征一定相同。（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每个人的相貌都是与众不同的，没有两个长得完全一样的人。（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同一棵树上，你能找到许多相同的叶子。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人与人同一相貌特征所表现出来的性能有可能相同也有可能不同。（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5108760" y="59500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4172400" y="3860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6757200" y="213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7765200" y="278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85320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476280"/>
            <a:ext cx="88423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、选择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种不同形状两两组合，能组合出（      ）不同相貌特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      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    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比较每个人同一的相貌特征，我们会发现每个人（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相同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各不相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孩子与父母长得很像，因为是（    ）的作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相貌特征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遗传基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7453080" y="981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2125440" y="314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733800" y="429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u=590184898,381884711&amp;fm=51&amp;gp=0"/>
          <p:cNvPicPr/>
          <p:nvPr/>
        </p:nvPicPr>
        <p:blipFill>
          <a:blip r:embed="rId1"/>
          <a:stretch/>
        </p:blipFill>
        <p:spPr>
          <a:xfrm>
            <a:off x="0" y="507960"/>
            <a:ext cx="8964720" cy="6350040"/>
          </a:xfrm>
          <a:prstGeom prst="rect">
            <a:avLst/>
          </a:prstGeom>
          <a:ln w="0">
            <a:noFill/>
          </a:ln>
        </p:spPr>
      </p:pic>
      <p:sp>
        <p:nvSpPr>
          <p:cNvPr id="484" name="WordArt 5"/>
          <p:cNvSpPr txBox="1"/>
          <p:nvPr/>
        </p:nvSpPr>
        <p:spPr>
          <a:xfrm>
            <a:off x="3059280" y="1773360"/>
            <a:ext cx="2736720" cy="16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6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C6D1-233A-4026-9A4B-9451BBD801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0" y="2332080"/>
            <a:ext cx="91440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2028240" y="961920"/>
            <a:ext cx="456984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组内观察我们的相貌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选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种相貌特征仔细观察，并画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5"/>
          <p:cNvSpPr/>
          <p:nvPr/>
        </p:nvSpPr>
        <p:spPr>
          <a:xfrm>
            <a:off x="1619280" y="3860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0" y="3860640"/>
            <a:ext cx="8964720" cy="2770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23" name="Text Box 4"/>
          <p:cNvSpPr/>
          <p:nvPr/>
        </p:nvSpPr>
        <p:spPr>
          <a:xfrm>
            <a:off x="1574280" y="1393920"/>
            <a:ext cx="4844160" cy="2288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我们的调查范围扩大到全班同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较我们之间的相貌特征有多大差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下图，观察我们的眼皮、前额发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垂、下颌等分别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9"/>
          <p:cNvSpPr/>
          <p:nvPr/>
        </p:nvSpPr>
        <p:spPr>
          <a:xfrm>
            <a:off x="4341960" y="2637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眼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26" name="Picture 5" descr="u=1733484368,3148681459&amp;fm=51&amp;gp=0"/>
          <p:cNvPicPr/>
          <p:nvPr/>
        </p:nvPicPr>
        <p:blipFill>
          <a:blip r:embed="rId1"/>
          <a:stretch/>
        </p:blipFill>
        <p:spPr>
          <a:xfrm>
            <a:off x="468360" y="2276640"/>
            <a:ext cx="2592360" cy="24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u=4116498561,3707405268&amp;fm=51&amp;gp=0"/>
          <p:cNvPicPr/>
          <p:nvPr/>
        </p:nvPicPr>
        <p:blipFill>
          <a:blip r:embed="rId2"/>
          <a:stretch/>
        </p:blipFill>
        <p:spPr>
          <a:xfrm>
            <a:off x="4140360" y="2276640"/>
            <a:ext cx="3960720" cy="2665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229040" y="5072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眼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355000" y="5157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双眼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发际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31" name="Picture 5" descr="u=123698098,1634257139&amp;fm=51&amp;gp=0"/>
          <p:cNvPicPr/>
          <p:nvPr/>
        </p:nvPicPr>
        <p:blipFill>
          <a:blip r:embed="rId1"/>
          <a:srcRect l="0" t="0" r="-1161" b="0"/>
          <a:stretch/>
        </p:blipFill>
        <p:spPr>
          <a:xfrm>
            <a:off x="755640" y="198900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u=1423799764,3036524442&amp;fm=52&amp;gp=0"/>
          <p:cNvPicPr/>
          <p:nvPr/>
        </p:nvPicPr>
        <p:blipFill>
          <a:blip r:embed="rId2"/>
          <a:stretch/>
        </p:blipFill>
        <p:spPr>
          <a:xfrm>
            <a:off x="5076720" y="1844640"/>
            <a:ext cx="2203560" cy="3456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1178280" y="530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发际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516280" y="554364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形发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鼻子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36" name="Picture 5" descr="pic7"/>
          <p:cNvPicPr/>
          <p:nvPr/>
        </p:nvPicPr>
        <p:blipFill>
          <a:blip r:embed="rId1"/>
          <a:stretch/>
        </p:blipFill>
        <p:spPr>
          <a:xfrm>
            <a:off x="395280" y="1989000"/>
            <a:ext cx="4392720" cy="2602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u=3206179252,815411686&amp;fm=52&amp;gp=0"/>
          <p:cNvPicPr/>
          <p:nvPr/>
        </p:nvPicPr>
        <p:blipFill>
          <a:blip r:embed="rId2"/>
          <a:stretch/>
        </p:blipFill>
        <p:spPr>
          <a:xfrm>
            <a:off x="4932360" y="2060640"/>
            <a:ext cx="3708360" cy="2444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962640" y="501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高鼻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929920" y="508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塌鼻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耳垂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41" name="Picture 5" descr="u=600924737,2365146032&amp;fm=15&amp;gp=0"/>
          <p:cNvPicPr/>
          <p:nvPr/>
        </p:nvPicPr>
        <p:blipFill>
          <a:blip r:embed="rId1"/>
          <a:stretch/>
        </p:blipFill>
        <p:spPr>
          <a:xfrm>
            <a:off x="0" y="191628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u=661252010,2252923264&amp;fm=15&amp;gp=0"/>
          <p:cNvPicPr/>
          <p:nvPr/>
        </p:nvPicPr>
        <p:blipFill>
          <a:blip r:embed="rId2"/>
          <a:stretch/>
        </p:blipFill>
        <p:spPr>
          <a:xfrm>
            <a:off x="3995640" y="1844640"/>
            <a:ext cx="4537080" cy="3359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905560" y="558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011000" y="558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无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下颌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46" name="Picture 5" descr="u=1361820857,4059597687&amp;fm=51&amp;gp=0"/>
          <p:cNvPicPr/>
          <p:nvPr/>
        </p:nvPicPr>
        <p:blipFill>
          <a:blip r:embed="rId1"/>
          <a:stretch/>
        </p:blipFill>
        <p:spPr>
          <a:xfrm>
            <a:off x="826920" y="1628640"/>
            <a:ext cx="3062520" cy="3745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u=1651860798,1513711599&amp;fm=51&amp;gp=0"/>
          <p:cNvPicPr/>
          <p:nvPr/>
        </p:nvPicPr>
        <p:blipFill>
          <a:blip r:embed="rId2"/>
          <a:stretch/>
        </p:blipFill>
        <p:spPr>
          <a:xfrm>
            <a:off x="4284720" y="1844640"/>
            <a:ext cx="3959280" cy="360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1537200" y="5504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颌有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229720" y="558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颌无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23:51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28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