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0AD1-6CA4-4210-9DB7-5CC1634C26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slide" Target="../slides/slide6.xml"/><Relationship Id="rId18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6C0-B6A7-4673-85AF-F22F3E2F1EC0}" type="slidenum">
              <a:rPr b="0" lang="zh-CN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3CA-BED1-43FF-967F-74EBBE3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7A7-F284-4D6C-AB79-7469E2F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AE3-3718-4DB0-AE15-58310481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CBD-FC20-4482-9B64-733F4929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773-809D-409A-B2C3-74ED429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385-4AFD-4C35-83B2-00430ED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350-D6D7-40E2-BF81-65A14C1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C0D-88D3-44DC-8A3B-6FEB0E6C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846-643A-455F-BB6E-E137B29E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EAF-64D1-48C3-A73C-3A3BD6E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199-1F38-4B00-84D3-117C1D4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CDB-EB81-400A-83E9-C9D2B8D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46E-9A72-4B54-AEA4-72E25926D92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人教新课标  一年级品德与生活下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971640" y="2349360"/>
            <a:ext cx="6913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迷你简书魂"/>
              </a:rPr>
              <a:t>小苗快快长</a:t>
            </a:r>
            <a:endParaRPr b="1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迷你简书魂"/>
              <a:ea typeface="迷你简书魂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2154600" y="5877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i01.c.aliimg.com/img/product/83/24/85/8324857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28800" y="1071720"/>
            <a:ext cx="7143480" cy="53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pic8.nipic.com/20100705/1147474_090537001876_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5880" y="1143000"/>
            <a:ext cx="764388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pic13.nipic.com/20110401/2531170_104004707807_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4240" y="1214280"/>
            <a:ext cx="753768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643040" y="1285920"/>
            <a:ext cx="542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操作过程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把绿豆放进水里浸泡，等到绿豆发芽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把塑料杯底下剪开几个小洞，把泥土放进塑料杯里，大概半杯左右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把绿豆芽放进泥土里，保持杯里湿润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1848600" y="8571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种植小实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428840" y="2454120"/>
            <a:ext cx="74293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怎样种植便于植物成活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每天谁来管理、怎么管理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谁来记录、怎样记录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否需要聘请辅导员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谁合适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2054880" y="1720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种植小组讨论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卡通小孩-2"/>
          <p:cNvPicPr/>
          <p:nvPr/>
        </p:nvPicPr>
        <p:blipFill>
          <a:blip r:embed="rId1"/>
          <a:stretch/>
        </p:blipFill>
        <p:spPr>
          <a:xfrm>
            <a:off x="1447920" y="2514600"/>
            <a:ext cx="1887480" cy="2838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4343400" y="838080"/>
            <a:ext cx="4114800" cy="2210040"/>
          </a:xfrm>
          <a:prstGeom prst="cloudCallout">
            <a:avLst>
              <a:gd name="adj1" fmla="val -73148"/>
              <a:gd name="adj2" fmla="val 8038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一定要坚持下去啊。好苗苗在等着你呢！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200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9" name="Picture 10" descr="小苗"/>
          <p:cNvPicPr/>
          <p:nvPr/>
        </p:nvPicPr>
        <p:blipFill>
          <a:blip r:embed="rId1"/>
          <a:stretch/>
        </p:blipFill>
        <p:spPr>
          <a:xfrm>
            <a:off x="1447920" y="232416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1"/>
          <p:cNvSpPr/>
          <p:nvPr/>
        </p:nvSpPr>
        <p:spPr>
          <a:xfrm>
            <a:off x="4343400" y="838080"/>
            <a:ext cx="4114800" cy="2210040"/>
          </a:xfrm>
          <a:prstGeom prst="cloudCallout">
            <a:avLst>
              <a:gd name="adj1" fmla="val -68439"/>
              <a:gd name="adj2" fmla="val 8038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给大家讲一讲你培育小苗的过程或感受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050920" y="1484280"/>
            <a:ext cx="4781520" cy="422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A994-A4D4-4985-BFE6-48D13B4ED1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038480" y="5486400"/>
            <a:ext cx="106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插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Picture 8" descr="插秧"/>
          <p:cNvPicPr/>
          <p:nvPr/>
        </p:nvPicPr>
        <p:blipFill>
          <a:blip r:embed="rId1"/>
          <a:stretch/>
        </p:blipFill>
        <p:spPr>
          <a:xfrm>
            <a:off x="1951200" y="1981080"/>
            <a:ext cx="49831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849240" y="606888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0"/>
          <p:cNvSpPr/>
          <p:nvPr/>
        </p:nvSpPr>
        <p:spPr>
          <a:xfrm>
            <a:off x="3429000" y="5486400"/>
            <a:ext cx="213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播种的季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Picture 22" descr="南方农村机械插秧"/>
          <p:cNvPicPr/>
          <p:nvPr/>
        </p:nvPicPr>
        <p:blipFill>
          <a:blip r:embed="rId1"/>
          <a:stretch/>
        </p:blipFill>
        <p:spPr>
          <a:xfrm>
            <a:off x="1600200" y="1981080"/>
            <a:ext cx="5165640" cy="347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3"/>
          <p:cNvSpPr/>
          <p:nvPr/>
        </p:nvSpPr>
        <p:spPr>
          <a:xfrm>
            <a:off x="5638680" y="985680"/>
            <a:ext cx="3124440" cy="2900520"/>
          </a:xfrm>
          <a:prstGeom prst="cloudCallout">
            <a:avLst>
              <a:gd name="adj1" fmla="val -81810"/>
              <a:gd name="adj2" fmla="val 3511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春天是个种植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zh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好季节，看看人们都种些什么？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4114800" y="5638680"/>
            <a:ext cx="99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播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8" name="Picture 8" descr="播种2"/>
          <p:cNvPicPr/>
          <p:nvPr/>
        </p:nvPicPr>
        <p:blipFill>
          <a:blip r:embed="rId1"/>
          <a:stretch/>
        </p:blipFill>
        <p:spPr>
          <a:xfrm>
            <a:off x="3005280" y="1905120"/>
            <a:ext cx="31320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4268160" y="579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植树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0" name="Picture 6" descr="植树"/>
          <p:cNvPicPr/>
          <p:nvPr/>
        </p:nvPicPr>
        <p:blipFill>
          <a:blip r:embed="rId1"/>
          <a:stretch/>
        </p:blipFill>
        <p:spPr>
          <a:xfrm>
            <a:off x="2514600" y="1844640"/>
            <a:ext cx="411480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0384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播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Picture 9" descr="播种"/>
          <p:cNvPicPr/>
          <p:nvPr/>
        </p:nvPicPr>
        <p:blipFill>
          <a:blip r:embed="rId1"/>
          <a:stretch/>
        </p:blipFill>
        <p:spPr>
          <a:xfrm>
            <a:off x="2590920" y="1886040"/>
            <a:ext cx="3490920" cy="37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0384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浇水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4" name="Picture 5" descr="浇水"/>
          <p:cNvPicPr/>
          <p:nvPr/>
        </p:nvPicPr>
        <p:blipFill>
          <a:blip r:embed="rId1"/>
          <a:stretch/>
        </p:blipFill>
        <p:spPr>
          <a:xfrm>
            <a:off x="2790720" y="1828800"/>
            <a:ext cx="356256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038480" y="571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浇水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6" name="Picture 5" descr="浇水1"/>
          <p:cNvPicPr/>
          <p:nvPr/>
        </p:nvPicPr>
        <p:blipFill>
          <a:blip r:embed="rId1"/>
          <a:stretch/>
        </p:blipFill>
        <p:spPr>
          <a:xfrm>
            <a:off x="1676520" y="1855800"/>
            <a:ext cx="5105160" cy="37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428840" y="2714760"/>
            <a:ext cx="542916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准备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1" action="ppaction://hlinksldjump"/>
              </a:rPr>
              <a:t>塑料杯一只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2" action="ppaction://hlinksldjump"/>
              </a:rPr>
              <a:t>绿豆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3" action="ppaction://hlinksldjump"/>
              </a:rPr>
              <a:t>3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4" action="ppaction://hlinksldjump"/>
              </a:rPr>
              <a:t>、</a:t>
            </a:r>
            <a:r>
              <a:rPr b="0" lang="en-US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5" action="ppaction://hlinksldjump"/>
              </a:rPr>
              <a:t>4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6" action="ppaction://hlinksldjump"/>
              </a:rPr>
              <a:t>颗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  <a:hlinkClick r:id="rId7" action="ppaction://hlinksldjump"/>
              </a:rPr>
              <a:t>泥土适量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915560" y="1700280"/>
            <a:ext cx="2009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种植小实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41:10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27:59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