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435-DF75-4A23-AF82-056B23896E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8CC7-C982-4D1B-8539-DC39B80472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658-203C-4C22-A8AE-1DEE51EE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94B-D039-491F-9A2E-E8F93C3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1A1-DBC9-4FE5-9FBC-C04926A0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95E-19CD-414C-9418-4505B0F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AC7-0607-4921-8883-41184BE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9A8-DDF3-4CFE-AE03-6A4910C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478-C2CF-4CBE-9464-38717E97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4A3-D9B7-4779-B206-65534AC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1B2-AC88-4F07-AAB3-EC3B72C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C3E-0FEB-493D-87E8-B658830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B54-8F25-4CB5-8CD4-E49A1E9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629-D6C9-4D97-B1A9-237FD0D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581-E9EA-4EDF-8E69-ABFEDF0B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i.baidu.com/&#24736;&#28982;&#19968;&#26354;gabrie/album/item/6afc975066d883948c54304d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556000" y="2052720"/>
            <a:ext cx="46227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苗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19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19120" y="8524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0a34"/>
                </a:solidFill>
                <a:latin typeface="Arial"/>
              </a:rPr>
              <a:t>湘教版一年级语文上册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062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85080" cy="5025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3871800" y="69228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边框1"/>
          <p:cNvPicPr/>
          <p:nvPr/>
        </p:nvPicPr>
        <p:blipFill>
          <a:blip r:embed="rId1"/>
          <a:stretch/>
        </p:blipFill>
        <p:spPr>
          <a:xfrm>
            <a:off x="539640" y="457200"/>
            <a:ext cx="3513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125" name="Picture 4" descr="index_r5_c1"/>
            <p:cNvPicPr/>
            <p:nvPr/>
          </p:nvPicPr>
          <p:blipFill>
            <a:blip r:embed="rId2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"/>
            <p:cNvPicPr/>
            <p:nvPr/>
          </p:nvPicPr>
          <p:blipFill>
            <a:blip r:embed="rId4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index_r3_c2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8"/>
          <p:cNvSpPr/>
          <p:nvPr/>
        </p:nvSpPr>
        <p:spPr>
          <a:xfrm>
            <a:off x="1371600" y="2286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快快长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39440" y="744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说话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371600" y="373392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!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拓展延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像：如果小苗没有阳光和雨露，它们将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自己去了解种子或植物的生长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1866960" y="505944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40000" y="2492280"/>
            <a:ext cx="460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隶书"/>
              </a:rPr>
              <a:t>谢谢指导！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781-EB56-4839-823A-607E6DFC3C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63280" y="23320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读课文，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得爱护小苗（植物）的体验；激发热爱生命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50801161247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05092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16360" y="1287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miá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16360" y="206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916360" y="285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bà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916360" y="35910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mā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916360" y="429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yǔ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985840" y="5084640"/>
            <a:ext cx="24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ng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050920" y="200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0920" y="279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509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05092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050920" y="508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076720" y="200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寻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076720" y="126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076720" y="2798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爸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507672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妈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005440" y="4365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076720" y="5084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长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68360" y="404640"/>
            <a:ext cx="2448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2"/>
          <p:cNvGrpSpPr/>
          <p:nvPr/>
        </p:nvGrpSpPr>
        <p:grpSpPr>
          <a:xfrm>
            <a:off x="0" y="44280"/>
            <a:ext cx="9144000" cy="6813720"/>
            <a:chOff x="0" y="44280"/>
            <a:chExt cx="9144000" cy="6813720"/>
          </a:xfrm>
        </p:grpSpPr>
        <p:pic>
          <p:nvPicPr>
            <p:cNvPr id="75" name="Picture 2" descr="20050801161214387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9144000" cy="681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4"/>
            <p:cNvGrpSpPr/>
            <p:nvPr/>
          </p:nvGrpSpPr>
          <p:grpSpPr>
            <a:xfrm>
              <a:off x="971640" y="2997360"/>
              <a:ext cx="7345440" cy="1225440"/>
              <a:chOff x="971640" y="2997360"/>
              <a:chExt cx="7345440" cy="1225440"/>
            </a:xfrm>
          </p:grpSpPr>
          <p:grpSp>
            <p:nvGrpSpPr>
              <p:cNvPr id="77" name="Group 3"/>
              <p:cNvGrpSpPr/>
              <p:nvPr/>
            </p:nvGrpSpPr>
            <p:grpSpPr>
              <a:xfrm>
                <a:off x="3419640" y="2997360"/>
                <a:ext cx="1224000" cy="1224000"/>
                <a:chOff x="3419640" y="2997360"/>
                <a:chExt cx="1224000" cy="1224000"/>
              </a:xfrm>
            </p:grpSpPr>
            <p:sp>
              <p:nvSpPr>
                <p:cNvPr id="78" name="Rectangle 4"/>
                <p:cNvSpPr/>
                <p:nvPr/>
              </p:nvSpPr>
              <p:spPr>
                <a:xfrm>
                  <a:off x="3419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5"/>
                <p:cNvSpPr/>
                <p:nvPr/>
              </p:nvSpPr>
              <p:spPr>
                <a:xfrm flipH="1">
                  <a:off x="3419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032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7"/>
              <p:cNvGrpSpPr/>
              <p:nvPr/>
            </p:nvGrpSpPr>
            <p:grpSpPr>
              <a:xfrm>
                <a:off x="4645080" y="2997360"/>
                <a:ext cx="1224000" cy="1224000"/>
                <a:chOff x="4645080" y="2997360"/>
                <a:chExt cx="1224000" cy="1224000"/>
              </a:xfrm>
            </p:grpSpPr>
            <p:sp>
              <p:nvSpPr>
                <p:cNvPr id="82" name="Rectangle 8"/>
                <p:cNvSpPr/>
                <p:nvPr/>
              </p:nvSpPr>
              <p:spPr>
                <a:xfrm>
                  <a:off x="4645440" y="2997360"/>
                  <a:ext cx="122364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9"/>
                <p:cNvSpPr/>
                <p:nvPr/>
              </p:nvSpPr>
              <p:spPr>
                <a:xfrm flipH="1">
                  <a:off x="4645080" y="3609360"/>
                  <a:ext cx="1223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10"/>
                <p:cNvSpPr/>
                <p:nvPr/>
              </p:nvSpPr>
              <p:spPr>
                <a:xfrm>
                  <a:off x="525744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1"/>
              <p:cNvGrpSpPr/>
              <p:nvPr/>
            </p:nvGrpSpPr>
            <p:grpSpPr>
              <a:xfrm>
                <a:off x="2195640" y="2997360"/>
                <a:ext cx="1224000" cy="1224000"/>
                <a:chOff x="2195640" y="2997360"/>
                <a:chExt cx="1224000" cy="122400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2195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 flipH="1">
                  <a:off x="2195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2808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2"/>
              <p:cNvGrpSpPr/>
              <p:nvPr/>
            </p:nvGrpSpPr>
            <p:grpSpPr>
              <a:xfrm>
                <a:off x="7093080" y="2999160"/>
                <a:ext cx="1224000" cy="1223640"/>
                <a:chOff x="7093080" y="2999160"/>
                <a:chExt cx="1224000" cy="1223640"/>
              </a:xfrm>
            </p:grpSpPr>
            <p:sp>
              <p:nvSpPr>
                <p:cNvPr id="90" name="Rectangle 23"/>
                <p:cNvSpPr/>
                <p:nvPr/>
              </p:nvSpPr>
              <p:spPr>
                <a:xfrm>
                  <a:off x="7093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4"/>
                <p:cNvSpPr/>
                <p:nvPr/>
              </p:nvSpPr>
              <p:spPr>
                <a:xfrm flipH="1">
                  <a:off x="7093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5"/>
                <p:cNvSpPr/>
                <p:nvPr/>
              </p:nvSpPr>
              <p:spPr>
                <a:xfrm>
                  <a:off x="7705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26"/>
              <p:cNvGrpSpPr/>
              <p:nvPr/>
            </p:nvGrpSpPr>
            <p:grpSpPr>
              <a:xfrm>
                <a:off x="971640" y="2999160"/>
                <a:ext cx="1224000" cy="1223640"/>
                <a:chOff x="971640" y="2999160"/>
                <a:chExt cx="1224000" cy="1223640"/>
              </a:xfrm>
            </p:grpSpPr>
            <p:sp>
              <p:nvSpPr>
                <p:cNvPr id="94" name="Rectangle 27"/>
                <p:cNvSpPr/>
                <p:nvPr/>
              </p:nvSpPr>
              <p:spPr>
                <a:xfrm>
                  <a:off x="97164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8"/>
                <p:cNvSpPr/>
                <p:nvPr/>
              </p:nvSpPr>
              <p:spPr>
                <a:xfrm flipH="1">
                  <a:off x="97164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9"/>
                <p:cNvSpPr/>
                <p:nvPr/>
              </p:nvSpPr>
              <p:spPr>
                <a:xfrm>
                  <a:off x="158400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0"/>
              <p:cNvGrpSpPr/>
              <p:nvPr/>
            </p:nvGrpSpPr>
            <p:grpSpPr>
              <a:xfrm>
                <a:off x="5869080" y="2999160"/>
                <a:ext cx="1224000" cy="1223640"/>
                <a:chOff x="5869080" y="2999160"/>
                <a:chExt cx="1224000" cy="1223640"/>
              </a:xfrm>
            </p:grpSpPr>
            <p:sp>
              <p:nvSpPr>
                <p:cNvPr id="98" name="Rectangle 31"/>
                <p:cNvSpPr/>
                <p:nvPr/>
              </p:nvSpPr>
              <p:spPr>
                <a:xfrm>
                  <a:off x="5869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2"/>
                <p:cNvSpPr/>
                <p:nvPr/>
              </p:nvSpPr>
              <p:spPr>
                <a:xfrm flipH="1">
                  <a:off x="5869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33"/>
                <p:cNvSpPr/>
                <p:nvPr/>
              </p:nvSpPr>
              <p:spPr>
                <a:xfrm>
                  <a:off x="6481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Text Box 35"/>
            <p:cNvSpPr/>
            <p:nvPr/>
          </p:nvSpPr>
          <p:spPr>
            <a:xfrm>
              <a:off x="1114560" y="30686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6"/>
            <p:cNvSpPr/>
            <p:nvPr/>
          </p:nvSpPr>
          <p:spPr>
            <a:xfrm>
              <a:off x="234000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3564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9"/>
            <p:cNvSpPr/>
            <p:nvPr/>
          </p:nvSpPr>
          <p:spPr>
            <a:xfrm>
              <a:off x="4788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0"/>
            <p:cNvSpPr/>
            <p:nvPr/>
          </p:nvSpPr>
          <p:spPr>
            <a:xfrm>
              <a:off x="6012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1"/>
            <p:cNvSpPr/>
            <p:nvPr/>
          </p:nvSpPr>
          <p:spPr>
            <a:xfrm>
              <a:off x="723744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765000"/>
            <a:ext cx="4514760" cy="609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9"/>
          <p:cNvPicPr/>
          <p:nvPr/>
        </p:nvPicPr>
        <p:blipFill>
          <a:blip r:embed="rId2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3564000" y="235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060720" y="51577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睁开的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74167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6afc975066d883948c54304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3132000" y="5516640"/>
            <a:ext cx="30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84328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竖起的耳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500720" y="3340080"/>
            <a:ext cx="396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向蓝天呼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阳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雨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快快长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356000" y="25034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像张开的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0" y="2133720"/>
            <a:ext cx="4000680" cy="458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苗从什么地方长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像什么？它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苗它最需要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00a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00a34"/>
                </a:solidFill>
                <a:latin typeface="Arial"/>
              </a:rPr>
              <a:t>（土壤、阳光、雨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7:05:3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49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