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540C-A094-4D4F-806A-3BB3D6C6C6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4C5A-D6EE-4F46-9426-8C16232B16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FDF-273D-45CA-A32C-793232BD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95E-C23E-4BAE-83E2-B6EF4F9F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01B-836B-4B1A-92B5-B15ADED9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561-32DC-4243-8BA1-9F7FAF66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BE1-610D-45F3-BBB9-E7D2346C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A37E-0E3E-476B-91AA-B043DAD1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0D06-BFED-4960-A530-F15D4062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45F5-ED05-48D7-9937-37A7F31A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9A2-6E02-4923-B581-A182FE71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3DFB-CBB2-469F-849B-EF498DFF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4313-AE69-4BE2-86F5-E942DB26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947D-CC5E-4FDD-B89B-6FF8321D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757E-59AB-42FF-8D79-4D9485F57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9c6d20dd5eab17aa38012fc0"/>
          <p:cNvPicPr/>
          <p:nvPr/>
        </p:nvPicPr>
        <p:blipFill>
          <a:blip r:embed="rId1"/>
          <a:stretch/>
        </p:blipFill>
        <p:spPr>
          <a:xfrm>
            <a:off x="0" y="0"/>
            <a:ext cx="9144000" cy="665316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1332000" y="1273320"/>
            <a:ext cx="668664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新朋友 新伙伴</a:t>
            </a:r>
            <a:endParaRPr b="1" lang="en-US" sz="80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2843280" y="4186080"/>
            <a:ext cx="5238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一年级上册品德与生活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2311560" y="6021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DC10288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2637720" y="6278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们玩得真开心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>
            <a:hlinkClick r:id="rId2" action="ppaction://hlinksldjump"/>
          </p:cNvPr>
          <p:cNvSpPr/>
          <p:nvPr/>
        </p:nvSpPr>
        <p:spPr>
          <a:xfrm>
            <a:off x="817236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09" h="21600">
                <a:moveTo>
                  <a:pt x="9898" y="7493"/>
                </a:moveTo>
                <a:lnTo>
                  <a:pt x="13405" y="7493"/>
                </a:lnTo>
                <a:lnTo>
                  <a:pt x="13405" y="12828"/>
                </a:lnTo>
                <a:cubicBezTo>
                  <a:pt x="13405" y="13751"/>
                  <a:pt x="14206" y="14482"/>
                  <a:pt x="15242" y="14482"/>
                </a:cubicBezTo>
                <a:lnTo>
                  <a:pt x="16904" y="14482"/>
                </a:lnTo>
                <a:cubicBezTo>
                  <a:pt x="17940" y="14482"/>
                  <a:pt x="18741" y="13751"/>
                  <a:pt x="18741" y="12828"/>
                </a:cubicBezTo>
                <a:lnTo>
                  <a:pt x="18741" y="7493"/>
                </a:lnTo>
                <a:lnTo>
                  <a:pt x="16904" y="7493"/>
                </a:lnTo>
                <a:lnTo>
                  <a:pt x="20412" y="3985"/>
                </a:lnTo>
                <a:lnTo>
                  <a:pt x="24085" y="7493"/>
                </a:lnTo>
                <a:lnTo>
                  <a:pt x="22248" y="7493"/>
                </a:lnTo>
                <a:lnTo>
                  <a:pt x="22248" y="12828"/>
                </a:lnTo>
                <a:cubicBezTo>
                  <a:pt x="22248" y="15596"/>
                  <a:pt x="19672" y="18155"/>
                  <a:pt x="16904" y="18155"/>
                </a:cubicBezTo>
                <a:lnTo>
                  <a:pt x="15242" y="18155"/>
                </a:lnTo>
                <a:cubicBezTo>
                  <a:pt x="12474" y="18155"/>
                  <a:pt x="9898" y="15596"/>
                  <a:pt x="989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55477472c878ec378601b0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556000" y="98100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交朋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SDC10299"/>
          <p:cNvPicPr/>
          <p:nvPr/>
        </p:nvPicPr>
        <p:blipFill>
          <a:blip r:embed="rId2"/>
          <a:stretch/>
        </p:blipFill>
        <p:spPr>
          <a:xfrm>
            <a:off x="2700360" y="1773360"/>
            <a:ext cx="2449440" cy="1955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SDC10300"/>
          <p:cNvPicPr/>
          <p:nvPr/>
        </p:nvPicPr>
        <p:blipFill>
          <a:blip r:embed="rId3"/>
          <a:stretch/>
        </p:blipFill>
        <p:spPr>
          <a:xfrm>
            <a:off x="2556000" y="4149720"/>
            <a:ext cx="2447640" cy="185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SDC10301"/>
          <p:cNvPicPr/>
          <p:nvPr/>
        </p:nvPicPr>
        <p:blipFill>
          <a:blip r:embed="rId4"/>
          <a:stretch/>
        </p:blipFill>
        <p:spPr>
          <a:xfrm>
            <a:off x="5724360" y="2997360"/>
            <a:ext cx="25909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532958efb962910c2cf534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SDC10302"/>
          <p:cNvPicPr/>
          <p:nvPr/>
        </p:nvPicPr>
        <p:blipFill>
          <a:blip r:embed="rId2"/>
          <a:stretch/>
        </p:blipFill>
        <p:spPr>
          <a:xfrm>
            <a:off x="6516720" y="2205000"/>
            <a:ext cx="2627280" cy="46530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7"/>
          <p:cNvSpPr/>
          <p:nvPr/>
        </p:nvSpPr>
        <p:spPr>
          <a:xfrm>
            <a:off x="684360" y="907920"/>
            <a:ext cx="5327640" cy="4608720"/>
          </a:xfrm>
          <a:prstGeom prst="cloudCallout">
            <a:avLst>
              <a:gd name="adj1" fmla="val 63916"/>
              <a:gd name="adj2" fmla="val 2833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116000" y="1773360"/>
            <a:ext cx="446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想一想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丁丁的哪些做法让大家喜欢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哪些大家会不喜欢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为什么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689880"/>
          </a:xfrm>
          <a:prstGeom prst="rect">
            <a:avLst/>
          </a:prstGeom>
          <a:ln w="0">
            <a:noFill/>
          </a:ln>
        </p:spPr>
      </p:pic>
      <p:sp>
        <p:nvSpPr>
          <p:cNvPr id="97" name="WordArt 4"/>
          <p:cNvSpPr txBox="1"/>
          <p:nvPr/>
        </p:nvSpPr>
        <p:spPr>
          <a:xfrm>
            <a:off x="1908000" y="404640"/>
            <a:ext cx="4824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的收获</a:t>
            </a:r>
            <a:endParaRPr b="1" lang="en-US" sz="8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98" name="找朋友.mp3" descr=""/>
          <p:cNvPicPr/>
          <p:nvPr/>
        </p:nvPicPr>
        <p:blipFill>
          <a:blip r:embed="rId2"/>
          <a:stretch/>
        </p:blipFill>
        <p:spPr>
          <a:xfrm>
            <a:off x="7956720" y="551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4288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6a869a77751dc93ab051b9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1476360" y="620640"/>
            <a:ext cx="693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Arial"/>
                <a:ea typeface="楷体"/>
              </a:rPr>
              <a:t>    </a:t>
            </a:r>
            <a:r>
              <a:rPr b="1" lang="zh-CN" sz="6000" spc="-1" strike="noStrike">
                <a:solidFill>
                  <a:srgbClr val="006600"/>
                </a:solidFill>
                <a:latin typeface="Arial"/>
                <a:ea typeface="楷体"/>
              </a:rPr>
              <a:t>认识了这么多的新同学新伙伴让我们在</a:t>
            </a:r>
            <a:r>
              <a:rPr b="1" lang="en-US" sz="6000" spc="-1" strike="noStrike">
                <a:solidFill>
                  <a:srgbClr val="006600"/>
                </a:solidFill>
                <a:latin typeface="Arial"/>
                <a:ea typeface="楷体"/>
              </a:rPr>
              <a:t>《</a:t>
            </a:r>
            <a:r>
              <a:rPr b="1" lang="zh-CN" sz="6000" spc="-1" strike="noStrike">
                <a:solidFill>
                  <a:srgbClr val="006600"/>
                </a:solidFill>
                <a:latin typeface="Arial"/>
                <a:ea typeface="楷体"/>
              </a:rPr>
              <a:t>找朋友</a:t>
            </a:r>
            <a:r>
              <a:rPr b="1" lang="en-US" sz="6000" spc="-1" strike="noStrike">
                <a:solidFill>
                  <a:srgbClr val="006600"/>
                </a:solidFill>
                <a:latin typeface="Arial"/>
                <a:ea typeface="楷体"/>
              </a:rPr>
              <a:t>》</a:t>
            </a:r>
            <a:r>
              <a:rPr b="1" lang="zh-CN" sz="6000" spc="-1" strike="noStrike">
                <a:solidFill>
                  <a:srgbClr val="006600"/>
                </a:solidFill>
                <a:latin typeface="Arial"/>
                <a:ea typeface="楷体"/>
              </a:rPr>
              <a:t>的歌声中下课吧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"/>
          <p:cNvSpPr/>
          <p:nvPr/>
        </p:nvSpPr>
        <p:spPr>
          <a:xfrm>
            <a:off x="2550960" y="5613480"/>
            <a:ext cx="540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07B6-BC55-4BAB-BEDC-22923EA74A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68196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1979640" y="3789360"/>
            <a:ext cx="4551480" cy="14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你的名字叫什么？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图片"/>
          <p:cNvPicPr/>
          <p:nvPr/>
        </p:nvPicPr>
        <p:blipFill>
          <a:blip r:embed="rId1"/>
          <a:stretch/>
        </p:blipFill>
        <p:spPr>
          <a:xfrm>
            <a:off x="0" y="0"/>
            <a:ext cx="964728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938600" y="142560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你和谁是好朋友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085560" y="479736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为什么要和他做朋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9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681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941400" y="5414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33"/>
                </a:solidFill>
                <a:latin typeface="Arial"/>
                <a:ea typeface="楷体"/>
              </a:rPr>
              <a:t>展示自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11040" y="249228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"/>
              </a:rPr>
              <a:t>棒！棒！你真棒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2987640" y="4437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9"/>
          <p:cNvSpPr txBox="1"/>
          <p:nvPr/>
        </p:nvSpPr>
        <p:spPr>
          <a:xfrm>
            <a:off x="1258920" y="1773360"/>
            <a:ext cx="7416720" cy="23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画画你的新朋友，请他签个名。</a:t>
            </a:r>
            <a:endParaRPr b="1" lang="en-US" sz="6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图片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3676680" y="9810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"/>
              </a:rPr>
              <a:t>我们在一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349280" y="2492280"/>
            <a:ext cx="62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"/>
              </a:rPr>
              <a:t>老师、同学在一起，真好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SDC10279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3530520" y="6093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们一起学习真快乐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SDC10274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4128840" y="62784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们一起学会做眼保健操和早操了，真快乐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SDC10286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649320" y="62784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们一起玩游戏，真快乐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5:19:1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0:21Z</dcterms:modified>
  <cp:revision>2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