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2.gif" ContentType="image/gif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533-3C12-42FE-A95A-7A0E7AF3D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B1A1-87B1-4F6D-ACB0-AC78098CC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4B85-49BF-47B9-A72F-D51B7CC22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5F8-4D24-4E97-A5AE-31F45B5AE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74C-5508-4D0E-A45D-09575E25B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482-86CA-42A4-A358-14C75E1F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7C3-D8DC-4B79-8DB6-57C34F4C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04A-3A4E-4359-85F2-122C01AE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4FF-E685-4810-8236-6A03FD59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E26-1E2B-4D09-BA7C-A272075E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F4B-2A38-479D-B865-750C5904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4CF-4E84-4D0D-86DF-A821B364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4A6-E28E-4372-9CAA-828F8303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144-6BA4-40A9-855B-2C7293D4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E6A-95B4-4D53-9D30-B4FB773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D9D-675B-40FB-B4C9-0547E4B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A2C-9CA3-47DF-9EB9-6929BAE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682-6BA3-465A-9E2A-05A64CCC6B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7"/>
          <p:cNvSpPr txBox="1"/>
          <p:nvPr/>
        </p:nvSpPr>
        <p:spPr>
          <a:xfrm>
            <a:off x="1042920" y="1700280"/>
            <a:ext cx="72741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数乘整数</a:t>
            </a:r>
            <a:endParaRPr b="1" lang="en-US" sz="3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" name="Text Box 56"/>
          <p:cNvSpPr/>
          <p:nvPr/>
        </p:nvSpPr>
        <p:spPr>
          <a:xfrm>
            <a:off x="539640" y="33336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cc"/>
                </a:solidFill>
                <a:latin typeface="Arial"/>
                <a:ea typeface="方正行楷简体"/>
              </a:rPr>
              <a:t>人教版五年级数学上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255348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3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371920" cy="250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353600" y="9777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算一算，比一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324000" y="4149720"/>
            <a:ext cx="2232000" cy="2158920"/>
            <a:chOff x="324000" y="4149720"/>
            <a:chExt cx="2232000" cy="2158920"/>
          </a:xfrm>
        </p:grpSpPr>
        <p:sp>
          <p:nvSpPr>
            <p:cNvPr id="153" name="Rectangle 5"/>
            <p:cNvSpPr/>
            <p:nvPr/>
          </p:nvSpPr>
          <p:spPr>
            <a:xfrm>
              <a:off x="324000" y="414972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41440" y="558936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468360" y="431640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68360" y="494172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1031760" y="491472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1492200" y="494172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38"/>
          <p:cNvGrpSpPr/>
          <p:nvPr/>
        </p:nvGrpSpPr>
        <p:grpSpPr>
          <a:xfrm>
            <a:off x="2124000" y="2565360"/>
            <a:ext cx="2232000" cy="2158920"/>
            <a:chOff x="2124000" y="2565360"/>
            <a:chExt cx="2232000" cy="2158920"/>
          </a:xfrm>
        </p:grpSpPr>
        <p:sp>
          <p:nvSpPr>
            <p:cNvPr id="160" name="Rectangle 39"/>
            <p:cNvSpPr/>
            <p:nvPr/>
          </p:nvSpPr>
          <p:spPr>
            <a:xfrm>
              <a:off x="2124000" y="256536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>
              <a:off x="2341440" y="400500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1"/>
            <p:cNvSpPr/>
            <p:nvPr/>
          </p:nvSpPr>
          <p:spPr>
            <a:xfrm>
              <a:off x="2268360" y="273204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2"/>
            <p:cNvSpPr/>
            <p:nvPr/>
          </p:nvSpPr>
          <p:spPr>
            <a:xfrm>
              <a:off x="2268360" y="335736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3"/>
            <p:cNvSpPr/>
            <p:nvPr/>
          </p:nvSpPr>
          <p:spPr>
            <a:xfrm>
              <a:off x="2831760" y="333036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3292200" y="335736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5"/>
          <p:cNvGrpSpPr/>
          <p:nvPr/>
        </p:nvGrpSpPr>
        <p:grpSpPr>
          <a:xfrm>
            <a:off x="4859280" y="3357720"/>
            <a:ext cx="2232000" cy="2158920"/>
            <a:chOff x="4859280" y="3357720"/>
            <a:chExt cx="2232000" cy="2158920"/>
          </a:xfrm>
        </p:grpSpPr>
        <p:sp>
          <p:nvSpPr>
            <p:cNvPr id="167" name="Rectangle 46"/>
            <p:cNvSpPr/>
            <p:nvPr/>
          </p:nvSpPr>
          <p:spPr>
            <a:xfrm>
              <a:off x="4859280" y="335772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5076720" y="479736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8"/>
            <p:cNvSpPr/>
            <p:nvPr/>
          </p:nvSpPr>
          <p:spPr>
            <a:xfrm>
              <a:off x="5003640" y="352440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9"/>
            <p:cNvSpPr/>
            <p:nvPr/>
          </p:nvSpPr>
          <p:spPr>
            <a:xfrm>
              <a:off x="5003640" y="414972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0"/>
            <p:cNvSpPr/>
            <p:nvPr/>
          </p:nvSpPr>
          <p:spPr>
            <a:xfrm>
              <a:off x="5567040" y="412272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6027480" y="414972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2"/>
          <p:cNvGrpSpPr/>
          <p:nvPr/>
        </p:nvGrpSpPr>
        <p:grpSpPr>
          <a:xfrm>
            <a:off x="6659640" y="1773360"/>
            <a:ext cx="2232000" cy="2158920"/>
            <a:chOff x="6659640" y="1773360"/>
            <a:chExt cx="2232000" cy="2158920"/>
          </a:xfrm>
        </p:grpSpPr>
        <p:sp>
          <p:nvSpPr>
            <p:cNvPr id="174" name="Rectangle 53"/>
            <p:cNvSpPr/>
            <p:nvPr/>
          </p:nvSpPr>
          <p:spPr>
            <a:xfrm>
              <a:off x="6659640" y="177336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4"/>
            <p:cNvSpPr/>
            <p:nvPr/>
          </p:nvSpPr>
          <p:spPr>
            <a:xfrm>
              <a:off x="6877080" y="321300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55"/>
            <p:cNvSpPr/>
            <p:nvPr/>
          </p:nvSpPr>
          <p:spPr>
            <a:xfrm>
              <a:off x="6804000" y="194004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 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6"/>
            <p:cNvSpPr/>
            <p:nvPr/>
          </p:nvSpPr>
          <p:spPr>
            <a:xfrm>
              <a:off x="6804000" y="256536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7"/>
            <p:cNvSpPr/>
            <p:nvPr/>
          </p:nvSpPr>
          <p:spPr>
            <a:xfrm>
              <a:off x="7367400" y="253836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8"/>
            <p:cNvSpPr/>
            <p:nvPr/>
          </p:nvSpPr>
          <p:spPr>
            <a:xfrm>
              <a:off x="7827840" y="256536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59"/>
          <p:cNvSpPr/>
          <p:nvPr/>
        </p:nvSpPr>
        <p:spPr>
          <a:xfrm>
            <a:off x="9176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 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0"/>
          <p:cNvSpPr/>
          <p:nvPr/>
        </p:nvSpPr>
        <p:spPr>
          <a:xfrm>
            <a:off x="2717640" y="4011480"/>
            <a:ext cx="12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1"/>
          <p:cNvSpPr/>
          <p:nvPr/>
        </p:nvSpPr>
        <p:spPr>
          <a:xfrm>
            <a:off x="5381640" y="47260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 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2"/>
          <p:cNvSpPr/>
          <p:nvPr/>
        </p:nvSpPr>
        <p:spPr>
          <a:xfrm>
            <a:off x="7164360" y="31417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3"/>
          <p:cNvSpPr/>
          <p:nvPr/>
        </p:nvSpPr>
        <p:spPr>
          <a:xfrm>
            <a:off x="7885080" y="3284640"/>
            <a:ext cx="287280" cy="43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4"/>
          <p:cNvGrpSpPr/>
          <p:nvPr/>
        </p:nvGrpSpPr>
        <p:grpSpPr>
          <a:xfrm>
            <a:off x="4788000" y="2637000"/>
            <a:ext cx="3960720" cy="1812600"/>
            <a:chOff x="4788000" y="2637000"/>
            <a:chExt cx="3960720" cy="1812600"/>
          </a:xfrm>
        </p:grpSpPr>
        <p:sp>
          <p:nvSpPr>
            <p:cNvPr id="186" name="Freeform 21"/>
            <p:cNvSpPr/>
            <p:nvPr/>
          </p:nvSpPr>
          <p:spPr>
            <a:xfrm>
              <a:off x="4788000" y="2637000"/>
              <a:ext cx="3960720" cy="1812600"/>
            </a:xfrm>
            <a:custGeom>
              <a:avLst/>
              <a:gdLst/>
              <a:ahLst/>
              <a:rect l="l" t="t" r="r" b="b"/>
              <a:pathLst>
                <a:path w="2077" h="972">
                  <a:moveTo>
                    <a:pt x="0" y="708"/>
                  </a:moveTo>
                  <a:cubicBezTo>
                    <a:pt x="11" y="616"/>
                    <a:pt x="11" y="521"/>
                    <a:pt x="36" y="432"/>
                  </a:cubicBezTo>
                  <a:cubicBezTo>
                    <a:pt x="41" y="416"/>
                    <a:pt x="39" y="398"/>
                    <a:pt x="48" y="384"/>
                  </a:cubicBezTo>
                  <a:cubicBezTo>
                    <a:pt x="56" y="372"/>
                    <a:pt x="72" y="368"/>
                    <a:pt x="84" y="360"/>
                  </a:cubicBezTo>
                  <a:cubicBezTo>
                    <a:pt x="136" y="323"/>
                    <a:pt x="188" y="299"/>
                    <a:pt x="240" y="264"/>
                  </a:cubicBezTo>
                  <a:cubicBezTo>
                    <a:pt x="270" y="173"/>
                    <a:pt x="340" y="136"/>
                    <a:pt x="420" y="96"/>
                  </a:cubicBezTo>
                  <a:cubicBezTo>
                    <a:pt x="461" y="76"/>
                    <a:pt x="552" y="60"/>
                    <a:pt x="552" y="60"/>
                  </a:cubicBezTo>
                  <a:cubicBezTo>
                    <a:pt x="601" y="27"/>
                    <a:pt x="652" y="19"/>
                    <a:pt x="708" y="0"/>
                  </a:cubicBezTo>
                  <a:cubicBezTo>
                    <a:pt x="945" y="7"/>
                    <a:pt x="1192" y="2"/>
                    <a:pt x="1428" y="36"/>
                  </a:cubicBezTo>
                  <a:cubicBezTo>
                    <a:pt x="1440" y="44"/>
                    <a:pt x="1451" y="54"/>
                    <a:pt x="1464" y="60"/>
                  </a:cubicBezTo>
                  <a:cubicBezTo>
                    <a:pt x="1487" y="70"/>
                    <a:pt x="1536" y="84"/>
                    <a:pt x="1536" y="84"/>
                  </a:cubicBezTo>
                  <a:cubicBezTo>
                    <a:pt x="1637" y="159"/>
                    <a:pt x="1758" y="110"/>
                    <a:pt x="1872" y="156"/>
                  </a:cubicBezTo>
                  <a:cubicBezTo>
                    <a:pt x="1884" y="168"/>
                    <a:pt x="1898" y="179"/>
                    <a:pt x="1908" y="192"/>
                  </a:cubicBezTo>
                  <a:cubicBezTo>
                    <a:pt x="1926" y="215"/>
                    <a:pt x="1956" y="264"/>
                    <a:pt x="1956" y="264"/>
                  </a:cubicBezTo>
                  <a:cubicBezTo>
                    <a:pt x="1983" y="374"/>
                    <a:pt x="1962" y="333"/>
                    <a:pt x="2004" y="396"/>
                  </a:cubicBezTo>
                  <a:cubicBezTo>
                    <a:pt x="2018" y="589"/>
                    <a:pt x="1998" y="511"/>
                    <a:pt x="2040" y="636"/>
                  </a:cubicBezTo>
                  <a:cubicBezTo>
                    <a:pt x="2048" y="660"/>
                    <a:pt x="2064" y="708"/>
                    <a:pt x="2064" y="708"/>
                  </a:cubicBezTo>
                  <a:cubicBezTo>
                    <a:pt x="2060" y="776"/>
                    <a:pt x="2077" y="849"/>
                    <a:pt x="2052" y="912"/>
                  </a:cubicBezTo>
                  <a:cubicBezTo>
                    <a:pt x="2043" y="935"/>
                    <a:pt x="2004" y="918"/>
                    <a:pt x="1980" y="924"/>
                  </a:cubicBezTo>
                  <a:cubicBezTo>
                    <a:pt x="1927" y="937"/>
                    <a:pt x="1877" y="959"/>
                    <a:pt x="1824" y="972"/>
                  </a:cubicBezTo>
                  <a:cubicBezTo>
                    <a:pt x="1744" y="968"/>
                    <a:pt x="1664" y="967"/>
                    <a:pt x="1584" y="960"/>
                  </a:cubicBezTo>
                  <a:cubicBezTo>
                    <a:pt x="1474" y="950"/>
                    <a:pt x="1369" y="867"/>
                    <a:pt x="1260" y="864"/>
                  </a:cubicBezTo>
                  <a:cubicBezTo>
                    <a:pt x="964" y="856"/>
                    <a:pt x="668" y="856"/>
                    <a:pt x="372" y="852"/>
                  </a:cubicBezTo>
                  <a:cubicBezTo>
                    <a:pt x="328" y="841"/>
                    <a:pt x="285" y="826"/>
                    <a:pt x="240" y="816"/>
                  </a:cubicBezTo>
                  <a:cubicBezTo>
                    <a:pt x="215" y="811"/>
                    <a:pt x="170" y="805"/>
                    <a:pt x="144" y="792"/>
                  </a:cubicBezTo>
                  <a:cubicBezTo>
                    <a:pt x="51" y="745"/>
                    <a:pt x="162" y="786"/>
                    <a:pt x="72" y="756"/>
                  </a:cubicBezTo>
                  <a:cubicBezTo>
                    <a:pt x="70" y="754"/>
                    <a:pt x="0" y="667"/>
                    <a:pt x="0" y="70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5391360" y="2997360"/>
              <a:ext cx="201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12.1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5434560" y="3557520"/>
              <a:ext cx="198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.21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22"/>
          <p:cNvSpPr/>
          <p:nvPr/>
        </p:nvSpPr>
        <p:spPr>
          <a:xfrm>
            <a:off x="7330680" y="35798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4.8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7270200" y="300348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4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0"/>
          <p:cNvGrpSpPr/>
          <p:nvPr/>
        </p:nvGrpSpPr>
        <p:grpSpPr>
          <a:xfrm>
            <a:off x="2195640" y="3860640"/>
            <a:ext cx="4031640" cy="1478160"/>
            <a:chOff x="2195640" y="3860640"/>
            <a:chExt cx="4031640" cy="1478160"/>
          </a:xfrm>
        </p:grpSpPr>
        <p:sp>
          <p:nvSpPr>
            <p:cNvPr id="192" name="Freeform 9"/>
            <p:cNvSpPr/>
            <p:nvPr/>
          </p:nvSpPr>
          <p:spPr>
            <a:xfrm>
              <a:off x="2195640" y="3860640"/>
              <a:ext cx="4031640" cy="1478160"/>
            </a:xfrm>
            <a:custGeom>
              <a:avLst/>
              <a:gdLst/>
              <a:ahLst/>
              <a:rect l="l" t="t" r="r" b="b"/>
              <a:pathLst>
                <a:path w="2352" h="1055">
                  <a:moveTo>
                    <a:pt x="24" y="816"/>
                  </a:moveTo>
                  <a:cubicBezTo>
                    <a:pt x="42" y="640"/>
                    <a:pt x="44" y="455"/>
                    <a:pt x="204" y="348"/>
                  </a:cubicBezTo>
                  <a:cubicBezTo>
                    <a:pt x="238" y="297"/>
                    <a:pt x="218" y="283"/>
                    <a:pt x="276" y="264"/>
                  </a:cubicBezTo>
                  <a:cubicBezTo>
                    <a:pt x="292" y="240"/>
                    <a:pt x="308" y="216"/>
                    <a:pt x="324" y="192"/>
                  </a:cubicBezTo>
                  <a:cubicBezTo>
                    <a:pt x="332" y="180"/>
                    <a:pt x="334" y="161"/>
                    <a:pt x="348" y="156"/>
                  </a:cubicBezTo>
                  <a:cubicBezTo>
                    <a:pt x="447" y="123"/>
                    <a:pt x="547" y="95"/>
                    <a:pt x="648" y="72"/>
                  </a:cubicBezTo>
                  <a:cubicBezTo>
                    <a:pt x="752" y="48"/>
                    <a:pt x="858" y="34"/>
                    <a:pt x="960" y="0"/>
                  </a:cubicBezTo>
                  <a:cubicBezTo>
                    <a:pt x="1192" y="4"/>
                    <a:pt x="1424" y="3"/>
                    <a:pt x="1656" y="12"/>
                  </a:cubicBezTo>
                  <a:cubicBezTo>
                    <a:pt x="1728" y="15"/>
                    <a:pt x="1872" y="36"/>
                    <a:pt x="1872" y="36"/>
                  </a:cubicBezTo>
                  <a:cubicBezTo>
                    <a:pt x="1911" y="62"/>
                    <a:pt x="1948" y="81"/>
                    <a:pt x="1992" y="96"/>
                  </a:cubicBezTo>
                  <a:cubicBezTo>
                    <a:pt x="2039" y="143"/>
                    <a:pt x="2059" y="182"/>
                    <a:pt x="2124" y="204"/>
                  </a:cubicBezTo>
                  <a:cubicBezTo>
                    <a:pt x="2183" y="248"/>
                    <a:pt x="2234" y="270"/>
                    <a:pt x="2304" y="288"/>
                  </a:cubicBezTo>
                  <a:cubicBezTo>
                    <a:pt x="2326" y="354"/>
                    <a:pt x="2341" y="401"/>
                    <a:pt x="2352" y="468"/>
                  </a:cubicBezTo>
                  <a:cubicBezTo>
                    <a:pt x="2348" y="588"/>
                    <a:pt x="2351" y="708"/>
                    <a:pt x="2340" y="828"/>
                  </a:cubicBezTo>
                  <a:cubicBezTo>
                    <a:pt x="2339" y="842"/>
                    <a:pt x="2322" y="851"/>
                    <a:pt x="2316" y="864"/>
                  </a:cubicBezTo>
                  <a:cubicBezTo>
                    <a:pt x="2310" y="875"/>
                    <a:pt x="2316" y="897"/>
                    <a:pt x="2304" y="900"/>
                  </a:cubicBezTo>
                  <a:cubicBezTo>
                    <a:pt x="2242" y="915"/>
                    <a:pt x="2176" y="908"/>
                    <a:pt x="2112" y="912"/>
                  </a:cubicBezTo>
                  <a:cubicBezTo>
                    <a:pt x="1790" y="1019"/>
                    <a:pt x="1439" y="1008"/>
                    <a:pt x="1104" y="1020"/>
                  </a:cubicBezTo>
                  <a:cubicBezTo>
                    <a:pt x="825" y="1014"/>
                    <a:pt x="680" y="1055"/>
                    <a:pt x="468" y="984"/>
                  </a:cubicBezTo>
                  <a:cubicBezTo>
                    <a:pt x="336" y="852"/>
                    <a:pt x="531" y="1030"/>
                    <a:pt x="72" y="936"/>
                  </a:cubicBezTo>
                  <a:cubicBezTo>
                    <a:pt x="49" y="931"/>
                    <a:pt x="0" y="840"/>
                    <a:pt x="24" y="81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3420720" y="400500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×6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266640" y="4556160"/>
              <a:ext cx="17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.4×6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6"/>
          <p:cNvGrpSpPr/>
          <p:nvPr/>
        </p:nvGrpSpPr>
        <p:grpSpPr>
          <a:xfrm>
            <a:off x="630360" y="4869000"/>
            <a:ext cx="3654000" cy="1514160"/>
            <a:chOff x="630360" y="4869000"/>
            <a:chExt cx="3654000" cy="1514160"/>
          </a:xfrm>
        </p:grpSpPr>
        <p:sp>
          <p:nvSpPr>
            <p:cNvPr id="196" name="Freeform 6"/>
            <p:cNvSpPr/>
            <p:nvPr/>
          </p:nvSpPr>
          <p:spPr>
            <a:xfrm>
              <a:off x="630360" y="4869000"/>
              <a:ext cx="3654000" cy="1511280"/>
            </a:xfrm>
            <a:custGeom>
              <a:avLst/>
              <a:gdLst/>
              <a:ahLst/>
              <a:rect l="l" t="t" r="r" b="b"/>
              <a:pathLst>
                <a:path w="1893" h="987">
                  <a:moveTo>
                    <a:pt x="446" y="987"/>
                  </a:moveTo>
                  <a:cubicBezTo>
                    <a:pt x="304" y="974"/>
                    <a:pt x="271" y="978"/>
                    <a:pt x="158" y="903"/>
                  </a:cubicBezTo>
                  <a:cubicBezTo>
                    <a:pt x="136" y="888"/>
                    <a:pt x="108" y="882"/>
                    <a:pt x="86" y="867"/>
                  </a:cubicBezTo>
                  <a:cubicBezTo>
                    <a:pt x="70" y="843"/>
                    <a:pt x="54" y="819"/>
                    <a:pt x="38" y="795"/>
                  </a:cubicBezTo>
                  <a:cubicBezTo>
                    <a:pt x="0" y="738"/>
                    <a:pt x="43" y="659"/>
                    <a:pt x="50" y="591"/>
                  </a:cubicBezTo>
                  <a:cubicBezTo>
                    <a:pt x="58" y="509"/>
                    <a:pt x="89" y="414"/>
                    <a:pt x="170" y="387"/>
                  </a:cubicBezTo>
                  <a:cubicBezTo>
                    <a:pt x="206" y="351"/>
                    <a:pt x="230" y="331"/>
                    <a:pt x="278" y="315"/>
                  </a:cubicBezTo>
                  <a:cubicBezTo>
                    <a:pt x="300" y="293"/>
                    <a:pt x="328" y="277"/>
                    <a:pt x="350" y="255"/>
                  </a:cubicBezTo>
                  <a:cubicBezTo>
                    <a:pt x="360" y="245"/>
                    <a:pt x="362" y="227"/>
                    <a:pt x="374" y="219"/>
                  </a:cubicBezTo>
                  <a:cubicBezTo>
                    <a:pt x="475" y="156"/>
                    <a:pt x="719" y="174"/>
                    <a:pt x="782" y="171"/>
                  </a:cubicBezTo>
                  <a:cubicBezTo>
                    <a:pt x="836" y="157"/>
                    <a:pt x="870" y="134"/>
                    <a:pt x="926" y="123"/>
                  </a:cubicBezTo>
                  <a:cubicBezTo>
                    <a:pt x="1110" y="0"/>
                    <a:pt x="1303" y="89"/>
                    <a:pt x="1478" y="147"/>
                  </a:cubicBezTo>
                  <a:cubicBezTo>
                    <a:pt x="1522" y="180"/>
                    <a:pt x="1564" y="193"/>
                    <a:pt x="1610" y="219"/>
                  </a:cubicBezTo>
                  <a:cubicBezTo>
                    <a:pt x="1689" y="263"/>
                    <a:pt x="1751" y="322"/>
                    <a:pt x="1838" y="351"/>
                  </a:cubicBezTo>
                  <a:cubicBezTo>
                    <a:pt x="1893" y="433"/>
                    <a:pt x="1878" y="473"/>
                    <a:pt x="1886" y="591"/>
                  </a:cubicBezTo>
                  <a:cubicBezTo>
                    <a:pt x="1874" y="650"/>
                    <a:pt x="1880" y="713"/>
                    <a:pt x="1862" y="771"/>
                  </a:cubicBezTo>
                  <a:cubicBezTo>
                    <a:pt x="1836" y="854"/>
                    <a:pt x="1751" y="950"/>
                    <a:pt x="1658" y="951"/>
                  </a:cubicBezTo>
                  <a:cubicBezTo>
                    <a:pt x="1254" y="955"/>
                    <a:pt x="850" y="959"/>
                    <a:pt x="446" y="963"/>
                  </a:cubicBezTo>
                  <a:cubicBezTo>
                    <a:pt x="382" y="979"/>
                    <a:pt x="382" y="971"/>
                    <a:pt x="446" y="98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1473840" y="518004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1444680" y="5740560"/>
              <a:ext cx="17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3.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28" descr="BUILD023s"/>
          <p:cNvPicPr/>
          <p:nvPr/>
        </p:nvPicPr>
        <p:blipFill>
          <a:blip r:embed="rId1"/>
          <a:stretch/>
        </p:blipFill>
        <p:spPr>
          <a:xfrm rot="213600">
            <a:off x="7124760" y="759960"/>
            <a:ext cx="1660320" cy="2081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9"/>
          <p:cNvSpPr/>
          <p:nvPr/>
        </p:nvSpPr>
        <p:spPr>
          <a:xfrm>
            <a:off x="904320" y="83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做一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rabbit007s"/>
          <p:cNvPicPr/>
          <p:nvPr/>
        </p:nvPicPr>
        <p:blipFill>
          <a:blip r:embed="rId2"/>
          <a:stretch/>
        </p:blipFill>
        <p:spPr>
          <a:xfrm>
            <a:off x="1249200" y="3716280"/>
            <a:ext cx="1162080" cy="1505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0"/>
          <p:cNvSpPr/>
          <p:nvPr/>
        </p:nvSpPr>
        <p:spPr>
          <a:xfrm>
            <a:off x="3205080" y="5157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9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3213360" y="57340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9.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5089320" y="4011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013720" y="458784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3 0.20556 C -0.27621 0.13357 -0.25659 0.06158 -0.2375 0.06945 C -0.2184 0.07732 -0.2 0.25463 -0.18125 0.25278 C -0.1625 0.25093 -0.13923 0.06158 -0.125 0.05834 C -0.11076 0.0551 -0.11666 0.24306 -0.09583 0.23334 C -0.075 0.22362 -0.01597 0.03889 2.77778E-007 -4.07407E-006 E">
                                      <p:cBhvr>
                                        <p:cTn id="456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046 C 0.02344 -0.10833 0.04671 -0.21643 0.079 -0.2463 C 0.11111 -0.27685 0.15226 -0.22893 0.19341 -0.18125 E">
                                      <p:cBhvr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341 -0.18125 C 0.23612 -0.30092 0.27882 -0.4206 0.32674 -0.45069 C 0.37466 -0.48078 0.45521 -0.37662 0.48091 -0.3618 E">
                                      <p:cBhvr>
                                        <p:cTn id="498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天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0" y="407664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47640" y="4869000"/>
            <a:ext cx="205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39880" y="4941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6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7"/>
          <p:cNvSpPr/>
          <p:nvPr/>
        </p:nvSpPr>
        <p:spPr>
          <a:xfrm>
            <a:off x="3348000" y="4508640"/>
            <a:ext cx="201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506760" y="4586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4.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1"/>
          <p:cNvSpPr/>
          <p:nvPr/>
        </p:nvSpPr>
        <p:spPr>
          <a:xfrm>
            <a:off x="6084720" y="4869000"/>
            <a:ext cx="2374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6328080" y="4946760"/>
            <a:ext cx="18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0.1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4"/>
          <p:cNvGrpSpPr/>
          <p:nvPr/>
        </p:nvGrpSpPr>
        <p:grpSpPr>
          <a:xfrm>
            <a:off x="1042920" y="1482840"/>
            <a:ext cx="1505160" cy="1650600"/>
            <a:chOff x="1042920" y="1482840"/>
            <a:chExt cx="1505160" cy="1650600"/>
          </a:xfrm>
        </p:grpSpPr>
        <p:sp>
          <p:nvSpPr>
            <p:cNvPr id="217" name="Text Box 33"/>
            <p:cNvSpPr/>
            <p:nvPr/>
          </p:nvSpPr>
          <p:spPr>
            <a:xfrm>
              <a:off x="1398240" y="2490840"/>
              <a:ext cx="107064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4.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3" descr="insect013s"/>
            <p:cNvPicPr/>
            <p:nvPr/>
          </p:nvPicPr>
          <p:blipFill>
            <a:blip r:embed="rId5"/>
            <a:stretch/>
          </p:blipFill>
          <p:spPr>
            <a:xfrm>
              <a:off x="1042920" y="1482840"/>
              <a:ext cx="1505160" cy="11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5"/>
          <p:cNvGrpSpPr/>
          <p:nvPr/>
        </p:nvGrpSpPr>
        <p:grpSpPr>
          <a:xfrm>
            <a:off x="3851280" y="907920"/>
            <a:ext cx="1553040" cy="1650960"/>
            <a:chOff x="3851280" y="907920"/>
            <a:chExt cx="1553040" cy="1650960"/>
          </a:xfrm>
        </p:grpSpPr>
        <p:sp>
          <p:nvSpPr>
            <p:cNvPr id="220" name="Text Box 36"/>
            <p:cNvSpPr/>
            <p:nvPr/>
          </p:nvSpPr>
          <p:spPr>
            <a:xfrm>
              <a:off x="4079160" y="1916280"/>
              <a:ext cx="132516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.44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37" descr="insect013s"/>
            <p:cNvPicPr/>
            <p:nvPr/>
          </p:nvPicPr>
          <p:blipFill>
            <a:blip r:embed="rId6"/>
            <a:stretch/>
          </p:blipFill>
          <p:spPr>
            <a:xfrm>
              <a:off x="3851280" y="907920"/>
              <a:ext cx="150516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38"/>
          <p:cNvGrpSpPr/>
          <p:nvPr/>
        </p:nvGrpSpPr>
        <p:grpSpPr>
          <a:xfrm>
            <a:off x="6516720" y="1482840"/>
            <a:ext cx="1504800" cy="1650600"/>
            <a:chOff x="6516720" y="1482840"/>
            <a:chExt cx="1504800" cy="1650600"/>
          </a:xfrm>
        </p:grpSpPr>
        <p:sp>
          <p:nvSpPr>
            <p:cNvPr id="223" name="Text Box 39"/>
            <p:cNvSpPr/>
            <p:nvPr/>
          </p:nvSpPr>
          <p:spPr>
            <a:xfrm>
              <a:off x="6871680" y="2490840"/>
              <a:ext cx="107064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.4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0" descr="insect013s"/>
            <p:cNvPicPr/>
            <p:nvPr/>
          </p:nvPicPr>
          <p:blipFill>
            <a:blip r:embed="rId7"/>
            <a:stretch/>
          </p:blipFill>
          <p:spPr>
            <a:xfrm>
              <a:off x="6516720" y="1482840"/>
              <a:ext cx="1504800" cy="11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Rectangle 41"/>
          <p:cNvSpPr/>
          <p:nvPr/>
        </p:nvSpPr>
        <p:spPr>
          <a:xfrm>
            <a:off x="720720" y="771480"/>
            <a:ext cx="2495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49×3=44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C 0.00087 0.03194 0.00191 0.06389 0.02118 0.08565 C 0.04046 0.1074 0.08264 0.12176 0.11528 0.13055 C 0.14809 0.13912 0.19046 0.12592 0.21789 0.13819 C 0.24532 0.15069 0.26945 0.19352 0.28004 0.20486 E">
                                      <p:cBhvr>
                                        <p:cTn id="538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C 0.0217 0.06134 0.04341 0.12269 0.07917 0.15718 C 0.11493 0.19144 0.17674 0.18542 0.21459 0.20625 C 0.25243 0.22685 0.2941 0.26088 0.30625 0.28148 C 0.31841 0.30232 0.30295 0.31644 0.2875 0.33079 E">
                                      <p:cBhvr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96296E-006 C -0.0448 0.03194 -0.08959 0.06435 -0.15191 0.07824 C -0.21441 0.09213 -0.30799 0.06597 -0.37448 0.08287 C -0.44115 0.09977 -0.51077 0.15208 -0.55139 0.1794 C -0.59202 0.20671 -0.60695 0.23541 -0.61789 0.24699 E">
                                      <p:cBhvr>
                                        <p:cTn id="546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ehfd"/>
          <p:cNvPicPr/>
          <p:nvPr/>
        </p:nvPicPr>
        <p:blipFill>
          <a:blip r:embed="rId1"/>
          <a:stretch/>
        </p:blipFill>
        <p:spPr>
          <a:xfrm>
            <a:off x="34920" y="620640"/>
            <a:ext cx="8964720" cy="59245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9"/>
          <p:cNvSpPr/>
          <p:nvPr/>
        </p:nvSpPr>
        <p:spPr>
          <a:xfrm>
            <a:off x="108000" y="620640"/>
            <a:ext cx="4032360" cy="1944720"/>
          </a:xfrm>
          <a:prstGeom prst="cloudCallout">
            <a:avLst>
              <a:gd name="adj1" fmla="val 202990"/>
              <a:gd name="adj2" fmla="val -342162"/>
            </a:avLst>
          </a:prstGeom>
          <a:solidFill>
            <a:srgbClr val="ffffcc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每箱苹果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700360" y="4797360"/>
            <a:ext cx="4032360" cy="1727280"/>
          </a:xfrm>
          <a:prstGeom prst="cloudCallout">
            <a:avLst>
              <a:gd name="adj1" fmla="val 80157"/>
              <a:gd name="adj2" fmla="val -101472"/>
            </a:avLst>
          </a:prstGeom>
          <a:solidFill>
            <a:srgbClr val="ffffcc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箱要多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少钱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3" descr="pb_100007484"/>
          <p:cNvPicPr/>
          <p:nvPr/>
        </p:nvPicPr>
        <p:blipFill>
          <a:blip r:embed="rId1"/>
          <a:stretch/>
        </p:blipFill>
        <p:spPr>
          <a:xfrm>
            <a:off x="179280" y="256536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8"/>
          <p:cNvSpPr/>
          <p:nvPr/>
        </p:nvSpPr>
        <p:spPr>
          <a:xfrm>
            <a:off x="2771640" y="836640"/>
            <a:ext cx="5796000" cy="3384360"/>
          </a:xfrm>
          <a:prstGeom prst="cloudCallout">
            <a:avLst>
              <a:gd name="adj1" fmla="val 35509"/>
              <a:gd name="adj2" fmla="val 84569"/>
            </a:avLst>
          </a:prstGeom>
          <a:solidFill>
            <a:srgbClr val="ffffcc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4B398551300"/>
          <p:cNvPicPr/>
          <p:nvPr/>
        </p:nvPicPr>
        <p:blipFill>
          <a:blip r:embed="rId2"/>
          <a:stretch/>
        </p:blipFill>
        <p:spPr>
          <a:xfrm>
            <a:off x="7574040" y="5013360"/>
            <a:ext cx="1220760" cy="1442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7"/>
          <p:cNvSpPr/>
          <p:nvPr/>
        </p:nvSpPr>
        <p:spPr>
          <a:xfrm>
            <a:off x="3419640" y="154620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日记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丁丁要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这样的日记本，需要多少钱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-36360" y="905040"/>
            <a:ext cx="93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袋牛奶重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2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袋牛奶重多少千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2195640" y="1908000"/>
            <a:ext cx="4809960" cy="425772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"/>
          <p:cNvSpPr/>
          <p:nvPr/>
        </p:nvSpPr>
        <p:spPr>
          <a:xfrm>
            <a:off x="417600" y="6165720"/>
            <a:ext cx="92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826920" y="942840"/>
            <a:ext cx="76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~4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三个数字及小数点，任意组成小数乘一位整数的算式，并算出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0"/>
          <p:cNvGrpSpPr/>
          <p:nvPr/>
        </p:nvGrpSpPr>
        <p:grpSpPr>
          <a:xfrm>
            <a:off x="108000" y="3141720"/>
            <a:ext cx="8964720" cy="2374920"/>
            <a:chOff x="108000" y="3141720"/>
            <a:chExt cx="8964720" cy="2374920"/>
          </a:xfrm>
        </p:grpSpPr>
        <p:sp>
          <p:nvSpPr>
            <p:cNvPr id="241" name="AutoShape 28"/>
            <p:cNvSpPr/>
            <p:nvPr/>
          </p:nvSpPr>
          <p:spPr>
            <a:xfrm>
              <a:off x="108000" y="3141720"/>
              <a:ext cx="8964720" cy="2374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0"/>
            <p:cNvSpPr/>
            <p:nvPr/>
          </p:nvSpPr>
          <p:spPr>
            <a:xfrm>
              <a:off x="420840" y="3508200"/>
              <a:ext cx="223956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2.3×4=9.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3"/>
            <p:cNvSpPr/>
            <p:nvPr/>
          </p:nvSpPr>
          <p:spPr>
            <a:xfrm>
              <a:off x="347760" y="4300560"/>
              <a:ext cx="2620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3.2 ×4=12.8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3516480" y="3573360"/>
              <a:ext cx="23662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2.4 ×3=7.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3551400" y="4359240"/>
              <a:ext cx="2620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4.2 ×3=12.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6"/>
            <p:cNvSpPr/>
            <p:nvPr/>
          </p:nvSpPr>
          <p:spPr>
            <a:xfrm>
              <a:off x="6467760" y="3573360"/>
              <a:ext cx="23662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3.4 ×2=6.8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7"/>
            <p:cNvSpPr/>
            <p:nvPr/>
          </p:nvSpPr>
          <p:spPr>
            <a:xfrm>
              <a:off x="6467760" y="4365720"/>
              <a:ext cx="23662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4.3 ×2=8.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31" descr="4B398639347"/>
          <p:cNvPicPr/>
          <p:nvPr/>
        </p:nvPicPr>
        <p:blipFill>
          <a:blip r:embed="rId1"/>
          <a:stretch/>
        </p:blipFill>
        <p:spPr>
          <a:xfrm>
            <a:off x="8028000" y="5734080"/>
            <a:ext cx="866880" cy="799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2189160" y="2189160"/>
            <a:ext cx="4608360" cy="20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1B3E-A0F6-42AF-859F-B3F6624177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6"/>
          <p:cNvSpPr/>
          <p:nvPr/>
        </p:nvSpPr>
        <p:spPr>
          <a:xfrm>
            <a:off x="1643040" y="134136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7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678880" cy="401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shk"/>
          <p:cNvPicPr/>
          <p:nvPr/>
        </p:nvPicPr>
        <p:blipFill>
          <a:blip r:embed="rId3"/>
          <a:stretch/>
        </p:blipFill>
        <p:spPr>
          <a:xfrm>
            <a:off x="6156360" y="2997360"/>
            <a:ext cx="1203120" cy="28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4"/>
          <a:stretch/>
        </p:blipFill>
        <p:spPr>
          <a:xfrm>
            <a:off x="3851280" y="1833480"/>
            <a:ext cx="5148360" cy="476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1"/>
          <p:cNvSpPr/>
          <p:nvPr/>
        </p:nvSpPr>
        <p:spPr>
          <a:xfrm>
            <a:off x="6777000" y="5805360"/>
            <a:ext cx="209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402080" y="5805360"/>
            <a:ext cx="209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图片24"/>
          <p:cNvPicPr/>
          <p:nvPr/>
        </p:nvPicPr>
        <p:blipFill>
          <a:blip r:embed="rId5"/>
          <a:stretch/>
        </p:blipFill>
        <p:spPr>
          <a:xfrm>
            <a:off x="250920" y="4437000"/>
            <a:ext cx="1031760" cy="207648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6"/>
          <p:cNvGrpSpPr/>
          <p:nvPr/>
        </p:nvGrpSpPr>
        <p:grpSpPr>
          <a:xfrm>
            <a:off x="468360" y="2060640"/>
            <a:ext cx="3672000" cy="1873080"/>
            <a:chOff x="468360" y="2060640"/>
            <a:chExt cx="3672000" cy="1873080"/>
          </a:xfrm>
        </p:grpSpPr>
        <p:sp>
          <p:nvSpPr>
            <p:cNvPr id="60" name="AutoShape 34"/>
            <p:cNvSpPr/>
            <p:nvPr/>
          </p:nvSpPr>
          <p:spPr>
            <a:xfrm>
              <a:off x="468360" y="2060640"/>
              <a:ext cx="3672000" cy="18730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买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千克  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要多少钱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35" descr="图片10"/>
            <p:cNvPicPr/>
            <p:nvPr/>
          </p:nvPicPr>
          <p:blipFill>
            <a:blip r:embed="rId6"/>
            <a:stretch/>
          </p:blipFill>
          <p:spPr>
            <a:xfrm>
              <a:off x="2859120" y="2347920"/>
              <a:ext cx="488880" cy="6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WordArt 37"/>
          <p:cNvSpPr txBox="1"/>
          <p:nvPr/>
        </p:nvSpPr>
        <p:spPr>
          <a:xfrm>
            <a:off x="826920" y="189000"/>
            <a:ext cx="9144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4"/>
          <p:cNvSpPr/>
          <p:nvPr/>
        </p:nvSpPr>
        <p:spPr>
          <a:xfrm>
            <a:off x="3274920" y="4803840"/>
            <a:ext cx="2017800" cy="0"/>
          </a:xfrm>
          <a:prstGeom prst="line">
            <a:avLst/>
          </a:prstGeom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564000" y="48751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"/>
                <a:ea typeface="宋体"/>
              </a:rPr>
              <a:t>1 0 .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973680" y="263700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"/>
                <a:ea typeface="宋体"/>
              </a:rPr>
              <a:t>3 .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355920" y="4140360"/>
            <a:ext cx="4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"/>
                <a:ea typeface="宋体"/>
              </a:rPr>
              <a:t>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2000160" y="1268280"/>
            <a:ext cx="5451480" cy="64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华文新魏"/>
              </a:rPr>
              <a:t>3.5+3.5+3.5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3984480" y="3355920"/>
            <a:ext cx="13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"/>
                <a:ea typeface="宋体"/>
              </a:rPr>
              <a:t>3 .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3984480" y="4091040"/>
            <a:ext cx="13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"/>
                <a:ea typeface="宋体"/>
              </a:rPr>
              <a:t>3 .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5207040" y="127476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10.5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（元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8"/>
          <p:cNvSpPr/>
          <p:nvPr/>
        </p:nvSpPr>
        <p:spPr>
          <a:xfrm>
            <a:off x="2987640" y="907920"/>
            <a:ext cx="27367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cc"/>
                </a:solidFill>
                <a:latin typeface="Arial"/>
                <a:ea typeface="宋体"/>
              </a:rPr>
              <a:t>3.5×3=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3203640" y="22701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3.5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元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=3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元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203640" y="314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元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×3=9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3203640" y="40068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角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×3=15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203640" y="509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9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元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+15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角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宋体"/>
              </a:rPr>
              <a:t>=10.5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宋体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5"/>
          <p:cNvSpPr/>
          <p:nvPr/>
        </p:nvSpPr>
        <p:spPr>
          <a:xfrm>
            <a:off x="2409840" y="2054160"/>
            <a:ext cx="4681440" cy="2808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3674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7" descr="4B257553753"/>
          <p:cNvPicPr/>
          <p:nvPr/>
        </p:nvPicPr>
        <p:blipFill>
          <a:blip r:embed="rId1"/>
          <a:stretch/>
        </p:blipFill>
        <p:spPr>
          <a:xfrm>
            <a:off x="179280" y="6165720"/>
            <a:ext cx="4762440" cy="428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4B257553753"/>
          <p:cNvPicPr/>
          <p:nvPr/>
        </p:nvPicPr>
        <p:blipFill>
          <a:blip r:embed="rId2"/>
          <a:stretch/>
        </p:blipFill>
        <p:spPr>
          <a:xfrm>
            <a:off x="4284720" y="6165720"/>
            <a:ext cx="4762440" cy="428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6"/>
          <p:cNvSpPr/>
          <p:nvPr/>
        </p:nvSpPr>
        <p:spPr>
          <a:xfrm>
            <a:off x="1042920" y="2133720"/>
            <a:ext cx="3095640" cy="3600360"/>
          </a:xfrm>
          <a:prstGeom prst="rect">
            <a:avLst/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8"/>
          <p:cNvSpPr/>
          <p:nvPr/>
        </p:nvSpPr>
        <p:spPr>
          <a:xfrm>
            <a:off x="4932360" y="2133720"/>
            <a:ext cx="3095640" cy="3600360"/>
          </a:xfrm>
          <a:prstGeom prst="rect">
            <a:avLst/>
          </a:prstGeom>
          <a:solidFill>
            <a:srgbClr val="00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332000" y="43610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692360" y="443556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1 0 .5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24000" y="2995560"/>
            <a:ext cx="13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3 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332000" y="37162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627280" y="364500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203640" y="1125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宋体"/>
              </a:rPr>
              <a:t>3.5×3= 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315144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>
            <a:off x="3635280" y="328464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6215040" y="29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3 5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318280" y="37162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6613560" y="364500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5362560" y="4365720"/>
            <a:ext cx="237816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5854680" y="4443480"/>
            <a:ext cx="13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1 0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7112160" y="437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9"/>
          <p:cNvSpPr/>
          <p:nvPr/>
        </p:nvSpPr>
        <p:spPr>
          <a:xfrm flipH="1">
            <a:off x="3637080" y="4724280"/>
            <a:ext cx="23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4427640" y="620640"/>
            <a:ext cx="453708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645080" y="86688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一件儿童服装用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，做这样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套衣服需要布料多少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292720" y="3735360"/>
            <a:ext cx="3240000" cy="7642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宋体"/>
              </a:rPr>
              <a:t>0.72×5= 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0f870bcec4878f3f01e9288e"/>
          <p:cNvPicPr/>
          <p:nvPr/>
        </p:nvPicPr>
        <p:blipFill>
          <a:blip r:embed="rId1"/>
          <a:stretch/>
        </p:blipFill>
        <p:spPr>
          <a:xfrm>
            <a:off x="250920" y="620640"/>
            <a:ext cx="4211640" cy="5904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611280" y="189000"/>
            <a:ext cx="12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探究</a:t>
            </a:r>
            <a:endParaRPr b="1" lang="en-US" sz="36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987640" y="2421000"/>
            <a:ext cx="56880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187280" y="436572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463760" y="443556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3.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474920" y="30034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0 .7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135080" y="37162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338560" y="3645000"/>
            <a:ext cx="4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132000" y="1125360"/>
            <a:ext cx="338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宋体"/>
              </a:rPr>
              <a:t>0.72×5= 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3130560" y="3357720"/>
            <a:ext cx="32418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502320" y="3003480"/>
            <a:ext cx="8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7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6032520" y="37162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900840" y="3645000"/>
            <a:ext cx="2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6156360" y="4365720"/>
            <a:ext cx="12952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41960" y="444348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3 6 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059280" y="472428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130560" y="2708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扩大到它的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2987640" y="3860640"/>
            <a:ext cx="3179520" cy="952200"/>
            <a:chOff x="2987640" y="3860640"/>
            <a:chExt cx="3179520" cy="952200"/>
          </a:xfrm>
        </p:grpSpPr>
        <p:sp>
          <p:nvSpPr>
            <p:cNvPr id="117" name="Text Box 24"/>
            <p:cNvSpPr/>
            <p:nvPr/>
          </p:nvSpPr>
          <p:spPr>
            <a:xfrm>
              <a:off x="2987640" y="4076640"/>
              <a:ext cx="29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</a:rPr>
                <a:t>缩小到它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28"/>
            <p:cNvGrpSpPr/>
            <p:nvPr/>
          </p:nvGrpSpPr>
          <p:grpSpPr>
            <a:xfrm>
              <a:off x="4859280" y="3860640"/>
              <a:ext cx="1307880" cy="952200"/>
              <a:chOff x="4859280" y="3860640"/>
              <a:chExt cx="1307880" cy="952200"/>
            </a:xfrm>
          </p:grpSpPr>
          <p:sp>
            <p:nvSpPr>
              <p:cNvPr id="119" name="Text Box 25"/>
              <p:cNvSpPr/>
              <p:nvPr/>
            </p:nvSpPr>
            <p:spPr>
              <a:xfrm>
                <a:off x="4859280" y="4292280"/>
                <a:ext cx="130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10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6"/>
              <p:cNvSpPr/>
              <p:nvPr/>
            </p:nvSpPr>
            <p:spPr>
              <a:xfrm>
                <a:off x="5062320" y="38606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4930560" y="4365360"/>
                <a:ext cx="7207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Text Box 31"/>
          <p:cNvSpPr/>
          <p:nvPr/>
        </p:nvSpPr>
        <p:spPr>
          <a:xfrm>
            <a:off x="2340000" y="4437000"/>
            <a:ext cx="4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宋体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5"/>
          <p:cNvSpPr/>
          <p:nvPr/>
        </p:nvSpPr>
        <p:spPr>
          <a:xfrm>
            <a:off x="2987640" y="3714840"/>
            <a:ext cx="2303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781440" y="378936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4 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780000" y="234936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2 .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987640" y="30700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780000" y="3005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1 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203640" y="1125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宋体"/>
              </a:rPr>
              <a:t>2.3×12= 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4211640" y="2349360"/>
            <a:ext cx="14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274920" y="430056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2 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2987640" y="4941720"/>
            <a:ext cx="2303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274920" y="501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2  7 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4930920" y="2709720"/>
            <a:ext cx="1008000" cy="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084720" y="2421000"/>
            <a:ext cx="18003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一位小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7020000" y="2924280"/>
            <a:ext cx="0" cy="237636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 flipH="1">
            <a:off x="4859280" y="5300640"/>
            <a:ext cx="2160720" cy="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4067280" y="4959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dur="indefinite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73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74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1042920" y="1387080"/>
            <a:ext cx="7123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小数乘整数的一般方法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    ①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先将小数转化为整数；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    ② 按整数乘法算出积；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    ③ 确定积的小数点位置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6"/>
          <p:cNvSpPr txBox="1"/>
          <p:nvPr/>
        </p:nvSpPr>
        <p:spPr>
          <a:xfrm>
            <a:off x="755640" y="4762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13Z</dcterms:modified>
  <cp:revision>14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