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0213-A2B4-493C-AAB1-A97AC39A073A}" type="datetime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26/7/30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A3DE-E00E-4580-8A09-84074BDD3BD6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3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人教logo"/>
          <p:cNvPicPr/>
          <p:nvPr/>
        </p:nvPicPr>
        <p:blipFill>
          <a:blip r:embed="rId2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3"/>
          <a:stretch/>
        </p:blipFill>
        <p:spPr>
          <a:xfrm>
            <a:off x="684360" y="784080"/>
            <a:ext cx="785520" cy="78588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1459080" y="1987560"/>
            <a:ext cx="5198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数的近似数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200240" y="579600"/>
            <a:ext cx="57182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</a:rPr>
              <a:t>小数的意义和性质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9" name="矩形 8"/>
          <p:cNvSpPr/>
          <p:nvPr/>
        </p:nvSpPr>
        <p:spPr>
          <a:xfrm>
            <a:off x="3996000" y="610092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2"/>
          <p:cNvSpPr/>
          <p:nvPr/>
        </p:nvSpPr>
        <p:spPr>
          <a:xfrm>
            <a:off x="1012680" y="1714680"/>
            <a:ext cx="7231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按照要求写出表中小数的近似数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4889520" y="306216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6686640" y="3062160"/>
            <a:ext cx="9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4889520" y="353376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0" name="TextBox 9"/>
          <p:cNvSpPr/>
          <p:nvPr/>
        </p:nvSpPr>
        <p:spPr>
          <a:xfrm>
            <a:off x="6686640" y="3533760"/>
            <a:ext cx="9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1" name="TextBox 11"/>
          <p:cNvSpPr/>
          <p:nvPr/>
        </p:nvSpPr>
        <p:spPr>
          <a:xfrm>
            <a:off x="4889520" y="398628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2" name="TextBox 12"/>
          <p:cNvSpPr/>
          <p:nvPr/>
        </p:nvSpPr>
        <p:spPr>
          <a:xfrm>
            <a:off x="6686640" y="3986280"/>
            <a:ext cx="9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" name="TextBox 14"/>
          <p:cNvSpPr/>
          <p:nvPr/>
        </p:nvSpPr>
        <p:spPr>
          <a:xfrm>
            <a:off x="4889520" y="443232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6686640" y="4432320"/>
            <a:ext cx="9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1547640" y="5472000"/>
            <a:ext cx="44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监控：说一说你是怎么想的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3456000" y="353376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3456000" y="398628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3456000" y="443232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3456000" y="306216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474920" y="2612880"/>
          <a:ext cx="6553080" cy="2298600"/>
        </p:xfrm>
        <a:graphic>
          <a:graphicData uri="http://schemas.openxmlformats.org/drawingml/2006/table">
            <a:tbl>
              <a:tblPr/>
              <a:tblGrid>
                <a:gridCol w="1441440"/>
                <a:gridCol w="1638360"/>
                <a:gridCol w="1744560"/>
                <a:gridCol w="1728720"/>
              </a:tblGrid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保留整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保留一位小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保留两位小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9</a:t>
                      </a: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95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9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51</a:t>
                      </a: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4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0f0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6994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练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6"/>
          <p:cNvSpPr/>
          <p:nvPr/>
        </p:nvSpPr>
        <p:spPr>
          <a:xfrm>
            <a:off x="1000080" y="340344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近似数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的三位小数不止一个。   </a:t>
            </a:r>
            <a:r>
              <a:rPr b="1" lang="zh-CN" sz="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（   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1000080" y="289872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59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保留一位小数都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  </a:t>
            </a:r>
            <a:r>
              <a:rPr b="1" lang="zh-CN" sz="1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   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1000080" y="23954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精确到十分位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               （   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1000080" y="438624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9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保留两位小数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           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   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6" name="矩形 1"/>
          <p:cNvSpPr/>
          <p:nvPr/>
        </p:nvSpPr>
        <p:spPr>
          <a:xfrm>
            <a:off x="6507000" y="237636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7" name="矩形 7"/>
          <p:cNvSpPr/>
          <p:nvPr/>
        </p:nvSpPr>
        <p:spPr>
          <a:xfrm>
            <a:off x="6507000" y="288936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8" name="矩形 8"/>
          <p:cNvSpPr/>
          <p:nvPr/>
        </p:nvSpPr>
        <p:spPr>
          <a:xfrm>
            <a:off x="6507000" y="340344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9" name="矩形 9"/>
          <p:cNvSpPr/>
          <p:nvPr/>
        </p:nvSpPr>
        <p:spPr>
          <a:xfrm>
            <a:off x="6507000" y="388296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0" name="矩形 10"/>
          <p:cNvSpPr/>
          <p:nvPr/>
        </p:nvSpPr>
        <p:spPr>
          <a:xfrm>
            <a:off x="6507000" y="439596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1623960" y="5173560"/>
            <a:ext cx="44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监控：说一说你是怎么想的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2" name="Text Box 17"/>
          <p:cNvSpPr/>
          <p:nvPr/>
        </p:nvSpPr>
        <p:spPr>
          <a:xfrm>
            <a:off x="1000080" y="3882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在自然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之间，它约等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  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   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774720" y="1714680"/>
            <a:ext cx="8621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400" spc="-1" strike="noStrike">
                <a:solidFill>
                  <a:srgbClr val="1c1c1c"/>
                </a:solidFill>
                <a:latin typeface="Arial"/>
              </a:rPr>
              <a:t>下面的说法正确吗？正确的画“</a:t>
            </a:r>
            <a:r>
              <a:rPr b="1" lang="zh-CN" sz="2400" spc="-1" strike="noStrike">
                <a:solidFill>
                  <a:srgbClr val="1c1c1c"/>
                </a:solidFill>
                <a:latin typeface="楷体_GB2312"/>
              </a:rPr>
              <a:t>√ </a:t>
            </a:r>
            <a:r>
              <a:rPr b="1" lang="zh-CN" sz="2400" spc="-1" strike="noStrike">
                <a:solidFill>
                  <a:srgbClr val="1c1c1c"/>
                </a:solidFill>
                <a:latin typeface="Arial"/>
              </a:rPr>
              <a:t>”，错误的画“ 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×</a:t>
            </a:r>
            <a:r>
              <a:rPr b="1" lang="zh-CN" sz="2400" spc="-1" strike="noStrike">
                <a:solidFill>
                  <a:srgbClr val="1c1c1c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1c1c1c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6994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练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文本框 2"/>
          <p:cNvSpPr/>
          <p:nvPr/>
        </p:nvSpPr>
        <p:spPr>
          <a:xfrm>
            <a:off x="17640" y="6238800"/>
            <a:ext cx="68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下载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45720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四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971640" y="2708280"/>
            <a:ext cx="6192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练习十三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C3D6-0615-491C-A136-F0B4F704FCF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6994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铺垫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695160" y="1498680"/>
            <a:ext cx="826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把下面各数省略万位后面的尾数，求出它们的近似数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8653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　  　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874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　　　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2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4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　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980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　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87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1935000" y="274788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4129200" y="229248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6243480" y="229248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1935000" y="229248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4129200" y="274788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6243480" y="274788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826920" y="4853160"/>
            <a:ext cx="23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4379760" y="48531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988920" y="5635800"/>
            <a:ext cx="81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小结：整数中求一个数的近似数，我们用的是“四舍五入”的方法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61" name="组合 12"/>
          <p:cNvGrpSpPr/>
          <p:nvPr/>
        </p:nvGrpSpPr>
        <p:grpSpPr>
          <a:xfrm>
            <a:off x="695160" y="3249720"/>
            <a:ext cx="7732800" cy="1495800"/>
            <a:chOff x="695160" y="3249720"/>
            <a:chExt cx="7732800" cy="1495800"/>
          </a:xfrm>
        </p:grpSpPr>
        <p:sp>
          <p:nvSpPr>
            <p:cNvPr id="62" name="矩形 2"/>
            <p:cNvSpPr/>
            <p:nvPr/>
          </p:nvSpPr>
          <p:spPr>
            <a:xfrm>
              <a:off x="695160" y="3249720"/>
              <a:ext cx="7732800" cy="14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.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下面的     里可以填上哪些数字？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4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万　　　　　　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7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万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3" name="矩形 1"/>
            <p:cNvSpPr/>
            <p:nvPr/>
          </p:nvSpPr>
          <p:spPr>
            <a:xfrm>
              <a:off x="2094840" y="3573360"/>
              <a:ext cx="359640" cy="360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4" name="矩形 13"/>
            <p:cNvSpPr/>
            <p:nvPr/>
          </p:nvSpPr>
          <p:spPr>
            <a:xfrm>
              <a:off x="1479600" y="4250160"/>
              <a:ext cx="359640" cy="360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5" name="矩形 14"/>
            <p:cNvSpPr/>
            <p:nvPr/>
          </p:nvSpPr>
          <p:spPr>
            <a:xfrm>
              <a:off x="4984560" y="4250160"/>
              <a:ext cx="359640" cy="360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2843280" y="436572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67" name="Picture 10" descr=""/>
          <p:cNvPicPr/>
          <p:nvPr/>
        </p:nvPicPr>
        <p:blipFill>
          <a:blip r:embed="rId1"/>
          <a:stretch/>
        </p:blipFill>
        <p:spPr>
          <a:xfrm>
            <a:off x="2224080" y="2352600"/>
            <a:ext cx="4265640" cy="33530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6994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2152800" y="596736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你知道豆豆的身高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612720" y="1584360"/>
            <a:ext cx="5929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导入新课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4"/>
          <p:cNvSpPr/>
          <p:nvPr/>
        </p:nvSpPr>
        <p:spPr>
          <a:xfrm>
            <a:off x="1332000" y="51562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两位同学所说豆豆的身高，与实际身高为什么不一样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2" name="矩形 15"/>
          <p:cNvSpPr/>
          <p:nvPr/>
        </p:nvSpPr>
        <p:spPr>
          <a:xfrm>
            <a:off x="1332000" y="606420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小结：生活中根据需要，经常会用“四舍五入”法求小数的近似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2093760" y="55879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预设：他们说的是豆豆身高的近似值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4" name="TextBox 30"/>
          <p:cNvSpPr/>
          <p:nvPr/>
        </p:nvSpPr>
        <p:spPr>
          <a:xfrm>
            <a:off x="1039680" y="2203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引入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612720" y="1584360"/>
            <a:ext cx="5929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讨论求小数近似数的方法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6994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77" name="Picture 10" descr=""/>
          <p:cNvPicPr/>
          <p:nvPr/>
        </p:nvPicPr>
        <p:blipFill>
          <a:blip r:embed="rId1"/>
          <a:stretch/>
        </p:blipFill>
        <p:spPr>
          <a:xfrm>
            <a:off x="1363680" y="2759040"/>
            <a:ext cx="2763720" cy="2170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7" descr=""/>
          <p:cNvPicPr/>
          <p:nvPr/>
        </p:nvPicPr>
        <p:blipFill>
          <a:blip r:embed="rId2"/>
          <a:stretch/>
        </p:blipFill>
        <p:spPr>
          <a:xfrm>
            <a:off x="4572000" y="2898720"/>
            <a:ext cx="320040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4"/>
          <p:cNvSpPr/>
          <p:nvPr/>
        </p:nvSpPr>
        <p:spPr>
          <a:xfrm>
            <a:off x="3252960" y="27874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84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" name="矩形 15"/>
          <p:cNvSpPr/>
          <p:nvPr/>
        </p:nvSpPr>
        <p:spPr>
          <a:xfrm>
            <a:off x="3821040" y="2873520"/>
            <a:ext cx="189000" cy="285480"/>
          </a:xfrm>
          <a:prstGeom prst="rect">
            <a:avLst/>
          </a:prstGeom>
          <a:solidFill>
            <a:srgbClr val="66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81" name="Group 20"/>
          <p:cNvGrpSpPr/>
          <p:nvPr/>
        </p:nvGrpSpPr>
        <p:grpSpPr>
          <a:xfrm>
            <a:off x="3209760" y="3223800"/>
            <a:ext cx="2140200" cy="683640"/>
            <a:chOff x="3209760" y="3223800"/>
            <a:chExt cx="2140200" cy="683640"/>
          </a:xfrm>
        </p:grpSpPr>
        <p:cxnSp>
          <p:nvCxnSpPr>
            <p:cNvPr id="82" name="直接箭头连接符 17"/>
            <p:cNvCxnSpPr/>
            <p:nvPr/>
          </p:nvCxnSpPr>
          <p:spPr>
            <a:xfrm flipV="1">
              <a:off x="3894480" y="3223800"/>
              <a:ext cx="2520" cy="288000"/>
            </a:xfrm>
            <a:prstGeom prst="straightConnector1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</p:cxnSp>
        <p:sp>
          <p:nvSpPr>
            <p:cNvPr id="83" name="TextBox 18"/>
            <p:cNvSpPr/>
            <p:nvPr/>
          </p:nvSpPr>
          <p:spPr>
            <a:xfrm>
              <a:off x="3209760" y="3447720"/>
              <a:ext cx="214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小于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，舍去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84" name="TextBox 19"/>
          <p:cNvSpPr/>
          <p:nvPr/>
        </p:nvSpPr>
        <p:spPr>
          <a:xfrm>
            <a:off x="3252960" y="4152960"/>
            <a:ext cx="9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84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5" name="矩形 20"/>
          <p:cNvSpPr/>
          <p:nvPr/>
        </p:nvSpPr>
        <p:spPr>
          <a:xfrm>
            <a:off x="3683160" y="4238640"/>
            <a:ext cx="161640" cy="285840"/>
          </a:xfrm>
          <a:prstGeom prst="rect">
            <a:avLst/>
          </a:prstGeom>
          <a:solidFill>
            <a:srgbClr val="66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86" name="Group 21"/>
          <p:cNvGrpSpPr/>
          <p:nvPr/>
        </p:nvGrpSpPr>
        <p:grpSpPr>
          <a:xfrm>
            <a:off x="3209760" y="4622040"/>
            <a:ext cx="3148200" cy="683280"/>
            <a:chOff x="3209760" y="4622040"/>
            <a:chExt cx="3148200" cy="683280"/>
          </a:xfrm>
        </p:grpSpPr>
        <p:cxnSp>
          <p:nvCxnSpPr>
            <p:cNvPr id="87" name="直接箭头连接符 21"/>
            <p:cNvCxnSpPr/>
            <p:nvPr/>
          </p:nvCxnSpPr>
          <p:spPr>
            <a:xfrm flipV="1">
              <a:off x="3751560" y="4622040"/>
              <a:ext cx="2520" cy="285480"/>
            </a:xfrm>
            <a:prstGeom prst="straightConnector1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</p:cxnSp>
        <p:sp>
          <p:nvSpPr>
            <p:cNvPr id="88" name="TextBox 22"/>
            <p:cNvSpPr/>
            <p:nvPr/>
          </p:nvSpPr>
          <p:spPr>
            <a:xfrm>
              <a:off x="3209760" y="4845600"/>
              <a:ext cx="31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大于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，向前一位进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89" name="TextBox 29"/>
          <p:cNvSpPr/>
          <p:nvPr/>
        </p:nvSpPr>
        <p:spPr>
          <a:xfrm>
            <a:off x="1371600" y="53578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结：如果保留两位小数，就要把千分位上的数省略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果保留一位小数，就要把百分位上和后面的数省略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表示近似数时，小数末尾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能去掉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3914640" y="27874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1" name="TextBox 19"/>
          <p:cNvSpPr/>
          <p:nvPr/>
        </p:nvSpPr>
        <p:spPr>
          <a:xfrm>
            <a:off x="3914640" y="41529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2" name="TextBox 16"/>
          <p:cNvSpPr/>
          <p:nvPr/>
        </p:nvSpPr>
        <p:spPr>
          <a:xfrm>
            <a:off x="2182680" y="27860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预设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3" name="TextBox 17"/>
          <p:cNvSpPr/>
          <p:nvPr/>
        </p:nvSpPr>
        <p:spPr>
          <a:xfrm>
            <a:off x="2182680" y="41511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预设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4" name="TextBox 30"/>
          <p:cNvSpPr/>
          <p:nvPr/>
        </p:nvSpPr>
        <p:spPr>
          <a:xfrm>
            <a:off x="1039680" y="2203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自主尝试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6994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612720" y="1584360"/>
            <a:ext cx="5929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讨论求小数近似数的方法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23"/>
          <p:cNvSpPr/>
          <p:nvPr/>
        </p:nvSpPr>
        <p:spPr>
          <a:xfrm>
            <a:off x="2300400" y="3538440"/>
            <a:ext cx="9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84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" name="矩形 24"/>
          <p:cNvSpPr/>
          <p:nvPr/>
        </p:nvSpPr>
        <p:spPr>
          <a:xfrm>
            <a:off x="2732040" y="3613320"/>
            <a:ext cx="162000" cy="285480"/>
          </a:xfrm>
          <a:prstGeom prst="rect">
            <a:avLst/>
          </a:prstGeom>
          <a:solidFill>
            <a:srgbClr val="66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9" name="Group 17"/>
          <p:cNvGrpSpPr/>
          <p:nvPr/>
        </p:nvGrpSpPr>
        <p:grpSpPr>
          <a:xfrm>
            <a:off x="2101680" y="3933360"/>
            <a:ext cx="3078360" cy="745200"/>
            <a:chOff x="2101680" y="3933360"/>
            <a:chExt cx="3078360" cy="745200"/>
          </a:xfrm>
        </p:grpSpPr>
        <p:cxnSp>
          <p:nvCxnSpPr>
            <p:cNvPr id="100" name="直接箭头连接符 25"/>
            <p:cNvCxnSpPr/>
            <p:nvPr/>
          </p:nvCxnSpPr>
          <p:spPr>
            <a:xfrm flipV="1">
              <a:off x="2805120" y="3933360"/>
              <a:ext cx="2160" cy="285840"/>
            </a:xfrm>
            <a:prstGeom prst="straightConnector1">
              <a:avLst/>
            </a:prstGeom>
            <a:ln w="28440">
              <a:solidFill>
                <a:srgbClr val="ff0000"/>
              </a:solidFill>
              <a:round/>
              <a:tailEnd len="med" type="arrow" w="med"/>
            </a:ln>
          </p:spPr>
        </p:cxnSp>
        <p:sp>
          <p:nvSpPr>
            <p:cNvPr id="101" name="TextBox 27"/>
            <p:cNvSpPr/>
            <p:nvPr/>
          </p:nvSpPr>
          <p:spPr>
            <a:xfrm>
              <a:off x="2101680" y="4218840"/>
              <a:ext cx="307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大于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，向前一位进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02" name="TextBox 26"/>
          <p:cNvSpPr/>
          <p:nvPr/>
        </p:nvSpPr>
        <p:spPr>
          <a:xfrm>
            <a:off x="1835280" y="28954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想一想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84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≈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保留整数）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3" name="TextBox 12"/>
          <p:cNvSpPr/>
          <p:nvPr/>
        </p:nvSpPr>
        <p:spPr>
          <a:xfrm>
            <a:off x="1332000" y="5505480"/>
            <a:ext cx="73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讨论：保留整数得到的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和保留一位小数得到的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一样吗？末尾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能去掉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4" name="TextBox 23"/>
          <p:cNvSpPr/>
          <p:nvPr/>
        </p:nvSpPr>
        <p:spPr>
          <a:xfrm>
            <a:off x="2944800" y="3538440"/>
            <a:ext cx="12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5" name="矩形 17"/>
          <p:cNvSpPr/>
          <p:nvPr/>
        </p:nvSpPr>
        <p:spPr>
          <a:xfrm>
            <a:off x="1332000" y="49579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小结：如果保留整数，就要把十分位和后面的数省略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6994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TextBox 30"/>
          <p:cNvSpPr/>
          <p:nvPr/>
        </p:nvSpPr>
        <p:spPr>
          <a:xfrm>
            <a:off x="1039680" y="2203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自主尝试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612720" y="1584360"/>
            <a:ext cx="5929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讨论求小数近似数的方法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2"/>
          <p:cNvSpPr/>
          <p:nvPr/>
        </p:nvSpPr>
        <p:spPr>
          <a:xfrm>
            <a:off x="1876320" y="2962440"/>
            <a:ext cx="55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我们是怎么求出小数近似数的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0" name="TextBox 15"/>
          <p:cNvSpPr/>
          <p:nvPr/>
        </p:nvSpPr>
        <p:spPr>
          <a:xfrm>
            <a:off x="1876320" y="3753000"/>
            <a:ext cx="671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小结：求近似数时，保留整数，表示精确到个位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保留一位小数，表示精确到十分位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保留两位小数，表示精确到百分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保留哪位，就要把这位后面的数都省略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1" name="TextBox 30"/>
          <p:cNvSpPr/>
          <p:nvPr/>
        </p:nvSpPr>
        <p:spPr>
          <a:xfrm>
            <a:off x="1039680" y="2203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提炼方法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6994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612720" y="1584360"/>
            <a:ext cx="5929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讨论求小数近似数的方法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6994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练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1219320" y="2421000"/>
            <a:ext cx="64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6      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06      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987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保留两位小数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1914480" y="3706920"/>
            <a:ext cx="271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1914480" y="4268880"/>
            <a:ext cx="271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0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1914480" y="4829040"/>
            <a:ext cx="271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98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TextBox 14"/>
          <p:cNvSpPr/>
          <p:nvPr/>
        </p:nvSpPr>
        <p:spPr>
          <a:xfrm>
            <a:off x="1219320" y="3029040"/>
            <a:ext cx="64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2        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8          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548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保留一位小数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4896000" y="3706920"/>
            <a:ext cx="27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4896000" y="4268880"/>
            <a:ext cx="27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4896000" y="4829040"/>
            <a:ext cx="27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54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1914480" y="5661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监控：你是怎样取近似值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012680" y="1714680"/>
            <a:ext cx="51436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求下面小数的近似数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20"/>
          <p:cNvSpPr/>
          <p:nvPr/>
        </p:nvSpPr>
        <p:spPr>
          <a:xfrm>
            <a:off x="1219320" y="2421000"/>
            <a:ext cx="68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7        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       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8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精确到十分位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TextBox 21"/>
          <p:cNvSpPr/>
          <p:nvPr/>
        </p:nvSpPr>
        <p:spPr>
          <a:xfrm>
            <a:off x="1219320" y="3032280"/>
            <a:ext cx="753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44      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8        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2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省略百分位后面的尾数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1876320" y="3662280"/>
            <a:ext cx="271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1876320" y="4221000"/>
            <a:ext cx="271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1876320" y="4780080"/>
            <a:ext cx="271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4091040" y="3662280"/>
            <a:ext cx="27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4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4091040" y="4221000"/>
            <a:ext cx="27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4091040" y="4780080"/>
            <a:ext cx="27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1876320" y="56973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监控：你是怎样取近似值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1012680" y="1714680"/>
            <a:ext cx="51436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求下面各小数的近似数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6994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练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8:31Z</dcterms:modified>
  <cp:revision>55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