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A966-7EF9-4B47-9C60-8CD2146C68DC}" type="datetime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26/7/31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95C6-9620-4A03-A093-1DE6C7C0463F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0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人教logo"/>
          <p:cNvPicPr/>
          <p:nvPr/>
        </p:nvPicPr>
        <p:blipFill>
          <a:blip r:embed="rId2"/>
          <a:stretch/>
        </p:blipFill>
        <p:spPr>
          <a:xfrm>
            <a:off x="468360" y="6093000"/>
            <a:ext cx="3168720" cy="347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\\192.168.1.3\临时中转站1_以本人姓名建目录\开发中心-多媒体部\02美术部\晨会文件\04宁煌\人教数学教参\04.png"/>
          <p:cNvPicPr/>
          <p:nvPr/>
        </p:nvPicPr>
        <p:blipFill>
          <a:blip r:embed="rId3"/>
          <a:stretch/>
        </p:blipFill>
        <p:spPr>
          <a:xfrm>
            <a:off x="684360" y="784080"/>
            <a:ext cx="785520" cy="78588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1220760" y="1987560"/>
            <a:ext cx="567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小数点移动引起小数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大小的变化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1200240" y="579600"/>
            <a:ext cx="57182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</a:rPr>
              <a:t>小数的意义和性质</a:t>
            </a:r>
            <a:endParaRPr b="1" lang="en-US" sz="4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9" name="矩形 8"/>
          <p:cNvSpPr/>
          <p:nvPr/>
        </p:nvSpPr>
        <p:spPr>
          <a:xfrm>
            <a:off x="4048560" y="609300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5"/>
          <p:cNvGrpSpPr/>
          <p:nvPr/>
        </p:nvGrpSpPr>
        <p:grpSpPr>
          <a:xfrm>
            <a:off x="5927040" y="2852280"/>
            <a:ext cx="911880" cy="2348280"/>
            <a:chOff x="5927040" y="2852280"/>
            <a:chExt cx="911880" cy="2348280"/>
          </a:xfrm>
        </p:grpSpPr>
        <p:cxnSp>
          <p:nvCxnSpPr>
            <p:cNvPr id="105" name="直接箭头连接符 12"/>
            <p:cNvCxnSpPr/>
            <p:nvPr/>
          </p:nvCxnSpPr>
          <p:spPr>
            <a:xfrm flipV="1">
              <a:off x="6288120" y="2852280"/>
              <a:ext cx="2160" cy="2348640"/>
            </a:xfrm>
            <a:prstGeom prst="straightConnector1">
              <a:avLst/>
            </a:prstGeom>
            <a:ln w="28440">
              <a:solidFill>
                <a:srgbClr val="ff0000"/>
              </a:solidFill>
              <a:round/>
              <a:tailEnd len="med" type="arrow" w="med"/>
            </a:ln>
          </p:spPr>
        </p:cxnSp>
        <p:sp>
          <p:nvSpPr>
            <p:cNvPr id="106" name="TextBox 14"/>
            <p:cNvSpPr/>
            <p:nvPr/>
          </p:nvSpPr>
          <p:spPr>
            <a:xfrm>
              <a:off x="5927040" y="2960640"/>
              <a:ext cx="911880" cy="19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从下往上观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07" name="TextBox 5"/>
          <p:cNvSpPr/>
          <p:nvPr/>
        </p:nvSpPr>
        <p:spPr>
          <a:xfrm>
            <a:off x="1671480" y="5600880"/>
            <a:ext cx="68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小数点的移动与金箍棒的长短有什么关系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6994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创设情境，探究规律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09" name="组合 12"/>
          <p:cNvGrpSpPr/>
          <p:nvPr/>
        </p:nvGrpSpPr>
        <p:grpSpPr>
          <a:xfrm>
            <a:off x="2487600" y="2957400"/>
            <a:ext cx="3452760" cy="2127240"/>
            <a:chOff x="2487600" y="2957400"/>
            <a:chExt cx="3452760" cy="2127240"/>
          </a:xfrm>
        </p:grpSpPr>
        <p:sp>
          <p:nvSpPr>
            <p:cNvPr id="110" name="圆角矩形 13"/>
            <p:cNvSpPr/>
            <p:nvPr/>
          </p:nvSpPr>
          <p:spPr>
            <a:xfrm>
              <a:off x="2556360" y="2957400"/>
              <a:ext cx="3207600" cy="2127240"/>
            </a:xfrm>
            <a:prstGeom prst="roundRect">
              <a:avLst>
                <a:gd name="adj" fmla="val 16667"/>
              </a:avLst>
            </a:prstGeom>
            <a:solidFill>
              <a:srgbClr val="dfdff5"/>
            </a:solidFill>
            <a:ln w="19080">
              <a:solidFill>
                <a:srgbClr val="703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1" name="TextBox 8"/>
            <p:cNvSpPr/>
            <p:nvPr/>
          </p:nvSpPr>
          <p:spPr>
            <a:xfrm>
              <a:off x="2487600" y="3060360"/>
              <a:ext cx="15001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.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9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.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9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.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9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9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2" name="TextBox 15"/>
            <p:cNvSpPr/>
            <p:nvPr/>
          </p:nvSpPr>
          <p:spPr>
            <a:xfrm>
              <a:off x="3797280" y="3060360"/>
              <a:ext cx="21430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9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m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9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m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90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m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900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m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13" name="Rectangle 2"/>
          <p:cNvSpPr/>
          <p:nvPr/>
        </p:nvSpPr>
        <p:spPr>
          <a:xfrm>
            <a:off x="395280" y="1584360"/>
            <a:ext cx="853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（二）探究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小数点的移动与小数大小变化的关系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223920" y="190440"/>
            <a:ext cx="869616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1"/>
          <p:cNvSpPr/>
          <p:nvPr/>
        </p:nvSpPr>
        <p:spPr>
          <a:xfrm>
            <a:off x="4071960" y="510696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6" name="TextBox 11"/>
          <p:cNvSpPr/>
          <p:nvPr/>
        </p:nvSpPr>
        <p:spPr>
          <a:xfrm>
            <a:off x="4152960" y="568332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7" name="Text Box 31"/>
          <p:cNvSpPr/>
          <p:nvPr/>
        </p:nvSpPr>
        <p:spPr>
          <a:xfrm>
            <a:off x="7226280" y="5288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8" name="Text Box 35"/>
          <p:cNvSpPr/>
          <p:nvPr/>
        </p:nvSpPr>
        <p:spPr>
          <a:xfrm>
            <a:off x="7250040" y="5867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6994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创设情境，探究规律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20" name="组合 22"/>
          <p:cNvGrpSpPr/>
          <p:nvPr/>
        </p:nvGrpSpPr>
        <p:grpSpPr>
          <a:xfrm>
            <a:off x="1332000" y="2244600"/>
            <a:ext cx="4510080" cy="1838520"/>
            <a:chOff x="1332000" y="2244600"/>
            <a:chExt cx="4510080" cy="1838520"/>
          </a:xfrm>
        </p:grpSpPr>
        <p:pic>
          <p:nvPicPr>
            <p:cNvPr id="121" name="Picture 15" descr="{DB0FF18A-1213-4905-8199-B027C4FA0357}副本"/>
            <p:cNvPicPr/>
            <p:nvPr/>
          </p:nvPicPr>
          <p:blipFill>
            <a:blip r:embed="rId1"/>
            <a:stretch/>
          </p:blipFill>
          <p:spPr>
            <a:xfrm>
              <a:off x="1332000" y="2244600"/>
              <a:ext cx="1361880" cy="18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AutoShape 27"/>
            <p:cNvSpPr/>
            <p:nvPr/>
          </p:nvSpPr>
          <p:spPr>
            <a:xfrm>
              <a:off x="3059280" y="2676240"/>
              <a:ext cx="2782800" cy="504720"/>
            </a:xfrm>
            <a:prstGeom prst="wedgeRoundRectCallout">
              <a:avLst>
                <a:gd name="adj1" fmla="val -58500"/>
                <a:gd name="adj2" fmla="val -1982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你发现了什么规律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23" name="Rectangle 2"/>
          <p:cNvSpPr/>
          <p:nvPr/>
        </p:nvSpPr>
        <p:spPr>
          <a:xfrm>
            <a:off x="395280" y="1584360"/>
            <a:ext cx="853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（二）探究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小数点的移动与小数大小变化的关系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24" name="组合 7"/>
          <p:cNvGrpSpPr/>
          <p:nvPr/>
        </p:nvGrpSpPr>
        <p:grpSpPr>
          <a:xfrm>
            <a:off x="601560" y="4076640"/>
            <a:ext cx="8510760" cy="2542680"/>
            <a:chOff x="601560" y="4076640"/>
            <a:chExt cx="8510760" cy="2542680"/>
          </a:xfrm>
        </p:grpSpPr>
        <p:grpSp>
          <p:nvGrpSpPr>
            <p:cNvPr id="125" name="Group 26"/>
            <p:cNvGrpSpPr/>
            <p:nvPr/>
          </p:nvGrpSpPr>
          <p:grpSpPr>
            <a:xfrm>
              <a:off x="6831000" y="4309920"/>
              <a:ext cx="504720" cy="815400"/>
              <a:chOff x="6831000" y="4309920"/>
              <a:chExt cx="504720" cy="815400"/>
            </a:xfrm>
          </p:grpSpPr>
          <p:sp>
            <p:nvSpPr>
              <p:cNvPr id="126" name="Text Box 27"/>
              <p:cNvSpPr/>
              <p:nvPr/>
            </p:nvSpPr>
            <p:spPr>
              <a:xfrm>
                <a:off x="6831000" y="46656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27" name="Text Box 28"/>
              <p:cNvSpPr/>
              <p:nvPr/>
            </p:nvSpPr>
            <p:spPr>
              <a:xfrm>
                <a:off x="6902640" y="43099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28" name="Line 29"/>
              <p:cNvSpPr/>
              <p:nvPr/>
            </p:nvSpPr>
            <p:spPr>
              <a:xfrm>
                <a:off x="6902640" y="472896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29" name="组合 6"/>
            <p:cNvGrpSpPr/>
            <p:nvPr/>
          </p:nvGrpSpPr>
          <p:grpSpPr>
            <a:xfrm>
              <a:off x="601560" y="4076640"/>
              <a:ext cx="8510760" cy="2542680"/>
              <a:chOff x="601560" y="4076640"/>
              <a:chExt cx="8510760" cy="2542680"/>
            </a:xfrm>
          </p:grpSpPr>
          <p:sp>
            <p:nvSpPr>
              <p:cNvPr id="130" name="TextBox 13"/>
              <p:cNvSpPr/>
              <p:nvPr/>
            </p:nvSpPr>
            <p:spPr>
              <a:xfrm>
                <a:off x="601560" y="4076640"/>
                <a:ext cx="8510760" cy="254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小数点向左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>
                  <a:lnSpc>
                    <a:spcPct val="15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移动一位，相当于把原数除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，小数就缩小到原数的    ；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>
                  <a:lnSpc>
                    <a:spcPct val="15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移动两位，相当于把原数除以（   ），小数就缩小到原数      ；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移动三位，相当于把原数除以（    ），小数就缩小到原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</a:rPr>
                  <a:t>     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；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……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grpSp>
            <p:nvGrpSpPr>
              <p:cNvPr id="131" name="组合 2"/>
              <p:cNvGrpSpPr/>
              <p:nvPr/>
            </p:nvGrpSpPr>
            <p:grpSpPr>
              <a:xfrm>
                <a:off x="6870960" y="4930560"/>
                <a:ext cx="1433520" cy="818280"/>
                <a:chOff x="6870960" y="4930560"/>
                <a:chExt cx="1433520" cy="818280"/>
              </a:xfrm>
            </p:grpSpPr>
            <p:grpSp>
              <p:nvGrpSpPr>
                <p:cNvPr id="132" name="Group 39"/>
                <p:cNvGrpSpPr/>
                <p:nvPr/>
              </p:nvGrpSpPr>
              <p:grpSpPr>
                <a:xfrm>
                  <a:off x="7281360" y="4930560"/>
                  <a:ext cx="577800" cy="459720"/>
                  <a:chOff x="7281360" y="4930560"/>
                  <a:chExt cx="577800" cy="459720"/>
                </a:xfrm>
              </p:grpSpPr>
              <p:sp>
                <p:nvSpPr>
                  <p:cNvPr id="133" name="Text Box 32"/>
                  <p:cNvSpPr/>
                  <p:nvPr/>
                </p:nvSpPr>
                <p:spPr>
                  <a:xfrm>
                    <a:off x="7421040" y="4930560"/>
                    <a:ext cx="2998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34" name="Line 33"/>
                  <p:cNvSpPr/>
                  <p:nvPr/>
                </p:nvSpPr>
                <p:spPr>
                  <a:xfrm>
                    <a:off x="7281360" y="5333760"/>
                    <a:ext cx="57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sp>
              <p:nvSpPr>
                <p:cNvPr id="135" name="Text Box 29"/>
                <p:cNvSpPr/>
                <p:nvPr/>
              </p:nvSpPr>
              <p:spPr>
                <a:xfrm>
                  <a:off x="6870960" y="5289120"/>
                  <a:ext cx="1433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楷体_GB2312"/>
                    </a:rPr>
                    <a:t>（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   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楷体_GB2312"/>
                    </a:rPr>
                    <a:t>）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136" name="组合 4"/>
              <p:cNvGrpSpPr/>
              <p:nvPr/>
            </p:nvGrpSpPr>
            <p:grpSpPr>
              <a:xfrm>
                <a:off x="7032600" y="5506920"/>
                <a:ext cx="1433520" cy="811440"/>
                <a:chOff x="7032600" y="5506920"/>
                <a:chExt cx="1433520" cy="811440"/>
              </a:xfrm>
            </p:grpSpPr>
            <p:grpSp>
              <p:nvGrpSpPr>
                <p:cNvPr id="137" name="Group 40"/>
                <p:cNvGrpSpPr/>
                <p:nvPr/>
              </p:nvGrpSpPr>
              <p:grpSpPr>
                <a:xfrm>
                  <a:off x="7433280" y="5506920"/>
                  <a:ext cx="625320" cy="459720"/>
                  <a:chOff x="7433280" y="5506920"/>
                  <a:chExt cx="625320" cy="459720"/>
                </a:xfrm>
              </p:grpSpPr>
              <p:sp>
                <p:nvSpPr>
                  <p:cNvPr id="138" name="Text Box 36"/>
                  <p:cNvSpPr/>
                  <p:nvPr/>
                </p:nvSpPr>
                <p:spPr>
                  <a:xfrm>
                    <a:off x="7596720" y="5506920"/>
                    <a:ext cx="2995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39" name="Line 37"/>
                  <p:cNvSpPr/>
                  <p:nvPr/>
                </p:nvSpPr>
                <p:spPr>
                  <a:xfrm>
                    <a:off x="7433280" y="5914800"/>
                    <a:ext cx="6253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sp>
              <p:nvSpPr>
                <p:cNvPr id="140" name="Text Box 29"/>
                <p:cNvSpPr/>
                <p:nvPr/>
              </p:nvSpPr>
              <p:spPr>
                <a:xfrm>
                  <a:off x="7032600" y="5858640"/>
                  <a:ext cx="1433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楷体_GB2312"/>
                    </a:rPr>
                    <a:t>（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    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楷体_GB2312"/>
                    </a:rPr>
                    <a:t>）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5"/>
          <p:cNvSpPr/>
          <p:nvPr/>
        </p:nvSpPr>
        <p:spPr>
          <a:xfrm>
            <a:off x="558720" y="22003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说一说我们发现的规律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2" name="TextBox 9"/>
          <p:cNvSpPr/>
          <p:nvPr/>
        </p:nvSpPr>
        <p:spPr>
          <a:xfrm>
            <a:off x="542880" y="2604960"/>
            <a:ext cx="847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小数点向右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移动一位，相当于把原数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，小数就扩大到原数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倍；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移动两位，相当于把原数乘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），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小数就扩大到原数的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倍；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移动三位，相当于把原数乘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，小数就扩大到原数的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倍；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6994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创设情境，探究规律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395280" y="1584360"/>
            <a:ext cx="853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（二）探究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小数点的移动与小数大小变化的关系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45" name="Group 80"/>
          <p:cNvGrpSpPr/>
          <p:nvPr/>
        </p:nvGrpSpPr>
        <p:grpSpPr>
          <a:xfrm>
            <a:off x="531720" y="4484520"/>
            <a:ext cx="8477280" cy="2288520"/>
            <a:chOff x="531720" y="4484520"/>
            <a:chExt cx="8477280" cy="2288520"/>
          </a:xfrm>
        </p:grpSpPr>
        <p:sp>
          <p:nvSpPr>
            <p:cNvPr id="146" name="TextBox 13"/>
            <p:cNvSpPr/>
            <p:nvPr/>
          </p:nvSpPr>
          <p:spPr>
            <a:xfrm>
              <a:off x="531720" y="4484520"/>
              <a:ext cx="84772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小数点向左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移动一位，相当于把原数除以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，小数就缩小到原数的    ；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移动两位，相当于把原数除以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），小数就缩小到原数的        ；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移动三位，相当于把原数除以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），小数就缩小到原数的        ；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……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47" name="Group 23"/>
            <p:cNvGrpSpPr/>
            <p:nvPr/>
          </p:nvGrpSpPr>
          <p:grpSpPr>
            <a:xfrm>
              <a:off x="6756480" y="4805280"/>
              <a:ext cx="520200" cy="777240"/>
              <a:chOff x="6756480" y="4805280"/>
              <a:chExt cx="520200" cy="777240"/>
            </a:xfrm>
          </p:grpSpPr>
          <p:sp>
            <p:nvSpPr>
              <p:cNvPr id="148" name="Text Box 24"/>
              <p:cNvSpPr/>
              <p:nvPr/>
            </p:nvSpPr>
            <p:spPr>
              <a:xfrm>
                <a:off x="6756480" y="5122800"/>
                <a:ext cx="52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49" name="Text Box 25"/>
              <p:cNvSpPr/>
              <p:nvPr/>
            </p:nvSpPr>
            <p:spPr>
              <a:xfrm>
                <a:off x="6830280" y="4805280"/>
                <a:ext cx="371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50" name="Line 26"/>
              <p:cNvSpPr/>
              <p:nvPr/>
            </p:nvSpPr>
            <p:spPr>
              <a:xfrm>
                <a:off x="6830280" y="5186160"/>
                <a:ext cx="371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51" name="Group 42"/>
            <p:cNvGrpSpPr/>
            <p:nvPr/>
          </p:nvGrpSpPr>
          <p:grpSpPr>
            <a:xfrm>
              <a:off x="7188120" y="5237280"/>
              <a:ext cx="1433520" cy="759600"/>
              <a:chOff x="7188120" y="5237280"/>
              <a:chExt cx="1433520" cy="759600"/>
            </a:xfrm>
          </p:grpSpPr>
          <p:sp>
            <p:nvSpPr>
              <p:cNvPr id="152" name="Text Box 29"/>
              <p:cNvSpPr/>
              <p:nvPr/>
            </p:nvSpPr>
            <p:spPr>
              <a:xfrm>
                <a:off x="7188120" y="5537160"/>
                <a:ext cx="14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0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53" name="Text Box 30"/>
              <p:cNvSpPr/>
              <p:nvPr/>
            </p:nvSpPr>
            <p:spPr>
              <a:xfrm>
                <a:off x="7713720" y="5237280"/>
                <a:ext cx="32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54" name="Line 31"/>
              <p:cNvSpPr/>
              <p:nvPr/>
            </p:nvSpPr>
            <p:spPr>
              <a:xfrm>
                <a:off x="7477200" y="5621400"/>
                <a:ext cx="824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55" name="Group 43"/>
            <p:cNvGrpSpPr/>
            <p:nvPr/>
          </p:nvGrpSpPr>
          <p:grpSpPr>
            <a:xfrm>
              <a:off x="7332840" y="5743440"/>
              <a:ext cx="1433160" cy="759600"/>
              <a:chOff x="7332840" y="5743440"/>
              <a:chExt cx="1433160" cy="759600"/>
            </a:xfrm>
          </p:grpSpPr>
          <p:sp>
            <p:nvSpPr>
              <p:cNvPr id="156" name="Text Box 29"/>
              <p:cNvSpPr/>
              <p:nvPr/>
            </p:nvSpPr>
            <p:spPr>
              <a:xfrm>
                <a:off x="7332840" y="6043320"/>
                <a:ext cx="14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00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57" name="Text Box 30"/>
              <p:cNvSpPr/>
              <p:nvPr/>
            </p:nvSpPr>
            <p:spPr>
              <a:xfrm>
                <a:off x="7858080" y="5743440"/>
                <a:ext cx="321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58" name="Line 31"/>
              <p:cNvSpPr/>
              <p:nvPr/>
            </p:nvSpPr>
            <p:spPr>
              <a:xfrm>
                <a:off x="7621560" y="6127560"/>
                <a:ext cx="823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95280" y="1584360"/>
            <a:ext cx="874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三）实际应用，提升认识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0" name="矩形 9"/>
          <p:cNvSpPr/>
          <p:nvPr/>
        </p:nvSpPr>
        <p:spPr>
          <a:xfrm>
            <a:off x="995400" y="4869000"/>
            <a:ext cx="782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小结：应用小数点移动引起小数大小变化的规律，可以把一个数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扩大或缩小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995400" y="2414520"/>
            <a:ext cx="7632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下面各圈里的数同圈上的数比较，有什么变化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6994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创设情境，探究规律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63" name="Picture 18" descr=""/>
          <p:cNvPicPr/>
          <p:nvPr/>
        </p:nvPicPr>
        <p:blipFill>
          <a:blip r:embed="rId1"/>
          <a:stretch/>
        </p:blipFill>
        <p:spPr>
          <a:xfrm>
            <a:off x="971640" y="3132000"/>
            <a:ext cx="729612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7"/>
          <p:cNvSpPr/>
          <p:nvPr/>
        </p:nvSpPr>
        <p:spPr>
          <a:xfrm>
            <a:off x="976320" y="222732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分别扩大到原来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倍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倍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倍，各是多少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5" name="TextBox 9"/>
          <p:cNvSpPr/>
          <p:nvPr/>
        </p:nvSpPr>
        <p:spPr>
          <a:xfrm>
            <a:off x="3054240" y="3138480"/>
            <a:ext cx="250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7×1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7×1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7×10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7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6" name="TextBox 10"/>
          <p:cNvSpPr/>
          <p:nvPr/>
        </p:nvSpPr>
        <p:spPr>
          <a:xfrm>
            <a:off x="1214280" y="4944960"/>
            <a:ext cx="810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小结： 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扩大到原来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倍，就是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；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扩大到原来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倍，就是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；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扩大到原来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倍，就是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。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实际上就是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的小数点分别向右移动一位、两位、三位。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1214280" y="2771640"/>
            <a:ext cx="58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问题：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）要解决这个问题，怎样列式呢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1995480" y="4305240"/>
            <a:ext cx="44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）说一说你是怎么计算的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6994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创设情境，探究规律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395280" y="1584360"/>
            <a:ext cx="874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三）实际应用，提升认识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73"/>
          <p:cNvSpPr/>
          <p:nvPr/>
        </p:nvSpPr>
        <p:spPr>
          <a:xfrm>
            <a:off x="1208160" y="4635360"/>
            <a:ext cx="611964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小结：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缩小到原来的    ，就是除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；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缩小到原来的     ，就是除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；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缩小到原来的      ，就是除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1233360" y="2727360"/>
            <a:ext cx="5832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问题：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）要解决这个问题，怎样列式呢？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1947960" y="4127400"/>
            <a:ext cx="4317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）说一说你是怎么计算的。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4" name="TextBox 9"/>
          <p:cNvSpPr/>
          <p:nvPr/>
        </p:nvSpPr>
        <p:spPr>
          <a:xfrm>
            <a:off x="2973240" y="3068640"/>
            <a:ext cx="2916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÷10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2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÷100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32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÷1000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032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75" name="Group 78"/>
          <p:cNvGrpSpPr/>
          <p:nvPr/>
        </p:nvGrpSpPr>
        <p:grpSpPr>
          <a:xfrm>
            <a:off x="1649520" y="5716440"/>
            <a:ext cx="6883200" cy="984960"/>
            <a:chOff x="1649520" y="5716440"/>
            <a:chExt cx="6883200" cy="984960"/>
          </a:xfrm>
        </p:grpSpPr>
        <p:sp>
          <p:nvSpPr>
            <p:cNvPr id="176" name="Rectangle 21"/>
            <p:cNvSpPr/>
            <p:nvPr/>
          </p:nvSpPr>
          <p:spPr>
            <a:xfrm>
              <a:off x="1649520" y="6278400"/>
              <a:ext cx="68832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</a:rPr>
                <a:t>  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</a:rPr>
                <a:t>实际上就是把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.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</a:rPr>
                <a:t>的小数点分别向左移动一位、两位、三位。 </a:t>
              </a:r>
              <a:endParaRPr b="1" lang="en-US" sz="1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7" name="Rectangle 22"/>
            <p:cNvSpPr/>
            <p:nvPr/>
          </p:nvSpPr>
          <p:spPr>
            <a:xfrm>
              <a:off x="6646680" y="5716440"/>
              <a:ext cx="1839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78" name="组合 1"/>
          <p:cNvGrpSpPr/>
          <p:nvPr/>
        </p:nvGrpSpPr>
        <p:grpSpPr>
          <a:xfrm>
            <a:off x="976320" y="1994040"/>
            <a:ext cx="7929720" cy="815400"/>
            <a:chOff x="976320" y="1994040"/>
            <a:chExt cx="7929720" cy="815400"/>
          </a:xfrm>
        </p:grpSpPr>
        <p:sp>
          <p:nvSpPr>
            <p:cNvPr id="179" name="TextBox 11"/>
            <p:cNvSpPr/>
            <p:nvPr/>
          </p:nvSpPr>
          <p:spPr>
            <a:xfrm>
              <a:off x="976320" y="2229120"/>
              <a:ext cx="792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把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.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分别缩小到原来的       、       、       ，各是多少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80" name="Group 48"/>
            <p:cNvGrpSpPr/>
            <p:nvPr/>
          </p:nvGrpSpPr>
          <p:grpSpPr>
            <a:xfrm>
              <a:off x="4629960" y="1998720"/>
              <a:ext cx="685800" cy="806040"/>
              <a:chOff x="4629960" y="1998720"/>
              <a:chExt cx="685800" cy="806040"/>
            </a:xfrm>
          </p:grpSpPr>
          <p:sp>
            <p:nvSpPr>
              <p:cNvPr id="181" name="Text Box 49"/>
              <p:cNvSpPr/>
              <p:nvPr/>
            </p:nvSpPr>
            <p:spPr>
              <a:xfrm>
                <a:off x="4629960" y="234504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82" name="Text Box 50"/>
              <p:cNvSpPr/>
              <p:nvPr/>
            </p:nvSpPr>
            <p:spPr>
              <a:xfrm>
                <a:off x="4821840" y="1998720"/>
                <a:ext cx="300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83" name="Line 51"/>
              <p:cNvSpPr/>
              <p:nvPr/>
            </p:nvSpPr>
            <p:spPr>
              <a:xfrm>
                <a:off x="4720320" y="2408400"/>
                <a:ext cx="503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84" name="Group 52"/>
            <p:cNvGrpSpPr/>
            <p:nvPr/>
          </p:nvGrpSpPr>
          <p:grpSpPr>
            <a:xfrm>
              <a:off x="5196600" y="1998720"/>
              <a:ext cx="990360" cy="806040"/>
              <a:chOff x="5196600" y="1998720"/>
              <a:chExt cx="990360" cy="806040"/>
            </a:xfrm>
          </p:grpSpPr>
          <p:sp>
            <p:nvSpPr>
              <p:cNvPr id="185" name="Text Box 53"/>
              <p:cNvSpPr/>
              <p:nvPr/>
            </p:nvSpPr>
            <p:spPr>
              <a:xfrm>
                <a:off x="5196600" y="2345040"/>
                <a:ext cx="99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000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86" name="Text Box 54"/>
              <p:cNvSpPr/>
              <p:nvPr/>
            </p:nvSpPr>
            <p:spPr>
              <a:xfrm>
                <a:off x="5540760" y="1998720"/>
                <a:ext cx="300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87" name="Line 55"/>
              <p:cNvSpPr/>
              <p:nvPr/>
            </p:nvSpPr>
            <p:spPr>
              <a:xfrm>
                <a:off x="5439240" y="2408400"/>
                <a:ext cx="503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88" name="Group 61"/>
            <p:cNvGrpSpPr/>
            <p:nvPr/>
          </p:nvGrpSpPr>
          <p:grpSpPr>
            <a:xfrm>
              <a:off x="3982320" y="1994040"/>
              <a:ext cx="504720" cy="815400"/>
              <a:chOff x="3982320" y="1994040"/>
              <a:chExt cx="504720" cy="815400"/>
            </a:xfrm>
          </p:grpSpPr>
          <p:sp>
            <p:nvSpPr>
              <p:cNvPr id="189" name="Text Box 62"/>
              <p:cNvSpPr/>
              <p:nvPr/>
            </p:nvSpPr>
            <p:spPr>
              <a:xfrm>
                <a:off x="3982320" y="23497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90" name="Text Box 63"/>
              <p:cNvSpPr/>
              <p:nvPr/>
            </p:nvSpPr>
            <p:spPr>
              <a:xfrm>
                <a:off x="4053960" y="19940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91" name="Line 64"/>
              <p:cNvSpPr/>
              <p:nvPr/>
            </p:nvSpPr>
            <p:spPr>
              <a:xfrm>
                <a:off x="4053960" y="24130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92" name="Group 80"/>
          <p:cNvGrpSpPr/>
          <p:nvPr/>
        </p:nvGrpSpPr>
        <p:grpSpPr>
          <a:xfrm>
            <a:off x="3780000" y="4510080"/>
            <a:ext cx="990360" cy="1803960"/>
            <a:chOff x="3780000" y="4510080"/>
            <a:chExt cx="990360" cy="1803960"/>
          </a:xfrm>
        </p:grpSpPr>
        <p:grpSp>
          <p:nvGrpSpPr>
            <p:cNvPr id="193" name="Group 79"/>
            <p:cNvGrpSpPr/>
            <p:nvPr/>
          </p:nvGrpSpPr>
          <p:grpSpPr>
            <a:xfrm>
              <a:off x="3780000" y="5037120"/>
              <a:ext cx="990360" cy="1276920"/>
              <a:chOff x="3780000" y="5037120"/>
              <a:chExt cx="990360" cy="1276920"/>
            </a:xfrm>
          </p:grpSpPr>
          <p:grpSp>
            <p:nvGrpSpPr>
              <p:cNvPr id="194" name="Group 65"/>
              <p:cNvGrpSpPr/>
              <p:nvPr/>
            </p:nvGrpSpPr>
            <p:grpSpPr>
              <a:xfrm>
                <a:off x="3924360" y="5037120"/>
                <a:ext cx="685800" cy="721080"/>
                <a:chOff x="3924360" y="5037120"/>
                <a:chExt cx="685800" cy="721080"/>
              </a:xfrm>
            </p:grpSpPr>
            <p:sp>
              <p:nvSpPr>
                <p:cNvPr id="195" name="Text Box 66"/>
                <p:cNvSpPr/>
                <p:nvPr/>
              </p:nvSpPr>
              <p:spPr>
                <a:xfrm>
                  <a:off x="3924360" y="5335200"/>
                  <a:ext cx="68580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00</a:t>
                  </a:r>
                  <a:endParaRPr b="1" lang="en-US" sz="18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96" name="Text Box 67"/>
                <p:cNvSpPr/>
                <p:nvPr/>
              </p:nvSpPr>
              <p:spPr>
                <a:xfrm>
                  <a:off x="4116600" y="5037120"/>
                  <a:ext cx="29988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97" name="Line 68"/>
                <p:cNvSpPr/>
                <p:nvPr/>
              </p:nvSpPr>
              <p:spPr>
                <a:xfrm>
                  <a:off x="4015080" y="5398920"/>
                  <a:ext cx="503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198" name="Group 69"/>
              <p:cNvGrpSpPr/>
              <p:nvPr/>
            </p:nvGrpSpPr>
            <p:grpSpPr>
              <a:xfrm>
                <a:off x="3780000" y="5592600"/>
                <a:ext cx="990360" cy="721440"/>
                <a:chOff x="3780000" y="5592600"/>
                <a:chExt cx="990360" cy="721440"/>
              </a:xfrm>
            </p:grpSpPr>
            <p:sp>
              <p:nvSpPr>
                <p:cNvPr id="199" name="Text Box 70"/>
                <p:cNvSpPr/>
                <p:nvPr/>
              </p:nvSpPr>
              <p:spPr>
                <a:xfrm>
                  <a:off x="3780000" y="5891040"/>
                  <a:ext cx="99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000</a:t>
                  </a:r>
                  <a:endParaRPr b="1" lang="en-US" sz="18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00" name="Text Box 71"/>
                <p:cNvSpPr/>
                <p:nvPr/>
              </p:nvSpPr>
              <p:spPr>
                <a:xfrm>
                  <a:off x="4124160" y="5592600"/>
                  <a:ext cx="2995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01" name="Line 72"/>
                <p:cNvSpPr/>
                <p:nvPr/>
              </p:nvSpPr>
              <p:spPr>
                <a:xfrm>
                  <a:off x="4022640" y="5954400"/>
                  <a:ext cx="5025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  <p:grpSp>
          <p:nvGrpSpPr>
            <p:cNvPr id="202" name="Group 44"/>
            <p:cNvGrpSpPr/>
            <p:nvPr/>
          </p:nvGrpSpPr>
          <p:grpSpPr>
            <a:xfrm>
              <a:off x="3956040" y="4510080"/>
              <a:ext cx="505080" cy="712080"/>
              <a:chOff x="3956040" y="4510080"/>
              <a:chExt cx="505080" cy="712080"/>
            </a:xfrm>
          </p:grpSpPr>
          <p:sp>
            <p:nvSpPr>
              <p:cNvPr id="203" name="Text Box 45"/>
              <p:cNvSpPr/>
              <p:nvPr/>
            </p:nvSpPr>
            <p:spPr>
              <a:xfrm>
                <a:off x="3956040" y="4799160"/>
                <a:ext cx="5050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1" lang="en-US" sz="1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04" name="Text Box 46"/>
              <p:cNvSpPr/>
              <p:nvPr/>
            </p:nvSpPr>
            <p:spPr>
              <a:xfrm>
                <a:off x="4027680" y="451008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1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05" name="Line 47"/>
              <p:cNvSpPr/>
              <p:nvPr/>
            </p:nvSpPr>
            <p:spPr>
              <a:xfrm>
                <a:off x="4027680" y="48625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6994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创设情境，探究规律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95280" y="1584360"/>
            <a:ext cx="874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三）实际应用，提升认识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6994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巩固练习，深化认识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9" name="TextBox 9"/>
          <p:cNvSpPr/>
          <p:nvPr/>
        </p:nvSpPr>
        <p:spPr>
          <a:xfrm>
            <a:off x="646200" y="1800360"/>
            <a:ext cx="83516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把下面的数分别扩大到原来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倍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倍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倍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           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735           1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7840" y="3573360"/>
            <a:ext cx="242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×1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×1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8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×10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8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1" name="TextBox 5"/>
          <p:cNvSpPr/>
          <p:nvPr/>
        </p:nvSpPr>
        <p:spPr>
          <a:xfrm>
            <a:off x="3516480" y="3573360"/>
            <a:ext cx="262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735×1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735×1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7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735×10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73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2" name="TextBox 6"/>
          <p:cNvSpPr/>
          <p:nvPr/>
        </p:nvSpPr>
        <p:spPr>
          <a:xfrm>
            <a:off x="6149880" y="3573360"/>
            <a:ext cx="289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×1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2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×1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26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×10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26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1353960" y="5452920"/>
            <a:ext cx="44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监控：说一说你是怎么想的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10"/>
          <p:cNvSpPr/>
          <p:nvPr/>
        </p:nvSpPr>
        <p:spPr>
          <a:xfrm>
            <a:off x="647640" y="1800360"/>
            <a:ext cx="78120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把下面的数分别缩小到原来的   、    、     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            50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999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5" name="TextBox 7"/>
          <p:cNvSpPr/>
          <p:nvPr/>
        </p:nvSpPr>
        <p:spPr>
          <a:xfrm>
            <a:off x="988920" y="3656160"/>
            <a:ext cx="292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÷1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÷1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3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÷10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93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6" name="TextBox 8"/>
          <p:cNvSpPr/>
          <p:nvPr/>
        </p:nvSpPr>
        <p:spPr>
          <a:xfrm>
            <a:off x="3840120" y="3656160"/>
            <a:ext cx="292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00÷1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00÷1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00÷10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7" name="TextBox 9"/>
          <p:cNvSpPr/>
          <p:nvPr/>
        </p:nvSpPr>
        <p:spPr>
          <a:xfrm>
            <a:off x="6175440" y="3656160"/>
            <a:ext cx="292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999÷1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9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999÷1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9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999÷10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99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18" name="Group 12"/>
          <p:cNvGrpSpPr/>
          <p:nvPr/>
        </p:nvGrpSpPr>
        <p:grpSpPr>
          <a:xfrm>
            <a:off x="4943520" y="1631880"/>
            <a:ext cx="752400" cy="888480"/>
            <a:chOff x="4943520" y="1631880"/>
            <a:chExt cx="752400" cy="888480"/>
          </a:xfrm>
        </p:grpSpPr>
        <p:sp>
          <p:nvSpPr>
            <p:cNvPr id="219" name="Text Box 13"/>
            <p:cNvSpPr/>
            <p:nvPr/>
          </p:nvSpPr>
          <p:spPr>
            <a:xfrm>
              <a:off x="4943520" y="1987560"/>
              <a:ext cx="7524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0" name="Text Box 14"/>
            <p:cNvSpPr/>
            <p:nvPr/>
          </p:nvSpPr>
          <p:spPr>
            <a:xfrm>
              <a:off x="5139000" y="1631880"/>
              <a:ext cx="36036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1" name="Line 15"/>
            <p:cNvSpPr/>
            <p:nvPr/>
          </p:nvSpPr>
          <p:spPr>
            <a:xfrm>
              <a:off x="5139000" y="20509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22" name="Group 16"/>
          <p:cNvGrpSpPr/>
          <p:nvPr/>
        </p:nvGrpSpPr>
        <p:grpSpPr>
          <a:xfrm>
            <a:off x="5686560" y="1636560"/>
            <a:ext cx="923760" cy="879120"/>
            <a:chOff x="5686560" y="1636560"/>
            <a:chExt cx="923760" cy="879120"/>
          </a:xfrm>
        </p:grpSpPr>
        <p:sp>
          <p:nvSpPr>
            <p:cNvPr id="223" name="Text Box 17"/>
            <p:cNvSpPr/>
            <p:nvPr/>
          </p:nvSpPr>
          <p:spPr>
            <a:xfrm>
              <a:off x="5686560" y="1982880"/>
              <a:ext cx="92376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4" name="Text Box 18"/>
            <p:cNvSpPr/>
            <p:nvPr/>
          </p:nvSpPr>
          <p:spPr>
            <a:xfrm>
              <a:off x="5997600" y="1636560"/>
              <a:ext cx="30024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5" name="Line 19"/>
            <p:cNvSpPr/>
            <p:nvPr/>
          </p:nvSpPr>
          <p:spPr>
            <a:xfrm>
              <a:off x="5896080" y="2046240"/>
              <a:ext cx="503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26" name="Group 20"/>
          <p:cNvGrpSpPr/>
          <p:nvPr/>
        </p:nvGrpSpPr>
        <p:grpSpPr>
          <a:xfrm>
            <a:off x="6562800" y="1636560"/>
            <a:ext cx="1181160" cy="879120"/>
            <a:chOff x="6562800" y="1636560"/>
            <a:chExt cx="1181160" cy="879120"/>
          </a:xfrm>
        </p:grpSpPr>
        <p:sp>
          <p:nvSpPr>
            <p:cNvPr id="227" name="Text Box 21"/>
            <p:cNvSpPr/>
            <p:nvPr/>
          </p:nvSpPr>
          <p:spPr>
            <a:xfrm>
              <a:off x="6562800" y="1982880"/>
              <a:ext cx="118116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8" name="Text Box 22"/>
            <p:cNvSpPr/>
            <p:nvPr/>
          </p:nvSpPr>
          <p:spPr>
            <a:xfrm>
              <a:off x="7002360" y="1636560"/>
              <a:ext cx="30024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9" name="Line 23"/>
            <p:cNvSpPr/>
            <p:nvPr/>
          </p:nvSpPr>
          <p:spPr>
            <a:xfrm>
              <a:off x="6824520" y="2046240"/>
              <a:ext cx="655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6994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巩固练习，深化认识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1" name="Text Box 10"/>
          <p:cNvSpPr/>
          <p:nvPr/>
        </p:nvSpPr>
        <p:spPr>
          <a:xfrm>
            <a:off x="1353960" y="5452920"/>
            <a:ext cx="44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监控：说一说你是怎么想的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0"/>
          <p:cNvSpPr/>
          <p:nvPr/>
        </p:nvSpPr>
        <p:spPr>
          <a:xfrm>
            <a:off x="647640" y="1800360"/>
            <a:ext cx="806472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改写成下面的数，它的大小各有什么变化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        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25       625       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625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3" name="TextBox 4"/>
          <p:cNvSpPr/>
          <p:nvPr/>
        </p:nvSpPr>
        <p:spPr>
          <a:xfrm>
            <a:off x="3328920" y="38084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5×10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4" name="TextBox 5"/>
          <p:cNvSpPr/>
          <p:nvPr/>
        </p:nvSpPr>
        <p:spPr>
          <a:xfrm>
            <a:off x="3328920" y="431496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5÷10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2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3186000" y="48211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5×100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2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6" name="TextBox 7"/>
          <p:cNvSpPr/>
          <p:nvPr/>
        </p:nvSpPr>
        <p:spPr>
          <a:xfrm>
            <a:off x="3186000" y="532908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5÷100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62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7" name="TextBox 8"/>
          <p:cNvSpPr/>
          <p:nvPr/>
        </p:nvSpPr>
        <p:spPr>
          <a:xfrm>
            <a:off x="1724040" y="3808440"/>
            <a:ext cx="20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可以这样想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6994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巩固练习，深化认识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11"/>
          <p:cNvSpPr/>
          <p:nvPr/>
        </p:nvSpPr>
        <p:spPr>
          <a:xfrm>
            <a:off x="804960" y="576252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6994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谈话交流，揭示课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612720" y="1584360"/>
            <a:ext cx="511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谈话导入，引出新课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1106640" y="2200320"/>
            <a:ext cx="79628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下面是马小虎在四年级学生体检时所记录的三位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同学的身高、体重数据，请大家看一看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1908000" y="3314880"/>
            <a:ext cx="4561200" cy="19666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丽身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米，体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千克；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明身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米，体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千克；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芳身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米，体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千克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55" name="组合 1"/>
          <p:cNvGrpSpPr/>
          <p:nvPr/>
        </p:nvGrpSpPr>
        <p:grpSpPr>
          <a:xfrm>
            <a:off x="641520" y="4653000"/>
            <a:ext cx="6054480" cy="1801800"/>
            <a:chOff x="641520" y="4653000"/>
            <a:chExt cx="6054480" cy="1801800"/>
          </a:xfrm>
        </p:grpSpPr>
        <p:grpSp>
          <p:nvGrpSpPr>
            <p:cNvPr id="56" name="Group 14"/>
            <p:cNvGrpSpPr/>
            <p:nvPr/>
          </p:nvGrpSpPr>
          <p:grpSpPr>
            <a:xfrm>
              <a:off x="2124000" y="5854320"/>
              <a:ext cx="4572000" cy="527040"/>
              <a:chOff x="2124000" y="5854320"/>
              <a:chExt cx="4572000" cy="527040"/>
            </a:xfrm>
          </p:grpSpPr>
          <p:sp>
            <p:nvSpPr>
              <p:cNvPr id="57" name="AutoShape 27"/>
              <p:cNvSpPr/>
              <p:nvPr/>
            </p:nvSpPr>
            <p:spPr>
              <a:xfrm>
                <a:off x="2124000" y="5854320"/>
                <a:ext cx="4419360" cy="527040"/>
              </a:xfrm>
              <a:prstGeom prst="wedgeRoundRectCallout">
                <a:avLst>
                  <a:gd name="adj1" fmla="val -53226"/>
                  <a:gd name="adj2" fmla="val -37087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8" name="矩形 15"/>
              <p:cNvSpPr/>
              <p:nvPr/>
            </p:nvSpPr>
            <p:spPr>
              <a:xfrm>
                <a:off x="2133360" y="5878080"/>
                <a:ext cx="456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阅读信息，你认为哪些数据有问题？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pic>
          <p:nvPicPr>
            <p:cNvPr id="59" name="Picture 11" descr="115"/>
            <p:cNvPicPr/>
            <p:nvPr/>
          </p:nvPicPr>
          <p:blipFill>
            <a:blip r:embed="rId1"/>
            <a:stretch/>
          </p:blipFill>
          <p:spPr>
            <a:xfrm>
              <a:off x="641520" y="4653000"/>
              <a:ext cx="1266840" cy="1801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组合 1"/>
          <p:cNvGrpSpPr/>
          <p:nvPr/>
        </p:nvGrpSpPr>
        <p:grpSpPr>
          <a:xfrm>
            <a:off x="1085760" y="2521080"/>
            <a:ext cx="7105680" cy="2597040"/>
            <a:chOff x="1085760" y="2521080"/>
            <a:chExt cx="7105680" cy="2597040"/>
          </a:xfrm>
        </p:grpSpPr>
        <p:pic>
          <p:nvPicPr>
            <p:cNvPr id="240" name="Picture 31" descr=""/>
            <p:cNvPicPr/>
            <p:nvPr/>
          </p:nvPicPr>
          <p:blipFill>
            <a:blip r:embed="rId1"/>
            <a:stretch/>
          </p:blipFill>
          <p:spPr>
            <a:xfrm>
              <a:off x="1085760" y="2521080"/>
              <a:ext cx="7105680" cy="25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Box 17"/>
            <p:cNvSpPr/>
            <p:nvPr/>
          </p:nvSpPr>
          <p:spPr>
            <a:xfrm>
              <a:off x="4179960" y="2784600"/>
              <a:ext cx="90144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2" name="TextBox 18"/>
            <p:cNvSpPr/>
            <p:nvPr/>
          </p:nvSpPr>
          <p:spPr>
            <a:xfrm>
              <a:off x="5582160" y="2784600"/>
              <a:ext cx="90144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3" name="TextBox 19"/>
            <p:cNvSpPr/>
            <p:nvPr/>
          </p:nvSpPr>
          <p:spPr>
            <a:xfrm>
              <a:off x="6937560" y="2784600"/>
              <a:ext cx="106344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0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4" name="TextBox 21"/>
            <p:cNvSpPr/>
            <p:nvPr/>
          </p:nvSpPr>
          <p:spPr>
            <a:xfrm>
              <a:off x="2769840" y="3270240"/>
              <a:ext cx="90144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.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63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5" name="TextBox 22"/>
            <p:cNvSpPr/>
            <p:nvPr/>
          </p:nvSpPr>
          <p:spPr>
            <a:xfrm>
              <a:off x="2707920" y="3895920"/>
              <a:ext cx="10252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.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5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6" name="TextBox 23"/>
            <p:cNvSpPr/>
            <p:nvPr/>
          </p:nvSpPr>
          <p:spPr>
            <a:xfrm>
              <a:off x="2698560" y="4519440"/>
              <a:ext cx="104436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.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9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47" name="TextBox 10"/>
          <p:cNvSpPr/>
          <p:nvPr/>
        </p:nvSpPr>
        <p:spPr>
          <a:xfrm>
            <a:off x="647640" y="1800360"/>
            <a:ext cx="6192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在下表中填出每种商品的总价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8" name="TextBox 13"/>
          <p:cNvSpPr/>
          <p:nvPr/>
        </p:nvSpPr>
        <p:spPr>
          <a:xfrm>
            <a:off x="7018200" y="4500720"/>
            <a:ext cx="901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890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9" name="TextBox 5"/>
          <p:cNvSpPr/>
          <p:nvPr/>
        </p:nvSpPr>
        <p:spPr>
          <a:xfrm>
            <a:off x="4179960" y="3270240"/>
            <a:ext cx="901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0" name="TextBox 6"/>
          <p:cNvSpPr/>
          <p:nvPr/>
        </p:nvSpPr>
        <p:spPr>
          <a:xfrm>
            <a:off x="5581800" y="3270240"/>
            <a:ext cx="901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63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1" name="TextBox 7"/>
          <p:cNvSpPr/>
          <p:nvPr/>
        </p:nvSpPr>
        <p:spPr>
          <a:xfrm>
            <a:off x="7018200" y="3279600"/>
            <a:ext cx="901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630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2" name="TextBox 8"/>
          <p:cNvSpPr/>
          <p:nvPr/>
        </p:nvSpPr>
        <p:spPr>
          <a:xfrm>
            <a:off x="4179960" y="3895560"/>
            <a:ext cx="901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5581800" y="3903840"/>
            <a:ext cx="903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5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4" name="TextBox 10"/>
          <p:cNvSpPr/>
          <p:nvPr/>
        </p:nvSpPr>
        <p:spPr>
          <a:xfrm>
            <a:off x="7018200" y="3903840"/>
            <a:ext cx="901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50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5" name="TextBox 11"/>
          <p:cNvSpPr/>
          <p:nvPr/>
        </p:nvSpPr>
        <p:spPr>
          <a:xfrm>
            <a:off x="4179960" y="4510080"/>
            <a:ext cx="901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6" name="TextBox 12"/>
          <p:cNvSpPr/>
          <p:nvPr/>
        </p:nvSpPr>
        <p:spPr>
          <a:xfrm>
            <a:off x="5581800" y="4502160"/>
            <a:ext cx="901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89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6994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巩固练习，深化认识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8" name="Text Box 10"/>
          <p:cNvSpPr/>
          <p:nvPr/>
        </p:nvSpPr>
        <p:spPr>
          <a:xfrm>
            <a:off x="1353960" y="5452920"/>
            <a:ext cx="44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监控：说一说你是怎么想的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13"/>
          <p:cNvSpPr/>
          <p:nvPr/>
        </p:nvSpPr>
        <p:spPr>
          <a:xfrm>
            <a:off x="647640" y="1800360"/>
            <a:ext cx="6804000" cy="31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填上适当的数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的小数点向左移动一位是         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的小数点向右移动两位是        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扩大到它的        倍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缩小到它的         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4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60" name="Group 19"/>
          <p:cNvGrpSpPr/>
          <p:nvPr/>
        </p:nvGrpSpPr>
        <p:grpSpPr>
          <a:xfrm>
            <a:off x="3319560" y="4246560"/>
            <a:ext cx="1447560" cy="825480"/>
            <a:chOff x="3319560" y="4246560"/>
            <a:chExt cx="1447560" cy="825480"/>
          </a:xfrm>
        </p:grpSpPr>
        <p:sp>
          <p:nvSpPr>
            <p:cNvPr id="261" name="Text Box 17"/>
            <p:cNvSpPr/>
            <p:nvPr/>
          </p:nvSpPr>
          <p:spPr>
            <a:xfrm>
              <a:off x="3319560" y="4246560"/>
              <a:ext cx="1447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（    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（    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62" name="Line 18"/>
            <p:cNvSpPr/>
            <p:nvPr/>
          </p:nvSpPr>
          <p:spPr>
            <a:xfrm>
              <a:off x="3592440" y="4664880"/>
              <a:ext cx="90000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63" name="Rectangle 15"/>
          <p:cNvSpPr/>
          <p:nvPr/>
        </p:nvSpPr>
        <p:spPr>
          <a:xfrm>
            <a:off x="5052960" y="2656440"/>
            <a:ext cx="111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6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4" name="Rectangle 16"/>
          <p:cNvSpPr/>
          <p:nvPr/>
        </p:nvSpPr>
        <p:spPr>
          <a:xfrm>
            <a:off x="5186520" y="3227760"/>
            <a:ext cx="11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1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5" name="Rectangle 17"/>
          <p:cNvSpPr/>
          <p:nvPr/>
        </p:nvSpPr>
        <p:spPr>
          <a:xfrm>
            <a:off x="3621240" y="3827880"/>
            <a:ext cx="11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6" name="Line 14"/>
          <p:cNvSpPr/>
          <p:nvPr/>
        </p:nvSpPr>
        <p:spPr>
          <a:xfrm>
            <a:off x="5172120" y="3067200"/>
            <a:ext cx="900000" cy="0"/>
          </a:xfrm>
          <a:prstGeom prst="line">
            <a:avLst/>
          </a:prstGeom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7" name="Line 15"/>
          <p:cNvSpPr/>
          <p:nvPr/>
        </p:nvSpPr>
        <p:spPr>
          <a:xfrm>
            <a:off x="3728880" y="4218120"/>
            <a:ext cx="900360" cy="0"/>
          </a:xfrm>
          <a:prstGeom prst="line">
            <a:avLst/>
          </a:prstGeom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8" name="Line 16"/>
          <p:cNvSpPr/>
          <p:nvPr/>
        </p:nvSpPr>
        <p:spPr>
          <a:xfrm>
            <a:off x="5316480" y="3633840"/>
            <a:ext cx="900000" cy="0"/>
          </a:xfrm>
          <a:prstGeom prst="line">
            <a:avLst/>
          </a:prstGeom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9" name="Rectangle 2"/>
          <p:cNvSpPr/>
          <p:nvPr/>
        </p:nvSpPr>
        <p:spPr>
          <a:xfrm>
            <a:off x="457200" y="404640"/>
            <a:ext cx="69944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巩固练习，深化认识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70" name="Group 20"/>
          <p:cNvGrpSpPr/>
          <p:nvPr/>
        </p:nvGrpSpPr>
        <p:grpSpPr>
          <a:xfrm>
            <a:off x="3492360" y="4242240"/>
            <a:ext cx="1114560" cy="830880"/>
            <a:chOff x="3492360" y="4242240"/>
            <a:chExt cx="1114560" cy="830880"/>
          </a:xfrm>
        </p:grpSpPr>
        <p:sp>
          <p:nvSpPr>
            <p:cNvPr id="271" name="Rectangle 18"/>
            <p:cNvSpPr/>
            <p:nvPr/>
          </p:nvSpPr>
          <p:spPr>
            <a:xfrm>
              <a:off x="3492360" y="4613400"/>
              <a:ext cx="111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2" name="Rectangle 19"/>
            <p:cNvSpPr/>
            <p:nvPr/>
          </p:nvSpPr>
          <p:spPr>
            <a:xfrm>
              <a:off x="3492360" y="4242240"/>
              <a:ext cx="111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45720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四、布置作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4" name="Rectangle 2"/>
          <p:cNvSpPr/>
          <p:nvPr/>
        </p:nvSpPr>
        <p:spPr>
          <a:xfrm>
            <a:off x="826920" y="2421000"/>
            <a:ext cx="770580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页练习十一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5EF3-2644-4D4C-A684-44BAADFF8E1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612720" y="1584360"/>
            <a:ext cx="511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（二）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观察数据，引发思考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1" name="矩形 11"/>
          <p:cNvSpPr/>
          <p:nvPr/>
        </p:nvSpPr>
        <p:spPr>
          <a:xfrm>
            <a:off x="1619280" y="541980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小结：小数点很重要，它的位置会直接影响到小数的大小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62" name="Picture 9" descr="115"/>
          <p:cNvPicPr/>
          <p:nvPr/>
        </p:nvPicPr>
        <p:blipFill>
          <a:blip r:embed="rId1"/>
          <a:stretch/>
        </p:blipFill>
        <p:spPr>
          <a:xfrm>
            <a:off x="971640" y="3357720"/>
            <a:ext cx="1266840" cy="1801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6994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谈话交流，揭示课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2340000" y="2416320"/>
            <a:ext cx="4560840" cy="19666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丽身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米，体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千克；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明身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米，体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千克；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芳身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米，体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千克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6994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创设情境，探究规律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971640" y="2314440"/>
            <a:ext cx="786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下面我们边听故事边收集有关的数学信息，看看孙悟空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的金箍棒的长短发生了什么变化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95280" y="1584360"/>
            <a:ext cx="511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Arial"/>
              </a:rPr>
              <a:t>（一）讲故事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68" name="Picture 8" descr="{A69460B9-EA91-4333-BC5F-A8BA574206B7}副本"/>
          <p:cNvPicPr/>
          <p:nvPr/>
        </p:nvPicPr>
        <p:blipFill>
          <a:blip r:embed="rId1"/>
          <a:stretch/>
        </p:blipFill>
        <p:spPr>
          <a:xfrm>
            <a:off x="4759200" y="3443400"/>
            <a:ext cx="3953160" cy="2114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{EA2F60E8-3145-4074-8B52-E019DAD419F2}副本"/>
          <p:cNvPicPr/>
          <p:nvPr/>
        </p:nvPicPr>
        <p:blipFill>
          <a:blip r:embed="rId2"/>
          <a:srcRect l="0" t="0" r="1779" b="0"/>
          <a:stretch/>
        </p:blipFill>
        <p:spPr>
          <a:xfrm>
            <a:off x="590400" y="3243240"/>
            <a:ext cx="3976920" cy="2314440"/>
          </a:xfrm>
          <a:prstGeom prst="rect">
            <a:avLst/>
          </a:prstGeom>
          <a:ln w="0">
            <a:noFill/>
          </a:ln>
        </p:spPr>
      </p:pic>
      <p:sp>
        <p:nvSpPr>
          <p:cNvPr id="70" name="文本框 1"/>
          <p:cNvSpPr/>
          <p:nvPr/>
        </p:nvSpPr>
        <p:spPr>
          <a:xfrm>
            <a:off x="395280" y="6067440"/>
            <a:ext cx="9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下载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0" descr="{A531598E-D06A-4708-AC0A-3630FAB14D29}副本"/>
          <p:cNvPicPr/>
          <p:nvPr/>
        </p:nvPicPr>
        <p:blipFill>
          <a:blip r:embed="rId1"/>
          <a:srcRect l="873" t="0" r="0" b="0"/>
          <a:stretch/>
        </p:blipFill>
        <p:spPr>
          <a:xfrm>
            <a:off x="4702320" y="3500280"/>
            <a:ext cx="3965400" cy="2009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{92934A83-1048-4C9C-B975-F021F215525B}副本"/>
          <p:cNvPicPr/>
          <p:nvPr/>
        </p:nvPicPr>
        <p:blipFill>
          <a:blip r:embed="rId2"/>
          <a:srcRect l="2078" t="0" r="1791" b="0"/>
          <a:stretch/>
        </p:blipFill>
        <p:spPr>
          <a:xfrm>
            <a:off x="684360" y="3510000"/>
            <a:ext cx="3863880" cy="20001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6994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创设情境，探究规律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971640" y="2314440"/>
            <a:ext cx="786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下面我们边听故事边收集有关的数学信息，看看孙悟空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的金箍棒的长短发生了什么变化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95280" y="1584360"/>
            <a:ext cx="511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Arial"/>
              </a:rPr>
              <a:t>（一）讲故事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圆角矩形 1"/>
          <p:cNvSpPr/>
          <p:nvPr/>
        </p:nvSpPr>
        <p:spPr>
          <a:xfrm>
            <a:off x="2556000" y="2957400"/>
            <a:ext cx="3208320" cy="2127240"/>
          </a:xfrm>
          <a:prstGeom prst="roundRect">
            <a:avLst>
              <a:gd name="adj" fmla="val 16667"/>
            </a:avLst>
          </a:prstGeom>
          <a:solidFill>
            <a:srgbClr val="dfdff5"/>
          </a:solidFill>
          <a:ln w="1908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1733400" y="2309760"/>
            <a:ext cx="2500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信息呈现：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8" name="TextBox 8"/>
          <p:cNvSpPr/>
          <p:nvPr/>
        </p:nvSpPr>
        <p:spPr>
          <a:xfrm>
            <a:off x="2487600" y="3060720"/>
            <a:ext cx="150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0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1733400" y="5373720"/>
            <a:ext cx="688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孙悟空的金箍棒神奇吗？金箍棒的长短发生了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什么变化？你是怎么知道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3797280" y="3060720"/>
            <a:ext cx="214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0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00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6994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创设情境，探究规律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395280" y="1584360"/>
            <a:ext cx="511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Arial"/>
              </a:rPr>
              <a:t>（一）讲故事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395280" y="1584360"/>
            <a:ext cx="853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（二）探究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小数点的移动与小数大小变化的关系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670040" y="5695920"/>
            <a:ext cx="638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小数点的移动与金箍棒的长短有什么关系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85" name="组合 10"/>
          <p:cNvGrpSpPr/>
          <p:nvPr/>
        </p:nvGrpSpPr>
        <p:grpSpPr>
          <a:xfrm>
            <a:off x="1574640" y="2786040"/>
            <a:ext cx="546120" cy="2405160"/>
            <a:chOff x="1574640" y="2786040"/>
            <a:chExt cx="546120" cy="2405160"/>
          </a:xfrm>
        </p:grpSpPr>
        <p:cxnSp>
          <p:nvCxnSpPr>
            <p:cNvPr id="86" name="直接箭头连接符 10"/>
            <p:cNvCxnSpPr/>
            <p:nvPr/>
          </p:nvCxnSpPr>
          <p:spPr>
            <a:xfrm flipH="1">
              <a:off x="2114640" y="2871360"/>
              <a:ext cx="1080" cy="2320200"/>
            </a:xfrm>
            <a:prstGeom prst="straightConnector1">
              <a:avLst/>
            </a:prstGeom>
            <a:ln w="28440">
              <a:solidFill>
                <a:srgbClr val="ff0000"/>
              </a:solidFill>
              <a:round/>
              <a:tailEnd len="med" type="arrow" w="med"/>
            </a:ln>
          </p:spPr>
        </p:cxnSp>
        <p:sp>
          <p:nvSpPr>
            <p:cNvPr id="87" name="TextBox 11"/>
            <p:cNvSpPr/>
            <p:nvPr/>
          </p:nvSpPr>
          <p:spPr>
            <a:xfrm>
              <a:off x="1574640" y="2786040"/>
              <a:ext cx="546120" cy="22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从上往下观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6994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创设情境，探究规律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89" name="组合 4"/>
          <p:cNvGrpSpPr/>
          <p:nvPr/>
        </p:nvGrpSpPr>
        <p:grpSpPr>
          <a:xfrm>
            <a:off x="2487600" y="2957400"/>
            <a:ext cx="3452760" cy="2127240"/>
            <a:chOff x="2487600" y="2957400"/>
            <a:chExt cx="3452760" cy="2127240"/>
          </a:xfrm>
        </p:grpSpPr>
        <p:sp>
          <p:nvSpPr>
            <p:cNvPr id="90" name="圆角矩形 15"/>
            <p:cNvSpPr/>
            <p:nvPr/>
          </p:nvSpPr>
          <p:spPr>
            <a:xfrm>
              <a:off x="2556360" y="2957400"/>
              <a:ext cx="3207600" cy="2127240"/>
            </a:xfrm>
            <a:prstGeom prst="roundRect">
              <a:avLst>
                <a:gd name="adj" fmla="val 16667"/>
              </a:avLst>
            </a:prstGeom>
            <a:solidFill>
              <a:srgbClr val="dfdff5"/>
            </a:solidFill>
            <a:ln w="19080">
              <a:solidFill>
                <a:srgbClr val="703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91" name="TextBox 8"/>
            <p:cNvSpPr/>
            <p:nvPr/>
          </p:nvSpPr>
          <p:spPr>
            <a:xfrm>
              <a:off x="2487600" y="3060360"/>
              <a:ext cx="15001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.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9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.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9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.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9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9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92" name="TextBox 17"/>
            <p:cNvSpPr/>
            <p:nvPr/>
          </p:nvSpPr>
          <p:spPr>
            <a:xfrm>
              <a:off x="3797280" y="3060360"/>
              <a:ext cx="21430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9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m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9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m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90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m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900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m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209520" y="209520"/>
            <a:ext cx="872496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3"/>
          <p:cNvSpPr/>
          <p:nvPr/>
        </p:nvSpPr>
        <p:spPr>
          <a:xfrm>
            <a:off x="571680" y="4264200"/>
            <a:ext cx="8643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小数点向右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移动一位，相当于把原数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，小数就扩大到原数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倍；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移动两位，相当于把原数乘（    ），小数就扩大到原数的（    ）倍；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移动三位，相当于把原数乘（    ），小数就扩大到原数的（    ）倍；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3832200" y="501660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7413480" y="501660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7" name="TextBox 10"/>
          <p:cNvSpPr/>
          <p:nvPr/>
        </p:nvSpPr>
        <p:spPr>
          <a:xfrm>
            <a:off x="3860640" y="539280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8" name="TextBox 11"/>
          <p:cNvSpPr/>
          <p:nvPr/>
        </p:nvSpPr>
        <p:spPr>
          <a:xfrm>
            <a:off x="7404120" y="538308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99" name="组合 1"/>
          <p:cNvGrpSpPr/>
          <p:nvPr/>
        </p:nvGrpSpPr>
        <p:grpSpPr>
          <a:xfrm>
            <a:off x="1332000" y="2244600"/>
            <a:ext cx="4510080" cy="1838520"/>
            <a:chOff x="1332000" y="2244600"/>
            <a:chExt cx="4510080" cy="1838520"/>
          </a:xfrm>
        </p:grpSpPr>
        <p:pic>
          <p:nvPicPr>
            <p:cNvPr id="100" name="Picture 15" descr="{DB0FF18A-1213-4905-8199-B027C4FA0357}副本"/>
            <p:cNvPicPr/>
            <p:nvPr/>
          </p:nvPicPr>
          <p:blipFill>
            <a:blip r:embed="rId1"/>
            <a:stretch/>
          </p:blipFill>
          <p:spPr>
            <a:xfrm>
              <a:off x="1332000" y="2244600"/>
              <a:ext cx="1361880" cy="18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AutoShape 27"/>
            <p:cNvSpPr/>
            <p:nvPr/>
          </p:nvSpPr>
          <p:spPr>
            <a:xfrm>
              <a:off x="3059280" y="2676240"/>
              <a:ext cx="2782800" cy="504720"/>
            </a:xfrm>
            <a:prstGeom prst="wedgeRoundRectCallout">
              <a:avLst>
                <a:gd name="adj1" fmla="val -58500"/>
                <a:gd name="adj2" fmla="val -1982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你发现了什么规律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6994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创设情境，探究规律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395280" y="1584360"/>
            <a:ext cx="853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（二）探究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小数点的移动与小数大小变化的关系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8:19Z</dcterms:modified>
  <cp:revision>69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