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9A65-530B-4C83-B5AB-B9E0B05D294D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1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9AC4-801E-43AD-BE6E-83594D83FF22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4360" y="78408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人教logo"/>
          <p:cNvPicPr/>
          <p:nvPr/>
        </p:nvPicPr>
        <p:blipFill>
          <a:blip r:embed="rId3"/>
          <a:stretch/>
        </p:blipFill>
        <p:spPr>
          <a:xfrm>
            <a:off x="252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1547640" y="2133720"/>
            <a:ext cx="40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</a:rPr>
              <a:t>小数的意义</a:t>
            </a:r>
            <a:endParaRPr b="1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200240" y="579600"/>
            <a:ext cx="57182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小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813840" y="603576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5236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8" descr=""/>
          <p:cNvPicPr/>
          <p:nvPr/>
        </p:nvPicPr>
        <p:blipFill>
          <a:blip r:embed="rId1"/>
          <a:stretch/>
        </p:blipFill>
        <p:spPr>
          <a:xfrm>
            <a:off x="2052720" y="2300400"/>
            <a:ext cx="4533840" cy="1020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227240" y="450540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米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份，其中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份用分数怎样表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用小数怎样表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23920" y="5295960"/>
            <a:ext cx="6980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个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个红色箭头所指的刻度用分数和小数分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可以怎样表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1227240" y="6045120"/>
            <a:ext cx="7993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小结：分母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的分数可以写成三位小数，就是几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0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5533920" y="339408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    )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    )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4789440" y="3394080"/>
            <a:ext cx="105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    )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    )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3933720" y="3886200"/>
            <a:ext cx="107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0" name="Group 21"/>
          <p:cNvGrpSpPr/>
          <p:nvPr/>
        </p:nvGrpSpPr>
        <p:grpSpPr>
          <a:xfrm>
            <a:off x="3765600" y="3235320"/>
            <a:ext cx="1143000" cy="769320"/>
            <a:chOff x="3765600" y="3235320"/>
            <a:chExt cx="1143000" cy="769320"/>
          </a:xfrm>
        </p:grpSpPr>
        <p:grpSp>
          <p:nvGrpSpPr>
            <p:cNvPr id="171" name="Group 22"/>
            <p:cNvGrpSpPr/>
            <p:nvPr/>
          </p:nvGrpSpPr>
          <p:grpSpPr>
            <a:xfrm>
              <a:off x="3765600" y="3235320"/>
              <a:ext cx="990360" cy="769320"/>
              <a:chOff x="3765600" y="3235320"/>
              <a:chExt cx="990360" cy="769320"/>
            </a:xfrm>
          </p:grpSpPr>
          <p:sp>
            <p:nvSpPr>
              <p:cNvPr id="172" name="Text Box 23"/>
              <p:cNvSpPr/>
              <p:nvPr/>
            </p:nvSpPr>
            <p:spPr>
              <a:xfrm>
                <a:off x="3765600" y="3581640"/>
                <a:ext cx="99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1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3" name="Text Box 24"/>
              <p:cNvSpPr/>
              <p:nvPr/>
            </p:nvSpPr>
            <p:spPr>
              <a:xfrm>
                <a:off x="4020840" y="3235320"/>
                <a:ext cx="479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4" name="Line 25"/>
              <p:cNvSpPr/>
              <p:nvPr/>
            </p:nvSpPr>
            <p:spPr>
              <a:xfrm>
                <a:off x="4008240" y="3645000"/>
                <a:ext cx="50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75" name="Text Box 26"/>
            <p:cNvSpPr/>
            <p:nvPr/>
          </p:nvSpPr>
          <p:spPr>
            <a:xfrm>
              <a:off x="4451400" y="34545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6" name="Rectangle 2"/>
          <p:cNvSpPr/>
          <p:nvPr/>
        </p:nvSpPr>
        <p:spPr>
          <a:xfrm>
            <a:off x="612720" y="158436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深入、灵活理解三位小数的改写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究改写方法，探究小数意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25236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03240" y="2664000"/>
            <a:ext cx="7629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小结：我们可以把分母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的分数，改写成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小数的形式，使人们应用起来更加方便、简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12720" y="1584360"/>
            <a:ext cx="41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小结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究改写方法，探究小数意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8" descr="u4jx01_01"/>
          <p:cNvPicPr/>
          <p:nvPr/>
        </p:nvPicPr>
        <p:blipFill>
          <a:blip r:embed="rId1"/>
          <a:stretch/>
        </p:blipFill>
        <p:spPr>
          <a:xfrm>
            <a:off x="4035600" y="2419200"/>
            <a:ext cx="1423800" cy="15462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意义，体会计数单位和进率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612720" y="158436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应用感受，巩固意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755640" y="4584600"/>
            <a:ext cx="8244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分数：（       ）米                   （      ）米                   （      ）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小数：（       ）米                   （      ）米                   （      ）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1258920" y="39402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幼儿身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分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3710160" y="3940200"/>
            <a:ext cx="20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桌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厘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6103800" y="394020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小蚂蚁身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毫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9" name="Picture 16" descr="婴儿"/>
          <p:cNvPicPr/>
          <p:nvPr/>
        </p:nvPicPr>
        <p:blipFill>
          <a:blip r:embed="rId2"/>
          <a:stretch/>
        </p:blipFill>
        <p:spPr>
          <a:xfrm>
            <a:off x="1839960" y="2670120"/>
            <a:ext cx="919080" cy="1295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蚂蚁"/>
          <p:cNvPicPr/>
          <p:nvPr/>
        </p:nvPicPr>
        <p:blipFill>
          <a:blip r:embed="rId3"/>
          <a:stretch/>
        </p:blipFill>
        <p:spPr>
          <a:xfrm>
            <a:off x="6921360" y="3381480"/>
            <a:ext cx="78444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12720" y="158436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认识小数的计数单位和进率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1065240" y="3716280"/>
            <a:ext cx="7683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我们在学习整数的过程中，认识了哪些计数单位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它们之间有什么关系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09720" y="2362320"/>
          <a:ext cx="5194080" cy="1224000"/>
        </p:xfrm>
        <a:graphic>
          <a:graphicData uri="http://schemas.openxmlformats.org/drawingml/2006/table">
            <a:tbl>
              <a:tblPr/>
              <a:tblGrid>
                <a:gridCol w="518760"/>
                <a:gridCol w="520560"/>
                <a:gridCol w="519120"/>
                <a:gridCol w="519120"/>
                <a:gridCol w="519120"/>
                <a:gridCol w="519120"/>
                <a:gridCol w="520920"/>
                <a:gridCol w="519120"/>
                <a:gridCol w="514080"/>
                <a:gridCol w="524160"/>
              </a:tblGrid>
              <a:tr h="12240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宋体"/>
                          <a:ea typeface="宋体"/>
                        </a:rPr>
                        <a:t>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一（个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"/>
          <p:cNvSpPr/>
          <p:nvPr/>
        </p:nvSpPr>
        <p:spPr>
          <a:xfrm>
            <a:off x="1868400" y="4508640"/>
            <a:ext cx="6972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个一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个（      ）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个十分之一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个（      ）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个百分之一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个（      ）；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066680" y="5462640"/>
            <a:ext cx="7774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小结：小数的计数单位是十分之一、百分之一、千分之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分别写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0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每相邻两个计数单位之间的进率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678720" y="2362320"/>
          <a:ext cx="2089080" cy="122400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523800"/>
                <a:gridCol w="520560"/>
              </a:tblGrid>
              <a:tr h="12240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十分之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百分之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千分之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宋体"/>
                          <a:ea typeface="宋体"/>
                        </a:rPr>
                        <a:t>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127920" y="2362320"/>
          <a:ext cx="522000" cy="1224000"/>
        </p:xfrm>
        <a:graphic>
          <a:graphicData uri="http://schemas.openxmlformats.org/drawingml/2006/table">
            <a:tbl>
              <a:tblPr/>
              <a:tblGrid>
                <a:gridCol w="522000"/>
              </a:tblGrid>
              <a:tr h="12240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楷体_GB2312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意义，体会计数单位和进率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Rectangle 50"/>
          <p:cNvSpPr/>
          <p:nvPr/>
        </p:nvSpPr>
        <p:spPr>
          <a:xfrm>
            <a:off x="25236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643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介绍小数的历史，拓展视野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1"/>
          <a:stretch/>
        </p:blipFill>
        <p:spPr>
          <a:xfrm>
            <a:off x="684360" y="1747800"/>
            <a:ext cx="7775280" cy="41734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25236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04840" y="204840"/>
            <a:ext cx="873432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643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900000" y="2492280"/>
            <a:ext cx="77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25236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D70A-3928-402B-A076-77B933A42AB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5"/>
          <p:cNvSpPr/>
          <p:nvPr/>
        </p:nvSpPr>
        <p:spPr>
          <a:xfrm>
            <a:off x="1692360" y="32846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创设情境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3" name="Picture 9" descr="{B29CBCBB-7786-4D43-8A27-03830031292F}副本"/>
          <p:cNvPicPr/>
          <p:nvPr/>
        </p:nvPicPr>
        <p:blipFill>
          <a:blip r:embed="rId1"/>
          <a:stretch/>
        </p:blipFill>
        <p:spPr>
          <a:xfrm>
            <a:off x="958680" y="1557360"/>
            <a:ext cx="742176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223920" y="195120"/>
            <a:ext cx="8696160" cy="644868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"/>
          <p:cNvSpPr/>
          <p:nvPr/>
        </p:nvSpPr>
        <p:spPr>
          <a:xfrm>
            <a:off x="123840" y="6002280"/>
            <a:ext cx="70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12960" y="4660920"/>
            <a:ext cx="72673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对于小精灵提出的问题，你有什么想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预设：用复名数、分数或小数来表示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720800" y="5416560"/>
            <a:ext cx="6897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生活中，你见过哪些地方用到小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912960" y="5915160"/>
            <a:ext cx="79930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小结：在进行测量和计算时，往往不能正好得到整数的结果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这时也常常用小数来表示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创设情境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60" name="Picture 9" descr="{B29CBCBB-7786-4D43-8A27-03830031292F}副本"/>
          <p:cNvPicPr/>
          <p:nvPr/>
        </p:nvPicPr>
        <p:blipFill>
          <a:blip r:embed="rId1"/>
          <a:stretch/>
        </p:blipFill>
        <p:spPr>
          <a:xfrm>
            <a:off x="958680" y="1557360"/>
            <a:ext cx="7421760" cy="3081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25236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4" descr="{9F780891-88D9-415F-B419-7B84E3350EEE}副本"/>
          <p:cNvPicPr/>
          <p:nvPr/>
        </p:nvPicPr>
        <p:blipFill>
          <a:blip r:embed="rId1"/>
          <a:stretch/>
        </p:blipFill>
        <p:spPr>
          <a:xfrm>
            <a:off x="1185840" y="1870200"/>
            <a:ext cx="7624800" cy="1554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究改写方法，探究小数意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12720" y="1527120"/>
            <a:ext cx="64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初步探究一位小数的改写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39640" y="4454640"/>
            <a:ext cx="849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米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份，你能用分数或小数表示出其中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份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347840" y="5557680"/>
            <a:ext cx="6897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表示什么意思？图中还有哪部分表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574640" y="4886280"/>
            <a:ext cx="734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监控：其中的一份用分数表示是       ；用小数表示就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8" name="Group 28"/>
          <p:cNvGrpSpPr/>
          <p:nvPr/>
        </p:nvGrpSpPr>
        <p:grpSpPr>
          <a:xfrm>
            <a:off x="5241960" y="4813200"/>
            <a:ext cx="504720" cy="815400"/>
            <a:chOff x="5241960" y="4813200"/>
            <a:chExt cx="504720" cy="815400"/>
          </a:xfrm>
        </p:grpSpPr>
        <p:sp>
          <p:nvSpPr>
            <p:cNvPr id="69" name="Text Box 29"/>
            <p:cNvSpPr/>
            <p:nvPr/>
          </p:nvSpPr>
          <p:spPr>
            <a:xfrm>
              <a:off x="5241960" y="51688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0" name="Text Box 30"/>
            <p:cNvSpPr/>
            <p:nvPr/>
          </p:nvSpPr>
          <p:spPr>
            <a:xfrm>
              <a:off x="5330880" y="4813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5308560" y="52322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72" name="Rectangle 2"/>
          <p:cNvSpPr/>
          <p:nvPr/>
        </p:nvSpPr>
        <p:spPr>
          <a:xfrm>
            <a:off x="1347840" y="6094440"/>
            <a:ext cx="4160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和       又有怎样的关系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3" name="Group 38"/>
          <p:cNvGrpSpPr/>
          <p:nvPr/>
        </p:nvGrpSpPr>
        <p:grpSpPr>
          <a:xfrm>
            <a:off x="2340000" y="5894280"/>
            <a:ext cx="504720" cy="815400"/>
            <a:chOff x="2340000" y="5894280"/>
            <a:chExt cx="504720" cy="815400"/>
          </a:xfrm>
        </p:grpSpPr>
        <p:sp>
          <p:nvSpPr>
            <p:cNvPr id="74" name="Text Box 39"/>
            <p:cNvSpPr/>
            <p:nvPr/>
          </p:nvSpPr>
          <p:spPr>
            <a:xfrm>
              <a:off x="2340000" y="6249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5" name="Text Box 40"/>
            <p:cNvSpPr/>
            <p:nvPr/>
          </p:nvSpPr>
          <p:spPr>
            <a:xfrm>
              <a:off x="2428920" y="5894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6" name="Line 41"/>
            <p:cNvSpPr/>
            <p:nvPr/>
          </p:nvSpPr>
          <p:spPr>
            <a:xfrm>
              <a:off x="2406600" y="6313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77" name="组合 5"/>
          <p:cNvGrpSpPr/>
          <p:nvPr/>
        </p:nvGrpSpPr>
        <p:grpSpPr>
          <a:xfrm>
            <a:off x="1643040" y="2766960"/>
            <a:ext cx="1079640" cy="1767960"/>
            <a:chOff x="1643040" y="2766960"/>
            <a:chExt cx="1079640" cy="1767960"/>
          </a:xfrm>
        </p:grpSpPr>
        <p:grpSp>
          <p:nvGrpSpPr>
            <p:cNvPr id="78" name="组合 4"/>
            <p:cNvGrpSpPr/>
            <p:nvPr/>
          </p:nvGrpSpPr>
          <p:grpSpPr>
            <a:xfrm>
              <a:off x="1643040" y="3043080"/>
              <a:ext cx="1079640" cy="1491840"/>
              <a:chOff x="1643040" y="3043080"/>
              <a:chExt cx="1079640" cy="1491840"/>
            </a:xfrm>
          </p:grpSpPr>
          <p:sp>
            <p:nvSpPr>
              <p:cNvPr id="79" name="Text Box 22"/>
              <p:cNvSpPr/>
              <p:nvPr/>
            </p:nvSpPr>
            <p:spPr>
              <a:xfrm>
                <a:off x="1643040" y="304308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80" name="组合 2"/>
              <p:cNvGrpSpPr/>
              <p:nvPr/>
            </p:nvGrpSpPr>
            <p:grpSpPr>
              <a:xfrm>
                <a:off x="1714320" y="3377880"/>
                <a:ext cx="820800" cy="815400"/>
                <a:chOff x="1714320" y="3377880"/>
                <a:chExt cx="820800" cy="815400"/>
              </a:xfrm>
            </p:grpSpPr>
            <p:sp>
              <p:nvSpPr>
                <p:cNvPr id="81" name="Text Box 19"/>
                <p:cNvSpPr/>
                <p:nvPr/>
              </p:nvSpPr>
              <p:spPr>
                <a:xfrm>
                  <a:off x="1714320" y="3733560"/>
                  <a:ext cx="5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82" name="Text Box 20"/>
                <p:cNvSpPr/>
                <p:nvPr/>
              </p:nvSpPr>
              <p:spPr>
                <a:xfrm>
                  <a:off x="1803240" y="33778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83" name="Line 21"/>
                <p:cNvSpPr/>
                <p:nvPr/>
              </p:nvSpPr>
              <p:spPr>
                <a:xfrm>
                  <a:off x="1780920" y="37969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84" name="Text Box 23"/>
                <p:cNvSpPr/>
                <p:nvPr/>
              </p:nvSpPr>
              <p:spPr>
                <a:xfrm>
                  <a:off x="2103120" y="3522240"/>
                  <a:ext cx="432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85" name="Text Box 25"/>
              <p:cNvSpPr/>
              <p:nvPr/>
            </p:nvSpPr>
            <p:spPr>
              <a:xfrm>
                <a:off x="1643040" y="4075200"/>
                <a:ext cx="107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86" name="Line 46"/>
            <p:cNvSpPr/>
            <p:nvPr/>
          </p:nvSpPr>
          <p:spPr>
            <a:xfrm flipV="1">
              <a:off x="2003400" y="2766960"/>
              <a:ext cx="0" cy="360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4" descr="{9F780891-88D9-415F-B419-7B84E3350EEE}副本"/>
          <p:cNvPicPr/>
          <p:nvPr/>
        </p:nvPicPr>
        <p:blipFill>
          <a:blip r:embed="rId1"/>
          <a:stretch/>
        </p:blipFill>
        <p:spPr>
          <a:xfrm>
            <a:off x="1185840" y="1870200"/>
            <a:ext cx="7624800" cy="15541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究改写方法，探究小数意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612720" y="1527120"/>
            <a:ext cx="64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初步探究一位小数的改写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0" name="组合 5"/>
          <p:cNvGrpSpPr/>
          <p:nvPr/>
        </p:nvGrpSpPr>
        <p:grpSpPr>
          <a:xfrm>
            <a:off x="1643040" y="2766960"/>
            <a:ext cx="1079640" cy="1767960"/>
            <a:chOff x="1643040" y="2766960"/>
            <a:chExt cx="1079640" cy="1767960"/>
          </a:xfrm>
        </p:grpSpPr>
        <p:grpSp>
          <p:nvGrpSpPr>
            <p:cNvPr id="91" name="组合 4"/>
            <p:cNvGrpSpPr/>
            <p:nvPr/>
          </p:nvGrpSpPr>
          <p:grpSpPr>
            <a:xfrm>
              <a:off x="1643040" y="3043080"/>
              <a:ext cx="1079640" cy="1491840"/>
              <a:chOff x="1643040" y="3043080"/>
              <a:chExt cx="1079640" cy="1491840"/>
            </a:xfrm>
          </p:grpSpPr>
          <p:sp>
            <p:nvSpPr>
              <p:cNvPr id="92" name="Text Box 22"/>
              <p:cNvSpPr/>
              <p:nvPr/>
            </p:nvSpPr>
            <p:spPr>
              <a:xfrm>
                <a:off x="1643040" y="304308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93" name="组合 2"/>
              <p:cNvGrpSpPr/>
              <p:nvPr/>
            </p:nvGrpSpPr>
            <p:grpSpPr>
              <a:xfrm>
                <a:off x="1714320" y="3377880"/>
                <a:ext cx="820800" cy="815400"/>
                <a:chOff x="1714320" y="3377880"/>
                <a:chExt cx="820800" cy="815400"/>
              </a:xfrm>
            </p:grpSpPr>
            <p:sp>
              <p:nvSpPr>
                <p:cNvPr id="94" name="Text Box 19"/>
                <p:cNvSpPr/>
                <p:nvPr/>
              </p:nvSpPr>
              <p:spPr>
                <a:xfrm>
                  <a:off x="1714320" y="3733560"/>
                  <a:ext cx="5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95" name="Text Box 20"/>
                <p:cNvSpPr/>
                <p:nvPr/>
              </p:nvSpPr>
              <p:spPr>
                <a:xfrm>
                  <a:off x="1803240" y="33778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96" name="Line 21"/>
                <p:cNvSpPr/>
                <p:nvPr/>
              </p:nvSpPr>
              <p:spPr>
                <a:xfrm>
                  <a:off x="1780920" y="37969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97" name="Text Box 23"/>
                <p:cNvSpPr/>
                <p:nvPr/>
              </p:nvSpPr>
              <p:spPr>
                <a:xfrm>
                  <a:off x="2103120" y="3522240"/>
                  <a:ext cx="432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98" name="Text Box 25"/>
              <p:cNvSpPr/>
              <p:nvPr/>
            </p:nvSpPr>
            <p:spPr>
              <a:xfrm>
                <a:off x="1643040" y="4075200"/>
                <a:ext cx="107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99" name="Line 46"/>
            <p:cNvSpPr/>
            <p:nvPr/>
          </p:nvSpPr>
          <p:spPr>
            <a:xfrm flipV="1">
              <a:off x="2003400" y="2766960"/>
              <a:ext cx="0" cy="360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0" name="Rectangle 2"/>
          <p:cNvSpPr/>
          <p:nvPr/>
        </p:nvSpPr>
        <p:spPr>
          <a:xfrm>
            <a:off x="1179360" y="4594320"/>
            <a:ext cx="76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个红色箭头所指的刻度可以表示多少分米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用分数和小数表示出它代表多少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949400" y="5313240"/>
            <a:ext cx="55292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有什么关系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949400" y="5729400"/>
            <a:ext cx="55292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个红色箭头所指的刻度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179360" y="6178680"/>
            <a:ext cx="7280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小结：分母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的分数可以写成一位小数，就是几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4" name="组合 11"/>
          <p:cNvGrpSpPr/>
          <p:nvPr/>
        </p:nvGrpSpPr>
        <p:grpSpPr>
          <a:xfrm>
            <a:off x="2685960" y="2766600"/>
            <a:ext cx="1390680" cy="1458000"/>
            <a:chOff x="2685960" y="2766600"/>
            <a:chExt cx="1390680" cy="1458000"/>
          </a:xfrm>
        </p:grpSpPr>
        <p:sp>
          <p:nvSpPr>
            <p:cNvPr id="105" name="Text Box 24"/>
            <p:cNvSpPr/>
            <p:nvPr/>
          </p:nvSpPr>
          <p:spPr>
            <a:xfrm>
              <a:off x="2685960" y="3033360"/>
              <a:ext cx="1390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      )d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      )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      )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6" name="Line 27"/>
            <p:cNvSpPr/>
            <p:nvPr/>
          </p:nvSpPr>
          <p:spPr>
            <a:xfrm flipV="1">
              <a:off x="3135960" y="2766600"/>
              <a:ext cx="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7" name="组合 12"/>
          <p:cNvGrpSpPr/>
          <p:nvPr/>
        </p:nvGrpSpPr>
        <p:grpSpPr>
          <a:xfrm>
            <a:off x="4986360" y="2766600"/>
            <a:ext cx="1395360" cy="1458000"/>
            <a:chOff x="4986360" y="2766600"/>
            <a:chExt cx="1395360" cy="1458000"/>
          </a:xfrm>
        </p:grpSpPr>
        <p:sp>
          <p:nvSpPr>
            <p:cNvPr id="108" name="Line 28"/>
            <p:cNvSpPr/>
            <p:nvPr/>
          </p:nvSpPr>
          <p:spPr>
            <a:xfrm flipV="1">
              <a:off x="5437080" y="2766600"/>
              <a:ext cx="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9" name="Text Box 29"/>
            <p:cNvSpPr/>
            <p:nvPr/>
          </p:nvSpPr>
          <p:spPr>
            <a:xfrm>
              <a:off x="4986360" y="3033360"/>
              <a:ext cx="139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      )d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      )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      )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0" name="Rectangle 27"/>
          <p:cNvSpPr/>
          <p:nvPr/>
        </p:nvSpPr>
        <p:spPr>
          <a:xfrm>
            <a:off x="25236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6" descr=""/>
          <p:cNvPicPr/>
          <p:nvPr/>
        </p:nvPicPr>
        <p:blipFill>
          <a:blip r:embed="rId1"/>
          <a:stretch/>
        </p:blipFill>
        <p:spPr>
          <a:xfrm>
            <a:off x="2427120" y="2884320"/>
            <a:ext cx="3983040" cy="1413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1797120" y="2330280"/>
            <a:ext cx="439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巩固练习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173400" y="544212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5403960" y="542592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5" name="Group 12"/>
          <p:cNvGrpSpPr/>
          <p:nvPr/>
        </p:nvGrpSpPr>
        <p:grpSpPr>
          <a:xfrm>
            <a:off x="5502240" y="4600440"/>
            <a:ext cx="504720" cy="815400"/>
            <a:chOff x="5502240" y="4600440"/>
            <a:chExt cx="504720" cy="815400"/>
          </a:xfrm>
        </p:grpSpPr>
        <p:sp>
          <p:nvSpPr>
            <p:cNvPr id="116" name="Text Box 13"/>
            <p:cNvSpPr/>
            <p:nvPr/>
          </p:nvSpPr>
          <p:spPr>
            <a:xfrm>
              <a:off x="5502240" y="49561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7" name="Text Box 14"/>
            <p:cNvSpPr/>
            <p:nvPr/>
          </p:nvSpPr>
          <p:spPr>
            <a:xfrm>
              <a:off x="5591160" y="4600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8" name="Line 15"/>
            <p:cNvSpPr/>
            <p:nvPr/>
          </p:nvSpPr>
          <p:spPr>
            <a:xfrm>
              <a:off x="5568840" y="50194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9" name="Text Box 17"/>
          <p:cNvSpPr/>
          <p:nvPr/>
        </p:nvSpPr>
        <p:spPr>
          <a:xfrm>
            <a:off x="1846440" y="49528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分数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846440" y="54561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数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5219640" y="5361120"/>
            <a:ext cx="1081080" cy="0"/>
          </a:xfrm>
          <a:prstGeom prst="line">
            <a:avLst/>
          </a:prstGeom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2987640" y="5361120"/>
            <a:ext cx="1079640" cy="0"/>
          </a:xfrm>
          <a:prstGeom prst="line">
            <a:avLst/>
          </a:prstGeom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Line 25"/>
          <p:cNvSpPr/>
          <p:nvPr/>
        </p:nvSpPr>
        <p:spPr>
          <a:xfrm>
            <a:off x="2987640" y="5846760"/>
            <a:ext cx="1079640" cy="0"/>
          </a:xfrm>
          <a:prstGeom prst="line">
            <a:avLst/>
          </a:prstGeom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Line 26"/>
          <p:cNvSpPr/>
          <p:nvPr/>
        </p:nvSpPr>
        <p:spPr>
          <a:xfrm>
            <a:off x="5219640" y="5846760"/>
            <a:ext cx="1081080" cy="0"/>
          </a:xfrm>
          <a:prstGeom prst="line">
            <a:avLst/>
          </a:prstGeom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5" name="Group 30"/>
          <p:cNvGrpSpPr/>
          <p:nvPr/>
        </p:nvGrpSpPr>
        <p:grpSpPr>
          <a:xfrm>
            <a:off x="3271680" y="4630680"/>
            <a:ext cx="504720" cy="815400"/>
            <a:chOff x="3271680" y="4630680"/>
            <a:chExt cx="504720" cy="815400"/>
          </a:xfrm>
        </p:grpSpPr>
        <p:sp>
          <p:nvSpPr>
            <p:cNvPr id="126" name="Text Box 31"/>
            <p:cNvSpPr/>
            <p:nvPr/>
          </p:nvSpPr>
          <p:spPr>
            <a:xfrm>
              <a:off x="3271680" y="4986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3360600" y="46306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8" name="Line 33"/>
            <p:cNvSpPr/>
            <p:nvPr/>
          </p:nvSpPr>
          <p:spPr>
            <a:xfrm>
              <a:off x="3338280" y="50497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9" name="Rectangle 2"/>
          <p:cNvSpPr/>
          <p:nvPr/>
        </p:nvSpPr>
        <p:spPr>
          <a:xfrm>
            <a:off x="612720" y="1584360"/>
            <a:ext cx="64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初步探究一位小数的改写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究改写方法，探究小数意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503360" y="4718160"/>
            <a:ext cx="72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米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份，其中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份用分数怎样表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用小数怎样表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262240" y="5451480"/>
            <a:ext cx="6442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个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个红色箭头所指的刻度用分数和小数分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可以怎样表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503360" y="6145200"/>
            <a:ext cx="7058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小结：分母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的分数可以写成两位小数，就是几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4" name="Picture 41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5819760" cy="12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1"/>
          <p:cNvSpPr/>
          <p:nvPr/>
        </p:nvSpPr>
        <p:spPr>
          <a:xfrm>
            <a:off x="3816360" y="3492360"/>
            <a:ext cx="142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   )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   )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902200" y="3492360"/>
            <a:ext cx="120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   )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   )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7" name="组合 1"/>
          <p:cNvGrpSpPr/>
          <p:nvPr/>
        </p:nvGrpSpPr>
        <p:grpSpPr>
          <a:xfrm>
            <a:off x="2174760" y="3416400"/>
            <a:ext cx="1192320" cy="1123200"/>
            <a:chOff x="2174760" y="3416400"/>
            <a:chExt cx="1192320" cy="1123200"/>
          </a:xfrm>
        </p:grpSpPr>
        <p:sp>
          <p:nvSpPr>
            <p:cNvPr id="138" name="Text Box 30"/>
            <p:cNvSpPr/>
            <p:nvPr/>
          </p:nvSpPr>
          <p:spPr>
            <a:xfrm>
              <a:off x="2215800" y="4079880"/>
              <a:ext cx="115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39" name="Group 33"/>
            <p:cNvGrpSpPr/>
            <p:nvPr/>
          </p:nvGrpSpPr>
          <p:grpSpPr>
            <a:xfrm>
              <a:off x="2174760" y="3416400"/>
              <a:ext cx="876240" cy="815040"/>
              <a:chOff x="2174760" y="3416400"/>
              <a:chExt cx="876240" cy="815040"/>
            </a:xfrm>
          </p:grpSpPr>
          <p:grpSp>
            <p:nvGrpSpPr>
              <p:cNvPr id="140" name="Group 34"/>
              <p:cNvGrpSpPr/>
              <p:nvPr/>
            </p:nvGrpSpPr>
            <p:grpSpPr>
              <a:xfrm>
                <a:off x="2174760" y="3416400"/>
                <a:ext cx="714240" cy="815040"/>
                <a:chOff x="2174760" y="3416400"/>
                <a:chExt cx="714240" cy="815040"/>
              </a:xfrm>
            </p:grpSpPr>
            <p:sp>
              <p:nvSpPr>
                <p:cNvPr id="141" name="Text Box 35"/>
                <p:cNvSpPr/>
                <p:nvPr/>
              </p:nvSpPr>
              <p:spPr>
                <a:xfrm>
                  <a:off x="2174760" y="377172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2" name="Text Box 36"/>
                <p:cNvSpPr/>
                <p:nvPr/>
              </p:nvSpPr>
              <p:spPr>
                <a:xfrm>
                  <a:off x="2350800" y="3416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3" name="Line 37"/>
                <p:cNvSpPr/>
                <p:nvPr/>
              </p:nvSpPr>
              <p:spPr>
                <a:xfrm>
                  <a:off x="2328840" y="3835440"/>
                  <a:ext cx="406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44" name="Text Box 38"/>
              <p:cNvSpPr/>
              <p:nvPr/>
            </p:nvSpPr>
            <p:spPr>
              <a:xfrm>
                <a:off x="2670120" y="36100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45" name="Rectangle 2"/>
          <p:cNvSpPr/>
          <p:nvPr/>
        </p:nvSpPr>
        <p:spPr>
          <a:xfrm>
            <a:off x="612720" y="1584360"/>
            <a:ext cx="64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辨析理解两位小数的改写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究改写方法，探究小数意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25236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1797120" y="5619600"/>
            <a:ext cx="59054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监控：为什么可以写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？说一说你的想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3873600" y="489276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0" name="Group 14"/>
          <p:cNvGrpSpPr/>
          <p:nvPr/>
        </p:nvGrpSpPr>
        <p:grpSpPr>
          <a:xfrm>
            <a:off x="3909960" y="4040280"/>
            <a:ext cx="757440" cy="834480"/>
            <a:chOff x="3909960" y="4040280"/>
            <a:chExt cx="757440" cy="834480"/>
          </a:xfrm>
        </p:grpSpPr>
        <p:sp>
          <p:nvSpPr>
            <p:cNvPr id="151" name="Text Box 15"/>
            <p:cNvSpPr/>
            <p:nvPr/>
          </p:nvSpPr>
          <p:spPr>
            <a:xfrm>
              <a:off x="3932280" y="44150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2" name="Text Box 16"/>
            <p:cNvSpPr/>
            <p:nvPr/>
          </p:nvSpPr>
          <p:spPr>
            <a:xfrm>
              <a:off x="3909960" y="4040280"/>
              <a:ext cx="7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>
              <a:off x="4073400" y="4459320"/>
              <a:ext cx="432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4" name="Rectangle 2"/>
          <p:cNvSpPr/>
          <p:nvPr/>
        </p:nvSpPr>
        <p:spPr>
          <a:xfrm>
            <a:off x="612720" y="1584360"/>
            <a:ext cx="64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辨析理解两位小数的改写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究改写方法，探究小数意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797120" y="2330280"/>
            <a:ext cx="439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巩固练习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7" name="Picture 22" descr=""/>
          <p:cNvPicPr/>
          <p:nvPr/>
        </p:nvPicPr>
        <p:blipFill>
          <a:blip r:embed="rId1"/>
          <a:stretch/>
        </p:blipFill>
        <p:spPr>
          <a:xfrm>
            <a:off x="3603600" y="2565360"/>
            <a:ext cx="1387440" cy="1414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7"/>
          <p:cNvSpPr/>
          <p:nvPr/>
        </p:nvSpPr>
        <p:spPr>
          <a:xfrm>
            <a:off x="2813040" y="4378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分数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2813040" y="48816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数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Line 24"/>
          <p:cNvSpPr/>
          <p:nvPr/>
        </p:nvSpPr>
        <p:spPr>
          <a:xfrm>
            <a:off x="3754440" y="4786200"/>
            <a:ext cx="1079640" cy="0"/>
          </a:xfrm>
          <a:prstGeom prst="line">
            <a:avLst/>
          </a:prstGeom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Line 25"/>
          <p:cNvSpPr/>
          <p:nvPr/>
        </p:nvSpPr>
        <p:spPr>
          <a:xfrm>
            <a:off x="3754440" y="5272200"/>
            <a:ext cx="1079640" cy="0"/>
          </a:xfrm>
          <a:prstGeom prst="line">
            <a:avLst/>
          </a:prstGeom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25236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8:25Z</dcterms:modified>
  <cp:revision>59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