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6.png" ContentType="image/png"/>
  <Override PartName="/ppt/media/image17.gif" ContentType="image/gif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30.gif" ContentType="image/gif"/>
  <Override PartName="/ppt/media/image23.png" ContentType="image/png"/>
  <Override PartName="/ppt/media/image24.jpeg" ContentType="image/jpeg"/>
  <Override PartName="/ppt/media/image25.png" ContentType="image/png"/>
  <Override PartName="/ppt/media/image26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34B-368A-4C01-A435-89B719493A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8.xml"/><Relationship Id="rId24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FA7D-0ECB-40D7-A491-0CA9D3D9715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66E-8041-472E-B9A6-706BF5AC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320-0C04-4095-A7FD-DA4D5DD5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8F8-02D2-431B-A75F-E7201E1F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6B9-DDFD-4C85-B4E3-D9D4F134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FB78-5E1C-4EC2-90A3-5C449948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85E3-3753-4312-82A6-8A41CAE2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AC1A-E03C-47AD-91A8-9266CC7A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C6B3-3902-4F56-852E-5BB2AC03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22D5-1A63-4CEC-AC8F-6311589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E6A1-D7D1-4901-864B-8938243C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096A-03D8-4396-AA5E-4F75B76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CDB-79E2-4CD4-99A0-50D260B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95E9-88F5-4CC3-96CB-58D23B2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5CEE-30B0-4B57-A63B-7CC56C31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409E-9481-4864-BD47-158BE47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3553-7E86-450E-BB55-EF7D5025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0986-2A9B-42E7-8B03-87A7764B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46B8-0DF9-4C68-A5E6-798057FA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3274-5A7D-4780-95C1-681BBC3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AEBF-7C93-4C73-A005-6BEA7B00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2AAC-A158-4460-A445-04D5FA80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E57B-3B89-4512-8582-8295565C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493-D758-4CD4-B300-29325DF7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A5B1-A068-40C2-A54E-CC9EBF3D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ADA3-449B-4EA6-B610-9AE352EC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9CF7-FA7F-49F2-B416-A28C3729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AB12-7702-48A8-A752-1E339F0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BD6A-D81C-4E8A-A2B1-1FA0CEE7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A223-E800-4E35-9739-6F7A94BB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ABA0-1CCD-4F0E-9CC5-C2D69DBA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943-258B-4E7B-B753-B311BA8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26C-A257-4787-A468-CEA4979F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094-92BD-42ED-A583-699FA549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8C9-372C-45FB-8D92-DE769A2F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C3E-E57E-445C-BB16-07097AA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2C1-0767-4724-8FD0-5C2C115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8247-9A4B-43EC-993B-58DD59BC4B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11A8-2739-4C57-847C-2E66CFD2CD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9AEE-130A-45A7-B4B3-010F0E41CC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4.png"/><Relationship Id="rId6" Type="http://schemas.openxmlformats.org/officeDocument/2006/relationships/slide" Target="slide4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z.mtv0.com/desk84/2118/2223090ee5b9486b.htm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219.239.238.40:82/200503/ca649649.htm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835280" y="1611360"/>
            <a:ext cx="547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摄影师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1896840" y="5229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13800" y="431640"/>
            <a:ext cx="471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气真好啊！读读这些词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心情非常轻松愉快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628640" y="1916280"/>
            <a:ext cx="42163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</a:rPr>
              <a:t>阳光明媚    风和日丽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</a:rPr>
              <a:t>天高云淡    晴空万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</a:rPr>
              <a:t>碧空如洗    秋高气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rId2" action="ppaction://hlinksldjump"/>
          </p:cNvPr>
          <p:cNvSpPr/>
          <p:nvPr/>
        </p:nvSpPr>
        <p:spPr>
          <a:xfrm>
            <a:off x="8305920" y="6095880"/>
            <a:ext cx="53316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4000" y="40464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贴（        ）  吩（        ）    社（        ）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沾（        ）  纷（        ）    杜（        ）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测（        ）  秘（        ）    胶（       ）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侧（        ）  密（        ）    郊（       ）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者（        ）  杂（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著（        ）  染（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443240" y="404640"/>
            <a:ext cx="729360" cy="1176120"/>
            <a:chOff x="1443240" y="404640"/>
            <a:chExt cx="729360" cy="1176120"/>
          </a:xfrm>
        </p:grpSpPr>
        <p:sp>
          <p:nvSpPr>
            <p:cNvPr id="165" name="Text Box 4"/>
            <p:cNvSpPr/>
            <p:nvPr/>
          </p:nvSpPr>
          <p:spPr>
            <a:xfrm>
              <a:off x="1443240" y="404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贴上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1443240" y="9381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沾湿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3964320" y="404640"/>
            <a:ext cx="729360" cy="1176120"/>
            <a:chOff x="3964320" y="404640"/>
            <a:chExt cx="729360" cy="1176120"/>
          </a:xfrm>
        </p:grpSpPr>
        <p:sp>
          <p:nvSpPr>
            <p:cNvPr id="168" name="Text Box 7"/>
            <p:cNvSpPr/>
            <p:nvPr/>
          </p:nvSpPr>
          <p:spPr>
            <a:xfrm>
              <a:off x="3964320" y="404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吩咐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3964320" y="9381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纷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9"/>
          <p:cNvGrpSpPr/>
          <p:nvPr/>
        </p:nvGrpSpPr>
        <p:grpSpPr>
          <a:xfrm>
            <a:off x="1443240" y="2060640"/>
            <a:ext cx="729360" cy="1176120"/>
            <a:chOff x="1443240" y="2060640"/>
            <a:chExt cx="729360" cy="1176120"/>
          </a:xfrm>
        </p:grpSpPr>
        <p:sp>
          <p:nvSpPr>
            <p:cNvPr id="171" name="Text Box 10"/>
            <p:cNvSpPr/>
            <p:nvPr/>
          </p:nvSpPr>
          <p:spPr>
            <a:xfrm>
              <a:off x="1443240" y="2060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测量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1443240" y="25941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侧身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2"/>
          <p:cNvGrpSpPr/>
          <p:nvPr/>
        </p:nvGrpSpPr>
        <p:grpSpPr>
          <a:xfrm>
            <a:off x="6516720" y="404640"/>
            <a:ext cx="1251000" cy="1176120"/>
            <a:chOff x="6516720" y="404640"/>
            <a:chExt cx="1251000" cy="1176120"/>
          </a:xfrm>
        </p:grpSpPr>
        <p:sp>
          <p:nvSpPr>
            <p:cNvPr id="174" name="Text Box 13"/>
            <p:cNvSpPr/>
            <p:nvPr/>
          </p:nvSpPr>
          <p:spPr>
            <a:xfrm>
              <a:off x="6516720" y="938160"/>
              <a:ext cx="12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杜绝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4"/>
            <p:cNvSpPr/>
            <p:nvPr/>
          </p:nvSpPr>
          <p:spPr>
            <a:xfrm>
              <a:off x="6701400" y="404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社会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5"/>
          <p:cNvGrpSpPr/>
          <p:nvPr/>
        </p:nvGrpSpPr>
        <p:grpSpPr>
          <a:xfrm>
            <a:off x="6443640" y="2060640"/>
            <a:ext cx="1143000" cy="1176120"/>
            <a:chOff x="6443640" y="2060640"/>
            <a:chExt cx="1143000" cy="1176120"/>
          </a:xfrm>
        </p:grpSpPr>
        <p:sp>
          <p:nvSpPr>
            <p:cNvPr id="177" name="Text Box 16"/>
            <p:cNvSpPr/>
            <p:nvPr/>
          </p:nvSpPr>
          <p:spPr>
            <a:xfrm>
              <a:off x="6443640" y="20606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胶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6443640" y="25941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郊外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3708360" y="2060640"/>
            <a:ext cx="1219320" cy="1176120"/>
            <a:chOff x="3708360" y="2060640"/>
            <a:chExt cx="1219320" cy="1176120"/>
          </a:xfrm>
        </p:grpSpPr>
        <p:sp>
          <p:nvSpPr>
            <p:cNvPr id="180" name="Text Box 19"/>
            <p:cNvSpPr/>
            <p:nvPr/>
          </p:nvSpPr>
          <p:spPr>
            <a:xfrm>
              <a:off x="3784680" y="25941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秘密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3708360" y="20606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秘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1"/>
          <p:cNvGrpSpPr/>
          <p:nvPr/>
        </p:nvGrpSpPr>
        <p:grpSpPr>
          <a:xfrm>
            <a:off x="1187280" y="3716280"/>
            <a:ext cx="1143000" cy="1176120"/>
            <a:chOff x="1187280" y="3716280"/>
            <a:chExt cx="1143000" cy="1176120"/>
          </a:xfrm>
        </p:grpSpPr>
        <p:sp>
          <p:nvSpPr>
            <p:cNvPr id="183" name="Text Box 22"/>
            <p:cNvSpPr/>
            <p:nvPr/>
          </p:nvSpPr>
          <p:spPr>
            <a:xfrm>
              <a:off x="1187280" y="37162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作者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3"/>
            <p:cNvSpPr/>
            <p:nvPr/>
          </p:nvSpPr>
          <p:spPr>
            <a:xfrm>
              <a:off x="1187280" y="42498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著作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4"/>
          <p:cNvGrpSpPr/>
          <p:nvPr/>
        </p:nvGrpSpPr>
        <p:grpSpPr>
          <a:xfrm>
            <a:off x="3780000" y="3716280"/>
            <a:ext cx="1143000" cy="1176120"/>
            <a:chOff x="3780000" y="3716280"/>
            <a:chExt cx="1143000" cy="1176120"/>
          </a:xfrm>
        </p:grpSpPr>
        <p:sp>
          <p:nvSpPr>
            <p:cNvPr id="186" name="Text Box 25"/>
            <p:cNvSpPr/>
            <p:nvPr/>
          </p:nvSpPr>
          <p:spPr>
            <a:xfrm>
              <a:off x="3780000" y="37162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杂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6"/>
            <p:cNvSpPr/>
            <p:nvPr/>
          </p:nvSpPr>
          <p:spPr>
            <a:xfrm>
              <a:off x="3780000" y="42498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感染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465120" y="347760"/>
            <a:ext cx="40928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早晨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纸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电车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照相机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杂志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摄影师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455480" y="404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47640" y="134136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26760" y="2133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辆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526760" y="29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526760" y="3933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2676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位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1905120"/>
            <a:ext cx="80578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纸团  墙  鞠躬  打量  吩咐  摆弄  胶卷  秘书  杂志社  转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914400" y="609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宋体"/>
              </a:rPr>
              <a:t>读一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小妹妹"/>
          <p:cNvPicPr/>
          <p:nvPr/>
        </p:nvPicPr>
        <p:blipFill>
          <a:blip r:embed="rId2"/>
          <a:stretch/>
        </p:blipFill>
        <p:spPr>
          <a:xfrm>
            <a:off x="0" y="0"/>
            <a:ext cx="1065240" cy="12682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39640" y="3645000"/>
            <a:ext cx="73915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我能用上面的词语来说说课文的主要内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547640" y="26028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我知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突然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是什么意思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进入梦想世界"/>
          <p:cNvPicPr/>
          <p:nvPr/>
        </p:nvPicPr>
        <p:blipFill>
          <a:blip r:embed="rId2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838080" y="19810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12682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个阳光明媚的早晨，高尔基正在读书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突然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一个小纸团从窗外飞到了桌子上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116000" y="30686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高尔基侧过脸，对他微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突然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小男孩往地上一坐，哭了起来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0" y="50846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我想用“突然”说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半透明底"/>
          <p:cNvPicPr/>
          <p:nvPr/>
        </p:nvPicPr>
        <p:blipFill>
          <a:blip r:embed="rId2"/>
          <a:stretch/>
        </p:blipFill>
        <p:spPr>
          <a:xfrm>
            <a:off x="144360" y="189000"/>
            <a:ext cx="8964720" cy="3456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482760" y="444600"/>
            <a:ext cx="8280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2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夏天，高尔基住在列宁格勒。他经常坐在窗子旁边工作。一个阳光明媚的早晨，高尔基正在读书，突然，一个小纸团从窗外飞到了桌子上。高尔基打开纸团，上面写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 rot="20976600">
            <a:off x="798120" y="501480"/>
            <a:ext cx="6781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高尔基同志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一名少先队员。我想给您照张相，贴在我们的墙报上。请您让他们放我进去。我照完相，立刻就走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70240" y="333360"/>
            <a:ext cx="4722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男孩是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摄影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尔基是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返回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80080" y="5985000"/>
            <a:ext cx="1952640" cy="61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27"/>
          <p:cNvSpPr/>
          <p:nvPr/>
        </p:nvSpPr>
        <p:spPr>
          <a:xfrm>
            <a:off x="1839960" y="26766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0" y="0"/>
            <a:ext cx="9145440" cy="6857640"/>
            <a:chOff x="0" y="0"/>
            <a:chExt cx="9145440" cy="6857640"/>
          </a:xfrm>
        </p:grpSpPr>
        <p:pic>
          <p:nvPicPr>
            <p:cNvPr id="214" name="Picture 5" descr="pic_3131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54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6"/>
            <p:cNvSpPr/>
            <p:nvPr/>
          </p:nvSpPr>
          <p:spPr>
            <a:xfrm>
              <a:off x="684360" y="698040"/>
              <a:ext cx="5905440" cy="265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"/>
          <p:cNvGrpSpPr/>
          <p:nvPr/>
        </p:nvGrpSpPr>
        <p:grpSpPr>
          <a:xfrm>
            <a:off x="684360" y="3573360"/>
            <a:ext cx="2361960" cy="2727360"/>
            <a:chOff x="684360" y="3573360"/>
            <a:chExt cx="2361960" cy="2727360"/>
          </a:xfrm>
        </p:grpSpPr>
        <p:pic>
          <p:nvPicPr>
            <p:cNvPr id="217" name="Picture 8" descr="tzg"/>
            <p:cNvPicPr/>
            <p:nvPr/>
          </p:nvPicPr>
          <p:blipFill>
            <a:blip r:embed="rId2"/>
            <a:stretch/>
          </p:blipFill>
          <p:spPr>
            <a:xfrm>
              <a:off x="684360" y="357336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9"/>
            <p:cNvSpPr/>
            <p:nvPr/>
          </p:nvSpPr>
          <p:spPr>
            <a:xfrm>
              <a:off x="117684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突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3564000" y="3573360"/>
            <a:ext cx="2361960" cy="2727360"/>
            <a:chOff x="3564000" y="3573360"/>
            <a:chExt cx="2361960" cy="2727360"/>
          </a:xfrm>
        </p:grpSpPr>
        <p:pic>
          <p:nvPicPr>
            <p:cNvPr id="220" name="Picture 11" descr="tzg"/>
            <p:cNvPicPr/>
            <p:nvPr/>
          </p:nvPicPr>
          <p:blipFill>
            <a:blip r:embed="rId3"/>
            <a:stretch/>
          </p:blipFill>
          <p:spPr>
            <a:xfrm>
              <a:off x="3564000" y="357336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2"/>
            <p:cNvSpPr/>
            <p:nvPr/>
          </p:nvSpPr>
          <p:spPr>
            <a:xfrm>
              <a:off x="405648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弄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3"/>
          <p:cNvGrpSpPr/>
          <p:nvPr/>
        </p:nvGrpSpPr>
        <p:grpSpPr>
          <a:xfrm>
            <a:off x="3492360" y="476280"/>
            <a:ext cx="2362320" cy="2727360"/>
            <a:chOff x="3492360" y="476280"/>
            <a:chExt cx="2362320" cy="2727360"/>
          </a:xfrm>
        </p:grpSpPr>
        <p:pic>
          <p:nvPicPr>
            <p:cNvPr id="223" name="Picture 14" descr="tzg"/>
            <p:cNvPicPr/>
            <p:nvPr/>
          </p:nvPicPr>
          <p:blipFill>
            <a:blip r:embed="rId4"/>
            <a:stretch/>
          </p:blipFill>
          <p:spPr>
            <a:xfrm>
              <a:off x="3492360" y="476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15"/>
            <p:cNvSpPr/>
            <p:nvPr/>
          </p:nvSpPr>
          <p:spPr>
            <a:xfrm>
              <a:off x="3985200" y="536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备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6"/>
          <p:cNvGrpSpPr/>
          <p:nvPr/>
        </p:nvGrpSpPr>
        <p:grpSpPr>
          <a:xfrm>
            <a:off x="611280" y="476280"/>
            <a:ext cx="2361960" cy="2727360"/>
            <a:chOff x="611280" y="476280"/>
            <a:chExt cx="2361960" cy="2727360"/>
          </a:xfrm>
        </p:grpSpPr>
        <p:pic>
          <p:nvPicPr>
            <p:cNvPr id="226" name="Picture 17" descr="tzg"/>
            <p:cNvPicPr/>
            <p:nvPr/>
          </p:nvPicPr>
          <p:blipFill>
            <a:blip r:embed="rId5"/>
            <a:stretch/>
          </p:blipFill>
          <p:spPr>
            <a:xfrm>
              <a:off x="611280" y="47628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8"/>
            <p:cNvSpPr/>
            <p:nvPr/>
          </p:nvSpPr>
          <p:spPr>
            <a:xfrm>
              <a:off x="1103760" y="536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基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6227640" y="476280"/>
            <a:ext cx="2362320" cy="2727360"/>
            <a:chOff x="6227640" y="476280"/>
            <a:chExt cx="2362320" cy="2727360"/>
          </a:xfrm>
        </p:grpSpPr>
        <p:pic>
          <p:nvPicPr>
            <p:cNvPr id="229" name="Picture 20" descr="tzg"/>
            <p:cNvPicPr/>
            <p:nvPr/>
          </p:nvPicPr>
          <p:blipFill>
            <a:blip r:embed="rId6"/>
            <a:stretch/>
          </p:blipFill>
          <p:spPr>
            <a:xfrm>
              <a:off x="6227640" y="476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21"/>
            <p:cNvSpPr/>
            <p:nvPr/>
          </p:nvSpPr>
          <p:spPr>
            <a:xfrm>
              <a:off x="6720480" y="536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卷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2"/>
          <p:cNvGrpSpPr/>
          <p:nvPr/>
        </p:nvGrpSpPr>
        <p:grpSpPr>
          <a:xfrm>
            <a:off x="6227640" y="3573360"/>
            <a:ext cx="2362320" cy="2727360"/>
            <a:chOff x="6227640" y="3573360"/>
            <a:chExt cx="2362320" cy="2727360"/>
          </a:xfrm>
        </p:grpSpPr>
        <p:pic>
          <p:nvPicPr>
            <p:cNvPr id="232" name="Picture 23" descr="tzg"/>
            <p:cNvPicPr/>
            <p:nvPr/>
          </p:nvPicPr>
          <p:blipFill>
            <a:blip r:embed="rId7"/>
            <a:stretch/>
          </p:blipFill>
          <p:spPr>
            <a:xfrm>
              <a:off x="6227640" y="357336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24"/>
            <p:cNvSpPr/>
            <p:nvPr/>
          </p:nvSpPr>
          <p:spPr>
            <a:xfrm>
              <a:off x="672048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杂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324000" y="3645000"/>
            <a:ext cx="2361960" cy="2727360"/>
            <a:chOff x="324000" y="3645000"/>
            <a:chExt cx="2361960" cy="2727360"/>
          </a:xfrm>
        </p:grpSpPr>
        <p:pic>
          <p:nvPicPr>
            <p:cNvPr id="235" name="Picture 3" descr="tzg"/>
            <p:cNvPicPr/>
            <p:nvPr/>
          </p:nvPicPr>
          <p:blipFill>
            <a:blip r:embed="rId2"/>
            <a:stretch/>
          </p:blipFill>
          <p:spPr>
            <a:xfrm>
              <a:off x="324000" y="364500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"/>
            <p:cNvSpPr/>
            <p:nvPr/>
          </p:nvSpPr>
          <p:spPr>
            <a:xfrm>
              <a:off x="816480" y="370548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准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"/>
          <p:cNvGrpSpPr/>
          <p:nvPr/>
        </p:nvGrpSpPr>
        <p:grpSpPr>
          <a:xfrm>
            <a:off x="2700360" y="3645000"/>
            <a:ext cx="2362320" cy="2727360"/>
            <a:chOff x="2700360" y="3645000"/>
            <a:chExt cx="2362320" cy="2727360"/>
          </a:xfrm>
        </p:grpSpPr>
        <p:pic>
          <p:nvPicPr>
            <p:cNvPr id="238" name="Picture 6" descr="tzg"/>
            <p:cNvPicPr/>
            <p:nvPr/>
          </p:nvPicPr>
          <p:blipFill>
            <a:blip r:embed="rId3"/>
            <a:stretch/>
          </p:blipFill>
          <p:spPr>
            <a:xfrm>
              <a:off x="2700360" y="364500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7"/>
            <p:cNvSpPr/>
            <p:nvPr/>
          </p:nvSpPr>
          <p:spPr>
            <a:xfrm>
              <a:off x="3193200" y="370548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备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"/>
          <p:cNvGrpSpPr/>
          <p:nvPr/>
        </p:nvGrpSpPr>
        <p:grpSpPr>
          <a:xfrm>
            <a:off x="5580000" y="404640"/>
            <a:ext cx="2362320" cy="2727360"/>
            <a:chOff x="5580000" y="404640"/>
            <a:chExt cx="2362320" cy="2727360"/>
          </a:xfrm>
        </p:grpSpPr>
        <p:pic>
          <p:nvPicPr>
            <p:cNvPr id="241" name="Picture 9" descr="tzg"/>
            <p:cNvPicPr/>
            <p:nvPr/>
          </p:nvPicPr>
          <p:blipFill>
            <a:blip r:embed="rId4"/>
            <a:stretch/>
          </p:blipFill>
          <p:spPr>
            <a:xfrm>
              <a:off x="5580000" y="40464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0"/>
            <p:cNvSpPr/>
            <p:nvPr/>
          </p:nvSpPr>
          <p:spPr>
            <a:xfrm>
              <a:off x="6072840" y="46512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弄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1"/>
          <p:cNvGrpSpPr/>
          <p:nvPr/>
        </p:nvGrpSpPr>
        <p:grpSpPr>
          <a:xfrm>
            <a:off x="2050920" y="404640"/>
            <a:ext cx="2362320" cy="2727360"/>
            <a:chOff x="2050920" y="404640"/>
            <a:chExt cx="2362320" cy="2727360"/>
          </a:xfrm>
        </p:grpSpPr>
        <p:pic>
          <p:nvPicPr>
            <p:cNvPr id="244" name="Picture 12" descr="tzg"/>
            <p:cNvPicPr/>
            <p:nvPr/>
          </p:nvPicPr>
          <p:blipFill>
            <a:blip r:embed="rId5"/>
            <a:stretch/>
          </p:blipFill>
          <p:spPr>
            <a:xfrm>
              <a:off x="2050920" y="40464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13"/>
            <p:cNvSpPr/>
            <p:nvPr/>
          </p:nvSpPr>
          <p:spPr>
            <a:xfrm>
              <a:off x="2543760" y="46512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摆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学习生字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12000" y="1593720"/>
            <a:ext cx="2519280" cy="75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拓展延伸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12000" y="3594240"/>
            <a:ext cx="2431800" cy="8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人物介绍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620640"/>
            <a:ext cx="2447640" cy="7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品读课文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962680" y="2622600"/>
            <a:ext cx="2570040" cy="735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061108213631777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3"/>
          <p:cNvGrpSpPr/>
          <p:nvPr/>
        </p:nvGrpSpPr>
        <p:grpSpPr>
          <a:xfrm>
            <a:off x="1187280" y="907920"/>
            <a:ext cx="2362320" cy="2727360"/>
            <a:chOff x="1187280" y="907920"/>
            <a:chExt cx="2362320" cy="2727360"/>
          </a:xfrm>
        </p:grpSpPr>
        <p:pic>
          <p:nvPicPr>
            <p:cNvPr id="248" name="Picture 4" descr="tzg"/>
            <p:cNvPicPr/>
            <p:nvPr/>
          </p:nvPicPr>
          <p:blipFill>
            <a:blip r:embed="rId3"/>
            <a:stretch/>
          </p:blipFill>
          <p:spPr>
            <a:xfrm>
              <a:off x="1187280" y="90792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5"/>
            <p:cNvSpPr/>
            <p:nvPr/>
          </p:nvSpPr>
          <p:spPr>
            <a:xfrm>
              <a:off x="1680120" y="96840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胶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6"/>
          <p:cNvGrpSpPr/>
          <p:nvPr/>
        </p:nvGrpSpPr>
        <p:grpSpPr>
          <a:xfrm>
            <a:off x="3780000" y="907920"/>
            <a:ext cx="2361960" cy="2727360"/>
            <a:chOff x="3780000" y="907920"/>
            <a:chExt cx="2361960" cy="2727360"/>
          </a:xfrm>
        </p:grpSpPr>
        <p:pic>
          <p:nvPicPr>
            <p:cNvPr id="251" name="Picture 7" descr="tzg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8"/>
            <p:cNvSpPr/>
            <p:nvPr/>
          </p:nvSpPr>
          <p:spPr>
            <a:xfrm>
              <a:off x="4272480" y="96840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卷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620640"/>
            <a:ext cx="91440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   立刻   人行道   照相机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量   摆弄   准备   胶卷  按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吩咐    咧开嘴    停当     秘书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杂志社    记者     转告    一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509760" y="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宋体"/>
              </a:rPr>
              <a:t>正确读词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04920" y="8380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夏天，高尔基住在列宁格勒。他经常坐在窗子旁边工作。一个阳光明媚的早晨，高尔基正在读书，突然，一个小纸团从窗外飞到了桌子上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8380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夏天，高尔基住在列宁格勒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经常坐在窗子旁边工作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阳光明媚的早晨，高尔基正在读书，突然，一个小纸团从窗外飞到了桌子上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564280" y="512640"/>
            <a:ext cx="305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转告他，我很忙。不过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的如果是个小男孩，就一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他进来。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0" y="3141720"/>
            <a:ext cx="8672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）和同桌一起读读这句话，注意读好带点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789080" y="98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•  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85800" y="1844640"/>
            <a:ext cx="106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•  •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041840" y="3860640"/>
            <a:ext cx="3992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）从带点词里你看出了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04920" y="2039760"/>
            <a:ext cx="83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从课文的其他地方还可以看出高尔基喜爱小男孩，让我们找出来读一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仙女"/>
          <p:cNvPicPr/>
          <p:nvPr/>
        </p:nvPicPr>
        <p:blipFill>
          <a:blip r:embed="rId2"/>
          <a:stretch/>
        </p:blipFill>
        <p:spPr>
          <a:xfrm>
            <a:off x="468360" y="404640"/>
            <a:ext cx="137160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4683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高尔基拿了张报纸，按小男孩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吩咐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坐下。小男孩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摆弄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了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很久很久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，说：：“一切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准备停当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。”高尔基侧过脸，对着他微笑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47640" y="3141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我从“吩咐”这个词语中体会到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24000" y="4221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高尔基对孩子真诚的关爱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进入梦想世界"/>
          <p:cNvPicPr/>
          <p:nvPr/>
        </p:nvPicPr>
        <p:blipFill>
          <a:blip r:embed="rId2"/>
          <a:stretch/>
        </p:blipFill>
        <p:spPr>
          <a:xfrm>
            <a:off x="250920" y="2708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5771880" y="98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很久很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32468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摆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335520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准备停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半透明底"/>
          <p:cNvPicPr/>
          <p:nvPr/>
        </p:nvPicPr>
        <p:blipFill>
          <a:blip r:embed="rId2"/>
          <a:stretch/>
        </p:blipFill>
        <p:spPr>
          <a:xfrm>
            <a:off x="230040" y="3529080"/>
            <a:ext cx="8748720" cy="32414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725400" y="4437000"/>
            <a:ext cx="84186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突然，小男孩往地上一坐，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你怎么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?”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高尔基不知出了什么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半透明底"/>
          <p:cNvPicPr/>
          <p:nvPr/>
        </p:nvPicPr>
        <p:blipFill>
          <a:blip r:embed="rId2"/>
          <a:srcRect l="4660" t="1430" r="3726" b="5814"/>
          <a:stretch/>
        </p:blipFill>
        <p:spPr>
          <a:xfrm>
            <a:off x="-6480" y="3414600"/>
            <a:ext cx="9071280" cy="3529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468360" y="4035600"/>
            <a:ext cx="83962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尔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赶紧站起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小男孩已经提着照相机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去了。高尔基走到窗口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声喊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，回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给你胶卷，我这儿有很多胶卷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260280"/>
            <a:ext cx="81518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晚上，秘书告诉高尔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来了一位摄影师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个小男孩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”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尔基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。是一家杂志社的记者。”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967920" y="380880"/>
            <a:ext cx="456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楷体_GB2312"/>
              </a:rPr>
              <a:t>基尔高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276720" y="3200400"/>
            <a:ext cx="2361960" cy="2954160"/>
            <a:chOff x="3276720" y="3200400"/>
            <a:chExt cx="2361960" cy="2954160"/>
          </a:xfrm>
        </p:grpSpPr>
        <p:pic>
          <p:nvPicPr>
            <p:cNvPr id="138" name="Picture 4" descr="tzg"/>
            <p:cNvPicPr/>
            <p:nvPr/>
          </p:nvPicPr>
          <p:blipFill>
            <a:blip r:embed="rId1"/>
            <a:stretch/>
          </p:blipFill>
          <p:spPr>
            <a:xfrm>
              <a:off x="3276720" y="3427560"/>
              <a:ext cx="2361960" cy="27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5"/>
            <p:cNvSpPr/>
            <p:nvPr/>
          </p:nvSpPr>
          <p:spPr>
            <a:xfrm>
              <a:off x="3803040" y="3200400"/>
              <a:ext cx="143820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基</a:t>
              </a:r>
              <a:endParaRPr b="1" lang="en-US" sz="16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6" descr="pic_2283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打夯"/>
          <p:cNvPicPr/>
          <p:nvPr/>
        </p:nvPicPr>
        <p:blipFill>
          <a:blip r:embed="rId4"/>
          <a:stretch/>
        </p:blipFill>
        <p:spPr>
          <a:xfrm>
            <a:off x="5943600" y="35053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79280" y="333360"/>
            <a:ext cx="86900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晚上，秘书告诉高尔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: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外面来了一位摄影师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是个小男孩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? ”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高尔基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不是。是一家杂志社的记者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转告他，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很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不过，来的如果是个小男孩，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让他进来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148428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是你扔的纸条吗？”高尔基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是的。”小男孩站起来鞠了个躬，“请让我进去吧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来吧，我让他们放你进来。”高尔基说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3333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分角色读一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天使"/>
          <p:cNvPicPr/>
          <p:nvPr/>
        </p:nvPicPr>
        <p:blipFill>
          <a:blip r:embed="rId2"/>
          <a:stretch/>
        </p:blipFill>
        <p:spPr>
          <a:xfrm>
            <a:off x="2771640" y="0"/>
            <a:ext cx="1152720" cy="96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4768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宋体"/>
              </a:rPr>
              <a:t>小练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189680" y="11970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想接着往下写这个故事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笑脸"/>
          <p:cNvPicPr/>
          <p:nvPr/>
        </p:nvPicPr>
        <p:blipFill>
          <a:blip r:embed="rId2"/>
          <a:stretch/>
        </p:blipFill>
        <p:spPr>
          <a:xfrm>
            <a:off x="1476360" y="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1042920" y="2133720"/>
            <a:ext cx="6477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小男孩拿来了胶卷，匆匆赶往高尔基的办公室，再次见面时他们会说些什么？做些什么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让我们展开想象，和小伙伴交流一下吧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095480" y="102564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250920" y="765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来摄影，摆弄了很久才准备停当，甚至连胶卷都忘了带，看来对摄影还是非常外行的，课文的题目为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摄影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？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0" y="0"/>
            <a:ext cx="9145440" cy="6703920"/>
            <a:chOff x="0" y="0"/>
            <a:chExt cx="9145440" cy="6703920"/>
          </a:xfrm>
        </p:grpSpPr>
        <p:pic>
          <p:nvPicPr>
            <p:cNvPr id="289" name="Picture 5" descr="pic_3131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5440" cy="67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6"/>
            <p:cNvSpPr/>
            <p:nvPr/>
          </p:nvSpPr>
          <p:spPr>
            <a:xfrm>
              <a:off x="684360" y="682560"/>
              <a:ext cx="590544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7"/>
          <p:cNvGrpSpPr/>
          <p:nvPr/>
        </p:nvGrpSpPr>
        <p:grpSpPr>
          <a:xfrm>
            <a:off x="684360" y="3573360"/>
            <a:ext cx="2361960" cy="2727360"/>
            <a:chOff x="684360" y="3573360"/>
            <a:chExt cx="2361960" cy="2727360"/>
          </a:xfrm>
        </p:grpSpPr>
        <p:pic>
          <p:nvPicPr>
            <p:cNvPr id="292" name="Picture 8" descr="tzg"/>
            <p:cNvPicPr/>
            <p:nvPr/>
          </p:nvPicPr>
          <p:blipFill>
            <a:blip r:embed="rId2"/>
            <a:stretch/>
          </p:blipFill>
          <p:spPr>
            <a:xfrm>
              <a:off x="684360" y="357336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9"/>
            <p:cNvSpPr/>
            <p:nvPr/>
          </p:nvSpPr>
          <p:spPr>
            <a:xfrm>
              <a:off x="117684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社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0"/>
          <p:cNvGrpSpPr/>
          <p:nvPr/>
        </p:nvGrpSpPr>
        <p:grpSpPr>
          <a:xfrm>
            <a:off x="3564000" y="3573360"/>
            <a:ext cx="2361960" cy="2727360"/>
            <a:chOff x="3564000" y="3573360"/>
            <a:chExt cx="2361960" cy="2727360"/>
          </a:xfrm>
        </p:grpSpPr>
        <p:pic>
          <p:nvPicPr>
            <p:cNvPr id="295" name="Picture 11" descr="tzg"/>
            <p:cNvPicPr/>
            <p:nvPr/>
          </p:nvPicPr>
          <p:blipFill>
            <a:blip r:embed="rId3"/>
            <a:stretch/>
          </p:blipFill>
          <p:spPr>
            <a:xfrm>
              <a:off x="3564000" y="357336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12"/>
            <p:cNvSpPr/>
            <p:nvPr/>
          </p:nvSpPr>
          <p:spPr>
            <a:xfrm>
              <a:off x="405648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胶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3"/>
          <p:cNvGrpSpPr/>
          <p:nvPr/>
        </p:nvGrpSpPr>
        <p:grpSpPr>
          <a:xfrm>
            <a:off x="3492360" y="476280"/>
            <a:ext cx="2362320" cy="2727360"/>
            <a:chOff x="3492360" y="476280"/>
            <a:chExt cx="2362320" cy="2727360"/>
          </a:xfrm>
        </p:grpSpPr>
        <p:pic>
          <p:nvPicPr>
            <p:cNvPr id="298" name="Picture 14" descr="tzg"/>
            <p:cNvPicPr/>
            <p:nvPr/>
          </p:nvPicPr>
          <p:blipFill>
            <a:blip r:embed="rId4"/>
            <a:stretch/>
          </p:blipFill>
          <p:spPr>
            <a:xfrm>
              <a:off x="3492360" y="476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5"/>
            <p:cNvSpPr/>
            <p:nvPr/>
          </p:nvSpPr>
          <p:spPr>
            <a:xfrm>
              <a:off x="3985200" y="536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摆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6"/>
          <p:cNvGrpSpPr/>
          <p:nvPr/>
        </p:nvGrpSpPr>
        <p:grpSpPr>
          <a:xfrm>
            <a:off x="611280" y="476280"/>
            <a:ext cx="2361960" cy="2727360"/>
            <a:chOff x="611280" y="476280"/>
            <a:chExt cx="2361960" cy="2727360"/>
          </a:xfrm>
        </p:grpSpPr>
        <p:pic>
          <p:nvPicPr>
            <p:cNvPr id="301" name="Picture 17" descr="tzg"/>
            <p:cNvPicPr/>
            <p:nvPr/>
          </p:nvPicPr>
          <p:blipFill>
            <a:blip r:embed="rId5"/>
            <a:stretch/>
          </p:blipFill>
          <p:spPr>
            <a:xfrm>
              <a:off x="611280" y="47628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8"/>
            <p:cNvSpPr/>
            <p:nvPr/>
          </p:nvSpPr>
          <p:spPr>
            <a:xfrm>
              <a:off x="1103760" y="536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按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9"/>
          <p:cNvGrpSpPr/>
          <p:nvPr/>
        </p:nvGrpSpPr>
        <p:grpSpPr>
          <a:xfrm>
            <a:off x="6227640" y="476280"/>
            <a:ext cx="2362320" cy="2727360"/>
            <a:chOff x="6227640" y="476280"/>
            <a:chExt cx="2362320" cy="2727360"/>
          </a:xfrm>
        </p:grpSpPr>
        <p:pic>
          <p:nvPicPr>
            <p:cNvPr id="304" name="Picture 20" descr="tzg"/>
            <p:cNvPicPr/>
            <p:nvPr/>
          </p:nvPicPr>
          <p:blipFill>
            <a:blip r:embed="rId6"/>
            <a:stretch/>
          </p:blipFill>
          <p:spPr>
            <a:xfrm>
              <a:off x="6227640" y="476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21"/>
            <p:cNvSpPr/>
            <p:nvPr/>
          </p:nvSpPr>
          <p:spPr>
            <a:xfrm>
              <a:off x="6720480" y="536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准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2"/>
          <p:cNvGrpSpPr/>
          <p:nvPr/>
        </p:nvGrpSpPr>
        <p:grpSpPr>
          <a:xfrm>
            <a:off x="6227640" y="3573360"/>
            <a:ext cx="2362320" cy="2727360"/>
            <a:chOff x="6227640" y="3573360"/>
            <a:chExt cx="2362320" cy="2727360"/>
          </a:xfrm>
        </p:grpSpPr>
        <p:pic>
          <p:nvPicPr>
            <p:cNvPr id="307" name="Picture 23" descr="tzg"/>
            <p:cNvPicPr/>
            <p:nvPr/>
          </p:nvPicPr>
          <p:blipFill>
            <a:blip r:embed="rId7"/>
            <a:stretch/>
          </p:blipFill>
          <p:spPr>
            <a:xfrm>
              <a:off x="6227640" y="357336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24"/>
            <p:cNvSpPr/>
            <p:nvPr/>
          </p:nvSpPr>
          <p:spPr>
            <a:xfrm>
              <a:off x="672048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辆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826920" y="692280"/>
            <a:ext cx="2362320" cy="2727360"/>
            <a:chOff x="826920" y="692280"/>
            <a:chExt cx="2362320" cy="2727360"/>
          </a:xfrm>
        </p:grpSpPr>
        <p:pic>
          <p:nvPicPr>
            <p:cNvPr id="310" name="Picture 3" descr="tzg"/>
            <p:cNvPicPr/>
            <p:nvPr/>
          </p:nvPicPr>
          <p:blipFill>
            <a:blip r:embed="rId1"/>
            <a:stretch/>
          </p:blipFill>
          <p:spPr>
            <a:xfrm>
              <a:off x="826920" y="692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4"/>
            <p:cNvSpPr/>
            <p:nvPr/>
          </p:nvSpPr>
          <p:spPr>
            <a:xfrm>
              <a:off x="1315800" y="752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侧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"/>
          <p:cNvGrpSpPr/>
          <p:nvPr/>
        </p:nvGrpSpPr>
        <p:grpSpPr>
          <a:xfrm>
            <a:off x="3564000" y="692280"/>
            <a:ext cx="2361960" cy="2727360"/>
            <a:chOff x="3564000" y="692280"/>
            <a:chExt cx="2361960" cy="2727360"/>
          </a:xfrm>
        </p:grpSpPr>
        <p:pic>
          <p:nvPicPr>
            <p:cNvPr id="313" name="Picture 6" descr="tzg"/>
            <p:cNvPicPr/>
            <p:nvPr/>
          </p:nvPicPr>
          <p:blipFill>
            <a:blip r:embed="rId2"/>
            <a:stretch/>
          </p:blipFill>
          <p:spPr>
            <a:xfrm>
              <a:off x="3564000" y="69228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7"/>
            <p:cNvSpPr/>
            <p:nvPr/>
          </p:nvSpPr>
          <p:spPr>
            <a:xfrm>
              <a:off x="4052520" y="752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秘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8"/>
          <p:cNvGrpSpPr/>
          <p:nvPr/>
        </p:nvGrpSpPr>
        <p:grpSpPr>
          <a:xfrm>
            <a:off x="6443640" y="692280"/>
            <a:ext cx="2362320" cy="2727360"/>
            <a:chOff x="6443640" y="692280"/>
            <a:chExt cx="2362320" cy="2727360"/>
          </a:xfrm>
        </p:grpSpPr>
        <p:pic>
          <p:nvPicPr>
            <p:cNvPr id="316" name="Picture 9" descr="tzg"/>
            <p:cNvPicPr/>
            <p:nvPr/>
          </p:nvPicPr>
          <p:blipFill>
            <a:blip r:embed="rId3"/>
            <a:stretch/>
          </p:blipFill>
          <p:spPr>
            <a:xfrm>
              <a:off x="6443640" y="692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10"/>
            <p:cNvSpPr/>
            <p:nvPr/>
          </p:nvSpPr>
          <p:spPr>
            <a:xfrm>
              <a:off x="6932520" y="752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按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1"/>
          <p:cNvSpPr/>
          <p:nvPr/>
        </p:nvSpPr>
        <p:spPr>
          <a:xfrm>
            <a:off x="1252440" y="386064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   秘密   按照   左侧   按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020600" y="5586480"/>
            <a:ext cx="57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324000" y="3500280"/>
            <a:ext cx="2361960" cy="2727360"/>
            <a:chOff x="324000" y="3500280"/>
            <a:chExt cx="2361960" cy="2727360"/>
          </a:xfrm>
        </p:grpSpPr>
        <p:pic>
          <p:nvPicPr>
            <p:cNvPr id="321" name="Picture 3" descr="tzg"/>
            <p:cNvPicPr/>
            <p:nvPr/>
          </p:nvPicPr>
          <p:blipFill>
            <a:blip r:embed="rId1"/>
            <a:stretch/>
          </p:blipFill>
          <p:spPr>
            <a:xfrm>
              <a:off x="324000" y="350028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4"/>
            <p:cNvSpPr/>
            <p:nvPr/>
          </p:nvSpPr>
          <p:spPr>
            <a:xfrm>
              <a:off x="812520" y="3560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社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5"/>
          <p:cNvGrpSpPr/>
          <p:nvPr/>
        </p:nvGrpSpPr>
        <p:grpSpPr>
          <a:xfrm>
            <a:off x="6156360" y="260280"/>
            <a:ext cx="2362320" cy="2727360"/>
            <a:chOff x="6156360" y="260280"/>
            <a:chExt cx="2362320" cy="2727360"/>
          </a:xfrm>
        </p:grpSpPr>
        <p:pic>
          <p:nvPicPr>
            <p:cNvPr id="324" name="Picture 6" descr="tzg"/>
            <p:cNvPicPr/>
            <p:nvPr/>
          </p:nvPicPr>
          <p:blipFill>
            <a:blip r:embed="rId2"/>
            <a:stretch/>
          </p:blipFill>
          <p:spPr>
            <a:xfrm>
              <a:off x="6156360" y="260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7"/>
            <p:cNvSpPr/>
            <p:nvPr/>
          </p:nvSpPr>
          <p:spPr>
            <a:xfrm>
              <a:off x="6645240" y="320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辆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8"/>
          <p:cNvGrpSpPr/>
          <p:nvPr/>
        </p:nvGrpSpPr>
        <p:grpSpPr>
          <a:xfrm>
            <a:off x="3200400" y="260280"/>
            <a:ext cx="2364840" cy="2711520"/>
            <a:chOff x="3200400" y="260280"/>
            <a:chExt cx="2364840" cy="2711520"/>
          </a:xfrm>
        </p:grpSpPr>
        <p:pic>
          <p:nvPicPr>
            <p:cNvPr id="327" name="Picture 9" descr="tzg"/>
            <p:cNvPicPr/>
            <p:nvPr/>
          </p:nvPicPr>
          <p:blipFill>
            <a:blip r:embed="rId3"/>
            <a:stretch/>
          </p:blipFill>
          <p:spPr>
            <a:xfrm>
              <a:off x="3200400" y="260280"/>
              <a:ext cx="236484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10"/>
            <p:cNvSpPr/>
            <p:nvPr/>
          </p:nvSpPr>
          <p:spPr>
            <a:xfrm>
              <a:off x="3688920" y="32040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杂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1"/>
          <p:cNvGrpSpPr/>
          <p:nvPr/>
        </p:nvGrpSpPr>
        <p:grpSpPr>
          <a:xfrm>
            <a:off x="324000" y="260280"/>
            <a:ext cx="2361960" cy="2727360"/>
            <a:chOff x="324000" y="260280"/>
            <a:chExt cx="2361960" cy="2727360"/>
          </a:xfrm>
        </p:grpSpPr>
        <p:pic>
          <p:nvPicPr>
            <p:cNvPr id="330" name="Picture 12" descr="tzg"/>
            <p:cNvPicPr/>
            <p:nvPr/>
          </p:nvPicPr>
          <p:blipFill>
            <a:blip r:embed="rId4"/>
            <a:stretch/>
          </p:blipFill>
          <p:spPr>
            <a:xfrm>
              <a:off x="324000" y="26028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13"/>
            <p:cNvSpPr/>
            <p:nvPr/>
          </p:nvSpPr>
          <p:spPr>
            <a:xfrm>
              <a:off x="812520" y="320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突</a:t>
              </a:r>
              <a:endParaRPr b="1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14"/>
          <p:cNvSpPr/>
          <p:nvPr/>
        </p:nvSpPr>
        <p:spPr>
          <a:xfrm>
            <a:off x="3794040" y="357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  杂志  车辆  社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2FC-116A-4A92-B902-39645F99E2D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539640" y="1197000"/>
            <a:ext cx="8439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尔基是世界著名的文学家，发表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童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大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多部小说和著名散文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及一系列剧本。他的作品在我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为流传，深受读者的喜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高尔基"/>
          <p:cNvPicPr/>
          <p:nvPr/>
        </p:nvPicPr>
        <p:blipFill>
          <a:blip r:embed="rId2"/>
          <a:stretch/>
        </p:blipFill>
        <p:spPr>
          <a:xfrm>
            <a:off x="6040440" y="2119320"/>
            <a:ext cx="230652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返回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59280" y="5589720"/>
            <a:ext cx="1952640" cy="61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11280" y="907920"/>
            <a:ext cx="820872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确的读音下面画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è    s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n 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  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z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楷体_GB2312"/>
              </a:rPr>
              <a:t>   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1230480" y="2638440"/>
            <a:ext cx="57600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4572000" y="2638440"/>
            <a:ext cx="5763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187280" y="3517920"/>
            <a:ext cx="5763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6443640" y="2565360"/>
            <a:ext cx="5763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3851280" y="3517920"/>
            <a:ext cx="50472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7308720" y="3517920"/>
            <a:ext cx="5763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返回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1640" y="5589720"/>
            <a:ext cx="1952640" cy="61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0908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媚   躬   按    胶    辆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摄    志    桌    社  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342080" y="1293840"/>
            <a:ext cx="6764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摄影   高尔基   阳光明媚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鞠躬   胶卷   秘书   杂志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56280" y="476280"/>
            <a:ext cx="72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è                            jī                            mè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4600" y="2276640"/>
            <a:ext cx="83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ū  gōng       jiāo                mì                            sh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68360" y="476280"/>
            <a:ext cx="75596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摄影师    高尔基       鞠躬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阳光明媚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秘密     胶卷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杂志社       照相     摆弄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停当    打量     秘书      吩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列宁格勒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984400" y="679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照样子，写句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55640" y="220500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宋体"/>
              </a:rPr>
              <a:t>阳光明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早晨，高尔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读书，突然，一个小纸团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窗外飞到了桌子上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05:57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2:37Z</dcterms:modified>
  <cp:revision>6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