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BBBF-665C-4ED7-9A95-B8939CA3A7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C34-34DE-4383-A7FD-EF212A4596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595-5FB8-4559-A827-948C746C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2C7-0E2F-4360-BAF3-1A0C8EF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4F8-3989-4629-8C40-9EC5DA8D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F5D-350B-4B6C-A2D8-8771E1DC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DD2-62DE-4E5C-9183-2510E73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3C2-5D8E-444A-852B-DA56D1B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F31-F958-4E08-87B2-20131D0B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941-E581-42FA-8854-5222C14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5E0-BB0D-4A62-A2C6-CD71ABB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5AF-E0EA-4471-9D6D-0C4126F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442-12B1-4E28-ADF3-B219A6F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A7F-D15C-46A2-89E9-8739626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A24-3923-4C7D-803B-8C81010F0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_41148_PSD_2009070813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635280" y="1127160"/>
            <a:ext cx="52578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塘春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3" descr=""/>
          <p:cNvPicPr/>
          <p:nvPr/>
        </p:nvPicPr>
        <p:blipFill>
          <a:blip r:embed="rId2"/>
          <a:stretch/>
        </p:blipFill>
        <p:spPr>
          <a:xfrm>
            <a:off x="1779480" y="5877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小塘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5435640" y="0"/>
            <a:ext cx="2376360" cy="1582560"/>
          </a:xfrm>
          <a:prstGeom prst="wedgeEllipseCallout">
            <a:avLst>
              <a:gd name="adj1" fmla="val -55476"/>
              <a:gd name="adj2" fmla="val 73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品读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64000" y="184464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“静得使人觉得仿佛不是一摊水，而是一片绿茵——一片葱翠晶莹的绿茵。”这破折号起什么作用？想象“一片葱翠晶莹的绿茵”是什么样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“蓝天、绿树、白云都把倩影投入它的怀抱，静静的碧波中渗着一丝丝沉思。”中“倩影”指什么？“它”指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春天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41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71640" y="4437000"/>
            <a:ext cx="619308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作者把小塘比作什么？想一想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比的理由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这样结尾有什么好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68360" y="4797360"/>
            <a:ext cx="1728720" cy="1656000"/>
          </a:xfrm>
          <a:prstGeom prst="ellipse">
            <a:avLst/>
          </a:prstGeom>
          <a:solidFill>
            <a:srgbClr val="a0fef5"/>
          </a:solidFill>
          <a:ln w="93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79280" y="103896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品味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“春姑娘像酣睡正浓的少女，拥抱着岸边的水草，睡得那么香，那么甜，那么宁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这个比喻生动地描写了小塘的静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“岸上的树林都在沙沙作响，像是为知音奏出古老的乐曲，又像是在对谁讲述着一个遥远的故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这个人句子连用了两个比喻句，借声音，写出了小塘岸上的树林的动态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春天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=4238288990,145369200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34000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0920" y="2060640"/>
            <a:ext cx="56167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作者把小塘春天的景色描写得如诗如画，用了哪些修辞方法？用“——”画出比喻句，用“△”画出拟人句，用“﹋﹋”画出排比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650960" y="53481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u=4238288990,145369200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2916360" y="765000"/>
            <a:ext cx="280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读写结合训练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19280" y="1989000"/>
            <a:ext cx="5761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读了课文，你想到了什么景物，这景物有哪些特点？打算从哪几个方面去写？你想怎样写出这景物的特点？ 题目自拟，运用先总后分的方面从几个方面入手，写出景物的特点，表达作者对景物的喜爱与赞美之情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259-0D6A-4002-A2EF-FEF6C53262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5780202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4000" y="1496880"/>
            <a:ext cx="90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一、 教学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认读“嫌、弋、柬、倩、粼”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有感情地朗读课文，理解课文内容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想想作者从哪几方面描写了小塘春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画出能概括各自然段主要内容的句子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体会它们的意思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体会作者热爱大自然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二、重点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重点：有感情地朗读课文，体会作者热爱大自然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ff99"/>
                </a:solidFill>
                <a:latin typeface="Arial"/>
              </a:rPr>
              <a:t>难点：知道课文从哪几方面描写了小塘色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=4238288990,145369200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1908000" y="0"/>
            <a:ext cx="186696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检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11280" y="981000"/>
            <a:ext cx="76327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会“拼”才会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ǐ    nǐ            xián                   yì            jiū 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            ）    （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弃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       ）（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lín lín                             jiǎn              qià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）波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请（      ）        （     ）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60840" y="3860640"/>
            <a:ext cx="66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音字我能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ē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ó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è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                       薄                        乐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èn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áo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uè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u=3225551799,312486505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539640" y="334152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课文围绕“旖旎明媚 ”，从哪几方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小塘的景色美呢？ 找出有关语句读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读，想一想为什么“早、静、动”加上引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84360" y="119700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快速浏览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）春天的小塘有什么特点？在文中找到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2d2d8a"/>
                </a:solidFill>
                <a:latin typeface="Arial"/>
              </a:rPr>
              <a:t>个最合适的词语概括出来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900000" y="3933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11222g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2195640" y="9079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你最喜欢哪种美呢？为什么？先自己读再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671520" y="7635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学习第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300720" y="155736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春天的小塘，美在一个“早”字。作者抓住哪些有代表性的景物来写的？用“△”符号标出。说一说哪些是静态描写，哪些是动态描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）你觉得哪些句子好，说出理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76592ae2abe70f34d1e4c8d985826d89_m"/>
          <p:cNvPicPr/>
          <p:nvPr/>
        </p:nvPicPr>
        <p:blipFill>
          <a:blip r:embed="rId1"/>
          <a:stretch/>
        </p:blipFill>
        <p:spPr>
          <a:xfrm>
            <a:off x="108000" y="189000"/>
            <a:ext cx="8567640" cy="403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4581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暖先知”的小鸭子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五成群地卧在岸上晒太阳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双成对地在水中游弋，或扑打着羽毛还不太丰满的翅膀，抖动着滚圆的身子，顾盼四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441fcda6b494208488ce93ce9247f4ba_m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2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ae6a309645d1117c72e98323ba4c0a6c_m"/>
          <p:cNvPicPr/>
          <p:nvPr/>
        </p:nvPicPr>
        <p:blipFill>
          <a:blip r:embed="rId2"/>
          <a:stretch/>
        </p:blipFill>
        <p:spPr>
          <a:xfrm>
            <a:off x="4643280" y="3645000"/>
            <a:ext cx="4500720" cy="3024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细雨刚停，红蜻蜓不知什么时候收到了春季盛会的请柬，匆匆赶来凑热闹了，它们一会儿停在水面的草茎上，打着秋千儿一荡一荡的，一会儿又振翅欲飞，若即若离。玩到无聊时，再去寻找新的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u=4238288990,145369200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无标题"/>
          <p:cNvPicPr/>
          <p:nvPr/>
        </p:nvPicPr>
        <p:blipFill>
          <a:blip r:embed="rId2"/>
          <a:stretch/>
        </p:blipFill>
        <p:spPr>
          <a:xfrm>
            <a:off x="179280" y="3068640"/>
            <a:ext cx="4105440" cy="36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无标题1"/>
          <p:cNvPicPr/>
          <p:nvPr/>
        </p:nvPicPr>
        <p:blipFill>
          <a:blip r:embed="rId3"/>
          <a:stretch/>
        </p:blipFill>
        <p:spPr>
          <a:xfrm>
            <a:off x="4643280" y="3068640"/>
            <a:ext cx="4032360" cy="364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90792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偶尔还会掠过几只春燕，啾啾地和鸣几声，给这幅小小山水画平添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13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8:2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