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585F-FA8F-4BAD-8332-D4D61FDFBA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4C96-2712-4536-AA4E-7986BF80D6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320-13DD-4601-BD31-698FA02C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E2F-5D3A-4F12-A935-4D471598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960-04CB-4E6F-8581-3B63A43D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BB8-9463-4C1A-A1D1-3992CD0C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EFD-0B13-4080-B7D1-59FEB09F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037-D896-48EB-9472-99AA739B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DD6-ABC2-415F-AD8B-CDFD8EFE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67A-DC4F-4239-85B6-E5ADF21E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99F-4BAD-4033-BF9F-E40BB8AC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04E-D2B9-453A-8B00-46E5B475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A70-41C7-4822-B8C1-741868FC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9CF-727A-4D92-B475-75031179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857A-F29E-495F-B90C-D264F4F37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"/>
          <p:cNvSpPr/>
          <p:nvPr/>
        </p:nvSpPr>
        <p:spPr>
          <a:xfrm>
            <a:off x="900000" y="1700280"/>
            <a:ext cx="73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1d1d"/>
                </a:solidFill>
                <a:latin typeface="华文隶书"/>
                <a:ea typeface="华文隶书"/>
              </a:rPr>
              <a:t>小乌鸦和妈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750680" y="544500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%D0%A1%CE%DA%D1%BB%BA%CD%C2%E8%C2%E8%20%CE%DA%D1%BB02"/>
          <p:cNvPicPr/>
          <p:nvPr/>
        </p:nvPicPr>
        <p:blipFill>
          <a:blip r:embed="rId1"/>
          <a:stretch/>
        </p:blipFill>
        <p:spPr>
          <a:xfrm>
            <a:off x="0" y="2916360"/>
            <a:ext cx="5076720" cy="3941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140360" y="0"/>
            <a:ext cx="50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楷体"/>
                <a:ea typeface="楷体"/>
              </a:rPr>
              <a:t>	</a:t>
            </a:r>
            <a:r>
              <a:rPr b="1" lang="zh-CN" sz="4400" spc="-1" strike="noStrike">
                <a:solidFill>
                  <a:srgbClr val="0033cc"/>
                </a:solidFill>
                <a:latin typeface="楷体"/>
                <a:ea typeface="楷体"/>
              </a:rPr>
              <a:t>这时，她的儿女们叫着，朝家里飞来。小乌鸦们带来了食物和遮蔽寒冷的枝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1047600" y="5932440"/>
            <a:ext cx="69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1-25课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6586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-468720" y="980640"/>
            <a:ext cx="70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妈妈，您饿了吧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老大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妈妈，您渴了吧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老二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妈妈，您冷了吧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老三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1-25课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6586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0" y="620640"/>
            <a:ext cx="63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4400" spc="-1" strike="noStrike">
                <a:solidFill>
                  <a:srgbClr val="ff6600"/>
                </a:solidFill>
                <a:latin typeface="楷体"/>
                <a:ea typeface="楷体"/>
              </a:rPr>
              <a:t>他们把树枝铺得又松软又厚实，然后围着妈妈，嘴对嘴地把食物喂到妈妈口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9900cc"/>
                </a:solidFill>
                <a:latin typeface="楷体"/>
                <a:ea typeface="楷体"/>
              </a:rPr>
              <a:t>下雪了，洁白的雪花飘飘洒洒地落下来，小乌鸦们依偎在妈妈身旁，他们觉得温暖极了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2E5C-8EFA-4325-B40F-B775C39769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-25课"/>
          <p:cNvPicPr/>
          <p:nvPr/>
        </p:nvPicPr>
        <p:blipFill>
          <a:blip r:embed="rId1"/>
          <a:stretch/>
        </p:blipFill>
        <p:spPr>
          <a:xfrm>
            <a:off x="5292720" y="0"/>
            <a:ext cx="3848040" cy="6854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560" y="980640"/>
            <a:ext cx="70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羊跪乳 ，鸦反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人之初 ，孝父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3页乌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《乌鸦喝水》课文朗读.mp3" descr=""/>
          <p:cNvPicPr/>
          <p:nvPr/>
        </p:nvPicPr>
        <p:blipFill>
          <a:blip r:embed="rId2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6560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备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3页乌鸦"/>
          <p:cNvPicPr/>
          <p:nvPr/>
        </p:nvPicPr>
        <p:blipFill>
          <a:blip r:embed="rId1"/>
          <a:stretch/>
        </p:blipFill>
        <p:spPr>
          <a:xfrm>
            <a:off x="6948360" y="4581360"/>
            <a:ext cx="1801800" cy="1801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395280" y="141300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课文，做到正确、流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反复读课文，识记不认识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写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哪些地方最让你难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719640" y="762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森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700720" y="762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乌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910400" y="762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7272720" y="762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19640" y="2286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853000" y="2209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139000" y="2209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7425000" y="2286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929320" y="3657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215320" y="3581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7577640" y="3657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27480" y="3597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67000" y="4952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寒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005640" y="4952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215320" y="4876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7653600" y="5029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2439360" y="2073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735720" y="2149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35920" y="2073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478920" y="2073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440440" y="3292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735720" y="3292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412240" y="3292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631200" y="3292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440440" y="4359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3812040" y="4359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412240" y="4359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555240" y="4359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981000"/>
            <a:ext cx="8507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乌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，到处找水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寒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冬天，下起了鹅毛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力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真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3页乌鸦"/>
          <p:cNvPicPr/>
          <p:nvPr/>
        </p:nvPicPr>
        <p:blipFill>
          <a:blip r:embed="rId1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20100908221523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378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692360" y="2133720"/>
            <a:ext cx="590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乌鸦  力气  下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自己  寒冷  口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乌鸦g">
            <a:hlinkClick r:id="" action="ppaction://hlinkshowjump?jump=nextslide"/>
          </p:cNvPr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11280" y="14400"/>
            <a:ext cx="734364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wū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y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楷体"/>
                <a:ea typeface="楷体"/>
              </a:rPr>
              <a:t>森林里有个乌鸦妈妈，她　　　</a:t>
            </a:r>
            <a:r>
              <a:rPr b="1" lang="en-US" sz="3600" spc="-1" strike="noStrike">
                <a:solidFill>
                  <a:srgbClr val="9900cc"/>
                </a:solidFill>
                <a:latin typeface="楷体"/>
                <a:ea typeface="楷体"/>
              </a:rPr>
              <a:t>                         </a:t>
            </a:r>
            <a:r>
              <a:rPr b="1" lang="zh-CN" sz="3600" spc="-1" strike="noStrike">
                <a:solidFill>
                  <a:srgbClr val="9900cc"/>
                </a:solidFill>
                <a:latin typeface="楷体"/>
                <a:ea typeface="楷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　　　　　　　　　　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lì q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楷体"/>
                <a:ea typeface="楷体"/>
              </a:rPr>
              <a:t>年纪大了，已经没有力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楷体"/>
                <a:ea typeface="楷体"/>
              </a:rPr>
              <a:t>飞行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楷体"/>
                <a:ea typeface="楷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u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楷体"/>
                <a:ea typeface="楷体"/>
              </a:rPr>
              <a:t>天快要下雪了，乌鸦妈妈身上盖着几片落叶，静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zì j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楷体"/>
                <a:ea typeface="楷体"/>
              </a:rPr>
              <a:t>地卧在自 己 的巢里</a:t>
            </a:r>
            <a:r>
              <a:rPr b="1" lang="zh-CN" sz="4400" spc="-1" strike="noStrike">
                <a:solidFill>
                  <a:srgbClr val="9900cc"/>
                </a:solidFill>
                <a:latin typeface="楷体"/>
                <a:ea typeface="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4:48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5:26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