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CA8B-94FD-402B-B0D1-214BC77F0A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9.xml"/><Relationship Id="rId24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E2A4-7F89-4953-A9DE-2D1A9BD191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06A-2653-4759-B34A-B141BB6D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E93-92AC-44FA-A3EA-1C5CF9CD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3E9-287C-4DE5-A5B3-E7CD8E56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4F6-1228-4E06-BE0D-621972D7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BDF-801C-4F34-AD1C-1D3D7600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C25-1259-497D-8A0E-A3239A03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9E0-012A-42FD-9AF0-0FB67FA2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8AC-DAF5-4FA5-8024-13FBEA61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BDB-8D52-4CFB-B333-AC8AD059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C6D-DEE2-419D-9C01-B19EDAA9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CAC-4F5D-4A42-9BA7-940ABB3B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C74-DF25-4460-B966-7C79F3D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A2F3-12A3-4BBB-9283-2E6C8A8AD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7.jpeg"/><Relationship Id="rId3" Type="http://schemas.openxmlformats.org/officeDocument/2006/relationships/slide" Target="slide21.xml"/><Relationship Id="rId4" Type="http://schemas.openxmlformats.org/officeDocument/2006/relationships/image" Target="../media/image18.jpeg"/><Relationship Id="rId5" Type="http://schemas.openxmlformats.org/officeDocument/2006/relationships/slide" Target="slide24.xml"/><Relationship Id="rId6" Type="http://schemas.openxmlformats.org/officeDocument/2006/relationships/image" Target="../media/image19.jpeg"/><Relationship Id="rId7" Type="http://schemas.openxmlformats.org/officeDocument/2006/relationships/slide" Target="slide22.xml"/><Relationship Id="rId8" Type="http://schemas.openxmlformats.org/officeDocument/2006/relationships/image" Target="../media/image20.jpeg"/><Relationship Id="rId9" Type="http://schemas.openxmlformats.org/officeDocument/2006/relationships/slide" Target="slide23.xm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00160" y="1557360"/>
            <a:ext cx="7272360" cy="16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鲜艳的红领巾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25880" y="57006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398760" y="476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  <a:ea typeface="隶书"/>
              </a:rPr>
              <a:t>少先队队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大队旗"/>
          <p:cNvPicPr/>
          <p:nvPr/>
        </p:nvPicPr>
        <p:blipFill>
          <a:blip r:embed="rId1"/>
          <a:stretch/>
        </p:blipFill>
        <p:spPr>
          <a:xfrm>
            <a:off x="250920" y="1989000"/>
            <a:ext cx="3851280" cy="27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中队旗"/>
          <p:cNvPicPr/>
          <p:nvPr/>
        </p:nvPicPr>
        <p:blipFill>
          <a:blip r:embed="rId2"/>
          <a:stretch/>
        </p:blipFill>
        <p:spPr>
          <a:xfrm>
            <a:off x="4643280" y="1989000"/>
            <a:ext cx="3851280" cy="2746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1506600" y="5157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大队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932800" y="5157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中队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rId3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398760" y="476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  <a:ea typeface="隶书"/>
              </a:rPr>
              <a:t>少先队队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755640" y="1844640"/>
            <a:ext cx="7703640" cy="4824000"/>
            <a:chOff x="755640" y="1844640"/>
            <a:chExt cx="7703640" cy="4824000"/>
          </a:xfrm>
        </p:grpSpPr>
        <p:pic>
          <p:nvPicPr>
            <p:cNvPr id="85" name="Picture 6" descr="队歌1"/>
            <p:cNvPicPr/>
            <p:nvPr/>
          </p:nvPicPr>
          <p:blipFill>
            <a:blip r:embed="rId1"/>
            <a:stretch/>
          </p:blipFill>
          <p:spPr>
            <a:xfrm>
              <a:off x="755640" y="1844640"/>
              <a:ext cx="3639960" cy="48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" descr="队歌2"/>
            <p:cNvPicPr/>
            <p:nvPr/>
          </p:nvPicPr>
          <p:blipFill>
            <a:blip r:embed="rId2"/>
            <a:stretch/>
          </p:blipFill>
          <p:spPr>
            <a:xfrm>
              <a:off x="4807080" y="2470320"/>
              <a:ext cx="3652200" cy="408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少年先锋队之歌.mp3" descr=""/>
          <p:cNvPicPr/>
          <p:nvPr/>
        </p:nvPicPr>
        <p:blipFill>
          <a:blip r:embed="rId3"/>
          <a:stretch/>
        </p:blipFill>
        <p:spPr>
          <a:xfrm>
            <a:off x="8459640" y="404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0">
            <a:hlinkClick r:id="rId4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177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6348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121200" y="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  <a:ea typeface="隶书"/>
              </a:rPr>
              <a:t>少先队的历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493720" y="1052640"/>
            <a:ext cx="39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第一阶段：劳动童子团 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924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9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1"/>
          <p:cNvPicPr/>
          <p:nvPr/>
        </p:nvPicPr>
        <p:blipFill>
          <a:blip r:embed="rId1"/>
          <a:stretch/>
        </p:blipFill>
        <p:spPr>
          <a:xfrm>
            <a:off x="395280" y="1773360"/>
            <a:ext cx="4444920" cy="3644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4911840" y="1865160"/>
            <a:ext cx="376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劳动童子团是我国最早的革命儿童组织。标志是系一条红领带；团礼是五指并拢，举至平额；呼号是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准备着，打倒帝国义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准备着，打倒军阀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准备着，做全世界的小主人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517400" y="836640"/>
            <a:ext cx="62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第二阶段：共产主义儿童团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927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9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2"/>
          <p:cNvPicPr/>
          <p:nvPr/>
        </p:nvPicPr>
        <p:blipFill>
          <a:blip r:embed="rId1"/>
          <a:stretch/>
        </p:blipFill>
        <p:spPr>
          <a:xfrm>
            <a:off x="0" y="1916280"/>
            <a:ext cx="4419720" cy="3644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427640" y="2852640"/>
            <a:ext cx="43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共产主义儿童团是土地革命战争期间在革命根据地建立的儿童组织，任务主要是站岗放哨、带路送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624560" y="192240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549800" y="907920"/>
            <a:ext cx="59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第三阶段：抗日儿童团 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937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048200" y="1490760"/>
            <a:ext cx="47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788000" y="2708280"/>
            <a:ext cx="376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抗日儿童团是广大抗日根据地在抗战中成立的儿童组织。它的主要任务是学习、生产，同时也担负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宣传抗日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”“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侦察敌情捉汉奸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”“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站岗放哨送书信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等任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3b"/>
          <p:cNvPicPr/>
          <p:nvPr/>
        </p:nvPicPr>
        <p:blipFill>
          <a:blip r:embed="rId1"/>
          <a:stretch/>
        </p:blipFill>
        <p:spPr>
          <a:xfrm>
            <a:off x="250920" y="2133720"/>
            <a:ext cx="44323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866600" y="885960"/>
            <a:ext cx="50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第四阶段：儿童团和地下少先队 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946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00000" y="20307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解放区的儿童团，在学好文化科学知识的同时，还组织了救护、运输、通讯等小组，积极地参加支援前线活动，为解放新中国贡献了自己的力量。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109960" y="3716280"/>
            <a:ext cx="45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第五阶段：中国少年先锋队  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949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至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971640" y="48391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中国少年先锋队（简称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少先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）是中国少年儿童的群众组织，是少年儿童学习共产主义的学校，是建设社会主义和共产主义的预备队。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949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日是中国少年先锋队建队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>
            <a:hlinkClick r:id="rId1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红领巾为什么是红色的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206600" y="189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  <a:ea typeface="隶书"/>
              </a:rPr>
              <a:t>红旗一角的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雷锋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1731960"/>
            <a:ext cx="1584360" cy="1552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刘胡兰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1773360"/>
            <a:ext cx="1763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邱少云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24360" y="1700280"/>
            <a:ext cx="144000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董存瑞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908000" y="1773360"/>
            <a:ext cx="1764000" cy="154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黄继光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780000" y="1773360"/>
            <a:ext cx="1684080" cy="1512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2736720" y="437832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红领巾是红旗的一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是用烈士的鲜血“染”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031840" y="329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40912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董存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4353840" y="31924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黄继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096960" y="31924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邱少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7942320" y="3213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雷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480240" y="3259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刘胡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493560" y="1076760"/>
            <a:ext cx="91152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飞夺泸定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1835280" y="1654200"/>
            <a:ext cx="5715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为“红领巾”添光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SC036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SC03629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DSC03667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850400" y="1868400"/>
            <a:ext cx="536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师：准备着：为共产主义事业而奋斗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生：时刻准备着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少年先锋队之歌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177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刘胡兰"/>
          <p:cNvPicPr/>
          <p:nvPr/>
        </p:nvPicPr>
        <p:blipFill>
          <a:blip r:embed="rId1"/>
          <a:stretch/>
        </p:blipFill>
        <p:spPr>
          <a:xfrm>
            <a:off x="468360" y="1989000"/>
            <a:ext cx="3564000" cy="3313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3564000" y="3524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刘胡兰英勇就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25840" y="1271520"/>
            <a:ext cx="2411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在穷凶极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敌人面前，刘胡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毫不畏惧，坚决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向敌人屈服。他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容的躺到铡刀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壮烈牺牲，鲜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染红了洁白的雪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毛泽东亲笔为刘胡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题词：“生的伟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死的光荣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645720" y="352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董存瑞舍身炸暗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董存瑞"/>
          <p:cNvPicPr/>
          <p:nvPr/>
        </p:nvPicPr>
        <p:blipFill>
          <a:blip r:embed="rId1"/>
          <a:stretch/>
        </p:blipFill>
        <p:spPr>
          <a:xfrm>
            <a:off x="611280" y="2060640"/>
            <a:ext cx="3203640" cy="3097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4842000" y="1197000"/>
            <a:ext cx="3386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在解放隆化的战斗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敌人在暗堡里猛烈地向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士们扫射。为了减少战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们的牺牲，这时，董存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毅然用身体做支架，左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托起炸药包，右手拉燃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导火索。敌人的暗堡被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毁，红旗插进了隆化中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董存瑞用自己年轻的生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为部队的胜利开辟了道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牺牲时年仅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黑体"/>
              </a:rPr>
              <a:t>19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564000" y="3524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黄继光视死如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61280" y="1343160"/>
            <a:ext cx="3340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在上甘岭战役中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了顺利地夺下被敌人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领的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黑体"/>
              </a:rPr>
              <a:t>597.9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阵地，为了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开大部队前进的突破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黄继光视死如归，用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己的胸膛堵住了敌人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着火舌的机枪口，堵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了敌人罪恶的子弹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顺利夺下阵地铺平了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路，而自己却英勇牺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黄继光"/>
          <p:cNvPicPr/>
          <p:nvPr/>
        </p:nvPicPr>
        <p:blipFill>
          <a:blip r:embed="rId1"/>
          <a:stretch/>
        </p:blipFill>
        <p:spPr>
          <a:xfrm>
            <a:off x="395280" y="2492280"/>
            <a:ext cx="2952720" cy="27939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8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645720" y="352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烈火烧不动的英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85840" y="1125360"/>
            <a:ext cx="4118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在攻击“三九一”高地的战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中，邱少云为了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保证战斗任务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利完成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。任凭火舌爬上自己的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背，爬上自己的双肩，任凭火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燃烧着他的眉毛、头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他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有呼喊，没有流泪，只是使劲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着嘴唇。豆大的汗珠从额头上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下来，他的双眼被烟火烤得睁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开，呼吸急促。他的双手深深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插入泥土里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像一尊巨大坚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石像横卧在烈火中一动不动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邱少云"/>
          <p:cNvPicPr/>
          <p:nvPr/>
        </p:nvPicPr>
        <p:blipFill>
          <a:blip r:embed="rId1"/>
          <a:stretch/>
        </p:blipFill>
        <p:spPr>
          <a:xfrm>
            <a:off x="569880" y="1844640"/>
            <a:ext cx="2057400" cy="29527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9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645720" y="352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烈火烧不动的英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470120" y="1542960"/>
            <a:ext cx="338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雷锋，这位平凡而又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大的共产主义战士；雷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这个光辉的名字，在我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心中闪烁着不灭的光辉。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把自己旺盛的青春献给了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献给了人民，他高尚的理想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信念、道德、情操，他那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可磨灭的美好形象，将永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活在我们的心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雷锋"/>
          <p:cNvPicPr/>
          <p:nvPr/>
        </p:nvPicPr>
        <p:blipFill>
          <a:blip r:embed="rId1"/>
          <a:stretch/>
        </p:blipFill>
        <p:spPr>
          <a:xfrm>
            <a:off x="0" y="1700280"/>
            <a:ext cx="2916360" cy="25668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7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539640" y="83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在这五位英雄人物的背后还有无数先烈的鲜血付出，我们现在生活在和平年代，没有了硝烟、炮火，人们都安居乐业的过着幸福的生活，是的，正是由于他们的牺牲，我们的五星红旗才能高高飘扬，也正是他们的牺牲，我们才能过上今天的幸福生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"/>
          <p:cNvSpPr/>
          <p:nvPr/>
        </p:nvSpPr>
        <p:spPr>
          <a:xfrm>
            <a:off x="311040" y="5918040"/>
            <a:ext cx="71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330C-1875-4A1C-8659-A8FA9966AA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914920" y="26028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  <a:ea typeface="隶书"/>
              </a:rPr>
              <a:t>我戴上了红领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035080" y="1773360"/>
            <a:ext cx="50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那一天，我站在队旗下，高举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右拳，庄严地宣誓：为共产主义事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而奋斗！时刻准备着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914920" y="26028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  <a:ea typeface="隶书"/>
              </a:rPr>
              <a:t>我戴上了红领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931920" y="1700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05920" y="277956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当你第一次戴上鲜艳的红领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时，你心里是怎么想的，感觉和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前有什么不一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丰富多彩的少先队活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627280" y="5877000"/>
            <a:ext cx="649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杨家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547640" y="5877000"/>
            <a:ext cx="1440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消防演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0" y="5877000"/>
            <a:ext cx="1081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运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981000" y="5877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9cc00"/>
                </a:solidFill>
                <a:latin typeface="Arial"/>
              </a:rPr>
              <a:t>庆六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S6001421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SC047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" descr="CIMG1564"/>
          <p:cNvPicPr/>
          <p:nvPr/>
        </p:nvPicPr>
        <p:blipFill>
          <a:blip r:embed="rId1"/>
          <a:stretch/>
        </p:blipFill>
        <p:spPr>
          <a:xfrm>
            <a:off x="-1620720" y="-2763720"/>
            <a:ext cx="14471640" cy="121838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">
            <a:hlinkClick r:id="rId2" action="ppaction://hlinksldjump"/>
          </p:cNvPr>
          <p:cNvSpPr/>
          <p:nvPr/>
        </p:nvSpPr>
        <p:spPr>
          <a:xfrm>
            <a:off x="7812000" y="6381720"/>
            <a:ext cx="540000" cy="476280"/>
          </a:xfrm>
          <a:custGeom>
            <a:avLst/>
            <a:gdLst>
              <a:gd name="textAreaLeft" fmla="*/ 30600 w 540000"/>
              <a:gd name="textAreaRight" fmla="*/ 509400 w 540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88" h="21600">
                <a:moveTo>
                  <a:pt x="0" y="0"/>
                </a:moveTo>
                <a:lnTo>
                  <a:pt x="24488" y="0"/>
                </a:lnTo>
                <a:lnTo>
                  <a:pt x="24488" y="21600"/>
                </a:lnTo>
                <a:lnTo>
                  <a:pt x="0" y="21600"/>
                </a:lnTo>
                <a:close/>
              </a:path>
              <a:path fill="lightenLess" w="24488" h="21600">
                <a:moveTo>
                  <a:pt x="0" y="0"/>
                </a:moveTo>
                <a:lnTo>
                  <a:pt x="24488" y="0"/>
                </a:lnTo>
                <a:lnTo>
                  <a:pt x="23088" y="1400"/>
                </a:lnTo>
                <a:lnTo>
                  <a:pt x="1400" y="1400"/>
                </a:lnTo>
                <a:close/>
              </a:path>
              <a:path fill="darken" w="24488" h="21600">
                <a:moveTo>
                  <a:pt x="24488" y="0"/>
                </a:moveTo>
                <a:lnTo>
                  <a:pt x="24488" y="21600"/>
                </a:lnTo>
                <a:lnTo>
                  <a:pt x="23088" y="20200"/>
                </a:lnTo>
                <a:lnTo>
                  <a:pt x="23088" y="1400"/>
                </a:lnTo>
                <a:close/>
              </a:path>
              <a:path fill="darkenLess" w="24488" h="21600">
                <a:moveTo>
                  <a:pt x="24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8" y="20200"/>
                </a:lnTo>
                <a:close/>
              </a:path>
              <a:path fill="lighten" w="24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8" h="21600">
                <a:moveTo>
                  <a:pt x="5237" y="3794"/>
                </a:moveTo>
                <a:lnTo>
                  <a:pt x="19250" y="10800"/>
                </a:lnTo>
                <a:lnTo>
                  <a:pt x="5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CIMG1564"/>
          <p:cNvPicPr/>
          <p:nvPr/>
        </p:nvPicPr>
        <p:blipFill>
          <a:blip r:embed="rId3"/>
          <a:stretch/>
        </p:blipFill>
        <p:spPr>
          <a:xfrm>
            <a:off x="-20126160" y="-6867360"/>
            <a:ext cx="9699480" cy="72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259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少先队知识抢答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少先队的历史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队旗的图案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我们的队歌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哪些情况下要行队礼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3240" y="566100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历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48880" y="566100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图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476360" y="5661000"/>
            <a:ext cx="981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队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8520" y="566100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红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2:23:14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6:12:49Z</dcterms:modified>
  <cp:revision>4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