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6FD-53FC-450F-B397-84374249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DBB-B202-47E0-B42A-F1492076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B82-A9A1-4546-B34B-DD356E45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82B-66CB-4701-8594-BC20BE24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835-0816-43C5-B9BC-2AF619B0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2AD-2DBF-4ED0-AA17-558FF106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3A6-1A0D-4E31-861B-13C4F577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366-2540-4977-965C-02E5B4B4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D62-AA8D-401A-8F70-90B0F0A6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3E8-B090-4795-B7DB-1492437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B97-22E8-4E30-999A-2C7F07E7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1EB-832B-4F7C-BAB1-0B9EA7BA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7276-4A75-46A9-A93E-C283C777A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09480" y="838080"/>
            <a:ext cx="80010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雨点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六年制一年级      一册     第十二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2971800" y="2438280"/>
            <a:ext cx="4724280" cy="1648440"/>
            <a:chOff x="2971800" y="2438280"/>
            <a:chExt cx="4724280" cy="1648440"/>
          </a:xfrm>
        </p:grpSpPr>
        <p:sp>
          <p:nvSpPr>
            <p:cNvPr id="64" name="Text Box 2"/>
            <p:cNvSpPr/>
            <p:nvPr/>
          </p:nvSpPr>
          <p:spPr>
            <a:xfrm>
              <a:off x="2971800" y="2895480"/>
              <a:ext cx="472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半　空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3200400" y="2438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bà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5"/>
            <p:cNvSpPr/>
            <p:nvPr/>
          </p:nvSpPr>
          <p:spPr>
            <a:xfrm>
              <a:off x="5029200" y="243828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kō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2590920" y="2895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3"/>
          <p:cNvGrpSpPr/>
          <p:nvPr/>
        </p:nvGrpSpPr>
        <p:grpSpPr>
          <a:xfrm>
            <a:off x="2743200" y="2590920"/>
            <a:ext cx="4419720" cy="1693800"/>
            <a:chOff x="2743200" y="2590920"/>
            <a:chExt cx="4419720" cy="1693800"/>
          </a:xfrm>
        </p:grpSpPr>
        <p:sp>
          <p:nvSpPr>
            <p:cNvPr id="69" name="Text Box 3"/>
            <p:cNvSpPr/>
            <p:nvPr/>
          </p:nvSpPr>
          <p:spPr>
            <a:xfrm>
              <a:off x="5105520" y="2971800"/>
              <a:ext cx="2057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答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"/>
            <p:cNvSpPr/>
            <p:nvPr/>
          </p:nvSpPr>
          <p:spPr>
            <a:xfrm>
              <a:off x="2743200" y="2971800"/>
              <a:ext cx="1219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问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5410440" y="25909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d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9"/>
            <p:cNvSpPr/>
            <p:nvPr/>
          </p:nvSpPr>
          <p:spPr>
            <a:xfrm>
              <a:off x="2895840" y="25909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wè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90920" y="2895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22860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要到哪里去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33720" y="2590920"/>
            <a:ext cx="99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990720" y="1905120"/>
            <a:ext cx="7010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数不清      云彩       飘落      半空     问     回答    地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838080" y="2286000"/>
            <a:ext cx="73915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雨点儿从云彩里飘落下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草从泥土里钻出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花从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——————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蝴蝶从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——————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2120" y="5335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ff00"/>
                </a:solidFill>
                <a:uFillTx/>
                <a:latin typeface="Times New Roman"/>
                <a:ea typeface="华文彩云"/>
              </a:rPr>
              <a:t>我会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191120" y="3048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u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907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52388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0D0B-0A79-465F-809E-015E39A2A4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001" t="30001" r="55005" b="30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04150301.WAV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Music\x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04150302.WAV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"/>
          <p:cNvSpPr/>
          <p:nvPr/>
        </p:nvSpPr>
        <p:spPr>
          <a:xfrm>
            <a:off x="700200" y="3930480"/>
            <a:ext cx="67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rcRect l="17001" t="13999" r="39000" b="446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04150303.WAV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\\T04\d\3\lxf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50" name="04150303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\\T04\d\3\lxf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52" name="04150303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\\T04\d\3\lxf6.JPG"/>
          <p:cNvPicPr/>
          <p:nvPr/>
        </p:nvPicPr>
        <p:blipFill>
          <a:blip r:embed="rId3"/>
          <a:srcRect l="7497" t="34992" r="63350" b="25645"/>
          <a:stretch/>
        </p:blipFill>
        <p:spPr>
          <a:xfrm>
            <a:off x="533520" y="990720"/>
            <a:ext cx="5511600" cy="55623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76720" y="2743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数不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429000" y="2133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ǔ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 　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qī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971800" y="2666880"/>
            <a:ext cx="649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云   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00400" y="1905120"/>
            <a:ext cx="13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ú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952880" y="1981080"/>
            <a:ext cx="10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ǎ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7620120" y="25146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04812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飘   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124080" y="2362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ā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876920" y="2362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02:34:07Z</dcterms:created>
  <dc:creator>jn</dc:creator>
  <dc:description/>
  <cp:keywords/>
  <dc:language>en-US</dc:language>
  <cp:lastModifiedBy>xinxing</cp:lastModifiedBy>
  <dcterms:modified xsi:type="dcterms:W3CDTF">2017-04-16T16:12:16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