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3.wmf" ContentType="image/x-wmf"/>
  <Override PartName="/ppt/media/image8.jpeg" ContentType="image/jpeg"/>
  <Override PartName="/ppt/media/image9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gif" ContentType="image/gif"/>
  <Override PartName="/ppt/media/type.wav" ContentType="audio/x-wav"/>
  <Override PartName="/ppt/media/image17.png" ContentType="image/png"/>
  <Override PartName="/ppt/media/chimes.wav" ContentType="audio/x-wav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AB8-5260-41A1-94F2-DE8A2595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CD1-B180-4D9C-A4DA-996FE4D2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195-D1DF-48DC-9A90-12ABCDE4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E96-FBD6-4C45-99CF-67ACD267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7B87-2862-43E6-AC55-14C54244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E64E-C92A-43C0-91CE-E5CB9815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0365-65FA-40FB-8A6E-8F84DD68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E007-1C20-47DA-B9FA-0FEB50B3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A3BE-4A1F-48C2-9BD3-FCBA2445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4DD0-EA5A-42F2-9F96-B3DB131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769A-A55C-4E5F-823B-32935988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CDA-4218-4543-983F-3A90872E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F4BA-2B57-42AA-8ADB-C3354572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41A9-1FD1-4B7B-BBD7-45B3CE2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E517-3308-40A9-AEF7-4F0307B7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07DA-7591-417D-86E2-6FDE8A30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37C3-1555-4288-9DAC-B632FBDC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CEF-85C4-4EB2-8AE6-0C7008F7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231-306C-41B4-BEFD-D2F3FD19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7C0-3DA1-415F-BF3B-6A6C3E6C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99F-E484-4524-AE67-4E270D5D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FF2-9D72-4B1E-AE28-D8A7757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475-50D7-466A-A707-31BACF4C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00B-3879-4B4C-BD47-CC5CB659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9B46-52CD-4768-8138-CF5B87D0605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EC91-8560-42CE-87CE-FB59A7E231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1905120"/>
            <a:ext cx="7924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用列举法求概率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免费下载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755640" y="404640"/>
            <a:ext cx="223992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想一想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728000" y="1698480"/>
            <a:ext cx="56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把例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掷两个骰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一个骰子掷两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得的结果有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吗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191760" y="3708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华文彩云"/>
              </a:rPr>
              <a:t>没有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209680" y="3733920"/>
            <a:ext cx="5651640" cy="1657080"/>
          </a:xfrm>
          <a:prstGeom prst="wedgeRoundRectCallout">
            <a:avLst>
              <a:gd name="adj1" fmla="val 23847"/>
              <a:gd name="adj2" fmla="val -1250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这个游戏对小亮和小明公平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90720" y="731880"/>
            <a:ext cx="761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明和小亮做扑克游戏，桌面上放有两堆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别是红桃和黑桃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,2,3,4,5,6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明建议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我从红桃中抽取一张牌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你从黑桃中取一张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当两张牌数字之积为奇数时，你得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分，为偶数我得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分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先得到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分的获胜”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你是小亮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愿意接受这个游戏的规则吗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0571"/>
          <p:cNvPicPr/>
          <p:nvPr/>
        </p:nvPicPr>
        <p:blipFill>
          <a:blip r:embed="rId1"/>
          <a:stretch/>
        </p:blipFill>
        <p:spPr>
          <a:xfrm>
            <a:off x="250920" y="907920"/>
            <a:ext cx="647640" cy="1582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015"/>
          <p:cNvPicPr/>
          <p:nvPr/>
        </p:nvPicPr>
        <p:blipFill>
          <a:blip r:embed="rId2"/>
          <a:stretch/>
        </p:blipFill>
        <p:spPr>
          <a:xfrm>
            <a:off x="7956720" y="5634000"/>
            <a:ext cx="971280" cy="1108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0" y="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隶书"/>
                <a:ea typeface="隶书"/>
              </a:rPr>
              <a:t>思考</a:t>
            </a:r>
            <a:r>
              <a:rPr b="1" lang="en-US" sz="4800" spc="-1" strike="noStrike">
                <a:solidFill>
                  <a:srgbClr val="cc0066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>
            <a:hlinkClick r:id="rId3" action="ppaction://hlinksldjump"/>
          </p:cNvPr>
          <p:cNvSpPr/>
          <p:nvPr/>
        </p:nvSpPr>
        <p:spPr>
          <a:xfrm>
            <a:off x="8712360" y="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848240" y="5638680"/>
            <a:ext cx="37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你能求出小亮得分的概率吗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684360" y="1341360"/>
          <a:ext cx="7343640" cy="4064040"/>
        </p:xfrm>
        <a:graphic>
          <a:graphicData uri="http://schemas.openxmlformats.org/drawingml/2006/table">
            <a:tbl>
              <a:tblPr/>
              <a:tblGrid>
                <a:gridCol w="1028880"/>
                <a:gridCol w="1050840"/>
                <a:gridCol w="1054080"/>
                <a:gridCol w="1050840"/>
                <a:gridCol w="1054080"/>
                <a:gridCol w="1050840"/>
                <a:gridCol w="10540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0" name="Group 68"/>
          <p:cNvGrpSpPr/>
          <p:nvPr/>
        </p:nvGrpSpPr>
        <p:grpSpPr>
          <a:xfrm>
            <a:off x="611280" y="1341360"/>
            <a:ext cx="1156680" cy="631080"/>
            <a:chOff x="611280" y="1341360"/>
            <a:chExt cx="1156680" cy="631080"/>
          </a:xfrm>
        </p:grpSpPr>
        <p:sp>
          <p:nvSpPr>
            <p:cNvPr id="141" name="Line 69"/>
            <p:cNvSpPr/>
            <p:nvPr/>
          </p:nvSpPr>
          <p:spPr>
            <a:xfrm>
              <a:off x="898560" y="1341360"/>
              <a:ext cx="7207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70"/>
            <p:cNvSpPr/>
            <p:nvPr/>
          </p:nvSpPr>
          <p:spPr>
            <a:xfrm>
              <a:off x="611280" y="1557360"/>
              <a:ext cx="10080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1"/>
            <p:cNvSpPr/>
            <p:nvPr/>
          </p:nvSpPr>
          <p:spPr>
            <a:xfrm>
              <a:off x="1343520" y="14191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红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2"/>
            <p:cNvSpPr/>
            <p:nvPr/>
          </p:nvSpPr>
          <p:spPr>
            <a:xfrm>
              <a:off x="767160" y="16351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黑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73"/>
          <p:cNvSpPr/>
          <p:nvPr/>
        </p:nvSpPr>
        <p:spPr>
          <a:xfrm>
            <a:off x="539640" y="40464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66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表格表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06400" y="1916280"/>
          <a:ext cx="6315120" cy="3482640"/>
        </p:xfrm>
        <a:graphic>
          <a:graphicData uri="http://schemas.openxmlformats.org/drawingml/2006/table">
            <a:tbl>
              <a:tblPr/>
              <a:tblGrid>
                <a:gridCol w="1050840"/>
                <a:gridCol w="1054080"/>
                <a:gridCol w="1051200"/>
                <a:gridCol w="1054080"/>
                <a:gridCol w="1050840"/>
                <a:gridCol w="105408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06400" y="1916280"/>
          <a:ext cx="6315120" cy="3457440"/>
        </p:xfrm>
        <a:graphic>
          <a:graphicData uri="http://schemas.openxmlformats.org/drawingml/2006/table">
            <a:tbl>
              <a:tblPr/>
              <a:tblGrid>
                <a:gridCol w="1050840"/>
                <a:gridCol w="1054080"/>
                <a:gridCol w="1051200"/>
                <a:gridCol w="1054080"/>
                <a:gridCol w="1050840"/>
                <a:gridCol w="10540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,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,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3,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,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文本框 8199"/>
          <p:cNvSpPr/>
          <p:nvPr/>
        </p:nvSpPr>
        <p:spPr>
          <a:xfrm>
            <a:off x="3321000" y="541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68360" y="429264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总结经验</a:t>
            </a:r>
            <a:r>
              <a:rPr b="1" lang="en-US" sz="3600" spc="-1" strike="noStrike">
                <a:solidFill>
                  <a:srgbClr val="cc0066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一次试验要涉及两个因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且可能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现的结果数目较多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为了不重不漏的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出所有可能的结果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通常采用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列表的办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91880" y="620640"/>
            <a:ext cx="6586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由表中可以看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在两堆牌中分别取一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它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能出现的结果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它们出现的可能性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满足两张牌的数字之积为奇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记为事件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的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1)(1,3)(1,5)(3,1)(3,3)(3,5)(5,1)(5,3)(5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这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种情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(A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ject 4" descr=""/>
          <p:cNvPicPr/>
          <p:nvPr/>
        </p:nvPicPr>
        <p:blipFill>
          <a:blip r:embed="rId1"/>
          <a:stretch/>
        </p:blipFill>
        <p:spPr>
          <a:xfrm>
            <a:off x="4021200" y="2994120"/>
            <a:ext cx="18460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108000" y="0"/>
            <a:ext cx="4607640" cy="1238760"/>
            <a:chOff x="108000" y="0"/>
            <a:chExt cx="4607640" cy="1238760"/>
          </a:xfrm>
        </p:grpSpPr>
        <p:pic>
          <p:nvPicPr>
            <p:cNvPr id="153" name="Picture 5" descr="678"/>
            <p:cNvPicPr/>
            <p:nvPr/>
          </p:nvPicPr>
          <p:blipFill>
            <a:blip r:embed="rId1"/>
            <a:stretch/>
          </p:blipFill>
          <p:spPr>
            <a:xfrm>
              <a:off x="3147120" y="0"/>
              <a:ext cx="1568520" cy="68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Group 6"/>
            <p:cNvGrpSpPr/>
            <p:nvPr/>
          </p:nvGrpSpPr>
          <p:grpSpPr>
            <a:xfrm>
              <a:off x="108000" y="47880"/>
              <a:ext cx="3038760" cy="1190880"/>
              <a:chOff x="108000" y="47880"/>
              <a:chExt cx="3038760" cy="1190880"/>
            </a:xfrm>
          </p:grpSpPr>
          <p:sp>
            <p:nvSpPr>
              <p:cNvPr id="155" name="Rectangle 7"/>
              <p:cNvSpPr/>
              <p:nvPr/>
            </p:nvSpPr>
            <p:spPr>
              <a:xfrm>
                <a:off x="108000" y="47880"/>
                <a:ext cx="3038760" cy="11908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（基础练习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8" descr="gif003[1]">
                <a:hlinkClick r:id="" action="ppaction://hlinkshowjump?jump=lastslide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26360" y="226800"/>
                <a:ext cx="686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7" name="Rectangle 9"/>
          <p:cNvSpPr/>
          <p:nvPr/>
        </p:nvSpPr>
        <p:spPr>
          <a:xfrm>
            <a:off x="0" y="14619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一个袋子中装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红球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绿球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任意摸出一球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记录颜色放回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再任意摸出一球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记录颜色放回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估计两次都摸到红球的概率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0" y="2971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某人有红、白、蓝三件衬衫和红、白、蓝三条长裤，该人任意拿一件衬衫和一条长裤，求正好是一套白色的概率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0" y="4816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张卡片上分别写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—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整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随机的抽取一张后放回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再随机的抽取一张，那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次取出的数字能够整除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次取出的数字的概率是多少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2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474840" cy="12193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ject 14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609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5616720" cy="3422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1176480" y="4572000"/>
            <a:ext cx="4105080" cy="431640"/>
          </a:xfrm>
          <a:prstGeom prst="rect">
            <a:avLst/>
          </a:prstGeom>
          <a:solidFill>
            <a:srgbClr val="cc9900">
              <a:alpha val="37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633920" y="3851280"/>
            <a:ext cx="647640" cy="720720"/>
          </a:xfrm>
          <a:prstGeom prst="rect">
            <a:avLst/>
          </a:prstGeom>
          <a:solidFill>
            <a:srgbClr val="cc9900">
              <a:alpha val="37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825560" y="4211640"/>
            <a:ext cx="647640" cy="360360"/>
          </a:xfrm>
          <a:prstGeom prst="rect">
            <a:avLst/>
          </a:prstGeom>
          <a:solidFill>
            <a:srgbClr val="cc9900">
              <a:alpha val="45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2473200" y="3851280"/>
            <a:ext cx="648000" cy="360360"/>
          </a:xfrm>
          <a:prstGeom prst="rect">
            <a:avLst/>
          </a:prstGeom>
          <a:solidFill>
            <a:srgbClr val="cc9900">
              <a:alpha val="37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3121200" y="3490920"/>
            <a:ext cx="720720" cy="360360"/>
          </a:xfrm>
          <a:prstGeom prst="rect">
            <a:avLst/>
          </a:prstGeom>
          <a:solidFill>
            <a:srgbClr val="cc9900">
              <a:alpha val="37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3841920" y="3130560"/>
            <a:ext cx="718920" cy="360360"/>
          </a:xfrm>
          <a:prstGeom prst="rect">
            <a:avLst/>
          </a:prstGeom>
          <a:solidFill>
            <a:srgbClr val="cc9900">
              <a:alpha val="37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560840" y="2771640"/>
            <a:ext cx="720720" cy="358920"/>
          </a:xfrm>
          <a:prstGeom prst="rect">
            <a:avLst/>
          </a:prstGeom>
          <a:solidFill>
            <a:srgbClr val="cc9900">
              <a:alpha val="37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121200" y="4211640"/>
            <a:ext cx="720720" cy="360360"/>
          </a:xfrm>
          <a:prstGeom prst="rect">
            <a:avLst/>
          </a:prstGeom>
          <a:solidFill>
            <a:srgbClr val="cc9900">
              <a:alpha val="35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ject 13" descr=""/>
          <p:cNvPicPr/>
          <p:nvPr/>
        </p:nvPicPr>
        <p:blipFill>
          <a:blip r:embed="rId2"/>
          <a:stretch/>
        </p:blipFill>
        <p:spPr>
          <a:xfrm>
            <a:off x="4800600" y="5486400"/>
            <a:ext cx="3236760" cy="1139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45720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解：将两次抽取卡片记为第</a:t>
            </a: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个和第</a:t>
            </a: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个，用表格列出所有可能出现的情况，如图所示，共有</a:t>
            </a: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种情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609480" y="1143000"/>
            <a:ext cx="8001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则将第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个数字能整除第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个数字事件记为事件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满足情况的有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，（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08160" y="289080"/>
            <a:ext cx="47480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66"/>
                </a:solidFill>
                <a:latin typeface="Garamond"/>
                <a:ea typeface="隶书"/>
              </a:rPr>
              <a:t>要</a:t>
            </a:r>
            <a:r>
              <a:rPr b="1" lang="zh-CN" sz="3800" spc="-1" strike="noStrike">
                <a:solidFill>
                  <a:srgbClr val="cc0066"/>
                </a:solidFill>
                <a:latin typeface="Arial"/>
                <a:ea typeface="隶书"/>
              </a:rPr>
              <a:t>“</a:t>
            </a:r>
            <a:r>
              <a:rPr b="1" lang="zh-CN" sz="3800" spc="-1" strike="noStrike">
                <a:solidFill>
                  <a:srgbClr val="cc0066"/>
                </a:solidFill>
                <a:latin typeface="Garamond"/>
                <a:ea typeface="隶书"/>
              </a:rPr>
              <a:t>玩</a:t>
            </a:r>
            <a:r>
              <a:rPr b="1" lang="zh-CN" sz="3800" spc="-1" strike="noStrike">
                <a:solidFill>
                  <a:srgbClr val="cc0066"/>
                </a:solidFill>
                <a:latin typeface="Arial"/>
                <a:ea typeface="隶书"/>
              </a:rPr>
              <a:t>”</a:t>
            </a:r>
            <a:r>
              <a:rPr b="1" lang="zh-CN" sz="3800" spc="-1" strike="noStrike">
                <a:solidFill>
                  <a:srgbClr val="cc0066"/>
                </a:solidFill>
                <a:latin typeface="Garamond"/>
                <a:ea typeface="隶书"/>
              </a:rPr>
              <a:t>出水平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80880" y="3808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配</a:t>
            </a:r>
            <a:r>
              <a:rPr b="1" lang="zh-CN" sz="3600" spc="-1" strike="noStrike">
                <a:solidFill>
                  <a:srgbClr val="990099"/>
                </a:solidFill>
                <a:latin typeface="Tahoma"/>
                <a:ea typeface="隶书"/>
              </a:rPr>
              <a:t>紫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游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15228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颖为学校联欢会设计了一个“配紫色”游戏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面是两个可以自由转动的转盘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每个转盘被分成相等的几个扇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152280" y="2286000"/>
            <a:ext cx="8991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游戏规则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游戏者同时转动两个转盘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转盘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转出了红色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转盘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转出了蓝色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那么他就赢了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因为红色和蓝色在一起配成了</a:t>
            </a:r>
            <a:r>
              <a:rPr b="1" lang="zh-CN" sz="2800" spc="-1" strike="noStrike">
                <a:solidFill>
                  <a:srgbClr val="990099"/>
                </a:solidFill>
                <a:latin typeface="华文楷体"/>
                <a:ea typeface="华文楷体"/>
              </a:rPr>
              <a:t>紫色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0" y="4038480"/>
            <a:ext cx="3581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利用列表的方法表示游戏者所有可能出现的结果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游戏者获胜的概率是多少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4038480" y="3657600"/>
            <a:ext cx="4260960" cy="2364840"/>
            <a:chOff x="4038480" y="3657600"/>
            <a:chExt cx="4260960" cy="2364840"/>
          </a:xfrm>
        </p:grpSpPr>
        <p:pic>
          <p:nvPicPr>
            <p:cNvPr id="182" name="Object 16" descr=""/>
            <p:cNvPicPr/>
            <p:nvPr/>
          </p:nvPicPr>
          <p:blipFill>
            <a:blip r:embed="rId1"/>
            <a:stretch/>
          </p:blipFill>
          <p:spPr>
            <a:xfrm>
              <a:off x="4038480" y="3657600"/>
              <a:ext cx="201456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Object 17" descr=""/>
            <p:cNvPicPr/>
            <p:nvPr/>
          </p:nvPicPr>
          <p:blipFill>
            <a:blip r:embed="rId2"/>
            <a:stretch/>
          </p:blipFill>
          <p:spPr>
            <a:xfrm>
              <a:off x="6248520" y="3675240"/>
              <a:ext cx="2050920" cy="21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Line 18"/>
            <p:cNvSpPr/>
            <p:nvPr/>
          </p:nvSpPr>
          <p:spPr>
            <a:xfrm flipV="1">
              <a:off x="5029200" y="4571640"/>
              <a:ext cx="53352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7238880" y="4647960"/>
              <a:ext cx="533520" cy="15228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434340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ff99"/>
                  </a:solidFill>
                  <a:latin typeface="Tahoma"/>
                </a:rPr>
                <a:t>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1"/>
            <p:cNvSpPr/>
            <p:nvPr/>
          </p:nvSpPr>
          <p:spPr>
            <a:xfrm>
              <a:off x="525780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66294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3"/>
            <p:cNvSpPr/>
            <p:nvPr/>
          </p:nvSpPr>
          <p:spPr>
            <a:xfrm>
              <a:off x="7391520" y="4038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086600" y="4876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5"/>
            <p:cNvSpPr/>
            <p:nvPr/>
          </p:nvSpPr>
          <p:spPr>
            <a:xfrm>
              <a:off x="4876920" y="5562720"/>
              <a:ext cx="6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6"/>
            <p:cNvSpPr/>
            <p:nvPr/>
          </p:nvSpPr>
          <p:spPr>
            <a:xfrm>
              <a:off x="7089840" y="5562720"/>
              <a:ext cx="6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7201080" y="4724280"/>
              <a:ext cx="114120" cy="1144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4915080" y="4705200"/>
              <a:ext cx="114120" cy="1144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99640" y="277560"/>
            <a:ext cx="477684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Garamond"/>
                <a:ea typeface="隶书"/>
              </a:rPr>
              <a:t>真知灼见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  <a:ea typeface="隶书"/>
              </a:rPr>
              <a:t>源于实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152280" y="2057400"/>
            <a:ext cx="348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格可以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1066680" y="1219320"/>
            <a:ext cx="419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配</a:t>
            </a:r>
            <a:r>
              <a:rPr b="1" lang="zh-CN" sz="3600" spc="-1" strike="noStrike">
                <a:solidFill>
                  <a:srgbClr val="990099"/>
                </a:solidFill>
                <a:latin typeface="Tahoma"/>
                <a:ea typeface="隶书"/>
              </a:rPr>
              <a:t>紫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游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6" descr="Q_011"/>
          <p:cNvPicPr/>
          <p:nvPr/>
        </p:nvPicPr>
        <p:blipFill>
          <a:blip r:embed="rId1"/>
          <a:stretch/>
        </p:blipFill>
        <p:spPr>
          <a:xfrm>
            <a:off x="5562720" y="228600"/>
            <a:ext cx="522000" cy="6094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7"/>
          <p:cNvSpPr/>
          <p:nvPr/>
        </p:nvSpPr>
        <p:spPr>
          <a:xfrm>
            <a:off x="990720" y="5943600"/>
            <a:ext cx="5867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游戏者获胜的概率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/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85800" y="2590920"/>
          <a:ext cx="6934320" cy="2822400"/>
        </p:xfrm>
        <a:graphic>
          <a:graphicData uri="http://schemas.openxmlformats.org/drawingml/2006/table">
            <a:tbl>
              <a:tblPr/>
              <a:tblGrid>
                <a:gridCol w="1733400"/>
                <a:gridCol w="1771920"/>
                <a:gridCol w="1695240"/>
                <a:gridCol w="1733760"/>
              </a:tblGrid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转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转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Line 40"/>
          <p:cNvSpPr/>
          <p:nvPr/>
        </p:nvSpPr>
        <p:spPr>
          <a:xfrm>
            <a:off x="685800" y="2590920"/>
            <a:ext cx="17524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2971800" y="2944800"/>
            <a:ext cx="896760" cy="4597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4572000" y="2944800"/>
            <a:ext cx="878040" cy="459720"/>
          </a:xfrm>
          <a:prstGeom prst="rect">
            <a:avLst/>
          </a:prstGeom>
          <a:solidFill>
            <a:srgbClr val="d4f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6248520" y="2944800"/>
            <a:ext cx="801720" cy="459720"/>
          </a:xfrm>
          <a:prstGeom prst="rect">
            <a:avLst/>
          </a:prstGeom>
          <a:solidFill>
            <a:srgbClr val="d4f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1371600" y="4191120"/>
            <a:ext cx="5238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5"/>
          <p:cNvSpPr/>
          <p:nvPr/>
        </p:nvSpPr>
        <p:spPr>
          <a:xfrm>
            <a:off x="2743200" y="4191120"/>
            <a:ext cx="12762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红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黄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6"/>
          <p:cNvSpPr/>
          <p:nvPr/>
        </p:nvSpPr>
        <p:spPr>
          <a:xfrm>
            <a:off x="4343400" y="4191120"/>
            <a:ext cx="13716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红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蓝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5978520" y="4191120"/>
            <a:ext cx="156528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800080"/>
                </a:solidFill>
                <a:latin typeface="隶书"/>
                <a:ea typeface="隶书"/>
              </a:rPr>
              <a:t>红</a:t>
            </a:r>
            <a:r>
              <a:rPr b="0" lang="en-US" sz="2400" spc="-1" strike="noStrike">
                <a:solidFill>
                  <a:srgbClr val="80008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800080"/>
                </a:solidFill>
                <a:latin typeface="隶书"/>
                <a:ea typeface="隶书"/>
              </a:rPr>
              <a:t>绿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1371600" y="4876920"/>
            <a:ext cx="5270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2666880" y="4876920"/>
            <a:ext cx="13320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白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黄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4308480" y="4876920"/>
            <a:ext cx="1406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白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蓝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6019920" y="48769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白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绿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0066"/>
                </a:solidFill>
                <a:latin typeface="Garamond"/>
                <a:ea typeface="隶书"/>
              </a:rPr>
              <a:t>行家看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200" spc="-1" strike="noStrike">
                <a:solidFill>
                  <a:srgbClr val="996600"/>
                </a:solidFill>
                <a:latin typeface="Garamond"/>
                <a:ea typeface="隶书"/>
              </a:rPr>
              <a:t>门道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0" y="1295280"/>
            <a:ext cx="8839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袋中装有两个完全相同的球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别标有数字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”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明设计了一个游戏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游戏者每次从袋中随机摸出一个球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并自由转动图中的转盘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转盘被分成相等的三个扇形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80880" y="47242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隶书"/>
                <a:ea typeface="隶书"/>
              </a:rPr>
              <a:t>游戏规则是</a:t>
            </a:r>
            <a:r>
              <a:rPr b="1" lang="en-US" sz="2800" spc="-1" strike="noStrike">
                <a:solidFill>
                  <a:srgbClr val="660066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所摸球上的数字与转盘转出的数字之和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那么游戏者获胜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游戏者获胜的概率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4952880" y="3049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ahoma"/>
                <a:ea typeface="隶书"/>
              </a:rPr>
              <a:t>用心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996600"/>
                </a:solidFill>
                <a:latin typeface="Tahoma"/>
                <a:ea typeface="隶书"/>
              </a:rPr>
              <a:t>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7"/>
          <p:cNvGrpSpPr/>
          <p:nvPr/>
        </p:nvGrpSpPr>
        <p:grpSpPr>
          <a:xfrm>
            <a:off x="3124080" y="2743200"/>
            <a:ext cx="3581640" cy="1919160"/>
            <a:chOff x="3124080" y="2743200"/>
            <a:chExt cx="3581640" cy="1919160"/>
          </a:xfrm>
        </p:grpSpPr>
        <p:pic>
          <p:nvPicPr>
            <p:cNvPr id="218" name="Object 18" descr=""/>
            <p:cNvPicPr/>
            <p:nvPr/>
          </p:nvPicPr>
          <p:blipFill>
            <a:blip r:embed="rId1"/>
            <a:stretch/>
          </p:blipFill>
          <p:spPr>
            <a:xfrm>
              <a:off x="5038560" y="3054240"/>
              <a:ext cx="1667160" cy="16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9" descr="口袋1"/>
            <p:cNvPicPr/>
            <p:nvPr/>
          </p:nvPicPr>
          <p:blipFill>
            <a:blip r:embed="rId2"/>
            <a:stretch/>
          </p:blipFill>
          <p:spPr>
            <a:xfrm>
              <a:off x="3124080" y="2743200"/>
              <a:ext cx="139536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Oval 20"/>
            <p:cNvSpPr/>
            <p:nvPr/>
          </p:nvSpPr>
          <p:spPr>
            <a:xfrm>
              <a:off x="5753160" y="3702240"/>
              <a:ext cx="152280" cy="1522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 flipH="1" flipV="1">
              <a:off x="5373720" y="3683160"/>
              <a:ext cx="3794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5410080" y="320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3"/>
            <p:cNvSpPr/>
            <p:nvPr/>
          </p:nvSpPr>
          <p:spPr>
            <a:xfrm>
              <a:off x="5715000" y="4044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6019920" y="3359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2"/>
          <p:cNvSpPr/>
          <p:nvPr/>
        </p:nvSpPr>
        <p:spPr>
          <a:xfrm>
            <a:off x="304920" y="83808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每次游戏时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所有可能出现的结果如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533520" y="5029200"/>
            <a:ext cx="88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游戏者获胜的概率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/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5800" y="2514600"/>
          <a:ext cx="6781680" cy="1736640"/>
        </p:xfrm>
        <a:graphic>
          <a:graphicData uri="http://schemas.openxmlformats.org/drawingml/2006/table">
            <a:tbl>
              <a:tblPr/>
              <a:tblGrid>
                <a:gridCol w="2286000"/>
                <a:gridCol w="2971800"/>
                <a:gridCol w="152388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转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摸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35"/>
          <p:cNvSpPr/>
          <p:nvPr/>
        </p:nvSpPr>
        <p:spPr>
          <a:xfrm>
            <a:off x="1619280" y="3321000"/>
            <a:ext cx="5238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6"/>
          <p:cNvSpPr/>
          <p:nvPr/>
        </p:nvSpPr>
        <p:spPr>
          <a:xfrm>
            <a:off x="3389400" y="2673360"/>
            <a:ext cx="592200" cy="4597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4719600" y="2673360"/>
            <a:ext cx="650880" cy="459720"/>
          </a:xfrm>
          <a:prstGeom prst="rect">
            <a:avLst/>
          </a:prstGeom>
          <a:solidFill>
            <a:srgbClr val="d4f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3200400" y="3319560"/>
            <a:ext cx="97164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9"/>
          <p:cNvSpPr/>
          <p:nvPr/>
        </p:nvSpPr>
        <p:spPr>
          <a:xfrm>
            <a:off x="4532400" y="3338640"/>
            <a:ext cx="99036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0"/>
          <p:cNvSpPr/>
          <p:nvPr/>
        </p:nvSpPr>
        <p:spPr>
          <a:xfrm>
            <a:off x="1600200" y="3833640"/>
            <a:ext cx="5270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1"/>
          <p:cNvSpPr/>
          <p:nvPr/>
        </p:nvSpPr>
        <p:spPr>
          <a:xfrm>
            <a:off x="3236760" y="3816360"/>
            <a:ext cx="99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2"/>
          <p:cNvSpPr/>
          <p:nvPr/>
        </p:nvSpPr>
        <p:spPr>
          <a:xfrm>
            <a:off x="4532400" y="3843360"/>
            <a:ext cx="99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3"/>
          <p:cNvSpPr/>
          <p:nvPr/>
        </p:nvSpPr>
        <p:spPr>
          <a:xfrm>
            <a:off x="4267080" y="2514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4"/>
          <p:cNvSpPr/>
          <p:nvPr/>
        </p:nvSpPr>
        <p:spPr>
          <a:xfrm>
            <a:off x="6359400" y="2716200"/>
            <a:ext cx="650880" cy="459720"/>
          </a:xfrm>
          <a:prstGeom prst="rect">
            <a:avLst/>
          </a:prstGeom>
          <a:solidFill>
            <a:srgbClr val="d4f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5"/>
          <p:cNvSpPr/>
          <p:nvPr/>
        </p:nvSpPr>
        <p:spPr>
          <a:xfrm>
            <a:off x="6172200" y="3381480"/>
            <a:ext cx="990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6"/>
          <p:cNvSpPr/>
          <p:nvPr/>
        </p:nvSpPr>
        <p:spPr>
          <a:xfrm>
            <a:off x="6172200" y="3886200"/>
            <a:ext cx="99072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4568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必然事件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一定条件下必然发生的事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不可能事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一定条件下不可能发生的事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随机事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一定条件下可能发生也可能不发生的事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0920" y="3716280"/>
            <a:ext cx="29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概率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627280" y="3789360"/>
            <a:ext cx="619272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地，如果在一次试验中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可能的结果，并且它们发生的可能性都相等，事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含其中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结果，那么事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生的概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A)=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24000" y="551664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0≤P(A) ≤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必然事件的概率是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不可能事件的概率是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84680" y="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380880" y="23914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现有两组电灯，每一组中各有红、黄、蓝、绿四盏灯，各组中的灯均为并联，两组等同时只能各亮一盏，求同时亮红灯的概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5"/>
          <p:cNvSpPr txBox="1"/>
          <p:nvPr/>
        </p:nvSpPr>
        <p:spPr>
          <a:xfrm>
            <a:off x="2971800" y="3808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拓展研究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304920" y="1295280"/>
          <a:ext cx="8381880" cy="4419720"/>
        </p:xfrm>
        <a:graphic>
          <a:graphicData uri="http://schemas.openxmlformats.org/drawingml/2006/table">
            <a:tbl>
              <a:tblPr/>
              <a:tblGrid>
                <a:gridCol w="2097000"/>
                <a:gridCol w="2094120"/>
                <a:gridCol w="2097000"/>
                <a:gridCol w="2093760"/>
              </a:tblGrid>
              <a:tr h="110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红，红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黄，红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蓝，红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绿，红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红，黄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黄，黄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蓝，黄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绿，黄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红，蓝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黄，蓝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蓝，蓝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绿，蓝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红，绿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黄，绿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蓝，绿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（绿，绿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9"/>
          <p:cNvSpPr/>
          <p:nvPr/>
        </p:nvSpPr>
        <p:spPr>
          <a:xfrm>
            <a:off x="1980360" y="60876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将所有可能出现的情况列表如下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Object 110" descr=""/>
          <p:cNvPicPr/>
          <p:nvPr/>
        </p:nvPicPr>
        <p:blipFill>
          <a:blip r:embed="rId1"/>
          <a:stretch/>
        </p:blipFill>
        <p:spPr>
          <a:xfrm>
            <a:off x="2286000" y="5902200"/>
            <a:ext cx="32767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228600" y="6552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染色体隐性遗传病，只有致病基因在纯合状态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时才会发病，在杂合状态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时，由于正常的显性基因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存在，致病基因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作用不能表现出来，但是自己虽不发病，却能将病传给后代，常常父母无病，子女有病，如下表所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09480" y="2438280"/>
          <a:ext cx="7086600" cy="2514600"/>
        </p:xfrm>
        <a:graphic>
          <a:graphicData uri="http://schemas.openxmlformats.org/drawingml/2006/table">
            <a:tbl>
              <a:tblPr/>
              <a:tblGrid>
                <a:gridCol w="1770120"/>
                <a:gridCol w="1770120"/>
                <a:gridCol w="1773000"/>
                <a:gridCol w="1773360"/>
              </a:tblGrid>
              <a:tr h="628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母亲基因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父亲基因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92"/>
          <p:cNvSpPr/>
          <p:nvPr/>
        </p:nvSpPr>
        <p:spPr>
          <a:xfrm>
            <a:off x="76320" y="524196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子女发病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如果父亲基因型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母亲基因型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问子女发病的概率是多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Object 93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ject 95" descr=""/>
          <p:cNvPicPr/>
          <p:nvPr/>
        </p:nvPicPr>
        <p:blipFill>
          <a:blip r:embed="rId2"/>
          <a:stretch/>
        </p:blipFill>
        <p:spPr>
          <a:xfrm>
            <a:off x="5867280" y="5907240"/>
            <a:ext cx="28958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B879-B8A9-41F9-931A-D2C85BE876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486864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Garamond"/>
              </a:rPr>
              <a:t>等可能性事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15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掷一枚硬币，落地后会出现几种结果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抛掷一个骰子，它落地时向上的数有几种可能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从分别标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2.3.4.5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根纸签中随机抽取一根，抽出的签上的标号有几种可能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92200" y="712800"/>
            <a:ext cx="578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种等可能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120320" y="210024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种等可能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120320" y="368460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种等可能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24000" y="189000"/>
            <a:ext cx="824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Garamond"/>
              </a:rPr>
              <a:t>等可能性事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39640" y="76500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等可能性事件的两个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出现的结果有有限多个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各结果发生的可能性相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79280" y="38869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840" y="2349360"/>
            <a:ext cx="90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等可能性事件的概率可以用列举法而求得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549000"/>
            <a:ext cx="87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Arial"/>
              </a:rPr>
              <a:t>练习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95280" y="1989000"/>
            <a:ext cx="8497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50920" y="1844640"/>
            <a:ext cx="8353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 一个口袋内装有大小相等的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个红球和已      编有不同号码的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个黑球，从中摸出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个球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　　（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）共有多少种不同的结果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　　（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）摸出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个黑球有多种不同的结果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　　（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）摸出两个黑球的概率是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539640" y="1052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口袋中一红三黑共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个小球，一次从中取出两个小球，求 “取出的小球都是黑球”的概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>
            <a:hlinkClick r:id="rId1" action="ppaction://hlinksldjump"/>
          </p:cNvPr>
          <p:cNvSpPr/>
          <p:nvPr/>
        </p:nvSpPr>
        <p:spPr>
          <a:xfrm>
            <a:off x="2987640" y="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用列举法求概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1989000"/>
            <a:ext cx="7596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一次从口袋中取出两个小球时， 所有可能出现的结果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红，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（红，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（红，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（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（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且它们出现的可能性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足取出的小球都是黑球（记为事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结果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（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（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（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， 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2"/>
          <a:stretch/>
        </p:blipFill>
        <p:spPr>
          <a:xfrm>
            <a:off x="3564000" y="5518080"/>
            <a:ext cx="385560" cy="71928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6" descr=""/>
          <p:cNvPicPr/>
          <p:nvPr/>
        </p:nvPicPr>
        <p:blipFill>
          <a:blip r:embed="rId3"/>
          <a:stretch/>
        </p:blipFill>
        <p:spPr>
          <a:xfrm>
            <a:off x="2771640" y="5518080"/>
            <a:ext cx="385920" cy="719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5499720" y="14130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直接列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952280" y="38088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新魏"/>
              </a:rPr>
              <a:t>问题：利用分类列举法可以事件发生的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新魏"/>
              </a:rPr>
              <a:t>种情况，对于列举复杂事件的发生情况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新魏"/>
              </a:rPr>
              <a:t>有什么更好的方法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853280" y="2384280"/>
            <a:ext cx="51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时掷两个质地均匀的骰子，计算下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事件的概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316880" y="3608280"/>
            <a:ext cx="35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两个骰子的点数相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54320" y="4270320"/>
            <a:ext cx="39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两个骰子点数的和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527120" y="504828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至少有一个骰子的点数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79280" y="3049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分析：当一次试验要涉及两个因素（例如掷两个骰子）并且可能出现的结果数目较多时，为不重不漏地列出所有可能结果，通常采用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509480" y="2133720"/>
            <a:ext cx="61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两个骰子分别标记为第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和第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，列表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042920" y="2963880"/>
            <a:ext cx="6391440" cy="3894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835280" y="5445000"/>
            <a:ext cx="5041800" cy="4320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627280" y="3645000"/>
            <a:ext cx="720720" cy="26636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090560" y="1295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黑体"/>
              </a:rPr>
              <a:t>列表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解：由表可看出，同时投掷两个骰子，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的结果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，它们出现的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可能性相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满足两个骰子点数相同（记为事件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的结果有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4321440" cy="995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3276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满足两个骰子点数和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记为事件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的结果有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6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4465800" cy="1038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0" y="5029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满足至少有一个骰子的点数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记为事件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的结果有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ject 8" descr=""/>
          <p:cNvPicPr/>
          <p:nvPr/>
        </p:nvPicPr>
        <p:blipFill>
          <a:blip r:embed="rId3"/>
          <a:stretch/>
        </p:blipFill>
        <p:spPr>
          <a:xfrm>
            <a:off x="1143000" y="5791320"/>
            <a:ext cx="42480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1T12:09:04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2:15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