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F58-44EC-49DB-B963-105ED76F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9E1-A088-4873-8820-8424542F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726-76C9-46D7-8E0C-7C77AECD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0F3-93B1-4F56-BDE3-BE5C4622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E2CF-9229-43EE-98CB-F5D6799A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6C6E-C91F-446B-983C-2C907EF5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1B69-5F10-4AA3-997E-8DE38E89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9D07-DBEF-45CF-961B-E3653311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446C-3DF7-49C5-B527-6D1ED6A1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4931-667B-4A54-AF87-682787C2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DD44-7CED-47C9-940F-9A87A9F2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DFB-B766-4B87-ADFB-DABC5B60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CB96-C2B4-4A44-A9A0-C58B8255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D650-2568-4544-8933-24D560A2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98C7-8263-4C13-A309-F57D5649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CFA3-36B9-440B-B84A-841C3A07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3C6B-46B5-4918-9425-B28A7CF5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0B8-87B1-4CBA-B7D6-69193508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837-76BA-4A84-A01A-8E53B409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B07-B91A-4416-ABF1-98DBC05D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1B54-FC26-44D0-8C60-CE09D649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609-4E8D-44D2-BED5-FE84B7FA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C1E-B3A2-4816-8363-C9EF627F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4983-C00F-4F9B-A1D7-8574C2C6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5276-5E88-4456-BA1F-A2550EDFFF7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CD68-9B42-442A-9400-FDA78ADF634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2401920" y="6095880"/>
            <a:ext cx="47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918240" y="212760"/>
            <a:ext cx="1720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ffff"/>
                </a:solidFill>
                <a:latin typeface="MT Extra"/>
                <a:ea typeface="MT Extra"/>
              </a:rPr>
              <a:t>雨说</a:t>
            </a:r>
            <a:endParaRPr b="0" lang="en-US" sz="16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小雨沙沙1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6338160" y="48690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郑愁予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539640" y="285264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为生活在中国大地上的儿童而歌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文本框 1"/>
          <p:cNvSpPr/>
          <p:nvPr/>
        </p:nvSpPr>
        <p:spPr>
          <a:xfrm>
            <a:off x="181080" y="6400800"/>
            <a:ext cx="52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4" descr="36-2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411120" y="2055960"/>
            <a:ext cx="8732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        </a:t>
            </a:r>
            <a:r>
              <a:rPr b="1" lang="zh-CN" sz="48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听录音，找出自己感受最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深的意象词语，通过联想和想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象，把他描绘成一幅图画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866600" y="333360"/>
            <a:ext cx="535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在淅淅沥沥的春雨中，田圃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…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牧场上的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新苗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…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池塘的鱼儿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…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还有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……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625320" y="52243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Picture 4" descr="36-2"/>
          <p:cNvPicPr/>
          <p:nvPr/>
        </p:nvPicPr>
        <p:blipFill>
          <a:blip r:embed="rId1"/>
          <a:stretch/>
        </p:blipFill>
        <p:spPr>
          <a:xfrm>
            <a:off x="0" y="0"/>
            <a:ext cx="4419720" cy="351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39-1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505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1016-1"/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298680"/>
          </a:xfrm>
          <a:prstGeom prst="rect">
            <a:avLst/>
          </a:prstGeom>
          <a:ln w="0">
            <a:noFill/>
          </a:ln>
        </p:spPr>
      </p:pic>
      <p:pic>
        <p:nvPicPr>
          <p:cNvPr id="106" name="geq.MPG" descr=""/>
          <p:cNvPicPr/>
          <p:nvPr/>
        </p:nvPicPr>
        <p:blipFill>
          <a:blip r:embed="rId4"/>
          <a:stretch/>
        </p:blipFill>
        <p:spPr>
          <a:xfrm>
            <a:off x="1066680" y="380880"/>
            <a:ext cx="693432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6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2748960" y="1312920"/>
            <a:ext cx="390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.</a:t>
            </a:r>
            <a:r>
              <a:rPr b="0" i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细腻精巧的语言美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我的爱心像丝缕那样把天地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在一起</a:t>
            </a: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.</a:t>
            </a:r>
            <a:r>
              <a:rPr b="0" i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拟人化手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我来了，我走得很轻，而且温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细语的</a:t>
            </a: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柳条儿见了我笑弯了腰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石狮子见了我笑出了泪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小燕子见了我笑斜了翅膀啊</a:t>
            </a: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600200" y="609480"/>
            <a:ext cx="1828800" cy="581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欣赏品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04920" y="990720"/>
            <a:ext cx="86104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9900"/>
                </a:solidFill>
                <a:latin typeface="Times New Roman"/>
              </a:rPr>
              <a:t>家庭作业：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诵读诗歌，与</a:t>
            </a: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再别康桥</a:t>
            </a: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》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、</a:t>
            </a: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田野</a:t>
            </a: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》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作比较，看有何异同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文本框 1"/>
          <p:cNvSpPr/>
          <p:nvPr/>
        </p:nvSpPr>
        <p:spPr>
          <a:xfrm>
            <a:off x="304920" y="5956200"/>
            <a:ext cx="69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Picture 3" descr="c033"/>
          <p:cNvPicPr/>
          <p:nvPr/>
        </p:nvPicPr>
        <p:blipFill>
          <a:blip r:embed="rId1"/>
          <a:stretch/>
        </p:blipFill>
        <p:spPr>
          <a:xfrm>
            <a:off x="-228600" y="-380880"/>
            <a:ext cx="9372600" cy="7238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"/>
          <p:cNvSpPr/>
          <p:nvPr/>
        </p:nvSpPr>
        <p:spPr>
          <a:xfrm>
            <a:off x="1143000" y="243828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让我们做诗的知己吧，让无数珍贵的生命的花朵，带着灵魂的闪光思想的色彩、感情的汁液，融入我们的生命，使我们的精神世界永不成为沙漠和荒原吧！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邵燕祥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Picture 4" descr="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143000" y="1219320"/>
            <a:ext cx="6781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让我们做诗的知己吧，让无数珍贵的生命的花朵，带着灵魂的闪光思想的色彩、感情的汁液，融入我们的生命，使我们的精神世界永不成为沙漠和荒原吧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                               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——</a:t>
            </a:r>
            <a:r>
              <a:rPr b="1" lang="zh-CN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邵燕祥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536C-9153-46BD-A55E-03DE092920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07:12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2:18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