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3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24.jpeg" ContentType="image/jpeg"/>
  <Override PartName="/ppt/media/image30.jpeg" ContentType="image/jpeg"/>
  <Override PartName="/ppt/media/image7.wmf" ContentType="image/x-wmf"/>
  <Override PartName="/ppt/media/image20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26.jpeg" ContentType="image/jpeg"/>
  <Override PartName="/ppt/media/image17.jpeg" ContentType="image/jpeg"/>
  <Override PartName="/ppt/media/image5.jpeg" ContentType="image/jpeg"/>
  <Override PartName="/ppt/media/image11.wmf" ContentType="image/x-wmf"/>
  <Override PartName="/ppt/media/image33.jpeg" ContentType="image/jpeg"/>
  <Override PartName="/ppt/media/image3.jpeg" ContentType="image/jpeg"/>
  <Override PartName="/ppt/media/image28.wmf" ContentType="image/x-wmf"/>
  <Override PartName="/ppt/media/image12.jpeg" ContentType="image/jpeg"/>
  <Override PartName="/ppt/media/image34.wmf" ContentType="image/x-wmf"/>
  <Override PartName="/ppt/media/image9.wmf" ContentType="image/x-wmf"/>
  <Override PartName="/ppt/media/image1.jpeg" ContentType="image/jpeg"/>
  <Override PartName="/ppt/media/image22.jpeg" ContentType="image/jpeg"/>
  <Override PartName="/ppt/media/image14.wmf" ContentType="image/x-wmf"/>
  <Override PartName="/ppt/media/image15.jpeg" ContentType="image/jpeg"/>
  <Override PartName="/ppt/media/image16.wmf" ContentType="image/x-wmf"/>
  <Override PartName="/ppt/media/image18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</p:sldIdLst>
  <p:sldSz cx="8999538" cy="6840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BC2B-671F-4CC4-B87A-A5BAA88A1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6C3F-45CF-400E-A371-2DC49DA16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A691FE-2472-45B4-8778-9C509D42E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6616FC-A1EE-404F-B838-7F5AD6E0F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48920" y="274680"/>
            <a:ext cx="81010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FA886A-F386-42EF-967B-30597E723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2C1DA7-F264-45E7-9A46-71EE5A543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E6FB7E-9267-4DDD-9F31-C0FA11579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87613C-1ECD-4BD3-BAAF-B668C9689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597F5F-54E2-4CE1-9B3F-F65D0E51E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5C950E-58D5-4863-B675-1BB617062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18780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92704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4892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18780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592704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8E72BF-F3F5-435C-8BAF-54D6436C9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39B72C-7FDB-4F21-AC8B-2896A223A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3442-743F-4BA4-A170-1217ABD5C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431B96-E41D-4931-8B73-197126918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3AA128-6D0F-413D-B784-DC0651A71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D7CF7F-BD59-4D44-BF3B-3F6F9FD1F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0C0EE7-1388-43FA-B5BC-FAFFDDB3F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48920" y="274680"/>
            <a:ext cx="81010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A8EBD6-EB39-4C6A-B3A2-C7DBC424B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D40936-4510-4075-A327-D4F992F6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C39FD1-B67D-4EF5-8E48-45493042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291A88-829A-4AED-BC06-0E6079425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A8C22B-BE0E-48EA-AE6F-65484BB62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22AFF4-A927-405C-BF10-F7B6B1DD1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780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2704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4892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780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2704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269A-D6FA-40B8-B212-DC605F20F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18780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92704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4892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18780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92704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0F9AAD-D270-48EB-943A-D88B2E91F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6651BC-BE17-49E0-8625-05477E12A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C96D3A-50E8-4BC9-B84E-F384BDC45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B456CA-9ED0-4441-9CE7-DB2533A02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2CD56D-011A-4E09-8D55-97E9ABB35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385CA0-84EF-4F79-9F22-655A108CF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48920" y="274680"/>
            <a:ext cx="81010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218B80-E55E-459D-B5F0-D8739F159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3F67A9-D7A3-44FF-9F51-6AE0CF77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893FFF-2B5B-4835-821F-14C2DEDF0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92766C-5414-462E-9C42-612641F8A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630A1-E9CF-4D62-999A-32CF0F0CD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6D2619-96A0-448F-85C0-E1C022CB2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C471BA-2082-4DCA-BD64-D24D77B2A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18780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92704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4892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18780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592704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685E53-EB18-4BEE-8470-90627242F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73361F-76FD-4520-80FB-FB0A35ADB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D85DA4-2284-449A-A042-FF59D5051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D5036B-8D18-4D7D-A18D-C49327242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EFC79E-6402-4279-BB7F-BEBB0B522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ABACEF-9949-4384-B078-2CE8AF31C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48920" y="274680"/>
            <a:ext cx="81010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2B9055-072F-4A7E-9945-F2F0B70F2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77DCA5-7844-419B-B33F-5EB449DC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608E9-CD15-4017-97BA-0B32AD8BA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35406D-C5D1-4A9F-8E40-4DF7CBE4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30AC7F-AFB6-431C-8E35-D0B171235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78E71E-DCF8-4F46-98D5-215C48A8A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431C09-97E6-4900-9D06-A993A6A03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18780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92704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4892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18780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592704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806BBD-E660-4772-8C68-7C11191CB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0DEEB-2A30-4F8B-A989-25D1607F7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FF0A8-4E70-4337-97AF-8A30695F9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C1217-A071-4B5E-BE5E-337F5986A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48920" y="274680"/>
            <a:ext cx="81010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F60E2-BBC8-4338-8625-A7400C8B4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3189F-978B-4745-ACB1-652C2A3E9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34BB-AA54-4D0B-84BE-25BE850DF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D0347-1E01-4D08-903D-051741A50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D10CB-F95C-4003-A420-E8227D5E2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95BB6-1D87-470B-95A4-391B8C23D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241E5-2243-4075-89C4-5040D53DB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8780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2704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4892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8780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2704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C66D6-4A91-4F9C-BBBD-AC66D1025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E9F09-1296-42DF-9D0A-A59DDB30F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DEE18-FA5B-4D11-BA28-EE89EF95D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6BB4C-1F57-4C71-A5B3-9C278EFAE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CC5BF-36A5-4F35-9E52-FDD2A2619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03562-FBE9-4ACC-AB9B-1477C1942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2B5B-A227-4CFC-B161-5674ECF5F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8920" y="274680"/>
            <a:ext cx="81010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EF71F-2F69-4BDD-ABEA-7D9238EA5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9F2DE-8BBF-4EAE-A7B5-C9CD0D730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5058D-DB8A-4DB5-BAF7-652FBEF1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3EC0C-EFC4-41F1-9A6E-A74DC6E7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7F0D6-AD99-4A2F-B492-C29D7F5D6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3D3FB-D7B2-49A2-AA3B-0B80FF279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18780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2704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4892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18780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2704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BD4E4-5AD4-4920-8ABD-E90C95406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B670B-FD33-4264-AD59-4F053BE00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0E5BE-D3E4-4F18-BD60-5E7655001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06584-08B2-4520-8566-8249ABF50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12A4-53A1-44BC-8FED-F4DD5CF4C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78244-0F7B-4D4E-A24F-394B164F8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12933-063C-41A0-91B8-F1625478A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48920" y="274680"/>
            <a:ext cx="81010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0B062-643B-437F-AEBE-103F11379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6B4B3-9336-4E6C-93B7-B86F4E1D1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15D39-9FB4-40C9-88FE-E4F576A0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7E243-C274-4C38-A637-D68CEC58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6A69B-312B-495B-BF54-D32818BFA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5F70A-4FC7-4744-A98E-8BAA157D0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18780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2704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4892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18780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2704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C9253-5A19-4984-BEB5-078188D83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A8D378-6997-4947-9B51-BDBAD8436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47FC-B260-4D45-A61C-E45B92194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FE968-37F9-40C2-9992-7A6F74EDB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150AE-052A-49B4-B2D6-D78ADDF5F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00D58-68E3-42AC-A338-3608F152B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54CB66-66AB-4EF5-99FF-BA91F330C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48920" y="274680"/>
            <a:ext cx="81010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33B47E-8135-4702-A643-CEB142BEE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57B87-A386-40EF-88D6-366726751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6D46B-EF1A-4C7C-AF1D-68E22FA9F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CB916C-901D-436E-B779-F737DA7D4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9F492-0E23-4566-B2B2-9DA6E6B43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7DF0A1-4167-4A92-A508-47B0C7B4D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48920" y="274680"/>
            <a:ext cx="81010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43E4-08F0-4EAD-95BB-007CB1B94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18780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2704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4892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18780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2704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4E76AA-AE3C-47FA-BD2C-B2493A579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29599F-E7B3-44A4-8ED3-C184A5D7B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1AAAD3-5B0C-4F71-910A-AA62D3B48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7337FB-3B84-40AA-AAD4-F1CC02F8D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EFE58F-6371-45AC-AC36-E5CB70728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8C8704-68D6-4349-8E6A-CCF5FEF9B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48920" y="274680"/>
            <a:ext cx="81010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7650CD-18CA-4E46-9D18-6685E9307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056B6B-8275-4D15-9CD2-1E551E53E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8F233A-6FEB-40AD-9634-493AA9929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F2018D-2D49-47DF-9967-D9766CE8B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F890-3615-4E7E-9E76-D91745FAD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EBF3DF-B6E4-4FAF-9AF9-7A6A8B278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6A300D-425A-4698-82AD-106758AC6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18780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92704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4892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18780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92704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F2ECE-DE0F-419E-9373-96E23AE4D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E05AAA-B3ED-43A6-AD2F-08D075FEB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0A0D17-AFBF-4AF7-B2F6-658E1CEC7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123A2B-A4FE-4ADB-92BF-0DB50CA70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FA0EBE-66FF-4B49-B108-0E9BB5F05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D671E0-1EC9-4131-A7BB-143920E0A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48920" y="274680"/>
            <a:ext cx="81010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451A21-389D-4F51-A869-BA140BA49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762C3F-150A-4AB3-8DD5-96DA4A79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928D-0083-4C15-B14C-4A1C608A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BA83A0-DDDE-438B-83BE-1FCA2C6F2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9936CD-28A6-4CA7-81FC-B077A0102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C030EC-F912-4E02-8E82-A1D87F62F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355D72-3303-4AE3-8446-5BD0ECE38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18780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92704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4892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18780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92704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038710-FA76-4578-9075-1714797AE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694C34-6CDF-4692-AB7C-CEC15E849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9A596E-1AA5-43F9-B795-069D8A588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A35F4A-3FF1-4CEF-8F03-513266DF1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105E00-B105-4556-B7DE-4B9A2D87B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CE5CF2-3F7B-4D87-B255-F0BFBA35E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0A15-26C9-47C2-B472-1F44891C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48920" y="274680"/>
            <a:ext cx="81010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838677-A380-4ECE-8D4E-713C1FF78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4296A8-38A6-4F24-AC13-BAF693EFC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73D784-8CD2-4A60-B5A4-ACF2A171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155FC0-E086-4DBC-97F0-A3979414D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B443C8-7B81-4F96-9EED-E2C1DFE09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E41E2A-A503-4A79-BCB8-6C5908E5B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18780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92704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4892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18780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592704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30E326-F5C7-47A2-BD46-AACE1469A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C2C1D2-40C4-4986-9D7D-653DD4380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482044-6158-40AC-8E63-111BC8969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D17FD1-6E53-49D4-B179-91D1F0B7A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3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4928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74760" y="6227280"/>
            <a:ext cx="284940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012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D0F90-99D4-495F-8161-0DD790FA7E5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3"/>
          <p:cNvPicPr/>
          <p:nvPr/>
        </p:nvPicPr>
        <p:blipFill>
          <a:blip r:embed="rId3"/>
          <a:stretch/>
        </p:blipFill>
        <p:spPr>
          <a:xfrm>
            <a:off x="0" y="0"/>
            <a:ext cx="9001080" cy="683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3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8"/>
          </p:nvPr>
        </p:nvSpPr>
        <p:spPr>
          <a:xfrm>
            <a:off x="44928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9"/>
          </p:nvPr>
        </p:nvSpPr>
        <p:spPr>
          <a:xfrm>
            <a:off x="3074760" y="6227280"/>
            <a:ext cx="284940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30"/>
          </p:nvPr>
        </p:nvSpPr>
        <p:spPr>
          <a:xfrm>
            <a:off x="645012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3765A-B208-445C-9486-906C2C33A9B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3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1"/>
          </p:nvPr>
        </p:nvSpPr>
        <p:spPr>
          <a:xfrm>
            <a:off x="44928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2"/>
          </p:nvPr>
        </p:nvSpPr>
        <p:spPr>
          <a:xfrm>
            <a:off x="3074760" y="6227280"/>
            <a:ext cx="284940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3"/>
          </p:nvPr>
        </p:nvSpPr>
        <p:spPr>
          <a:xfrm>
            <a:off x="645012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B3EA8-B37B-45CC-8691-E4C767AEDD9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3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4"/>
          </p:nvPr>
        </p:nvSpPr>
        <p:spPr>
          <a:xfrm>
            <a:off x="44928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5"/>
          </p:nvPr>
        </p:nvSpPr>
        <p:spPr>
          <a:xfrm>
            <a:off x="3074760" y="6227280"/>
            <a:ext cx="284940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6"/>
          </p:nvPr>
        </p:nvSpPr>
        <p:spPr>
          <a:xfrm>
            <a:off x="645012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FA539-BE4A-4D63-B0D8-E45B6EF1582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3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4928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074760" y="6227280"/>
            <a:ext cx="284940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45012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828BB-134D-4CA0-B382-C7C87F3357A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3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4928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074760" y="6227280"/>
            <a:ext cx="284940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45012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E86E8-B5E6-4EF3-BD54-A66EE4EDA41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3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4928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074760" y="6227280"/>
            <a:ext cx="284940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45012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A54E3-0FBB-45AA-B8F7-C018322E756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3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44928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074760" y="6227280"/>
            <a:ext cx="284940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45012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9A6F2-8E81-4991-B9F8-312583A5541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3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44928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074760" y="6227280"/>
            <a:ext cx="284940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45012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73469-909E-4802-B8B4-F3BF1BE98E7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3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44928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074760" y="6227280"/>
            <a:ext cx="284940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45012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028C3-CBD1-406E-B926-C05DEC3269D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3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44928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074760" y="6227280"/>
            <a:ext cx="284940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45012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AEBF1-E378-43BE-9504-DD5E3FFD6E6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3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44928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074760" y="6227280"/>
            <a:ext cx="284940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45012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8F757-D766-453E-9596-4E552917F44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wmf"/><Relationship Id="rId6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Text Box 3"/>
          <p:cNvSpPr/>
          <p:nvPr/>
        </p:nvSpPr>
        <p:spPr>
          <a:xfrm>
            <a:off x="1447920" y="873000"/>
            <a:ext cx="5688000" cy="27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06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一次函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8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正比例函数课件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8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8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4"/>
          <p:cNvSpPr/>
          <p:nvPr/>
        </p:nvSpPr>
        <p:spPr>
          <a:xfrm>
            <a:off x="2308680" y="3236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文本框 6155"/>
          <p:cNvSpPr/>
          <p:nvPr/>
        </p:nvSpPr>
        <p:spPr>
          <a:xfrm>
            <a:off x="23760" y="64641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2" descr="ws_2DB"/>
          <p:cNvPicPr/>
          <p:nvPr/>
        </p:nvPicPr>
        <p:blipFill>
          <a:blip r:embed="rId2"/>
          <a:stretch/>
        </p:blipFill>
        <p:spPr>
          <a:xfrm>
            <a:off x="673200" y="1295280"/>
            <a:ext cx="2971800" cy="622440"/>
          </a:xfrm>
          <a:prstGeom prst="rect">
            <a:avLst/>
          </a:prstGeom>
          <a:ln w="0">
            <a:noFill/>
          </a:ln>
        </p:spPr>
      </p:pic>
      <p:sp>
        <p:nvSpPr>
          <p:cNvPr id="582" name="Text Box 3"/>
          <p:cNvSpPr/>
          <p:nvPr/>
        </p:nvSpPr>
        <p:spPr>
          <a:xfrm>
            <a:off x="2782440" y="611280"/>
            <a:ext cx="399276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方正宋黑简体"/>
                <a:ea typeface="方正宋黑简体"/>
              </a:rPr>
              <a:t>第 </a:t>
            </a:r>
            <a:r>
              <a:rPr b="1" lang="en-US" sz="3000" spc="-1" strike="noStrike">
                <a:solidFill>
                  <a:srgbClr val="ff00ff"/>
                </a:solidFill>
                <a:latin typeface="方正宋黑简体"/>
                <a:ea typeface="方正宋黑简体"/>
              </a:rPr>
              <a:t>2 </a:t>
            </a:r>
            <a:r>
              <a:rPr b="1" lang="zh-CN" sz="3000" spc="-1" strike="noStrike">
                <a:solidFill>
                  <a:srgbClr val="ff00ff"/>
                </a:solidFill>
                <a:latin typeface="方正宋黑简体"/>
                <a:ea typeface="方正宋黑简体"/>
              </a:rPr>
              <a:t>课时 一次函数的图象与性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4"/>
          <p:cNvSpPr/>
          <p:nvPr/>
        </p:nvSpPr>
        <p:spPr>
          <a:xfrm>
            <a:off x="2176560" y="2084400"/>
            <a:ext cx="51444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方正黑体_GBK"/>
                <a:ea typeface="方正黑体_GBK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方正黑体_GBK"/>
                <a:ea typeface="方正黑体_GBK"/>
              </a:rPr>
              <a:t>．一次函数的定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5"/>
          <p:cNvSpPr/>
          <p:nvPr/>
        </p:nvSpPr>
        <p:spPr>
          <a:xfrm>
            <a:off x="3468600" y="2556000"/>
            <a:ext cx="11145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kx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6"/>
          <p:cNvSpPr/>
          <p:nvPr/>
        </p:nvSpPr>
        <p:spPr>
          <a:xfrm>
            <a:off x="6071760" y="3016080"/>
            <a:ext cx="67284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k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7"/>
          <p:cNvSpPr/>
          <p:nvPr/>
        </p:nvSpPr>
        <p:spPr>
          <a:xfrm>
            <a:off x="1585080" y="2590920"/>
            <a:ext cx="5964120" cy="8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一般地，形如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______________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是常数，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≠0)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的函数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8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叫做一次函数．当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时，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x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即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_____________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， 所以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8"/>
          <p:cNvSpPr/>
          <p:nvPr/>
        </p:nvSpPr>
        <p:spPr>
          <a:xfrm>
            <a:off x="1894680" y="3603600"/>
            <a:ext cx="230796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____________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是一种特殊的一次函数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9"/>
          <p:cNvSpPr/>
          <p:nvPr/>
        </p:nvSpPr>
        <p:spPr>
          <a:xfrm>
            <a:off x="1120320" y="3578400"/>
            <a:ext cx="8388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1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正比例函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10"/>
          <p:cNvSpPr/>
          <p:nvPr/>
        </p:nvSpPr>
        <p:spPr>
          <a:xfrm>
            <a:off x="2176560" y="4172040"/>
            <a:ext cx="51444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方正黑体_GBK"/>
                <a:ea typeface="方正黑体_GBK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方正黑体_GBK"/>
                <a:ea typeface="方正黑体_GBK"/>
              </a:rPr>
              <a:t>．一次函数的图象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11"/>
          <p:cNvSpPr/>
          <p:nvPr/>
        </p:nvSpPr>
        <p:spPr>
          <a:xfrm>
            <a:off x="6211800" y="4788000"/>
            <a:ext cx="1684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1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2"/>
          <p:cNvSpPr/>
          <p:nvPr/>
        </p:nvSpPr>
        <p:spPr>
          <a:xfrm>
            <a:off x="1096200" y="5316480"/>
            <a:ext cx="3358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1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两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13"/>
          <p:cNvSpPr/>
          <p:nvPr/>
        </p:nvSpPr>
        <p:spPr>
          <a:xfrm>
            <a:off x="2025720" y="5838840"/>
            <a:ext cx="76860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(0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4"/>
          <p:cNvSpPr/>
          <p:nvPr/>
        </p:nvSpPr>
        <p:spPr>
          <a:xfrm>
            <a:off x="1722240" y="4862520"/>
            <a:ext cx="546408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一次函数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x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的图象是一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________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线．根据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确定一条直线，画一次函数的图象只需取两点即可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通常取点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____________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15"/>
          <p:cNvSpPr/>
          <p:nvPr/>
        </p:nvSpPr>
        <p:spPr>
          <a:xfrm>
            <a:off x="0" y="3114720"/>
            <a:ext cx="8999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Picture 16" descr=""/>
          <p:cNvPicPr/>
          <p:nvPr/>
        </p:nvPicPr>
        <p:blipFill>
          <a:blip r:embed="rId3"/>
          <a:stretch/>
        </p:blipFill>
        <p:spPr>
          <a:xfrm>
            <a:off x="3708360" y="5646600"/>
            <a:ext cx="76212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ext Box 2"/>
          <p:cNvSpPr/>
          <p:nvPr/>
        </p:nvSpPr>
        <p:spPr>
          <a:xfrm>
            <a:off x="1094400" y="938160"/>
            <a:ext cx="6856920" cy="8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直线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x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可以看作由直线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平移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个单位长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度而得到的，当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＞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时，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平移，当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时，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3"/>
          <p:cNvSpPr/>
          <p:nvPr/>
        </p:nvSpPr>
        <p:spPr>
          <a:xfrm>
            <a:off x="778320" y="2095560"/>
            <a:ext cx="5036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1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平移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4"/>
          <p:cNvSpPr/>
          <p:nvPr/>
        </p:nvSpPr>
        <p:spPr>
          <a:xfrm>
            <a:off x="5496840" y="861840"/>
            <a:ext cx="67284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k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5"/>
          <p:cNvSpPr/>
          <p:nvPr/>
        </p:nvSpPr>
        <p:spPr>
          <a:xfrm>
            <a:off x="4251600" y="1509840"/>
            <a:ext cx="3358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1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向上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6"/>
          <p:cNvSpPr/>
          <p:nvPr/>
        </p:nvSpPr>
        <p:spPr>
          <a:xfrm>
            <a:off x="7650360" y="1509840"/>
            <a:ext cx="3358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1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向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7"/>
          <p:cNvSpPr/>
          <p:nvPr/>
        </p:nvSpPr>
        <p:spPr>
          <a:xfrm>
            <a:off x="1508040" y="2674800"/>
            <a:ext cx="6321600" cy="14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．一次函数的性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探究：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一次函数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＝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kx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＋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是常数，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≠0)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的性质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4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当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&gt;0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&gt;0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时，直线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x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由左向右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，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8"/>
          <p:cNvSpPr/>
          <p:nvPr/>
        </p:nvSpPr>
        <p:spPr>
          <a:xfrm>
            <a:off x="742320" y="4410000"/>
            <a:ext cx="211284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象限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9"/>
          <p:cNvSpPr/>
          <p:nvPr/>
        </p:nvSpPr>
        <p:spPr>
          <a:xfrm>
            <a:off x="6914520" y="3813120"/>
            <a:ext cx="3358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1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上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10"/>
          <p:cNvSpPr/>
          <p:nvPr/>
        </p:nvSpPr>
        <p:spPr>
          <a:xfrm>
            <a:off x="963360" y="4389480"/>
            <a:ext cx="8388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1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一、二、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11"/>
          <p:cNvSpPr/>
          <p:nvPr/>
        </p:nvSpPr>
        <p:spPr>
          <a:xfrm>
            <a:off x="1508040" y="4989600"/>
            <a:ext cx="632160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当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&gt;0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&lt;0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时，直线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x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由左向右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，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12"/>
          <p:cNvSpPr/>
          <p:nvPr/>
        </p:nvSpPr>
        <p:spPr>
          <a:xfrm>
            <a:off x="742320" y="5567400"/>
            <a:ext cx="211284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象限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13"/>
          <p:cNvSpPr/>
          <p:nvPr/>
        </p:nvSpPr>
        <p:spPr>
          <a:xfrm>
            <a:off x="6987600" y="4965840"/>
            <a:ext cx="3358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1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上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14"/>
          <p:cNvSpPr/>
          <p:nvPr/>
        </p:nvSpPr>
        <p:spPr>
          <a:xfrm>
            <a:off x="963360" y="5541840"/>
            <a:ext cx="8388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1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一、三、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Text Box 2"/>
          <p:cNvSpPr/>
          <p:nvPr/>
        </p:nvSpPr>
        <p:spPr>
          <a:xfrm>
            <a:off x="1363680" y="1154160"/>
            <a:ext cx="632160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当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&lt;0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&gt;0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时，直线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x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由左向右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，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3"/>
          <p:cNvSpPr/>
          <p:nvPr/>
        </p:nvSpPr>
        <p:spPr>
          <a:xfrm>
            <a:off x="597600" y="1731960"/>
            <a:ext cx="211284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象限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4"/>
          <p:cNvSpPr/>
          <p:nvPr/>
        </p:nvSpPr>
        <p:spPr>
          <a:xfrm>
            <a:off x="6742440" y="1144440"/>
            <a:ext cx="3358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1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下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5"/>
          <p:cNvSpPr/>
          <p:nvPr/>
        </p:nvSpPr>
        <p:spPr>
          <a:xfrm>
            <a:off x="774360" y="1725480"/>
            <a:ext cx="8388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1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一、二、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6"/>
          <p:cNvSpPr/>
          <p:nvPr/>
        </p:nvSpPr>
        <p:spPr>
          <a:xfrm>
            <a:off x="1363680" y="2311560"/>
            <a:ext cx="632160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当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&lt;0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&lt;0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时，直线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x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由左向右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，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7"/>
          <p:cNvSpPr/>
          <p:nvPr/>
        </p:nvSpPr>
        <p:spPr>
          <a:xfrm>
            <a:off x="1109880" y="2876400"/>
            <a:ext cx="2566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1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二、三、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8"/>
          <p:cNvSpPr/>
          <p:nvPr/>
        </p:nvSpPr>
        <p:spPr>
          <a:xfrm>
            <a:off x="597600" y="2890800"/>
            <a:ext cx="211284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象限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9"/>
          <p:cNvSpPr/>
          <p:nvPr/>
        </p:nvSpPr>
        <p:spPr>
          <a:xfrm>
            <a:off x="7038720" y="3533760"/>
            <a:ext cx="8388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1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正比例函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10"/>
          <p:cNvSpPr/>
          <p:nvPr/>
        </p:nvSpPr>
        <p:spPr>
          <a:xfrm>
            <a:off x="467280" y="3567240"/>
            <a:ext cx="8139600" cy="14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5)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当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时，直线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x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过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，是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____________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归纳：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一次函数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y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kx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k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 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常数，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≠0)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，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_____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正负决定直线的方向，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_____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正负决定直线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___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11"/>
          <p:cNvSpPr/>
          <p:nvPr/>
        </p:nvSpPr>
        <p:spPr>
          <a:xfrm>
            <a:off x="801360" y="5302080"/>
            <a:ext cx="10065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1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的交点位置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12"/>
          <p:cNvSpPr/>
          <p:nvPr/>
        </p:nvSpPr>
        <p:spPr>
          <a:xfrm>
            <a:off x="8028000" y="4168800"/>
            <a:ext cx="124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0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13"/>
          <p:cNvSpPr/>
          <p:nvPr/>
        </p:nvSpPr>
        <p:spPr>
          <a:xfrm>
            <a:off x="4066920" y="4743360"/>
            <a:ext cx="14076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0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14"/>
          <p:cNvSpPr/>
          <p:nvPr/>
        </p:nvSpPr>
        <p:spPr>
          <a:xfrm>
            <a:off x="7365240" y="4700520"/>
            <a:ext cx="124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0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15"/>
          <p:cNvSpPr/>
          <p:nvPr/>
        </p:nvSpPr>
        <p:spPr>
          <a:xfrm>
            <a:off x="6745320" y="2282760"/>
            <a:ext cx="3358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1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下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6"/>
          <p:cNvSpPr/>
          <p:nvPr/>
        </p:nvSpPr>
        <p:spPr>
          <a:xfrm>
            <a:off x="5373720" y="3519360"/>
            <a:ext cx="33588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原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Picture 2" descr="ws_2DC"/>
          <p:cNvPicPr/>
          <p:nvPr/>
        </p:nvPicPr>
        <p:blipFill>
          <a:blip r:embed="rId2"/>
          <a:stretch/>
        </p:blipFill>
        <p:spPr>
          <a:xfrm>
            <a:off x="673200" y="711360"/>
            <a:ext cx="2692440" cy="60948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3" descr="ws_2DD"/>
          <p:cNvPicPr/>
          <p:nvPr/>
        </p:nvPicPr>
        <p:blipFill>
          <a:blip r:embed="rId3"/>
          <a:stretch/>
        </p:blipFill>
        <p:spPr>
          <a:xfrm>
            <a:off x="3137040" y="1465200"/>
            <a:ext cx="1320840" cy="419040"/>
          </a:xfrm>
          <a:prstGeom prst="rect">
            <a:avLst/>
          </a:prstGeom>
          <a:ln w="0">
            <a:noFill/>
          </a:ln>
        </p:spPr>
      </p:pic>
      <p:sp>
        <p:nvSpPr>
          <p:cNvPr id="626" name="Text Box 4"/>
          <p:cNvSpPr/>
          <p:nvPr/>
        </p:nvSpPr>
        <p:spPr>
          <a:xfrm>
            <a:off x="1278360" y="2743200"/>
            <a:ext cx="12150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＝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5"/>
          <p:cNvSpPr/>
          <p:nvPr/>
        </p:nvSpPr>
        <p:spPr>
          <a:xfrm>
            <a:off x="5272560" y="1590840"/>
            <a:ext cx="27972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1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一次函数的定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6"/>
          <p:cNvSpPr/>
          <p:nvPr/>
        </p:nvSpPr>
        <p:spPr>
          <a:xfrm>
            <a:off x="1905840" y="2097000"/>
            <a:ext cx="29491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例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：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下列函数中，一次函数的有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7"/>
          <p:cNvSpPr/>
          <p:nvPr/>
        </p:nvSpPr>
        <p:spPr>
          <a:xfrm>
            <a:off x="6000120" y="2144880"/>
            <a:ext cx="9360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9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8"/>
          <p:cNvSpPr/>
          <p:nvPr/>
        </p:nvSpPr>
        <p:spPr>
          <a:xfrm>
            <a:off x="5723280" y="2124000"/>
            <a:ext cx="18648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9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9"/>
          <p:cNvSpPr/>
          <p:nvPr/>
        </p:nvSpPr>
        <p:spPr>
          <a:xfrm>
            <a:off x="1961640" y="2629080"/>
            <a:ext cx="14076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9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1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10"/>
          <p:cNvSpPr/>
          <p:nvPr/>
        </p:nvSpPr>
        <p:spPr>
          <a:xfrm>
            <a:off x="2772720" y="2743200"/>
            <a:ext cx="15775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11"/>
          <p:cNvSpPr/>
          <p:nvPr/>
        </p:nvSpPr>
        <p:spPr>
          <a:xfrm>
            <a:off x="4982760" y="2743200"/>
            <a:ext cx="11358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12"/>
          <p:cNvSpPr/>
          <p:nvPr/>
        </p:nvSpPr>
        <p:spPr>
          <a:xfrm>
            <a:off x="1247400" y="4397400"/>
            <a:ext cx="94860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个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13"/>
          <p:cNvSpPr/>
          <p:nvPr/>
        </p:nvSpPr>
        <p:spPr>
          <a:xfrm>
            <a:off x="3470400" y="4397400"/>
            <a:ext cx="9331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个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14"/>
          <p:cNvSpPr/>
          <p:nvPr/>
        </p:nvSpPr>
        <p:spPr>
          <a:xfrm>
            <a:off x="5258520" y="4397400"/>
            <a:ext cx="9331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个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15"/>
          <p:cNvSpPr/>
          <p:nvPr/>
        </p:nvSpPr>
        <p:spPr>
          <a:xfrm>
            <a:off x="7048080" y="4397400"/>
            <a:ext cx="94860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个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16"/>
          <p:cNvSpPr/>
          <p:nvPr/>
        </p:nvSpPr>
        <p:spPr>
          <a:xfrm>
            <a:off x="1879200" y="4903920"/>
            <a:ext cx="5212440" cy="12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黑体"/>
              </a:rPr>
              <a:t>思路导引：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楷体_GB2312"/>
              </a:rPr>
              <a:t>根据一次函数的定义进行判断，且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π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是常数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	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【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规律总结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】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一次函数的定义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楷体_GB2312"/>
              </a:rPr>
              <a:t>式可以变化成其他的函数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8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楷体_GB2312"/>
              </a:rPr>
              <a:t>析式形式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Line 17"/>
          <p:cNvSpPr/>
          <p:nvPr/>
        </p:nvSpPr>
        <p:spPr>
          <a:xfrm>
            <a:off x="1892160" y="28861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Picture 18" descr=""/>
          <p:cNvPicPr/>
          <p:nvPr/>
        </p:nvPicPr>
        <p:blipFill>
          <a:blip r:embed="rId4"/>
          <a:stretch/>
        </p:blipFill>
        <p:spPr>
          <a:xfrm>
            <a:off x="1244520" y="3260880"/>
            <a:ext cx="761832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Picture 2" descr="ws_2DE"/>
          <p:cNvPicPr/>
          <p:nvPr/>
        </p:nvPicPr>
        <p:blipFill>
          <a:blip r:embed="rId2"/>
          <a:stretch/>
        </p:blipFill>
        <p:spPr>
          <a:xfrm>
            <a:off x="2627280" y="826920"/>
            <a:ext cx="1460520" cy="4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2" name=""/>
          <p:cNvGraphicFramePr/>
          <p:nvPr/>
        </p:nvGraphicFramePr>
        <p:xfrm>
          <a:off x="3079800" y="3763800"/>
          <a:ext cx="2814480" cy="2128680"/>
        </p:xfrm>
        <a:graphic>
          <a:graphicData uri="http://schemas.openxmlformats.org/drawingml/2006/table">
            <a:tbl>
              <a:tblPr/>
              <a:tblGrid>
                <a:gridCol w="1608120"/>
                <a:gridCol w="750960"/>
                <a:gridCol w="455400"/>
              </a:tblGrid>
              <a:tr h="485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2035"/>
                        </a:lnSpc>
                        <a:tabLst>
                          <a:tab algn="l" pos="0"/>
                          <a:tab algn="l" pos="905040"/>
                          <a:tab algn="l" pos="1809720"/>
                          <a:tab algn="l" pos="2714760"/>
                          <a:tab algn="l" pos="3619440"/>
                          <a:tab algn="l" pos="4524480"/>
                          <a:tab algn="l" pos="5429160"/>
                          <a:tab algn="l" pos="6334200"/>
                          <a:tab algn="l" pos="7238880"/>
                          <a:tab algn="l" pos="8143920"/>
                          <a:tab algn="l" pos="9048600"/>
                          <a:tab algn="l" pos="9953640"/>
                          <a:tab algn="l" pos="10858680"/>
                        </a:tabLst>
                      </a:pPr>
                      <a:r>
                        <a:rPr b="0" i="1" lang="en-US" sz="2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987"/>
                        </a:lnSpc>
                        <a:tabLst>
                          <a:tab algn="l" pos="0"/>
                          <a:tab algn="l" pos="905040"/>
                          <a:tab algn="l" pos="1809720"/>
                          <a:tab algn="l" pos="2714760"/>
                          <a:tab algn="l" pos="3619440"/>
                          <a:tab algn="l" pos="4524480"/>
                          <a:tab algn="l" pos="5429160"/>
                          <a:tab algn="l" pos="6334200"/>
                          <a:tab algn="l" pos="7238880"/>
                          <a:tab algn="l" pos="8143920"/>
                          <a:tab algn="l" pos="9048600"/>
                          <a:tab algn="l" pos="9953640"/>
                          <a:tab algn="l" pos="1085868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987"/>
                        </a:lnSpc>
                        <a:tabLst>
                          <a:tab algn="l" pos="0"/>
                          <a:tab algn="l" pos="905040"/>
                          <a:tab algn="l" pos="1809720"/>
                          <a:tab algn="l" pos="2714760"/>
                          <a:tab algn="l" pos="3619440"/>
                          <a:tab algn="l" pos="4524480"/>
                          <a:tab algn="l" pos="5429160"/>
                          <a:tab algn="l" pos="6334200"/>
                          <a:tab algn="l" pos="7238880"/>
                          <a:tab algn="l" pos="8143920"/>
                          <a:tab algn="l" pos="9048600"/>
                          <a:tab algn="l" pos="9953640"/>
                          <a:tab algn="l" pos="1085868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2373"/>
                        </a:lnSpc>
                        <a:tabLst>
                          <a:tab algn="l" pos="0"/>
                          <a:tab algn="l" pos="905040"/>
                          <a:tab algn="l" pos="1809720"/>
                          <a:tab algn="l" pos="2714760"/>
                          <a:tab algn="l" pos="3619440"/>
                          <a:tab algn="l" pos="4524480"/>
                          <a:tab algn="l" pos="5429160"/>
                          <a:tab algn="l" pos="6334200"/>
                          <a:tab algn="l" pos="7238880"/>
                          <a:tab algn="l" pos="8143920"/>
                          <a:tab algn="l" pos="9048600"/>
                          <a:tab algn="l" pos="9953640"/>
                          <a:tab algn="l" pos="10858680"/>
                        </a:tabLst>
                      </a:pPr>
                      <a:r>
                        <a:rPr b="0" i="1" lang="en-US" sz="2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zh-CN" sz="2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＝</a:t>
                      </a: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r>
                        <a:rPr b="0" i="1" lang="en-US" sz="2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987"/>
                        </a:lnSpc>
                        <a:tabLst>
                          <a:tab algn="l" pos="0"/>
                          <a:tab algn="l" pos="905040"/>
                          <a:tab algn="l" pos="1809720"/>
                          <a:tab algn="l" pos="2714760"/>
                          <a:tab algn="l" pos="3619440"/>
                          <a:tab algn="l" pos="4524480"/>
                          <a:tab algn="l" pos="5429160"/>
                          <a:tab algn="l" pos="6334200"/>
                          <a:tab algn="l" pos="7238880"/>
                          <a:tab algn="l" pos="8143920"/>
                          <a:tab algn="l" pos="9048600"/>
                          <a:tab algn="l" pos="9953640"/>
                          <a:tab algn="l" pos="1085868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987"/>
                        </a:lnSpc>
                        <a:tabLst>
                          <a:tab algn="l" pos="0"/>
                          <a:tab algn="l" pos="905040"/>
                          <a:tab algn="l" pos="1809720"/>
                          <a:tab algn="l" pos="2714760"/>
                          <a:tab algn="l" pos="3619440"/>
                          <a:tab algn="l" pos="4524480"/>
                          <a:tab algn="l" pos="5429160"/>
                          <a:tab algn="l" pos="6334200"/>
                          <a:tab algn="l" pos="7238880"/>
                          <a:tab algn="l" pos="8143920"/>
                          <a:tab algn="l" pos="9048600"/>
                          <a:tab algn="l" pos="9953640"/>
                          <a:tab algn="l" pos="1085868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2373"/>
                        </a:lnSpc>
                        <a:tabLst>
                          <a:tab algn="l" pos="0"/>
                          <a:tab algn="l" pos="905040"/>
                          <a:tab algn="l" pos="1809720"/>
                          <a:tab algn="l" pos="2714760"/>
                          <a:tab algn="l" pos="3619440"/>
                          <a:tab algn="l" pos="4524480"/>
                          <a:tab algn="l" pos="5429160"/>
                          <a:tab algn="l" pos="6334200"/>
                          <a:tab algn="l" pos="7238880"/>
                          <a:tab algn="l" pos="8143920"/>
                          <a:tab algn="l" pos="9048600"/>
                          <a:tab algn="l" pos="9953640"/>
                          <a:tab algn="l" pos="10858680"/>
                        </a:tabLst>
                      </a:pPr>
                      <a:r>
                        <a:rPr b="0" i="1" lang="en-US" sz="2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zh-CN" sz="2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＝</a:t>
                      </a: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r>
                        <a:rPr b="0" i="1" lang="en-US" sz="2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zh-CN" sz="2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＋</a:t>
                      </a: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987"/>
                        </a:lnSpc>
                        <a:tabLst>
                          <a:tab algn="l" pos="0"/>
                          <a:tab algn="l" pos="905040"/>
                          <a:tab algn="l" pos="1809720"/>
                          <a:tab algn="l" pos="2714760"/>
                          <a:tab algn="l" pos="3619440"/>
                          <a:tab algn="l" pos="4524480"/>
                          <a:tab algn="l" pos="5429160"/>
                          <a:tab algn="l" pos="6334200"/>
                          <a:tab algn="l" pos="7238880"/>
                          <a:tab algn="l" pos="8143920"/>
                          <a:tab algn="l" pos="9048600"/>
                          <a:tab algn="l" pos="9953640"/>
                          <a:tab algn="l" pos="1085868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987"/>
                        </a:lnSpc>
                        <a:tabLst>
                          <a:tab algn="l" pos="0"/>
                          <a:tab algn="l" pos="905040"/>
                          <a:tab algn="l" pos="1809720"/>
                          <a:tab algn="l" pos="2714760"/>
                          <a:tab algn="l" pos="3619440"/>
                          <a:tab algn="l" pos="4524480"/>
                          <a:tab algn="l" pos="5429160"/>
                          <a:tab algn="l" pos="6334200"/>
                          <a:tab algn="l" pos="7238880"/>
                          <a:tab algn="l" pos="8143920"/>
                          <a:tab algn="l" pos="9048600"/>
                          <a:tab algn="l" pos="9953640"/>
                          <a:tab algn="l" pos="1085868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2361"/>
                        </a:lnSpc>
                        <a:tabLst>
                          <a:tab algn="l" pos="0"/>
                          <a:tab algn="l" pos="905040"/>
                          <a:tab algn="l" pos="1809720"/>
                          <a:tab algn="l" pos="2714760"/>
                          <a:tab algn="l" pos="3619440"/>
                          <a:tab algn="l" pos="4524480"/>
                          <a:tab algn="l" pos="5429160"/>
                          <a:tab algn="l" pos="6334200"/>
                          <a:tab algn="l" pos="7238880"/>
                          <a:tab algn="l" pos="8143920"/>
                          <a:tab algn="l" pos="9048600"/>
                          <a:tab algn="l" pos="9953640"/>
                          <a:tab algn="l" pos="10858680"/>
                        </a:tabLst>
                      </a:pPr>
                      <a:r>
                        <a:rPr b="0" i="1" lang="en-US" sz="2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zh-CN" sz="2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＝</a:t>
                      </a: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r>
                        <a:rPr b="0" i="1" lang="en-US" sz="2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zh-CN" sz="2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－</a:t>
                      </a: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2361"/>
                        </a:lnSpc>
                        <a:tabLst>
                          <a:tab algn="l" pos="0"/>
                          <a:tab algn="l" pos="905040"/>
                          <a:tab algn="l" pos="1809720"/>
                          <a:tab algn="l" pos="2714760"/>
                          <a:tab algn="l" pos="3619440"/>
                          <a:tab algn="l" pos="4524480"/>
                          <a:tab algn="l" pos="5429160"/>
                          <a:tab algn="l" pos="6334200"/>
                          <a:tab algn="l" pos="7238880"/>
                          <a:tab algn="l" pos="8143920"/>
                          <a:tab algn="l" pos="9048600"/>
                          <a:tab algn="l" pos="9953640"/>
                          <a:tab algn="l" pos="10858680"/>
                        </a:tabLst>
                      </a:pPr>
                      <a:r>
                        <a:rPr b="0" lang="zh-CN" sz="2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－</a:t>
                      </a: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987"/>
                        </a:lnSpc>
                        <a:tabLst>
                          <a:tab algn="l" pos="0"/>
                          <a:tab algn="l" pos="905040"/>
                          <a:tab algn="l" pos="1809720"/>
                          <a:tab algn="l" pos="2714760"/>
                          <a:tab algn="l" pos="3619440"/>
                          <a:tab algn="l" pos="4524480"/>
                          <a:tab algn="l" pos="5429160"/>
                          <a:tab algn="l" pos="6334200"/>
                          <a:tab algn="l" pos="7238880"/>
                          <a:tab algn="l" pos="8143920"/>
                          <a:tab algn="l" pos="9048600"/>
                          <a:tab algn="l" pos="9953640"/>
                          <a:tab algn="l" pos="1085868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3" name="Text Box 25"/>
          <p:cNvSpPr/>
          <p:nvPr/>
        </p:nvSpPr>
        <p:spPr>
          <a:xfrm>
            <a:off x="4983840" y="919080"/>
            <a:ext cx="10015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一次函数的图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重点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26"/>
          <p:cNvSpPr/>
          <p:nvPr/>
        </p:nvSpPr>
        <p:spPr>
          <a:xfrm>
            <a:off x="2887920" y="1460520"/>
            <a:ext cx="35521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例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：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在同一直角坐标系内画出函数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27"/>
          <p:cNvSpPr/>
          <p:nvPr/>
        </p:nvSpPr>
        <p:spPr>
          <a:xfrm>
            <a:off x="845640" y="2003400"/>
            <a:ext cx="193896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的图象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28"/>
          <p:cNvSpPr/>
          <p:nvPr/>
        </p:nvSpPr>
        <p:spPr>
          <a:xfrm>
            <a:off x="2184120" y="3260880"/>
            <a:ext cx="6148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1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黑体"/>
              </a:rPr>
              <a:t>解：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方法一：列表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Picture 29" descr=""/>
          <p:cNvPicPr/>
          <p:nvPr/>
        </p:nvPicPr>
        <p:blipFill>
          <a:blip r:embed="rId3"/>
          <a:stretch/>
        </p:blipFill>
        <p:spPr>
          <a:xfrm>
            <a:off x="611280" y="2541600"/>
            <a:ext cx="7618320" cy="64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8" name="Picture 2" descr="ws_2DF"/>
          <p:cNvPicPr/>
          <p:nvPr/>
        </p:nvPicPr>
        <p:blipFill>
          <a:blip r:embed="rId2"/>
          <a:stretch/>
        </p:blipFill>
        <p:spPr>
          <a:xfrm>
            <a:off x="3441600" y="2565360"/>
            <a:ext cx="2654280" cy="2959200"/>
          </a:xfrm>
          <a:prstGeom prst="rect">
            <a:avLst/>
          </a:prstGeom>
          <a:ln w="0">
            <a:noFill/>
          </a:ln>
        </p:spPr>
      </p:pic>
      <p:sp>
        <p:nvSpPr>
          <p:cNvPr id="649" name="Text Box 3"/>
          <p:cNvSpPr/>
          <p:nvPr/>
        </p:nvSpPr>
        <p:spPr>
          <a:xfrm>
            <a:off x="1028520" y="887400"/>
            <a:ext cx="701028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过点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(0,0)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和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(1,2)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画直线得到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的图象；过点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(0,2)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和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(1,4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画直线得到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的图象；过点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(0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，－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2)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和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(1,0)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画直线得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4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的图象，如图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4"/>
          <p:cNvSpPr/>
          <p:nvPr/>
        </p:nvSpPr>
        <p:spPr>
          <a:xfrm>
            <a:off x="4474800" y="5711760"/>
            <a:ext cx="44856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图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文本框 8199"/>
          <p:cNvSpPr/>
          <p:nvPr/>
        </p:nvSpPr>
        <p:spPr>
          <a:xfrm>
            <a:off x="1779480" y="2714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2" name=""/>
          <p:cNvGraphicFramePr/>
          <p:nvPr/>
        </p:nvGraphicFramePr>
        <p:xfrm>
          <a:off x="2627280" y="1542960"/>
          <a:ext cx="2538360" cy="1138320"/>
        </p:xfrm>
        <a:graphic>
          <a:graphicData uri="http://schemas.openxmlformats.org/drawingml/2006/table">
            <a:tbl>
              <a:tblPr/>
              <a:tblGrid>
                <a:gridCol w="925560"/>
                <a:gridCol w="844560"/>
                <a:gridCol w="768240"/>
              </a:tblGrid>
              <a:tr h="534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2035"/>
                        </a:lnSpc>
                        <a:tabLst>
                          <a:tab algn="l" pos="0"/>
                          <a:tab algn="l" pos="905040"/>
                          <a:tab algn="l" pos="1809720"/>
                          <a:tab algn="l" pos="2714760"/>
                          <a:tab algn="l" pos="3619440"/>
                          <a:tab algn="l" pos="4524480"/>
                          <a:tab algn="l" pos="5429160"/>
                          <a:tab algn="l" pos="6334200"/>
                          <a:tab algn="l" pos="7238880"/>
                          <a:tab algn="l" pos="8143920"/>
                          <a:tab algn="l" pos="9048600"/>
                          <a:tab algn="l" pos="9953640"/>
                          <a:tab algn="l" pos="10858680"/>
                        </a:tabLst>
                      </a:pPr>
                      <a:r>
                        <a:rPr b="0" i="1" lang="en-US" sz="2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987"/>
                        </a:lnSpc>
                        <a:tabLst>
                          <a:tab algn="l" pos="0"/>
                          <a:tab algn="l" pos="905040"/>
                          <a:tab algn="l" pos="1809720"/>
                          <a:tab algn="l" pos="2714760"/>
                          <a:tab algn="l" pos="3619440"/>
                          <a:tab algn="l" pos="4524480"/>
                          <a:tab algn="l" pos="5429160"/>
                          <a:tab algn="l" pos="6334200"/>
                          <a:tab algn="l" pos="7238880"/>
                          <a:tab algn="l" pos="8143920"/>
                          <a:tab algn="l" pos="9048600"/>
                          <a:tab algn="l" pos="9953640"/>
                          <a:tab algn="l" pos="1085868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987"/>
                        </a:lnSpc>
                        <a:tabLst>
                          <a:tab algn="l" pos="0"/>
                          <a:tab algn="l" pos="905040"/>
                          <a:tab algn="l" pos="1809720"/>
                          <a:tab algn="l" pos="2714760"/>
                          <a:tab algn="l" pos="3619440"/>
                          <a:tab algn="l" pos="4524480"/>
                          <a:tab algn="l" pos="5429160"/>
                          <a:tab algn="l" pos="6334200"/>
                          <a:tab algn="l" pos="7238880"/>
                          <a:tab algn="l" pos="8143920"/>
                          <a:tab algn="l" pos="9048600"/>
                          <a:tab algn="l" pos="9953640"/>
                          <a:tab algn="l" pos="1085868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2361"/>
                        </a:lnSpc>
                        <a:tabLst>
                          <a:tab algn="l" pos="0"/>
                          <a:tab algn="l" pos="905040"/>
                          <a:tab algn="l" pos="1809720"/>
                          <a:tab algn="l" pos="2714760"/>
                          <a:tab algn="l" pos="3619440"/>
                          <a:tab algn="l" pos="4524480"/>
                          <a:tab algn="l" pos="5429160"/>
                          <a:tab algn="l" pos="6334200"/>
                          <a:tab algn="l" pos="7238880"/>
                          <a:tab algn="l" pos="8143920"/>
                          <a:tab algn="l" pos="9048600"/>
                          <a:tab algn="l" pos="9953640"/>
                          <a:tab algn="l" pos="10858680"/>
                        </a:tabLst>
                      </a:pPr>
                      <a:r>
                        <a:rPr b="0" i="1" lang="en-US" sz="2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zh-CN" sz="2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＝</a:t>
                      </a: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r>
                        <a:rPr b="0" i="1" lang="en-US" sz="2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987"/>
                        </a:lnSpc>
                        <a:tabLst>
                          <a:tab algn="l" pos="0"/>
                          <a:tab algn="l" pos="905040"/>
                          <a:tab algn="l" pos="1809720"/>
                          <a:tab algn="l" pos="2714760"/>
                          <a:tab algn="l" pos="3619440"/>
                          <a:tab algn="l" pos="4524480"/>
                          <a:tab algn="l" pos="5429160"/>
                          <a:tab algn="l" pos="6334200"/>
                          <a:tab algn="l" pos="7238880"/>
                          <a:tab algn="l" pos="8143920"/>
                          <a:tab algn="l" pos="9048600"/>
                          <a:tab algn="l" pos="9953640"/>
                          <a:tab algn="l" pos="1085868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987"/>
                        </a:lnSpc>
                        <a:tabLst>
                          <a:tab algn="l" pos="0"/>
                          <a:tab algn="l" pos="905040"/>
                          <a:tab algn="l" pos="1809720"/>
                          <a:tab algn="l" pos="2714760"/>
                          <a:tab algn="l" pos="3619440"/>
                          <a:tab algn="l" pos="4524480"/>
                          <a:tab algn="l" pos="5429160"/>
                          <a:tab algn="l" pos="6334200"/>
                          <a:tab algn="l" pos="7238880"/>
                          <a:tab algn="l" pos="8143920"/>
                          <a:tab algn="l" pos="9048600"/>
                          <a:tab algn="l" pos="9953640"/>
                          <a:tab algn="l" pos="1085868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3" name="Text Box 16"/>
          <p:cNvSpPr/>
          <p:nvPr/>
        </p:nvSpPr>
        <p:spPr>
          <a:xfrm>
            <a:off x="1629000" y="985680"/>
            <a:ext cx="117432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1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方法二：列表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17"/>
          <p:cNvSpPr/>
          <p:nvPr/>
        </p:nvSpPr>
        <p:spPr>
          <a:xfrm>
            <a:off x="1371240" y="2725560"/>
            <a:ext cx="631260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描点，连线得到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的图象，将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的图象向上平移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个单位，得到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的图象；将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的图象向下平移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个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1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单位，得到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的图象，如图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18"/>
          <p:cNvSpPr/>
          <p:nvPr/>
        </p:nvSpPr>
        <p:spPr>
          <a:xfrm>
            <a:off x="2639160" y="4516560"/>
            <a:ext cx="41828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1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黑体"/>
              </a:rPr>
              <a:t>【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黑体"/>
              </a:rPr>
              <a:t>规律总结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黑体"/>
              </a:rPr>
              <a:t>】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楷体_GB2312"/>
              </a:rPr>
              <a:t>根据函数解析式直接确定两点，过两点作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19"/>
          <p:cNvSpPr/>
          <p:nvPr/>
        </p:nvSpPr>
        <p:spPr>
          <a:xfrm>
            <a:off x="1931400" y="5114880"/>
            <a:ext cx="506808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线即可得到其函数图象；也可以通过函数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＝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kx 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图象平移得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到函数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y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＝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kx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＋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b 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的图象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Picture 2" descr="ws_2E0"/>
          <p:cNvPicPr/>
          <p:nvPr/>
        </p:nvPicPr>
        <p:blipFill>
          <a:blip r:embed="rId2"/>
          <a:stretch/>
        </p:blipFill>
        <p:spPr>
          <a:xfrm>
            <a:off x="2641680" y="896760"/>
            <a:ext cx="1282680" cy="406440"/>
          </a:xfrm>
          <a:prstGeom prst="rect">
            <a:avLst/>
          </a:prstGeom>
          <a:ln w="0">
            <a:noFill/>
          </a:ln>
        </p:spPr>
      </p:pic>
      <p:sp>
        <p:nvSpPr>
          <p:cNvPr id="658" name="Text Box 3"/>
          <p:cNvSpPr/>
          <p:nvPr/>
        </p:nvSpPr>
        <p:spPr>
          <a:xfrm>
            <a:off x="1465920" y="1004760"/>
            <a:ext cx="6094800" cy="20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一次函数的性质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重难点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1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例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已知一次函数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6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4)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，函数的图象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轴的交点在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轴的负半轴，求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的取值范围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思路导引：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由一次函数的性质可知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m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4&lt;0 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和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6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＋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m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≠0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4"/>
          <p:cNvSpPr/>
          <p:nvPr/>
        </p:nvSpPr>
        <p:spPr>
          <a:xfrm>
            <a:off x="620640" y="4361040"/>
            <a:ext cx="3199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解得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&lt;4 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且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≠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2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0" name="Picture 5" descr=""/>
          <p:cNvPicPr/>
          <p:nvPr/>
        </p:nvPicPr>
        <p:blipFill>
          <a:blip r:embed="rId3"/>
          <a:stretch/>
        </p:blipFill>
        <p:spPr>
          <a:xfrm>
            <a:off x="682560" y="3403440"/>
            <a:ext cx="7618320" cy="970200"/>
          </a:xfrm>
          <a:prstGeom prst="rect">
            <a:avLst/>
          </a:prstGeom>
          <a:ln w="0">
            <a:noFill/>
          </a:ln>
        </p:spPr>
      </p:pic>
      <p:sp>
        <p:nvSpPr>
          <p:cNvPr id="661" name="Text Box 6"/>
          <p:cNvSpPr/>
          <p:nvPr/>
        </p:nvSpPr>
        <p:spPr>
          <a:xfrm>
            <a:off x="3221640" y="4673520"/>
            <a:ext cx="2465280" cy="11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【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规律总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黑体"/>
              </a:rPr>
              <a:t>结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黑体"/>
              </a:rPr>
              <a:t>】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牢记一次函数的性质，在处理与两轴交点问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题时，应注意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k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≠0 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的条件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500"/>
                            </p:stCondLst>
                            <p:childTnLst>
                              <p:par>
                                <p:cTn id="4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2" descr="ws_2E1"/>
          <p:cNvPicPr/>
          <p:nvPr/>
        </p:nvPicPr>
        <p:blipFill>
          <a:blip r:embed="rId2"/>
          <a:stretch/>
        </p:blipFill>
        <p:spPr>
          <a:xfrm>
            <a:off x="673200" y="1116000"/>
            <a:ext cx="1676160" cy="431640"/>
          </a:xfrm>
          <a:prstGeom prst="rect">
            <a:avLst/>
          </a:prstGeom>
          <a:ln w="0">
            <a:noFill/>
          </a:ln>
        </p:spPr>
      </p:pic>
      <p:sp>
        <p:nvSpPr>
          <p:cNvPr id="663" name="Text Box 3"/>
          <p:cNvSpPr/>
          <p:nvPr/>
        </p:nvSpPr>
        <p:spPr>
          <a:xfrm>
            <a:off x="2485800" y="1731960"/>
            <a:ext cx="460440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．已知一次函数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x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，若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随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的增大而增大，则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4"/>
          <p:cNvSpPr/>
          <p:nvPr/>
        </p:nvSpPr>
        <p:spPr>
          <a:xfrm>
            <a:off x="928440" y="2273400"/>
            <a:ext cx="99864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的图象经过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5"/>
          <p:cNvSpPr/>
          <p:nvPr/>
        </p:nvSpPr>
        <p:spPr>
          <a:xfrm>
            <a:off x="2724840" y="2320920"/>
            <a:ext cx="9360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9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6"/>
          <p:cNvSpPr/>
          <p:nvPr/>
        </p:nvSpPr>
        <p:spPr>
          <a:xfrm>
            <a:off x="2410920" y="2340000"/>
            <a:ext cx="18648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9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7"/>
          <p:cNvSpPr/>
          <p:nvPr/>
        </p:nvSpPr>
        <p:spPr>
          <a:xfrm>
            <a:off x="1707480" y="2816280"/>
            <a:ext cx="1777680" cy="8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．第一、二、三象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．第一、二、四象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8"/>
          <p:cNvSpPr/>
          <p:nvPr/>
        </p:nvSpPr>
        <p:spPr>
          <a:xfrm>
            <a:off x="5525280" y="2816280"/>
            <a:ext cx="1762200" cy="8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．第一、三、四象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．第二、三、四象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9"/>
          <p:cNvSpPr/>
          <p:nvPr/>
        </p:nvSpPr>
        <p:spPr>
          <a:xfrm>
            <a:off x="1344600" y="3900600"/>
            <a:ext cx="66481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．当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时，函数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</a:rPr>
              <a:t>m-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是一次函数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10"/>
          <p:cNvSpPr/>
          <p:nvPr/>
        </p:nvSpPr>
        <p:spPr>
          <a:xfrm>
            <a:off x="736560" y="5529240"/>
            <a:ext cx="153684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直线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11"/>
          <p:cNvSpPr/>
          <p:nvPr/>
        </p:nvSpPr>
        <p:spPr>
          <a:xfrm>
            <a:off x="3058920" y="3924360"/>
            <a:ext cx="14076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9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12"/>
          <p:cNvSpPr/>
          <p:nvPr/>
        </p:nvSpPr>
        <p:spPr>
          <a:xfrm>
            <a:off x="1006200" y="4917960"/>
            <a:ext cx="11311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13"/>
          <p:cNvSpPr/>
          <p:nvPr/>
        </p:nvSpPr>
        <p:spPr>
          <a:xfrm>
            <a:off x="4538160" y="4932360"/>
            <a:ext cx="3358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1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向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14"/>
          <p:cNvSpPr/>
          <p:nvPr/>
        </p:nvSpPr>
        <p:spPr>
          <a:xfrm>
            <a:off x="6156000" y="4960800"/>
            <a:ext cx="14076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9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15"/>
          <p:cNvSpPr/>
          <p:nvPr/>
        </p:nvSpPr>
        <p:spPr>
          <a:xfrm>
            <a:off x="1166040" y="4327560"/>
            <a:ext cx="661464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2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． 将 直 线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＝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向 上 平 移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4 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个 单 位 ， 得 到 直 线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____________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；将直线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平移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______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个单位，得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Text Box 2"/>
          <p:cNvSpPr/>
          <p:nvPr/>
        </p:nvSpPr>
        <p:spPr>
          <a:xfrm>
            <a:off x="2926440" y="1042920"/>
            <a:ext cx="3866760" cy="13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6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．已知：一次函数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5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0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当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为何值时，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随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的增大而减小；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01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当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分别为何值时，一次函数与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轴的交点在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轴的上方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Picture 3" descr=""/>
          <p:cNvPicPr/>
          <p:nvPr/>
        </p:nvPicPr>
        <p:blipFill>
          <a:blip r:embed="rId2"/>
          <a:stretch/>
        </p:blipFill>
        <p:spPr>
          <a:xfrm>
            <a:off x="539640" y="2624040"/>
            <a:ext cx="7618680" cy="35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Picture 2" descr="ws_2D5"/>
          <p:cNvPicPr/>
          <p:nvPr/>
        </p:nvPicPr>
        <p:blipFill>
          <a:blip r:embed="rId2"/>
          <a:stretch/>
        </p:blipFill>
        <p:spPr>
          <a:xfrm>
            <a:off x="646200" y="539640"/>
            <a:ext cx="2755800" cy="571680"/>
          </a:xfrm>
          <a:prstGeom prst="rect">
            <a:avLst/>
          </a:prstGeom>
          <a:ln w="0">
            <a:noFill/>
          </a:ln>
        </p:spPr>
      </p:pic>
      <p:sp>
        <p:nvSpPr>
          <p:cNvPr id="497" name="Text Box 3"/>
          <p:cNvSpPr/>
          <p:nvPr/>
        </p:nvSpPr>
        <p:spPr>
          <a:xfrm>
            <a:off x="1668600" y="1469880"/>
            <a:ext cx="1665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方正黑体_GBK"/>
                <a:ea typeface="方正黑体_GBK"/>
              </a:rPr>
              <a:t>1</a:t>
            </a:r>
            <a:r>
              <a:rPr b="0" lang="zh-CN" sz="2100" spc="-1" strike="noStrike">
                <a:solidFill>
                  <a:srgbClr val="000000"/>
                </a:solidFill>
                <a:latin typeface="方正黑体_GBK"/>
                <a:ea typeface="方正黑体_GBK"/>
              </a:rPr>
              <a:t>．正比例函数的定义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4"/>
          <p:cNvSpPr/>
          <p:nvPr/>
        </p:nvSpPr>
        <p:spPr>
          <a:xfrm>
            <a:off x="1134720" y="2440080"/>
            <a:ext cx="8388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1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正比例函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5"/>
          <p:cNvSpPr/>
          <p:nvPr/>
        </p:nvSpPr>
        <p:spPr>
          <a:xfrm>
            <a:off x="4406040" y="2440080"/>
            <a:ext cx="6714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1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比例系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6"/>
          <p:cNvSpPr/>
          <p:nvPr/>
        </p:nvSpPr>
        <p:spPr>
          <a:xfrm>
            <a:off x="1190160" y="1969920"/>
            <a:ext cx="6535080" cy="17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一 般 地 ， 形 如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＝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x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是 常 数 ，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≠0) 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的 函 数 ， 叫 做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____________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，其中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叫做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____________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方正黑体_GBK"/>
                <a:ea typeface="方正黑体_GBK"/>
              </a:rPr>
              <a:t>2</a:t>
            </a:r>
            <a:r>
              <a:rPr b="0" lang="zh-CN" sz="2100" spc="-1" strike="noStrike">
                <a:solidFill>
                  <a:srgbClr val="000000"/>
                </a:solidFill>
                <a:latin typeface="方正黑体_GBK"/>
                <a:ea typeface="方正黑体_GBK"/>
              </a:rPr>
              <a:t>．正比例函数的图象及其性质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100" spc="-1" strike="noStrike">
                <a:solidFill>
                  <a:srgbClr val="000000"/>
                </a:solidFill>
                <a:latin typeface="黑体"/>
                <a:ea typeface="黑体"/>
              </a:rPr>
              <a:t>探究：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  <a:ea typeface="黑体"/>
              </a:rPr>
              <a:t>＝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kx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k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黑体"/>
              </a:rPr>
              <a:t>≠0)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的图象是一条经过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的直线，我们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7"/>
          <p:cNvSpPr/>
          <p:nvPr/>
        </p:nvSpPr>
        <p:spPr>
          <a:xfrm>
            <a:off x="963000" y="3956040"/>
            <a:ext cx="216144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称它为直线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8"/>
          <p:cNvSpPr/>
          <p:nvPr/>
        </p:nvSpPr>
        <p:spPr>
          <a:xfrm>
            <a:off x="5906520" y="3419640"/>
            <a:ext cx="3358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1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原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9"/>
          <p:cNvSpPr/>
          <p:nvPr/>
        </p:nvSpPr>
        <p:spPr>
          <a:xfrm>
            <a:off x="2256120" y="3924360"/>
            <a:ext cx="67284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k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0"/>
          <p:cNvSpPr/>
          <p:nvPr/>
        </p:nvSpPr>
        <p:spPr>
          <a:xfrm>
            <a:off x="1460160" y="4456080"/>
            <a:ext cx="5801400" cy="17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当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&gt;0 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时，直线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x 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经过第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____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____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象限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从左向右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，即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________________________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当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&lt;0 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时，直线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x 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经过第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____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____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象限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从左向右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，即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_________________________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11"/>
          <p:cNvSpPr/>
          <p:nvPr/>
        </p:nvSpPr>
        <p:spPr>
          <a:xfrm>
            <a:off x="5995800" y="5407200"/>
            <a:ext cx="1684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6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2"/>
          <p:cNvSpPr/>
          <p:nvPr/>
        </p:nvSpPr>
        <p:spPr>
          <a:xfrm>
            <a:off x="2667240" y="5881680"/>
            <a:ext cx="3358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6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下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13"/>
          <p:cNvSpPr/>
          <p:nvPr/>
        </p:nvSpPr>
        <p:spPr>
          <a:xfrm>
            <a:off x="4475160" y="5810400"/>
            <a:ext cx="2311200" cy="4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2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随着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的增大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y 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反而减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14"/>
          <p:cNvSpPr/>
          <p:nvPr/>
        </p:nvSpPr>
        <p:spPr>
          <a:xfrm>
            <a:off x="5148360" y="4484520"/>
            <a:ext cx="27972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1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15"/>
          <p:cNvSpPr/>
          <p:nvPr/>
        </p:nvSpPr>
        <p:spPr>
          <a:xfrm>
            <a:off x="5965560" y="4456080"/>
            <a:ext cx="1684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1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16"/>
          <p:cNvSpPr/>
          <p:nvPr/>
        </p:nvSpPr>
        <p:spPr>
          <a:xfrm>
            <a:off x="2638800" y="4932360"/>
            <a:ext cx="3358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1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上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17"/>
          <p:cNvSpPr/>
          <p:nvPr/>
        </p:nvSpPr>
        <p:spPr>
          <a:xfrm>
            <a:off x="4495320" y="4902120"/>
            <a:ext cx="214344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随着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的增大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y 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也增大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8"/>
          <p:cNvSpPr/>
          <p:nvPr/>
        </p:nvSpPr>
        <p:spPr>
          <a:xfrm>
            <a:off x="5203800" y="5407200"/>
            <a:ext cx="1684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6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8" name="Picture 2" descr="ws_2E2"/>
          <p:cNvPicPr/>
          <p:nvPr/>
        </p:nvPicPr>
        <p:blipFill>
          <a:blip r:embed="rId2"/>
          <a:stretch/>
        </p:blipFill>
        <p:spPr>
          <a:xfrm>
            <a:off x="539640" y="1763640"/>
            <a:ext cx="3048120" cy="635040"/>
          </a:xfrm>
          <a:prstGeom prst="rect">
            <a:avLst/>
          </a:prstGeom>
          <a:ln w="0">
            <a:noFill/>
          </a:ln>
        </p:spPr>
      </p:pic>
      <p:sp>
        <p:nvSpPr>
          <p:cNvPr id="679" name="Text Box 3"/>
          <p:cNvSpPr/>
          <p:nvPr/>
        </p:nvSpPr>
        <p:spPr>
          <a:xfrm>
            <a:off x="1463760" y="2441520"/>
            <a:ext cx="5743080" cy="31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ff"/>
                </a:solidFill>
                <a:latin typeface="方正黑体_GBK"/>
                <a:ea typeface="方正黑体_GBK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方正黑体_GBK"/>
                <a:ea typeface="方正黑体_GBK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方正黑体_GBK"/>
                <a:ea typeface="方正黑体_GBK"/>
              </a:rPr>
              <a:t>．用待定系数法求一次函数的解析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先设出函数解析式，再根据条件确定解析式中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未知数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，从而具体写出这个式子的方法，叫做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__________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探究：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已知一次函数的图象经过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2,5)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4,2)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，求这个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一次函数的解析式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4"/>
          <p:cNvSpPr/>
          <p:nvPr/>
        </p:nvSpPr>
        <p:spPr>
          <a:xfrm>
            <a:off x="938520" y="4005360"/>
            <a:ext cx="3358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1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系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5"/>
          <p:cNvSpPr/>
          <p:nvPr/>
        </p:nvSpPr>
        <p:spPr>
          <a:xfrm>
            <a:off x="6665400" y="4038480"/>
            <a:ext cx="8388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1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待定系数法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6"/>
          <p:cNvSpPr/>
          <p:nvPr/>
        </p:nvSpPr>
        <p:spPr>
          <a:xfrm>
            <a:off x="2555640" y="539640"/>
            <a:ext cx="353556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方正宋黑简体"/>
                <a:ea typeface="方正宋黑简体"/>
              </a:rPr>
              <a:t>第 </a:t>
            </a:r>
            <a:r>
              <a:rPr b="1" lang="en-US" sz="3000" spc="-1" strike="noStrike">
                <a:solidFill>
                  <a:srgbClr val="ff00ff"/>
                </a:solidFill>
                <a:latin typeface="方正宋黑简体"/>
                <a:ea typeface="方正宋黑简体"/>
              </a:rPr>
              <a:t>3 </a:t>
            </a:r>
            <a:r>
              <a:rPr b="1" lang="zh-CN" sz="3000" spc="-1" strike="noStrike">
                <a:solidFill>
                  <a:srgbClr val="ff00ff"/>
                </a:solidFill>
                <a:latin typeface="方正宋黑简体"/>
                <a:ea typeface="方正宋黑简体"/>
              </a:rPr>
              <a:t>课时 求一次函数解析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Text Box 2"/>
          <p:cNvSpPr/>
          <p:nvPr/>
        </p:nvSpPr>
        <p:spPr>
          <a:xfrm>
            <a:off x="1479600" y="2154240"/>
            <a:ext cx="114768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3"/>
          <p:cNvSpPr/>
          <p:nvPr/>
        </p:nvSpPr>
        <p:spPr>
          <a:xfrm>
            <a:off x="1539360" y="2503440"/>
            <a:ext cx="131508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＝－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4"/>
          <p:cNvSpPr/>
          <p:nvPr/>
        </p:nvSpPr>
        <p:spPr>
          <a:xfrm>
            <a:off x="2324520" y="4013280"/>
            <a:ext cx="14076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9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6" name="Picture 5" descr=""/>
          <p:cNvPicPr/>
          <p:nvPr/>
        </p:nvPicPr>
        <p:blipFill>
          <a:blip r:embed="rId2"/>
          <a:stretch/>
        </p:blipFill>
        <p:spPr>
          <a:xfrm>
            <a:off x="477720" y="1146240"/>
            <a:ext cx="7539120" cy="4505400"/>
          </a:xfrm>
          <a:prstGeom prst="rect">
            <a:avLst/>
          </a:prstGeom>
          <a:ln w="0">
            <a:noFill/>
          </a:ln>
        </p:spPr>
      </p:pic>
      <p:grpSp>
        <p:nvGrpSpPr>
          <p:cNvPr id="687" name="Group 6"/>
          <p:cNvGrpSpPr/>
          <p:nvPr/>
        </p:nvGrpSpPr>
        <p:grpSpPr>
          <a:xfrm>
            <a:off x="2266920" y="3336840"/>
            <a:ext cx="289080" cy="573120"/>
            <a:chOff x="2266920" y="3336840"/>
            <a:chExt cx="289080" cy="573120"/>
          </a:xfrm>
        </p:grpSpPr>
        <p:sp>
          <p:nvSpPr>
            <p:cNvPr id="688" name="Text Box 7"/>
            <p:cNvSpPr/>
            <p:nvPr/>
          </p:nvSpPr>
          <p:spPr>
            <a:xfrm>
              <a:off x="2331720" y="3336840"/>
              <a:ext cx="14076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98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2523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Line 8"/>
            <p:cNvSpPr/>
            <p:nvPr/>
          </p:nvSpPr>
          <p:spPr>
            <a:xfrm>
              <a:off x="2266920" y="3609720"/>
              <a:ext cx="28908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Group 9"/>
          <p:cNvGrpSpPr/>
          <p:nvPr/>
        </p:nvGrpSpPr>
        <p:grpSpPr>
          <a:xfrm>
            <a:off x="3854160" y="4890960"/>
            <a:ext cx="1210320" cy="573120"/>
            <a:chOff x="3854160" y="4890960"/>
            <a:chExt cx="1210320" cy="573120"/>
          </a:xfrm>
        </p:grpSpPr>
        <p:sp>
          <p:nvSpPr>
            <p:cNvPr id="691" name="Text Box 10"/>
            <p:cNvSpPr/>
            <p:nvPr/>
          </p:nvSpPr>
          <p:spPr>
            <a:xfrm>
              <a:off x="3854160" y="5005440"/>
              <a:ext cx="1210320" cy="3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361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r>
                <a:rPr b="0" lang="zh-CN" sz="2200" spc="-1" strike="noStrike">
                  <a:solidFill>
                    <a:srgbClr val="ff0000"/>
                  </a:solidFill>
                  <a:latin typeface="Times New Roman"/>
                </a:rPr>
                <a:t>＝   </a:t>
              </a:r>
              <a:r>
                <a:rPr b="0" i="1" lang="en-US" sz="22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0" lang="zh-CN" sz="2200" spc="-1" strike="noStrike">
                  <a:solidFill>
                    <a:srgbClr val="ff0000"/>
                  </a:solidFill>
                  <a:latin typeface="Times New Roman"/>
                </a:rPr>
                <a:t>＋</a:t>
              </a:r>
              <a:r>
                <a:rPr b="0" lang="en-US" sz="22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Text Box 11"/>
            <p:cNvSpPr/>
            <p:nvPr/>
          </p:nvSpPr>
          <p:spPr>
            <a:xfrm>
              <a:off x="4311360" y="4890960"/>
              <a:ext cx="14076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98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2523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Line 12"/>
            <p:cNvSpPr/>
            <p:nvPr/>
          </p:nvSpPr>
          <p:spPr>
            <a:xfrm>
              <a:off x="4241880" y="5163840"/>
              <a:ext cx="24444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Text Box 2"/>
          <p:cNvSpPr/>
          <p:nvPr/>
        </p:nvSpPr>
        <p:spPr>
          <a:xfrm>
            <a:off x="2619000" y="1258920"/>
            <a:ext cx="8388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1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方正楷体_GBK"/>
              </a:rPr>
              <a:t>待定系数法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3"/>
          <p:cNvSpPr/>
          <p:nvPr/>
        </p:nvSpPr>
        <p:spPr>
          <a:xfrm>
            <a:off x="4075200" y="1849320"/>
            <a:ext cx="111456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kx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4"/>
          <p:cNvSpPr/>
          <p:nvPr/>
        </p:nvSpPr>
        <p:spPr>
          <a:xfrm>
            <a:off x="6451920" y="2440080"/>
            <a:ext cx="5263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5"/>
          <p:cNvSpPr/>
          <p:nvPr/>
        </p:nvSpPr>
        <p:spPr>
          <a:xfrm>
            <a:off x="1667520" y="1301760"/>
            <a:ext cx="5853240" cy="43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归纳：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_______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求一次函数解析式的步骤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设出一次函数解析式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4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条件确定解析式中未知数的系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__________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 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代入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y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kx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得到所求函数解析式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方正黑体_GBK"/>
                <a:ea typeface="方正黑体_GBK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方正黑体_GBK"/>
                <a:ea typeface="方正黑体_GBK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方正黑体_GBK"/>
                <a:ea typeface="方正黑体_GBK"/>
              </a:rPr>
              <a:t>．分段函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	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在一个变化过程中，函数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随自变量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变化的函数解析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有时要分成几部分，这样在确定函数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解析式或函数图象时，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4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根据自变量的取值范围分段描述．这种函数通常称为分段函数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8" name="Picture 2" descr="ws_2E3"/>
          <p:cNvPicPr/>
          <p:nvPr/>
        </p:nvPicPr>
        <p:blipFill>
          <a:blip r:embed="rId2"/>
          <a:stretch/>
        </p:blipFill>
        <p:spPr>
          <a:xfrm>
            <a:off x="611280" y="611280"/>
            <a:ext cx="2717640" cy="60948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3" descr="ws_2E4"/>
          <p:cNvPicPr/>
          <p:nvPr/>
        </p:nvPicPr>
        <p:blipFill>
          <a:blip r:embed="rId3"/>
          <a:stretch/>
        </p:blipFill>
        <p:spPr>
          <a:xfrm>
            <a:off x="1625760" y="1547640"/>
            <a:ext cx="1358640" cy="43200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4" descr="ws_2E5"/>
          <p:cNvPicPr/>
          <p:nvPr/>
        </p:nvPicPr>
        <p:blipFill>
          <a:blip r:embed="rId4"/>
          <a:stretch/>
        </p:blipFill>
        <p:spPr>
          <a:xfrm>
            <a:off x="6477120" y="2828880"/>
            <a:ext cx="2271600" cy="2224080"/>
          </a:xfrm>
          <a:prstGeom prst="rect">
            <a:avLst/>
          </a:prstGeom>
          <a:ln w="0">
            <a:noFill/>
          </a:ln>
        </p:spPr>
      </p:pic>
      <p:sp>
        <p:nvSpPr>
          <p:cNvPr id="701" name="Text Box 5"/>
          <p:cNvSpPr/>
          <p:nvPr/>
        </p:nvSpPr>
        <p:spPr>
          <a:xfrm>
            <a:off x="4936320" y="1650960"/>
            <a:ext cx="10015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用待定系数法求一次函数的解析式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重点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6"/>
          <p:cNvSpPr/>
          <p:nvPr/>
        </p:nvSpPr>
        <p:spPr>
          <a:xfrm>
            <a:off x="7973280" y="2381400"/>
            <a:ext cx="9360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9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7"/>
          <p:cNvSpPr/>
          <p:nvPr/>
        </p:nvSpPr>
        <p:spPr>
          <a:xfrm>
            <a:off x="1811160" y="2333520"/>
            <a:ext cx="51170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例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直线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x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在坐标系中的图象如图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，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8"/>
          <p:cNvSpPr/>
          <p:nvPr/>
        </p:nvSpPr>
        <p:spPr>
          <a:xfrm>
            <a:off x="7344000" y="5191200"/>
            <a:ext cx="44856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图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5" name="Picture 9" descr=""/>
          <p:cNvPicPr/>
          <p:nvPr/>
        </p:nvPicPr>
        <p:blipFill>
          <a:blip r:embed="rId5"/>
          <a:stretch/>
        </p:blipFill>
        <p:spPr>
          <a:xfrm>
            <a:off x="682560" y="2959200"/>
            <a:ext cx="7618320" cy="32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Text Box 2"/>
          <p:cNvSpPr/>
          <p:nvPr/>
        </p:nvSpPr>
        <p:spPr>
          <a:xfrm>
            <a:off x="1901520" y="1290600"/>
            <a:ext cx="5105880" cy="8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1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黑体"/>
              </a:rPr>
              <a:t>思路导引：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根据待定系数法求出一次函数的解析式中未知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数的系数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3"/>
          <p:cNvSpPr/>
          <p:nvPr/>
        </p:nvSpPr>
        <p:spPr>
          <a:xfrm>
            <a:off x="3196800" y="4351320"/>
            <a:ext cx="2515320" cy="15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黑体"/>
              </a:rPr>
              <a:t>答案：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黑体"/>
              </a:rPr>
              <a:t>【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黑体"/>
              </a:rPr>
              <a:t>规律总结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黑体"/>
              </a:rPr>
              <a:t>】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楷体_GB2312"/>
              </a:rPr>
              <a:t>用待定系数法求一次函数的解析式，要根据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楷体_GB2312"/>
              </a:rPr>
              <a:t>题意找出函数上的已知两点坐标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Picture 4" descr=""/>
          <p:cNvPicPr/>
          <p:nvPr/>
        </p:nvPicPr>
        <p:blipFill>
          <a:blip r:embed="rId2"/>
          <a:stretch/>
        </p:blipFill>
        <p:spPr>
          <a:xfrm>
            <a:off x="690480" y="2612880"/>
            <a:ext cx="7618320" cy="18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9" name="Picture 2" descr="ws_2E6"/>
          <p:cNvPicPr/>
          <p:nvPr/>
        </p:nvPicPr>
        <p:blipFill>
          <a:blip r:embed="rId2"/>
          <a:stretch/>
        </p:blipFill>
        <p:spPr>
          <a:xfrm>
            <a:off x="2916360" y="1924200"/>
            <a:ext cx="1409400" cy="444240"/>
          </a:xfrm>
          <a:prstGeom prst="rect">
            <a:avLst/>
          </a:prstGeom>
          <a:ln w="0">
            <a:noFill/>
          </a:ln>
        </p:spPr>
      </p:pic>
      <p:sp>
        <p:nvSpPr>
          <p:cNvPr id="710" name="Text Box 3"/>
          <p:cNvSpPr/>
          <p:nvPr/>
        </p:nvSpPr>
        <p:spPr>
          <a:xfrm>
            <a:off x="4804560" y="2035080"/>
            <a:ext cx="12808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ial"/>
                <a:ea typeface="黑体"/>
              </a:rPr>
              <a:t>分段函数的解析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4"/>
          <p:cNvSpPr/>
          <p:nvPr/>
        </p:nvSpPr>
        <p:spPr>
          <a:xfrm>
            <a:off x="2405520" y="2655720"/>
            <a:ext cx="4752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4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黑体"/>
                <a:ea typeface="黑体"/>
              </a:rPr>
              <a:t>例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  <a:ea typeface="黑体"/>
              </a:rPr>
              <a:t>：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从广州市向北京市打长途电话，按时间收费，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分钟内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5"/>
          <p:cNvSpPr/>
          <p:nvPr/>
        </p:nvSpPr>
        <p:spPr>
          <a:xfrm>
            <a:off x="1377000" y="3276720"/>
            <a:ext cx="60944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6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收费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2.4 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元，每加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分钟收费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0.5 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元，求时间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分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与电话费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6"/>
          <p:cNvSpPr/>
          <p:nvPr/>
        </p:nvSpPr>
        <p:spPr>
          <a:xfrm>
            <a:off x="1642320" y="3898800"/>
            <a:ext cx="28810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之间的函数解析式，并画出函数的图象．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7"/>
          <p:cNvSpPr/>
          <p:nvPr/>
        </p:nvSpPr>
        <p:spPr>
          <a:xfrm>
            <a:off x="2547360" y="4521240"/>
            <a:ext cx="40014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ff0000"/>
                </a:solidFill>
                <a:latin typeface="Arial"/>
                <a:ea typeface="黑体"/>
              </a:rPr>
              <a:t>思路导引：</a:t>
            </a:r>
            <a:r>
              <a:rPr b="0" lang="zh-CN" sz="2100" spc="-1" strike="noStrike">
                <a:solidFill>
                  <a:srgbClr val="ff0000"/>
                </a:solidFill>
                <a:latin typeface="Arial"/>
                <a:ea typeface="楷体_GB2312"/>
              </a:rPr>
              <a:t>分段函数要根据自变量的取值范围分段描述．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Picture 2" descr="ws_2E7"/>
          <p:cNvPicPr/>
          <p:nvPr/>
        </p:nvPicPr>
        <p:blipFill>
          <a:blip r:embed="rId2"/>
          <a:stretch/>
        </p:blipFill>
        <p:spPr>
          <a:xfrm>
            <a:off x="3530520" y="2441520"/>
            <a:ext cx="1917720" cy="1854360"/>
          </a:xfrm>
          <a:prstGeom prst="rect">
            <a:avLst/>
          </a:prstGeom>
          <a:ln w="0">
            <a:noFill/>
          </a:ln>
        </p:spPr>
      </p:pic>
      <p:sp>
        <p:nvSpPr>
          <p:cNvPr id="716" name="Text Box 3"/>
          <p:cNvSpPr/>
          <p:nvPr/>
        </p:nvSpPr>
        <p:spPr>
          <a:xfrm>
            <a:off x="1442160" y="988920"/>
            <a:ext cx="287136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6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ff0000"/>
                </a:solidFill>
                <a:latin typeface="Arial"/>
                <a:ea typeface="黑体"/>
              </a:rPr>
              <a:t>解：</a:t>
            </a:r>
            <a:r>
              <a:rPr b="0" lang="zh-CN" sz="2100" spc="-1" strike="noStrike">
                <a:solidFill>
                  <a:srgbClr val="ff0000"/>
                </a:solidFill>
                <a:latin typeface="Times New Roman"/>
              </a:rPr>
              <a:t>当 </a:t>
            </a:r>
            <a:r>
              <a:rPr b="0" lang="en-US" sz="21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zh-CN" sz="2100" spc="-1" strike="noStrike">
                <a:solidFill>
                  <a:srgbClr val="ff0000"/>
                </a:solidFill>
                <a:latin typeface="Times New Roman"/>
              </a:rPr>
              <a:t>＜</a:t>
            </a:r>
            <a:r>
              <a:rPr b="0" i="1" lang="en-US" sz="21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100" spc="-1" strike="noStrike">
                <a:solidFill>
                  <a:srgbClr val="ff0000"/>
                </a:solidFill>
                <a:latin typeface="Times New Roman"/>
              </a:rPr>
              <a:t>≤3 </a:t>
            </a:r>
            <a:r>
              <a:rPr b="0" lang="zh-CN" sz="2100" spc="-1" strike="noStrike">
                <a:solidFill>
                  <a:srgbClr val="ff0000"/>
                </a:solidFill>
                <a:latin typeface="Times New Roman"/>
              </a:rPr>
              <a:t>时，</a:t>
            </a:r>
            <a:r>
              <a:rPr b="0" i="1" lang="en-US" sz="21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zh-CN" sz="21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0" lang="en-US" sz="2100" spc="-1" strike="noStrike">
                <a:solidFill>
                  <a:srgbClr val="ff0000"/>
                </a:solidFill>
                <a:latin typeface="Times New Roman"/>
              </a:rPr>
              <a:t>2.4</a:t>
            </a:r>
            <a:r>
              <a:rPr b="0" lang="zh-CN" sz="2100" spc="-1" strike="noStrike">
                <a:solidFill>
                  <a:srgbClr val="ff0000"/>
                </a:solidFill>
                <a:latin typeface="Times New Roman"/>
              </a:rPr>
              <a:t>；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4"/>
          <p:cNvSpPr/>
          <p:nvPr/>
        </p:nvSpPr>
        <p:spPr>
          <a:xfrm>
            <a:off x="1209960" y="1488960"/>
            <a:ext cx="47304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6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ff0000"/>
                </a:solidFill>
                <a:latin typeface="Times New Roman"/>
              </a:rPr>
              <a:t>当 </a:t>
            </a:r>
            <a:r>
              <a:rPr b="0" i="1" lang="en-US" sz="21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zh-CN" sz="2100" spc="-1" strike="noStrike">
                <a:solidFill>
                  <a:srgbClr val="ff0000"/>
                </a:solidFill>
                <a:latin typeface="Times New Roman"/>
              </a:rPr>
              <a:t>＞</a:t>
            </a:r>
            <a:r>
              <a:rPr b="0" lang="en-US" sz="2100" spc="-1" strike="noStrike">
                <a:solidFill>
                  <a:srgbClr val="ff0000"/>
                </a:solidFill>
                <a:latin typeface="Times New Roman"/>
              </a:rPr>
              <a:t>3 </a:t>
            </a:r>
            <a:r>
              <a:rPr b="0" lang="zh-CN" sz="2100" spc="-1" strike="noStrike">
                <a:solidFill>
                  <a:srgbClr val="ff0000"/>
                </a:solidFill>
                <a:latin typeface="Times New Roman"/>
              </a:rPr>
              <a:t>时，</a:t>
            </a:r>
            <a:r>
              <a:rPr b="0" i="1" lang="en-US" sz="21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zh-CN" sz="21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0" lang="en-US" sz="2100" spc="-1" strike="noStrike">
                <a:solidFill>
                  <a:srgbClr val="ff0000"/>
                </a:solidFill>
                <a:latin typeface="Times New Roman"/>
              </a:rPr>
              <a:t>2.4</a:t>
            </a:r>
            <a:r>
              <a:rPr b="0" lang="zh-CN" sz="21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0" lang="en-US" sz="2100" spc="-1" strike="noStrike">
                <a:solidFill>
                  <a:srgbClr val="ff0000"/>
                </a:solidFill>
                <a:latin typeface="Times New Roman"/>
              </a:rPr>
              <a:t>0.5(</a:t>
            </a:r>
            <a:r>
              <a:rPr b="0" i="1" lang="en-US" sz="21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zh-CN" sz="21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0" lang="en-US" sz="2100" spc="-1" strike="noStrike">
                <a:solidFill>
                  <a:srgbClr val="ff0000"/>
                </a:solidFill>
                <a:latin typeface="Times New Roman"/>
              </a:rPr>
              <a:t>3)</a:t>
            </a:r>
            <a:r>
              <a:rPr b="0" lang="zh-CN" sz="21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0" lang="en-US" sz="2100" spc="-1" strike="noStrike">
                <a:solidFill>
                  <a:srgbClr val="ff0000"/>
                </a:solidFill>
                <a:latin typeface="Times New Roman"/>
              </a:rPr>
              <a:t>0.5</a:t>
            </a:r>
            <a:r>
              <a:rPr b="0" i="1" lang="en-US" sz="21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zh-CN" sz="21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0" lang="en-US" sz="2100" spc="-1" strike="noStrike">
                <a:solidFill>
                  <a:srgbClr val="ff0000"/>
                </a:solidFill>
                <a:latin typeface="Times New Roman"/>
              </a:rPr>
              <a:t>0.9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5"/>
          <p:cNvSpPr/>
          <p:nvPr/>
        </p:nvSpPr>
        <p:spPr>
          <a:xfrm>
            <a:off x="3468240" y="1990800"/>
            <a:ext cx="1026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4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ff0000"/>
                </a:solidFill>
                <a:latin typeface="Times New Roman"/>
              </a:rPr>
              <a:t>函数图象由一条线段和一条射线组成，如图 </a:t>
            </a:r>
            <a:r>
              <a:rPr b="0" lang="en-US" sz="21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zh-CN" sz="2100" spc="-1" strike="noStrike">
                <a:solidFill>
                  <a:srgbClr val="ff0000"/>
                </a:solidFill>
                <a:latin typeface="Times New Roman"/>
              </a:rPr>
              <a:t>：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6"/>
          <p:cNvSpPr/>
          <p:nvPr/>
        </p:nvSpPr>
        <p:spPr>
          <a:xfrm>
            <a:off x="4206600" y="4456080"/>
            <a:ext cx="428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4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ff0000"/>
                </a:solidFill>
                <a:latin typeface="Times New Roman"/>
              </a:rPr>
              <a:t>图 </a:t>
            </a:r>
            <a:r>
              <a:rPr b="0" lang="en-US" sz="21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7"/>
          <p:cNvSpPr/>
          <p:nvPr/>
        </p:nvSpPr>
        <p:spPr>
          <a:xfrm>
            <a:off x="4204080" y="4956120"/>
            <a:ext cx="12214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Arial"/>
                <a:ea typeface="黑体"/>
              </a:rPr>
              <a:t>【</a:t>
            </a:r>
            <a:r>
              <a:rPr b="0" lang="zh-CN" sz="2100" spc="-1" strike="noStrike">
                <a:solidFill>
                  <a:srgbClr val="ff0000"/>
                </a:solidFill>
                <a:latin typeface="Arial"/>
                <a:ea typeface="黑体"/>
              </a:rPr>
              <a:t>规律总结</a:t>
            </a:r>
            <a:r>
              <a:rPr b="0" lang="en-US" sz="2100" spc="-1" strike="noStrike">
                <a:solidFill>
                  <a:srgbClr val="ff0000"/>
                </a:solidFill>
                <a:latin typeface="Arial"/>
                <a:ea typeface="黑体"/>
              </a:rPr>
              <a:t>】</a:t>
            </a:r>
            <a:r>
              <a:rPr b="0" lang="zh-CN" sz="2100" spc="-1" strike="noStrike">
                <a:solidFill>
                  <a:srgbClr val="ff0000"/>
                </a:solidFill>
                <a:latin typeface="Arial"/>
                <a:ea typeface="楷体_GB2312"/>
              </a:rPr>
              <a:t>分段函数是一个函数而不是多个函数，求出的分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8"/>
          <p:cNvSpPr/>
          <p:nvPr/>
        </p:nvSpPr>
        <p:spPr>
          <a:xfrm>
            <a:off x="1695600" y="5457960"/>
            <a:ext cx="30412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ff0000"/>
                </a:solidFill>
                <a:latin typeface="Arial"/>
                <a:ea typeface="楷体_GB2312"/>
              </a:rPr>
              <a:t>段函数解析式必须写出自变量的取值范围．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文本框 8199"/>
          <p:cNvSpPr/>
          <p:nvPr/>
        </p:nvSpPr>
        <p:spPr>
          <a:xfrm>
            <a:off x="1847880" y="4921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500"/>
                            </p:stCondLst>
                            <p:childTnLst>
                              <p:par>
                                <p:cTn id="6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1500"/>
                            </p:stCondLst>
                            <p:childTnLst>
                              <p:par>
                                <p:cTn id="6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2000"/>
                            </p:stCondLst>
                            <p:childTnLst>
                              <p:par>
                                <p:cTn id="6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500"/>
                            </p:stCondLst>
                            <p:childTnLst>
                              <p:par>
                                <p:cTn id="6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3" name="Picture 2" descr="ws_2E8"/>
          <p:cNvPicPr/>
          <p:nvPr/>
        </p:nvPicPr>
        <p:blipFill>
          <a:blip r:embed="rId2"/>
          <a:stretch/>
        </p:blipFill>
        <p:spPr>
          <a:xfrm>
            <a:off x="673200" y="711360"/>
            <a:ext cx="1562040" cy="39348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3" descr="ws_2E9"/>
          <p:cNvPicPr/>
          <p:nvPr/>
        </p:nvPicPr>
        <p:blipFill>
          <a:blip r:embed="rId3"/>
          <a:stretch/>
        </p:blipFill>
        <p:spPr>
          <a:xfrm>
            <a:off x="3987720" y="3517920"/>
            <a:ext cx="1562040" cy="1689120"/>
          </a:xfrm>
          <a:prstGeom prst="rect">
            <a:avLst/>
          </a:prstGeom>
          <a:ln w="0">
            <a:noFill/>
          </a:ln>
        </p:spPr>
      </p:pic>
      <p:sp>
        <p:nvSpPr>
          <p:cNvPr id="725" name="Text Box 4"/>
          <p:cNvSpPr/>
          <p:nvPr/>
        </p:nvSpPr>
        <p:spPr>
          <a:xfrm>
            <a:off x="1797840" y="853920"/>
            <a:ext cx="5125680" cy="13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．已知一次函数，当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＝－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时，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＝－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；当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时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，则这个一次函数的解析式为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____________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5"/>
          <p:cNvSpPr/>
          <p:nvPr/>
        </p:nvSpPr>
        <p:spPr>
          <a:xfrm>
            <a:off x="4603320" y="5389560"/>
            <a:ext cx="44856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图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6"/>
          <p:cNvSpPr/>
          <p:nvPr/>
        </p:nvSpPr>
        <p:spPr>
          <a:xfrm>
            <a:off x="6551280" y="2944800"/>
            <a:ext cx="11311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7"/>
          <p:cNvSpPr/>
          <p:nvPr/>
        </p:nvSpPr>
        <p:spPr>
          <a:xfrm>
            <a:off x="5125680" y="1878120"/>
            <a:ext cx="11311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8"/>
          <p:cNvSpPr/>
          <p:nvPr/>
        </p:nvSpPr>
        <p:spPr>
          <a:xfrm>
            <a:off x="1437840" y="2368440"/>
            <a:ext cx="6126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2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．在图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中，将直线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OA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向上平移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个单位，得到一个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次函数的图象，那么这个一次函数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的解析式是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____________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500"/>
                            </p:stCondLst>
                            <p:childTnLst>
                              <p:par>
                                <p:cTn id="6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1000"/>
                            </p:stCondLst>
                            <p:childTnLst>
                              <p:par>
                                <p:cTn id="6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0" name="Picture 2" descr="ws_2EA"/>
          <p:cNvPicPr/>
          <p:nvPr/>
        </p:nvPicPr>
        <p:blipFill>
          <a:blip r:embed="rId2"/>
          <a:stretch/>
        </p:blipFill>
        <p:spPr>
          <a:xfrm>
            <a:off x="3365640" y="2184480"/>
            <a:ext cx="2247840" cy="1701720"/>
          </a:xfrm>
          <a:prstGeom prst="rect">
            <a:avLst/>
          </a:prstGeom>
          <a:ln w="0">
            <a:noFill/>
          </a:ln>
        </p:spPr>
      </p:pic>
      <p:sp>
        <p:nvSpPr>
          <p:cNvPr id="731" name="Text Box 3"/>
          <p:cNvSpPr/>
          <p:nvPr/>
        </p:nvSpPr>
        <p:spPr>
          <a:xfrm>
            <a:off x="1541520" y="757080"/>
            <a:ext cx="59796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6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．某市推出电脑上网包月制，每月收取费用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与上网时间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小时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的函数关系如图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，其中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BA 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是线段，且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BA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∥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轴，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AC 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是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4"/>
          <p:cNvSpPr/>
          <p:nvPr/>
        </p:nvSpPr>
        <p:spPr>
          <a:xfrm>
            <a:off x="841320" y="1736640"/>
            <a:ext cx="4809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射线．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5"/>
          <p:cNvSpPr/>
          <p:nvPr/>
        </p:nvSpPr>
        <p:spPr>
          <a:xfrm>
            <a:off x="6492960" y="4427640"/>
            <a:ext cx="12715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3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6"/>
          <p:cNvSpPr/>
          <p:nvPr/>
        </p:nvSpPr>
        <p:spPr>
          <a:xfrm>
            <a:off x="6081840" y="5003640"/>
            <a:ext cx="28116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9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7"/>
          <p:cNvSpPr/>
          <p:nvPr/>
        </p:nvSpPr>
        <p:spPr>
          <a:xfrm>
            <a:off x="1546920" y="5954760"/>
            <a:ext cx="28116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9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3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8"/>
          <p:cNvSpPr/>
          <p:nvPr/>
        </p:nvSpPr>
        <p:spPr>
          <a:xfrm>
            <a:off x="1027800" y="4032360"/>
            <a:ext cx="702972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4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图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当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≥30 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时，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与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之间的函数解析式为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______________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若小李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月份上网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20 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小时，他应付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元上网费用；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若小李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月份上网费用为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75 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元，则他在该月份的上网时间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__________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．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7" name="Picture 2" descr=""/>
          <p:cNvPicPr/>
          <p:nvPr/>
        </p:nvPicPr>
        <p:blipFill>
          <a:blip r:embed="rId2"/>
          <a:stretch/>
        </p:blipFill>
        <p:spPr>
          <a:xfrm>
            <a:off x="771480" y="1530360"/>
            <a:ext cx="7618320" cy="43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Text Box 2"/>
          <p:cNvSpPr/>
          <p:nvPr/>
        </p:nvSpPr>
        <p:spPr>
          <a:xfrm>
            <a:off x="1231920" y="2028960"/>
            <a:ext cx="6833880" cy="27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归纳：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比例函数是一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__________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4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&gt;0 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，它的图象位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_____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象限，即随着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x 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增大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也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_____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4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&lt;0 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，它的图象位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_____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象限，即随着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x 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增大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反而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_____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3"/>
          <p:cNvSpPr/>
          <p:nvPr/>
        </p:nvSpPr>
        <p:spPr>
          <a:xfrm>
            <a:off x="4757400" y="2019240"/>
            <a:ext cx="10065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1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过原点的直线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4"/>
          <p:cNvSpPr/>
          <p:nvPr/>
        </p:nvSpPr>
        <p:spPr>
          <a:xfrm>
            <a:off x="4725000" y="2638440"/>
            <a:ext cx="5036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1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一、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5"/>
          <p:cNvSpPr/>
          <p:nvPr/>
        </p:nvSpPr>
        <p:spPr>
          <a:xfrm>
            <a:off x="1442520" y="3243240"/>
            <a:ext cx="3358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1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增大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6"/>
          <p:cNvSpPr/>
          <p:nvPr/>
        </p:nvSpPr>
        <p:spPr>
          <a:xfrm>
            <a:off x="4926600" y="3876840"/>
            <a:ext cx="1288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1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二、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7"/>
          <p:cNvSpPr/>
          <p:nvPr/>
        </p:nvSpPr>
        <p:spPr>
          <a:xfrm>
            <a:off x="1658160" y="4467240"/>
            <a:ext cx="3358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1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减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60080" y="189000"/>
            <a:ext cx="8078760" cy="57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106200" y="1266480"/>
            <a:ext cx="8786880" cy="520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7"/>
          <p:cNvSpPr/>
          <p:nvPr/>
        </p:nvSpPr>
        <p:spPr>
          <a:xfrm>
            <a:off x="7170840" y="331920"/>
            <a:ext cx="136836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360" bIns="45360" anchor="ctr">
            <a:noAutofit/>
          </a:bodyPr>
          <a:p>
            <a:pPr algn="ct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灯片编号占位符 1"/>
          <p:cNvSpPr/>
          <p:nvPr/>
        </p:nvSpPr>
        <p:spPr>
          <a:xfrm>
            <a:off x="64501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7EADCC8E-E99E-4E34-A992-E94B5FBE5C5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2" descr="ws_2D6"/>
          <p:cNvPicPr/>
          <p:nvPr/>
        </p:nvPicPr>
        <p:blipFill>
          <a:blip r:embed="rId2"/>
          <a:stretch/>
        </p:blipFill>
        <p:spPr>
          <a:xfrm>
            <a:off x="673200" y="711360"/>
            <a:ext cx="2755800" cy="62208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3" descr="ws_2D7"/>
          <p:cNvPicPr/>
          <p:nvPr/>
        </p:nvPicPr>
        <p:blipFill>
          <a:blip r:embed="rId3"/>
          <a:stretch/>
        </p:blipFill>
        <p:spPr>
          <a:xfrm>
            <a:off x="2916360" y="1547640"/>
            <a:ext cx="1434960" cy="432000"/>
          </a:xfrm>
          <a:prstGeom prst="rect">
            <a:avLst/>
          </a:prstGeom>
          <a:ln w="0">
            <a:noFill/>
          </a:ln>
        </p:spPr>
      </p:pic>
      <p:sp>
        <p:nvSpPr>
          <p:cNvPr id="521" name="Text Box 4"/>
          <p:cNvSpPr/>
          <p:nvPr/>
        </p:nvSpPr>
        <p:spPr>
          <a:xfrm>
            <a:off x="4810680" y="1619280"/>
            <a:ext cx="134172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1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正比例函数的定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5"/>
          <p:cNvSpPr/>
          <p:nvPr/>
        </p:nvSpPr>
        <p:spPr>
          <a:xfrm>
            <a:off x="1729440" y="2184480"/>
            <a:ext cx="59929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例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已知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与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成正比例，且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＝－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时，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，写出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6"/>
          <p:cNvSpPr/>
          <p:nvPr/>
        </p:nvSpPr>
        <p:spPr>
          <a:xfrm>
            <a:off x="1166040" y="2709720"/>
            <a:ext cx="20779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与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之间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的函数解析式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7"/>
          <p:cNvSpPr/>
          <p:nvPr/>
        </p:nvSpPr>
        <p:spPr>
          <a:xfrm>
            <a:off x="1800360" y="3233880"/>
            <a:ext cx="431460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黑体"/>
              </a:rPr>
              <a:t>思路导引：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由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y 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与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x 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成正比例，可设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y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＝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kx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8"/>
          <p:cNvSpPr/>
          <p:nvPr/>
        </p:nvSpPr>
        <p:spPr>
          <a:xfrm>
            <a:off x="1482480" y="4284720"/>
            <a:ext cx="59533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把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＝－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8 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代入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kx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，得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8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＝－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，即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＝－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4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2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所以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y 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与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之间的函数解析式为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＝－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9"/>
          <p:cNvSpPr/>
          <p:nvPr/>
        </p:nvSpPr>
        <p:spPr>
          <a:xfrm>
            <a:off x="3220920" y="5332320"/>
            <a:ext cx="30913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黑体"/>
              </a:rPr>
              <a:t>【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黑体"/>
              </a:rPr>
              <a:t>规律总结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黑体"/>
              </a:rPr>
              <a:t>】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正比例函数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y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＝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kx 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必须满足两个条件：①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10"/>
          <p:cNvSpPr/>
          <p:nvPr/>
        </p:nvSpPr>
        <p:spPr>
          <a:xfrm>
            <a:off x="1409400" y="5857920"/>
            <a:ext cx="304380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例系数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≠0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；②自变量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x 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指数为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11"/>
          <p:cNvSpPr/>
          <p:nvPr/>
        </p:nvSpPr>
        <p:spPr>
          <a:xfrm>
            <a:off x="1723680" y="3664080"/>
            <a:ext cx="465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1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黑体"/>
                <a:ea typeface="黑体"/>
              </a:rPr>
              <a:t>解：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因为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y 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与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x 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成正比例，可设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kx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≠0)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Picture 2" descr="ws_2D8"/>
          <p:cNvPicPr/>
          <p:nvPr/>
        </p:nvPicPr>
        <p:blipFill>
          <a:blip r:embed="rId2"/>
          <a:stretch/>
        </p:blipFill>
        <p:spPr>
          <a:xfrm>
            <a:off x="1908000" y="1979640"/>
            <a:ext cx="1308240" cy="350640"/>
          </a:xfrm>
          <a:prstGeom prst="rect">
            <a:avLst/>
          </a:prstGeom>
          <a:ln w="0">
            <a:noFill/>
          </a:ln>
        </p:spPr>
      </p:pic>
      <p:sp>
        <p:nvSpPr>
          <p:cNvPr id="530" name="Text Box 3"/>
          <p:cNvSpPr/>
          <p:nvPr/>
        </p:nvSpPr>
        <p:spPr>
          <a:xfrm>
            <a:off x="4036680" y="2022480"/>
            <a:ext cx="273420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正比例函数的图象及其性质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重点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4"/>
          <p:cNvSpPr/>
          <p:nvPr/>
        </p:nvSpPr>
        <p:spPr>
          <a:xfrm>
            <a:off x="5784120" y="2703600"/>
            <a:ext cx="52560" cy="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51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5"/>
          <p:cNvSpPr/>
          <p:nvPr/>
        </p:nvSpPr>
        <p:spPr>
          <a:xfrm>
            <a:off x="1547640" y="2751120"/>
            <a:ext cx="35280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54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例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：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若正比例函数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6"/>
          <p:cNvSpPr/>
          <p:nvPr/>
        </p:nvSpPr>
        <p:spPr>
          <a:xfrm>
            <a:off x="5322600" y="2705040"/>
            <a:ext cx="4593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−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7"/>
          <p:cNvSpPr/>
          <p:nvPr/>
        </p:nvSpPr>
        <p:spPr>
          <a:xfrm>
            <a:off x="6120720" y="2774880"/>
            <a:ext cx="190260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中，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随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的增大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8"/>
          <p:cNvSpPr/>
          <p:nvPr/>
        </p:nvSpPr>
        <p:spPr>
          <a:xfrm>
            <a:off x="1329120" y="3424320"/>
            <a:ext cx="6679080" cy="16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1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减小，求这个正比例函数的解析式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1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200" spc="-1" strike="noStrike">
                <a:solidFill>
                  <a:srgbClr val="ff0000"/>
                </a:solidFill>
                <a:latin typeface="黑体"/>
                <a:ea typeface="黑体"/>
              </a:rPr>
              <a:t>思路导引：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根据正比例函数定义知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m</a:t>
            </a:r>
            <a:r>
              <a:rPr b="0" lang="en-US" sz="2200" spc="-1" strike="noStrike" baseline="30000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＝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 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且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m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≠0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2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根据正比例函数的性质得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m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&lt;0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9"/>
          <p:cNvSpPr/>
          <p:nvPr/>
        </p:nvSpPr>
        <p:spPr>
          <a:xfrm>
            <a:off x="2270520" y="6843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Text Box 2"/>
          <p:cNvSpPr/>
          <p:nvPr/>
        </p:nvSpPr>
        <p:spPr>
          <a:xfrm>
            <a:off x="906120" y="2914560"/>
            <a:ext cx="4745520" cy="12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将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＝－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代入原函数解析式得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＝－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所以所求函数的解析式为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＝－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3" descr=""/>
          <p:cNvPicPr/>
          <p:nvPr/>
        </p:nvPicPr>
        <p:blipFill>
          <a:blip r:embed="rId2"/>
          <a:stretch/>
        </p:blipFill>
        <p:spPr>
          <a:xfrm>
            <a:off x="1049400" y="1174680"/>
            <a:ext cx="7462800" cy="1714680"/>
          </a:xfrm>
          <a:prstGeom prst="rect">
            <a:avLst/>
          </a:prstGeom>
          <a:ln w="0">
            <a:noFill/>
          </a:ln>
        </p:spPr>
      </p:pic>
      <p:sp>
        <p:nvSpPr>
          <p:cNvPr id="539" name="Text Box 4"/>
          <p:cNvSpPr/>
          <p:nvPr/>
        </p:nvSpPr>
        <p:spPr>
          <a:xfrm>
            <a:off x="3967200" y="1116000"/>
            <a:ext cx="64764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②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5"/>
          <p:cNvSpPr/>
          <p:nvPr/>
        </p:nvSpPr>
        <p:spPr>
          <a:xfrm>
            <a:off x="1700640" y="4714920"/>
            <a:ext cx="5145120" cy="9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【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易错警示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】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确定正比例函数解析式时，只注意到自变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2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指数为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而忽视了比例系数不为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0 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和正比例函数的性质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Line 2"/>
          <p:cNvSpPr/>
          <p:nvPr/>
        </p:nvSpPr>
        <p:spPr>
          <a:xfrm>
            <a:off x="2104920" y="2919240"/>
            <a:ext cx="2793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3"/>
          <p:cNvSpPr/>
          <p:nvPr/>
        </p:nvSpPr>
        <p:spPr>
          <a:xfrm>
            <a:off x="5357880" y="2919240"/>
            <a:ext cx="1396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4" descr="ws_2DA"/>
          <p:cNvPicPr/>
          <p:nvPr/>
        </p:nvPicPr>
        <p:blipFill>
          <a:blip r:embed="rId2"/>
          <a:stretch/>
        </p:blipFill>
        <p:spPr>
          <a:xfrm>
            <a:off x="673200" y="825480"/>
            <a:ext cx="1727280" cy="444600"/>
          </a:xfrm>
          <a:prstGeom prst="rect">
            <a:avLst/>
          </a:prstGeom>
          <a:ln w="0">
            <a:noFill/>
          </a:ln>
        </p:spPr>
      </p:pic>
      <p:sp>
        <p:nvSpPr>
          <p:cNvPr id="544" name="Text Box 5"/>
          <p:cNvSpPr/>
          <p:nvPr/>
        </p:nvSpPr>
        <p:spPr>
          <a:xfrm>
            <a:off x="6209640" y="1530360"/>
            <a:ext cx="9360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9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6"/>
          <p:cNvSpPr/>
          <p:nvPr/>
        </p:nvSpPr>
        <p:spPr>
          <a:xfrm>
            <a:off x="5911560" y="1560600"/>
            <a:ext cx="18648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9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7"/>
          <p:cNvSpPr/>
          <p:nvPr/>
        </p:nvSpPr>
        <p:spPr>
          <a:xfrm>
            <a:off x="2009160" y="1484280"/>
            <a:ext cx="2882160" cy="13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．下列函数中，是正比例函数的是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8"/>
          <p:cNvSpPr/>
          <p:nvPr/>
        </p:nvSpPr>
        <p:spPr>
          <a:xfrm>
            <a:off x="1248480" y="2781360"/>
            <a:ext cx="84636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9"/>
          <p:cNvSpPr/>
          <p:nvPr/>
        </p:nvSpPr>
        <p:spPr>
          <a:xfrm>
            <a:off x="1725480" y="2662200"/>
            <a:ext cx="1038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0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10"/>
          <p:cNvSpPr/>
          <p:nvPr/>
        </p:nvSpPr>
        <p:spPr>
          <a:xfrm>
            <a:off x="4485600" y="2781360"/>
            <a:ext cx="86184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11"/>
          <p:cNvSpPr/>
          <p:nvPr/>
        </p:nvSpPr>
        <p:spPr>
          <a:xfrm>
            <a:off x="5356440" y="2666880"/>
            <a:ext cx="14076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9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12"/>
          <p:cNvSpPr/>
          <p:nvPr/>
        </p:nvSpPr>
        <p:spPr>
          <a:xfrm>
            <a:off x="5867280" y="3749760"/>
            <a:ext cx="20196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9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Group 13"/>
          <p:cNvGrpSpPr/>
          <p:nvPr/>
        </p:nvGrpSpPr>
        <p:grpSpPr>
          <a:xfrm>
            <a:off x="1203840" y="3666960"/>
            <a:ext cx="5074560" cy="2200320"/>
            <a:chOff x="1203840" y="3666960"/>
            <a:chExt cx="5074560" cy="2200320"/>
          </a:xfrm>
        </p:grpSpPr>
        <p:sp>
          <p:nvSpPr>
            <p:cNvPr id="553" name="Line 14"/>
            <p:cNvSpPr/>
            <p:nvPr/>
          </p:nvSpPr>
          <p:spPr>
            <a:xfrm>
              <a:off x="5341680" y="4522680"/>
              <a:ext cx="1393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 Box 15"/>
            <p:cNvSpPr/>
            <p:nvPr/>
          </p:nvSpPr>
          <p:spPr>
            <a:xfrm>
              <a:off x="1211400" y="4384440"/>
              <a:ext cx="1271520" cy="3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361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zh-CN" sz="2200" spc="-1" strike="noStrike">
                  <a:solidFill>
                    <a:srgbClr val="000000"/>
                  </a:solidFill>
                  <a:latin typeface="Times New Roman"/>
                </a:rPr>
                <a:t>．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zh-CN" sz="2200" spc="-1" strike="noStrike">
                  <a:solidFill>
                    <a:srgbClr val="000000"/>
                  </a:solidFill>
                  <a:latin typeface="Times New Roman"/>
                </a:rPr>
                <a:t>＝  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 Box 16"/>
            <p:cNvSpPr/>
            <p:nvPr/>
          </p:nvSpPr>
          <p:spPr>
            <a:xfrm>
              <a:off x="4433760" y="5408280"/>
              <a:ext cx="1271520" cy="3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361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zh-CN" sz="2200" spc="-1" strike="noStrike">
                  <a:solidFill>
                    <a:srgbClr val="000000"/>
                  </a:solidFill>
                  <a:latin typeface="Times New Roman"/>
                </a:rPr>
                <a:t>．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zh-CN" sz="2200" spc="-1" strike="noStrike">
                  <a:solidFill>
                    <a:srgbClr val="000000"/>
                  </a:solidFill>
                  <a:latin typeface="Times New Roman"/>
                </a:rPr>
                <a:t>＝  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Text Box 17"/>
            <p:cNvSpPr/>
            <p:nvPr/>
          </p:nvSpPr>
          <p:spPr>
            <a:xfrm>
              <a:off x="1830600" y="3666960"/>
              <a:ext cx="3216960" cy="3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361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zh-CN" sz="2200" spc="-1" strike="noStrike">
                  <a:solidFill>
                    <a:srgbClr val="000000"/>
                  </a:solidFill>
                  <a:latin typeface="Times New Roman"/>
                </a:rPr>
                <a:t>．过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(2,3)</a:t>
              </a:r>
              <a:r>
                <a:rPr b="0" lang="zh-CN" sz="2200" spc="-1" strike="noStrike">
                  <a:solidFill>
                    <a:srgbClr val="000000"/>
                  </a:solidFill>
                  <a:latin typeface="Times New Roman"/>
                </a:rPr>
                <a:t>的正比例函数的解析式是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Text Box 18"/>
            <p:cNvSpPr/>
            <p:nvPr/>
          </p:nvSpPr>
          <p:spPr>
            <a:xfrm>
              <a:off x="6184800" y="3713040"/>
              <a:ext cx="93600" cy="2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98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Text Box 19"/>
            <p:cNvSpPr/>
            <p:nvPr/>
          </p:nvSpPr>
          <p:spPr>
            <a:xfrm>
              <a:off x="2120760" y="4270320"/>
              <a:ext cx="14076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98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2523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Text Box 20"/>
            <p:cNvSpPr/>
            <p:nvPr/>
          </p:nvSpPr>
          <p:spPr>
            <a:xfrm>
              <a:off x="4484880" y="4384440"/>
              <a:ext cx="846360" cy="3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361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zh-CN" sz="2200" spc="-1" strike="noStrike">
                  <a:solidFill>
                    <a:srgbClr val="000000"/>
                  </a:solidFill>
                  <a:latin typeface="Times New Roman"/>
                </a:rPr>
                <a:t>．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zh-CN" sz="22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Text Box 21"/>
            <p:cNvSpPr/>
            <p:nvPr/>
          </p:nvSpPr>
          <p:spPr>
            <a:xfrm>
              <a:off x="5340960" y="4270320"/>
              <a:ext cx="140760" cy="57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98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253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Text Box 22"/>
            <p:cNvSpPr/>
            <p:nvPr/>
          </p:nvSpPr>
          <p:spPr>
            <a:xfrm>
              <a:off x="1203840" y="5408280"/>
              <a:ext cx="1618560" cy="3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361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zh-CN" sz="2200" spc="-1" strike="noStrike">
                  <a:solidFill>
                    <a:srgbClr val="000000"/>
                  </a:solidFill>
                  <a:latin typeface="Times New Roman"/>
                </a:rPr>
                <a:t>．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zh-CN" sz="22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zh-CN" sz="2200" spc="-1" strike="noStrike">
                  <a:solidFill>
                    <a:srgbClr val="000000"/>
                  </a:solidFill>
                  <a:latin typeface="Times New Roman"/>
                </a:rPr>
                <a:t>－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23"/>
            <p:cNvSpPr/>
            <p:nvPr/>
          </p:nvSpPr>
          <p:spPr>
            <a:xfrm>
              <a:off x="5340960" y="5295600"/>
              <a:ext cx="1407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98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2511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Line 24"/>
            <p:cNvSpPr/>
            <p:nvPr/>
          </p:nvSpPr>
          <p:spPr>
            <a:xfrm>
              <a:off x="2095200" y="4527360"/>
              <a:ext cx="2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Line 25"/>
            <p:cNvSpPr/>
            <p:nvPr/>
          </p:nvSpPr>
          <p:spPr>
            <a:xfrm>
              <a:off x="5290920" y="5564160"/>
              <a:ext cx="2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 Box 2"/>
          <p:cNvSpPr/>
          <p:nvPr/>
        </p:nvSpPr>
        <p:spPr>
          <a:xfrm>
            <a:off x="1475280" y="1633680"/>
            <a:ext cx="638388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．点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和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都在直线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＝－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上，则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3"/>
          <p:cNvSpPr/>
          <p:nvPr/>
        </p:nvSpPr>
        <p:spPr>
          <a:xfrm>
            <a:off x="3540240" y="2293920"/>
            <a:ext cx="9360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9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4"/>
          <p:cNvSpPr/>
          <p:nvPr/>
        </p:nvSpPr>
        <p:spPr>
          <a:xfrm>
            <a:off x="723960" y="2247840"/>
            <a:ext cx="2112480" cy="15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与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的大小关系是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≤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4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5"/>
          <p:cNvSpPr/>
          <p:nvPr/>
        </p:nvSpPr>
        <p:spPr>
          <a:xfrm>
            <a:off x="3465720" y="2293920"/>
            <a:ext cx="3026880" cy="14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9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4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4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＞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6"/>
          <p:cNvSpPr/>
          <p:nvPr/>
        </p:nvSpPr>
        <p:spPr>
          <a:xfrm>
            <a:off x="3276720" y="2295360"/>
            <a:ext cx="20196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9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7" descr=""/>
          <p:cNvPicPr/>
          <p:nvPr/>
        </p:nvPicPr>
        <p:blipFill>
          <a:blip r:embed="rId2"/>
          <a:stretch/>
        </p:blipFill>
        <p:spPr>
          <a:xfrm>
            <a:off x="611280" y="4032360"/>
            <a:ext cx="7618320" cy="1187280"/>
          </a:xfrm>
          <a:prstGeom prst="rect">
            <a:avLst/>
          </a:prstGeom>
          <a:ln w="0">
            <a:noFill/>
          </a:ln>
        </p:spPr>
      </p:pic>
      <p:grpSp>
        <p:nvGrpSpPr>
          <p:cNvPr id="571" name="Group 8"/>
          <p:cNvGrpSpPr/>
          <p:nvPr/>
        </p:nvGrpSpPr>
        <p:grpSpPr>
          <a:xfrm>
            <a:off x="4716360" y="4788000"/>
            <a:ext cx="535320" cy="335520"/>
            <a:chOff x="4716360" y="4788000"/>
            <a:chExt cx="535320" cy="335520"/>
          </a:xfrm>
        </p:grpSpPr>
        <p:sp>
          <p:nvSpPr>
            <p:cNvPr id="572" name="Rectangle 9"/>
            <p:cNvSpPr/>
            <p:nvPr/>
          </p:nvSpPr>
          <p:spPr>
            <a:xfrm>
              <a:off x="4716360" y="478800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10"/>
            <p:cNvSpPr/>
            <p:nvPr/>
          </p:nvSpPr>
          <p:spPr>
            <a:xfrm>
              <a:off x="4917600" y="4788000"/>
              <a:ext cx="2980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Times New Roman"/>
                </a:rPr>
                <a:t>&lt;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11"/>
            <p:cNvSpPr/>
            <p:nvPr/>
          </p:nvSpPr>
          <p:spPr>
            <a:xfrm>
              <a:off x="5216040" y="49183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ext Box 2"/>
          <p:cNvSpPr/>
          <p:nvPr/>
        </p:nvSpPr>
        <p:spPr>
          <a:xfrm>
            <a:off x="1715040" y="1849320"/>
            <a:ext cx="6075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．已知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与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成正比例，且当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时，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，求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3"/>
          <p:cNvSpPr/>
          <p:nvPr/>
        </p:nvSpPr>
        <p:spPr>
          <a:xfrm>
            <a:off x="1035000" y="2463840"/>
            <a:ext cx="14349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的函数解析式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4"/>
          <p:cNvSpPr/>
          <p:nvPr/>
        </p:nvSpPr>
        <p:spPr>
          <a:xfrm>
            <a:off x="1642680" y="3081240"/>
            <a:ext cx="29203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黑体"/>
              </a:rPr>
              <a:t>解：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因为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y 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与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成正比例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5"/>
          <p:cNvSpPr/>
          <p:nvPr/>
        </p:nvSpPr>
        <p:spPr>
          <a:xfrm>
            <a:off x="1375560" y="3695760"/>
            <a:ext cx="268308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可设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1) (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≠0)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6"/>
          <p:cNvSpPr/>
          <p:nvPr/>
        </p:nvSpPr>
        <p:spPr>
          <a:xfrm>
            <a:off x="1361520" y="4309920"/>
            <a:ext cx="442836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将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4 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代入得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，即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7"/>
          <p:cNvSpPr/>
          <p:nvPr/>
        </p:nvSpPr>
        <p:spPr>
          <a:xfrm>
            <a:off x="1573200" y="4924440"/>
            <a:ext cx="50130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所以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y 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与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的函数解析式为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4(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1)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4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6T08:15:00Z</dcterms:created>
  <dc:creator>幻灯片之家：www.eeppt.com</dc:creator>
  <dc:description>幻灯片之家：www.eeppt.com</dc:description>
  <cp:keywords>幻灯片之家：www.eeppt.com</cp:keywords>
  <dc:language>en-US</dc:language>
  <cp:lastModifiedBy>xinxing</cp:lastModifiedBy>
  <cp:lastPrinted>2411-12-30T00:00:00Z</cp:lastPrinted>
  <dcterms:modified xsi:type="dcterms:W3CDTF">2017-04-16T16:00:15Z</dcterms:modified>
  <cp:revision>1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NXTAG2">
    <vt:lpwstr>0008003204000000000001024120</vt:lpwstr>
  </property>
</Properties>
</file>