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applause.wav" ContentType="audio/x-wav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2.png" ContentType="image/png"/>
  <Override PartName="/ppt/media/image15.gif" ContentType="image/gif"/>
  <Override PartName="/ppt/media/image18.png" ContentType="image/png"/>
  <Override PartName="/ppt/media/INSTSEL.WAV" ContentType="audio/x-wav"/>
  <Override PartName="/ppt/media/chimes.wav" ContentType="audio/x-wav"/>
  <Override PartName="/ppt/media/image4.png" ContentType="image/png"/>
  <Override PartName="/ppt/media/image13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</p:sldIdLst>
  <p:sldSz cx="9144000" cy="6858000"/>
  <p:notesSz cx="6858000" cy="9144000"/>
  <p:custShowLst>
    <p:custShow name="自定义放映 1" id="0">
      <p:sldLst>
        <p:sld r:id="rId21"/>
      </p:sldLst>
    </p:custShow>
    <p:custShow name="自定义放映 2" id="1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59A-6E1B-4B5C-B2D7-E6B73A78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4C30-119D-414C-8200-4E032162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EFA97-EFB4-476C-AE72-C9114D7B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21C6A-6F93-4E92-8F4D-D3AA96A9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80841-C597-4439-AEE6-B7B6015A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0DFDC-0834-464D-8AC2-1EEB75A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E261E-A86E-4484-9709-53C54E71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FE022-7DB2-439F-B78B-77291CFE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CA168-4466-4462-9644-C9F56A8D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4CF06-FB32-4527-A4C7-E69838B5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8F9F9-7334-467E-9C9C-0705603A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CBB1D-4833-4018-8594-6D560CEF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49D-B52B-45B0-ADBA-F9DD6E81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140A0-2C0E-43E0-9EBD-0769069D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BEE00-F0E1-49C2-8ADA-0194D0A6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50820-E409-458E-AD5C-1C179B2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5A468-2237-4445-897B-AE000717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5034F1-D18E-4671-BC06-4059072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7785F-4FDA-4DF2-B5CE-7DF7B1B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21C8A-DF9F-433B-B7F9-3D30C24F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0E37F-FBCD-46A4-8DFB-07F86A7F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6C94D-C9E0-44E7-AEF1-26C34E73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2906A6-B2EC-4605-8B72-75C509B8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155-C5E3-428E-8F01-47AD0C79B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65B85-7563-4B5E-B7E7-E359167D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ED6F2-A670-4474-BFAB-D1EB7264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1AED9-76BD-4F88-80CC-F55D75EF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CED1F-B197-4D67-8F91-58C998B7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ACBDF-B39F-4335-8717-2D3B65EC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0C60D-6259-40DB-AF9D-34C53D5C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575F-3A68-45D1-BC91-F6C647F2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D870A-7F79-4C08-9B0B-166EFD23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C9B3E-BBF1-47D7-8B1E-E8A5B189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63E68-6C00-491C-9471-5040AF5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8D26-26CA-4F4A-8C0F-AED80884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204D6-FD47-4FD5-9547-31C70F3D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1FE4B-18D9-4B10-A02A-49607CA0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E987C-987D-40BC-818A-76F65BA8D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695B0-CE73-4E5C-8ECC-6FF4EDBB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2ECDD-BA92-4930-BC87-87CF43B7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CB0B9-2850-4DAB-A5D9-8882E45C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E1B597-5314-4F75-8152-409D2541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C680A-27E2-426B-8FEA-7C50E65E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D8285B-0644-4439-BCBB-AC4AA858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8BE9F-D2B9-4D8E-B58A-3D5AB63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4AF9-5371-4030-947B-9B49B0C4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C440D-3C37-4213-B545-1DDB03B2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2A8B0-2022-4EEA-B168-50903B89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AA508-A984-4FFD-A7EF-1C7BAB60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8F10D-2C61-4C67-9CFC-5D132DED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69D48-A6B4-4EF1-A0F8-E7BD8726B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28890-50C5-41A6-AA68-570632A9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6A3F07-E823-406E-AD8F-A9EB354F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3E301-ABBF-46B1-84D5-AA2FEA79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AEC8B-3607-4A4D-9958-75A742E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564F5-1591-4DD9-9AFE-423C6B21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81CB-9CD4-4DFF-AC9E-7D158E3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D002C-EB90-45BC-803E-7AFEE4CB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E25A5-1290-466B-BA8A-8AA9EAA1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2D8D2-8643-47D7-8853-3F468AFC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00C82-766A-4156-8A82-850D46FD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1DA1B-8102-4FAE-B775-56B767D7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0295F0-ABC2-43CC-BCCE-758EF989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AE52A-F722-4E25-B3D2-9F5A4E5F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B69FD-79F4-499F-A929-8CE72544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59706-F69B-473E-9331-756EFD766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96DEA6-44AD-4E26-A779-76A3EB02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BDE-FDED-4A85-AB10-F74C5174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3A9DB-650A-4D1A-95BE-FA44CB49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1F217-ADA4-4C35-AA63-24FC96A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18B5B2-486D-4964-8B5D-5B939BE2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880586-034A-4181-B556-1B156C5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15B26-1361-4D58-BCD2-A64B7D23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D04C9-2FA9-433F-A0DF-3D6432CB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86EEA-3DAD-42A8-9A48-906AEA0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F6942-7560-47DC-A592-E018BF69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AF52FD-0485-4276-BBE8-F3099E0F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1F9A94-6572-4474-8E2B-B3ED1155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BB63-8399-4808-ABE7-667F7CF9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590073-DD4C-446A-8323-A0DDBEA6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1A80D-884D-4E64-AC3A-60E199A5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FEAE3-CCB7-4C8C-8C99-728212AF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93F44-16F4-40CA-8331-E207375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DC5AF-5357-4A83-9EBA-1600C34B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40D0D5-B51A-4BFE-A831-CB0EE22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A2A9D-33EA-42F0-B902-8E17AB58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741E2D-CE1A-4E86-A91F-AD5E2E63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E5B128-3777-4823-9D39-8C501F51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10D6F-D7DA-44D5-89C2-B2E5DAD3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8E32-0FEC-4E1E-8607-8336F519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BF39A-1016-4C03-BF1D-C4E953B1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60A64A-FA61-46A8-A648-49E81672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485BB8-60AF-4E88-BBB5-FFAB11BB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E6D2B-CC4F-4ED2-AB64-112F31D4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EFAE7-EDC9-4660-9C46-5B6388E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F4526-C5F4-493A-ACAD-9C7DFE74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49640-09B6-435A-B626-5A357DD2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35B41-0D54-424A-B6CE-DBFEB1C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18DBAF-1685-4294-8FF9-8242877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E21E2-C73A-4993-B731-CC7B6B7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854-2922-412F-996D-28BBE5BD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E43F8-A1A2-4856-AFF4-E8AF0C14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CEEE1-CB70-4EE2-83E9-BC06E3D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0BE85-1034-4087-B578-AF9BF8B8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F85-9E8E-4E59-946E-76511021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873F-5395-4BB7-90A3-CFCC9A8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3588-4513-4FF6-918D-7E8C70E9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72B7-2E0B-4E3A-AA15-0C16138E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E9A3-D2E3-480E-86C3-C7B3E160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6BA1-F704-4D79-AB58-DAA60AE5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B2695-D536-4E2F-8A99-171E92F6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A80F-A92F-4AAE-9343-03A7B82B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D14C6-BA11-4C0D-AC7D-78DC45FE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C70FB-E449-49D3-88C2-D6416F766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49D7-479D-4C47-B02F-6F66FC28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5DA-E286-448B-AFAE-93688FAF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0E16A-986D-42A4-8197-F97FC819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723E-4D23-4B34-8091-1514BC6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87B9-56D2-4410-A2B1-519B502D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A70D-75D1-4568-8A25-A1612B3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95D1-0F04-4A13-A066-FE39EEBB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67080-47E7-410D-9FCC-B6451E1E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50418-B2C2-405F-B173-CE813F2B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F45A6-CE97-4D16-A6F5-C1D31160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80C2F-4CAD-4535-BD0D-8E392C0F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32095-3FFA-4C04-9638-E5B59DC3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F96-D1AA-4BBD-8997-9F9E029F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5734-9349-4CD5-8F3D-2E67390B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3F5FF-6E08-49FD-A369-161135F0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01B8-CC9F-4727-99D2-CEBFB064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F969A-B5C7-4BB6-BA7C-5EA2DC53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51DAE-8686-4490-9C87-0A689510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38A89-EE14-4820-8FA4-5B9D85C8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98BE6-8AD2-4711-AC6D-6D2683EB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5FF3F-23C5-4976-9142-114EE16D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8BF8F-ADFE-4835-BFAF-FA965E40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EF9D2-860F-4CE0-933F-B8E9854D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E69B-F2D7-44AC-881D-0FCA2A6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F9313-F7B1-4243-A0B3-39815C6B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A041-6688-4DD9-BBBC-AD364622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AEFB9-3C80-44FF-9A1E-D3C626F6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8ADF2-E5AD-4BD8-A114-17AE1858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F79CE-34AE-4FD0-8052-68CCC563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CBF25-6F44-4EFE-90E6-4646E16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2A90E-E291-4E3A-99F7-6D29183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AFF11-53A5-4CF5-B908-5602D9BD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15AD5-33E6-4EF8-93EC-A40E7379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E637C-76CA-4FF9-9F25-09E8BFEB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01DE-607B-4A7C-BA33-C25149BB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336B-E11A-4A6B-8006-BC2AB230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FB4BF-1578-4D30-A866-7FD12622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C3E43-B80D-4C7D-8ACC-B5EE5C42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C3A12-6802-4C0C-B8BC-9C7D553C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3854-F785-4B69-A428-C5964DA5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1BBE-B879-4A38-8C1A-EB2DFBD3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F4CB-3D34-406B-A678-A7EFCF12B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6976B-1C06-4775-8917-B1ECD9A7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9F802-BB30-407E-9562-8F81463E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D5094-255C-4C60-B394-FC740F45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675-3874-4E50-A3D2-197C23CF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581DC-4305-4345-AFEA-3EE28B3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0E59B-3959-4FA7-93E7-69B50591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44EB4-84EF-4519-A821-5FB79F9B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594C0-2358-48C2-B1C8-60E6490F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D0FE5-99CF-4F8E-A0E6-25AC1B94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B5F5A-9A73-4F72-87C1-10C5F079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53D49-10C2-4966-AD09-FA2710E7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0A474-C063-4FC4-A880-C0D1E843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6EDB2-DE29-4337-AB55-EE3F23BA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8B10-F33D-4BC4-B63F-0DE87A1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A3A3-5EDE-440B-A5F0-3B2A7BB0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5ED3-DB05-4AEB-B659-89898929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F3E9B-06C4-49F2-919C-A0058F9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2F58D-BF9C-457F-B018-6F7FEEA8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8564D-AD68-44A5-AFFE-5694DA52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1280F-9106-4D2D-8F23-D638C8CF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6B10F-ADFF-4099-B3AB-5C934A0C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D1E0B-863B-4A7E-900A-E6345A0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A73C0-F781-4847-8EF8-9B424C0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0DB7-4341-4A6B-A0A8-3CECC2F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B9381-A989-4444-BDF8-31B7D0E7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057-E29C-444F-80A6-7704A25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7C42C-91CF-4CCB-88F8-7C254CC0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EA0FB-0A30-4E5C-BA69-1229C53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5DEC-8805-4E1F-A0CB-504FF3F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60CFE-2FE7-467A-8D34-10DB1705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A1AD4-F998-4E0F-A5B3-D2EC3B7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98C87-EFB9-44AB-9A98-A2BCF771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A9823-4B93-4898-9A33-10A8A6C90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44124-AC9D-45CA-B835-1A4B4DEC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4E3F1-A6C5-4274-A4D0-90816A42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C8160-CFC6-4301-B51A-34D8776A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BA1E-40D8-4C6F-AA9C-5EDF2494AA4C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9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9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0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51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702D-4B98-41F4-B9B8-381E9C328318}" type="slidenum">
              <a:rPr b="0" lang="zh-CN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5036-C97F-469C-AB32-F52242391A6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9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59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9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9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9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0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0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3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3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71DD-C875-4206-A77F-3EEF119DD0C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6146-8DD0-406B-A5C4-EB5F7D06502A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6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6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6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6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69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700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70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2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3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4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705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9FA4-2A49-43A4-9B8E-8B012C92157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DB26-04AE-4C87-8AAA-E6F4699CE65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4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6FB6-1B1E-4D0C-AAB4-C4CE5FE3B77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30D0-96DE-4311-9317-264CF83C2325}" type="slidenum">
              <a:rPr b="0" lang="zh-CN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4FD-D8FD-485D-B35E-7E70EE55890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6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16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17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587E-4FB6-427A-A1E2-FD7DA3223F9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C6A-4FAB-4BE1-97EF-EDAE1E5F05C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75E6-3138-417B-97D0-B52EFF265AD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6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7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grpSp>
          <p:nvGrpSpPr>
            <p:cNvPr id="27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28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8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9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29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294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295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29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grpSp>
            <p:nvGrpSpPr>
              <p:cNvPr id="297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29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6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9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0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147F-5B7F-4A36-A071-62D1E076C28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7928-766D-4F87-ADA3-4A0495790D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428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1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2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3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4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6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8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39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0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1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2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3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5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6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8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49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grpSp>
        <p:nvGrpSpPr>
          <p:cNvPr id="450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451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2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453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C552-E1D9-4FE3-85DD-F73CA83EF7EA}" type="slidenum"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png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STSEL.WAV"/><Relationship Id="rId3" Type="http://schemas.openxmlformats.org/officeDocument/2006/relationships/audio" Target="../media/INSTSEL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页脚占位符 2"/>
          <p:cNvSpPr/>
          <p:nvPr/>
        </p:nvSpPr>
        <p:spPr>
          <a:xfrm>
            <a:off x="2484360" y="6165720"/>
            <a:ext cx="353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4" name="WordArt 2"/>
          <p:cNvSpPr txBox="1"/>
          <p:nvPr/>
        </p:nvSpPr>
        <p:spPr>
          <a:xfrm>
            <a:off x="100080" y="973080"/>
            <a:ext cx="882000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solidFill>
                  <a:srgbClr val="ffffff"/>
                </a:solidFill>
                <a:latin typeface="华文隶书"/>
              </a:rPr>
              <a:t>中国人失掉自信力了吗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华文隶书"/>
              <a:ea typeface="华文隶书"/>
            </a:endParaRPr>
          </a:p>
        </p:txBody>
      </p:sp>
      <p:pic>
        <p:nvPicPr>
          <p:cNvPr id="835" name="Picture 4" descr="lishi2"/>
          <p:cNvPicPr/>
          <p:nvPr/>
        </p:nvPicPr>
        <p:blipFill>
          <a:blip r:embed="rId2"/>
          <a:stretch/>
        </p:blipFill>
        <p:spPr>
          <a:xfrm>
            <a:off x="911160" y="3068640"/>
            <a:ext cx="7197840" cy="2592360"/>
          </a:xfrm>
          <a:prstGeom prst="rect">
            <a:avLst/>
          </a:prstGeom>
          <a:ln w="0">
            <a:noFill/>
          </a:ln>
        </p:spPr>
      </p:pic>
      <p:sp>
        <p:nvSpPr>
          <p:cNvPr id="836" name="文本框 1"/>
          <p:cNvSpPr/>
          <p:nvPr/>
        </p:nvSpPr>
        <p:spPr>
          <a:xfrm>
            <a:off x="100080" y="6073920"/>
            <a:ext cx="99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幻灯片之家  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页脚占位符 2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8" name="Rectangle 2"/>
          <p:cNvSpPr/>
          <p:nvPr/>
        </p:nvSpPr>
        <p:spPr>
          <a:xfrm>
            <a:off x="1523880" y="669960"/>
            <a:ext cx="72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08b4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</a:rPr>
              <a:t>学习驳论文，首先要看作者怎样抓住批驳的</a:t>
            </a:r>
            <a:r>
              <a:rPr b="1" lang="zh-CN" sz="4000" spc="-1" strike="noStrike">
                <a:solidFill>
                  <a:srgbClr val="1c08b4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</a:rPr>
              <a:t>突破口</a:t>
            </a:r>
            <a:r>
              <a:rPr b="1" lang="zh-CN" sz="4000" spc="-1" strike="noStrike">
                <a:solidFill>
                  <a:srgbClr val="1c08b4"/>
                </a:solidFill>
                <a:latin typeface="Times New Roman"/>
              </a:rPr>
              <a:t>”</a:t>
            </a:r>
            <a:r>
              <a:rPr b="1" lang="zh-CN" sz="4000" spc="-1" strike="noStrike">
                <a:solidFill>
                  <a:srgbClr val="1c08b4"/>
                </a:solidFill>
                <a:latin typeface="Arial"/>
              </a:rPr>
              <a:t>，要学会识别谬论，能够看出它错在哪里，为什么会错。还要学习反驳谬论，是直接驳论点，还是通过驳论据、论证来驳倒论点。此外，还要注意驳论文语言的特点，体会设问、反问等修辞手法对于加强驳论效果的作用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2556000" y="-387720"/>
            <a:ext cx="446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99"/>
                </a:solidFill>
                <a:latin typeface="Arial"/>
                <a:ea typeface="隶书"/>
              </a:rPr>
              <a:t>思考题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-181080" y="47592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   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作者是怎样抓住批驳的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突破口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来驳斥谬误的论点的</a:t>
            </a:r>
            <a:r>
              <a:rPr b="0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r>
              <a:rPr b="0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课文各部分是如何逐层推进的</a:t>
            </a:r>
            <a:r>
              <a:rPr b="0" lang="en-US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02" name=""/>
          <p:cNvGraphicFramePr/>
          <p:nvPr/>
        </p:nvGraphicFramePr>
        <p:xfrm>
          <a:off x="108000" y="1628640"/>
          <a:ext cx="9036000" cy="5302080"/>
        </p:xfrm>
        <a:graphic>
          <a:graphicData uri="http://schemas.openxmlformats.org/drawingml/2006/table">
            <a:tbl>
              <a:tblPr/>
              <a:tblGrid>
                <a:gridCol w="1247760"/>
                <a:gridCol w="3821040"/>
                <a:gridCol w="3967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段号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在议论过程所起的作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所揭示的要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1872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①②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29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③④⑤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5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⑥⑦⑧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⑨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872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872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3" name="Text Box 72"/>
          <p:cNvSpPr/>
          <p:nvPr/>
        </p:nvSpPr>
        <p:spPr>
          <a:xfrm>
            <a:off x="1258920" y="2133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揭示对方论点及其论据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4" name="Text Box 73"/>
          <p:cNvSpPr/>
          <p:nvPr/>
        </p:nvSpPr>
        <p:spPr>
          <a:xfrm>
            <a:off x="5003640" y="21337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暗示对方的论证以偏概全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5" name="Text Box 76"/>
          <p:cNvSpPr/>
          <p:nvPr/>
        </p:nvSpPr>
        <p:spPr>
          <a:xfrm>
            <a:off x="1258920" y="2781360"/>
            <a:ext cx="38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驳斥对方的论证</a:t>
            </a: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分析对方的论据以偏概全</a:t>
            </a:r>
            <a:r>
              <a:rPr b="0" lang="en-US" sz="2800" spc="-1" strike="noStrike">
                <a:solidFill>
                  <a:srgbClr val="660066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不能证明对方的论点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6" name="Text Box 83"/>
          <p:cNvSpPr/>
          <p:nvPr/>
        </p:nvSpPr>
        <p:spPr>
          <a:xfrm>
            <a:off x="5246640" y="2852640"/>
            <a:ext cx="389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指出悲观论者早就失掉自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只有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他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现在则是在发展着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自欺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7" name="Text Box 91"/>
          <p:cNvSpPr/>
          <p:nvPr/>
        </p:nvSpPr>
        <p:spPr>
          <a:xfrm>
            <a:off x="1332000" y="4292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摆出另一面的论据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证明正确的论点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见解反驳对方的论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8" name="Text Box 93"/>
          <p:cNvSpPr/>
          <p:nvPr/>
        </p:nvSpPr>
        <p:spPr>
          <a:xfrm>
            <a:off x="5110200" y="4005360"/>
            <a:ext cx="403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指出我们有并不失掉自信力的中国人在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说中国人失掉了自信力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用以指一部分人则可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倘若加于全体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那是诬蔑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9" name="Text Box 98"/>
          <p:cNvSpPr/>
          <p:nvPr/>
        </p:nvSpPr>
        <p:spPr>
          <a:xfrm>
            <a:off x="2459160" y="571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作出结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0" name="Text Box 230"/>
          <p:cNvSpPr/>
          <p:nvPr/>
        </p:nvSpPr>
        <p:spPr>
          <a:xfrm>
            <a:off x="5076720" y="567072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指出要论中国人自信力的有无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要看看他的筋骨和脊梁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要自己去看地底下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页脚占位符 2"/>
          <p:cNvSpPr/>
          <p:nvPr/>
        </p:nvSpPr>
        <p:spPr>
          <a:xfrm>
            <a:off x="3124080" y="6305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12" name="Picture 2" descr="f4"/>
          <p:cNvPicPr/>
          <p:nvPr/>
        </p:nvPicPr>
        <p:blipFill>
          <a:blip r:embed="rId2"/>
          <a:stretch/>
        </p:blipFill>
        <p:spPr>
          <a:xfrm>
            <a:off x="5508720" y="2997360"/>
            <a:ext cx="2190600" cy="175248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7" descr="face12"/>
          <p:cNvPicPr/>
          <p:nvPr/>
        </p:nvPicPr>
        <p:blipFill>
          <a:blip r:embed="rId3"/>
          <a:stretch/>
        </p:blipFill>
        <p:spPr>
          <a:xfrm>
            <a:off x="1116000" y="2924280"/>
            <a:ext cx="2209680" cy="176832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10"/>
          <p:cNvSpPr/>
          <p:nvPr/>
        </p:nvSpPr>
        <p:spPr>
          <a:xfrm>
            <a:off x="4267080" y="51577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女孩一定比男孩差吗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5" name="Text Box 11"/>
          <p:cNvSpPr/>
          <p:nvPr/>
        </p:nvSpPr>
        <p:spPr>
          <a:xfrm>
            <a:off x="0" y="51577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男孩一定比女孩强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6" name="WordArt 13"/>
          <p:cNvSpPr txBox="1"/>
          <p:nvPr/>
        </p:nvSpPr>
        <p:spPr>
          <a:xfrm>
            <a:off x="2340000" y="228600"/>
            <a:ext cx="453708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033cc"/>
                    </a:gs>
                    <a:gs pos="50000">
                      <a:srgbClr val="ff00ff"/>
                    </a:gs>
                    <a:gs pos="100000">
                      <a:srgbClr val="0033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中宋"/>
              </a:rPr>
              <a:t>辩 论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0033cc"/>
                  </a:gs>
                  <a:gs pos="50000">
                    <a:srgbClr val="ff00ff"/>
                  </a:gs>
                  <a:gs pos="100000">
                    <a:srgbClr val="0033cc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917" name="Picture 15" descr="boy6"/>
          <p:cNvPicPr/>
          <p:nvPr/>
        </p:nvPicPr>
        <p:blipFill>
          <a:blip r:embed="rId4"/>
          <a:stretch/>
        </p:blipFill>
        <p:spPr>
          <a:xfrm>
            <a:off x="4114800" y="2057400"/>
            <a:ext cx="793800" cy="1527120"/>
          </a:xfrm>
          <a:prstGeom prst="rect">
            <a:avLst/>
          </a:prstGeom>
          <a:ln w="0">
            <a:noFill/>
          </a:ln>
        </p:spPr>
      </p:pic>
      <p:pic>
        <p:nvPicPr>
          <p:cNvPr id="918" name="将军令.mp3" descr=""/>
          <p:cNvPicPr/>
          <p:nvPr/>
        </p:nvPicPr>
        <p:blipFill>
          <a:blip r:embed="rId5"/>
          <a:stretch/>
        </p:blipFill>
        <p:spPr>
          <a:xfrm>
            <a:off x="824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317056" fill="hold"/>
                                        <p:tgtEl>
                                          <p:spTgt spid="9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0" name="Text Box 3"/>
          <p:cNvSpPr/>
          <p:nvPr/>
        </p:nvSpPr>
        <p:spPr>
          <a:xfrm>
            <a:off x="395280" y="40464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1" name="AutoShape 4"/>
          <p:cNvSpPr/>
          <p:nvPr/>
        </p:nvSpPr>
        <p:spPr>
          <a:xfrm>
            <a:off x="304920" y="228600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2" name="Text Box 5"/>
          <p:cNvSpPr/>
          <p:nvPr/>
        </p:nvSpPr>
        <p:spPr>
          <a:xfrm>
            <a:off x="0" y="1628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思考敌论论点与论据中论述对象有什么变化？说说敌论证过程中的错误在哪儿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3" name="Text Box 6"/>
          <p:cNvSpPr/>
          <p:nvPr/>
        </p:nvSpPr>
        <p:spPr>
          <a:xfrm>
            <a:off x="1403280" y="57340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偷换概念             以偏概全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4" name="Text Box 7"/>
          <p:cNvSpPr/>
          <p:nvPr/>
        </p:nvSpPr>
        <p:spPr>
          <a:xfrm>
            <a:off x="0" y="3500280"/>
            <a:ext cx="97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敌论点中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中国人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指全体中国人</a:t>
            </a:r>
            <a:r>
              <a:rPr b="1" lang="en-US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,</a:t>
            </a:r>
            <a:r>
              <a:rPr b="1" lang="zh-CN" sz="3600" spc="-1" strike="noStrike">
                <a:solidFill>
                  <a:srgbClr val="0000cc"/>
                </a:solidFill>
                <a:latin typeface="华文行楷"/>
                <a:ea typeface="华文行楷"/>
              </a:rPr>
              <a:t>范围大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5" name="Text Box 8"/>
          <p:cNvSpPr/>
          <p:nvPr/>
        </p:nvSpPr>
        <p:spPr>
          <a:xfrm>
            <a:off x="-468360" y="414972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敌论据中   所述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我们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行楷"/>
              </a:rPr>
              <a:t>”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仅是国民党反动派等一小部分中国人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行楷"/>
                <a:ea typeface="华文行楷"/>
              </a:rPr>
              <a:t>范围小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6" name="Line 9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8" name="Text Box 2"/>
          <p:cNvSpPr/>
          <p:nvPr/>
        </p:nvSpPr>
        <p:spPr>
          <a:xfrm>
            <a:off x="380880" y="914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29" name="AutoShape 3"/>
          <p:cNvSpPr/>
          <p:nvPr/>
        </p:nvSpPr>
        <p:spPr>
          <a:xfrm>
            <a:off x="0" y="227664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0" name="Text Box 4"/>
          <p:cNvSpPr/>
          <p:nvPr/>
        </p:nvSpPr>
        <p:spPr>
          <a:xfrm>
            <a:off x="395280" y="184464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 “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我们有并不失掉自信力的中国人在”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请你根据自己的了解为第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段中“……的人”注解举例。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2514600" y="32004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2514600" y="402264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3" name="Rectangle 7"/>
          <p:cNvSpPr/>
          <p:nvPr/>
        </p:nvSpPr>
        <p:spPr>
          <a:xfrm>
            <a:off x="2514600" y="478476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2514600" y="55468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5" name="Rectangle 9"/>
          <p:cNvSpPr/>
          <p:nvPr/>
        </p:nvSpPr>
        <p:spPr>
          <a:xfrm>
            <a:off x="554400" y="32274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6" name="Rectangle 10"/>
          <p:cNvSpPr/>
          <p:nvPr/>
        </p:nvSpPr>
        <p:spPr>
          <a:xfrm>
            <a:off x="554400" y="39736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7" name="Rectangle 11"/>
          <p:cNvSpPr/>
          <p:nvPr/>
        </p:nvSpPr>
        <p:spPr>
          <a:xfrm>
            <a:off x="573480" y="482760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8" name="Rectangle 12"/>
          <p:cNvSpPr/>
          <p:nvPr/>
        </p:nvSpPr>
        <p:spPr>
          <a:xfrm>
            <a:off x="573480" y="55738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39" name="Line 13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941" name="Picture 2" descr="gw3"/>
          <p:cNvPicPr/>
          <p:nvPr/>
        </p:nvPicPr>
        <p:blipFill>
          <a:blip r:embed="rId2"/>
          <a:stretch/>
        </p:blipFill>
        <p:spPr>
          <a:xfrm>
            <a:off x="5651640" y="609480"/>
            <a:ext cx="3492360" cy="567540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3"/>
          <p:cNvSpPr/>
          <p:nvPr/>
        </p:nvSpPr>
        <p:spPr>
          <a:xfrm>
            <a:off x="0" y="911160"/>
            <a:ext cx="572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　　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要论中国人，必须不被搽在表面的自欺欺人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脂粉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所诓骗，却看看他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筋骨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脊梁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自信力的有无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状元宰相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的文章是不足为据的，要自己去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地底下</a:t>
            </a:r>
            <a:r>
              <a:rPr b="1" lang="zh-CN" sz="4800" spc="-1" strike="noStrike">
                <a:solidFill>
                  <a:srgbClr val="336600"/>
                </a:solidFill>
                <a:latin typeface="Times New Roman"/>
                <a:ea typeface="华文行楷"/>
              </a:rPr>
              <a:t>。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0" y="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Times New Roman"/>
                <a:ea typeface="隶书"/>
              </a:rPr>
              <a:t>研读赏析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4" name="AutoShape 5"/>
          <p:cNvSpPr/>
          <p:nvPr/>
        </p:nvSpPr>
        <p:spPr>
          <a:xfrm>
            <a:off x="304920" y="2666880"/>
            <a:ext cx="30456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5" name="Line 6"/>
          <p:cNvSpPr/>
          <p:nvPr/>
        </p:nvSpPr>
        <p:spPr>
          <a:xfrm>
            <a:off x="457200" y="175248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89080" y="907560"/>
            <a:ext cx="88200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给下列画线的字注音，并解释词语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900000" y="2636640"/>
            <a:ext cx="77724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慨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叹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玄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虚    渺茫     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楷体_GB2312"/>
                <a:ea typeface="楷体_GB2312"/>
              </a:rPr>
              <a:t>诓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骗                哄骗     怀古伤今       为民请命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9" name="Text Box 4"/>
          <p:cNvSpPr/>
          <p:nvPr/>
        </p:nvSpPr>
        <p:spPr>
          <a:xfrm>
            <a:off x="390240" y="-55440"/>
            <a:ext cx="188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补充练习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5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DE57-DD4A-4230-BF66-0BA6B7A80AC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时代背景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-360" y="1197000"/>
            <a:ext cx="9029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1931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年 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九</a:t>
            </a:r>
            <a:r>
              <a:rPr b="1" lang="en-US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·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一八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事变后，东北沦陷。三周年之后，国民党的官僚政客和资产阶级的走狗文人以及所谓社会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名人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，散布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中国人失掉了自信力</a:t>
            </a: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的失败主义论调。同年</a:t>
            </a: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25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日鲁迅写作本文。义正辞严地批驳了当时对抗战前途悲观亡国的论调，驳斥了上述那些人诬蔑中国革命人民失掉了自信力的无耻谰言，表达了对中国革命前途的信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页脚占位符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330033"/>
                </a:solidFill>
                <a:latin typeface="Times New Roman"/>
              </a:rPr>
              <a:t>鲁   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380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1881/9/25-1936/10/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4" descr="油画-62"/>
          <p:cNvPicPr/>
          <p:nvPr/>
        </p:nvPicPr>
        <p:blipFill>
          <a:blip r:embed="rId1"/>
          <a:stretch/>
        </p:blipFill>
        <p:spPr>
          <a:xfrm>
            <a:off x="5029200" y="1828800"/>
            <a:ext cx="3697200" cy="4191120"/>
          </a:xfrm>
          <a:prstGeom prst="rect">
            <a:avLst/>
          </a:prstGeom>
          <a:ln w="0">
            <a:noFill/>
          </a:ln>
        </p:spPr>
      </p:pic>
      <p:sp>
        <p:nvSpPr>
          <p:cNvPr id="844" name="Rectangle 6"/>
          <p:cNvSpPr/>
          <p:nvPr/>
        </p:nvSpPr>
        <p:spPr>
          <a:xfrm>
            <a:off x="304920" y="2819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152280" y="2819520"/>
            <a:ext cx="3886200" cy="1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6" name="Rectangle 8"/>
          <p:cNvSpPr/>
          <p:nvPr/>
        </p:nvSpPr>
        <p:spPr>
          <a:xfrm>
            <a:off x="0" y="1557360"/>
            <a:ext cx="4343400" cy="6858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文学家、思想家、革命家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7" name="Oval 9"/>
          <p:cNvSpPr/>
          <p:nvPr/>
        </p:nvSpPr>
        <p:spPr>
          <a:xfrm>
            <a:off x="755640" y="3068640"/>
            <a:ext cx="1219320" cy="23623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周  字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  豫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  才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8" name="Rectangle 10"/>
          <p:cNvSpPr/>
          <p:nvPr/>
        </p:nvSpPr>
        <p:spPr>
          <a:xfrm>
            <a:off x="2700360" y="2421000"/>
            <a:ext cx="1600200" cy="3860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横  俯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眉  首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冷  甘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对  为 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千  孺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夫  子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指  牛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9" name="文本框 1"/>
          <p:cNvSpPr/>
          <p:nvPr/>
        </p:nvSpPr>
        <p:spPr>
          <a:xfrm>
            <a:off x="304920" y="6340320"/>
            <a:ext cx="111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更多免费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模板下载：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1" name="Text Box 3"/>
          <p:cNvSpPr/>
          <p:nvPr/>
        </p:nvSpPr>
        <p:spPr>
          <a:xfrm>
            <a:off x="0" y="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45472"/>
                </a:solidFill>
                <a:latin typeface="Times New Roman"/>
                <a:ea typeface="隶书"/>
              </a:rPr>
              <a:t>复习回顾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3832200" y="47242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中国人失掉自信力了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grpSp>
        <p:nvGrpSpPr>
          <p:cNvPr id="853" name="Group 5"/>
          <p:cNvGrpSpPr/>
          <p:nvPr/>
        </p:nvGrpSpPr>
        <p:grpSpPr>
          <a:xfrm>
            <a:off x="1547640" y="2565360"/>
            <a:ext cx="8785080" cy="1952640"/>
            <a:chOff x="1547640" y="2565360"/>
            <a:chExt cx="8785080" cy="1952640"/>
          </a:xfrm>
        </p:grpSpPr>
        <p:sp>
          <p:nvSpPr>
            <p:cNvPr id="854" name="Rectangle 6"/>
            <p:cNvSpPr/>
            <p:nvPr/>
          </p:nvSpPr>
          <p:spPr>
            <a:xfrm>
              <a:off x="2015640" y="2565360"/>
              <a:ext cx="808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两年前     总自夸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地大物博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55" name="Rectangle 7"/>
            <p:cNvSpPr/>
            <p:nvPr/>
          </p:nvSpPr>
          <p:spPr>
            <a:xfrm>
              <a:off x="1547640" y="3205080"/>
              <a:ext cx="878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不久不再自夸只希望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“</a:t>
              </a: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国联</a:t>
              </a:r>
              <a:r>
                <a:rPr b="1" lang="zh-CN" sz="4000" spc="-1" strike="noStrike">
                  <a:solidFill>
                    <a:srgbClr val="000066"/>
                  </a:solidFill>
                  <a:latin typeface="Times New Roman"/>
                  <a:ea typeface="华文行楷"/>
                </a:rPr>
                <a:t>”</a:t>
              </a:r>
              <a:r>
                <a:rPr b="0" lang="zh-CN" sz="32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                        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sp>
          <p:nvSpPr>
            <p:cNvPr id="856" name="Rectangle 8"/>
            <p:cNvSpPr/>
            <p:nvPr/>
          </p:nvSpPr>
          <p:spPr>
            <a:xfrm>
              <a:off x="2015640" y="3814560"/>
              <a:ext cx="7965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66"/>
                  </a:solidFill>
                  <a:latin typeface="华文行楷"/>
                  <a:ea typeface="华文行楷"/>
                </a:rPr>
                <a:t>现　在　求神拜佛怀古伤今</a:t>
              </a:r>
              <a:endParaRPr b="0" lang="en-US" sz="40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57" name="Rectangle 9"/>
          <p:cNvSpPr/>
          <p:nvPr/>
        </p:nvSpPr>
        <p:spPr>
          <a:xfrm>
            <a:off x="-1285200" y="4292640"/>
            <a:ext cx="402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buClr>
                <a:srgbClr val="996633"/>
              </a:buClr>
              <a:buSzPct val="90000"/>
              <a:buFont typeface="Wingdings" charset="2"/>
              <a:buChar char="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敌论点：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8" name="Rectangle 10"/>
          <p:cNvSpPr/>
          <p:nvPr/>
        </p:nvSpPr>
        <p:spPr>
          <a:xfrm>
            <a:off x="-1116000" y="1989000"/>
            <a:ext cx="517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001"/>
              </a:spcBef>
              <a:buClr>
                <a:srgbClr val="996633"/>
              </a:buClr>
              <a:buSzPct val="90000"/>
              <a:buFont typeface="Wingdings" charset="2"/>
              <a:buChar char="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敌论据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545472"/>
                </a:solidFill>
                <a:latin typeface="华文新魏"/>
                <a:ea typeface="华文新魏"/>
              </a:rPr>
              <a:t>  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59" name="AutoShape 11"/>
          <p:cNvSpPr/>
          <p:nvPr/>
        </p:nvSpPr>
        <p:spPr>
          <a:xfrm>
            <a:off x="0" y="148428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0" name="Rectangle 12"/>
          <p:cNvSpPr/>
          <p:nvPr/>
        </p:nvSpPr>
        <p:spPr>
          <a:xfrm>
            <a:off x="250920" y="1341360"/>
            <a:ext cx="975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课文作者摆出的敌方论据和论点</a:t>
            </a:r>
            <a:r>
              <a:rPr b="1" lang="zh-CN" sz="4000" spc="-1" strike="noStrike">
                <a:solidFill>
                  <a:srgbClr val="545472"/>
                </a:solidFill>
                <a:latin typeface="华文行楷"/>
                <a:ea typeface="华文行楷"/>
              </a:rPr>
              <a:t>是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什么？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>
            <a:off x="684360" y="1052640"/>
            <a:ext cx="2895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页脚占位符 5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3" name="Rectangle 2"/>
          <p:cNvSpPr/>
          <p:nvPr/>
        </p:nvSpPr>
        <p:spPr>
          <a:xfrm>
            <a:off x="5257800" y="2362320"/>
            <a:ext cx="358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些批驳证明失掉的不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信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而是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信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发展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自欺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说明敌方的论据不能证明其论点。。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⑴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夸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地大物博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是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地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物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并非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⑵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希望国联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他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不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信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⑶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求神拜佛是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自欺</a:t>
            </a:r>
            <a:r>
              <a:rPr b="1" lang="zh-CN" sz="3200" spc="-1" strike="noStrike">
                <a:solidFill>
                  <a:srgbClr val="545472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545472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865" name="Text Box 4"/>
          <p:cNvSpPr/>
          <p:nvPr/>
        </p:nvSpPr>
        <p:spPr>
          <a:xfrm>
            <a:off x="-1765440" y="620640"/>
            <a:ext cx="103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lvl="4" marL="182880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宋体"/>
              </a:rPr>
              <a:t>2.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宋体"/>
              </a:rPr>
              <a:t>作者为什么认为这个论点是错误的？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页脚占位符 4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0" y="260280"/>
            <a:ext cx="9144000" cy="1629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08b4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1c08b4"/>
                </a:solidFill>
                <a:latin typeface="Tahoma"/>
              </a:rPr>
              <a:t>3.</a:t>
            </a:r>
            <a:r>
              <a:rPr b="1" lang="zh-CN" sz="3600" spc="-1" strike="noStrike">
                <a:solidFill>
                  <a:srgbClr val="1c08b4"/>
                </a:solidFill>
                <a:latin typeface="Tahoma"/>
              </a:rPr>
              <a:t>作者正面提出了什么观点？举出哪些论据来加以论证的？采用怎样的论证方法？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论点：“有并不失掉自信力的中国人在”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论据：从古至今都有满怀自信的“中国的脊梁”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华文楷体"/>
              </a:rPr>
              <a:t>针锋相对地提出自己的观点并列举事实证明，从而彻底驳倒对方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11280" y="33336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经过论证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,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关于“自信力”作者得出了怎样的结论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华文行楷"/>
              </a:rPr>
              <a:t>?</a:t>
            </a:r>
            <a:endParaRPr b="0" lang="en-US" sz="5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1" name="Text Box 5"/>
          <p:cNvSpPr/>
          <p:nvPr/>
        </p:nvSpPr>
        <p:spPr>
          <a:xfrm>
            <a:off x="324000" y="263700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华文行楷"/>
              </a:rPr>
              <a:t>自信力的有无，状元宰相的文章是不足为据的，要自己去看地底下。</a:t>
            </a:r>
            <a:endParaRPr b="0" lang="en-US" sz="6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2" name="AutoShape 6"/>
          <p:cNvSpPr/>
          <p:nvPr/>
        </p:nvSpPr>
        <p:spPr>
          <a:xfrm>
            <a:off x="250920" y="692280"/>
            <a:ext cx="30456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2"/>
                </a:moveTo>
                <a:lnTo>
                  <a:pt x="116423" y="116423"/>
                </a:lnTo>
                <a:lnTo>
                  <a:pt x="152400" y="0"/>
                </a:lnTo>
                <a:lnTo>
                  <a:pt x="188376" y="116423"/>
                </a:lnTo>
                <a:lnTo>
                  <a:pt x="304799" y="116422"/>
                </a:lnTo>
                <a:lnTo>
                  <a:pt x="210610" y="188375"/>
                </a:lnTo>
                <a:lnTo>
                  <a:pt x="246588" y="304799"/>
                </a:lnTo>
                <a:lnTo>
                  <a:pt x="152400" y="232844"/>
                </a:lnTo>
                <a:lnTo>
                  <a:pt x="58211" y="304799"/>
                </a:lnTo>
                <a:lnTo>
                  <a:pt x="94189" y="18837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页脚占位符 2"/>
          <p:cNvSpPr/>
          <p:nvPr/>
        </p:nvSpPr>
        <p:spPr>
          <a:xfrm>
            <a:off x="310356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874" name=""/>
          <p:cNvGraphicFramePr/>
          <p:nvPr/>
        </p:nvGraphicFramePr>
        <p:xfrm>
          <a:off x="115920" y="1752480"/>
          <a:ext cx="8991720" cy="4495680"/>
        </p:xfrm>
        <a:graphic>
          <a:graphicData uri="http://schemas.openxmlformats.org/drawingml/2006/table">
            <a:tbl>
              <a:tblPr/>
              <a:tblGrid>
                <a:gridCol w="3008160"/>
                <a:gridCol w="2527560"/>
                <a:gridCol w="2846160"/>
                <a:gridCol w="6098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66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5" name="AutoShape 22"/>
          <p:cNvSpPr/>
          <p:nvPr/>
        </p:nvSpPr>
        <p:spPr>
          <a:xfrm>
            <a:off x="7778880" y="308448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7851600" y="3429000"/>
            <a:ext cx="546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事   实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7" name="AutoShape 24"/>
          <p:cNvSpPr/>
          <p:nvPr/>
        </p:nvSpPr>
        <p:spPr>
          <a:xfrm>
            <a:off x="3276720" y="33526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3733200" y="350532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曾有“他信力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44360" y="2492280"/>
            <a:ext cx="16192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论据：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818640" y="18288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敌方论据论点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0" y="518148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论点：中国人失掉自信力了</a:t>
            </a:r>
            <a:r>
              <a:rPr b="0" lang="zh-CN" sz="2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2" name="Text Box 29"/>
          <p:cNvSpPr/>
          <p:nvPr/>
        </p:nvSpPr>
        <p:spPr>
          <a:xfrm>
            <a:off x="3365640" y="1741320"/>
            <a:ext cx="19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3" name="Text Box 30"/>
          <p:cNvSpPr/>
          <p:nvPr/>
        </p:nvSpPr>
        <p:spPr>
          <a:xfrm>
            <a:off x="3501360" y="42670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4" name="Text Box 31"/>
          <p:cNvSpPr/>
          <p:nvPr/>
        </p:nvSpPr>
        <p:spPr>
          <a:xfrm>
            <a:off x="6172200" y="1752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5" name="Text Box 32"/>
          <p:cNvSpPr/>
          <p:nvPr/>
        </p:nvSpPr>
        <p:spPr>
          <a:xfrm>
            <a:off x="5562720" y="2833560"/>
            <a:ext cx="23619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6" name="Text Box 33"/>
          <p:cNvSpPr/>
          <p:nvPr/>
        </p:nvSpPr>
        <p:spPr>
          <a:xfrm>
            <a:off x="355068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自信早就失掉了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7" name="Text Box 34"/>
          <p:cNvSpPr/>
          <p:nvPr/>
        </p:nvSpPr>
        <p:spPr>
          <a:xfrm>
            <a:off x="5649840" y="5243400"/>
            <a:ext cx="29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有并不失掉自信力的中国人在</a:t>
            </a:r>
            <a:endParaRPr b="0" lang="en-US" sz="28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8" name="Text Box 35"/>
          <p:cNvSpPr/>
          <p:nvPr/>
        </p:nvSpPr>
        <p:spPr>
          <a:xfrm>
            <a:off x="0" y="31240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自夸“地大物博”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9" name="Text Box 36"/>
          <p:cNvSpPr/>
          <p:nvPr/>
        </p:nvSpPr>
        <p:spPr>
          <a:xfrm>
            <a:off x="60480" y="3720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只希望国联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0" name="Text Box 37"/>
          <p:cNvSpPr/>
          <p:nvPr/>
        </p:nvSpPr>
        <p:spPr>
          <a:xfrm>
            <a:off x="1440" y="42688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一味求神拜佛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1" name="Text Box 38"/>
          <p:cNvSpPr/>
          <p:nvPr/>
        </p:nvSpPr>
        <p:spPr>
          <a:xfrm>
            <a:off x="8455680" y="3463920"/>
            <a:ext cx="667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结    论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2" name="WordArt 39"/>
          <p:cNvSpPr txBox="1"/>
          <p:nvPr/>
        </p:nvSpPr>
        <p:spPr>
          <a:xfrm>
            <a:off x="3276720" y="533520"/>
            <a:ext cx="5410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9c27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华文隶书"/>
              </a:rPr>
              <a:t>失掉自信力了吗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9c27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893" name="WordArt 40"/>
          <p:cNvSpPr txBox="1"/>
          <p:nvPr/>
        </p:nvSpPr>
        <p:spPr>
          <a:xfrm>
            <a:off x="568440" y="552600"/>
            <a:ext cx="2555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66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50000">
                      <a:srgbClr val="9c2700"/>
                    </a:gs>
                    <a:gs pos="100000">
                      <a:srgbClr val="cc33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08080"/>
                  </a:outerShdw>
                </a:effectLst>
                <a:latin typeface="华文隶书"/>
              </a:rPr>
              <a:t>中国人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50000">
                    <a:srgbClr val="9c2700"/>
                  </a:gs>
                  <a:gs pos="100000">
                    <a:srgbClr val="cc3300"/>
                  </a:gs>
                </a:gsLst>
                <a:lin ang="5400000"/>
              </a:gradFill>
              <a:effectLst>
                <a:outerShdw dist="153753" dir="2700000" blurRad="0" rotWithShape="0">
                  <a:srgbClr val="808080"/>
                </a:outerShdw>
              </a:effectLst>
              <a:latin typeface="华文隶书"/>
              <a:ea typeface="华文隶书"/>
            </a:endParaRPr>
          </a:p>
        </p:txBody>
      </p:sp>
    </p:spTree>
  </p:cSld>
  <p:transition spd="slow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STS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NSTSE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826920" y="1916280"/>
            <a:ext cx="7696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在生活中，常常听到一些不正确的说法，需要我们写文章批驳，帮助澄清思想，端正认识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驳论是跟立论紧密联系着的，因为反驳对方的错误论点，往往要针锋相对地提出自己的正确论点，以便彻底驳倒错误论点。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以反驳为主的议论文通常叫做驳论文。</a:t>
            </a:r>
            <a:endParaRPr b="0" lang="en-US" sz="48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6T14:32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7:40Z</dcterms:modified>
  <cp:revision>4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