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AFF-3681-4AAD-892D-E0EA351C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AC3-50DB-4143-9CFC-0861742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873-B405-4EC8-9870-28DBD000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127-CE26-4632-9EE0-D2B14028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F1E-74CC-41AB-AF36-BA7FC09E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6AB-45DD-4220-B488-BD6D6146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F37-F2D0-47D4-922B-6477F7C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D55-D4F9-441A-9E4C-FF66625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F14-1DAC-4BEB-8DA3-97752D6E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739-B663-40BD-B2C8-D5F40C2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CA0-69EA-462C-9AA3-ACADEED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341-C931-465E-A0F1-7C17FC1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8161-0300-4BF1-8E87-B78F6ECA8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80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晚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爸爸在看报，妈妈在看电视。我给他们送上水果。爸爸妈妈笑了，我也笑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20600" y="617220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0255-7452-40E2-98BD-DB8B6E21A0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533520" y="304920"/>
            <a:ext cx="2514600" cy="10666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066680" y="24382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你在家里做些什么？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380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实践园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"/>
          <p:cNvGrpSpPr/>
          <p:nvPr/>
        </p:nvGrpSpPr>
        <p:grpSpPr>
          <a:xfrm>
            <a:off x="4876920" y="3733920"/>
            <a:ext cx="2743200" cy="3124080"/>
            <a:chOff x="4876920" y="3733920"/>
            <a:chExt cx="2743200" cy="3124080"/>
          </a:xfrm>
        </p:grpSpPr>
        <p:sp>
          <p:nvSpPr>
            <p:cNvPr id="47" name="Rectangle 5"/>
            <p:cNvSpPr/>
            <p:nvPr/>
          </p:nvSpPr>
          <p:spPr>
            <a:xfrm>
              <a:off x="4876920" y="3733920"/>
              <a:ext cx="274320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6" descr="C:\Documents and Settings\litao.LEGEND-METWF85K\My Documents\CPMH-0447.jpg"/>
            <p:cNvPicPr/>
            <p:nvPr/>
          </p:nvPicPr>
          <p:blipFill>
            <a:blip r:embed="rId2"/>
            <a:stretch/>
          </p:blipFill>
          <p:spPr>
            <a:xfrm>
              <a:off x="4952880" y="4724280"/>
              <a:ext cx="25146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7"/>
            <p:cNvSpPr/>
            <p:nvPr/>
          </p:nvSpPr>
          <p:spPr>
            <a:xfrm>
              <a:off x="5562720" y="3886200"/>
              <a:ext cx="175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端茶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914400" y="228600"/>
            <a:ext cx="2971800" cy="3276720"/>
            <a:chOff x="914400" y="228600"/>
            <a:chExt cx="2971800" cy="3276720"/>
          </a:xfrm>
        </p:grpSpPr>
        <p:sp>
          <p:nvSpPr>
            <p:cNvPr id="51" name="Rectangle 9"/>
            <p:cNvSpPr/>
            <p:nvPr/>
          </p:nvSpPr>
          <p:spPr>
            <a:xfrm>
              <a:off x="914400" y="304920"/>
              <a:ext cx="297180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10" descr="C:\Documents and Settings\litao.LEGEND-METWF85K\My Documents\313780.jpg"/>
            <p:cNvPicPr/>
            <p:nvPr/>
          </p:nvPicPr>
          <p:blipFill>
            <a:blip r:embed="rId3"/>
            <a:stretch/>
          </p:blipFill>
          <p:spPr>
            <a:xfrm>
              <a:off x="1067040" y="1522440"/>
              <a:ext cx="266688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1"/>
            <p:cNvSpPr/>
            <p:nvPr/>
          </p:nvSpPr>
          <p:spPr>
            <a:xfrm>
              <a:off x="1600200" y="228600"/>
              <a:ext cx="182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读书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914400" y="3733920"/>
            <a:ext cx="2895480" cy="3124080"/>
            <a:chOff x="914400" y="3733920"/>
            <a:chExt cx="2895480" cy="3124080"/>
          </a:xfrm>
        </p:grpSpPr>
        <p:sp>
          <p:nvSpPr>
            <p:cNvPr id="55" name="Rectangle 13"/>
            <p:cNvSpPr/>
            <p:nvPr/>
          </p:nvSpPr>
          <p:spPr>
            <a:xfrm>
              <a:off x="914400" y="3733920"/>
              <a:ext cx="289548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1295280" y="3733920"/>
              <a:ext cx="2311200" cy="2971800"/>
              <a:chOff x="1295280" y="3733920"/>
              <a:chExt cx="2311200" cy="2971800"/>
            </a:xfrm>
          </p:grpSpPr>
          <p:pic>
            <p:nvPicPr>
              <p:cNvPr id="57" name="Picture 15" descr="C:\Documents and Settings\litao.LEGEND-METWF85K\My Documents\746079.jpg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673520"/>
                <a:ext cx="1996920" cy="20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1346040" y="3733920"/>
                <a:ext cx="2260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000000"/>
                    </a:solidFill>
                    <a:latin typeface="Times New Roman"/>
                  </a:rPr>
                  <a:t>浇花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7"/>
          <p:cNvGrpSpPr/>
          <p:nvPr/>
        </p:nvGrpSpPr>
        <p:grpSpPr>
          <a:xfrm>
            <a:off x="4800600" y="304920"/>
            <a:ext cx="2819520" cy="3124080"/>
            <a:chOff x="4800600" y="304920"/>
            <a:chExt cx="2819520" cy="3124080"/>
          </a:xfrm>
        </p:grpSpPr>
        <p:sp>
          <p:nvSpPr>
            <p:cNvPr id="60" name="Rectangle 18"/>
            <p:cNvSpPr/>
            <p:nvPr/>
          </p:nvSpPr>
          <p:spPr>
            <a:xfrm>
              <a:off x="4800600" y="304920"/>
              <a:ext cx="281952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9"/>
            <p:cNvGrpSpPr/>
            <p:nvPr/>
          </p:nvGrpSpPr>
          <p:grpSpPr>
            <a:xfrm>
              <a:off x="5029200" y="380880"/>
              <a:ext cx="2590560" cy="2943360"/>
              <a:chOff x="5029200" y="380880"/>
              <a:chExt cx="2590560" cy="2943360"/>
            </a:xfrm>
          </p:grpSpPr>
          <p:pic>
            <p:nvPicPr>
              <p:cNvPr id="62" name="Picture 20" descr="C:\Documents and Settings\litao.LEGEND-METWF85K\My Documents\CPMH-0560.jpg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1544760"/>
                <a:ext cx="2361960" cy="17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21"/>
              <p:cNvSpPr/>
              <p:nvPr/>
            </p:nvSpPr>
            <p:spPr>
              <a:xfrm>
                <a:off x="5410080" y="380880"/>
                <a:ext cx="2209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000000"/>
                    </a:solidFill>
                    <a:latin typeface="Times New Roman"/>
                  </a:rPr>
                  <a:t>运动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1066680" y="1828800"/>
            <a:ext cx="3353040" cy="3352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1066680" y="1828800"/>
            <a:ext cx="3353040" cy="3352680"/>
            <a:chOff x="1066680" y="1828800"/>
            <a:chExt cx="3353040" cy="3352680"/>
          </a:xfrm>
        </p:grpSpPr>
        <p:sp>
          <p:nvSpPr>
            <p:cNvPr id="66" name="Line 16"/>
            <p:cNvSpPr/>
            <p:nvPr/>
          </p:nvSpPr>
          <p:spPr>
            <a:xfrm>
              <a:off x="1066680" y="3505320"/>
              <a:ext cx="3353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8"/>
            <p:cNvSpPr/>
            <p:nvPr/>
          </p:nvSpPr>
          <p:spPr>
            <a:xfrm>
              <a:off x="2743200" y="182880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9"/>
          <p:cNvSpPr/>
          <p:nvPr/>
        </p:nvSpPr>
        <p:spPr>
          <a:xfrm>
            <a:off x="24382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田字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743200" y="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笔画名称‎‎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962520" y="22860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、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2895480" y="23623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5638680" y="22096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2971800" y="3962520"/>
            <a:ext cx="304920" cy="685800"/>
          </a:xfrm>
          <a:custGeom>
            <a:avLst/>
            <a:gdLst/>
            <a:ahLst/>
            <a:rect l="l" t="t" r="r" b="b"/>
            <a:pathLst>
              <a:path w="168" h="384">
                <a:moveTo>
                  <a:pt x="144" y="0"/>
                </a:moveTo>
                <a:cubicBezTo>
                  <a:pt x="156" y="88"/>
                  <a:pt x="168" y="176"/>
                  <a:pt x="144" y="240"/>
                </a:cubicBezTo>
                <a:cubicBezTo>
                  <a:pt x="120" y="304"/>
                  <a:pt x="24" y="360"/>
                  <a:pt x="0" y="38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23"/>
          <p:cNvSpPr/>
          <p:nvPr/>
        </p:nvSpPr>
        <p:spPr>
          <a:xfrm>
            <a:off x="5562720" y="40384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9" y="48"/>
                  <a:pt x="19" y="96"/>
                  <a:pt x="39" y="144"/>
                </a:cubicBezTo>
                <a:cubicBezTo>
                  <a:pt x="59" y="192"/>
                  <a:pt x="81" y="248"/>
                  <a:pt x="122" y="288"/>
                </a:cubicBezTo>
                <a:cubicBezTo>
                  <a:pt x="163" y="328"/>
                  <a:pt x="260" y="368"/>
                  <a:pt x="288" y="38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14600" y="838080"/>
            <a:ext cx="3352680" cy="3353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2514600" y="838080"/>
            <a:ext cx="3352680" cy="3352680"/>
            <a:chOff x="2514600" y="838080"/>
            <a:chExt cx="3352680" cy="3352680"/>
          </a:xfrm>
        </p:grpSpPr>
        <p:sp>
          <p:nvSpPr>
            <p:cNvPr id="78" name="Line 5"/>
            <p:cNvSpPr/>
            <p:nvPr/>
          </p:nvSpPr>
          <p:spPr>
            <a:xfrm>
              <a:off x="2514600" y="25146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4190760" y="83808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7"/>
          <p:cNvSpPr/>
          <p:nvPr/>
        </p:nvSpPr>
        <p:spPr>
          <a:xfrm>
            <a:off x="2895480" y="685800"/>
            <a:ext cx="327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Times New Roman"/>
              </a:rPr>
              <a:t>下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685800" y="607860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133720" y="838080"/>
            <a:ext cx="4419360" cy="5639040"/>
          </a:xfrm>
          <a:prstGeom prst="rect">
            <a:avLst/>
          </a:prstGeom>
          <a:solidFill>
            <a:srgbClr val="f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81952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iā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09680" y="838080"/>
            <a:ext cx="4343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一个人在家的时候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想爸爸妈妈来敲门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和爸爸在家的时候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想妈妈来敲门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和妈妈在家的时候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想爸爸来敲门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全家都在家的时候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敲门的一定是客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304920" y="0"/>
            <a:ext cx="3047760" cy="10666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80880" y="990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家里还有哪些物品是书上所没有的？请你在父母的帮助下写成字卡，自己注上拼音，举办一次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家庭用品识字展览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”，评出“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识字大王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”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课外拓展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94172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1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ff"/>
            </a:gs>
            <a:gs pos="100000">
              <a:srgbClr val="7ef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8"/>
          <p:cNvGrpSpPr/>
          <p:nvPr/>
        </p:nvGrpSpPr>
        <p:grpSpPr>
          <a:xfrm>
            <a:off x="3276720" y="1295280"/>
            <a:ext cx="1600200" cy="1099440"/>
            <a:chOff x="3276720" y="1295280"/>
            <a:chExt cx="1600200" cy="1099440"/>
          </a:xfrm>
        </p:grpSpPr>
        <p:sp>
          <p:nvSpPr>
            <p:cNvPr id="90" name="Oval 8"/>
            <p:cNvSpPr/>
            <p:nvPr/>
          </p:nvSpPr>
          <p:spPr>
            <a:xfrm>
              <a:off x="3276720" y="1447920"/>
              <a:ext cx="160020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3505320" y="1295280"/>
              <a:ext cx="1218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37"/>
          <p:cNvGrpSpPr/>
          <p:nvPr/>
        </p:nvGrpSpPr>
        <p:grpSpPr>
          <a:xfrm>
            <a:off x="1676520" y="533520"/>
            <a:ext cx="7086600" cy="2653560"/>
            <a:chOff x="1676520" y="533520"/>
            <a:chExt cx="7086600" cy="2653560"/>
          </a:xfrm>
        </p:grpSpPr>
        <p:grpSp>
          <p:nvGrpSpPr>
            <p:cNvPr id="93" name="Group 17"/>
            <p:cNvGrpSpPr/>
            <p:nvPr/>
          </p:nvGrpSpPr>
          <p:grpSpPr>
            <a:xfrm>
              <a:off x="1676520" y="1752480"/>
              <a:ext cx="1676160" cy="1434600"/>
              <a:chOff x="1676520" y="1752480"/>
              <a:chExt cx="1676160" cy="1434600"/>
            </a:xfrm>
          </p:grpSpPr>
          <p:sp>
            <p:nvSpPr>
              <p:cNvPr id="94" name="Oval 9"/>
              <p:cNvSpPr/>
              <p:nvPr/>
            </p:nvSpPr>
            <p:spPr>
              <a:xfrm>
                <a:off x="1676520" y="2133720"/>
                <a:ext cx="160020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2"/>
              <p:cNvSpPr/>
              <p:nvPr/>
            </p:nvSpPr>
            <p:spPr>
              <a:xfrm>
                <a:off x="2057400" y="1752480"/>
                <a:ext cx="1295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9"/>
            <p:cNvGrpSpPr/>
            <p:nvPr/>
          </p:nvGrpSpPr>
          <p:grpSpPr>
            <a:xfrm>
              <a:off x="5181480" y="533520"/>
              <a:ext cx="1600200" cy="1099440"/>
              <a:chOff x="5181480" y="533520"/>
              <a:chExt cx="1600200" cy="1099440"/>
            </a:xfrm>
          </p:grpSpPr>
          <p:sp>
            <p:nvSpPr>
              <p:cNvPr id="97" name="Oval 7"/>
              <p:cNvSpPr/>
              <p:nvPr/>
            </p:nvSpPr>
            <p:spPr>
              <a:xfrm>
                <a:off x="5181480" y="685800"/>
                <a:ext cx="160020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5486400" y="533520"/>
                <a:ext cx="990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家</a:t>
                </a: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20"/>
            <p:cNvGrpSpPr/>
            <p:nvPr/>
          </p:nvGrpSpPr>
          <p:grpSpPr>
            <a:xfrm>
              <a:off x="7162920" y="1295280"/>
              <a:ext cx="1600200" cy="1099440"/>
              <a:chOff x="7162920" y="1295280"/>
              <a:chExt cx="1600200" cy="1099440"/>
            </a:xfrm>
          </p:grpSpPr>
          <p:sp>
            <p:nvSpPr>
              <p:cNvPr id="100" name="Oval 5"/>
              <p:cNvSpPr/>
              <p:nvPr/>
            </p:nvSpPr>
            <p:spPr>
              <a:xfrm>
                <a:off x="7162920" y="1447920"/>
                <a:ext cx="160020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4"/>
              <p:cNvSpPr/>
              <p:nvPr/>
            </p:nvSpPr>
            <p:spPr>
              <a:xfrm>
                <a:off x="7467480" y="1295280"/>
                <a:ext cx="1219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里</a:t>
                </a: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" name="Picture 26" descr="D:\丁丽\丁丽的课件素材\植物\ZW_008.gif"/>
          <p:cNvPicPr/>
          <p:nvPr/>
        </p:nvPicPr>
        <p:blipFill>
          <a:blip r:embed="rId1"/>
          <a:stretch/>
        </p:blipFill>
        <p:spPr>
          <a:xfrm>
            <a:off x="6858000" y="48769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D:\丁丽\丁丽的课件素材\植物\ZW_008.gif"/>
          <p:cNvPicPr/>
          <p:nvPr/>
        </p:nvPicPr>
        <p:blipFill>
          <a:blip r:embed="rId2"/>
          <a:stretch/>
        </p:blipFill>
        <p:spPr>
          <a:xfrm>
            <a:off x="7162920" y="3886200"/>
            <a:ext cx="2590560" cy="213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D:\丁丽\丁丽的课件素材\植物\ZW_008.gif"/>
          <p:cNvPicPr/>
          <p:nvPr/>
        </p:nvPicPr>
        <p:blipFill>
          <a:blip r:embed="rId3"/>
          <a:stretch/>
        </p:blipFill>
        <p:spPr>
          <a:xfrm>
            <a:off x="3581280" y="42670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2" descr="D:\丁丽\丁丽的课件素材\植物\ZW_008.gif"/>
          <p:cNvPicPr/>
          <p:nvPr/>
        </p:nvPicPr>
        <p:blipFill>
          <a:blip r:embed="rId4"/>
          <a:stretch/>
        </p:blipFill>
        <p:spPr>
          <a:xfrm>
            <a:off x="3200400" y="472428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8"/>
          <p:cNvGrpSpPr/>
          <p:nvPr/>
        </p:nvGrpSpPr>
        <p:grpSpPr>
          <a:xfrm>
            <a:off x="0" y="2971800"/>
            <a:ext cx="8534160" cy="3885840"/>
            <a:chOff x="0" y="2971800"/>
            <a:chExt cx="8534160" cy="3885840"/>
          </a:xfrm>
        </p:grpSpPr>
        <p:grpSp>
          <p:nvGrpSpPr>
            <p:cNvPr id="107" name="Group 6"/>
            <p:cNvGrpSpPr/>
            <p:nvPr/>
          </p:nvGrpSpPr>
          <p:grpSpPr>
            <a:xfrm>
              <a:off x="1250640" y="2971800"/>
              <a:ext cx="2710800" cy="3352320"/>
              <a:chOff x="1250640" y="2971800"/>
              <a:chExt cx="2710800" cy="3352320"/>
            </a:xfrm>
          </p:grpSpPr>
          <p:pic>
            <p:nvPicPr>
              <p:cNvPr id="108" name="Picture 3" descr="D:\丁丽\丁丽的课件素材\城市\CITY_052.WMF"/>
              <p:cNvPicPr/>
              <p:nvPr/>
            </p:nvPicPr>
            <p:blipFill>
              <a:blip r:embed="rId5"/>
              <a:stretch/>
            </p:blipFill>
            <p:spPr>
              <a:xfrm>
                <a:off x="1250640" y="3276360"/>
                <a:ext cx="271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4"/>
              <p:cNvSpPr/>
              <p:nvPr/>
            </p:nvSpPr>
            <p:spPr>
              <a:xfrm>
                <a:off x="3383280" y="2971800"/>
                <a:ext cx="294120" cy="456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36"/>
            <p:cNvGrpSpPr/>
            <p:nvPr/>
          </p:nvGrpSpPr>
          <p:grpSpPr>
            <a:xfrm>
              <a:off x="0" y="3809880"/>
              <a:ext cx="8534160" cy="3047760"/>
              <a:chOff x="0" y="3809880"/>
              <a:chExt cx="8534160" cy="3047760"/>
            </a:xfrm>
          </p:grpSpPr>
          <p:pic>
            <p:nvPicPr>
              <p:cNvPr id="111" name="Picture 29" descr="D:\丁丽\丁丽的课件素材\植物\ZW_008.gif"/>
              <p:cNvPicPr/>
              <p:nvPr/>
            </p:nvPicPr>
            <p:blipFill>
              <a:blip r:embed="rId6"/>
              <a:stretch/>
            </p:blipFill>
            <p:spPr>
              <a:xfrm>
                <a:off x="0" y="4880880"/>
                <a:ext cx="1750320" cy="197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33" descr="D:\丁丽\丁丽的课件素材\植物\ZW_008.gif"/>
              <p:cNvPicPr/>
              <p:nvPr/>
            </p:nvPicPr>
            <p:blipFill>
              <a:blip r:embed="rId7"/>
              <a:stretch/>
            </p:blipFill>
            <p:spPr>
              <a:xfrm>
                <a:off x="4303800" y="4056840"/>
                <a:ext cx="2260800" cy="25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34" descr="D:\丁丽\丁丽的课件素材\植物\ZW_008.gif"/>
              <p:cNvPicPr/>
              <p:nvPr/>
            </p:nvPicPr>
            <p:blipFill>
              <a:blip r:embed="rId8"/>
              <a:stretch/>
            </p:blipFill>
            <p:spPr>
              <a:xfrm>
                <a:off x="6419160" y="3809880"/>
                <a:ext cx="2115000" cy="2388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" name="Picture 35" descr="D:\丁丽\丁丽的课件素材\卡通图片\CUTS_121.GIF"/>
            <p:cNvPicPr/>
            <p:nvPr/>
          </p:nvPicPr>
          <p:blipFill>
            <a:blip r:embed="rId9"/>
            <a:stretch/>
          </p:blipFill>
          <p:spPr>
            <a:xfrm>
              <a:off x="5297040" y="3352680"/>
              <a:ext cx="160020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45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xinxing</cp:lastModifiedBy>
  <dcterms:modified xsi:type="dcterms:W3CDTF">2017-04-16T15:45:51Z</dcterms:modified>
  <cp:revision>27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