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1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248F-5F64-4131-8B0A-E56363040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C257-350F-4291-999C-3202145CA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B65-3B0C-4B99-BCAB-F507ED03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EF78-6007-4A17-9A5F-2FE1EB2C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C5E5-A6CD-406A-A8A3-F6519413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9BB-C42D-4E17-9601-31BE96DE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437A-8257-4999-ADE4-6AC54485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2F86-C592-41D1-935E-21139504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CE1-4342-4C89-AF8B-A87DFEB2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DE29-82D4-45B4-90FC-594E5181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D32-D6E8-4998-9FB2-6B9F5BA3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2B0F-4BFD-4FDD-B901-1BC9A385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0788-5ECE-4226-8C4C-A0A67BF7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8F9-C84E-4D3A-BDEC-D08B4A06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01E2-E816-4ADC-AEA1-D9BDCA39F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2556000" y="6245280"/>
            <a:ext cx="417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826920" y="476280"/>
            <a:ext cx="72741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3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10089" dir="7678449" blurRad="0" rotWithShape="0">
                    <a:srgbClr val="000000">
                      <a:alpha val="32000"/>
                    </a:srgbClr>
                  </a:outerShdw>
                </a:effectLst>
                <a:latin typeface="华文行楷"/>
              </a:rPr>
              <a:t>致女儿的信</a:t>
            </a:r>
            <a:endParaRPr b="0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10089" dir="7678449" blurRad="0" rotWithShape="0">
                  <a:srgbClr val="000000">
                    <a:alpha val="32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332000" y="414972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中宋"/>
              </a:rPr>
              <a:t>苏霍姆林斯基（苏联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6"/>
          <p:cNvSpPr txBox="1"/>
          <p:nvPr/>
        </p:nvSpPr>
        <p:spPr>
          <a:xfrm>
            <a:off x="539640" y="476280"/>
            <a:ext cx="388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送你一句话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68360" y="242100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成熟的爱情并不轻易表现出来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它的声音是低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它是谦逊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退让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潜伏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等待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又等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英国作家 狄更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250920" y="3414960"/>
            <a:ext cx="8458200" cy="60588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爱情是什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是个既简单又深奥的问题，作者用充满诗意的故事告诉我们：万物生存、繁殖、传宗接代，彼此忠诚，永远思念，这就是爱情，是人类才有的爱情。爱情只有是理智的，聪明的，审慎的，它才是高尚的，才会使人感受到幸福。青春不是爱情的季节，这时的我们还没有足够的能力去承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843480" y="549360"/>
            <a:ext cx="1155960" cy="5814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结束语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04920" y="22788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同学们，爱是美好的情感，人的全部道德都可以在爱情上反映出来。爱情是人类文明的产物。根据自己的理解，你以自己喜欢的形式，说说什么是爱情。可以是一句箴言，也可以是一段随笔，更可以是一篇文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11996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六、随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katong_r19_c7"/>
          <p:cNvPicPr/>
          <p:nvPr/>
        </p:nvPicPr>
        <p:blipFill>
          <a:blip r:embed="rId1"/>
          <a:stretch/>
        </p:blipFill>
        <p:spPr>
          <a:xfrm>
            <a:off x="3059280" y="3971880"/>
            <a:ext cx="302544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D844-9921-491B-8524-FC2E3C0775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9"/>
          <p:cNvSpPr/>
          <p:nvPr/>
        </p:nvSpPr>
        <p:spPr>
          <a:xfrm>
            <a:off x="631800" y="479736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FR2002"/>
          <p:cNvPicPr/>
          <p:nvPr/>
        </p:nvPicPr>
        <p:blipFill>
          <a:blip r:embed="rId16"/>
          <a:srcRect l="0" t="0" r="4323" b="8008"/>
          <a:stretch/>
        </p:blipFill>
        <p:spPr>
          <a:xfrm>
            <a:off x="0" y="0"/>
            <a:ext cx="9540720" cy="6880320"/>
          </a:xfrm>
          <a:prstGeom prst="rect">
            <a:avLst/>
          </a:prstGeom>
          <a:ln w="0">
            <a:noFill/>
          </a:ln>
        </p:spPr>
      </p:pic>
      <p:sp>
        <p:nvSpPr>
          <p:cNvPr id="54" name="WordArt 3"/>
          <p:cNvSpPr txBox="1"/>
          <p:nvPr/>
        </p:nvSpPr>
        <p:spPr>
          <a:xfrm rot="21312600">
            <a:off x="1116000" y="404640"/>
            <a:ext cx="2620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prstDash val="lgDashDot"/>
                  <a:round/>
                </a:ln>
                <a:solidFill>
                  <a:srgbClr val="0000ff"/>
                </a:solidFill>
                <a:latin typeface="宋体"/>
              </a:rPr>
              <a:t>我的疑问</a:t>
            </a:r>
            <a:endParaRPr b="0" lang="en-US" sz="1800" spc="1" strike="noStrike">
              <a:ln w="9360">
                <a:solidFill>
                  <a:srgbClr val="0000ff"/>
                </a:solidFill>
                <a:prstDash val="lgDashDot"/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451680" y="3284640"/>
            <a:ext cx="16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故事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487320" y="4005360"/>
            <a:ext cx="365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把爱情这个抽象的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解释得生动形象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366920" y="170028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样一个世界闻名的教育家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他是用什么形式给女儿解释爱情的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FR4016"/>
          <p:cNvPicPr/>
          <p:nvPr/>
        </p:nvPicPr>
        <p:blipFill>
          <a:blip r:embed="rId1"/>
          <a:srcRect l="3924" t="0" r="3924" b="25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1432080" y="328680"/>
            <a:ext cx="17427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小思考</a:t>
            </a:r>
            <a:endParaRPr b="1" lang="en-US" sz="4400" spc="1" strike="noStrike">
              <a:ln w="12600">
                <a:solidFill>
                  <a:srgbClr val="000000"/>
                </a:solidFill>
                <a:round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128680" y="1936800"/>
            <a:ext cx="410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帝三次来到人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先后从人的眼睛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读到哪三种东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830600" y="2655720"/>
            <a:ext cx="22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爱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忠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灵的追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4455000" y="35067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２．在五十多年中，上帝三次到来，所见到的情景中，有一种东西一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没变过，那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242080" y="45147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－－眼睛中不变的美和力量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FR6061"/>
          <p:cNvPicPr/>
          <p:nvPr/>
        </p:nvPicPr>
        <p:blipFill>
          <a:blip r:embed="rId1"/>
          <a:srcRect l="2742" t="7657" r="6683" b="44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图片2"/>
          <p:cNvPicPr/>
          <p:nvPr/>
        </p:nvPicPr>
        <p:blipFill>
          <a:blip r:embed="rId2"/>
          <a:stretch/>
        </p:blipFill>
        <p:spPr>
          <a:xfrm>
            <a:off x="5435640" y="0"/>
            <a:ext cx="3708360" cy="2808360"/>
          </a:xfrm>
          <a:prstGeom prst="rect">
            <a:avLst/>
          </a:prstGeom>
          <a:ln w="0">
            <a:noFill/>
          </a:ln>
        </p:spPr>
      </p:pic>
      <p:sp>
        <p:nvSpPr>
          <p:cNvPr id="68" name="WordArt 11"/>
          <p:cNvSpPr txBox="1"/>
          <p:nvPr/>
        </p:nvSpPr>
        <p:spPr>
          <a:xfrm rot="21474600">
            <a:off x="1979280" y="981000"/>
            <a:ext cx="338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我来体验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2854800" y="3645000"/>
            <a:ext cx="408204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"/>
                <a:ea typeface="隶书"/>
              </a:rPr>
              <a:t>如此高傲的上帝竞深沉地思索着离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"/>
                <a:ea typeface="隶书"/>
              </a:rPr>
              <a:t>了，他在思索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"/>
          <p:cNvSpPr/>
          <p:nvPr/>
        </p:nvSpPr>
        <p:spPr>
          <a:xfrm>
            <a:off x="1114560" y="5603760"/>
            <a:ext cx="53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36"/>
          <p:cNvPicPr/>
          <p:nvPr/>
        </p:nvPicPr>
        <p:blipFill>
          <a:blip r:embed="rId1"/>
          <a:stretch/>
        </p:blipFill>
        <p:spPr>
          <a:xfrm>
            <a:off x="0" y="3646440"/>
            <a:ext cx="2717640" cy="3211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36"/>
          <p:cNvPicPr/>
          <p:nvPr/>
        </p:nvPicPr>
        <p:blipFill>
          <a:blip r:embed="rId2"/>
          <a:stretch/>
        </p:blipFill>
        <p:spPr>
          <a:xfrm rot="10800000">
            <a:off x="6300720" y="-360"/>
            <a:ext cx="2679840" cy="3166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349640" y="-1573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你对祖母的故事可有疑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534680" y="62064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ff"/>
                </a:solidFill>
                <a:latin typeface="Arial"/>
              </a:rPr>
              <a:t>１．为何要把这对男女的爱情放在五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ff"/>
                </a:solidFill>
                <a:latin typeface="Arial"/>
              </a:rPr>
              <a:t>多年的时间历程中去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537200" y="1700280"/>
            <a:ext cx="31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－－－说明真正的爱情是经得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时间的考验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601640" y="2852640"/>
            <a:ext cx="393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ff"/>
                </a:solidFill>
                <a:latin typeface="Arial"/>
              </a:rPr>
              <a:t>２．怎样理解“只有能以人的方式去爱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ff"/>
                </a:solidFill>
                <a:latin typeface="Arial"/>
              </a:rPr>
              <a:t>人，才成为真正的人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2124000" y="4076640"/>
            <a:ext cx="66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－－－这是人之为人，而不是动物的根本标志，人类的爱情不仅为繁衍后代，还要给对方以幸福，它包含“忠诚”“心灵的追念等人性的光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ak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WordArt 6"/>
          <p:cNvSpPr txBox="1"/>
          <p:nvPr/>
        </p:nvSpPr>
        <p:spPr>
          <a:xfrm>
            <a:off x="1692360" y="2421000"/>
            <a:ext cx="59040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说说你的爱情观</a:t>
            </a:r>
            <a:r>
              <a:rPr b="1" lang="en-US" sz="4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2362320" y="0"/>
            <a:ext cx="6568920" cy="66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6b79"/>
                </a:solidFill>
                <a:latin typeface="Verdana"/>
              </a:rPr>
              <a:t>              </a:t>
            </a:r>
            <a:r>
              <a:rPr b="1" lang="zh-CN" sz="3200" spc="-1" strike="noStrike">
                <a:solidFill>
                  <a:srgbClr val="080808"/>
                </a:solidFill>
                <a:latin typeface="Verdana"/>
                <a:ea typeface="PMingLiU"/>
              </a:rPr>
              <a:t>不能没有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Verdana"/>
              </a:rPr>
              <a:t>　　　　　　　　　　琼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当山峰没有棱角的时候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，当河水不再流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当时间停住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，日夜不分，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当天地万物化为虚有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我还是不能和你分手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，不能和你分手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你的温柔是我今生最大的守候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当太阳不再上升的时候，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当地球不再转动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当春夏秋冬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不再变化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，当花草树木全部凋残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我还是不能和你分散，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不能和你分散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80808"/>
                </a:solidFill>
                <a:latin typeface="Verdana"/>
              </a:rPr>
              <a:t>你的笑容是我今生最大的眷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2340000" y="476280"/>
            <a:ext cx="457200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汉乐府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上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　　　　上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　　　我欲与君相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　　　长命无绝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　　　山无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　　　江水为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　　　冬雷震震夏雨雪 </a:t>
            </a:r>
            <a:br>
              <a:rPr sz="3200"/>
            </a:b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　　　天地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　　　乃敢与君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未命名"/>
          <p:cNvPicPr/>
          <p:nvPr/>
        </p:nvPicPr>
        <p:blipFill>
          <a:blip r:embed="rId1"/>
          <a:srcRect l="0" t="0" r="60440" b="54382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60"/>
          <p:cNvPicPr/>
          <p:nvPr/>
        </p:nvPicPr>
        <p:blipFill>
          <a:blip r:embed="rId2"/>
          <a:srcRect l="12581" t="0" r="7677" b="0"/>
          <a:stretch/>
        </p:blipFill>
        <p:spPr>
          <a:xfrm>
            <a:off x="4788000" y="2997360"/>
            <a:ext cx="4105080" cy="3860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4437360" y="476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ff33"/>
                </a:solidFill>
                <a:latin typeface="Arial"/>
              </a:rPr>
              <a:t>怎样看待中学生的早恋现象？请谈谈自己的看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26:2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7:50Z</dcterms:modified>
  <cp:revision>5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