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gif" ContentType="image/gi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CA7-F9E3-4AD3-A02C-4CB2E723EB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3E86-2641-40DF-99DA-3FAD7051E4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6F8-45F8-4269-B786-EF147DB1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07C-17ED-4FB4-A205-9BF2CD5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0B4-B59F-4C35-98BE-A8C1B273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895-BDCA-4026-9912-4FB4501A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4B5-3493-46CD-AA3D-78242B0B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FA0-C119-43B1-AF0C-2E42D289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6AA-6815-4F42-A332-524A204C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C62-2DDC-43E8-84B9-B5C7A4F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C0D-26C3-497F-B4B8-81969D48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39B-7CDB-4CC3-AF28-50C960FF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8CC1-F91E-447C-A292-5C2F405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FAB-336B-41BC-A82B-6122D8DE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642C-7B4E-4054-BB8B-555BD0347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1197000"/>
            <a:ext cx="53989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</a:rPr>
              <a:t>中秋与重阳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49" name="矩形 8" descr=""/>
          <p:cNvPicPr/>
          <p:nvPr/>
        </p:nvPicPr>
        <p:blipFill>
          <a:blip r:embed="rId2"/>
          <a:stretch/>
        </p:blipFill>
        <p:spPr>
          <a:xfrm>
            <a:off x="1938240" y="594828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仿宋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"/>
              </a:rPr>
              <a:t>静 夜 思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床前明月光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疑是地上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举头望明月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低头思故乡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中 秋 月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宋）苏轼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暮云收尽溢清寒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银汉无声转玉盘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此生此夜不长好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明月明年何处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908000" y="1916280"/>
            <a:ext cx="525636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辨辨做做识月亮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457200" y="612612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"/>
              </a:rPr>
              <a:t>月亮为什么会发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月球本身不会发光，它就像一面镜子，是反射阳光才被我们看到的。月球作为一个整体反光很强哦。</a:t>
            </a:r>
            <a:r>
              <a:rPr b="0" lang="zh-CN" sz="44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"/>
                <a:ea typeface="楷体"/>
              </a:rPr>
              <a:t>为什么刚升起来的月亮特别大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楷体"/>
                <a:ea typeface="楷体"/>
              </a:rPr>
              <a:t>月亮刚升起来时，眼睛把月亮与地上的物体比较，就觉得月亮特别大。月亮升起来以后，眼睛把月亮与整个天空比较，就觉得月亮不大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245B-21A8-4408-9953-702C03F201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6"/>
          <p:cNvSpPr txBox="1"/>
          <p:nvPr/>
        </p:nvSpPr>
        <p:spPr>
          <a:xfrm>
            <a:off x="2556000" y="2205000"/>
            <a:ext cx="338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问我答知中秋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3348000" y="1268280"/>
            <a:ext cx="158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目录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2484360" y="3141720"/>
            <a:ext cx="3456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低吟浅唱颂月亮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2484360" y="4076640"/>
            <a:ext cx="3382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辨辨做做识月亮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2484360" y="5084640"/>
            <a:ext cx="3384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分享快乐送祝福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5"/>
          <p:cNvSpPr txBox="1"/>
          <p:nvPr/>
        </p:nvSpPr>
        <p:spPr>
          <a:xfrm>
            <a:off x="826920" y="1413000"/>
            <a:ext cx="511200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问我答知中秋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月饼"/>
          <p:cNvPicPr/>
          <p:nvPr/>
        </p:nvPicPr>
        <p:blipFill>
          <a:blip r:embed="rId2"/>
          <a:stretch/>
        </p:blipFill>
        <p:spPr>
          <a:xfrm rot="19939800">
            <a:off x="448920" y="1053720"/>
            <a:ext cx="3741840" cy="2857680"/>
          </a:xfrm>
          <a:prstGeom prst="rect">
            <a:avLst/>
          </a:prstGeom>
          <a:ln w="0">
            <a:noFill/>
          </a:ln>
        </p:spPr>
      </p:pic>
      <p:sp>
        <p:nvSpPr>
          <p:cNvPr id="58" name="WordArt 6"/>
          <p:cNvSpPr txBox="1"/>
          <p:nvPr/>
        </p:nvSpPr>
        <p:spPr>
          <a:xfrm>
            <a:off x="4140360" y="404640"/>
            <a:ext cx="41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发月饼啦！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59" name="儿童歌曲-爷爷为我打月饼.mp3" descr=""/>
          <p:cNvPicPr/>
          <p:nvPr/>
        </p:nvPicPr>
        <p:blipFill>
          <a:blip r:embed="rId3"/>
          <a:stretch/>
        </p:blipFill>
        <p:spPr>
          <a:xfrm>
            <a:off x="5508720" y="170028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508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7"/>
          <p:cNvSpPr/>
          <p:nvPr/>
        </p:nvSpPr>
        <p:spPr>
          <a:xfrm>
            <a:off x="6012000" y="6093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755640" y="981000"/>
            <a:ext cx="568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38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七嘴八舌说中秋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Arial"/>
                <a:ea typeface="楷体"/>
              </a:rPr>
              <a:t>中秋知识竞答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八月十五又称什么节？（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饼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团圆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故乡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元宵节和端午节与下面哪个节日并称为我国三大传统佳节？（  ）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节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重阳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秋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圣诞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典故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吴刚伐的是什么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槐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桂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柳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杨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月饼最初是用来做什么的？（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祭奉月神的祭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馈赠亲友的礼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节日食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方小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下哪个不是中秋节传说？（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嫦娥奔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吴刚伐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玉兔捣药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迎涛神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下哪个国家中秋节不吃月饼？（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本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大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中秋节又可以称为什么？（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仲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夕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追月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古代月圆和月缺一般形容什么？（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悲欢离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气的好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凶吉的象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身体是否健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"/>
          <p:cNvSpPr txBox="1"/>
          <p:nvPr/>
        </p:nvSpPr>
        <p:spPr>
          <a:xfrm rot="19176600">
            <a:off x="893880" y="1562040"/>
            <a:ext cx="46800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低吟浅唱颂月亮</a:t>
            </a:r>
            <a:endParaRPr b="1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8"/>
          <p:cNvPicPr/>
          <p:nvPr/>
        </p:nvPicPr>
        <p:blipFill>
          <a:blip r:embed="rId2"/>
          <a:stretch/>
        </p:blipFill>
        <p:spPr>
          <a:xfrm>
            <a:off x="7667640" y="5373720"/>
            <a:ext cx="1008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1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56Z</dcterms:modified>
  <cp:revision>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