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3.jpeg" ContentType="image/jpeg"/>
  <Override PartName="/ppt/media/image24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35A4-2399-4DB8-8464-FC6A664E8C0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6D48-CF86-403A-83E0-65621E2B54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7475-8F19-41C1-B650-8F51BD35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A6B-CC89-4AD7-A75D-251F7461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7F3-5871-421D-9E56-1AAF62E0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FC57-5166-433E-87F0-AD8AEBB1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C8F-7016-452A-8FCA-4129CED7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BD9-9707-4C9F-9A9D-03CE8CBD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CF43-7783-460A-BEAD-201E7474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EF2E-FD66-4AF7-9179-31199D8A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C5DF-94E6-4AD9-8776-E0910C88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DDA4-1470-4B00-B916-ED22F539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E80-0CA7-4F5C-BE86-4A281A3E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7F6-D157-476A-B521-0A2444F4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C67C-1EE1-4A7B-96E7-B227E80B0A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1522440"/>
            <a:ext cx="7850160" cy="2209680"/>
          </a:xfrm>
          <a:prstGeom prst="rect">
            <a:avLst/>
          </a:prstGeom>
          <a:noFill/>
          <a:ln w="0">
            <a:noFill/>
          </a:ln>
          <a:effectLst>
            <a:outerShdw dist="81185" dir="13121970" blurRad="0" rotWithShape="0">
              <a:srgbClr val="99ff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Times New Roman"/>
                <a:ea typeface="黑体"/>
              </a:rPr>
              <a:t>植 物 的 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560960" y="55767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215357235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09061609441667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09061609468415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09061609442345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1"/>
          <p:cNvSpPr/>
          <p:nvPr/>
        </p:nvSpPr>
        <p:spPr>
          <a:xfrm>
            <a:off x="2273400" y="368280"/>
            <a:ext cx="512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356000" y="1125360"/>
            <a:ext cx="259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课外延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771640" y="2278080"/>
            <a:ext cx="59756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查阅资料：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这些植物的叶为什么四季常绿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62"/>
          <p:cNvPicPr/>
          <p:nvPr/>
        </p:nvPicPr>
        <p:blipFill>
          <a:blip r:embed="rId1"/>
          <a:stretch/>
        </p:blipFill>
        <p:spPr>
          <a:xfrm>
            <a:off x="34920" y="1440"/>
            <a:ext cx="9075600" cy="68850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/>
          <p:cNvSpPr/>
          <p:nvPr/>
        </p:nvSpPr>
        <p:spPr>
          <a:xfrm>
            <a:off x="6372360" y="333360"/>
            <a:ext cx="2087280" cy="1800360"/>
          </a:xfrm>
          <a:prstGeom prst="smileyFace">
            <a:avLst>
              <a:gd name="adj" fmla="val 4653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2844720" y="2205000"/>
            <a:ext cx="5592960" cy="31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ff99cc"/>
                  </a:solidFill>
                  <a:round/>
                </a:ln>
                <a:solidFill>
                  <a:srgbClr val="ff00ff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楷体_GB2312"/>
              </a:rPr>
              <a:t>再见</a:t>
            </a:r>
            <a:endParaRPr b="1" lang="en-US" sz="9600" spc="1" strike="noStrike">
              <a:ln w="12600">
                <a:solidFill>
                  <a:srgbClr val="ff99cc"/>
                </a:solidFill>
                <a:round/>
              </a:ln>
              <a:solidFill>
                <a:srgbClr val="ff00ff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460A-8162-48E0-8342-426CA928B2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:/新建文件夹/材料/银杏叶.jpg银杏叶"/>
          <p:cNvPicPr/>
          <p:nvPr/>
        </p:nvPicPr>
        <p:blipFill>
          <a:blip r:embed="rId1"/>
          <a:stretch/>
        </p:blipFill>
        <p:spPr>
          <a:xfrm>
            <a:off x="5000760" y="333360"/>
            <a:ext cx="3751200" cy="266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3694162_223700013620_2"/>
          <p:cNvPicPr/>
          <p:nvPr/>
        </p:nvPicPr>
        <p:blipFill>
          <a:blip r:embed="rId2"/>
          <a:stretch/>
        </p:blipFill>
        <p:spPr>
          <a:xfrm>
            <a:off x="395280" y="3573360"/>
            <a:ext cx="3887640" cy="259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F:/新建文件夹/材料/竹叶.jpg竹叶"/>
          <p:cNvPicPr/>
          <p:nvPr/>
        </p:nvPicPr>
        <p:blipFill>
          <a:blip r:embed="rId3"/>
          <a:stretch/>
        </p:blipFill>
        <p:spPr>
          <a:xfrm>
            <a:off x="5006880" y="3646440"/>
            <a:ext cx="3816360" cy="252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F:/新建文件夹/材料/荷叶.jpg荷叶"/>
          <p:cNvPicPr/>
          <p:nvPr/>
        </p:nvPicPr>
        <p:blipFill>
          <a:blip r:embed="rId4"/>
          <a:stretch/>
        </p:blipFill>
        <p:spPr>
          <a:xfrm>
            <a:off x="395280" y="260280"/>
            <a:ext cx="3890880" cy="2737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763640" y="2781360"/>
            <a:ext cx="1513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荷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763640" y="6021360"/>
            <a:ext cx="10098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300720" y="6021360"/>
            <a:ext cx="1008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竹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516720" y="30700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银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04"/>
          <p:cNvPicPr/>
          <p:nvPr/>
        </p:nvPicPr>
        <p:blipFill>
          <a:blip r:embed="rId2"/>
          <a:stretch/>
        </p:blipFill>
        <p:spPr>
          <a:xfrm>
            <a:off x="0" y="1165320"/>
            <a:ext cx="9144000" cy="5112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332000" y="836640"/>
            <a:ext cx="514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帮叶子宝宝找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50920" y="1916280"/>
            <a:ext cx="8893080" cy="33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完成任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你们小组共有几片树叶宝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共有几种树叶？为什么这么分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你觉得（  ）和（   ）是同种的，因为（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47"/>
          <p:cNvSpPr/>
          <p:nvPr/>
        </p:nvSpPr>
        <p:spPr>
          <a:xfrm>
            <a:off x="5537160" y="42451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67668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7148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71484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657600" y="571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%CA%F7%D2%B6%CD%BC%C6%AC%C8%FE%C1%E3"/>
          <p:cNvPicPr/>
          <p:nvPr/>
        </p:nvPicPr>
        <p:blipFill>
          <a:blip r:embed="rId2"/>
          <a:stretch/>
        </p:blipFill>
        <p:spPr>
          <a:xfrm>
            <a:off x="0" y="3860640"/>
            <a:ext cx="2808360" cy="2695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0009"/>
          <p:cNvPicPr/>
          <p:nvPr/>
        </p:nvPicPr>
        <p:blipFill>
          <a:blip r:embed="rId3"/>
          <a:stretch/>
        </p:blipFill>
        <p:spPr>
          <a:xfrm>
            <a:off x="2268360" y="4149720"/>
            <a:ext cx="2160720" cy="1693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72915e0b43f4743a94ca6be2"/>
          <p:cNvPicPr/>
          <p:nvPr/>
        </p:nvPicPr>
        <p:blipFill>
          <a:blip r:embed="rId4"/>
          <a:stretch/>
        </p:blipFill>
        <p:spPr>
          <a:xfrm>
            <a:off x="6156360" y="3213000"/>
            <a:ext cx="2952720" cy="3240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324000" y="1628640"/>
            <a:ext cx="792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一篇完整的叶子宝宝说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我们都有相同的结构就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……”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小朋友们能猜猜看小树叶都说了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619280" y="333360"/>
            <a:ext cx="259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自我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04"/>
          <p:cNvPicPr/>
          <p:nvPr/>
        </p:nvPicPr>
        <p:blipFill>
          <a:blip r:embed="rId5"/>
          <a:stretch/>
        </p:blipFill>
        <p:spPr>
          <a:xfrm>
            <a:off x="0" y="1197000"/>
            <a:ext cx="9144000" cy="51120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12"/>
          <p:cNvGrpSpPr/>
          <p:nvPr/>
        </p:nvGrpSpPr>
        <p:grpSpPr>
          <a:xfrm>
            <a:off x="555120" y="5875560"/>
            <a:ext cx="656280" cy="678960"/>
            <a:chOff x="555120" y="5875560"/>
            <a:chExt cx="656280" cy="678960"/>
          </a:xfrm>
        </p:grpSpPr>
        <p:sp>
          <p:nvSpPr>
            <p:cNvPr id="73" name="Line 13"/>
            <p:cNvSpPr/>
            <p:nvPr/>
          </p:nvSpPr>
          <p:spPr>
            <a:xfrm>
              <a:off x="555120" y="5981760"/>
              <a:ext cx="234720" cy="204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4"/>
            <p:cNvSpPr/>
            <p:nvPr/>
          </p:nvSpPr>
          <p:spPr>
            <a:xfrm>
              <a:off x="664920" y="5875560"/>
              <a:ext cx="54648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叶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15" descr="232_5954"/>
          <p:cNvPicPr/>
          <p:nvPr/>
        </p:nvPicPr>
        <p:blipFill>
          <a:blip r:embed="rId6"/>
          <a:stretch/>
        </p:blipFill>
        <p:spPr>
          <a:xfrm>
            <a:off x="4284720" y="3573360"/>
            <a:ext cx="3240000" cy="295128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16"/>
          <p:cNvGrpSpPr/>
          <p:nvPr/>
        </p:nvGrpSpPr>
        <p:grpSpPr>
          <a:xfrm>
            <a:off x="3348000" y="5589720"/>
            <a:ext cx="1152000" cy="863640"/>
            <a:chOff x="3348000" y="5589720"/>
            <a:chExt cx="1152000" cy="863640"/>
          </a:xfrm>
        </p:grpSpPr>
        <p:grpSp>
          <p:nvGrpSpPr>
            <p:cNvPr id="77" name="Group 17"/>
            <p:cNvGrpSpPr/>
            <p:nvPr/>
          </p:nvGrpSpPr>
          <p:grpSpPr>
            <a:xfrm>
              <a:off x="3924360" y="5589720"/>
              <a:ext cx="575640" cy="863640"/>
              <a:chOff x="3924360" y="5589720"/>
              <a:chExt cx="575640" cy="863640"/>
            </a:xfrm>
          </p:grpSpPr>
          <p:sp>
            <p:nvSpPr>
              <p:cNvPr id="78" name="Line 18"/>
              <p:cNvSpPr/>
              <p:nvPr/>
            </p:nvSpPr>
            <p:spPr>
              <a:xfrm>
                <a:off x="4089240" y="6247080"/>
                <a:ext cx="410760" cy="206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9"/>
              <p:cNvSpPr/>
              <p:nvPr/>
            </p:nvSpPr>
            <p:spPr>
              <a:xfrm flipH="1">
                <a:off x="3924360" y="5589720"/>
                <a:ext cx="360000" cy="3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Rectangle 20"/>
            <p:cNvSpPr/>
            <p:nvPr/>
          </p:nvSpPr>
          <p:spPr>
            <a:xfrm>
              <a:off x="3348000" y="5659920"/>
              <a:ext cx="93492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叶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21"/>
          <p:cNvGrpSpPr/>
          <p:nvPr/>
        </p:nvGrpSpPr>
        <p:grpSpPr>
          <a:xfrm>
            <a:off x="6445080" y="5948640"/>
            <a:ext cx="1030680" cy="678960"/>
            <a:chOff x="6445080" y="5948640"/>
            <a:chExt cx="1030680" cy="678960"/>
          </a:xfrm>
        </p:grpSpPr>
        <p:sp>
          <p:nvSpPr>
            <p:cNvPr id="82" name="Line 22"/>
            <p:cNvSpPr/>
            <p:nvPr/>
          </p:nvSpPr>
          <p:spPr>
            <a:xfrm>
              <a:off x="6445080" y="5950080"/>
              <a:ext cx="286920" cy="360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3"/>
            <p:cNvSpPr/>
            <p:nvPr/>
          </p:nvSpPr>
          <p:spPr>
            <a:xfrm>
              <a:off x="6929280" y="5948640"/>
              <a:ext cx="54648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叶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249120" y="3629520"/>
            <a:ext cx="797040" cy="1094400"/>
            <a:chOff x="249120" y="3629520"/>
            <a:chExt cx="797040" cy="1094400"/>
          </a:xfrm>
        </p:grpSpPr>
        <p:sp>
          <p:nvSpPr>
            <p:cNvPr id="85" name="Line 25"/>
            <p:cNvSpPr/>
            <p:nvPr/>
          </p:nvSpPr>
          <p:spPr>
            <a:xfrm flipH="1" flipV="1">
              <a:off x="610560" y="429228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6"/>
            <p:cNvSpPr/>
            <p:nvPr/>
          </p:nvSpPr>
          <p:spPr>
            <a:xfrm>
              <a:off x="249120" y="3629520"/>
              <a:ext cx="7970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叶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7"/>
          <p:cNvGrpSpPr/>
          <p:nvPr/>
        </p:nvGrpSpPr>
        <p:grpSpPr>
          <a:xfrm>
            <a:off x="8244000" y="2464920"/>
            <a:ext cx="796680" cy="1320840"/>
            <a:chOff x="8244000" y="2464920"/>
            <a:chExt cx="796680" cy="1320840"/>
          </a:xfrm>
        </p:grpSpPr>
        <p:sp>
          <p:nvSpPr>
            <p:cNvPr id="88" name="Line 28"/>
            <p:cNvSpPr/>
            <p:nvPr/>
          </p:nvSpPr>
          <p:spPr>
            <a:xfrm flipV="1">
              <a:off x="8485200" y="3230280"/>
              <a:ext cx="87480" cy="555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8244000" y="2464920"/>
              <a:ext cx="79668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叶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30"/>
          <p:cNvGrpSpPr/>
          <p:nvPr/>
        </p:nvGrpSpPr>
        <p:grpSpPr>
          <a:xfrm>
            <a:off x="3564000" y="3499200"/>
            <a:ext cx="1876320" cy="1094400"/>
            <a:chOff x="3564000" y="3499200"/>
            <a:chExt cx="1876320" cy="1094400"/>
          </a:xfrm>
        </p:grpSpPr>
        <p:grpSp>
          <p:nvGrpSpPr>
            <p:cNvPr id="91" name="Group 31"/>
            <p:cNvGrpSpPr/>
            <p:nvPr/>
          </p:nvGrpSpPr>
          <p:grpSpPr>
            <a:xfrm>
              <a:off x="4643640" y="3499200"/>
              <a:ext cx="796680" cy="1094400"/>
              <a:chOff x="4643640" y="3499200"/>
              <a:chExt cx="796680" cy="1094400"/>
            </a:xfrm>
          </p:grpSpPr>
          <p:sp>
            <p:nvSpPr>
              <p:cNvPr id="92" name="Line 32"/>
              <p:cNvSpPr/>
              <p:nvPr/>
            </p:nvSpPr>
            <p:spPr>
              <a:xfrm flipH="1" flipV="1">
                <a:off x="5005080" y="4161960"/>
                <a:ext cx="360000" cy="431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33"/>
              <p:cNvSpPr/>
              <p:nvPr/>
            </p:nvSpPr>
            <p:spPr>
              <a:xfrm>
                <a:off x="4643640" y="3499200"/>
                <a:ext cx="796680" cy="67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6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叶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Line 34"/>
            <p:cNvSpPr/>
            <p:nvPr/>
          </p:nvSpPr>
          <p:spPr>
            <a:xfrm flipV="1">
              <a:off x="3564000" y="4005000"/>
              <a:ext cx="1008000" cy="503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35"/>
          <p:cNvSpPr/>
          <p:nvPr/>
        </p:nvSpPr>
        <p:spPr>
          <a:xfrm>
            <a:off x="2916360" y="4078440"/>
            <a:ext cx="217440" cy="6458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6"/>
          <p:cNvSpPr/>
          <p:nvPr/>
        </p:nvSpPr>
        <p:spPr>
          <a:xfrm flipH="1">
            <a:off x="5580000" y="3789360"/>
            <a:ext cx="1656000" cy="14400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>
            <a:off x="7524720" y="3860640"/>
            <a:ext cx="73080" cy="10098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8"/>
          <p:cNvSpPr/>
          <p:nvPr/>
        </p:nvSpPr>
        <p:spPr>
          <a:xfrm flipH="1">
            <a:off x="1044720" y="4078440"/>
            <a:ext cx="1295280" cy="12236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9"/>
          <p:cNvSpPr/>
          <p:nvPr/>
        </p:nvSpPr>
        <p:spPr>
          <a:xfrm>
            <a:off x="2195640" y="3645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叶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0"/>
          <p:cNvSpPr/>
          <p:nvPr/>
        </p:nvSpPr>
        <p:spPr>
          <a:xfrm>
            <a:off x="7093080" y="342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叶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1"/>
          <p:cNvSpPr/>
          <p:nvPr/>
        </p:nvSpPr>
        <p:spPr>
          <a:xfrm>
            <a:off x="2195640" y="6022800"/>
            <a:ext cx="576000" cy="216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2"/>
          <p:cNvSpPr/>
          <p:nvPr/>
        </p:nvSpPr>
        <p:spPr>
          <a:xfrm flipH="1">
            <a:off x="3060360" y="5661000"/>
            <a:ext cx="431640" cy="577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3"/>
          <p:cNvSpPr/>
          <p:nvPr/>
        </p:nvSpPr>
        <p:spPr>
          <a:xfrm>
            <a:off x="6589800" y="5518080"/>
            <a:ext cx="1295280" cy="720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4"/>
          <p:cNvSpPr/>
          <p:nvPr/>
        </p:nvSpPr>
        <p:spPr>
          <a:xfrm flipH="1">
            <a:off x="7956720" y="5807160"/>
            <a:ext cx="863280" cy="431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5"/>
          <p:cNvSpPr/>
          <p:nvPr/>
        </p:nvSpPr>
        <p:spPr>
          <a:xfrm>
            <a:off x="2484360" y="6238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叶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6"/>
          <p:cNvSpPr/>
          <p:nvPr/>
        </p:nvSpPr>
        <p:spPr>
          <a:xfrm>
            <a:off x="7585200" y="619128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叶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W020070605386105054115"/>
          <p:cNvPicPr/>
          <p:nvPr/>
        </p:nvPicPr>
        <p:blipFill>
          <a:blip r:embed="rId1"/>
          <a:stretch/>
        </p:blipFill>
        <p:spPr>
          <a:xfrm>
            <a:off x="250920" y="62064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1619280" y="1628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在树上新鲜的叶和落叶有什么不同的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20076518222895_2"/>
          <p:cNvPicPr/>
          <p:nvPr/>
        </p:nvPicPr>
        <p:blipFill>
          <a:blip r:embed="rId2"/>
          <a:stretch/>
        </p:blipFill>
        <p:spPr>
          <a:xfrm>
            <a:off x="395280" y="2781360"/>
            <a:ext cx="3095640" cy="26431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508720" y="57340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新鲜的叶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17-TRD014TA5360"/>
          <p:cNvPicPr/>
          <p:nvPr/>
        </p:nvPicPr>
        <p:blipFill>
          <a:blip r:embed="rId3"/>
          <a:stretch/>
        </p:blipFill>
        <p:spPr>
          <a:xfrm>
            <a:off x="5076720" y="2855880"/>
            <a:ext cx="3095640" cy="2948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1044720" y="5734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落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04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112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533520" y="4572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0" y="2924280"/>
            <a:ext cx="8964720" cy="35258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218120" y="620640"/>
            <a:ext cx="637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观察一条枝条上的树叶宝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116000" y="1773360"/>
            <a:ext cx="7129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一片叶的生长过程是怎样的？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539640" y="47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叶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042920" y="4797360"/>
            <a:ext cx="2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426680" y="4797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910520" y="4797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2218680" y="4797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嫩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2627280" y="479736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3103920" y="479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成熟的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3853800" y="4869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4287240" y="4781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老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4790520" y="4724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6520680" y="4729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7259040" y="47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落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5292720" y="4726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衰老的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2610383160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810437514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2:03:2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1:09Z</dcterms:modified>
  <cp:revision>2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