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6521e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ECD1-6710-49E5-8B8D-20564AB4EC09}" type="slidenum">
              <a:rPr b="1" lang="zh-CN" sz="1200" spc="-1" strike="noStrike">
                <a:solidFill>
                  <a:srgbClr val="06521e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0DE5-48DB-43C1-9CE6-F581E9C47233}" type="slidenum">
              <a:rPr b="1" lang="zh-CN" sz="1200" spc="-1" strike="noStrike">
                <a:solidFill>
                  <a:srgbClr val="06521e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8F7-9D0F-49D9-91A7-0BB08673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7FE-5660-45B4-B206-C2680398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12F-472E-4385-B0AA-417668E8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D83-740E-48CB-9EC3-B5844D3E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8C0-45DF-4544-B7A0-B691DBB4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935-6A93-4E7B-A148-88CBA84E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A27-4BC5-4A52-836E-DC08E60A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159-62D6-4520-B4D0-E8398103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E1B-24B4-440A-B390-79FA88D3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5B0-2FE5-4E76-9A7A-69FDC5E9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67C-6371-483F-804D-3BE93D86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AF1-AAD2-4DDD-BBCD-45CE4F43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D3F2-E811-4973-A945-783F4D9171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539640" y="2205000"/>
            <a:ext cx="8136000" cy="14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-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微软雅黑"/>
              </a:rPr>
              <a:t>植物发生了什么变化</a:t>
            </a:r>
            <a:endParaRPr b="1" lang="en-US" sz="96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95160" y="54612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教科版 三年级科学上册</a:t>
            </a:r>
            <a:endParaRPr b="1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86192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00FB-6112-4F8D-9F7B-2E5FD771068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5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52" name="Oval 5"/>
          <p:cNvSpPr/>
          <p:nvPr/>
        </p:nvSpPr>
        <p:spPr>
          <a:xfrm>
            <a:off x="179280" y="404640"/>
            <a:ext cx="4211640" cy="4292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53" name="Oval 6"/>
          <p:cNvSpPr/>
          <p:nvPr/>
        </p:nvSpPr>
        <p:spPr>
          <a:xfrm>
            <a:off x="4500720" y="2421000"/>
            <a:ext cx="4032000" cy="4437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427640" y="549360"/>
            <a:ext cx="439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哪张是春天里的树？</a:t>
            </a:r>
            <a:endParaRPr b="1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55" name="文本框 1"/>
          <p:cNvSpPr/>
          <p:nvPr/>
        </p:nvSpPr>
        <p:spPr>
          <a:xfrm>
            <a:off x="179280" y="6137280"/>
            <a:ext cx="68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6521e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6521e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6521e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6521e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192640" y="722160"/>
            <a:ext cx="514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小组讨论</a:t>
            </a:r>
            <a:endParaRPr b="1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50920" y="2106720"/>
            <a:ext cx="889308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讨论任务：</a:t>
            </a:r>
            <a:endParaRPr b="1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植物在哪些方面发生了变化呢？</a:t>
            </a:r>
            <a:endParaRPr b="1" lang="en-US" sz="2800" spc="-1" strike="noStrike">
              <a:solidFill>
                <a:srgbClr val="06521e"/>
              </a:solidFill>
              <a:latin typeface="楷体_GB2312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我们应该怎样来观察植物的这些变化呢？怎样测量这四张大小不一的树叶？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你想怎么样观察茶花的花苞？</a:t>
            </a:r>
            <a:endParaRPr b="1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04"/>
          <p:cNvPicPr/>
          <p:nvPr/>
        </p:nvPicPr>
        <p:blipFill>
          <a:blip r:embed="rId1"/>
          <a:stretch/>
        </p:blipFill>
        <p:spPr>
          <a:xfrm>
            <a:off x="0" y="1165320"/>
            <a:ext cx="9144000" cy="511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255920" y="650880"/>
            <a:ext cx="514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观察要求任务</a:t>
            </a:r>
            <a:endParaRPr b="1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24000" y="1995480"/>
            <a:ext cx="835164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宋体"/>
              </a:rPr>
              <a:t>）测一条树枝上的最大叶与最小叶、中间叶的长度和宽度。</a:t>
            </a:r>
            <a:endParaRPr b="1" lang="en-US" sz="2600" spc="-1" strike="noStrike">
              <a:solidFill>
                <a:srgbClr val="06521e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宋体"/>
              </a:rPr>
              <a:t>）测量树干的粗细，连测三次，取平均数</a:t>
            </a:r>
            <a:endParaRPr b="1" lang="en-US" sz="2600" spc="-1" strike="noStrike">
              <a:solidFill>
                <a:srgbClr val="06521e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宋体"/>
              </a:rPr>
              <a:t>）数一数落叶有多少？</a:t>
            </a:r>
            <a:endParaRPr b="1" lang="en-US" sz="2600" spc="-1" strike="noStrike">
              <a:solidFill>
                <a:srgbClr val="06521e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宋体"/>
              </a:rPr>
              <a:t>）完成前面的同学，可以再观察和测量自己喜欢的？</a:t>
            </a:r>
            <a:endParaRPr b="1" lang="en-US" sz="2600" spc="-1" strike="noStrike">
              <a:solidFill>
                <a:srgbClr val="06521e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宋体"/>
              </a:rPr>
              <a:t>）注意事项：安全、及时记录</a:t>
            </a:r>
            <a:endParaRPr b="1" lang="en-US" sz="2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3"/>
          <p:cNvSpPr txBox="1"/>
          <p:nvPr/>
        </p:nvSpPr>
        <p:spPr>
          <a:xfrm rot="5400000">
            <a:off x="342360" y="647640"/>
            <a:ext cx="18288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畅</a:t>
            </a:r>
            <a:endParaRPr b="1" lang="en-US" sz="3600" spc="-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WordArt 4"/>
          <p:cNvSpPr txBox="1"/>
          <p:nvPr/>
        </p:nvSpPr>
        <p:spPr>
          <a:xfrm rot="5400000">
            <a:off x="2133360" y="609120"/>
            <a:ext cx="160020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13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所</a:t>
            </a:r>
            <a:endParaRPr b="1" lang="en-US" sz="3600" spc="-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WordArt 5"/>
          <p:cNvSpPr txBox="1"/>
          <p:nvPr/>
        </p:nvSpPr>
        <p:spPr>
          <a:xfrm rot="5400000">
            <a:off x="1447560" y="2590560"/>
            <a:ext cx="1600200" cy="1752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欲</a:t>
            </a:r>
            <a:endParaRPr b="1" lang="en-US" sz="3600" spc="-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WordArt 6"/>
          <p:cNvSpPr txBox="1"/>
          <p:nvPr/>
        </p:nvSpPr>
        <p:spPr>
          <a:xfrm rot="5400000">
            <a:off x="3238200" y="2628720"/>
            <a:ext cx="160020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言</a:t>
            </a:r>
            <a:endParaRPr b="1" lang="en-US" sz="3600" spc="-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WordArt 7"/>
          <p:cNvSpPr txBox="1"/>
          <p:nvPr/>
        </p:nvSpPr>
        <p:spPr>
          <a:xfrm rot="5400000">
            <a:off x="3238560" y="4762440"/>
            <a:ext cx="99072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之</a:t>
            </a:r>
            <a:endParaRPr b="1" lang="en-US" sz="3600" spc="-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191120" y="5105520"/>
            <a:ext cx="4724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交流自己的发现</a:t>
            </a:r>
            <a:endParaRPr b="1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67" name="WordArt 9" descr=""/>
          <p:cNvPicPr/>
          <p:nvPr/>
        </p:nvPicPr>
        <p:blipFill>
          <a:blip r:embed="rId1"/>
          <a:stretch/>
        </p:blipFill>
        <p:spPr>
          <a:xfrm>
            <a:off x="4800600" y="2603520"/>
            <a:ext cx="289548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04"/>
          <p:cNvPicPr/>
          <p:nvPr/>
        </p:nvPicPr>
        <p:blipFill>
          <a:blip r:embed="rId1"/>
          <a:stretch/>
        </p:blipFill>
        <p:spPr>
          <a:xfrm>
            <a:off x="0" y="1165320"/>
            <a:ext cx="9144000" cy="511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5724360" y="650880"/>
            <a:ext cx="514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解决问题</a:t>
            </a:r>
            <a:endParaRPr b="1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47640" y="2084400"/>
            <a:ext cx="8893080" cy="34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落叶的数量说明了什么？ </a:t>
            </a:r>
            <a:endParaRPr b="1" lang="en-US" sz="3200" spc="-1" strike="noStrike">
              <a:solidFill>
                <a:srgbClr val="06521e"/>
              </a:solidFill>
              <a:latin typeface="楷体_GB2312"/>
            </a:endParaRPr>
          </a:p>
          <a:p>
            <a:pPr algn="just">
              <a:lnSpc>
                <a:spcPct val="2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树叶的大小变化，说明了什么？ </a:t>
            </a:r>
            <a:endParaRPr b="1" lang="en-US" sz="3200" spc="-1" strike="noStrike">
              <a:solidFill>
                <a:srgbClr val="06521e"/>
              </a:solidFill>
              <a:latin typeface="楷体_GB2312"/>
            </a:endParaRPr>
          </a:p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树干的粗细说明什么？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553440" cy="4824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1187280" y="5228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这棵树在一年四季中的变化，</a:t>
            </a:r>
            <a:endParaRPr b="1" lang="en-US" sz="32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说一说有些什么变化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116000" y="836640"/>
            <a:ext cx="316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课外延伸</a:t>
            </a:r>
            <a:endParaRPr b="1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98440" y="105264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记录一种植物的变化情况 </a:t>
            </a:r>
            <a:endParaRPr b="1" lang="en-US" sz="2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楷体_GB2312"/>
              </a:rPr>
              <a:t>   </a:t>
            </a:r>
            <a:r>
              <a:rPr b="1" lang="zh-CN" sz="2500" spc="-1" strike="noStrike">
                <a:solidFill>
                  <a:srgbClr val="0000ff"/>
                </a:solidFill>
                <a:latin typeface="楷体_GB2312"/>
              </a:rPr>
              <a:t>一直观察你所选择的那棵树或草，观察它们在秋冬季</a:t>
            </a:r>
            <a:endParaRPr b="1" lang="en-US" sz="25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楷体_GB2312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楷体_GB2312"/>
              </a:rPr>
              <a:t>的变化，一个月观察一次，把观察的结果记录在</a:t>
            </a:r>
            <a:r>
              <a:rPr b="1" lang="zh-CN" sz="2500" spc="-1" strike="noStrike" u="sng">
                <a:solidFill>
                  <a:srgbClr val="009999"/>
                </a:solidFill>
                <a:uFillTx/>
                <a:latin typeface="楷体_GB2312"/>
                <a:hlinkClick r:id="rId1" action="ppaction://hlinksldjump"/>
              </a:rPr>
              <a:t>表中</a:t>
            </a:r>
            <a:r>
              <a:rPr b="1" lang="zh-CN" sz="2500" spc="-1" strike="noStrike">
                <a:solidFill>
                  <a:srgbClr val="0000ff"/>
                </a:solidFill>
                <a:latin typeface="楷体_GB2312"/>
              </a:rPr>
              <a:t>。</a:t>
            </a:r>
            <a:endParaRPr b="1" lang="en-US" sz="25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准备下节课的材料： </a:t>
            </a:r>
            <a:endParaRPr b="1" lang="en-US" sz="2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记录本</a:t>
            </a:r>
            <a:endParaRPr b="1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3029760" y="611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记录表</a:t>
            </a:r>
            <a:endParaRPr b="1" lang="en-US" sz="2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76" name="Rectangle 34"/>
          <p:cNvSpPr/>
          <p:nvPr/>
        </p:nvSpPr>
        <p:spPr>
          <a:xfrm>
            <a:off x="909720" y="-3618000"/>
            <a:ext cx="67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77" name="Rectangle 42"/>
          <p:cNvSpPr/>
          <p:nvPr/>
        </p:nvSpPr>
        <p:spPr>
          <a:xfrm>
            <a:off x="909720" y="-3618000"/>
            <a:ext cx="67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2200" y="1341360"/>
          <a:ext cx="8497800" cy="4867200"/>
        </p:xfrm>
        <a:graphic>
          <a:graphicData uri="http://schemas.openxmlformats.org/drawingml/2006/table">
            <a:tbl>
              <a:tblPr/>
              <a:tblGrid>
                <a:gridCol w="1584360"/>
                <a:gridCol w="865080"/>
                <a:gridCol w="873360"/>
                <a:gridCol w="1035000"/>
                <a:gridCol w="1187280"/>
                <a:gridCol w="884160"/>
                <a:gridCol w="1033560"/>
                <a:gridCol w="1035000"/>
              </a:tblGrid>
              <a:tr h="487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树干</a:t>
                      </a: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树冠</a:t>
                      </a: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叶子</a:t>
                      </a: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其他</a:t>
                      </a: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粗细</a:t>
                      </a: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树皮</a:t>
                      </a: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落叶数</a:t>
                      </a: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颜色</a:t>
                      </a: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小</a:t>
                      </a: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  日</a:t>
                      </a: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  日</a:t>
                      </a: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  日</a:t>
                      </a: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  日</a:t>
                      </a: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  日</a:t>
                      </a: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4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我的发现</a:t>
                      </a:r>
                      <a:endParaRPr b="1" lang="en-US" sz="24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6521e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Text Box 412"/>
          <p:cNvSpPr/>
          <p:nvPr/>
        </p:nvSpPr>
        <p:spPr>
          <a:xfrm>
            <a:off x="250920" y="44280"/>
            <a:ext cx="2663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观察记录单</a:t>
            </a:r>
            <a:endParaRPr b="1" lang="en-US" sz="2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2:03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9:44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