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6.png" ContentType="image/png"/>
  <Override PartName="/ppt/media/image3.gif" ContentType="image/gif"/>
  <Override PartName="/ppt/media/image21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9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EA61-9973-4598-BC6F-83E97575DB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A218-9BC4-4782-9030-786364BC75F4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D28-7FCF-43CC-8E0E-1403CE0E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530-67B7-40C2-A364-92924A33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308-E29B-41B8-98AF-94D31DA3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8DD-EA76-46F6-8192-C5F6A6CB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8609-3542-4AD9-AE62-731985DC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A22D-36FB-4944-9530-A5E57E87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C6AE-65DE-4952-B746-B6CD4BF8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A11F-4299-4F92-ABF7-156E2242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1735-A774-4C7E-931D-594183A1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89440"/>
            <a:ext cx="82296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72A7-15C3-4E73-92C7-CB0F5103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2261-F7A2-45D9-A763-BAA38A7E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196-B69F-487B-AA39-48D3D2AC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470D-5DA8-4978-95B0-4E1189FE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A2F6-FFB9-4E5C-A0AE-3B0AB0B1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62F7-35EF-4852-A34B-31D47F05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2E5A-07E3-48D3-9613-6398880B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E9BB-1DAC-47C9-B409-F772FE0C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55D8-C477-4171-ACED-D40CB960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94710-DF83-43C3-A0D8-46F7F40B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B9ECD-9EC1-4BEF-AA64-A9EE3769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6C0B6-BC61-4CB6-8440-9089041B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245C3-4687-4107-8386-8FDDA8F4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615-350B-40FA-AB5A-CF290635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289440"/>
            <a:ext cx="82296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F529D-8265-4F4F-A138-C59C5FC3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1BD3A-C18D-4B55-BEB3-30B64855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60E41-A799-4BDD-B0B3-E20E4FE5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E9A29-C336-4E01-AC8E-43878192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62C14-9F75-4013-A0EF-75F266EF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59A76-FE36-44C8-BC8F-41AA3214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080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33240" y="119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36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080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33240" y="371808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B095D-FE8B-44A0-83FE-E0988FAC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787-2204-4D9D-BD26-704F2041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03D-C45E-4C8E-A1A9-0866EEFA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89440"/>
            <a:ext cx="82296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11A-0701-456B-A1A0-D967A63D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C6F-47C4-4471-9790-A6214D06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71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DAC-83BB-4D73-98BB-F9ABE0DF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19808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71808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C41-0DA7-4118-9EA1-64933687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64C8-E103-46EF-83FE-E92E9AE413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6098-9173-4A52-831C-002376C5F0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F7BE-90FA-42D0-99DC-2645760649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19440" y="981000"/>
            <a:ext cx="916308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2673"/>
                </a:solidFill>
                <a:latin typeface="华文行楷"/>
                <a:ea typeface="华文行楷"/>
              </a:rPr>
              <a:t>第六课  终身受益的权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09200" y="2409840"/>
            <a:ext cx="77043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73"/>
                </a:solidFill>
                <a:latin typeface="宋体"/>
                <a:ea typeface="宋体"/>
              </a:rPr>
              <a:t>第二框  珍惜学习机会课件</a:t>
            </a:r>
            <a:r>
              <a:rPr b="1" lang="en-US" sz="4000" spc="-1" strike="noStrike">
                <a:solidFill>
                  <a:srgbClr val="262673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262673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29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履行受教育义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图片1"/>
          <p:cNvPicPr/>
          <p:nvPr/>
        </p:nvPicPr>
        <p:blipFill>
          <a:blip r:embed="rId1"/>
          <a:stretch/>
        </p:blipFill>
        <p:spPr>
          <a:xfrm>
            <a:off x="6156360" y="5734080"/>
            <a:ext cx="866880" cy="866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719280" y="1257480"/>
            <a:ext cx="68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一）受教育机会来之不易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58720" y="2208240"/>
            <a:ext cx="790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旧中国，只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学龄儿童能够入学读书。贫困的放牛娃走过学堂时，对少数富人子弟上学、读书羡慕至极。许多革命前辈在马背上、战壕里看书，甚至在狱中苦读，补偿失去的学习机会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95280" y="40608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改革开放以来，国家在财政比较紧张的情况下，努力增加教育经费投入。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07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，全国教育经费为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148.07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亿元，比上年的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815.3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亿元增长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3.77%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其中，国家财政性教育经费（包括各级财政对教育的拨款、教育费附加、企业办学中的企业拨款以及校办产业减免税等项）为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280.2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亿元，比上年的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348.3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亿元增长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.43%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位学生家长，自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9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起，辗转近十个城市、擦了几年皮鞋，供女儿和儿子读完大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从上述材料中感悟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828720" y="1917720"/>
            <a:ext cx="7416720" cy="3022560"/>
          </a:xfrm>
          <a:prstGeom prst="roundRect">
            <a:avLst>
              <a:gd name="adj" fmla="val 16667"/>
            </a:avLst>
          </a:prstGeom>
          <a:solidFill>
            <a:srgbClr val="66b2fe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受教育机会来之不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们要珍惜受教育的机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履行受教育义务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为中华民族的腾飞而努力学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二）如何履行受教育义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68360" y="1486080"/>
            <a:ext cx="7920000" cy="48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为正在接受九年义务教育的学生，履行受教育的义务。最主要的有三项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一：认真履行按时入学的义务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二：认真履行接受规定年限的义务教育的义务，不得中途辍学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三：认真履行遵守法律和学校纪律，尊敬师长，努力完成规定的学习任务的义务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07640" y="1411920"/>
            <a:ext cx="669636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假如遇到下列问题，你打算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7705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上课走神儿，受到老师的批评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做作业时，遇到疑难问题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上自己不大喜欢的课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考试成绩不理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763640" y="18900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b2fe"/>
                </a:solidFill>
                <a:latin typeface="Arial"/>
                <a:ea typeface="华文琥珀"/>
              </a:rPr>
              <a:t>说说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MCj04457340000[1]"/>
          <p:cNvPicPr/>
          <p:nvPr/>
        </p:nvPicPr>
        <p:blipFill>
          <a:blip r:embed="rId1"/>
          <a:stretch/>
        </p:blipFill>
        <p:spPr>
          <a:xfrm>
            <a:off x="252360" y="117360"/>
            <a:ext cx="129528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1044720" y="1052640"/>
            <a:ext cx="68832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Times New Roman"/>
              </a:rPr>
              <a:t>It is never too old to learn.</a:t>
            </a:r>
            <a:endParaRPr b="1" lang="en-US" sz="32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9" name="Picture 3" descr="图片2"/>
          <p:cNvPicPr/>
          <p:nvPr/>
        </p:nvPicPr>
        <p:blipFill>
          <a:blip r:embed="rId1"/>
          <a:stretch/>
        </p:blipFill>
        <p:spPr>
          <a:xfrm>
            <a:off x="468360" y="5518080"/>
            <a:ext cx="866880" cy="866880"/>
          </a:xfrm>
          <a:prstGeom prst="rect">
            <a:avLst/>
          </a:prstGeom>
          <a:ln w="0">
            <a:noFill/>
          </a:ln>
        </p:spPr>
      </p:pic>
      <p:sp>
        <p:nvSpPr>
          <p:cNvPr id="200" name="WordArt 4"/>
          <p:cNvSpPr txBox="1"/>
          <p:nvPr/>
        </p:nvSpPr>
        <p:spPr>
          <a:xfrm>
            <a:off x="1403280" y="3429000"/>
            <a:ext cx="609624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活到老，学到老！</a:t>
            </a:r>
            <a:endParaRPr b="1" lang="en-US" sz="6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262080"/>
            <a:ext cx="244944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70240" y="1773360"/>
            <a:ext cx="127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珍惜学习机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1908000" y="1989000"/>
            <a:ext cx="648000" cy="2592360"/>
          </a:xfrm>
          <a:custGeom>
            <a:avLst/>
            <a:gdLst>
              <a:gd name="textAreaLeft" fmla="*/ 414000 w 648000"/>
              <a:gd name="textAreaRight" fmla="*/ 648000 w 648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556000" y="14860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维护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育权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556000" y="4149720"/>
            <a:ext cx="242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履行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育义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4284720" y="1268280"/>
            <a:ext cx="431640" cy="144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4356000" y="3933720"/>
            <a:ext cx="432000" cy="1440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4726080" y="1009800"/>
            <a:ext cx="42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受教育权被侵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情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711680" y="2324160"/>
            <a:ext cx="346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维护自己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受教育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4813200" y="3479760"/>
            <a:ext cx="37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受教育机会对自己和国家民族而言都是非常珍贵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4788000" y="5157720"/>
            <a:ext cx="347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履行受教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义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课堂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142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受教育与我们每个人息息相关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它是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(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我们必须履行的义务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不是我们享有的权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我们享有的权利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不是我们必须履行的义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是我们享有的权利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也是我们必须履行的义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只是未成年人享有的权利和必须履行的义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MCj04344110000[1]"/>
          <p:cNvPicPr/>
          <p:nvPr/>
        </p:nvPicPr>
        <p:blipFill>
          <a:blip r:embed="rId1"/>
          <a:stretch/>
        </p:blipFill>
        <p:spPr>
          <a:xfrm>
            <a:off x="6781680" y="22860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7164360" y="2925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28600" y="1447560"/>
            <a:ext cx="8540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、义务教育区别于其他教育的显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特征是（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强制性  ②统一性 ③公益性 ④终身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、 ①③④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、 ①②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、 ②③④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． ①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MCj04377930000[1]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21337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2743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920" y="15235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农民张某让正在读八年级的女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辍学回家务农。学校领导、老师几次上门劝说张某让女儿返校无效。于是，乡政府对张某进行批评教育，并依法责令其按期送女儿返回学校学习。这一事例主要表明我国义务教育具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统一性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、公益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群众性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、强制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MCj04343890000[1]"/>
          <p:cNvPicPr/>
          <p:nvPr/>
        </p:nvPicPr>
        <p:blipFill>
          <a:blip r:embed="rId1"/>
          <a:stretch/>
        </p:blipFill>
        <p:spPr>
          <a:xfrm>
            <a:off x="7315200" y="228600"/>
            <a:ext cx="1511280" cy="19018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6477120" y="4495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8194"/>
          <p:cNvSpPr/>
          <p:nvPr/>
        </p:nvSpPr>
        <p:spPr>
          <a:xfrm>
            <a:off x="1222200" y="557208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002850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468360" y="1486080"/>
            <a:ext cx="8150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初二学生小王说： “受教育是我的     权利，我想上就上，不想上就不上。”   这种说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(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是正确行使公民权利的表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符合我国法律的有关规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割裂了权利与义务的一致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D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强调了公民享受权利和履行义务的关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MCj04165320000[1]"/>
          <p:cNvPicPr/>
          <p:nvPr/>
        </p:nvPicPr>
        <p:blipFill>
          <a:blip r:embed="rId1"/>
          <a:stretch/>
        </p:blipFill>
        <p:spPr>
          <a:xfrm>
            <a:off x="7380360" y="44280"/>
            <a:ext cx="1530360" cy="1549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2340000" y="692280"/>
            <a:ext cx="152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771640" y="25653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54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琥珀"/>
              </a:rPr>
              <a:t>劝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84360" y="14335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君子曰：学不可以已。青，取之于蓝，而青于蓝；冰，水为之，而寒于水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12720" y="29257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道德修养的人说：学习是不可以停止的。靛青是从蓝草里提取的，可是比蓝草的颜色更深；冰是水凝结而成的，却比水还要寒冷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56000" y="5229360"/>
            <a:ext cx="36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方正舒体"/>
              </a:rPr>
              <a:t>珍惜学习机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332000" y="5589720"/>
            <a:ext cx="863640" cy="215640"/>
          </a:xfrm>
          <a:prstGeom prst="rightArrow">
            <a:avLst>
              <a:gd name="adj1" fmla="val 50000"/>
              <a:gd name="adj2" fmla="val 100125"/>
            </a:avLst>
          </a:prstGeom>
          <a:solidFill>
            <a:srgbClr val="5b8c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200653020033602"/>
          <p:cNvPicPr/>
          <p:nvPr/>
        </p:nvPicPr>
        <p:blipFill>
          <a:blip r:embed="rId1"/>
          <a:stretch/>
        </p:blipFill>
        <p:spPr>
          <a:xfrm>
            <a:off x="468360" y="3429000"/>
            <a:ext cx="7561080" cy="323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90520"/>
            <a:ext cx="82296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判断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19047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、受教育是公民的权利，也是公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义务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、对于国家民族来说，教育成就未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、受教育是公民个人的私事，法律无权干涉。                     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MCj04273570000[1]"/>
          <p:cNvPicPr/>
          <p:nvPr/>
        </p:nvPicPr>
        <p:blipFill>
          <a:blip r:embed="rId1"/>
          <a:stretch/>
        </p:blipFill>
        <p:spPr>
          <a:xfrm>
            <a:off x="6934320" y="0"/>
            <a:ext cx="1828800" cy="17017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7238880" y="2362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162920" y="38098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731520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>
            <a:hlinkClick r:id="rId2" action="ppaction://hlinksldjump"/>
          </p:cNvPr>
          <p:cNvSpPr/>
          <p:nvPr/>
        </p:nvSpPr>
        <p:spPr>
          <a:xfrm>
            <a:off x="8101080" y="595008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5b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290520"/>
            <a:ext cx="82296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材料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82844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正在上初二的梦梦家出了变故，妈妈因与爸爸赌气而出走，下落不明，爸爸常常赌博而不下地干活，也不管梦梦的生活。第二学期开学前，梦梦向爸爸要书本费，爸爸大怒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义务教育不是不收费吗？我不给！你上学花钱，就别上了！给我种地去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</a:rPr>
              <a:t>思考：梦梦爸爸的话对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MCj04165320000[1]"/>
          <p:cNvPicPr/>
          <p:nvPr/>
        </p:nvPicPr>
        <p:blipFill>
          <a:blip r:embed="rId1"/>
          <a:stretch/>
        </p:blipFill>
        <p:spPr>
          <a:xfrm>
            <a:off x="7010280" y="228600"/>
            <a:ext cx="152424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4000" y="14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e roots of education are bitter, but the fruit is sweet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 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risto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育的根是苦涩的，但其果实是香甜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亚里士多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268596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琥珀"/>
              </a:rPr>
              <a:t>一起来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放牛班的春天"/>
          <p:cNvPicPr/>
          <p:nvPr/>
        </p:nvPicPr>
        <p:blipFill>
          <a:blip r:embed="rId1"/>
          <a:stretch/>
        </p:blipFill>
        <p:spPr>
          <a:xfrm>
            <a:off x="396720" y="1747800"/>
            <a:ext cx="3240360" cy="4421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放牛班的春天2"/>
          <p:cNvPicPr/>
          <p:nvPr/>
        </p:nvPicPr>
        <p:blipFill>
          <a:blip r:embed="rId2"/>
          <a:stretch/>
        </p:blipFill>
        <p:spPr>
          <a:xfrm>
            <a:off x="1979640" y="1341360"/>
            <a:ext cx="3240000" cy="4572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想飞的钢琴少年"/>
          <p:cNvPicPr/>
          <p:nvPr/>
        </p:nvPicPr>
        <p:blipFill>
          <a:blip r:embed="rId3"/>
          <a:stretch/>
        </p:blipFill>
        <p:spPr>
          <a:xfrm>
            <a:off x="5796000" y="333360"/>
            <a:ext cx="2987640" cy="4179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想飞的钢琴少年2"/>
          <p:cNvPicPr/>
          <p:nvPr/>
        </p:nvPicPr>
        <p:blipFill>
          <a:blip r:embed="rId4"/>
          <a:stretch/>
        </p:blipFill>
        <p:spPr>
          <a:xfrm>
            <a:off x="3924360" y="1989000"/>
            <a:ext cx="2703600" cy="3783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5651640" y="2060640"/>
            <a:ext cx="31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牛班的春天（唱诗班的男孩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4356000" y="5877000"/>
            <a:ext cx="39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想飞的钢琴少年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991080" y="1701720"/>
            <a:ext cx="16426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界跟不上他聪颖的脚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唯有装傻才能逃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放牛班的春天 vois sur ton chemin.mp3" descr="放牛班的春天 vois sur ton chemin"/>
          <p:cNvPicPr/>
          <p:nvPr/>
        </p:nvPicPr>
        <p:blipFill>
          <a:blip r:embed="rId5"/>
          <a:stretch/>
        </p:blipFill>
        <p:spPr>
          <a:xfrm>
            <a:off x="8305920" y="55627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1"/>
          <p:cNvSpPr/>
          <p:nvPr/>
        </p:nvSpPr>
        <p:spPr>
          <a:xfrm>
            <a:off x="4038480" y="1371600"/>
            <a:ext cx="51055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荣耀之巷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　 童年的欢乐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　 转瞬消逝被遗忘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　 一道绚烂金光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　 在小道尽头闪亮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　 黑暗中的方向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　 希望之光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　 生命中的热忱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　 荣耀之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-142920" y="1219320"/>
            <a:ext cx="4791240" cy="53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看看你经过的路上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   孩子们迷了路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　 向他们伸出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　 拉他们一把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　 步向往后的日子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　 黑暗中的方向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　 希望之光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　 生命中的热忱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139887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160"/>
            <a:ext cx="8207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285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285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285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285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285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285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285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285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2850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285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27F0-FCD5-4DF0-8535-560AE55E1D6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7"/>
          <p:cNvSpPr/>
          <p:nvPr/>
        </p:nvSpPr>
        <p:spPr>
          <a:xfrm>
            <a:off x="4356000" y="5229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001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卖鱼的小男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00130298a0730e5aa19c38"/>
          <p:cNvPicPr/>
          <p:nvPr/>
        </p:nvPicPr>
        <p:blipFill>
          <a:blip r:embed="rId1"/>
          <a:stretch/>
        </p:blipFill>
        <p:spPr>
          <a:xfrm>
            <a:off x="684360" y="1197000"/>
            <a:ext cx="3271680" cy="453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00130298a0730e5aa19536"/>
          <p:cNvPicPr/>
          <p:nvPr/>
        </p:nvPicPr>
        <p:blipFill>
          <a:blip r:embed="rId2"/>
          <a:stretch/>
        </p:blipFill>
        <p:spPr>
          <a:xfrm>
            <a:off x="5049720" y="1200240"/>
            <a:ext cx="3256200" cy="4317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44720" y="1268280"/>
            <a:ext cx="719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苏州最年轻杀鱼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绝对震撼你的视网膜神经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则以此为题的网帖迅速在西祠胡同上走红。帖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张记录着一位看上去只有几岁的小男孩娴熟卖鱼、杀鱼过程的照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秒杀了众多网友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0130298a0730e5aa19536"/>
          <p:cNvPicPr/>
          <p:nvPr/>
        </p:nvPicPr>
        <p:blipFill>
          <a:blip r:embed="rId3"/>
          <a:stretch/>
        </p:blipFill>
        <p:spPr>
          <a:xfrm>
            <a:off x="2556000" y="1125360"/>
            <a:ext cx="41115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9800" y="1200240"/>
            <a:ext cx="763128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虽然孩子年纪小小，能帮家里赚钱看起来很能干，但不论如何，孩子是在接受教育的年龄，应该让他过和普通孩子一样的生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68360" y="290520"/>
            <a:ext cx="82296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网友评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539640" y="4653000"/>
            <a:ext cx="1008000" cy="288720"/>
          </a:xfrm>
          <a:prstGeom prst="rightArrow">
            <a:avLst>
              <a:gd name="adj1" fmla="val 50000"/>
              <a:gd name="adj2" fmla="val 87266"/>
            </a:avLst>
          </a:prstGeom>
          <a:solidFill>
            <a:srgbClr val="5b8c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908000" y="436572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方正舒体"/>
              </a:rPr>
              <a:t>珍惜学习机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979640" y="5229360"/>
            <a:ext cx="477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方正舒体"/>
              </a:rPr>
              <a:t>维护受教育权利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图片3"/>
          <p:cNvPicPr/>
          <p:nvPr/>
        </p:nvPicPr>
        <p:blipFill>
          <a:blip r:embed="rId1"/>
          <a:stretch/>
        </p:blipFill>
        <p:spPr>
          <a:xfrm>
            <a:off x="468360" y="5661000"/>
            <a:ext cx="8668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29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维护受教育权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000" y="1200240"/>
            <a:ext cx="684036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受教育权被侵犯的情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24000" y="198900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小华父亲说她成绩不好也考不上大学，让正在念初二的她出来打工挣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24000" y="3068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某工厂接收一批在校的初中生进厂打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24000" y="37180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学校附近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KT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经常音响开得很大，吵得学校里的同学无法安静地晚自习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95280" y="4941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胡某因为经常不交作业且不遵守学校班级纪律，老师停课让他回家反思一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MCj04213600000[1]"/>
          <p:cNvPicPr/>
          <p:nvPr/>
        </p:nvPicPr>
        <p:blipFill>
          <a:blip r:embed="rId1"/>
          <a:stretch/>
        </p:blipFill>
        <p:spPr>
          <a:xfrm>
            <a:off x="7020000" y="404640"/>
            <a:ext cx="1644480" cy="10368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6378480" y="2558880"/>
            <a:ext cx="13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家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7956720" y="3068640"/>
            <a:ext cx="11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社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516720" y="4221000"/>
            <a:ext cx="11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社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020000" y="544500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教育是法律赋予我们的基本权利，是我们成长和发展的基础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262960" y="22813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我们享有受教育权利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5640" y="350208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我们要维护自己的受教育权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049480" y="479592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维护我们的受教育权利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MCj04463060000[1]"/>
          <p:cNvPicPr/>
          <p:nvPr/>
        </p:nvPicPr>
        <p:blipFill>
          <a:blip r:embed="rId1"/>
          <a:stretch/>
        </p:blipFill>
        <p:spPr>
          <a:xfrm>
            <a:off x="252360" y="4581360"/>
            <a:ext cx="1728720" cy="17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9160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维护受教育权的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9800" y="1199880"/>
            <a:ext cx="54705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方式一：寻求学校老师的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方式二：寻求当地居委会或妇女儿童工作委员会的帮助或新闻媒体的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方式三：寻求教育行政部门的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方式四：寻求人民法院的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5724360" y="1557360"/>
            <a:ext cx="360360" cy="2879640"/>
          </a:xfrm>
          <a:custGeom>
            <a:avLst/>
            <a:gdLst>
              <a:gd name="textAreaLeft" fmla="*/ 0 w 360360"/>
              <a:gd name="textAreaRight" fmla="*/ 129960 w 360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229440" y="2637000"/>
            <a:ext cx="25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诉讼方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5580000" y="5157720"/>
            <a:ext cx="647640" cy="144360"/>
          </a:xfrm>
          <a:prstGeom prst="rightArrow">
            <a:avLst>
              <a:gd name="adj1" fmla="val 50000"/>
              <a:gd name="adj2" fmla="val 112136"/>
            </a:avLst>
          </a:prstGeom>
          <a:solidFill>
            <a:srgbClr val="5b8c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229440" y="4941720"/>
            <a:ext cx="20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诉讼方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MCj04462560000[1]"/>
          <p:cNvPicPr/>
          <p:nvPr/>
        </p:nvPicPr>
        <p:blipFill>
          <a:blip r:embed="rId1"/>
          <a:stretch/>
        </p:blipFill>
        <p:spPr>
          <a:xfrm>
            <a:off x="6877080" y="549360"/>
            <a:ext cx="1638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39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某镇数百名村民在少数人的煽动下，在离当地中学不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米远的山腰下建了一座寺庙。平时香火不断。每到庙会，喇叭声、鞭炮声、诵经声响成一片。进出的香客、寺内的宴席乱作一团。受其影响，许多学生无心读书，少数学生甚至旷课到寺庙看热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68360" y="486900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如你是该校的一名学生，应该怎么办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68360" y="5518080"/>
            <a:ext cx="70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如你是该校的校长，应该怎么办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8194"/>
          <p:cNvSpPr/>
          <p:nvPr/>
        </p:nvSpPr>
        <p:spPr>
          <a:xfrm>
            <a:off x="1765440" y="206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00285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13080" y="619920"/>
            <a:ext cx="468000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权利与义务是相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MCj02132790000[1]"/>
          <p:cNvPicPr/>
          <p:nvPr/>
        </p:nvPicPr>
        <p:blipFill>
          <a:blip r:embed="rId1"/>
          <a:stretch/>
        </p:blipFill>
        <p:spPr>
          <a:xfrm>
            <a:off x="2771640" y="2637000"/>
            <a:ext cx="3168720" cy="26492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612720" y="1413000"/>
            <a:ext cx="2587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享有受教育的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权利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图片4"/>
          <p:cNvPicPr/>
          <p:nvPr/>
        </p:nvPicPr>
        <p:blipFill>
          <a:blip r:embed="rId2"/>
          <a:stretch/>
        </p:blipFill>
        <p:spPr>
          <a:xfrm>
            <a:off x="1187280" y="5445000"/>
            <a:ext cx="866880" cy="8668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6012000" y="1413000"/>
            <a:ext cx="2589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也要履行受教育的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义务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5:44:56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01:5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