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7.jpeg" ContentType="image/jpeg"/>
  <Override PartName="/ppt/media/arrow.wav" ContentType="audio/x-wav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6.png" ContentType="image/pn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0FE1-7046-48EF-9327-DCFC9F3E93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2642-574C-499F-82D9-09CF97991D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973-8298-40A8-8DD1-F0E78FAE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0BD-8828-4D2D-A9E0-E4541D3C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0A5-2EE3-4955-8A6F-249AEA24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2F4-75AE-4BAF-90DB-73F40B53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6725-84AF-44BA-8B1D-7AAF242C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362D-8ABC-4D47-8064-42667EE6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B236-371D-4D5E-AA20-F0C59F83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F197-7892-473C-8963-05B42E10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8238-BA11-480D-A0DE-2847CA34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6F5F-5494-459D-B545-22354DD7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A92E-F48E-4593-A993-D53DE8DB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E93-D0B0-4FD1-BF64-E277A63E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6A2F-4B55-47C6-A168-3841F71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370C-54F3-49F4-94A8-E720A4E1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8EBC-1007-4958-A654-49A3518A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ECAD-EF57-4AFA-A765-9716BC4E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C651-A60E-4BF9-97AA-92C8160E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6ECD-3488-4321-8BC3-65316C79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8588E-BD2A-40CB-84A0-0714A46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E5B69-30BE-44B6-B997-4D7CC28A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8F5E-22A6-4CF5-BEE7-A35A4623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E448-492E-4A73-952A-BBE869D2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697-B3CA-42D5-B4A0-53AB3CB3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8502-369D-43A5-8C72-BB5F3DD4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B212-6C57-42DF-B6CD-6C2B636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E040-3433-44AF-9DB5-622B230E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73D5-B9F5-4F6C-9C1C-BBBB3529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0FF5-ECAD-4DEF-952D-23565AB2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20E4-7573-4008-B94E-9BE531C9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F438-D5B1-4388-98B1-AEF9027D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A6C-8D39-4E98-92A1-E084FF88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BE6-322D-4F67-B12C-FFD90298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DD7-7C9D-473F-B063-738E601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953-5B8B-41E9-84FA-0A35AABE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DDC-010B-4C03-99D8-5C2E2D1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A16-E167-422B-8803-59BEBB09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1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3C4-C881-4E74-A2DF-66BF6511C5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C1FD-8678-4D75-AB24-3BF114CCE6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未标题-1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D4CC-2A43-4DEA-BEA6-7B64208A27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1547640" y="90792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258920" y="198900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500720" y="162864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067280" y="54936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435640" y="83664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732720" y="155736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059280" y="119700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7596360" y="83664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2771640" y="40464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5867280" y="170028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8317080" y="62064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755640" y="260280"/>
            <a:ext cx="1224000" cy="187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84" y="1322"/>
                  <a:pt x="7368" y="5080"/>
                  <a:pt x="7368" y="10800"/>
                </a:cubicBezTo>
                <a:cubicBezTo>
                  <a:pt x="7368" y="16520"/>
                  <a:pt x="14484" y="202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4fa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14"/>
          <p:cNvSpPr txBox="1"/>
          <p:nvPr/>
        </p:nvSpPr>
        <p:spPr>
          <a:xfrm>
            <a:off x="1847880" y="2421000"/>
            <a:ext cx="56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华文隶书"/>
              </a:rPr>
              <a:t>19 </a:t>
            </a:r>
            <a:r>
              <a:rPr b="1" lang="zh-CN" sz="72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华文隶书"/>
              </a:rPr>
              <a:t>摘月亮</a:t>
            </a:r>
            <a:endParaRPr b="1" lang="en-US" sz="72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395280" y="26028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9360" y="5273640"/>
            <a:ext cx="7982280" cy="1703520"/>
          </a:xfrm>
          <a:custGeom>
            <a:avLst/>
            <a:gdLst/>
            <a:ahLst/>
            <a:rect l="l" t="t" r="r" b="b"/>
            <a:pathLst>
              <a:path w="5035" h="1073">
                <a:moveTo>
                  <a:pt x="0" y="1043"/>
                </a:moveTo>
                <a:cubicBezTo>
                  <a:pt x="117" y="865"/>
                  <a:pt x="235" y="687"/>
                  <a:pt x="318" y="680"/>
                </a:cubicBezTo>
                <a:cubicBezTo>
                  <a:pt x="401" y="673"/>
                  <a:pt x="401" y="1028"/>
                  <a:pt x="499" y="998"/>
                </a:cubicBezTo>
                <a:cubicBezTo>
                  <a:pt x="597" y="968"/>
                  <a:pt x="786" y="492"/>
                  <a:pt x="907" y="499"/>
                </a:cubicBezTo>
                <a:cubicBezTo>
                  <a:pt x="1028" y="506"/>
                  <a:pt x="1134" y="1073"/>
                  <a:pt x="1225" y="1043"/>
                </a:cubicBezTo>
                <a:cubicBezTo>
                  <a:pt x="1316" y="1013"/>
                  <a:pt x="1392" y="318"/>
                  <a:pt x="1452" y="318"/>
                </a:cubicBezTo>
                <a:cubicBezTo>
                  <a:pt x="1512" y="318"/>
                  <a:pt x="1520" y="1058"/>
                  <a:pt x="1588" y="1043"/>
                </a:cubicBezTo>
                <a:cubicBezTo>
                  <a:pt x="1656" y="1028"/>
                  <a:pt x="1792" y="227"/>
                  <a:pt x="1860" y="227"/>
                </a:cubicBezTo>
                <a:cubicBezTo>
                  <a:pt x="1928" y="227"/>
                  <a:pt x="1928" y="1058"/>
                  <a:pt x="1996" y="1043"/>
                </a:cubicBezTo>
                <a:cubicBezTo>
                  <a:pt x="2064" y="1028"/>
                  <a:pt x="2215" y="136"/>
                  <a:pt x="2268" y="136"/>
                </a:cubicBezTo>
                <a:cubicBezTo>
                  <a:pt x="2321" y="136"/>
                  <a:pt x="2253" y="1036"/>
                  <a:pt x="2313" y="1043"/>
                </a:cubicBezTo>
                <a:cubicBezTo>
                  <a:pt x="2373" y="1050"/>
                  <a:pt x="2578" y="181"/>
                  <a:pt x="2631" y="181"/>
                </a:cubicBezTo>
                <a:cubicBezTo>
                  <a:pt x="2684" y="181"/>
                  <a:pt x="2571" y="1073"/>
                  <a:pt x="2631" y="1043"/>
                </a:cubicBezTo>
                <a:cubicBezTo>
                  <a:pt x="2691" y="1013"/>
                  <a:pt x="2941" y="0"/>
                  <a:pt x="2994" y="0"/>
                </a:cubicBezTo>
                <a:cubicBezTo>
                  <a:pt x="3047" y="0"/>
                  <a:pt x="2880" y="1028"/>
                  <a:pt x="2948" y="1043"/>
                </a:cubicBezTo>
                <a:cubicBezTo>
                  <a:pt x="3016" y="1058"/>
                  <a:pt x="3326" y="91"/>
                  <a:pt x="3402" y="91"/>
                </a:cubicBezTo>
                <a:cubicBezTo>
                  <a:pt x="3478" y="91"/>
                  <a:pt x="3342" y="1058"/>
                  <a:pt x="3402" y="1043"/>
                </a:cubicBezTo>
                <a:cubicBezTo>
                  <a:pt x="3462" y="1028"/>
                  <a:pt x="3674" y="0"/>
                  <a:pt x="3765" y="0"/>
                </a:cubicBezTo>
                <a:cubicBezTo>
                  <a:pt x="3856" y="0"/>
                  <a:pt x="3878" y="1013"/>
                  <a:pt x="3946" y="1043"/>
                </a:cubicBezTo>
                <a:cubicBezTo>
                  <a:pt x="4014" y="1073"/>
                  <a:pt x="4120" y="181"/>
                  <a:pt x="4173" y="181"/>
                </a:cubicBezTo>
                <a:cubicBezTo>
                  <a:pt x="4226" y="181"/>
                  <a:pt x="4188" y="1043"/>
                  <a:pt x="4264" y="1043"/>
                </a:cubicBezTo>
                <a:cubicBezTo>
                  <a:pt x="4340" y="1043"/>
                  <a:pt x="4567" y="188"/>
                  <a:pt x="4627" y="181"/>
                </a:cubicBezTo>
                <a:cubicBezTo>
                  <a:pt x="4687" y="174"/>
                  <a:pt x="4589" y="998"/>
                  <a:pt x="4627" y="998"/>
                </a:cubicBezTo>
                <a:cubicBezTo>
                  <a:pt x="4665" y="998"/>
                  <a:pt x="4785" y="181"/>
                  <a:pt x="4853" y="181"/>
                </a:cubicBezTo>
                <a:cubicBezTo>
                  <a:pt x="4921" y="181"/>
                  <a:pt x="5005" y="854"/>
                  <a:pt x="5035" y="998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>
            <a:off x="539640" y="5805360"/>
            <a:ext cx="432000" cy="1079640"/>
          </a:xfrm>
          <a:custGeom>
            <a:avLst/>
            <a:gdLst/>
            <a:ahLst/>
            <a:rect l="l" t="t" r="r" b="b"/>
            <a:pathLst>
              <a:path w="272" h="680">
                <a:moveTo>
                  <a:pt x="0" y="680"/>
                </a:moveTo>
                <a:cubicBezTo>
                  <a:pt x="68" y="340"/>
                  <a:pt x="136" y="0"/>
                  <a:pt x="181" y="0"/>
                </a:cubicBezTo>
                <a:cubicBezTo>
                  <a:pt x="226" y="0"/>
                  <a:pt x="257" y="567"/>
                  <a:pt x="272" y="680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1512720" y="5835600"/>
            <a:ext cx="287640" cy="993960"/>
          </a:xfrm>
          <a:custGeom>
            <a:avLst/>
            <a:gdLst/>
            <a:ahLst/>
            <a:rect l="l" t="t" r="r" b="b"/>
            <a:pathLst>
              <a:path w="453" h="1021">
                <a:moveTo>
                  <a:pt x="0" y="824"/>
                </a:moveTo>
                <a:cubicBezTo>
                  <a:pt x="79" y="412"/>
                  <a:pt x="158" y="0"/>
                  <a:pt x="226" y="8"/>
                </a:cubicBezTo>
                <a:cubicBezTo>
                  <a:pt x="294" y="16"/>
                  <a:pt x="370" y="719"/>
                  <a:pt x="408" y="870"/>
                </a:cubicBezTo>
                <a:cubicBezTo>
                  <a:pt x="446" y="1021"/>
                  <a:pt x="449" y="968"/>
                  <a:pt x="453" y="915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>
            <a:off x="2340000" y="5637240"/>
            <a:ext cx="360360" cy="1392120"/>
          </a:xfrm>
          <a:custGeom>
            <a:avLst/>
            <a:gdLst/>
            <a:ahLst/>
            <a:rect l="l" t="t" r="r" b="b"/>
            <a:pathLst>
              <a:path w="227" h="877">
                <a:moveTo>
                  <a:pt x="0" y="877"/>
                </a:moveTo>
                <a:cubicBezTo>
                  <a:pt x="49" y="453"/>
                  <a:pt x="98" y="30"/>
                  <a:pt x="136" y="15"/>
                </a:cubicBezTo>
                <a:cubicBezTo>
                  <a:pt x="174" y="0"/>
                  <a:pt x="212" y="651"/>
                  <a:pt x="227" y="787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4322880" y="5040360"/>
            <a:ext cx="4836960" cy="2171520"/>
          </a:xfrm>
          <a:custGeom>
            <a:avLst/>
            <a:gdLst/>
            <a:ahLst/>
            <a:rect l="l" t="t" r="r" b="b"/>
            <a:pathLst>
              <a:path w="3047" h="1368">
                <a:moveTo>
                  <a:pt x="0" y="1134"/>
                </a:moveTo>
                <a:cubicBezTo>
                  <a:pt x="106" y="858"/>
                  <a:pt x="212" y="582"/>
                  <a:pt x="272" y="590"/>
                </a:cubicBezTo>
                <a:cubicBezTo>
                  <a:pt x="332" y="598"/>
                  <a:pt x="295" y="1262"/>
                  <a:pt x="363" y="1179"/>
                </a:cubicBezTo>
                <a:cubicBezTo>
                  <a:pt x="431" y="1096"/>
                  <a:pt x="627" y="91"/>
                  <a:pt x="680" y="91"/>
                </a:cubicBezTo>
                <a:cubicBezTo>
                  <a:pt x="733" y="91"/>
                  <a:pt x="620" y="1187"/>
                  <a:pt x="680" y="1179"/>
                </a:cubicBezTo>
                <a:cubicBezTo>
                  <a:pt x="740" y="1171"/>
                  <a:pt x="990" y="45"/>
                  <a:pt x="1043" y="45"/>
                </a:cubicBezTo>
                <a:cubicBezTo>
                  <a:pt x="1096" y="45"/>
                  <a:pt x="945" y="1186"/>
                  <a:pt x="998" y="1179"/>
                </a:cubicBezTo>
                <a:cubicBezTo>
                  <a:pt x="1051" y="1172"/>
                  <a:pt x="1301" y="0"/>
                  <a:pt x="1361" y="0"/>
                </a:cubicBezTo>
                <a:cubicBezTo>
                  <a:pt x="1421" y="0"/>
                  <a:pt x="1293" y="1118"/>
                  <a:pt x="1361" y="1179"/>
                </a:cubicBezTo>
                <a:cubicBezTo>
                  <a:pt x="1429" y="1240"/>
                  <a:pt x="1694" y="363"/>
                  <a:pt x="1769" y="363"/>
                </a:cubicBezTo>
                <a:cubicBezTo>
                  <a:pt x="1844" y="363"/>
                  <a:pt x="1746" y="1149"/>
                  <a:pt x="1814" y="1179"/>
                </a:cubicBezTo>
                <a:cubicBezTo>
                  <a:pt x="1882" y="1209"/>
                  <a:pt x="2094" y="544"/>
                  <a:pt x="2177" y="544"/>
                </a:cubicBezTo>
                <a:cubicBezTo>
                  <a:pt x="2260" y="544"/>
                  <a:pt x="2253" y="1194"/>
                  <a:pt x="2313" y="1179"/>
                </a:cubicBezTo>
                <a:cubicBezTo>
                  <a:pt x="2373" y="1164"/>
                  <a:pt x="2480" y="454"/>
                  <a:pt x="2540" y="454"/>
                </a:cubicBezTo>
                <a:cubicBezTo>
                  <a:pt x="2600" y="454"/>
                  <a:pt x="2600" y="1255"/>
                  <a:pt x="2676" y="1179"/>
                </a:cubicBezTo>
                <a:cubicBezTo>
                  <a:pt x="2752" y="1103"/>
                  <a:pt x="2941" y="0"/>
                  <a:pt x="2994" y="0"/>
                </a:cubicBezTo>
                <a:cubicBezTo>
                  <a:pt x="3047" y="0"/>
                  <a:pt x="3002" y="990"/>
                  <a:pt x="2994" y="1179"/>
                </a:cubicBezTo>
                <a:cubicBezTo>
                  <a:pt x="2986" y="1368"/>
                  <a:pt x="2967" y="1251"/>
                  <a:pt x="2948" y="1134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>
            <a:off x="227160" y="5589720"/>
            <a:ext cx="168120" cy="1295280"/>
          </a:xfrm>
          <a:custGeom>
            <a:avLst/>
            <a:gdLst/>
            <a:ahLst/>
            <a:rect l="l" t="t" r="r" b="b"/>
            <a:pathLst>
              <a:path w="106" h="816">
                <a:moveTo>
                  <a:pt x="15" y="816"/>
                </a:moveTo>
                <a:cubicBezTo>
                  <a:pt x="7" y="408"/>
                  <a:pt x="0" y="0"/>
                  <a:pt x="15" y="0"/>
                </a:cubicBezTo>
                <a:cubicBezTo>
                  <a:pt x="30" y="0"/>
                  <a:pt x="98" y="680"/>
                  <a:pt x="106" y="816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1079640" y="5157720"/>
            <a:ext cx="323640" cy="1727280"/>
          </a:xfrm>
          <a:custGeom>
            <a:avLst/>
            <a:gdLst/>
            <a:ahLst/>
            <a:rect l="l" t="t" r="r" b="b"/>
            <a:pathLst>
              <a:path w="204" h="1088">
                <a:moveTo>
                  <a:pt x="68" y="1088"/>
                </a:moveTo>
                <a:cubicBezTo>
                  <a:pt x="34" y="544"/>
                  <a:pt x="0" y="0"/>
                  <a:pt x="23" y="0"/>
                </a:cubicBezTo>
                <a:cubicBezTo>
                  <a:pt x="46" y="0"/>
                  <a:pt x="174" y="907"/>
                  <a:pt x="204" y="1088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1619280" y="5589720"/>
            <a:ext cx="431640" cy="1295280"/>
          </a:xfrm>
          <a:custGeom>
            <a:avLst/>
            <a:gdLst/>
            <a:ahLst/>
            <a:rect l="l" t="t" r="r" b="b"/>
            <a:pathLst>
              <a:path w="272" h="816">
                <a:moveTo>
                  <a:pt x="0" y="816"/>
                </a:moveTo>
                <a:cubicBezTo>
                  <a:pt x="68" y="408"/>
                  <a:pt x="137" y="0"/>
                  <a:pt x="182" y="0"/>
                </a:cubicBezTo>
                <a:cubicBezTo>
                  <a:pt x="227" y="0"/>
                  <a:pt x="249" y="408"/>
                  <a:pt x="272" y="816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-25560" y="5722920"/>
            <a:ext cx="216000" cy="1162080"/>
          </a:xfrm>
          <a:custGeom>
            <a:avLst/>
            <a:gdLst/>
            <a:ahLst/>
            <a:rect l="l" t="t" r="r" b="b"/>
            <a:pathLst>
              <a:path w="136" h="732">
                <a:moveTo>
                  <a:pt x="0" y="732"/>
                </a:moveTo>
                <a:cubicBezTo>
                  <a:pt x="11" y="373"/>
                  <a:pt x="23" y="14"/>
                  <a:pt x="46" y="7"/>
                </a:cubicBezTo>
                <a:cubicBezTo>
                  <a:pt x="69" y="0"/>
                  <a:pt x="121" y="574"/>
                  <a:pt x="136" y="687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347760" y="5877000"/>
            <a:ext cx="407880" cy="1008000"/>
          </a:xfrm>
          <a:custGeom>
            <a:avLst/>
            <a:gdLst/>
            <a:ahLst/>
            <a:rect l="l" t="t" r="r" b="b"/>
            <a:pathLst>
              <a:path w="257" h="635">
                <a:moveTo>
                  <a:pt x="76" y="635"/>
                </a:moveTo>
                <a:cubicBezTo>
                  <a:pt x="38" y="317"/>
                  <a:pt x="0" y="0"/>
                  <a:pt x="30" y="0"/>
                </a:cubicBezTo>
                <a:cubicBezTo>
                  <a:pt x="60" y="0"/>
                  <a:pt x="158" y="317"/>
                  <a:pt x="257" y="635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未知"/>
          <p:cNvSpPr/>
          <p:nvPr/>
        </p:nvSpPr>
        <p:spPr>
          <a:xfrm>
            <a:off x="755640" y="5516640"/>
            <a:ext cx="287280" cy="1368360"/>
          </a:xfrm>
          <a:custGeom>
            <a:avLst/>
            <a:gdLst/>
            <a:ahLst/>
            <a:rect l="l" t="t" r="r" b="b"/>
            <a:pathLst>
              <a:path w="181" h="862">
                <a:moveTo>
                  <a:pt x="0" y="862"/>
                </a:moveTo>
                <a:cubicBezTo>
                  <a:pt x="53" y="431"/>
                  <a:pt x="106" y="0"/>
                  <a:pt x="136" y="0"/>
                </a:cubicBezTo>
                <a:cubicBezTo>
                  <a:pt x="166" y="0"/>
                  <a:pt x="173" y="431"/>
                  <a:pt x="181" y="862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4834800" y="836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湘教版二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0"/>
          <p:cNvSpPr/>
          <p:nvPr/>
        </p:nvSpPr>
        <p:spPr>
          <a:xfrm>
            <a:off x="1863360" y="5273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小猫动画.mpeg" descr="小猫动画"/>
          <p:cNvPicPr/>
          <p:nvPr/>
        </p:nvPicPr>
        <p:blipFill>
          <a:blip r:embed="rId1"/>
          <a:stretch/>
        </p:blipFill>
        <p:spPr>
          <a:xfrm>
            <a:off x="0" y="1440"/>
            <a:ext cx="9144000" cy="565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小猫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-27000" y="-17640"/>
            <a:ext cx="9213840" cy="69026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"/>
          <p:cNvSpPr/>
          <p:nvPr/>
        </p:nvSpPr>
        <p:spPr>
          <a:xfrm>
            <a:off x="5796000" y="981000"/>
            <a:ext cx="3240000" cy="1152720"/>
          </a:xfrm>
          <a:prstGeom prst="wedgeEllipseCallout">
            <a:avLst>
              <a:gd name="adj1" fmla="val -38027"/>
              <a:gd name="adj2" fmla="val 7585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小猫1"/>
          <p:cNvPicPr/>
          <p:nvPr/>
        </p:nvPicPr>
        <p:blipFill>
          <a:blip r:embed="rId1">
            <a:lum contrast="50000"/>
          </a:blip>
          <a:stretch/>
        </p:blipFill>
        <p:spPr>
          <a:xfrm>
            <a:off x="0" y="0"/>
            <a:ext cx="9190080" cy="68850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4645080" y="-88920"/>
            <a:ext cx="4676760" cy="3087720"/>
          </a:xfrm>
          <a:prstGeom prst="cloudCallout">
            <a:avLst>
              <a:gd name="adj1" fmla="val -13175"/>
              <a:gd name="adj2" fmla="val 83050"/>
            </a:avLst>
          </a:prstGeom>
          <a:solidFill>
            <a:srgbClr val="fbdf5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楷体"/>
                <a:ea typeface="楷体"/>
              </a:rPr>
              <a:t>哦！明亮的天空就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楷体"/>
                <a:ea typeface="楷体"/>
              </a:rPr>
              <a:t>小主人的那面镜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08000" y="1484280"/>
            <a:ext cx="81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猫灵机一动，迅速跑回家去，捧出小主人的镜子对着月亮一照。嘿！月亮钻到镜子里啦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40880" y="404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楷体"/>
              </a:rPr>
              <a:t>品读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 flipV="1">
            <a:off x="2987640" y="2421000"/>
            <a:ext cx="2232000" cy="1440"/>
          </a:xfrm>
          <a:prstGeom prst="line">
            <a:avLst/>
          </a:prstGeom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6013440" y="2421000"/>
            <a:ext cx="1150920" cy="1440"/>
          </a:xfrm>
          <a:prstGeom prst="line">
            <a:avLst/>
          </a:prstGeom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小猫3"/>
          <p:cNvPicPr/>
          <p:nvPr/>
        </p:nvPicPr>
        <p:blipFill>
          <a:blip r:embed="rId1"/>
          <a:stretch/>
        </p:blipFill>
        <p:spPr>
          <a:xfrm>
            <a:off x="-95400" y="-14400"/>
            <a:ext cx="9277560" cy="702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小猫2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-25560" y="-15840"/>
            <a:ext cx="9180720" cy="68738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3"/>
          <p:cNvSpPr/>
          <p:nvPr/>
        </p:nvSpPr>
        <p:spPr>
          <a:xfrm>
            <a:off x="4714920" y="117360"/>
            <a:ext cx="4610160" cy="2159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861080" y="476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74a05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妙 妙 妙，月亮被我摘下来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夸奖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-19080" y="-9360"/>
            <a:ext cx="9205920" cy="68958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3"/>
          <p:cNvSpPr/>
          <p:nvPr/>
        </p:nvSpPr>
        <p:spPr>
          <a:xfrm>
            <a:off x="4356000" y="117360"/>
            <a:ext cx="4680000" cy="2087640"/>
          </a:xfrm>
          <a:prstGeom prst="irregularSeal2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</a:rPr>
              <a:t>真棒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466560" y="13413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小朋友们，你们觉得谁的办法最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?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为什么她能想出这么好的办法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95280" y="2924280"/>
            <a:ext cx="8713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让我们与故事中的人物来对话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）小猫，我想对你说：“——————————————。”</a:t>
            </a:r>
            <a:r>
              <a:rPr b="1" lang="zh-CN" sz="3600" spc="-1" strike="noStrike" u="sng">
                <a:solidFill>
                  <a:srgbClr val="009900"/>
                </a:solidFill>
                <a:uFillTx/>
                <a:latin typeface="楷体"/>
                <a:ea typeface="楷体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）黄狗、黑熊、小猴，我想对你们说：                   “——————————————。”</a:t>
            </a:r>
            <a:r>
              <a:rPr b="1" lang="zh-CN" sz="3600" spc="-1" strike="noStrike" u="sng">
                <a:solidFill>
                  <a:srgbClr val="996600"/>
                </a:solidFill>
                <a:uFillTx/>
                <a:latin typeface="楷体"/>
                <a:ea typeface="楷体"/>
              </a:rPr>
              <a:t>   </a:t>
            </a:r>
            <a:r>
              <a:rPr b="1" lang="zh-CN" sz="2800" spc="-1" strike="noStrike" u="sng">
                <a:solidFill>
                  <a:srgbClr val="996600"/>
                </a:solidFill>
                <a:uFillTx/>
                <a:latin typeface="楷体"/>
                <a:ea typeface="楷体"/>
              </a:rPr>
              <a:t>     </a:t>
            </a:r>
            <a:r>
              <a:rPr b="0" lang="zh-CN" sz="2800" spc="-1" strike="noStrike" u="sng">
                <a:solidFill>
                  <a:srgbClr val="996600"/>
                </a:solidFill>
                <a:uFillTx/>
                <a:latin typeface="楷体"/>
                <a:ea typeface="楷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828720" y="260280"/>
            <a:ext cx="18288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说一说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1547640" y="90792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1258920" y="198900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4500720" y="162864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4067280" y="54936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5435640" y="83664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6732720" y="155736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3059280" y="119700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7596360" y="83664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2771640" y="40464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5867280" y="170028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8317080" y="62064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755640" y="260280"/>
            <a:ext cx="1224000" cy="187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484" y="1322"/>
                  <a:pt x="7368" y="5080"/>
                  <a:pt x="7368" y="10800"/>
                </a:cubicBezTo>
                <a:cubicBezTo>
                  <a:pt x="7368" y="16520"/>
                  <a:pt x="14484" y="202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4fa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4"/>
          <p:cNvSpPr/>
          <p:nvPr/>
        </p:nvSpPr>
        <p:spPr>
          <a:xfrm>
            <a:off x="395280" y="26028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未知"/>
          <p:cNvSpPr/>
          <p:nvPr/>
        </p:nvSpPr>
        <p:spPr>
          <a:xfrm>
            <a:off x="-25560" y="5445000"/>
            <a:ext cx="7982280" cy="1703520"/>
          </a:xfrm>
          <a:custGeom>
            <a:avLst/>
            <a:gdLst/>
            <a:ahLst/>
            <a:rect l="l" t="t" r="r" b="b"/>
            <a:pathLst>
              <a:path w="5035" h="1073">
                <a:moveTo>
                  <a:pt x="0" y="1043"/>
                </a:moveTo>
                <a:cubicBezTo>
                  <a:pt x="117" y="865"/>
                  <a:pt x="235" y="687"/>
                  <a:pt x="318" y="680"/>
                </a:cubicBezTo>
                <a:cubicBezTo>
                  <a:pt x="401" y="673"/>
                  <a:pt x="401" y="1028"/>
                  <a:pt x="499" y="998"/>
                </a:cubicBezTo>
                <a:cubicBezTo>
                  <a:pt x="597" y="968"/>
                  <a:pt x="786" y="492"/>
                  <a:pt x="907" y="499"/>
                </a:cubicBezTo>
                <a:cubicBezTo>
                  <a:pt x="1028" y="506"/>
                  <a:pt x="1134" y="1073"/>
                  <a:pt x="1225" y="1043"/>
                </a:cubicBezTo>
                <a:cubicBezTo>
                  <a:pt x="1316" y="1013"/>
                  <a:pt x="1392" y="318"/>
                  <a:pt x="1452" y="318"/>
                </a:cubicBezTo>
                <a:cubicBezTo>
                  <a:pt x="1512" y="318"/>
                  <a:pt x="1520" y="1058"/>
                  <a:pt x="1588" y="1043"/>
                </a:cubicBezTo>
                <a:cubicBezTo>
                  <a:pt x="1656" y="1028"/>
                  <a:pt x="1792" y="227"/>
                  <a:pt x="1860" y="227"/>
                </a:cubicBezTo>
                <a:cubicBezTo>
                  <a:pt x="1928" y="227"/>
                  <a:pt x="1928" y="1058"/>
                  <a:pt x="1996" y="1043"/>
                </a:cubicBezTo>
                <a:cubicBezTo>
                  <a:pt x="2064" y="1028"/>
                  <a:pt x="2215" y="136"/>
                  <a:pt x="2268" y="136"/>
                </a:cubicBezTo>
                <a:cubicBezTo>
                  <a:pt x="2321" y="136"/>
                  <a:pt x="2253" y="1036"/>
                  <a:pt x="2313" y="1043"/>
                </a:cubicBezTo>
                <a:cubicBezTo>
                  <a:pt x="2373" y="1050"/>
                  <a:pt x="2578" y="181"/>
                  <a:pt x="2631" y="181"/>
                </a:cubicBezTo>
                <a:cubicBezTo>
                  <a:pt x="2684" y="181"/>
                  <a:pt x="2571" y="1073"/>
                  <a:pt x="2631" y="1043"/>
                </a:cubicBezTo>
                <a:cubicBezTo>
                  <a:pt x="2691" y="1013"/>
                  <a:pt x="2941" y="0"/>
                  <a:pt x="2994" y="0"/>
                </a:cubicBezTo>
                <a:cubicBezTo>
                  <a:pt x="3047" y="0"/>
                  <a:pt x="2880" y="1028"/>
                  <a:pt x="2948" y="1043"/>
                </a:cubicBezTo>
                <a:cubicBezTo>
                  <a:pt x="3016" y="1058"/>
                  <a:pt x="3326" y="91"/>
                  <a:pt x="3402" y="91"/>
                </a:cubicBezTo>
                <a:cubicBezTo>
                  <a:pt x="3478" y="91"/>
                  <a:pt x="3342" y="1058"/>
                  <a:pt x="3402" y="1043"/>
                </a:cubicBezTo>
                <a:cubicBezTo>
                  <a:pt x="3462" y="1028"/>
                  <a:pt x="3674" y="0"/>
                  <a:pt x="3765" y="0"/>
                </a:cubicBezTo>
                <a:cubicBezTo>
                  <a:pt x="3856" y="0"/>
                  <a:pt x="3878" y="1013"/>
                  <a:pt x="3946" y="1043"/>
                </a:cubicBezTo>
                <a:cubicBezTo>
                  <a:pt x="4014" y="1073"/>
                  <a:pt x="4120" y="181"/>
                  <a:pt x="4173" y="181"/>
                </a:cubicBezTo>
                <a:cubicBezTo>
                  <a:pt x="4226" y="181"/>
                  <a:pt x="4188" y="1043"/>
                  <a:pt x="4264" y="1043"/>
                </a:cubicBezTo>
                <a:cubicBezTo>
                  <a:pt x="4340" y="1043"/>
                  <a:pt x="4567" y="188"/>
                  <a:pt x="4627" y="181"/>
                </a:cubicBezTo>
                <a:cubicBezTo>
                  <a:pt x="4687" y="174"/>
                  <a:pt x="4589" y="998"/>
                  <a:pt x="4627" y="998"/>
                </a:cubicBezTo>
                <a:cubicBezTo>
                  <a:pt x="4665" y="998"/>
                  <a:pt x="4785" y="181"/>
                  <a:pt x="4853" y="181"/>
                </a:cubicBezTo>
                <a:cubicBezTo>
                  <a:pt x="4921" y="181"/>
                  <a:pt x="5005" y="854"/>
                  <a:pt x="5035" y="998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未知"/>
          <p:cNvSpPr/>
          <p:nvPr/>
        </p:nvSpPr>
        <p:spPr>
          <a:xfrm>
            <a:off x="539640" y="5805360"/>
            <a:ext cx="432000" cy="1079640"/>
          </a:xfrm>
          <a:custGeom>
            <a:avLst/>
            <a:gdLst/>
            <a:ahLst/>
            <a:rect l="l" t="t" r="r" b="b"/>
            <a:pathLst>
              <a:path w="272" h="680">
                <a:moveTo>
                  <a:pt x="0" y="680"/>
                </a:moveTo>
                <a:cubicBezTo>
                  <a:pt x="68" y="340"/>
                  <a:pt x="136" y="0"/>
                  <a:pt x="181" y="0"/>
                </a:cubicBezTo>
                <a:cubicBezTo>
                  <a:pt x="226" y="0"/>
                  <a:pt x="257" y="567"/>
                  <a:pt x="272" y="680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未知"/>
          <p:cNvSpPr/>
          <p:nvPr/>
        </p:nvSpPr>
        <p:spPr>
          <a:xfrm>
            <a:off x="1476360" y="5864400"/>
            <a:ext cx="287280" cy="993600"/>
          </a:xfrm>
          <a:custGeom>
            <a:avLst/>
            <a:gdLst/>
            <a:ahLst/>
            <a:rect l="l" t="t" r="r" b="b"/>
            <a:pathLst>
              <a:path w="453" h="1021">
                <a:moveTo>
                  <a:pt x="0" y="824"/>
                </a:moveTo>
                <a:cubicBezTo>
                  <a:pt x="79" y="412"/>
                  <a:pt x="158" y="0"/>
                  <a:pt x="226" y="8"/>
                </a:cubicBezTo>
                <a:cubicBezTo>
                  <a:pt x="294" y="16"/>
                  <a:pt x="370" y="719"/>
                  <a:pt x="408" y="870"/>
                </a:cubicBezTo>
                <a:cubicBezTo>
                  <a:pt x="446" y="1021"/>
                  <a:pt x="449" y="968"/>
                  <a:pt x="453" y="915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未知"/>
          <p:cNvSpPr/>
          <p:nvPr/>
        </p:nvSpPr>
        <p:spPr>
          <a:xfrm>
            <a:off x="2340000" y="5637240"/>
            <a:ext cx="360360" cy="1392120"/>
          </a:xfrm>
          <a:custGeom>
            <a:avLst/>
            <a:gdLst/>
            <a:ahLst/>
            <a:rect l="l" t="t" r="r" b="b"/>
            <a:pathLst>
              <a:path w="227" h="877">
                <a:moveTo>
                  <a:pt x="0" y="877"/>
                </a:moveTo>
                <a:cubicBezTo>
                  <a:pt x="49" y="453"/>
                  <a:pt x="98" y="30"/>
                  <a:pt x="136" y="15"/>
                </a:cubicBezTo>
                <a:cubicBezTo>
                  <a:pt x="174" y="0"/>
                  <a:pt x="212" y="651"/>
                  <a:pt x="227" y="787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未知"/>
          <p:cNvSpPr/>
          <p:nvPr/>
        </p:nvSpPr>
        <p:spPr>
          <a:xfrm>
            <a:off x="2771640" y="5073480"/>
            <a:ext cx="4837320" cy="2171880"/>
          </a:xfrm>
          <a:custGeom>
            <a:avLst/>
            <a:gdLst/>
            <a:ahLst/>
            <a:rect l="l" t="t" r="r" b="b"/>
            <a:pathLst>
              <a:path w="3047" h="1368">
                <a:moveTo>
                  <a:pt x="0" y="1134"/>
                </a:moveTo>
                <a:cubicBezTo>
                  <a:pt x="106" y="858"/>
                  <a:pt x="212" y="582"/>
                  <a:pt x="272" y="590"/>
                </a:cubicBezTo>
                <a:cubicBezTo>
                  <a:pt x="332" y="598"/>
                  <a:pt x="295" y="1262"/>
                  <a:pt x="363" y="1179"/>
                </a:cubicBezTo>
                <a:cubicBezTo>
                  <a:pt x="431" y="1096"/>
                  <a:pt x="627" y="91"/>
                  <a:pt x="680" y="91"/>
                </a:cubicBezTo>
                <a:cubicBezTo>
                  <a:pt x="733" y="91"/>
                  <a:pt x="620" y="1187"/>
                  <a:pt x="680" y="1179"/>
                </a:cubicBezTo>
                <a:cubicBezTo>
                  <a:pt x="740" y="1171"/>
                  <a:pt x="990" y="45"/>
                  <a:pt x="1043" y="45"/>
                </a:cubicBezTo>
                <a:cubicBezTo>
                  <a:pt x="1096" y="45"/>
                  <a:pt x="945" y="1186"/>
                  <a:pt x="998" y="1179"/>
                </a:cubicBezTo>
                <a:cubicBezTo>
                  <a:pt x="1051" y="1172"/>
                  <a:pt x="1301" y="0"/>
                  <a:pt x="1361" y="0"/>
                </a:cubicBezTo>
                <a:cubicBezTo>
                  <a:pt x="1421" y="0"/>
                  <a:pt x="1293" y="1118"/>
                  <a:pt x="1361" y="1179"/>
                </a:cubicBezTo>
                <a:cubicBezTo>
                  <a:pt x="1429" y="1240"/>
                  <a:pt x="1694" y="363"/>
                  <a:pt x="1769" y="363"/>
                </a:cubicBezTo>
                <a:cubicBezTo>
                  <a:pt x="1844" y="363"/>
                  <a:pt x="1746" y="1149"/>
                  <a:pt x="1814" y="1179"/>
                </a:cubicBezTo>
                <a:cubicBezTo>
                  <a:pt x="1882" y="1209"/>
                  <a:pt x="2094" y="544"/>
                  <a:pt x="2177" y="544"/>
                </a:cubicBezTo>
                <a:cubicBezTo>
                  <a:pt x="2260" y="544"/>
                  <a:pt x="2253" y="1194"/>
                  <a:pt x="2313" y="1179"/>
                </a:cubicBezTo>
                <a:cubicBezTo>
                  <a:pt x="2373" y="1164"/>
                  <a:pt x="2480" y="454"/>
                  <a:pt x="2540" y="454"/>
                </a:cubicBezTo>
                <a:cubicBezTo>
                  <a:pt x="2600" y="454"/>
                  <a:pt x="2600" y="1255"/>
                  <a:pt x="2676" y="1179"/>
                </a:cubicBezTo>
                <a:cubicBezTo>
                  <a:pt x="2752" y="1103"/>
                  <a:pt x="2941" y="0"/>
                  <a:pt x="2994" y="0"/>
                </a:cubicBezTo>
                <a:cubicBezTo>
                  <a:pt x="3047" y="0"/>
                  <a:pt x="3002" y="990"/>
                  <a:pt x="2994" y="1179"/>
                </a:cubicBezTo>
                <a:cubicBezTo>
                  <a:pt x="2986" y="1368"/>
                  <a:pt x="2967" y="1251"/>
                  <a:pt x="2948" y="1134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227160" y="5589720"/>
            <a:ext cx="168120" cy="1295280"/>
          </a:xfrm>
          <a:custGeom>
            <a:avLst/>
            <a:gdLst/>
            <a:ahLst/>
            <a:rect l="l" t="t" r="r" b="b"/>
            <a:pathLst>
              <a:path w="106" h="816">
                <a:moveTo>
                  <a:pt x="15" y="816"/>
                </a:moveTo>
                <a:cubicBezTo>
                  <a:pt x="7" y="408"/>
                  <a:pt x="0" y="0"/>
                  <a:pt x="15" y="0"/>
                </a:cubicBezTo>
                <a:cubicBezTo>
                  <a:pt x="30" y="0"/>
                  <a:pt x="98" y="680"/>
                  <a:pt x="106" y="816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未知"/>
          <p:cNvSpPr/>
          <p:nvPr/>
        </p:nvSpPr>
        <p:spPr>
          <a:xfrm>
            <a:off x="1079640" y="5157720"/>
            <a:ext cx="323640" cy="1727280"/>
          </a:xfrm>
          <a:custGeom>
            <a:avLst/>
            <a:gdLst/>
            <a:ahLst/>
            <a:rect l="l" t="t" r="r" b="b"/>
            <a:pathLst>
              <a:path w="204" h="1088">
                <a:moveTo>
                  <a:pt x="68" y="1088"/>
                </a:moveTo>
                <a:cubicBezTo>
                  <a:pt x="34" y="544"/>
                  <a:pt x="0" y="0"/>
                  <a:pt x="23" y="0"/>
                </a:cubicBezTo>
                <a:cubicBezTo>
                  <a:pt x="46" y="0"/>
                  <a:pt x="174" y="907"/>
                  <a:pt x="204" y="1088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未知"/>
          <p:cNvSpPr/>
          <p:nvPr/>
        </p:nvSpPr>
        <p:spPr>
          <a:xfrm>
            <a:off x="1619280" y="5589720"/>
            <a:ext cx="431640" cy="1295280"/>
          </a:xfrm>
          <a:custGeom>
            <a:avLst/>
            <a:gdLst/>
            <a:ahLst/>
            <a:rect l="l" t="t" r="r" b="b"/>
            <a:pathLst>
              <a:path w="272" h="816">
                <a:moveTo>
                  <a:pt x="0" y="816"/>
                </a:moveTo>
                <a:cubicBezTo>
                  <a:pt x="68" y="408"/>
                  <a:pt x="137" y="0"/>
                  <a:pt x="182" y="0"/>
                </a:cubicBezTo>
                <a:cubicBezTo>
                  <a:pt x="227" y="0"/>
                  <a:pt x="249" y="408"/>
                  <a:pt x="272" y="816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未知"/>
          <p:cNvSpPr/>
          <p:nvPr/>
        </p:nvSpPr>
        <p:spPr>
          <a:xfrm>
            <a:off x="34920" y="5722920"/>
            <a:ext cx="216000" cy="1162080"/>
          </a:xfrm>
          <a:custGeom>
            <a:avLst/>
            <a:gdLst/>
            <a:ahLst/>
            <a:rect l="l" t="t" r="r" b="b"/>
            <a:pathLst>
              <a:path w="136" h="732">
                <a:moveTo>
                  <a:pt x="0" y="732"/>
                </a:moveTo>
                <a:cubicBezTo>
                  <a:pt x="11" y="373"/>
                  <a:pt x="23" y="14"/>
                  <a:pt x="46" y="7"/>
                </a:cubicBezTo>
                <a:cubicBezTo>
                  <a:pt x="69" y="0"/>
                  <a:pt x="121" y="574"/>
                  <a:pt x="136" y="687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未知"/>
          <p:cNvSpPr/>
          <p:nvPr/>
        </p:nvSpPr>
        <p:spPr>
          <a:xfrm>
            <a:off x="347760" y="5877000"/>
            <a:ext cx="407880" cy="1008000"/>
          </a:xfrm>
          <a:custGeom>
            <a:avLst/>
            <a:gdLst/>
            <a:ahLst/>
            <a:rect l="l" t="t" r="r" b="b"/>
            <a:pathLst>
              <a:path w="257" h="635">
                <a:moveTo>
                  <a:pt x="76" y="635"/>
                </a:moveTo>
                <a:cubicBezTo>
                  <a:pt x="38" y="317"/>
                  <a:pt x="0" y="0"/>
                  <a:pt x="30" y="0"/>
                </a:cubicBezTo>
                <a:cubicBezTo>
                  <a:pt x="60" y="0"/>
                  <a:pt x="158" y="317"/>
                  <a:pt x="257" y="635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未知"/>
          <p:cNvSpPr/>
          <p:nvPr/>
        </p:nvSpPr>
        <p:spPr>
          <a:xfrm>
            <a:off x="755640" y="5516640"/>
            <a:ext cx="287280" cy="1368360"/>
          </a:xfrm>
          <a:custGeom>
            <a:avLst/>
            <a:gdLst/>
            <a:ahLst/>
            <a:rect l="l" t="t" r="r" b="b"/>
            <a:pathLst>
              <a:path w="181" h="862">
                <a:moveTo>
                  <a:pt x="0" y="862"/>
                </a:moveTo>
                <a:cubicBezTo>
                  <a:pt x="53" y="431"/>
                  <a:pt x="106" y="0"/>
                  <a:pt x="136" y="0"/>
                </a:cubicBezTo>
                <a:cubicBezTo>
                  <a:pt x="166" y="0"/>
                  <a:pt x="173" y="431"/>
                  <a:pt x="181" y="862"/>
                </a:cubicBezTo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26"/>
          <p:cNvSpPr txBox="1"/>
          <p:nvPr/>
        </p:nvSpPr>
        <p:spPr>
          <a:xfrm>
            <a:off x="3564000" y="2228760"/>
            <a:ext cx="18288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想一想</a:t>
            </a:r>
            <a:endParaRPr b="1" lang="en-US" sz="4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468360" y="320364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楷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楷体"/>
                <a:ea typeface="楷体"/>
              </a:rPr>
              <a:t>你还有什么好办法能摘下月亮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4500720" y="162864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4067280" y="54936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5435640" y="83664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6732720" y="155736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3059280" y="119700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7596360" y="83664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771640" y="40464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5867280" y="170028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"/>
          <p:cNvSpPr/>
          <p:nvPr/>
        </p:nvSpPr>
        <p:spPr>
          <a:xfrm>
            <a:off x="8317080" y="620640"/>
            <a:ext cx="215640" cy="360360"/>
          </a:xfrm>
          <a:custGeom>
            <a:avLst/>
            <a:gdLst>
              <a:gd name="textAreaLeft" fmla="*/ 88920 w 215640"/>
              <a:gd name="textAreaRight" fmla="*/ 126720 w 215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1"/>
          <p:cNvSpPr/>
          <p:nvPr/>
        </p:nvSpPr>
        <p:spPr>
          <a:xfrm>
            <a:off x="395280" y="260280"/>
            <a:ext cx="216000" cy="360360"/>
          </a:xfrm>
          <a:custGeom>
            <a:avLst/>
            <a:gdLst>
              <a:gd name="textAreaLeft" fmla="*/ 88920 w 216000"/>
              <a:gd name="textAreaRight" fmla="*/ 127080 w 216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未知"/>
          <p:cNvSpPr/>
          <p:nvPr/>
        </p:nvSpPr>
        <p:spPr>
          <a:xfrm>
            <a:off x="-25560" y="5254560"/>
            <a:ext cx="7982280" cy="1703520"/>
          </a:xfrm>
          <a:custGeom>
            <a:avLst/>
            <a:gdLst/>
            <a:ahLst/>
            <a:rect l="l" t="t" r="r" b="b"/>
            <a:pathLst>
              <a:path w="5035" h="1073">
                <a:moveTo>
                  <a:pt x="0" y="1043"/>
                </a:moveTo>
                <a:cubicBezTo>
                  <a:pt x="117" y="865"/>
                  <a:pt x="235" y="687"/>
                  <a:pt x="318" y="680"/>
                </a:cubicBezTo>
                <a:cubicBezTo>
                  <a:pt x="401" y="673"/>
                  <a:pt x="401" y="1028"/>
                  <a:pt x="499" y="998"/>
                </a:cubicBezTo>
                <a:cubicBezTo>
                  <a:pt x="597" y="968"/>
                  <a:pt x="786" y="492"/>
                  <a:pt x="907" y="499"/>
                </a:cubicBezTo>
                <a:cubicBezTo>
                  <a:pt x="1028" y="506"/>
                  <a:pt x="1134" y="1073"/>
                  <a:pt x="1225" y="1043"/>
                </a:cubicBezTo>
                <a:cubicBezTo>
                  <a:pt x="1316" y="1013"/>
                  <a:pt x="1392" y="318"/>
                  <a:pt x="1452" y="318"/>
                </a:cubicBezTo>
                <a:cubicBezTo>
                  <a:pt x="1512" y="318"/>
                  <a:pt x="1520" y="1058"/>
                  <a:pt x="1588" y="1043"/>
                </a:cubicBezTo>
                <a:cubicBezTo>
                  <a:pt x="1656" y="1028"/>
                  <a:pt x="1792" y="227"/>
                  <a:pt x="1860" y="227"/>
                </a:cubicBezTo>
                <a:cubicBezTo>
                  <a:pt x="1928" y="227"/>
                  <a:pt x="1928" y="1058"/>
                  <a:pt x="1996" y="1043"/>
                </a:cubicBezTo>
                <a:cubicBezTo>
                  <a:pt x="2064" y="1028"/>
                  <a:pt x="2215" y="136"/>
                  <a:pt x="2268" y="136"/>
                </a:cubicBezTo>
                <a:cubicBezTo>
                  <a:pt x="2321" y="136"/>
                  <a:pt x="2253" y="1036"/>
                  <a:pt x="2313" y="1043"/>
                </a:cubicBezTo>
                <a:cubicBezTo>
                  <a:pt x="2373" y="1050"/>
                  <a:pt x="2578" y="181"/>
                  <a:pt x="2631" y="181"/>
                </a:cubicBezTo>
                <a:cubicBezTo>
                  <a:pt x="2684" y="181"/>
                  <a:pt x="2571" y="1073"/>
                  <a:pt x="2631" y="1043"/>
                </a:cubicBezTo>
                <a:cubicBezTo>
                  <a:pt x="2691" y="1013"/>
                  <a:pt x="2941" y="0"/>
                  <a:pt x="2994" y="0"/>
                </a:cubicBezTo>
                <a:cubicBezTo>
                  <a:pt x="3047" y="0"/>
                  <a:pt x="2880" y="1028"/>
                  <a:pt x="2948" y="1043"/>
                </a:cubicBezTo>
                <a:cubicBezTo>
                  <a:pt x="3016" y="1058"/>
                  <a:pt x="3326" y="91"/>
                  <a:pt x="3402" y="91"/>
                </a:cubicBezTo>
                <a:cubicBezTo>
                  <a:pt x="3478" y="91"/>
                  <a:pt x="3342" y="1058"/>
                  <a:pt x="3402" y="1043"/>
                </a:cubicBezTo>
                <a:cubicBezTo>
                  <a:pt x="3462" y="1028"/>
                  <a:pt x="3674" y="0"/>
                  <a:pt x="3765" y="0"/>
                </a:cubicBezTo>
                <a:cubicBezTo>
                  <a:pt x="3856" y="0"/>
                  <a:pt x="3878" y="1013"/>
                  <a:pt x="3946" y="1043"/>
                </a:cubicBezTo>
                <a:cubicBezTo>
                  <a:pt x="4014" y="1073"/>
                  <a:pt x="4120" y="181"/>
                  <a:pt x="4173" y="181"/>
                </a:cubicBezTo>
                <a:cubicBezTo>
                  <a:pt x="4226" y="181"/>
                  <a:pt x="4188" y="1043"/>
                  <a:pt x="4264" y="1043"/>
                </a:cubicBezTo>
                <a:cubicBezTo>
                  <a:pt x="4340" y="1043"/>
                  <a:pt x="4567" y="188"/>
                  <a:pt x="4627" y="181"/>
                </a:cubicBezTo>
                <a:cubicBezTo>
                  <a:pt x="4687" y="174"/>
                  <a:pt x="4589" y="998"/>
                  <a:pt x="4627" y="998"/>
                </a:cubicBezTo>
                <a:cubicBezTo>
                  <a:pt x="4665" y="998"/>
                  <a:pt x="4785" y="181"/>
                  <a:pt x="4853" y="181"/>
                </a:cubicBezTo>
                <a:cubicBezTo>
                  <a:pt x="4921" y="181"/>
                  <a:pt x="5005" y="854"/>
                  <a:pt x="5035" y="998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未知"/>
          <p:cNvSpPr/>
          <p:nvPr/>
        </p:nvSpPr>
        <p:spPr>
          <a:xfrm>
            <a:off x="539640" y="5842080"/>
            <a:ext cx="432000" cy="1079280"/>
          </a:xfrm>
          <a:custGeom>
            <a:avLst/>
            <a:gdLst/>
            <a:ahLst/>
            <a:rect l="l" t="t" r="r" b="b"/>
            <a:pathLst>
              <a:path w="272" h="680">
                <a:moveTo>
                  <a:pt x="0" y="680"/>
                </a:moveTo>
                <a:cubicBezTo>
                  <a:pt x="68" y="340"/>
                  <a:pt x="136" y="0"/>
                  <a:pt x="181" y="0"/>
                </a:cubicBezTo>
                <a:cubicBezTo>
                  <a:pt x="226" y="0"/>
                  <a:pt x="257" y="567"/>
                  <a:pt x="272" y="680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未知"/>
          <p:cNvSpPr/>
          <p:nvPr/>
        </p:nvSpPr>
        <p:spPr>
          <a:xfrm>
            <a:off x="1476360" y="5900760"/>
            <a:ext cx="287280" cy="993600"/>
          </a:xfrm>
          <a:custGeom>
            <a:avLst/>
            <a:gdLst/>
            <a:ahLst/>
            <a:rect l="l" t="t" r="r" b="b"/>
            <a:pathLst>
              <a:path w="453" h="1021">
                <a:moveTo>
                  <a:pt x="0" y="824"/>
                </a:moveTo>
                <a:cubicBezTo>
                  <a:pt x="79" y="412"/>
                  <a:pt x="158" y="0"/>
                  <a:pt x="226" y="8"/>
                </a:cubicBezTo>
                <a:cubicBezTo>
                  <a:pt x="294" y="16"/>
                  <a:pt x="370" y="719"/>
                  <a:pt x="408" y="870"/>
                </a:cubicBezTo>
                <a:cubicBezTo>
                  <a:pt x="446" y="1021"/>
                  <a:pt x="449" y="968"/>
                  <a:pt x="453" y="91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未知"/>
          <p:cNvSpPr/>
          <p:nvPr/>
        </p:nvSpPr>
        <p:spPr>
          <a:xfrm>
            <a:off x="2340000" y="5708520"/>
            <a:ext cx="360360" cy="1392480"/>
          </a:xfrm>
          <a:custGeom>
            <a:avLst/>
            <a:gdLst/>
            <a:ahLst/>
            <a:rect l="l" t="t" r="r" b="b"/>
            <a:pathLst>
              <a:path w="227" h="877">
                <a:moveTo>
                  <a:pt x="0" y="877"/>
                </a:moveTo>
                <a:cubicBezTo>
                  <a:pt x="49" y="453"/>
                  <a:pt x="98" y="30"/>
                  <a:pt x="136" y="15"/>
                </a:cubicBezTo>
                <a:cubicBezTo>
                  <a:pt x="174" y="0"/>
                  <a:pt x="212" y="651"/>
                  <a:pt x="227" y="787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未知"/>
          <p:cNvSpPr/>
          <p:nvPr/>
        </p:nvSpPr>
        <p:spPr>
          <a:xfrm>
            <a:off x="3132000" y="5013360"/>
            <a:ext cx="4837320" cy="2171520"/>
          </a:xfrm>
          <a:custGeom>
            <a:avLst/>
            <a:gdLst/>
            <a:ahLst/>
            <a:rect l="l" t="t" r="r" b="b"/>
            <a:pathLst>
              <a:path w="3047" h="1368">
                <a:moveTo>
                  <a:pt x="0" y="1134"/>
                </a:moveTo>
                <a:cubicBezTo>
                  <a:pt x="106" y="858"/>
                  <a:pt x="212" y="582"/>
                  <a:pt x="272" y="590"/>
                </a:cubicBezTo>
                <a:cubicBezTo>
                  <a:pt x="332" y="598"/>
                  <a:pt x="295" y="1262"/>
                  <a:pt x="363" y="1179"/>
                </a:cubicBezTo>
                <a:cubicBezTo>
                  <a:pt x="431" y="1096"/>
                  <a:pt x="627" y="91"/>
                  <a:pt x="680" y="91"/>
                </a:cubicBezTo>
                <a:cubicBezTo>
                  <a:pt x="733" y="91"/>
                  <a:pt x="620" y="1187"/>
                  <a:pt x="680" y="1179"/>
                </a:cubicBezTo>
                <a:cubicBezTo>
                  <a:pt x="740" y="1171"/>
                  <a:pt x="990" y="45"/>
                  <a:pt x="1043" y="45"/>
                </a:cubicBezTo>
                <a:cubicBezTo>
                  <a:pt x="1096" y="45"/>
                  <a:pt x="945" y="1186"/>
                  <a:pt x="998" y="1179"/>
                </a:cubicBezTo>
                <a:cubicBezTo>
                  <a:pt x="1051" y="1172"/>
                  <a:pt x="1301" y="0"/>
                  <a:pt x="1361" y="0"/>
                </a:cubicBezTo>
                <a:cubicBezTo>
                  <a:pt x="1421" y="0"/>
                  <a:pt x="1293" y="1118"/>
                  <a:pt x="1361" y="1179"/>
                </a:cubicBezTo>
                <a:cubicBezTo>
                  <a:pt x="1429" y="1240"/>
                  <a:pt x="1694" y="363"/>
                  <a:pt x="1769" y="363"/>
                </a:cubicBezTo>
                <a:cubicBezTo>
                  <a:pt x="1844" y="363"/>
                  <a:pt x="1746" y="1149"/>
                  <a:pt x="1814" y="1179"/>
                </a:cubicBezTo>
                <a:cubicBezTo>
                  <a:pt x="1882" y="1209"/>
                  <a:pt x="2094" y="544"/>
                  <a:pt x="2177" y="544"/>
                </a:cubicBezTo>
                <a:cubicBezTo>
                  <a:pt x="2260" y="544"/>
                  <a:pt x="2253" y="1194"/>
                  <a:pt x="2313" y="1179"/>
                </a:cubicBezTo>
                <a:cubicBezTo>
                  <a:pt x="2373" y="1164"/>
                  <a:pt x="2480" y="454"/>
                  <a:pt x="2540" y="454"/>
                </a:cubicBezTo>
                <a:cubicBezTo>
                  <a:pt x="2600" y="454"/>
                  <a:pt x="2600" y="1255"/>
                  <a:pt x="2676" y="1179"/>
                </a:cubicBezTo>
                <a:cubicBezTo>
                  <a:pt x="2752" y="1103"/>
                  <a:pt x="2941" y="0"/>
                  <a:pt x="2994" y="0"/>
                </a:cubicBezTo>
                <a:cubicBezTo>
                  <a:pt x="3047" y="0"/>
                  <a:pt x="3002" y="990"/>
                  <a:pt x="2994" y="1179"/>
                </a:cubicBezTo>
                <a:cubicBezTo>
                  <a:pt x="2986" y="1368"/>
                  <a:pt x="2967" y="1251"/>
                  <a:pt x="2948" y="1134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未知"/>
          <p:cNvSpPr/>
          <p:nvPr/>
        </p:nvSpPr>
        <p:spPr>
          <a:xfrm>
            <a:off x="227160" y="5626080"/>
            <a:ext cx="168120" cy="1295280"/>
          </a:xfrm>
          <a:custGeom>
            <a:avLst/>
            <a:gdLst/>
            <a:ahLst/>
            <a:rect l="l" t="t" r="r" b="b"/>
            <a:pathLst>
              <a:path w="106" h="816">
                <a:moveTo>
                  <a:pt x="15" y="816"/>
                </a:moveTo>
                <a:cubicBezTo>
                  <a:pt x="7" y="408"/>
                  <a:pt x="0" y="0"/>
                  <a:pt x="15" y="0"/>
                </a:cubicBezTo>
                <a:cubicBezTo>
                  <a:pt x="30" y="0"/>
                  <a:pt x="98" y="680"/>
                  <a:pt x="106" y="816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未知"/>
          <p:cNvSpPr/>
          <p:nvPr/>
        </p:nvSpPr>
        <p:spPr>
          <a:xfrm>
            <a:off x="1079640" y="5194440"/>
            <a:ext cx="323640" cy="1726920"/>
          </a:xfrm>
          <a:custGeom>
            <a:avLst/>
            <a:gdLst/>
            <a:ahLst/>
            <a:rect l="l" t="t" r="r" b="b"/>
            <a:pathLst>
              <a:path w="204" h="1088">
                <a:moveTo>
                  <a:pt x="68" y="1088"/>
                </a:moveTo>
                <a:cubicBezTo>
                  <a:pt x="34" y="544"/>
                  <a:pt x="0" y="0"/>
                  <a:pt x="23" y="0"/>
                </a:cubicBezTo>
                <a:cubicBezTo>
                  <a:pt x="46" y="0"/>
                  <a:pt x="174" y="907"/>
                  <a:pt x="204" y="1088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未知"/>
          <p:cNvSpPr/>
          <p:nvPr/>
        </p:nvSpPr>
        <p:spPr>
          <a:xfrm>
            <a:off x="1619280" y="5626080"/>
            <a:ext cx="431640" cy="1295280"/>
          </a:xfrm>
          <a:custGeom>
            <a:avLst/>
            <a:gdLst/>
            <a:ahLst/>
            <a:rect l="l" t="t" r="r" b="b"/>
            <a:pathLst>
              <a:path w="272" h="816">
                <a:moveTo>
                  <a:pt x="0" y="816"/>
                </a:moveTo>
                <a:cubicBezTo>
                  <a:pt x="68" y="408"/>
                  <a:pt x="137" y="0"/>
                  <a:pt x="182" y="0"/>
                </a:cubicBezTo>
                <a:cubicBezTo>
                  <a:pt x="227" y="0"/>
                  <a:pt x="249" y="408"/>
                  <a:pt x="272" y="816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34920" y="5759280"/>
            <a:ext cx="216000" cy="1162080"/>
          </a:xfrm>
          <a:custGeom>
            <a:avLst/>
            <a:gdLst/>
            <a:ahLst/>
            <a:rect l="l" t="t" r="r" b="b"/>
            <a:pathLst>
              <a:path w="136" h="732">
                <a:moveTo>
                  <a:pt x="0" y="732"/>
                </a:moveTo>
                <a:cubicBezTo>
                  <a:pt x="11" y="373"/>
                  <a:pt x="23" y="14"/>
                  <a:pt x="46" y="7"/>
                </a:cubicBezTo>
                <a:cubicBezTo>
                  <a:pt x="69" y="0"/>
                  <a:pt x="121" y="574"/>
                  <a:pt x="136" y="687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347760" y="5913360"/>
            <a:ext cx="407880" cy="1008000"/>
          </a:xfrm>
          <a:custGeom>
            <a:avLst/>
            <a:gdLst/>
            <a:ahLst/>
            <a:rect l="l" t="t" r="r" b="b"/>
            <a:pathLst>
              <a:path w="257" h="635">
                <a:moveTo>
                  <a:pt x="76" y="635"/>
                </a:moveTo>
                <a:cubicBezTo>
                  <a:pt x="38" y="317"/>
                  <a:pt x="0" y="0"/>
                  <a:pt x="30" y="0"/>
                </a:cubicBezTo>
                <a:cubicBezTo>
                  <a:pt x="60" y="0"/>
                  <a:pt x="158" y="317"/>
                  <a:pt x="257" y="63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未知"/>
          <p:cNvSpPr/>
          <p:nvPr/>
        </p:nvSpPr>
        <p:spPr>
          <a:xfrm>
            <a:off x="755640" y="5553000"/>
            <a:ext cx="287280" cy="1368360"/>
          </a:xfrm>
          <a:custGeom>
            <a:avLst/>
            <a:gdLst/>
            <a:ahLst/>
            <a:rect l="l" t="t" r="r" b="b"/>
            <a:pathLst>
              <a:path w="181" h="862">
                <a:moveTo>
                  <a:pt x="0" y="862"/>
                </a:moveTo>
                <a:cubicBezTo>
                  <a:pt x="53" y="431"/>
                  <a:pt x="106" y="0"/>
                  <a:pt x="136" y="0"/>
                </a:cubicBezTo>
                <a:cubicBezTo>
                  <a:pt x="166" y="0"/>
                  <a:pt x="173" y="431"/>
                  <a:pt x="181" y="862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3"/>
          <p:cNvSpPr/>
          <p:nvPr/>
        </p:nvSpPr>
        <p:spPr>
          <a:xfrm>
            <a:off x="181080" y="836640"/>
            <a:ext cx="878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5400" spc="-1" strike="noStrike">
                <a:solidFill>
                  <a:srgbClr val="660066"/>
                </a:solidFill>
                <a:latin typeface="Arial"/>
                <a:ea typeface="楷体"/>
              </a:rPr>
              <a:t> </a:t>
            </a:r>
            <a:r>
              <a:rPr b="1" lang="zh-CN" sz="5400" spc="-1" strike="noStrike">
                <a:solidFill>
                  <a:srgbClr val="ffff99"/>
                </a:solidFill>
                <a:latin typeface="Arial"/>
                <a:ea typeface="楷体"/>
              </a:rPr>
              <a:t>小朋友，你觉得这个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Arial"/>
                <a:ea typeface="楷体"/>
              </a:rPr>
              <a:t>事有趣吗？在这个故事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Arial"/>
                <a:ea typeface="楷体"/>
              </a:rPr>
              <a:t>你最喜欢哪些句子？读出来与大家一起分享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03360" y="1935000"/>
            <a:ext cx="30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825640" y="1754280"/>
            <a:ext cx="1478160" cy="1261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39640" y="1775160"/>
            <a:ext cx="1067040" cy="1036440"/>
          </a:xfrm>
          <a:custGeom>
            <a:avLst/>
            <a:gdLst>
              <a:gd name="textAreaLeft" fmla="*/ 230040 w 1067040"/>
              <a:gd name="textAreaRight" fmla="*/ 750960 w 1067040"/>
              <a:gd name="textAreaTop" fmla="*/ 196560 h 1036440"/>
              <a:gd name="textAreaBottom" fmla="*/ 839880 h 103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400" y="2727"/>
                  <a:pt x="15199" y="5080"/>
                  <a:pt x="15199" y="10800"/>
                </a:cubicBezTo>
                <a:cubicBezTo>
                  <a:pt x="15199" y="16520"/>
                  <a:pt x="18400" y="1887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203640" y="1904040"/>
            <a:ext cx="12002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95" y="2330"/>
                  <a:pt x="12990" y="5080"/>
                  <a:pt x="12990" y="10800"/>
                </a:cubicBezTo>
                <a:cubicBezTo>
                  <a:pt x="12990" y="16520"/>
                  <a:pt x="17295" y="192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076720" y="1923120"/>
            <a:ext cx="12002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95" y="2330"/>
                  <a:pt x="12990" y="5080"/>
                  <a:pt x="12990" y="10800"/>
                </a:cubicBezTo>
                <a:cubicBezTo>
                  <a:pt x="12990" y="16520"/>
                  <a:pt x="17295" y="192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7093080" y="1923120"/>
            <a:ext cx="1199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95" y="2330"/>
                  <a:pt x="12990" y="5080"/>
                  <a:pt x="12990" y="10800"/>
                </a:cubicBezTo>
                <a:cubicBezTo>
                  <a:pt x="12990" y="16520"/>
                  <a:pt x="17295" y="192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1908000" y="3783960"/>
            <a:ext cx="12002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95" y="2330"/>
                  <a:pt x="12990" y="5080"/>
                  <a:pt x="12990" y="10800"/>
                </a:cubicBezTo>
                <a:cubicBezTo>
                  <a:pt x="12990" y="16520"/>
                  <a:pt x="17295" y="192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4597560" y="3764880"/>
            <a:ext cx="11984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95" y="2330"/>
                  <a:pt x="12990" y="5080"/>
                  <a:pt x="12990" y="10800"/>
                </a:cubicBezTo>
                <a:cubicBezTo>
                  <a:pt x="12990" y="16520"/>
                  <a:pt x="17295" y="192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ject 10" descr=""/>
          <p:cNvPicPr/>
          <p:nvPr/>
        </p:nvPicPr>
        <p:blipFill>
          <a:blip r:embed="rId1"/>
          <a:stretch/>
        </p:blipFill>
        <p:spPr>
          <a:xfrm>
            <a:off x="411480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612000" y="1276200"/>
            <a:ext cx="8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259440" y="1204920"/>
            <a:ext cx="8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294160" y="1203480"/>
            <a:ext cx="6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ĭ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7156440" y="1052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u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872720" y="3139920"/>
            <a:ext cx="9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48680" y="3068640"/>
            <a:ext cx="8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135072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2783160" y="198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257040" y="298440"/>
            <a:ext cx="31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527040" y="569880"/>
            <a:ext cx="311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1"/>
          <p:cNvSpPr txBox="1"/>
          <p:nvPr/>
        </p:nvSpPr>
        <p:spPr>
          <a:xfrm>
            <a:off x="324000" y="189000"/>
            <a:ext cx="152388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我会读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5879520" y="198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8210520" y="23256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7881480" y="198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719440" y="3857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迷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5446080" y="378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721080" y="5430960"/>
            <a:ext cx="11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撒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2658960" y="544500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4087800" y="544212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5456160" y="5442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迅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6824520" y="544212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396720" y="4940280"/>
            <a:ext cx="30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373680" y="4941720"/>
            <a:ext cx="114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ā t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2679120" y="5013360"/>
            <a:ext cx="9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3844440" y="501336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5126040" y="501012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 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6495120" y="50101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z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539640" y="83664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月亮总躲在前面的树梢上，和他捉迷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166760" y="2997360"/>
            <a:ext cx="69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明亮的天空，就像小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人的那面镜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1476360" y="3357720"/>
            <a:ext cx="217440" cy="288720"/>
          </a:xfrm>
          <a:custGeom>
            <a:avLst/>
            <a:gdLst>
              <a:gd name="textAreaLeft" fmla="*/ 49680 w 217440"/>
              <a:gd name="textAreaRight" fmla="*/ 167760 w 217440"/>
              <a:gd name="textAreaTop" fmla="*/ 66240 h 288720"/>
              <a:gd name="textAreaBottom" fmla="*/ 2224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1476360" y="1123920"/>
            <a:ext cx="217440" cy="291960"/>
          </a:xfrm>
          <a:custGeom>
            <a:avLst/>
            <a:gdLst>
              <a:gd name="textAreaLeft" fmla="*/ 49680 w 217440"/>
              <a:gd name="textAreaRight" fmla="*/ 167760 w 217440"/>
              <a:gd name="textAreaTop" fmla="*/ 66960 h 291960"/>
              <a:gd name="textAreaBottom" fmla="*/ 22500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608480" y="260280"/>
            <a:ext cx="5139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小猴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黄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黑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楷体"/>
              </a:rPr>
              <a:t>小猫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在草地上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50920" y="2492280"/>
            <a:ext cx="8929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在操场上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250920" y="4653000"/>
            <a:ext cx="9001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在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5"/>
          <p:cNvGrpSpPr/>
          <p:nvPr/>
        </p:nvGrpSpPr>
        <p:grpSpPr>
          <a:xfrm>
            <a:off x="395280" y="2133720"/>
            <a:ext cx="2789640" cy="703440"/>
            <a:chOff x="395280" y="2133720"/>
            <a:chExt cx="2789640" cy="703440"/>
          </a:xfrm>
        </p:grpSpPr>
        <p:sp>
          <p:nvSpPr>
            <p:cNvPr id="294" name="Text Box 6"/>
            <p:cNvSpPr/>
            <p:nvPr/>
          </p:nvSpPr>
          <p:spPr>
            <a:xfrm>
              <a:off x="1480320" y="213372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ff"/>
                  </a:solidFill>
                  <a:latin typeface="Arial"/>
                  <a:ea typeface="楷体"/>
                </a:rPr>
                <a:t>我也会说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7"/>
            <p:cNvSpPr/>
            <p:nvPr/>
          </p:nvSpPr>
          <p:spPr>
            <a:xfrm>
              <a:off x="395280" y="2206080"/>
              <a:ext cx="575280" cy="576360"/>
            </a:xfrm>
            <a:prstGeom prst="smileyFace">
              <a:avLst>
                <a:gd name="adj" fmla="val 4653"/>
              </a:avLst>
            </a:prstGeom>
            <a:solidFill>
              <a:srgbClr val="fbdf53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utoShape 8"/>
          <p:cNvSpPr/>
          <p:nvPr/>
        </p:nvSpPr>
        <p:spPr>
          <a:xfrm>
            <a:off x="1547640" y="692280"/>
            <a:ext cx="217800" cy="291960"/>
          </a:xfrm>
          <a:custGeom>
            <a:avLst/>
            <a:gdLst>
              <a:gd name="textAreaLeft" fmla="*/ 50040 w 217800"/>
              <a:gd name="textAreaRight" fmla="*/ 167760 w 217800"/>
              <a:gd name="textAreaTop" fmla="*/ 66960 h 291960"/>
              <a:gd name="textAreaBottom" fmla="*/ 22500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a87e0db8a2264f5d817099084ae66717#&#9;#图片框 95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258480" cy="6912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763200" y="404640"/>
            <a:ext cx="321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919160" y="549360"/>
            <a:ext cx="41612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楷体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请你把《摘月亮》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讲给家人听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"/>
          <p:cNvSpPr/>
          <p:nvPr/>
        </p:nvSpPr>
        <p:spPr>
          <a:xfrm>
            <a:off x="0" y="5710320"/>
            <a:ext cx="78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 rot="20849400">
            <a:off x="324000" y="342864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再见！小朋友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E223-55D9-4FA1-8D44-DD9D2E0950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a87e0db8a2264f5d817099084ae66717#&#9;#图片框 95"/>
          <p:cNvPicPr/>
          <p:nvPr/>
        </p:nvPicPr>
        <p:blipFill>
          <a:blip r:embed="rId1">
            <a:lum contrast="50000"/>
          </a:blip>
          <a:stretch/>
        </p:blipFill>
        <p:spPr>
          <a:xfrm>
            <a:off x="0" y="-15840"/>
            <a:ext cx="9182160" cy="6867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c95c4779bd664bfcad4eb916edcfe393#&#9;#图片框 101"/>
          <p:cNvPicPr/>
          <p:nvPr/>
        </p:nvPicPr>
        <p:blipFill>
          <a:blip r:embed="rId1">
            <a:lum contrast="44000"/>
          </a:blip>
          <a:stretch/>
        </p:blipFill>
        <p:spPr>
          <a:xfrm>
            <a:off x="0" y="-15840"/>
            <a:ext cx="9226440" cy="689616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3"/>
          <p:cNvGrpSpPr/>
          <p:nvPr/>
        </p:nvGrpSpPr>
        <p:grpSpPr>
          <a:xfrm>
            <a:off x="3635280" y="-11160"/>
            <a:ext cx="6121440" cy="3656160"/>
            <a:chOff x="3635280" y="-11160"/>
            <a:chExt cx="6121440" cy="3656160"/>
          </a:xfrm>
        </p:grpSpPr>
        <p:sp>
          <p:nvSpPr>
            <p:cNvPr id="198" name="AutoShape 4"/>
            <p:cNvSpPr/>
            <p:nvPr/>
          </p:nvSpPr>
          <p:spPr>
            <a:xfrm>
              <a:off x="3635280" y="-11160"/>
              <a:ext cx="5544720" cy="3656160"/>
            </a:xfrm>
            <a:prstGeom prst="cloudCallout">
              <a:avLst>
                <a:gd name="adj1" fmla="val -21425"/>
                <a:gd name="adj2" fmla="val 58180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5"/>
            <p:cNvSpPr/>
            <p:nvPr/>
          </p:nvSpPr>
          <p:spPr>
            <a:xfrm>
              <a:off x="4067640" y="418680"/>
              <a:ext cx="5689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    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我们来比一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比，看谁能把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月亮摘下来。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摘月亮 课文朗读.mpeg" descr="摘月亮 课文朗读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59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12720" y="62064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6600"/>
                </a:solidFill>
                <a:latin typeface="Arial"/>
                <a:ea typeface="楷体"/>
              </a:rPr>
              <a:t>自由读课文，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黄狗、黑熊、小猴、小猫分别是用什么方法摘月亮的？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"/>
              </a:rPr>
              <a:t>请把小动物们怎样摘月亮的句子用“——”画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4c7fa4cc8b64dc2a70bdc0fc2cc7416#&#9;#图片框 143"/>
          <p:cNvPicPr/>
          <p:nvPr/>
        </p:nvPicPr>
        <p:blipFill>
          <a:blip r:embed="rId1">
            <a:lum contrast="50000"/>
          </a:blip>
          <a:stretch/>
        </p:blipFill>
        <p:spPr>
          <a:xfrm>
            <a:off x="-27000" y="-17640"/>
            <a:ext cx="9177480" cy="68756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3"/>
          <p:cNvGrpSpPr/>
          <p:nvPr/>
        </p:nvGrpSpPr>
        <p:grpSpPr>
          <a:xfrm>
            <a:off x="3225960" y="5661000"/>
            <a:ext cx="5928480" cy="920160"/>
            <a:chOff x="3225960" y="5661000"/>
            <a:chExt cx="5928480" cy="920160"/>
          </a:xfrm>
        </p:grpSpPr>
        <p:sp>
          <p:nvSpPr>
            <p:cNvPr id="204" name="AutoShape 4"/>
            <p:cNvSpPr/>
            <p:nvPr/>
          </p:nvSpPr>
          <p:spPr>
            <a:xfrm>
              <a:off x="3225960" y="5661000"/>
              <a:ext cx="5928480" cy="865080"/>
            </a:xfrm>
            <a:prstGeom prst="borderCallout1">
              <a:avLst>
                <a:gd name="adj1" fmla="val 18750"/>
                <a:gd name="adj2" fmla="val -8333"/>
                <a:gd name="adj3" fmla="val -42180"/>
                <a:gd name="adj4" fmla="val -212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5"/>
            <p:cNvSpPr/>
            <p:nvPr/>
          </p:nvSpPr>
          <p:spPr>
            <a:xfrm>
              <a:off x="6209280" y="5816880"/>
              <a:ext cx="453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0000"/>
                  </a:solidFill>
                  <a:latin typeface="Arial"/>
                  <a:ea typeface="楷体"/>
                </a:rPr>
                <a:t>黄狗撒腿向山坡跑去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6"/>
          <p:cNvSpPr/>
          <p:nvPr/>
        </p:nvSpPr>
        <p:spPr>
          <a:xfrm>
            <a:off x="4068720" y="765000"/>
            <a:ext cx="4967280" cy="1873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汪汪汪，月亮就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山尖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黑熊"/>
          <p:cNvPicPr/>
          <p:nvPr/>
        </p:nvPicPr>
        <p:blipFill>
          <a:blip r:embed="rId1"/>
          <a:stretch/>
        </p:blipFill>
        <p:spPr>
          <a:xfrm>
            <a:off x="0" y="0"/>
            <a:ext cx="9288360" cy="688500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3"/>
          <p:cNvSpPr/>
          <p:nvPr/>
        </p:nvSpPr>
        <p:spPr>
          <a:xfrm>
            <a:off x="4861080" y="836640"/>
            <a:ext cx="4174920" cy="2449440"/>
          </a:xfrm>
          <a:prstGeom prst="wedgeRectCallout">
            <a:avLst>
              <a:gd name="adj1" fmla="val -33750"/>
              <a:gd name="adj2" fmla="val 8466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黑熊   来一根又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粗的竹竿，  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钩子，用力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挂在树梢的月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013440" y="981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7760520" y="1563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497640" y="4560840"/>
            <a:ext cx="152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8317080" y="2133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1044720" y="1123920"/>
            <a:ext cx="3240000" cy="2449440"/>
          </a:xfrm>
          <a:custGeom>
            <a:avLst/>
            <a:gdLst>
              <a:gd name="textAreaLeft" fmla="*/ 288360 w 3240000"/>
              <a:gd name="textAreaRight" fmla="*/ 2951640 w 3240000"/>
              <a:gd name="textAreaTop" fmla="*/ 288360 h 2449440"/>
              <a:gd name="textAreaBottom" fmla="*/ 2161080 h 2449440"/>
            </a:gdLst>
            <a:ahLst/>
            <a:rect l="textAreaLeft" t="textAreaTop" r="textAreaRight" b="textAreaBottom"/>
            <a:pathLst>
              <a:path w="285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4970" y="21600"/>
                </a:lnTo>
                <a:arcTo wR="3600" hR="3600" stAng="10800000" swAng="5400000"/>
                <a:lnTo>
                  <a:pt x="28570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2f15a5232c9e4ad4b69d28b051abdf2a#&#9;#图片框 151"/>
          <p:cNvPicPr/>
          <p:nvPr/>
        </p:nvPicPr>
        <p:blipFill>
          <a:blip r:embed="rId1"/>
          <a:stretch/>
        </p:blipFill>
        <p:spPr>
          <a:xfrm>
            <a:off x="0" y="-17640"/>
            <a:ext cx="9217080" cy="689796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3"/>
          <p:cNvSpPr/>
          <p:nvPr/>
        </p:nvSpPr>
        <p:spPr>
          <a:xfrm>
            <a:off x="-25560" y="4581360"/>
            <a:ext cx="5677200" cy="1730520"/>
          </a:xfrm>
          <a:prstGeom prst="wedgeRoundRectCallout">
            <a:avLst>
              <a:gd name="adj1" fmla="val -4935"/>
              <a:gd name="adj2" fmla="val -109384"/>
              <a:gd name="adj3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他抓住树枝荡过来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过去，可月亮总躲在前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的树梢上，和他捉迷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252360" y="189000"/>
            <a:ext cx="4615920" cy="811080"/>
            <a:chOff x="252360" y="189000"/>
            <a:chExt cx="4615920" cy="811080"/>
          </a:xfrm>
        </p:grpSpPr>
        <p:sp>
          <p:nvSpPr>
            <p:cNvPr id="217" name="AutoShape 5"/>
            <p:cNvSpPr/>
            <p:nvPr/>
          </p:nvSpPr>
          <p:spPr>
            <a:xfrm>
              <a:off x="252360" y="189000"/>
              <a:ext cx="4615920" cy="811080"/>
            </a:xfrm>
            <a:prstGeom prst="flowChartAlternateProcess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6"/>
            <p:cNvSpPr/>
            <p:nvPr/>
          </p:nvSpPr>
          <p:spPr>
            <a:xfrm>
              <a:off x="1346040" y="297000"/>
              <a:ext cx="249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小猴嗖地爬上树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21:27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4:55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