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7.jpeg" ContentType="image/jpeg"/>
  <Override PartName="/ppt/media/image3.gif" ContentType="image/gif"/>
  <Override PartName="/ppt/media/image26.jpeg" ContentType="image/jpeg"/>
  <Override PartName="/ppt/media/image5.jpeg" ContentType="image/jpeg"/>
  <Override PartName="/ppt/media/image4.png" ContentType="image/png"/>
  <Override PartName="/ppt/media/laser.wav" ContentType="audio/x-wav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4.jpeg" ContentType="image/jpeg"/>
  <Override PartName="/ppt/media/image13.gif" ContentType="image/gif"/>
  <Override PartName="/ppt/media/image1.jpeg" ContentType="image/jpeg"/>
  <Override PartName="/ppt/media/image22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18.gif" ContentType="image/gif"/>
  <Override PartName="/ppt/media/image2.gif" ContentType="image/gif"/>
  <Override PartName="/ppt/media/image19.jpeg" ContentType="image/jpeg"/>
  <Override PartName="/ppt/media/image20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0F82-FB52-440E-B706-6B7732EFD2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3DE-D915-4269-9BAE-AE9158D88E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1A4-F1E8-4495-97DF-BA5339B8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1E3-98F2-48A2-9E0B-672100A8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8E4-2826-4D10-A227-86494D58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3E8-0354-468C-A003-23B294B0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4BE-2057-4942-BF33-03839133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EBE-D597-4266-97D9-786FD02C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62F-6DA7-4AAE-AD94-4D232E00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0D5-D27F-4D8A-9291-0B8646C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2B1-C8B2-4CF9-9FCE-8DFBA3FD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DBC-1C03-471D-91BD-FA4CA82B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C1A-9BC9-44D5-B3C4-3D7D1694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C50-7438-48AD-A325-AF40443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C03F-BCED-49AA-9438-3F49D2E86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4.pn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" name="Picture 4" descr="200704040525012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1428840" y="893880"/>
            <a:ext cx="6286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9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中宋"/>
              </a:rPr>
              <a:t>遍地黄金</a:t>
            </a:r>
            <a:endParaRPr b="1" lang="en-US" sz="7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1" name="Picture 10" descr="50"/>
          <p:cNvPicPr/>
          <p:nvPr/>
        </p:nvPicPr>
        <p:blipFill>
          <a:blip r:embed="rId2"/>
          <a:stretch/>
        </p:blipFill>
        <p:spPr>
          <a:xfrm>
            <a:off x="755640" y="4437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50"/>
          <p:cNvPicPr/>
          <p:nvPr/>
        </p:nvPicPr>
        <p:blipFill>
          <a:blip r:embed="rId3"/>
          <a:stretch/>
        </p:blipFill>
        <p:spPr>
          <a:xfrm>
            <a:off x="971640" y="4653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50"/>
          <p:cNvPicPr/>
          <p:nvPr/>
        </p:nvPicPr>
        <p:blipFill>
          <a:blip r:embed="rId4"/>
          <a:stretch/>
        </p:blipFill>
        <p:spPr>
          <a:xfrm>
            <a:off x="539640" y="5805360"/>
            <a:ext cx="914400" cy="61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50"/>
          <p:cNvPicPr/>
          <p:nvPr/>
        </p:nvPicPr>
        <p:blipFill>
          <a:blip r:embed="rId5"/>
          <a:stretch/>
        </p:blipFill>
        <p:spPr>
          <a:xfrm rot="2017200">
            <a:off x="3219120" y="4095720"/>
            <a:ext cx="7207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50"/>
          <p:cNvPicPr/>
          <p:nvPr/>
        </p:nvPicPr>
        <p:blipFill>
          <a:blip r:embed="rId6"/>
          <a:stretch/>
        </p:blipFill>
        <p:spPr>
          <a:xfrm>
            <a:off x="5958000" y="5553000"/>
            <a:ext cx="647640" cy="47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50"/>
          <p:cNvPicPr/>
          <p:nvPr/>
        </p:nvPicPr>
        <p:blipFill>
          <a:blip r:embed="rId7"/>
          <a:stretch/>
        </p:blipFill>
        <p:spPr>
          <a:xfrm rot="19891200">
            <a:off x="468000" y="364500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50"/>
          <p:cNvPicPr/>
          <p:nvPr/>
        </p:nvPicPr>
        <p:blipFill>
          <a:blip r:embed="rId8"/>
          <a:stretch/>
        </p:blipFill>
        <p:spPr>
          <a:xfrm rot="2466600">
            <a:off x="3746160" y="5184720"/>
            <a:ext cx="914400" cy="61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50"/>
          <p:cNvPicPr/>
          <p:nvPr/>
        </p:nvPicPr>
        <p:blipFill>
          <a:blip r:embed="rId9"/>
          <a:stretch/>
        </p:blipFill>
        <p:spPr>
          <a:xfrm rot="20448600">
            <a:off x="6492960" y="4680000"/>
            <a:ext cx="1200240" cy="104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47"/>
          <p:cNvPicPr/>
          <p:nvPr/>
        </p:nvPicPr>
        <p:blipFill>
          <a:blip r:embed="rId10"/>
          <a:stretch/>
        </p:blipFill>
        <p:spPr>
          <a:xfrm>
            <a:off x="6948360" y="0"/>
            <a:ext cx="1766880" cy="1728720"/>
          </a:xfrm>
          <a:prstGeom prst="rect">
            <a:avLst/>
          </a:prstGeom>
          <a:ln w="0">
            <a:noFill/>
          </a:ln>
        </p:spPr>
      </p:pic>
      <p:pic>
        <p:nvPicPr>
          <p:cNvPr id="60" name="矩形 15" descr=""/>
          <p:cNvPicPr/>
          <p:nvPr/>
        </p:nvPicPr>
        <p:blipFill>
          <a:blip r:embed="rId11"/>
          <a:stretch/>
        </p:blipFill>
        <p:spPr>
          <a:xfrm>
            <a:off x="1892160" y="5973840"/>
            <a:ext cx="5500800" cy="4935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  <p:sndAc>
      <p:stSnd>
        <p:snd r:embed="rId1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84360" y="255888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348000" y="25588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气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084720" y="2565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花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E-mail"/>
          <p:cNvPicPr/>
          <p:nvPr/>
        </p:nvPicPr>
        <p:blipFill>
          <a:blip r:embed="rId2"/>
          <a:stretch/>
        </p:blipFill>
        <p:spPr>
          <a:xfrm>
            <a:off x="0" y="0"/>
            <a:ext cx="2881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yalands_117534430225780[1]"/>
          <p:cNvPicPr/>
          <p:nvPr/>
        </p:nvPicPr>
        <p:blipFill>
          <a:blip r:embed="rId2"/>
          <a:stretch/>
        </p:blipFill>
        <p:spPr>
          <a:xfrm>
            <a:off x="250920" y="26028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007513123910761[1]"/>
          <p:cNvPicPr/>
          <p:nvPr/>
        </p:nvPicPr>
        <p:blipFill>
          <a:blip r:embed="rId3"/>
          <a:stretch/>
        </p:blipFill>
        <p:spPr>
          <a:xfrm>
            <a:off x="3348000" y="260280"/>
            <a:ext cx="2664000" cy="216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20071006113247888"/>
          <p:cNvPicPr/>
          <p:nvPr/>
        </p:nvPicPr>
        <p:blipFill>
          <a:blip r:embed="rId4"/>
          <a:stretch/>
        </p:blipFill>
        <p:spPr>
          <a:xfrm>
            <a:off x="6372360" y="260280"/>
            <a:ext cx="244944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9382608[1]"/>
          <p:cNvPicPr/>
          <p:nvPr/>
        </p:nvPicPr>
        <p:blipFill>
          <a:blip r:embed="rId5"/>
          <a:stretch/>
        </p:blipFill>
        <p:spPr>
          <a:xfrm>
            <a:off x="1258920" y="3141720"/>
            <a:ext cx="6769080" cy="3500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4211640" y="2492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菊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7236000" y="24922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葵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971640" y="2492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柳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50"/>
          <p:cNvPicPr/>
          <p:nvPr/>
        </p:nvPicPr>
        <p:blipFill>
          <a:blip r:embed="rId6"/>
          <a:stretch/>
        </p:blipFill>
        <p:spPr>
          <a:xfrm rot="16738800">
            <a:off x="4211640" y="544500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50"/>
          <p:cNvPicPr/>
          <p:nvPr/>
        </p:nvPicPr>
        <p:blipFill>
          <a:blip r:embed="rId7"/>
          <a:stretch/>
        </p:blipFill>
        <p:spPr>
          <a:xfrm rot="1055400">
            <a:off x="5648040" y="501804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laser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2124000" y="1413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黄得明净、酣畅、秀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24000" y="2565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清芳扑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260360" y="141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颜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042920" y="2565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气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260360" y="364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花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2683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140360" y="2565360"/>
            <a:ext cx="23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蝶舞蜂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amera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"/>
                            </p:stCondLst>
                            <p:childTnLst>
                              <p:par>
                                <p:cTn id="11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"/>
                            </p:stCondLst>
                            <p:childTnLst>
                              <p:par>
                                <p:cTn id="11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1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24" name="WordArt 5"/>
          <p:cNvSpPr txBox="1"/>
          <p:nvPr/>
        </p:nvSpPr>
        <p:spPr>
          <a:xfrm>
            <a:off x="1692360" y="836640"/>
            <a:ext cx="129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4000" spc="1" strike="noStrike">
              <a:ln w="12600">
                <a:solidFill>
                  <a:srgbClr val="333399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039840" y="5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92360" y="443700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403280" y="2349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最后一段在文章中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348000" y="3716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龙点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200461212191699247"/>
          <p:cNvPicPr/>
          <p:nvPr/>
        </p:nvPicPr>
        <p:blipFill>
          <a:blip r:embed="rId2"/>
          <a:stretch/>
        </p:blipFill>
        <p:spPr>
          <a:xfrm>
            <a:off x="5364000" y="4581360"/>
            <a:ext cx="238140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3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c1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3" name="WordArt 5"/>
          <p:cNvSpPr txBox="1"/>
          <p:nvPr/>
        </p:nvSpPr>
        <p:spPr>
          <a:xfrm>
            <a:off x="1692360" y="836640"/>
            <a:ext cx="129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4000" spc="1" strike="noStrike">
              <a:ln w="12600">
                <a:solidFill>
                  <a:srgbClr val="333399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039840" y="5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692360" y="443700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403280" y="1700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油菜花对作者生命态度产生的重要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403280" y="269712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油菜花唤醒了作者生命中沉睡的信念，使作者认识到生命是顽强不屈，充满活力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200461212191699247"/>
          <p:cNvPicPr/>
          <p:nvPr/>
        </p:nvPicPr>
        <p:blipFill>
          <a:blip r:embed="rId2"/>
          <a:stretch/>
        </p:blipFill>
        <p:spPr>
          <a:xfrm>
            <a:off x="5372280" y="4621320"/>
            <a:ext cx="2381040" cy="19368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"/>
          <p:cNvSpPr/>
          <p:nvPr/>
        </p:nvSpPr>
        <p:spPr>
          <a:xfrm>
            <a:off x="1403280" y="6031080"/>
            <a:ext cx="65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3" name="chime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1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43" name="WordArt 5"/>
          <p:cNvSpPr txBox="1"/>
          <p:nvPr/>
        </p:nvSpPr>
        <p:spPr>
          <a:xfrm>
            <a:off x="1692360" y="836640"/>
            <a:ext cx="129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4000" spc="1" strike="noStrike">
              <a:ln w="12600">
                <a:solidFill>
                  <a:srgbClr val="333399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039840" y="5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692360" y="443700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03280" y="170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本文为什么要以“遍地黄金”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403280" y="24210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油菜花遍地都是，呈现一片黄色，犹如遍地铺满黄金，油菜花在作者生命中具有重要的影响，鼓励我顽强生活，它似黄金又胜过黄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200461212191699247"/>
          <p:cNvPicPr/>
          <p:nvPr/>
        </p:nvPicPr>
        <p:blipFill>
          <a:blip r:embed="rId2"/>
          <a:stretch/>
        </p:blipFill>
        <p:spPr>
          <a:xfrm>
            <a:off x="5508720" y="4699080"/>
            <a:ext cx="223668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3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933200" y="333360"/>
            <a:ext cx="529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蜷缩在湿漉漉的雨季，整个儿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802240" y="105264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颗受潮的糖，沮丧而无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924600" y="10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（比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950480" y="2492280"/>
            <a:ext cx="56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蝴蝶儿忙起来，那种小巧的蝴蝶，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830600" y="328464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，黄的，黑的，像穿了薄绸衫的小天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830600" y="4005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似的，在花上轻盈地飞，又如金色海波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909440" y="4724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点点灵动的幻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2029320" y="5734080"/>
            <a:ext cx="17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（拟人 、比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6560" y="41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560" y="17409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607480" y="1122480"/>
            <a:ext cx="463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前日忽然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心也跟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052640" y="2347920"/>
            <a:ext cx="78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一眼，心田就会洒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阳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77720" y="30654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们其实就是活的香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阳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28480" y="4148280"/>
            <a:ext cx="350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收获遍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黄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那是一年乃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20640" y="48657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生受用不尽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黄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25280" y="44280"/>
            <a:ext cx="36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课后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1001-DD84-4FC1-9244-E8A9C94356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906010_10141809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780905_101636025989_2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805010631513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6632244_185949616199_2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7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242440" y="1268280"/>
            <a:ext cx="13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蜷缩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蜷曲紧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33200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349720" y="220500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沮丧：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灰心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349720" y="328464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豁亮：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宽敞明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2388600" y="4365720"/>
            <a:ext cx="1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阴晦：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昏暗、阴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6069240" y="33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酣畅：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畅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6336000" y="436572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诧异：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惊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ren"/>
          <p:cNvPicPr/>
          <p:nvPr/>
        </p:nvPicPr>
        <p:blipFill>
          <a:blip r:embed="rId2"/>
          <a:stretch/>
        </p:blipFill>
        <p:spPr>
          <a:xfrm>
            <a:off x="5867280" y="522936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tov=72"/>
          <p:cNvPicPr/>
          <p:nvPr/>
        </p:nvPicPr>
        <p:blipFill>
          <a:blip r:embed="rId3"/>
          <a:stretch/>
        </p:blipFill>
        <p:spPr>
          <a:xfrm>
            <a:off x="4140360" y="90792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1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2" name="WordArt 6"/>
          <p:cNvSpPr txBox="1"/>
          <p:nvPr/>
        </p:nvSpPr>
        <p:spPr>
          <a:xfrm>
            <a:off x="1692360" y="836640"/>
            <a:ext cx="129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039840" y="5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900080" y="1844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”为什么特别喜欢油菜花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900080" y="2925720"/>
            <a:ext cx="560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文中哪些些自然段具体描写了油菜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从哪些方面具体描写油菜花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979640" y="44895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最后一段在文章中的作用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812548D0D7205150B29F00603BDB9BB7"/>
          <p:cNvPicPr/>
          <p:nvPr/>
        </p:nvPicPr>
        <p:blipFill>
          <a:blip r:embed="rId3"/>
          <a:stretch/>
        </p:blipFill>
        <p:spPr>
          <a:xfrm flipH="1" rot="19200">
            <a:off x="5724000" y="5803560"/>
            <a:ext cx="1855800" cy="61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4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1:44:32Z</dcterms:modified>
  <cp:revision>1</cp:revision>
  <dc:subject/>
  <dc:title>幻灯片 1</dc:title>
</cp:coreProperties>
</file>