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4824-3CA9-49EA-BC64-15CBA21185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AACA-F434-48E5-8C15-241273CA00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7339-9CB8-4B3A-839C-29ED33C264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6F5-4E1C-4D92-B9BA-082EAAEE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638-D164-43F2-BC73-274EDB2D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FE3-E75A-4FD1-BB11-82DE8E84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37C-0DDF-4129-8D47-F59925F6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A68-30E3-4C57-BC73-B169DB50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66B-94C0-43EF-9375-7DF46364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E63-A5BD-4341-8E46-C26D23A0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6C8-D569-4AAF-B77B-91C2186C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3BE-00F9-4EEB-B800-613F300E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A52-4059-44C4-BB90-C4D6DC06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A42-F840-4157-A31E-6E7DA486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4F6-4764-4A78-8BE5-421FFB86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17EE-42CD-43DA-B0A0-0F9BA33E93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58080" y="30492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彩云"/>
                <a:ea typeface="华文彩云"/>
              </a:rPr>
              <a:t>背课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203560" y="20574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43080" y="23680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读百遍，其义自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们对老师的这句话似懂非懂。但是，渐渐地，我们体会到，多背一些好文章，储存在记忆里，在一次次的重温中，不断地加深着理解，就好像牛儿吃下草，经过多次反刍，慢慢地消化，慢慢地吸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现在，我还常常默诵着小时候学过的课文，行云流水般地把我带回到小学的语文课堂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1219320" y="1981080"/>
            <a:ext cx="51814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514600" y="2819520"/>
            <a:ext cx="61722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457200" y="3276720"/>
            <a:ext cx="81532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533520" y="3733920"/>
            <a:ext cx="716256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0" descr="2010122016121066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4048200" y="533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背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440160" y="16002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记忆文字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初始阶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405240" y="2209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欣赏语句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第二阶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398760" y="28335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理解内容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第三阶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405240" y="35053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慢慢吸收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第四阶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6477120" y="167652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7192800" y="205740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掌握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帮助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积累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616040" y="167652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急不（   ）（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616040" y="281952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容光（   ）（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616040" y="403848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（   ）四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349960" y="167652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头（   ）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349960" y="281952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懂（   ）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5349960" y="403848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云（   ）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371600" y="5223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填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371600" y="15238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、全班同学就像唱歌似的，拉长音调背了起来。                                     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371600" y="52236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下面的句子哪一个是比喻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371600" y="365760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、我们背得那么轻松、流畅，清脆的声音像河水般缓缓地流着，连标点符号都被冲走了。                                     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371600" y="15238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、你学的都是白话文，念起来就像是说话，不难背。                              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71600" y="52236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下面的句子哪一个是比喻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371600" y="365760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、老师像讲故事似的，把课文的内容重复了一遍。                                 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3605400" y="129528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Arial"/>
                <a:ea typeface="楷体_GB2312"/>
              </a:rPr>
              <a:t>曰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962520" y="609480"/>
            <a:ext cx="1143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yuē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ShockwaveFlash1" descr=""/>
          <p:cNvPicPr/>
          <p:nvPr/>
        </p:nvPicPr>
        <p:blipFill>
          <a:blip r:embed="rId3"/>
          <a:stretch/>
        </p:blipFill>
        <p:spPr>
          <a:xfrm>
            <a:off x="6324480" y="990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605400" y="129528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Arial"/>
                <a:ea typeface="楷体_GB2312"/>
              </a:rPr>
              <a:t>缘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886200" y="609480"/>
            <a:ext cx="18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yuá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ShockwaveFlash1" descr=""/>
          <p:cNvPicPr/>
          <p:nvPr/>
        </p:nvPicPr>
        <p:blipFill>
          <a:blip r:embed="rId3"/>
          <a:stretch/>
        </p:blipFill>
        <p:spPr>
          <a:xfrm>
            <a:off x="6324480" y="990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605400" y="129528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Arial"/>
                <a:ea typeface="楷体_GB2312"/>
              </a:rPr>
              <a:t>疏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733920" y="6094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shū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ShockwaveFlash1" descr=""/>
          <p:cNvPicPr/>
          <p:nvPr/>
        </p:nvPicPr>
        <p:blipFill>
          <a:blip r:embed="rId3"/>
          <a:stretch/>
        </p:blipFill>
        <p:spPr>
          <a:xfrm>
            <a:off x="6324480" y="990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3605400" y="129528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Arial"/>
                <a:ea typeface="楷体_GB2312"/>
              </a:rPr>
              <a:t>储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733920" y="609480"/>
            <a:ext cx="1676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ch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hockwaveFlash1" descr=""/>
          <p:cNvPicPr/>
          <p:nvPr/>
        </p:nvPicPr>
        <p:blipFill>
          <a:blip r:embed="rId3"/>
          <a:stretch/>
        </p:blipFill>
        <p:spPr>
          <a:xfrm>
            <a:off x="6324480" y="990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750120" y="2592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1862280" y="6280200"/>
            <a:ext cx="54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57200" y="265284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记得上小学的第一天，老师发下语文（那时候叫国文）新课本，我就急不可待地翻开来看。当时印象最深的是第一课的图画，画的是地平线上升起一轮太阳，红红的，光芒四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老师开始教我们学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没想到第一课这么简单，就三个字：天亮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渐渐地，学了三课，老师让我们从第一课背到第三课。全班同学就像唱歌似的，拉长了音调背起来。背得那么轻松、流畅，清脆的声音像河水般缓缓地流着，连标点符号都被冲走了。老师也笑眯眯地和我们一起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700080" y="3049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背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1752480" y="4876920"/>
            <a:ext cx="66294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457200" y="5257800"/>
            <a:ext cx="8380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D61C-1159-4DA7-85EC-5403C6924E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5" descr="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3895560" y="1447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背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481200" y="2438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记忆文字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初始阶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2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43080" y="210132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没想到，语文课这么好学。背书就像唱歌，谁也没把它放在心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后来，课文越学越多，越来越长，老师还是让我们背书，我就觉得没那么轻松了。大约上到四年级，老师教我们学新课文，题目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匆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老师用很优美的嗓音开始读课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燕子去了，有再来的时候；杨柳枯了，有再青的时候；桃花谢了，有再开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发现，老师并不是在读课文，而是在背诵。我们又惊奇，又佩服。就这样，老师一字不差地背完了整篇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1219320" y="3657600"/>
            <a:ext cx="52578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2514600" y="4952880"/>
            <a:ext cx="54864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210240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讲完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匆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老师照例让我们背诵课文。我一遍又一遍地大声念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的尽管去了，来的尽管来着，去来的中间，又怎样地匆匆呢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还对这几句特别感兴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上我起来的时候，小屋里射进两三方斜斜的太阳。太阳他有脚啊，轻轻悄悄地挪移了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一面读着，一面看着屋里方砖地上的阳光，觉得作者写得真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可是，我只顾欣赏课文，并没用心去背。等妈妈来检查时，我只能背出开头的一段，后面的就结结巴巴地背不出了。我一脸垂头丧气的神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妈妈拿着课本，很平静地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学的都是白话文，念起来就像说话，不难背啊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609480" y="2590920"/>
            <a:ext cx="34290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2209680" y="3886200"/>
            <a:ext cx="312444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6019920" y="5562720"/>
            <a:ext cx="25146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533520" y="6019920"/>
            <a:ext cx="54864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43080" y="184464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仍低着头，不吭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妈妈接着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小时候，学的是古文，还不懂呢，就让背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完，她就背起来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曰，学而时习之，不亦说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听着很新鲜。看看妈妈，她容光焕发地背着。我很受鼓舞。我很佩服妈妈，她连那么难懂的古文都能背下来，我这篇有趣的课文，为什么背不下来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自从那次以后，每逢我遇到难背的课文，就用妈妈的话激励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3657600" y="4495680"/>
            <a:ext cx="50292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380880" y="4876920"/>
            <a:ext cx="312444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6" descr="29154532785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209760" y="533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背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795400" y="15238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记忆文字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初始阶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795400" y="2209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欣赏语句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第二阶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2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457200" y="21232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天，课堂上，老师发给每人一篇补充教材，题目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花源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是一篇古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老师像讲故事似的，先把课文的内容复述一遍，大家听得津津有味，催老师快点讲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老师却没有那样做，她带领大家一遍又一遍地朗诵课文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晋太元中，武陵人捕鱼为业。缘溪行，忘路之远近。忽逢桃花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渐渐地，那字句不再生疏，变得铿锵悦耳。再读几遍，不仅声音好听，课文的内容也从迷茫之中显现出来，在我们的脑海中，渐渐地活现出那个捕鱼人有趣的经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们几乎都能背下这篇课文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1219320" y="2133720"/>
            <a:ext cx="670536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533520" y="2590920"/>
            <a:ext cx="373356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7"/>
          <p:cNvSpPr/>
          <p:nvPr/>
        </p:nvSpPr>
        <p:spPr>
          <a:xfrm>
            <a:off x="3048120" y="33004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7" descr="2010122016094535.jpg"/>
          <p:cNvPicPr/>
          <p:nvPr/>
        </p:nvPicPr>
        <p:blipFill>
          <a:blip r:embed="rId1"/>
          <a:stretch/>
        </p:blipFill>
        <p:spPr>
          <a:xfrm>
            <a:off x="-9360" y="-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3971880" y="762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背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405240" y="1676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记忆文字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初始阶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481200" y="2438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欣赏语句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第二阶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481200" y="32004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理解内容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第三阶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  <p:sndAc>
      <p:stSnd>
        <p:snd r:embed="rId2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4:35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5:52Z</dcterms:modified>
  <cp:revision>7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