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2242-570F-4934-B9B6-7421E1B3665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8A5E-AAF8-454B-B56A-D7C2984AB9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F7B-2EDC-4422-9C75-608AF00D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552-958A-4537-AEF2-430C322E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50C3-5831-4986-A8E8-A47B36AA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5738-3BE9-47DB-90FA-9283CE44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A6A1-BBE1-4A55-A950-77A5EC31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02D-A6E6-47B4-82B1-7F18746D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898A-7D3E-426E-BA51-AEC3E5A9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C74-5A88-4D49-BF84-D5E38123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B42-1A4A-4E60-B0A9-BA95D1BC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6F19-13F8-4A8B-974D-66BDBE44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906-1B96-49DA-891F-06105AD0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2F5-07CB-4849-9875-BA48DF4C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A6CE-9231-4A34-B3EC-386433A31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音乐家"/>
          <p:cNvPicPr/>
          <p:nvPr/>
        </p:nvPicPr>
        <p:blipFill>
          <a:blip r:embed="rId1"/>
          <a:stretch/>
        </p:blipFill>
        <p:spPr>
          <a:xfrm>
            <a:off x="0" y="0"/>
            <a:ext cx="7848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 rot="5400000">
            <a:off x="5504760" y="2927160"/>
            <a:ext cx="609624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布勒门的音乐家</a:t>
            </a:r>
            <a:endParaRPr b="0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0" name="矩形 5" descr=""/>
          <p:cNvPicPr/>
          <p:nvPr/>
        </p:nvPicPr>
        <p:blipFill>
          <a:blip r:embed="rId2"/>
          <a:stretch/>
        </p:blipFill>
        <p:spPr>
          <a:xfrm>
            <a:off x="1219320" y="5896080"/>
            <a:ext cx="650880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b2d330654f3eab00974f8eafbe0fedc4"/>
          <p:cNvPicPr/>
          <p:nvPr/>
        </p:nvPicPr>
        <p:blipFill>
          <a:blip r:embed="rId1"/>
          <a:stretch/>
        </p:blipFill>
        <p:spPr>
          <a:xfrm>
            <a:off x="-243000" y="-204840"/>
            <a:ext cx="9630000" cy="7267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猫一惊，跳起来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抓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破了强盗的脸。三个伙伴也被惊醒了，狗在强盗腿上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了一口，驴子一脚把他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出门去，公鸡惊得“喔喔”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叫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"/>
          <p:cNvSpPr/>
          <p:nvPr/>
        </p:nvSpPr>
        <p:spPr>
          <a:xfrm>
            <a:off x="1841400" y="5514840"/>
            <a:ext cx="59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2007012413313297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她刚走进森林就碰到了一条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狼说：“你好，小红帽！要到哪里去呀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红帽说：“我要到奶奶家去。奶奶病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奶奶住在哪里呀，小红帽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红帽说：“奶奶的房子就在三棵大树下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狼想：“我要把她们两个都吃掉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于是它对小红帽说：“小红帽，你看周围这些花多么美丽啊！采点给你奶奶吧，她一定会很开心的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红帽想：“是啊，这些花这么漂亮，奶奶一定会很高兴地。”于是她开始采花了。这时候，狼（  ）到奶奶家，把奶奶（  ）进了肚子。然后（  ）上奶奶的衣服，（  ）上她的帽子，（  ）在床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了一会儿，小红帽来到了奶奶家，走到奶奶的床边，狼从被子里一下子（  ）起来，一口就把小红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）进了肚子，狼吃饱了，就躺到床上睡着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4"/>
          <p:cNvSpPr txBox="1"/>
          <p:nvPr/>
        </p:nvSpPr>
        <p:spPr>
          <a:xfrm>
            <a:off x="914400" y="609480"/>
            <a:ext cx="28195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自助餐作业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Text Box 10"/>
          <p:cNvSpPr/>
          <p:nvPr/>
        </p:nvSpPr>
        <p:spPr>
          <a:xfrm rot="20921400">
            <a:off x="5233320" y="2395440"/>
            <a:ext cx="297180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上动词写一段话来描述我们的集体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 rot="426000">
            <a:off x="874800" y="214056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上“坐、躺、捉、跳、打、踢”六个动词写一段话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蓝绿 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3"/>
          <p:cNvSpPr txBox="1"/>
          <p:nvPr/>
        </p:nvSpPr>
        <p:spPr>
          <a:xfrm>
            <a:off x="0" y="0"/>
            <a:ext cx="308628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课堂总结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95280" y="191628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动词不仅营造了场面，而且也使我们体会了丰富的人物内心世界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67A4-6771-4D9A-B068-C37DCB96645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0110713141802236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a903d1d295f40ecb6e2f96adbb0c81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布勒门  煨汤   商量    妖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凑上去  侦察   木炭    抓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踢出去  惊醒   拼命    派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edd8b327c430dc84d0a6a2bd9dd1cf82"/>
          <p:cNvPicPr/>
          <p:nvPr/>
        </p:nvPicPr>
        <p:blipFill>
          <a:blip r:embed="rId1"/>
          <a:stretch/>
        </p:blipFill>
        <p:spPr>
          <a:xfrm>
            <a:off x="-495360" y="19080"/>
            <a:ext cx="9639360" cy="683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趴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752480" y="137160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752480" y="220968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124080" y="1447920"/>
            <a:ext cx="4724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胸腹朝下卧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124080" y="236232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手或爪子着地向前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a7703d09615d27c9b672893c1c1641e7"/>
          <p:cNvPicPr/>
          <p:nvPr/>
        </p:nvPicPr>
        <p:blipFill>
          <a:blip r:embed="rId1"/>
          <a:stretch/>
        </p:blipFill>
        <p:spPr>
          <a:xfrm>
            <a:off x="9360" y="0"/>
            <a:ext cx="96681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3429000" y="13716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思考问题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这篇童话讲了一件什么样的故事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ppt30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4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＿＿＿去布勒门的途中，遇到了一群强盗，它们最终＿＿＿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音乐家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5292720" y="66600"/>
            <a:ext cx="3851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四个小伙伴悄悄商量了个好办法。驴子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在窗台上，狗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到驴背上，猫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到狗身上，公鸡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到猫头上，“一、二！”大家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一齐大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起来，然后，它们从窗户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进屋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ppt37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驴子（  ）在窗台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狗（  ） 到驴背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猫（  ）到狗身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公鸡（  ）到猫头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505320" y="18288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581280" y="2666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657600" y="35812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733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20091116_5408b77c8723655ccacdmco90FC0099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时，强盗们派了一个人来侦察。那个强盗走进屋，看见猫的眼睛闪着蓝光，以为是没有烧尽的木炭，就拿了根火柴凑上去，要把火柴点燃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03:11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0:00Z</dcterms:modified>
  <cp:revision>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