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F82-CD72-4AFC-A9E3-2B1F1B1D1A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D32D-19E0-42F7-B753-01E9AD36FD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7E6-76D9-41E2-839C-B06DA009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216-CC05-465D-A284-F8BF04CC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25D0F-3D8C-4CFF-929E-55259F5D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5DF2-669F-4D90-B8A3-8140F57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F4321-7BC7-431D-89AA-987153F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E1DDE-0790-4BE7-9169-3609A5F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A7CBB-2ED6-4B99-BE23-CE26C3A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1F4F1-7021-46FE-8C86-2EF51CB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4EE30-54CB-44E2-844A-DC2AF47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1D3D2-0D0C-43DB-908E-36DCD31B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1C128-F8BC-4FEB-B40B-54114931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9E6A-431A-4F78-8356-2BD9877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EB0-A8B2-4F60-BF8C-8A541A19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E2536-2D13-4758-81B4-D1314C1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AFF3D-E94B-463E-BE45-8C81B2CD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2B63-40F8-499E-8F7C-C479110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5A51F-2268-4CDC-A14B-2D321A10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B470A-F36A-42B8-A33C-CF2D138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3A3B6-8E8E-48CF-A451-6C248AF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18275-BD49-4647-B8E0-BA6724A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4F357-240A-427C-93F3-F3A57A1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59037-3582-44F1-94DB-3E766F5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00449-174B-40C8-AAD1-CE52ED6D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825-04BA-452F-95D7-F2491EB1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D5DF5-DEAE-407C-985C-23809BB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0A1A-8E52-46BF-982C-E8AC7DBC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C3D26-CEF7-478C-9478-F851D9F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7B5F7-12D5-4222-AA40-1A29E27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E82D-5A47-494D-8445-8B4B7DC8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C3EA-74D4-4CB2-9BB4-A8A50C8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B137-7B90-4457-BB00-17C35C69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D030-27E7-437E-B08D-E91C5DC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28477-D41E-48C5-B994-BDA0ACC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C728-9868-45F7-AD51-1A74519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901C-FCDF-4E74-8A8A-65BB5FD2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B7ABB-FCAA-4EDA-94CB-CF82DA4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65E5-4BA7-4E10-8F32-0D206FD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D273-C67C-4A46-B685-3A9DE94C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514E5-93E1-4EBA-B144-ACB24566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DD335-291C-4323-AE7F-3534429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872E6-33FE-46D7-95F6-0DFFFC6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539E3-4FE6-436E-9544-3426FDC2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869E4-6E44-4F2F-AB84-81FEB4B2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27E26-4877-48CA-9075-257530FF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1181-3838-4B71-A4D3-213CBDF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8EC0-6C33-4A10-BA8D-D801FA7D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0DE95-20A4-4C62-8EB6-96F085C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55406-C794-4C0E-913C-3144D4A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E60DF-B845-480B-B9DD-09F79B2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6F045-D62B-473F-8426-F8D95586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80998-16B9-429E-93B9-7753AEA4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37D50-29B5-4093-BE26-CEAE81DA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14AAF-1697-40DB-B098-02B46175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D7393-4E09-4E2F-A61A-D1B8224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78B0E-9FCB-428D-A598-4D49E55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D3177-9AE4-426B-8E8E-AB60775A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0819-95C3-4767-822C-7DC12CC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D76A7-275F-494E-A73E-AFFA3D5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67E8E-9907-4968-BDBC-C2A8C6F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A0621-A687-40AF-BE23-266FACB8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0DDDC-C22D-4DFE-9597-DD79496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9AD12-7CB4-4718-956B-DB2501C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4ABCB-47B9-4279-A177-CA9F0CFD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E83D9-5F29-4606-8AAF-0107843B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D7D-87D9-40B5-807B-F6DC2EA6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B1F1-87A9-4DFE-852B-7455B04D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9CF-CB26-4B6E-804E-9353B1BA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987-9E52-4D45-9FF7-04708C0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98E-228F-48AF-90D2-C277150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0D40-44F6-494B-9263-F783C82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316-6FB6-4579-8C5C-75EE2D1B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263-3928-463C-A731-BC09E769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C1F-66A5-4A7D-AAE1-F16E4452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C36-BB80-49D3-9622-B2BF856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3800-55CE-44B0-8564-02D85136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5D57-283D-41E9-8633-893F351E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0B58-5EFE-4EB4-8182-BB3D4BDD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0725-415C-4E4F-A779-7D894374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4039-CFB5-402E-B466-1534422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C91-4A49-4B21-84D3-F2AFAF2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4B7E-5164-41B8-805B-1126BF08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BA9B-85D1-4B3B-B8B6-386A9FFD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3B3D-8D3B-423A-8FEC-42A82F3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BDD0-CC82-4FA8-9B2E-B338125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DB33-8775-4D2C-B06A-954A38D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A768-4530-497A-B0ED-4FA5EFD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C763-AF40-4632-9548-D1A21BA4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B043-5F62-4A82-873F-0EA5F7A5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895A-45C1-4FAC-B5AA-8166FB5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EF31-CF70-4339-AB55-8C84CB7E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CCF-5880-4858-AA8D-37D6AA7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B97E-4C2C-4246-AF90-451F478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461E-1770-4D55-9D25-31DCAFD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E413-A420-4B5B-8B1A-400B81CB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8918-6468-48F0-BB18-A63A238B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54FE-B779-4AC6-A40B-72D53E1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415E-7E68-42C5-AEFB-33C37C5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CD3C-FD08-48B2-AB82-F97D2A9C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6D7D-2369-4C35-A25E-D6ED74C0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F8A2-BDC3-4799-A7DF-DFB613F9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3EFC-BB78-4A40-BA10-A805F623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688-8163-4B6F-9B7D-4668366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229A-A678-4B96-A16B-D95BA41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B9ED-36EB-4034-B8C8-780C663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EDB4-02F7-4A87-9C71-6D0235F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D1EB-5503-4C23-9388-D0345781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EBC3-A074-4000-8971-D44CF80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41DA-21EA-426E-A299-3EC7C9D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C2E9-996F-4870-BA77-0CC7C81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7DF5-BF35-40F3-9142-AB37374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8699-FBEF-4209-9D66-DC80B14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6E2E-43EC-47EA-9FE7-3B508FC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682-CB94-4629-A43D-F32F3F3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FF51-A1AE-48F9-A8AB-8AA3EE76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FA72-6E02-46E4-86E9-FBB5CD80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BC3DC-60A1-439D-AA36-C546FC7C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D5CC-3275-49A0-9859-6D90A3C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CB2A-FBA5-4C69-8EB7-7EF1EA0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15C5-F4AA-42D3-B18D-D733D65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7C49-B487-4B62-B12D-CF472E9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91A0-902B-4836-B937-5176729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B3E2E-11CF-4CE5-A922-00F2451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75AF-50AF-4C71-AC11-6DC0A14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A76-6308-4149-814D-DA7F7CF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5D880-2717-4050-9D72-7C2CE7E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CCAD-D29B-49A8-B281-2698819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3347-6DCC-4224-A79C-638DAB5F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79C3-115A-4AEA-AEC7-04386639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959E-E4C6-46A4-9B93-931AD21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B37E5-0AAF-484E-B736-507AC46E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D79C-9485-4DC7-894B-72DD834C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B279E-B3A0-45A8-9580-91E73E0B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D341F-7D62-4520-882D-EAA0D8D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9BA9-506B-4563-A465-62465F0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306-02BD-41AE-AAE7-01EC4F72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4F73-931E-4125-AF46-0717112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C869-E08D-4117-8476-E9442636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2E13-72F3-4487-89B1-E5A48E0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5D08-177C-403E-9076-44AEEC61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B443E-06A9-46EE-B2A2-DD0FE8AD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5D9A-5D71-4ABD-9F54-F75707F6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1EC1-D9AA-45D1-9D98-5221ED1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C1C49-446C-480A-A33B-C66501C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00EE-2FFF-4155-AE5D-460475C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062FA-EC29-41D8-AD3A-384B983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706-34EC-40C1-B01A-DBFFAFB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E3B86-20FF-4E80-AA7B-A984787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D5CE0-5755-4B24-BB0E-E8071DD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9915E-12B5-4735-8E3E-8368916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59E4-3688-48D2-AD05-773EF2D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0331E-29C3-4D4E-B08F-3F48B9A3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2E15B-59F8-4F06-85B1-56ED58EE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1C70-D1A8-4CEB-B338-ECF45A66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3C5F-7027-413D-BB6F-6DBD0AC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7BFA-F768-4B30-8965-041CFF9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A780-C0A4-428D-A746-75CED2D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142-3230-40E8-8B6B-62CF2BE4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37A-CB26-4ADA-B3EE-4131197E0A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8FFC-82B4-4BB3-A0DF-5FF6D3FE30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9E5-7D7B-4156-99D7-474BE8A421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E65-501C-4090-8450-04987C8F3E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ACE4-B1BB-4113-82E5-DE8A960B94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114-E53E-46FB-A47B-32EF78B885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9377-5D3D-49D3-A416-D9DF75A1F8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CC2-75F9-4B6C-8E1B-232D248E82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50A-8072-4B7F-9D27-7A8A950597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D325-B975-474F-BE97-4B1A1051D0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DAE-AE7C-4F5A-92C2-9E8BC594A7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1D8-6281-4FD3-93D0-6D6CFFE995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"/>
          <p:cNvSpPr/>
          <p:nvPr/>
        </p:nvSpPr>
        <p:spPr>
          <a:xfrm>
            <a:off x="1249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66"/>
                </a:solidFill>
                <a:latin typeface="华文中宋"/>
                <a:ea typeface="华文中宋"/>
              </a:rPr>
              <a:t>成长靠你们自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"/>
          <p:cNvSpPr/>
          <p:nvPr/>
        </p:nvSpPr>
        <p:spPr>
          <a:xfrm>
            <a:off x="2121120" y="563256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"/>
          <p:cNvSpPr/>
          <p:nvPr/>
        </p:nvSpPr>
        <p:spPr>
          <a:xfrm>
            <a:off x="3277440" y="1557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冀教版六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857160" y="2000160"/>
            <a:ext cx="77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．不要欺凌弱小，强中自有强中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整体感知"/>
          <p:cNvPicPr/>
          <p:nvPr/>
        </p:nvPicPr>
        <p:blipFill>
          <a:blip r:embed="rId1"/>
          <a:stretch/>
        </p:blipFill>
        <p:spPr>
          <a:xfrm>
            <a:off x="324000" y="836640"/>
            <a:ext cx="2017440" cy="4176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6"/>
          <p:cNvSpPr/>
          <p:nvPr/>
        </p:nvSpPr>
        <p:spPr>
          <a:xfrm>
            <a:off x="1071720" y="32860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真正的强者从来不用拳头说话，也无需用欺负弱小来显示自己的强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4"/>
          <p:cNvSpPr/>
          <p:nvPr/>
        </p:nvSpPr>
        <p:spPr>
          <a:xfrm>
            <a:off x="1523880" y="8082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．不要迷信教科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整体感知"/>
          <p:cNvPicPr/>
          <p:nvPr/>
        </p:nvPicPr>
        <p:blipFill>
          <a:blip r:embed="rId1"/>
          <a:stretch/>
        </p:blipFill>
        <p:spPr>
          <a:xfrm>
            <a:off x="324000" y="477720"/>
            <a:ext cx="2017440" cy="4161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6"/>
          <p:cNvSpPr/>
          <p:nvPr/>
        </p:nvSpPr>
        <p:spPr>
          <a:xfrm>
            <a:off x="560520" y="2133720"/>
            <a:ext cx="8153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尽信书，则不如无书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心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今天的战争已经不是教科书中所描绘的那样的战争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盲目迷信教科书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685800" y="228600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对待教科书的态度应该是既要汲取有益的营养，又不能不假思索地接受书上所有的知识，要多动脑筋独立思考，有自己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14300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我们应用什么态度对待教科书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从这五个观点看来，你觉得校长是一个怎样的人？你喜欢这样的校长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09480" y="3809880"/>
            <a:ext cx="74678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平易近人，不摆架子，关爱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着眼于学生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"/>
          <p:cNvSpPr/>
          <p:nvPr/>
        </p:nvSpPr>
        <p:spPr>
          <a:xfrm>
            <a:off x="990720" y="6094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校长提的这五个观点和学生的“成长”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762120" y="39625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在成长的路上，我们需要培养独立自主意识，因为成长还得靠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2057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成长靠自己，这不是说说而已，老师希望大家用实际行动来证明这一点。我行动，我快乐！希望大家在今后的日子里独立、自主，靠自己打拼未来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5"/>
          <p:cNvSpPr/>
          <p:nvPr/>
        </p:nvSpPr>
        <p:spPr>
          <a:xfrm>
            <a:off x="1981080" y="24382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Arial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15C-587C-47C0-8492-95B509A4DC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"/>
          <p:cNvSpPr/>
          <p:nvPr/>
        </p:nvSpPr>
        <p:spPr>
          <a:xfrm>
            <a:off x="533520" y="1779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埃里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凯斯特纳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89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-197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），是德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世纪最著名的儿童文学作家，被称为二战后的德国儿童文学之父。代表作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两个小洛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飞翔的教室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动物会议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971800" y="6094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1" descr="1482147a3ea1b53d81.jpg"/>
          <p:cNvPicPr/>
          <p:nvPr/>
        </p:nvPicPr>
        <p:blipFill>
          <a:blip r:embed="rId1"/>
          <a:stretch/>
        </p:blipFill>
        <p:spPr>
          <a:xfrm>
            <a:off x="1066680" y="1600200"/>
            <a:ext cx="2957760" cy="4108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2012081209304010954.jpg"/>
          <p:cNvPicPr/>
          <p:nvPr/>
        </p:nvPicPr>
        <p:blipFill>
          <a:blip r:embed="rId2"/>
          <a:stretch/>
        </p:blipFill>
        <p:spPr>
          <a:xfrm>
            <a:off x="43434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默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借助工具书读准字音，理解词语。可以边读边思考：在这篇课文中凯斯特纳校长提出了几个观点？并简要概括文中校长提出的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3"/>
          <p:cNvSpPr/>
          <p:nvPr/>
        </p:nvSpPr>
        <p:spPr>
          <a:xfrm>
            <a:off x="2057400" y="3657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凯斯特纳校长的观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教师并非知晓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学会体谅、关照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善于学习，劳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不要欺凌弱小，强中自有强中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不要迷信教科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凯斯特纳校长所提出的观点中，哪个对你启发最大？谈谈你的感受或用具体的事例去说明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"/>
          <p:cNvSpPr/>
          <p:nvPr/>
        </p:nvSpPr>
        <p:spPr>
          <a:xfrm>
            <a:off x="609480" y="8380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6" descr="图片11.png"/>
          <p:cNvPicPr/>
          <p:nvPr/>
        </p:nvPicPr>
        <p:blipFill>
          <a:blip r:embed="rId1"/>
          <a:stretch/>
        </p:blipFill>
        <p:spPr>
          <a:xfrm>
            <a:off x="5715000" y="5257800"/>
            <a:ext cx="2536920" cy="1165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教师并非知晓一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466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敢于质疑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实事求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你到底能学到多少，航行多远，最终靠的还是你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崇拜但不盲从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老师不会变魔术，而只能培育、教导、引领你进入人生的航迹和知识的海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要学会体谅、关照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的一言一行都会影响到身边的人如果心怀理解和关爱，带给别人的将是灿烂的阳光，如果给予冷漠打击，无异于冰山和刀子。只有在付出爱的过程中，我们的心灵才能健康的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善于学习，劳逸结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平时是怎样学习的？给大家讲讲你的学习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怎样理解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50000"/>
              </a:lnSpc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学校的各种作业不是生活的唯一组成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50000"/>
              </a:lnSpc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们要善于学习而不是死读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5:19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34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