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gif" ContentType="image/gif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90E0-3883-49DB-B79D-A868E727FA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65A-4736-4501-B63B-7068214864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32C-9EB0-4A6D-B0E5-CEBAA6A8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BD4-59C6-4197-8E3A-AF82AF5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579-9ECE-4707-AD39-E7045C2C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A91-A678-41A9-863A-365A31BA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29E-D1B7-4548-9E78-90FC424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810-1AB2-4BD9-A99A-829DD891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22D-4D4E-4C00-81E5-2EC88AD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783-A236-4643-8458-35B40E49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CCA-CE6C-42E0-9203-B05754D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094-33D7-49B3-A32C-68EA58A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388-0920-421E-B81A-8B9F9F9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E43-DF2E-4587-8222-2C8E11B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889C-08B0-4C2D-A70E-0DDC4A8C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2"/>
          <a:stretch/>
        </p:blipFill>
        <p:spPr>
          <a:xfrm>
            <a:off x="1957320" y="60339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3520" y="30492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你睡懒觉的时候，它偷走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宝贵的时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33520" y="1143000"/>
            <a:ext cx="75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你上课不专心的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候，它偷走你就要得到的知识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33520" y="22096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贪玩的时候，它偷走你应该取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成绩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懒觉_副本"/>
          <p:cNvPicPr/>
          <p:nvPr/>
        </p:nvPicPr>
        <p:blipFill>
          <a:blip r:embed="rId1"/>
          <a:stretch/>
        </p:blipFill>
        <p:spPr>
          <a:xfrm>
            <a:off x="5486400" y="1066680"/>
            <a:ext cx="5603760" cy="746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不专心_副本"/>
          <p:cNvPicPr/>
          <p:nvPr/>
        </p:nvPicPr>
        <p:blipFill>
          <a:blip r:embed="rId2"/>
          <a:stretch/>
        </p:blipFill>
        <p:spPr>
          <a:xfrm>
            <a:off x="5715000" y="40384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贪玩_副本"/>
          <p:cNvPicPr/>
          <p:nvPr/>
        </p:nvPicPr>
        <p:blipFill>
          <a:blip r:embed="rId3"/>
          <a:stretch/>
        </p:blipFill>
        <p:spPr>
          <a:xfrm>
            <a:off x="5791320" y="403848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6"/>
          <p:cNvSpPr/>
          <p:nvPr/>
        </p:nvSpPr>
        <p:spPr>
          <a:xfrm>
            <a:off x="762120" y="5486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你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的时候，它偷走你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04920"/>
            <a:ext cx="72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爸爸，您整天写呀写的，舍不得浪费一秒钟一分钟，是怕妈妈说您懒，还是怕爷爷拧耳朵呢？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349360" y="121932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爸爸谁也不怕，就怕一个‘小偷’啊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09480" y="175248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小偷？叫警察叔叔把它抓走，不就得了！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09480" y="2362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警察叔叔抓不着啊，它是世界上最厉害的小偷呢！在你睡懒觉的时候，它偷走你宝贵的时光；在你上课不专心的时候，它偷走你就要得到的知识；在你贪玩的时候，它偷走你应该取得的成绩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它总是悄悄地来，悄悄地去，看不见影子，也听不到脚步声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85800" y="4419720"/>
            <a:ext cx="46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世界上真有这样厉害的小偷吗？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85800" y="5029200"/>
            <a:ext cx="19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它是谁呢？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37080" y="6095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猜猜吧！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362240" y="56386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说不定它就在我们身边呢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53352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寸光阴一寸金，寸金难买寸光阴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533520" y="160200"/>
            <a:ext cx="64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黑猫二"/>
          <p:cNvPicPr/>
          <p:nvPr/>
        </p:nvPicPr>
        <p:blipFill>
          <a:blip r:embed="rId2"/>
          <a:stretch/>
        </p:blipFill>
        <p:spPr>
          <a:xfrm>
            <a:off x="533520" y="762120"/>
            <a:ext cx="475452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009120" y="457200"/>
            <a:ext cx="12776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从身边做起，从现在做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F760-C3E1-40B7-8A1C-302FEE7E2F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eimao"/>
          <p:cNvPicPr/>
          <p:nvPr/>
        </p:nvPicPr>
        <p:blipFill>
          <a:blip r:embed="rId2"/>
          <a:stretch/>
        </p:blipFill>
        <p:spPr>
          <a:xfrm>
            <a:off x="1371600" y="0"/>
            <a:ext cx="5607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295280" y="2057400"/>
            <a:ext cx="6629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用自己喜欢的方式读课文，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找出主人公说的话，并做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09480" y="609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天，小明跑进书房，摇摇爸爸的肩膀说：“爸爸，您整天写呀写的，舍不得浪费一秒钟一分钟，是怕妈妈说您懒，还是怕爷爷拧耳朵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1447920" y="2057400"/>
            <a:ext cx="914400" cy="609480"/>
          </a:xfrm>
          <a:prstGeom prst="ellipse">
            <a:avLst/>
          </a:pr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5105520" y="1676520"/>
            <a:ext cx="457200" cy="457200"/>
          </a:xfrm>
          <a:prstGeom prst="ellipse">
            <a:avLst/>
          </a:pr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219320" y="3429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还是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7"/>
          <p:cNvSpPr/>
          <p:nvPr/>
        </p:nvSpPr>
        <p:spPr>
          <a:xfrm>
            <a:off x="1828800" y="2438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3352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爸爸放下笔，捧着小明的脸蛋亲了亲，笑着说：“爸爸谁也不怕，就怕一个‘小偷’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 rot="21432600">
            <a:off x="7772400" y="3657600"/>
            <a:ext cx="1371600" cy="762120"/>
          </a:xfrm>
          <a:prstGeom prst="wedgeRoundRectCallout">
            <a:avLst>
              <a:gd name="adj1" fmla="val -93981"/>
              <a:gd name="adj2" fmla="val 66763"/>
              <a:gd name="adj3" fmla="val 16667"/>
            </a:avLst>
          </a:prstGeom>
          <a:solidFill>
            <a:srgbClr val="ffff99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单引号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‘     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黑猫思考"/>
          <p:cNvPicPr/>
          <p:nvPr/>
        </p:nvPicPr>
        <p:blipFill>
          <a:blip r:embed="rId2"/>
          <a:stretch/>
        </p:blipFill>
        <p:spPr>
          <a:xfrm>
            <a:off x="231840" y="493560"/>
            <a:ext cx="4343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1523880"/>
            <a:ext cx="11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偷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？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叫警察叔叔把它抓走，不就得了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" y="2362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明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38080" y="7621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小偷”是了哪些东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小偷”是怎么偷东西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默读课文，找出相应的句子，用你喜欢的方式标记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6858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爸爸摇着头说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警察叔叔抓不着啊，它是世界上最厉害的小偷呢！在你睡懒觉的时候，它偷走你宝贵的时光；在你上课不专心的时候，它偷走你就要得到的知识；在你贪玩的时候，它偷走你应该取得的成绩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总是悄悄地来，悄悄地去，看不见影子，也听不到脚步声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410080" y="1676520"/>
            <a:ext cx="2971800" cy="0"/>
          </a:xfrm>
          <a:prstGeom prst="line">
            <a:avLst/>
          </a:prstGeom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480" y="2209680"/>
            <a:ext cx="8077320" cy="0"/>
          </a:xfrm>
          <a:prstGeom prst="line">
            <a:avLst/>
          </a:prstGeom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609480" y="2743200"/>
            <a:ext cx="8077320" cy="0"/>
          </a:xfrm>
          <a:prstGeom prst="line">
            <a:avLst/>
          </a:prstGeom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9480" y="3200400"/>
            <a:ext cx="6324840" cy="0"/>
          </a:xfrm>
          <a:prstGeom prst="line">
            <a:avLst/>
          </a:prstGeom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533520" y="2743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229600" y="22860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590920" y="281952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2133720" y="281952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14680" y="53352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世界上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真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样厉害的小偷吗？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1752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它是谁呢？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QQ截图20140521104617"/>
          <p:cNvPicPr/>
          <p:nvPr/>
        </p:nvPicPr>
        <p:blipFill>
          <a:blip r:embed="rId2"/>
          <a:stretch/>
        </p:blipFill>
        <p:spPr>
          <a:xfrm>
            <a:off x="1523880" y="2895480"/>
            <a:ext cx="2778120" cy="297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惊奇"/>
          <p:cNvPicPr/>
          <p:nvPr/>
        </p:nvPicPr>
        <p:blipFill>
          <a:blip r:embed="rId3"/>
          <a:stretch/>
        </p:blipFill>
        <p:spPr>
          <a:xfrm>
            <a:off x="5029200" y="1600200"/>
            <a:ext cx="358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3:39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03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