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breeze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1D2D-9548-4636-B65F-EED13738F5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F47F-F1B5-4DB8-94FE-BCC02D02769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00B-0E81-4F53-8C69-912BA1AA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A53-4A10-470F-8762-F417109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3F4-262E-4C19-896E-2FD623FC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E1B-7C7B-4681-8437-7580EC6E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B3C-0558-46D2-B0B1-853FEB6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0A1-FE36-4F2A-A169-4572D22E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2D3-7E92-45A0-9B08-90D519C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EE9-303E-4966-8C4E-2B4AAD9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81E-29E3-46CD-99F6-40778F2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CE6-AB3A-4860-8CC2-0FC5AD2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22A-092C-4075-A5FB-4D5043E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68A-1230-458C-B15C-718072A9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E7F-B27B-4433-83B3-9DD9440B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124080" y="2300400"/>
            <a:ext cx="5338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2060"/>
                </a:solidFill>
                <a:latin typeface="Arial"/>
                <a:ea typeface="楷体_GB2312"/>
              </a:rPr>
              <a:t>晨读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85220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6738-1670-4425-BCA3-DA55E855D9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124080" y="914400"/>
            <a:ext cx="5562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工具  家庭  时辰  巷子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背诵  淘气  一副  篇章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寺庙  汽车  善良  但是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省  手表  流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瘦小的身材   甜美的微笑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动的文章   美好的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人的画面   偏僻的小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迷人的宫殿   清秀的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-42120" y="2506680"/>
            <a:ext cx="200916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cc33"/>
                </a:solidFill>
                <a:latin typeface="Arial"/>
                <a:ea typeface="楷体_GB2312"/>
              </a:rPr>
              <a:t>认读生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743200" y="1219320"/>
            <a:ext cx="6095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般的家庭里没有钟和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白天看太阳，夜里听打更人敲梆子报时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巷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子里又跑出几个影子来，小伙伴们呼唤着、追赶着，奔跑到学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们就坐在教室里摇晃着身子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背诵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双温柔而又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善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眼睛，时时闪出甜美的微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淘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气的同学坐不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忘记了学校是一座破旧的古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-138960" y="2690640"/>
            <a:ext cx="2009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cc33"/>
                </a:solidFill>
                <a:latin typeface="Arial"/>
                <a:ea typeface="楷体_GB2312"/>
              </a:rPr>
              <a:t>语境中识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5105520" y="4114800"/>
            <a:ext cx="167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cc33"/>
                </a:solidFill>
                <a:latin typeface="Arial"/>
                <a:ea typeface="楷体_GB2312"/>
              </a:rPr>
              <a:t>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-97560" y="152280"/>
            <a:ext cx="21121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嗨！小朋友， 你还认识我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5482800" y="41911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66ff"/>
                </a:solidFill>
                <a:latin typeface="Arial"/>
                <a:ea typeface="楷体_GB2312"/>
              </a:rPr>
              <a:t>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67108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823360" y="4343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899680" y="4495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cc33"/>
                </a:solidFill>
                <a:latin typeface="Arial"/>
                <a:ea typeface="楷体_GB2312"/>
              </a:rPr>
              <a:t>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843520" y="4267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楷体_GB2312"/>
              </a:rPr>
              <a:t>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1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2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6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2438280" y="3730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2666880"/>
            <a:ext cx="73152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经典特黑简"/>
              </a:rPr>
              <a:t>自读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声朗读，做到通顺流利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一说课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3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２2课4"/>
          <p:cNvPicPr/>
          <p:nvPr/>
        </p:nvPicPr>
        <p:blipFill>
          <a:blip r:embed="rId1"/>
          <a:stretch/>
        </p:blipFill>
        <p:spPr>
          <a:xfrm>
            <a:off x="1036800" y="762120"/>
            <a:ext cx="5744880" cy="60958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6455520" y="1066680"/>
            <a:ext cx="2112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文中哪些情景给你留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了深刻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79520" y="13618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鸡刚打鸣，天蒙蒙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我们就背着书包往学校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22 课3"/>
          <p:cNvPicPr/>
          <p:nvPr/>
        </p:nvPicPr>
        <p:blipFill>
          <a:blip r:embed="rId1"/>
          <a:stretch/>
        </p:blipFill>
        <p:spPr>
          <a:xfrm>
            <a:off x="5634000" y="2711520"/>
            <a:ext cx="3300480" cy="38862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"/>
          <p:cNvSpPr/>
          <p:nvPr/>
        </p:nvSpPr>
        <p:spPr>
          <a:xfrm>
            <a:off x="520560" y="6148440"/>
            <a:ext cx="56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0" y="1294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寂静的大街上，只有我模糊的身影移动着，嚓，嚓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… 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前边传来脚步声，小巷子里又跑出几个影子来，小伙伴们呼唤着、追赶着，奔跑到学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22 课3"/>
          <p:cNvPicPr/>
          <p:nvPr/>
        </p:nvPicPr>
        <p:blipFill>
          <a:blip r:embed="rId1"/>
          <a:stretch/>
        </p:blipFill>
        <p:spPr>
          <a:xfrm>
            <a:off x="0" y="2971800"/>
            <a:ext cx="330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1-12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90720" y="533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深沉的夜空，星儿眨动着眼睛。我快走，星儿也紧跟着我快走；我停住脚，星儿也站住不动。星儿代替妈妈送我去上学，我感到很快活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06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1:12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