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gif" ContentType="image/gi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744E-0C46-4F1C-AB83-F2C302A86F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50BF-C53B-4802-97D9-F1F0C5C460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26D-4163-4BB7-93DE-250B37EF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281-5BEF-4307-ADDF-91B2C3A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092-D346-4D01-8482-C66EED97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687-46DC-42DC-A1A8-C5BA32BD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D94-2BDD-461C-B074-79D03581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BD0-43D0-471E-8BEB-00F38C14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602-B641-40EC-BFE9-AF1BD3D6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EEB-7C8A-4AA4-8C52-2CCD6B4D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016-B657-4954-AC74-F069B36F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A65-B2E5-4ABD-AA1A-712267AF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149-A07E-40BB-B35E-719A193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786-5AB8-4F5D-9AFF-10886E81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A8BC-1E36-476F-950E-EF0999664F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201311~1"/>
          <p:cNvPicPr/>
          <p:nvPr/>
        </p:nvPicPr>
        <p:blipFill>
          <a:blip r:embed="rId1"/>
          <a:stretch/>
        </p:blipFill>
        <p:spPr>
          <a:xfrm>
            <a:off x="1617840" y="1981080"/>
            <a:ext cx="5527440" cy="368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371520" y="5446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华文隶书"/>
                <a:ea typeface="华文隶书"/>
              </a:rPr>
              <a:t>晨 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58960" y="60148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80880" y="12193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孩子们为什么这么向往晨读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80880" y="3048120"/>
            <a:ext cx="8458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哪些句子描写了老师的外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用了哪些词语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5800" y="1447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这位老师长着一副瘦小的身材，清秀的脸有些苍白，一双温柔而又善良的眼睛，时时闪出甜美的微笑。她讲话的声音很轻，但很清晰，仿佛琴弦发出的悦耳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61840" y="11430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教室里静悄悄的，只听见老师一字一句地读着，她的声音温柔而又深沉，当她读到最感人的段落时，就停下来沉默着。这时候，几十颗幼小的心灵，就和老师一起思索着，眼睛里含着泪水，回味着作品中的情景。我们的心便飞到很远很远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细读感悟"/>
          <p:cNvPicPr/>
          <p:nvPr/>
        </p:nvPicPr>
        <p:blipFill>
          <a:blip r:embed="rId1"/>
          <a:stretch/>
        </p:blipFill>
        <p:spPr>
          <a:xfrm>
            <a:off x="380880" y="351000"/>
            <a:ext cx="2362320" cy="63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小女孩"/>
          <p:cNvPicPr/>
          <p:nvPr/>
        </p:nvPicPr>
        <p:blipFill>
          <a:blip r:embed="rId1"/>
          <a:stretch/>
        </p:blipFill>
        <p:spPr>
          <a:xfrm>
            <a:off x="533520" y="3429000"/>
            <a:ext cx="158724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图片2"/>
          <p:cNvPicPr/>
          <p:nvPr/>
        </p:nvPicPr>
        <p:blipFill>
          <a:blip r:embed="rId2"/>
          <a:stretch/>
        </p:blipFill>
        <p:spPr>
          <a:xfrm>
            <a:off x="1752480" y="1447920"/>
            <a:ext cx="5334120" cy="2104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24382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我好像听到老师读书的声音了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图片2"/>
          <p:cNvPicPr/>
          <p:nvPr/>
        </p:nvPicPr>
        <p:blipFill>
          <a:blip r:embed="rId1"/>
          <a:stretch/>
        </p:blipFill>
        <p:spPr>
          <a:xfrm>
            <a:off x="2286000" y="1447920"/>
            <a:ext cx="5334120" cy="2104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971800" y="19810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觉得自己就是那个听老师读书的孩子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微笑的小女孩"/>
          <p:cNvPicPr/>
          <p:nvPr/>
        </p:nvPicPr>
        <p:blipFill>
          <a:blip r:embed="rId2"/>
          <a:stretch/>
        </p:blipFill>
        <p:spPr>
          <a:xfrm>
            <a:off x="533520" y="2514600"/>
            <a:ext cx="1461960" cy="29304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"/>
          <p:cNvSpPr/>
          <p:nvPr/>
        </p:nvSpPr>
        <p:spPr>
          <a:xfrm>
            <a:off x="2425680" y="5253120"/>
            <a:ext cx="54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438280" y="20383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</a:rPr>
              <a:t>说一说学了课文的感受和想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DC50-FAD9-4B4E-A809-21D6735B35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9efb0ca54a158df52664fb7"/>
          <p:cNvPicPr/>
          <p:nvPr/>
        </p:nvPicPr>
        <p:blipFill>
          <a:blip r:embed="rId1"/>
          <a:stretch/>
        </p:blipFill>
        <p:spPr>
          <a:xfrm>
            <a:off x="1066680" y="838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914400" y="1295280"/>
            <a:ext cx="58672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瘦小的身材   甜美的微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生动的文章   美好的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感人的画面   偏僻的小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深沉的夜空   寂静的大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模糊的身影   清秀的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133720" y="30492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</a:rPr>
              <a:t>词语积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2133720" y="23623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066680" y="1295280"/>
            <a:ext cx="7162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温柔的声音    静悄悄的教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幼小的心灵    阴暗的教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潮湿的教室    破旧的古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迷人的宫殿    奇异的童话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133720" y="30492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</a:rPr>
              <a:t>词语积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，体会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伴着星儿上学，怀着期待和激动听老师读书，多么令人向往！文中的哪些情景给你留下了深刻的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19810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</a:rPr>
              <a:t>鸡刚打鸣，天蒙蒙亮，我们就背着书包往学校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</a:rPr>
              <a:t>跑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04920" y="1219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</a:rPr>
              <a:t>我早早就起床了，一个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</a:rPr>
              <a:t>跑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</a:rPr>
              <a:t>字表现了作者什么心情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5800" y="129528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深沉的夜空，星儿也紧跟着我快走；我停住脚，星儿也站住不动。星儿代替妈妈送我去上学，我感到很快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段有关星星的描写主要表现了“我”的什么心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80880" y="91440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</a:rPr>
              <a:t>寂静的大街上，只有我模糊的身影移动着，嚓，嚓</a:t>
            </a:r>
            <a:r>
              <a:rPr b="1" lang="en-US" sz="3600" spc="-1" strike="noStrike">
                <a:solidFill>
                  <a:srgbClr val="ff0066"/>
                </a:solidFill>
                <a:latin typeface="宋体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</a:rPr>
              <a:t>前边传来脚步声，小巷子里又跑出几个影子来，小伙伴们呼唤着、追赶着，奔跑到学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请带着感情读一读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要读出向往、喜悦、急切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11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1:06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