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chimes.wav" ContentType="audio/x-wav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C9AD-1466-4245-9F45-A0368B98DE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D69A-926E-482F-B61E-27A74A55612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25D2-E7CF-488B-856E-1DC03B60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6F81-65B6-45B9-BA5A-1C2A0147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B20A-6F4C-47A2-B73E-B030FA9C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421-935B-423B-8C20-49A5A16FD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9AC-BA3C-4DBB-A3E0-9CF7F6BD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935-EE77-4BDA-A34A-59012FB2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948F-B1C1-4B88-B58B-982762A7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C64-38F7-4FCB-AD2A-4574230D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51F4-328A-4313-833D-07748FD2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063-B77C-4AA3-B798-600A61F1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2162-6740-4B27-B84A-6E4E50C5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17F-3EBB-4A3E-805E-6F0C5BF5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8784-9A8D-40DD-AA9F-7C7BF7BA0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547640" y="2320920"/>
            <a:ext cx="59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黑体"/>
                <a:ea typeface="黑体"/>
              </a:rPr>
              <a:t>彩虹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476280" y="14130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湘教版一年级语文上册第六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83312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55280" y="2332080"/>
            <a:ext cx="73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留心每天发生在你身边美好的事物，如看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十五的圆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满天的繁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美丽的鲜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会想些什么，说些什么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拓展学习"/>
          <p:cNvPicPr/>
          <p:nvPr/>
        </p:nvPicPr>
        <p:blipFill>
          <a:blip r:embed="rId1"/>
          <a:stretch/>
        </p:blipFill>
        <p:spPr>
          <a:xfrm>
            <a:off x="900000" y="1197000"/>
            <a:ext cx="315936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6"/>
          <p:cNvSpPr txBox="1"/>
          <p:nvPr/>
        </p:nvSpPr>
        <p:spPr>
          <a:xfrm>
            <a:off x="2340000" y="1484280"/>
            <a:ext cx="4248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再见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2" name="文本框 1"/>
          <p:cNvSpPr/>
          <p:nvPr/>
        </p:nvSpPr>
        <p:spPr>
          <a:xfrm>
            <a:off x="1077840" y="4971960"/>
            <a:ext cx="61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F873-58D0-416A-BF6F-AA5EDDFCA8B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图片1"/>
          <p:cNvPicPr/>
          <p:nvPr/>
        </p:nvPicPr>
        <p:blipFill>
          <a:blip r:embed="rId1"/>
          <a:stretch/>
        </p:blipFill>
        <p:spPr>
          <a:xfrm>
            <a:off x="179280" y="836640"/>
            <a:ext cx="8809200" cy="570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小学语文(记叙文）01"/>
          <p:cNvPicPr/>
          <p:nvPr/>
        </p:nvPicPr>
        <p:blipFill>
          <a:blip r:embed="rId2"/>
          <a:stretch/>
        </p:blipFill>
        <p:spPr>
          <a:xfrm>
            <a:off x="252360" y="836640"/>
            <a:ext cx="2519280" cy="1081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1476360" y="1557360"/>
            <a:ext cx="69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朋友们，今天老师带领大家看彩虹，好吗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025c1b43b85d62359213c65c"/>
          <p:cNvPicPr/>
          <p:nvPr/>
        </p:nvPicPr>
        <p:blipFill>
          <a:blip r:embed="rId3"/>
          <a:stretch/>
        </p:blipFill>
        <p:spPr>
          <a:xfrm>
            <a:off x="684360" y="2924280"/>
            <a:ext cx="7765920" cy="32734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1476360" y="1628640"/>
            <a:ext cx="3960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插上想象的翅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图上有谁，在干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们在想些什么，说些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288144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187280" y="2924280"/>
            <a:ext cx="604872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     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认真看图，说说彩虹是什么形状的，什么时候能看到彩虹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1619280" y="1052640"/>
            <a:ext cx="230508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交际指导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2450520" y="1773360"/>
            <a:ext cx="4772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2.</a:t>
            </a: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你见过彩虹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什么颜色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你看到彩虹时的心情怎样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61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           </a:t>
            </a:r>
            <a:r>
              <a:rPr b="0" lang="en-US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3.</a:t>
            </a:r>
            <a:r>
              <a:rPr b="0" lang="zh-CN" sz="4000" spc="-1" strike="noStrike">
                <a:solidFill>
                  <a:srgbClr val="ff00ff"/>
                </a:solidFill>
                <a:latin typeface="华文新魏"/>
                <a:ea typeface="华文新魏"/>
              </a:rPr>
              <a:t>画出你心目中最漂亮的彩虹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29b8b9d01f005ff0562c842f"/>
          <p:cNvPicPr/>
          <p:nvPr/>
        </p:nvPicPr>
        <p:blipFill>
          <a:blip r:embed="rId1"/>
          <a:stretch/>
        </p:blipFill>
        <p:spPr>
          <a:xfrm>
            <a:off x="755640" y="3429000"/>
            <a:ext cx="3162240" cy="2371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28293cf1a142d48ea40f52f9"/>
          <p:cNvPicPr/>
          <p:nvPr/>
        </p:nvPicPr>
        <p:blipFill>
          <a:blip r:embed="rId2"/>
          <a:stretch/>
        </p:blipFill>
        <p:spPr>
          <a:xfrm>
            <a:off x="5003640" y="3429000"/>
            <a:ext cx="31687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75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4643280" y="5300640"/>
            <a:ext cx="48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ff"/>
                </a:solidFill>
                <a:latin typeface="Arial"/>
                <a:ea typeface="隶书"/>
              </a:rPr>
              <a:t>彩虹有哪几种颜色，它是怎样形成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词语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58560" y="162864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彩虹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(Rainbow)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是气象中的一种光学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彩虹七彩颜色，从外至内分别为：红、橙、黄、绿、青、蓝、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彩虹是一种自然现象，是由于阳光射到空气的水滴里，发生光的反射和折射造成的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5280" y="2204640"/>
            <a:ext cx="5688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★</a:t>
            </a:r>
            <a:r>
              <a:rPr b="0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看到彩虹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我想</a:t>
            </a:r>
            <a:r>
              <a:rPr b="0" lang="en-US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------</a:t>
            </a:r>
            <a:r>
              <a:rPr b="0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★看到这么美丽的彩虹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我真想</a:t>
            </a:r>
            <a:r>
              <a:rPr b="0" lang="en-US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------</a:t>
            </a:r>
            <a:r>
              <a:rPr b="0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★多美的彩虹桥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  </a:t>
            </a:r>
            <a:r>
              <a:rPr b="0" lang="en-US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-------</a:t>
            </a:r>
            <a:r>
              <a:rPr b="0" lang="zh-CN" sz="32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1692360" y="1052640"/>
            <a:ext cx="186696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练习说话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4:09:11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11:03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