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whoosh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7.jpeg" ContentType="image/jpeg"/>
  <Override PartName="/ppt/media/image30.jpeg" ContentType="image/jpeg"/>
  <Override PartName="/ppt/media/image1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comments/comment28.xml" ContentType="application/vnd.openxmlformats-officedocument.presentationml.comments+xml"/>
  <Override PartName="/ppt/comments/comment5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猪猪猫.CN" initials="猪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<Relationship Id="rId61" Type="http://schemas.openxmlformats.org/officeDocument/2006/relationships/commentAuthors" Target="commentAuthors.xml"/>
</Relationships>
</file>

<file path=ppt/comments/comment28.xml><?xml version="1.0" encoding="utf-8"?>
<p:cmLst xmlns:p="http://schemas.openxmlformats.org/presentationml/2006/main">
  <p:cm authorId="0" dt="2008-09-16T17:56:04.265000000" idx="1">
    <p:pos x="3293" y="4361"/>
    <p:text/>
  </p:cm>
</p:cmLst>
</file>

<file path=ppt/comments/comment54.xml><?xml version="1.0" encoding="utf-8"?>
<p:cmLst xmlns:p="http://schemas.openxmlformats.org/presentationml/2006/main">
  <p:cm authorId="0" dt="2008-09-16T17:56:04.265000000" idx="2">
    <p:pos x="3293" y="436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F35A-D2EB-4424-8349-BE3F4CD1A8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5.xml"/><Relationship Id="rId24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ED49-1626-4AE6-9CBA-AA7764387B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5CCE-AD98-45BD-B9E3-883696500A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DD0-F4CF-4D8E-9542-9FEBB37F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1A8-7577-4C20-857A-3806A399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D09-9E86-4845-AC7D-2B0C523A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5A4-0290-487D-9143-55A3A350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CDF-FFD4-400A-99C7-1E7FB1F9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E56-9EBF-45DA-848C-3A8DE6D9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67C-0131-4A90-B7FC-65307C1F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789-294E-4775-B566-7A9733DE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FB9-DC49-4956-A86C-46037D35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5BD-AA30-4E1E-9503-1B032D7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BF46-CDE3-4475-847A-B7A8950E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88B-3614-4102-BA86-A648C74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C837-576B-48CA-837C-C3188F825F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21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32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32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20061201746289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979640" y="819000"/>
            <a:ext cx="51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姚体"/>
                <a:ea typeface="方正姚体"/>
              </a:rPr>
              <a:t>长江之歌</a:t>
            </a:r>
            <a:endParaRPr b="0" lang="en-US" sz="8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492360" y="2421000"/>
            <a:ext cx="2592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 诗 歌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76360" y="3357720"/>
            <a:ext cx="626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电视系列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话说长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主题歌歌词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692360" y="4210200"/>
            <a:ext cx="324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歌：赞美、歌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8619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3989520" y="6272280"/>
            <a:ext cx="20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江之源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54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56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20080401144544013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9784b30b8a5a8cb2d0581bf6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4824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20061212163504pbm8"/>
          <p:cNvPicPr/>
          <p:nvPr/>
        </p:nvPicPr>
        <p:blipFill>
          <a:blip r:embed="rId2"/>
          <a:stretch/>
        </p:blipFill>
        <p:spPr>
          <a:xfrm>
            <a:off x="179280" y="1052640"/>
            <a:ext cx="8785440" cy="4824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0809300337719588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329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复件 思考"/>
          <p:cNvPicPr/>
          <p:nvPr/>
        </p:nvPicPr>
        <p:blipFill>
          <a:blip r:embed="rId4"/>
          <a:stretch/>
        </p:blipFill>
        <p:spPr>
          <a:xfrm>
            <a:off x="179280" y="8424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258920" y="26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780000" y="6165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江之源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3924360" y="6272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滚滚长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67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69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changjiang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虎跳峡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3635280" y="627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金沙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74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76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changjiang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12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1835280" y="6237360"/>
            <a:ext cx="137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雅砻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80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82" name="Picture 7" descr="雅砻江"/>
          <p:cNvPicPr/>
          <p:nvPr/>
        </p:nvPicPr>
        <p:blipFill>
          <a:blip r:embed="rId2"/>
          <a:stretch/>
        </p:blipFill>
        <p:spPr>
          <a:xfrm>
            <a:off x="179280" y="836640"/>
            <a:ext cx="4392720" cy="540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乌江"/>
          <p:cNvPicPr/>
          <p:nvPr/>
        </p:nvPicPr>
        <p:blipFill>
          <a:blip r:embed="rId3"/>
          <a:stretch/>
        </p:blipFill>
        <p:spPr>
          <a:xfrm>
            <a:off x="4643280" y="836640"/>
            <a:ext cx="4392720" cy="54007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6365880" y="6237360"/>
            <a:ext cx="13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乌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9"/>
          <p:cNvSpPr/>
          <p:nvPr/>
        </p:nvSpPr>
        <p:spPr>
          <a:xfrm>
            <a:off x="2011320" y="3141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763640" y="6272280"/>
            <a:ext cx="12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嘉陵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87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89" name="Picture 7" descr="嘉陵江"/>
          <p:cNvPicPr/>
          <p:nvPr/>
        </p:nvPicPr>
        <p:blipFill>
          <a:blip r:embed="rId2"/>
          <a:stretch/>
        </p:blipFill>
        <p:spPr>
          <a:xfrm>
            <a:off x="539640" y="833400"/>
            <a:ext cx="4032360" cy="540396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6443640" y="62373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三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91" name="Picture 10" descr="QQ图片20140206214858"/>
          <p:cNvPicPr/>
          <p:nvPr/>
        </p:nvPicPr>
        <p:blipFill>
          <a:blip r:embed="rId3"/>
          <a:stretch/>
        </p:blipFill>
        <p:spPr>
          <a:xfrm>
            <a:off x="4643280" y="836640"/>
            <a:ext cx="43214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j3"/>
          <p:cNvPicPr/>
          <p:nvPr/>
        </p:nvPicPr>
        <p:blipFill>
          <a:blip r:embed="rId1"/>
          <a:stretch/>
        </p:blipFill>
        <p:spPr>
          <a:xfrm>
            <a:off x="762120" y="1981080"/>
            <a:ext cx="8076960" cy="34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Freeform 3"/>
          <p:cNvSpPr/>
          <p:nvPr/>
        </p:nvSpPr>
        <p:spPr>
          <a:xfrm>
            <a:off x="790560" y="2114640"/>
            <a:ext cx="7445520" cy="2955960"/>
          </a:xfrm>
          <a:custGeom>
            <a:avLst/>
            <a:gdLst/>
            <a:ahLst/>
            <a:rect l="l" t="t" r="r" b="b"/>
            <a:pathLst>
              <a:path w="4690" h="1862">
                <a:moveTo>
                  <a:pt x="0" y="34"/>
                </a:moveTo>
                <a:cubicBezTo>
                  <a:pt x="148" y="46"/>
                  <a:pt x="151" y="36"/>
                  <a:pt x="258" y="72"/>
                </a:cubicBezTo>
                <a:cubicBezTo>
                  <a:pt x="327" y="78"/>
                  <a:pt x="372" y="90"/>
                  <a:pt x="418" y="88"/>
                </a:cubicBezTo>
                <a:cubicBezTo>
                  <a:pt x="465" y="84"/>
                  <a:pt x="513" y="61"/>
                  <a:pt x="538" y="48"/>
                </a:cubicBezTo>
                <a:cubicBezTo>
                  <a:pt x="550" y="46"/>
                  <a:pt x="560" y="22"/>
                  <a:pt x="568" y="12"/>
                </a:cubicBezTo>
                <a:cubicBezTo>
                  <a:pt x="577" y="1"/>
                  <a:pt x="596" y="8"/>
                  <a:pt x="608" y="0"/>
                </a:cubicBezTo>
                <a:cubicBezTo>
                  <a:pt x="648" y="8"/>
                  <a:pt x="668" y="1"/>
                  <a:pt x="702" y="24"/>
                </a:cubicBezTo>
                <a:cubicBezTo>
                  <a:pt x="723" y="38"/>
                  <a:pt x="745" y="59"/>
                  <a:pt x="756" y="82"/>
                </a:cubicBezTo>
                <a:cubicBezTo>
                  <a:pt x="795" y="160"/>
                  <a:pt x="761" y="106"/>
                  <a:pt x="816" y="168"/>
                </a:cubicBezTo>
                <a:cubicBezTo>
                  <a:pt x="832" y="195"/>
                  <a:pt x="859" y="214"/>
                  <a:pt x="872" y="230"/>
                </a:cubicBezTo>
                <a:cubicBezTo>
                  <a:pt x="885" y="246"/>
                  <a:pt x="868" y="229"/>
                  <a:pt x="894" y="264"/>
                </a:cubicBezTo>
                <a:cubicBezTo>
                  <a:pt x="946" y="342"/>
                  <a:pt x="946" y="296"/>
                  <a:pt x="1030" y="442"/>
                </a:cubicBezTo>
                <a:cubicBezTo>
                  <a:pt x="1041" y="474"/>
                  <a:pt x="1054" y="464"/>
                  <a:pt x="1078" y="488"/>
                </a:cubicBezTo>
                <a:cubicBezTo>
                  <a:pt x="1086" y="512"/>
                  <a:pt x="1130" y="496"/>
                  <a:pt x="1162" y="578"/>
                </a:cubicBezTo>
                <a:cubicBezTo>
                  <a:pt x="1192" y="623"/>
                  <a:pt x="1190" y="654"/>
                  <a:pt x="1208" y="728"/>
                </a:cubicBezTo>
                <a:cubicBezTo>
                  <a:pt x="1216" y="768"/>
                  <a:pt x="1220" y="791"/>
                  <a:pt x="1226" y="818"/>
                </a:cubicBezTo>
                <a:cubicBezTo>
                  <a:pt x="1232" y="845"/>
                  <a:pt x="1239" y="852"/>
                  <a:pt x="1244" y="890"/>
                </a:cubicBezTo>
                <a:cubicBezTo>
                  <a:pt x="1251" y="945"/>
                  <a:pt x="1260" y="958"/>
                  <a:pt x="1258" y="1044"/>
                </a:cubicBezTo>
                <a:cubicBezTo>
                  <a:pt x="1268" y="1092"/>
                  <a:pt x="1252" y="1140"/>
                  <a:pt x="1274" y="1184"/>
                </a:cubicBezTo>
                <a:cubicBezTo>
                  <a:pt x="1282" y="1222"/>
                  <a:pt x="1241" y="1257"/>
                  <a:pt x="1246" y="1292"/>
                </a:cubicBezTo>
                <a:cubicBezTo>
                  <a:pt x="1251" y="1327"/>
                  <a:pt x="1290" y="1342"/>
                  <a:pt x="1302" y="1396"/>
                </a:cubicBezTo>
                <a:cubicBezTo>
                  <a:pt x="1317" y="1418"/>
                  <a:pt x="1296" y="1600"/>
                  <a:pt x="1320" y="1614"/>
                </a:cubicBezTo>
                <a:cubicBezTo>
                  <a:pt x="1342" y="1626"/>
                  <a:pt x="1326" y="1702"/>
                  <a:pt x="1350" y="1710"/>
                </a:cubicBezTo>
                <a:cubicBezTo>
                  <a:pt x="1368" y="1734"/>
                  <a:pt x="1423" y="1591"/>
                  <a:pt x="1446" y="1608"/>
                </a:cubicBezTo>
                <a:cubicBezTo>
                  <a:pt x="1468" y="1575"/>
                  <a:pt x="1478" y="1501"/>
                  <a:pt x="1482" y="1512"/>
                </a:cubicBezTo>
                <a:cubicBezTo>
                  <a:pt x="1496" y="1517"/>
                  <a:pt x="1449" y="1629"/>
                  <a:pt x="1470" y="1674"/>
                </a:cubicBezTo>
                <a:cubicBezTo>
                  <a:pt x="1467" y="1727"/>
                  <a:pt x="1429" y="1819"/>
                  <a:pt x="1464" y="1830"/>
                </a:cubicBezTo>
                <a:cubicBezTo>
                  <a:pt x="1495" y="1829"/>
                  <a:pt x="1643" y="1737"/>
                  <a:pt x="1680" y="1740"/>
                </a:cubicBezTo>
                <a:cubicBezTo>
                  <a:pt x="1717" y="1743"/>
                  <a:pt x="1678" y="1831"/>
                  <a:pt x="1686" y="1848"/>
                </a:cubicBezTo>
                <a:cubicBezTo>
                  <a:pt x="1693" y="1862"/>
                  <a:pt x="1714" y="1851"/>
                  <a:pt x="1728" y="1842"/>
                </a:cubicBezTo>
                <a:cubicBezTo>
                  <a:pt x="1742" y="1833"/>
                  <a:pt x="1742" y="1811"/>
                  <a:pt x="1770" y="1794"/>
                </a:cubicBezTo>
                <a:cubicBezTo>
                  <a:pt x="1823" y="1832"/>
                  <a:pt x="1852" y="1757"/>
                  <a:pt x="1896" y="1740"/>
                </a:cubicBezTo>
                <a:cubicBezTo>
                  <a:pt x="1933" y="1685"/>
                  <a:pt x="1848" y="1638"/>
                  <a:pt x="1878" y="1578"/>
                </a:cubicBezTo>
                <a:cubicBezTo>
                  <a:pt x="1878" y="1535"/>
                  <a:pt x="1906" y="1597"/>
                  <a:pt x="1932" y="1566"/>
                </a:cubicBezTo>
                <a:cubicBezTo>
                  <a:pt x="1958" y="1535"/>
                  <a:pt x="2015" y="1429"/>
                  <a:pt x="2034" y="1392"/>
                </a:cubicBezTo>
                <a:cubicBezTo>
                  <a:pt x="2040" y="1377"/>
                  <a:pt x="2033" y="1354"/>
                  <a:pt x="2046" y="1344"/>
                </a:cubicBezTo>
                <a:cubicBezTo>
                  <a:pt x="2073" y="1323"/>
                  <a:pt x="2109" y="1316"/>
                  <a:pt x="2142" y="1308"/>
                </a:cubicBezTo>
                <a:cubicBezTo>
                  <a:pt x="2213" y="1290"/>
                  <a:pt x="2286" y="1283"/>
                  <a:pt x="2358" y="1272"/>
                </a:cubicBezTo>
                <a:cubicBezTo>
                  <a:pt x="2403" y="1260"/>
                  <a:pt x="2370" y="1264"/>
                  <a:pt x="2400" y="1230"/>
                </a:cubicBezTo>
                <a:cubicBezTo>
                  <a:pt x="2430" y="1196"/>
                  <a:pt x="2507" y="1092"/>
                  <a:pt x="2538" y="1068"/>
                </a:cubicBezTo>
                <a:cubicBezTo>
                  <a:pt x="2569" y="1038"/>
                  <a:pt x="2570" y="1089"/>
                  <a:pt x="2586" y="1086"/>
                </a:cubicBezTo>
                <a:cubicBezTo>
                  <a:pt x="2602" y="1083"/>
                  <a:pt x="2615" y="1073"/>
                  <a:pt x="2634" y="1050"/>
                </a:cubicBezTo>
                <a:cubicBezTo>
                  <a:pt x="2653" y="1027"/>
                  <a:pt x="2673" y="981"/>
                  <a:pt x="2700" y="948"/>
                </a:cubicBezTo>
                <a:cubicBezTo>
                  <a:pt x="2726" y="921"/>
                  <a:pt x="2774" y="872"/>
                  <a:pt x="2796" y="852"/>
                </a:cubicBezTo>
                <a:cubicBezTo>
                  <a:pt x="2818" y="832"/>
                  <a:pt x="2804" y="838"/>
                  <a:pt x="2832" y="828"/>
                </a:cubicBezTo>
                <a:cubicBezTo>
                  <a:pt x="2863" y="824"/>
                  <a:pt x="2937" y="799"/>
                  <a:pt x="2964" y="792"/>
                </a:cubicBezTo>
                <a:cubicBezTo>
                  <a:pt x="2991" y="785"/>
                  <a:pt x="2981" y="786"/>
                  <a:pt x="2994" y="786"/>
                </a:cubicBezTo>
                <a:cubicBezTo>
                  <a:pt x="3026" y="770"/>
                  <a:pt x="3026" y="794"/>
                  <a:pt x="3042" y="792"/>
                </a:cubicBezTo>
                <a:cubicBezTo>
                  <a:pt x="3058" y="790"/>
                  <a:pt x="3066" y="773"/>
                  <a:pt x="3090" y="774"/>
                </a:cubicBezTo>
                <a:cubicBezTo>
                  <a:pt x="3110" y="779"/>
                  <a:pt x="3180" y="789"/>
                  <a:pt x="3186" y="798"/>
                </a:cubicBezTo>
                <a:cubicBezTo>
                  <a:pt x="3212" y="805"/>
                  <a:pt x="3212" y="855"/>
                  <a:pt x="3228" y="864"/>
                </a:cubicBezTo>
                <a:cubicBezTo>
                  <a:pt x="3240" y="879"/>
                  <a:pt x="3242" y="879"/>
                  <a:pt x="3258" y="888"/>
                </a:cubicBezTo>
                <a:cubicBezTo>
                  <a:pt x="3270" y="938"/>
                  <a:pt x="3270" y="886"/>
                  <a:pt x="3324" y="918"/>
                </a:cubicBezTo>
                <a:cubicBezTo>
                  <a:pt x="3384" y="930"/>
                  <a:pt x="3397" y="1039"/>
                  <a:pt x="3438" y="1044"/>
                </a:cubicBezTo>
                <a:cubicBezTo>
                  <a:pt x="3487" y="1067"/>
                  <a:pt x="3544" y="1040"/>
                  <a:pt x="3582" y="1026"/>
                </a:cubicBezTo>
                <a:cubicBezTo>
                  <a:pt x="3613" y="1013"/>
                  <a:pt x="3613" y="988"/>
                  <a:pt x="3624" y="966"/>
                </a:cubicBezTo>
                <a:cubicBezTo>
                  <a:pt x="3640" y="947"/>
                  <a:pt x="3635" y="912"/>
                  <a:pt x="3648" y="894"/>
                </a:cubicBezTo>
                <a:cubicBezTo>
                  <a:pt x="3661" y="876"/>
                  <a:pt x="3681" y="869"/>
                  <a:pt x="3702" y="858"/>
                </a:cubicBezTo>
                <a:cubicBezTo>
                  <a:pt x="3723" y="847"/>
                  <a:pt x="3746" y="825"/>
                  <a:pt x="3774" y="828"/>
                </a:cubicBezTo>
                <a:cubicBezTo>
                  <a:pt x="3802" y="831"/>
                  <a:pt x="3846" y="857"/>
                  <a:pt x="3870" y="876"/>
                </a:cubicBezTo>
                <a:cubicBezTo>
                  <a:pt x="3912" y="839"/>
                  <a:pt x="3872" y="973"/>
                  <a:pt x="3918" y="942"/>
                </a:cubicBezTo>
                <a:cubicBezTo>
                  <a:pt x="3940" y="954"/>
                  <a:pt x="3978" y="983"/>
                  <a:pt x="4002" y="984"/>
                </a:cubicBezTo>
                <a:cubicBezTo>
                  <a:pt x="4026" y="985"/>
                  <a:pt x="4044" y="959"/>
                  <a:pt x="4062" y="948"/>
                </a:cubicBezTo>
                <a:cubicBezTo>
                  <a:pt x="4093" y="973"/>
                  <a:pt x="4110" y="918"/>
                  <a:pt x="4110" y="918"/>
                </a:cubicBezTo>
                <a:cubicBezTo>
                  <a:pt x="4150" y="838"/>
                  <a:pt x="4164" y="816"/>
                  <a:pt x="4218" y="756"/>
                </a:cubicBezTo>
                <a:cubicBezTo>
                  <a:pt x="4243" y="716"/>
                  <a:pt x="4246" y="712"/>
                  <a:pt x="4260" y="690"/>
                </a:cubicBezTo>
                <a:cubicBezTo>
                  <a:pt x="4274" y="668"/>
                  <a:pt x="4283" y="655"/>
                  <a:pt x="4302" y="624"/>
                </a:cubicBezTo>
                <a:cubicBezTo>
                  <a:pt x="4328" y="547"/>
                  <a:pt x="4311" y="546"/>
                  <a:pt x="4374" y="504"/>
                </a:cubicBezTo>
                <a:cubicBezTo>
                  <a:pt x="4432" y="418"/>
                  <a:pt x="4380" y="390"/>
                  <a:pt x="4476" y="378"/>
                </a:cubicBezTo>
                <a:cubicBezTo>
                  <a:pt x="4690" y="394"/>
                  <a:pt x="4623" y="426"/>
                  <a:pt x="4662" y="43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957120" y="3397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四川盆地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095880" y="5715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6019920" y="3505320"/>
            <a:ext cx="7596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987880" y="312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宜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7124760" y="3581280"/>
            <a:ext cx="7632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902280" y="365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湖口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4232880" y="4115880"/>
            <a:ext cx="787680" cy="496440"/>
          </a:xfrm>
          <a:prstGeom prst="wedgeRoundRectCallout">
            <a:avLst>
              <a:gd name="adj1" fmla="val 74027"/>
              <a:gd name="adj2" fmla="val -163546"/>
              <a:gd name="adj3" fmla="val 16667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瞿塘峡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1" name="AutoShape 11"/>
          <p:cNvSpPr/>
          <p:nvPr/>
        </p:nvSpPr>
        <p:spPr>
          <a:xfrm>
            <a:off x="5257800" y="4115880"/>
            <a:ext cx="914400" cy="496440"/>
          </a:xfrm>
          <a:prstGeom prst="wedgeRoundRectCallout">
            <a:avLst>
              <a:gd name="adj1" fmla="val -30759"/>
              <a:gd name="adj2" fmla="val -185796"/>
              <a:gd name="adj3" fmla="val 16667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巫峡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6172200" y="4095000"/>
            <a:ext cx="1295280" cy="496440"/>
          </a:xfrm>
          <a:prstGeom prst="wedgeRoundRectCallout">
            <a:avLst>
              <a:gd name="adj1" fmla="val -86370"/>
              <a:gd name="adj2" fmla="val -190939"/>
              <a:gd name="adj3" fmla="val 16667"/>
            </a:avLst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西陵峡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3" name="Line 13"/>
          <p:cNvSpPr/>
          <p:nvPr/>
        </p:nvSpPr>
        <p:spPr>
          <a:xfrm flipH="1">
            <a:off x="5403600" y="3059640"/>
            <a:ext cx="167040" cy="586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4" name="Text Box 14"/>
          <p:cNvSpPr/>
          <p:nvPr/>
        </p:nvSpPr>
        <p:spPr>
          <a:xfrm rot="981000">
            <a:off x="5259600" y="3124080"/>
            <a:ext cx="7902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巫山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6800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长江三峡位置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4140360" y="627228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瞿塘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08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10" name="Picture 5" descr="瞿塘峡"/>
          <p:cNvPicPr/>
          <p:nvPr/>
        </p:nvPicPr>
        <p:blipFill>
          <a:blip r:embed="rId2"/>
          <a:stretch/>
        </p:blipFill>
        <p:spPr>
          <a:xfrm>
            <a:off x="2484360" y="620640"/>
            <a:ext cx="4248360" cy="5616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西陵峡2"/>
          <p:cNvPicPr/>
          <p:nvPr/>
        </p:nvPicPr>
        <p:blipFill>
          <a:blip r:embed="rId3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4278240" y="62722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巫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13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15" name="Picture 8" descr="巫峡"/>
          <p:cNvPicPr/>
          <p:nvPr/>
        </p:nvPicPr>
        <p:blipFill>
          <a:blip r:embed="rId2"/>
          <a:stretch/>
        </p:blipFill>
        <p:spPr>
          <a:xfrm>
            <a:off x="2340000" y="765000"/>
            <a:ext cx="4537080" cy="5429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西陵峡2"/>
          <p:cNvPicPr/>
          <p:nvPr/>
        </p:nvPicPr>
        <p:blipFill>
          <a:blip r:embed="rId3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3917880" y="6272280"/>
            <a:ext cx="18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西陵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18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20" name="Picture 8" descr="西陵峡2"/>
          <p:cNvPicPr/>
          <p:nvPr/>
        </p:nvPicPr>
        <p:blipFill>
          <a:blip r:embed="rId2"/>
          <a:stretch/>
        </p:blipFill>
        <p:spPr>
          <a:xfrm>
            <a:off x="2484360" y="907920"/>
            <a:ext cx="4175280" cy="5329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西陵峡2"/>
          <p:cNvPicPr/>
          <p:nvPr/>
        </p:nvPicPr>
        <p:blipFill>
          <a:blip r:embed="rId3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3" descr="复件 思考"/>
          <p:cNvPicPr/>
          <p:nvPr/>
        </p:nvPicPr>
        <p:blipFill>
          <a:blip r:embed="rId1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3"/>
          <p:cNvSpPr/>
          <p:nvPr/>
        </p:nvSpPr>
        <p:spPr>
          <a:xfrm>
            <a:off x="1403280" y="703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、黄河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84320" y="1413000"/>
            <a:ext cx="87487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国有两条著名的河流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它们孕育了华夏文明，滋养着神州大地上的万千炎黄子孙，因此被誉为我们中华民族的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母亲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7" name="Picture 8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3"/>
          <p:cNvSpPr/>
          <p:nvPr/>
        </p:nvSpPr>
        <p:spPr>
          <a:xfrm>
            <a:off x="1109520" y="61657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瞿塘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23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3"/>
          <p:cNvSpPr/>
          <p:nvPr/>
        </p:nvSpPr>
        <p:spPr>
          <a:xfrm>
            <a:off x="1042920" y="189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峡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25" name="Picture 8" descr="瞿塘峡"/>
          <p:cNvPicPr/>
          <p:nvPr/>
        </p:nvPicPr>
        <p:blipFill>
          <a:blip r:embed="rId2"/>
          <a:stretch/>
        </p:blipFill>
        <p:spPr>
          <a:xfrm>
            <a:off x="250920" y="907920"/>
            <a:ext cx="2808360" cy="5257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巫峡"/>
          <p:cNvPicPr/>
          <p:nvPr/>
        </p:nvPicPr>
        <p:blipFill>
          <a:blip r:embed="rId3"/>
          <a:stretch/>
        </p:blipFill>
        <p:spPr>
          <a:xfrm>
            <a:off x="3132000" y="907920"/>
            <a:ext cx="2881440" cy="5257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西陵峡2"/>
          <p:cNvPicPr/>
          <p:nvPr/>
        </p:nvPicPr>
        <p:blipFill>
          <a:blip r:embed="rId4"/>
          <a:stretch/>
        </p:blipFill>
        <p:spPr>
          <a:xfrm>
            <a:off x="6084720" y="907920"/>
            <a:ext cx="288000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4278240" y="616572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巫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7164360" y="61657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西陵峡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3917880" y="627228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第一湾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32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34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嘉陵江"/>
          <p:cNvPicPr/>
          <p:nvPr/>
        </p:nvPicPr>
        <p:blipFill>
          <a:blip r:embed="rId4"/>
          <a:stretch/>
        </p:blipFill>
        <p:spPr>
          <a:xfrm>
            <a:off x="179280" y="83340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QQ图片20140206215118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3492360" y="627228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三峡水电站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39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41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嘉陵江"/>
          <p:cNvPicPr/>
          <p:nvPr/>
        </p:nvPicPr>
        <p:blipFill>
          <a:blip r:embed="rId4"/>
          <a:stretch/>
        </p:blipFill>
        <p:spPr>
          <a:xfrm>
            <a:off x="179280" y="83340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QQ图片20140206215209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2620800" y="627228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上游最大的城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重庆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46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"/>
          <p:cNvSpPr/>
          <p:nvPr/>
        </p:nvSpPr>
        <p:spPr>
          <a:xfrm>
            <a:off x="2620800" y="627228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中游最大的城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武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50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52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3492360" y="627228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武汉长江大桥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55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57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嘉陵江"/>
          <p:cNvPicPr/>
          <p:nvPr/>
        </p:nvPicPr>
        <p:blipFill>
          <a:blip r:embed="rId4"/>
          <a:stretch/>
        </p:blipFill>
        <p:spPr>
          <a:xfrm>
            <a:off x="179280" y="83340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QQ图片20140206215209"/>
          <p:cNvPicPr/>
          <p:nvPr/>
        </p:nvPicPr>
        <p:blipFill>
          <a:blip r:embed="rId5"/>
          <a:stretch/>
        </p:blipFill>
        <p:spPr>
          <a:xfrm>
            <a:off x="179280" y="836640"/>
            <a:ext cx="8785440" cy="5429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QQ图片20140206215237"/>
          <p:cNvPicPr/>
          <p:nvPr/>
        </p:nvPicPr>
        <p:blipFill>
          <a:blip r:embed="rId6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2620800" y="627228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长江下游最大的城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海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63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65" name="Picture 6" descr="长江下游最大的城市——上海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QQ图片20140206215327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3" descr="复件 思考"/>
          <p:cNvPicPr/>
          <p:nvPr/>
        </p:nvPicPr>
        <p:blipFill>
          <a:blip r:embed="rId1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3"/>
          <p:cNvSpPr/>
          <p:nvPr/>
        </p:nvSpPr>
        <p:spPr>
          <a:xfrm>
            <a:off x="1116000" y="2462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395280" y="981000"/>
            <a:ext cx="8280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长江之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首诗是电视系列片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话说长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主题歌的歌词。作者以雄浑的气势，赞颂了长江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宏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壮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以真切的情感表达了中华儿女对长江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热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依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之情。 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70" name="Picture 10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西陵峡2"/>
          <p:cNvPicPr/>
          <p:nvPr/>
        </p:nvPicPr>
        <p:blipFill>
          <a:blip r:embed="rId1"/>
          <a:stretch/>
        </p:blipFill>
        <p:spPr>
          <a:xfrm>
            <a:off x="179280" y="907920"/>
            <a:ext cx="3816360" cy="53294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7"/>
          <p:cNvSpPr/>
          <p:nvPr/>
        </p:nvSpPr>
        <p:spPr>
          <a:xfrm>
            <a:off x="4557600" y="1332000"/>
            <a:ext cx="1400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从雪山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春潮是你的丰采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向东海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甘甜的乳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哺育各族儿女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健美的臂膀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挽起高山大海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6742080" y="1341360"/>
            <a:ext cx="155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从远古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巨浪 荡涤着尘埃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向未来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涛声回荡在天外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纯洁的清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灌溉花的国土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磅礴的力量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74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曲欣赏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5219640" y="739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江之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77" name="长江之歌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0.0)">
                                      <p:cBhvr>
                                        <p:cTn id="444" dur="196865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611280" y="1413000"/>
            <a:ext cx="83516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用自己喜欢的方式读课文，整体感知课文内容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找出生字新词，注意读准字音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查字典，联系上下文，与同桌探讨，理解课文中的词语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分小组讨论，交流：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作者赞美了什么？抒发了作者什么感情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7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1187280" y="260280"/>
            <a:ext cx="19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读课文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81" name="Picture 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3" descr="复件 思考"/>
          <p:cNvPicPr/>
          <p:nvPr/>
        </p:nvPicPr>
        <p:blipFill>
          <a:blip r:embed="rId2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2006120174628928"/>
          <p:cNvPicPr/>
          <p:nvPr/>
        </p:nvPicPr>
        <p:blipFill>
          <a:blip r:embed="rId3"/>
          <a:stretch/>
        </p:blipFill>
        <p:spPr>
          <a:xfrm>
            <a:off x="7596360" y="5803920"/>
            <a:ext cx="147636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2916360" y="3141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涤</a:t>
            </a:r>
            <a:endParaRPr b="0" lang="en-US" sz="5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356000" y="31417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溉</a:t>
            </a:r>
            <a:endParaRPr b="0" lang="en-US" sz="5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5796000" y="3141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恋</a:t>
            </a:r>
            <a:endParaRPr b="0" lang="en-US" sz="5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916360" y="44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洗涤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35600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灌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3059280" y="2205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dí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35600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ɡài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651640" y="2205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liàn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0" name="Line 10"/>
          <p:cNvSpPr/>
          <p:nvPr/>
        </p:nvSpPr>
        <p:spPr>
          <a:xfrm flipV="1">
            <a:off x="2556000" y="3047760"/>
            <a:ext cx="4378320" cy="20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2556000" y="2133720"/>
            <a:ext cx="4378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2" name="Line 12"/>
          <p:cNvSpPr/>
          <p:nvPr/>
        </p:nvSpPr>
        <p:spPr>
          <a:xfrm flipV="1">
            <a:off x="2556000" y="4266720"/>
            <a:ext cx="4378320" cy="25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93" name="Picture 13" descr="复件 思考"/>
          <p:cNvPicPr/>
          <p:nvPr/>
        </p:nvPicPr>
        <p:blipFill>
          <a:blip r:embed="rId1"/>
          <a:stretch/>
        </p:blipFill>
        <p:spPr>
          <a:xfrm>
            <a:off x="32400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3"/>
          <p:cNvSpPr/>
          <p:nvPr/>
        </p:nvSpPr>
        <p:spPr>
          <a:xfrm>
            <a:off x="1258920" y="260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796000" y="443700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依恋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396" name="Picture 1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3"/>
          <p:cNvSpPr/>
          <p:nvPr/>
        </p:nvSpPr>
        <p:spPr>
          <a:xfrm>
            <a:off x="1116000" y="18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187280" y="1844640"/>
            <a:ext cx="676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哺育   　　荡涤    　　尘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灌溉　　　 臂膀        磅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900000" y="1268280"/>
            <a:ext cx="612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bǔ yù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　　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dàng dí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　 　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hén ā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endParaRPr b="0" lang="en-US" sz="32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1042920" y="3213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guàn gài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　　　　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bì  bǎng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　　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páng  bó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02" name="Picture 10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114560" y="1341360"/>
            <a:ext cx="7129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春潮　  丰采　  惊涛　  气概  　甘甜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哺育　　健美　　臂膀　　挽起　　依恋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情怀　　荡涤　　尘埃　　纯洁　　灌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磅礴　　源泉　　清流　　乳汁　　奔去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04" name="Picture 23" descr="复件 思考"/>
          <p:cNvPicPr/>
          <p:nvPr/>
        </p:nvPicPr>
        <p:blipFill>
          <a:blip r:embed="rId1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23"/>
          <p:cNvSpPr/>
          <p:nvPr/>
        </p:nvSpPr>
        <p:spPr>
          <a:xfrm>
            <a:off x="1116000" y="2462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会读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06" name="Picture 2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1341000"/>
            <a:ext cx="4907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哺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bǔ  pǔ 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依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 li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  ni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磅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b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à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g p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á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g 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90000"/>
              </a:lnSpc>
              <a:spcBef>
                <a:spcPts val="700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奔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 bēn  b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黑体"/>
              </a:rPr>
              <a:t>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 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3" descr="复件 思考"/>
          <p:cNvPicPr/>
          <p:nvPr/>
        </p:nvPicPr>
        <p:blipFill>
          <a:blip r:embed="rId1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23"/>
          <p:cNvSpPr/>
          <p:nvPr/>
        </p:nvSpPr>
        <p:spPr>
          <a:xfrm>
            <a:off x="1116000" y="2462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选择正确的读音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1907640" y="16477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2817360" y="2565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3347640" y="3519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2410920" y="438300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14" name="Picture 1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539640" y="1249200"/>
            <a:ext cx="8136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哺（   ）　溉（    ）　涛（    ） 源（   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辅（   ）　概（  　）　滔（   ）　原（   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铺（ 　）　慨（  　）  淘（   ）　缘（   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1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23"/>
          <p:cNvSpPr/>
          <p:nvPr/>
        </p:nvSpPr>
        <p:spPr>
          <a:xfrm>
            <a:off x="1116000" y="2462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组词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18" name="Picture 7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735120" y="1197000"/>
            <a:ext cx="82296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气概（             ） 　健美（   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哺育（             ）　 荡涤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依恋（             ）　 纯洁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23"/>
          <p:cNvSpPr/>
          <p:nvPr/>
        </p:nvSpPr>
        <p:spPr>
          <a:xfrm>
            <a:off x="1116000" y="18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2413080" y="1341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气势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5508720" y="134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健壮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2411280" y="2060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养育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508720" y="206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洗涤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2411280" y="2781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留恋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550872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纯净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111600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写出下列词语的近义词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1116000" y="36194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写出下列词语的反义词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0" name="Rectangle 19"/>
          <p:cNvSpPr/>
          <p:nvPr/>
        </p:nvSpPr>
        <p:spPr>
          <a:xfrm>
            <a:off x="684360" y="4005360"/>
            <a:ext cx="82296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甘甜（             ） 　 纯洁（            ） 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穷（             ）　  赞美（            ）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2411280" y="4221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苦涩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5651640" y="4205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肮脏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2411280" y="4941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限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5651640" y="49258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贬低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35" name="Picture 24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735120" y="1123920"/>
            <a:ext cx="822960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             ）的乳汁        （            ）的清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             ）的臂膀        （            ）的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             ）的源泉        （            ）的情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3"/>
          <p:cNvSpPr/>
          <p:nvPr/>
        </p:nvSpPr>
        <p:spPr>
          <a:xfrm>
            <a:off x="1116000" y="18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262160" y="141300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甘甜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5148360" y="1413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纯洁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332000" y="234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健美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5219640" y="2405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磅礴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1332000" y="3341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穷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5219640" y="33415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母亲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45" name="Picture 1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23"/>
          <p:cNvSpPr/>
          <p:nvPr/>
        </p:nvSpPr>
        <p:spPr>
          <a:xfrm>
            <a:off x="1116000" y="692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文中的词语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285920" y="1000080"/>
            <a:ext cx="59054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丰采：美好的仪表举止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依恋：留恋，舍不得离开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荡涤：冲洗、清除、洗涤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尘埃：尘土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磅礴：气势盛大。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灌溉：把水输送到田里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48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23"/>
          <p:cNvSpPr/>
          <p:nvPr/>
        </p:nvSpPr>
        <p:spPr>
          <a:xfrm>
            <a:off x="1116000" y="1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解词语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50" name="Picture 1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68360" y="1943280"/>
            <a:ext cx="856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第一段（  ）：写长江源远流长、宏伟博大、多姿多彩。 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503280" y="2997360"/>
            <a:ext cx="8640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第二段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</a:rPr>
              <a:t>（  ）：写长江古老悠久、气势磅礴、力量无穷。 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971640" y="18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理清课文脉络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763640" y="20955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1835280" y="3141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971640" y="98100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请同学们小组合作学习，给课文分段，概括大意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58" name="Picture 11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44000" y="981000"/>
            <a:ext cx="882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长江之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首诗是电视系列片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话说长江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主题歌的歌词。作者运用了（     ）的手法，把长江比作（     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赞颂了长江的（     　 ）、（    　  ）、（    　  ）、 （     　 ）、（    　  ）、（　　　　）。表达了中华儿女对长江的（     ）、（     ）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348000" y="1892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拟人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7451640" y="1892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母亲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2340000" y="25401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源远流长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4572000" y="25401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宏伟博大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73272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姿多彩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539640" y="31878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古老悠久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6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23"/>
          <p:cNvSpPr/>
          <p:nvPr/>
        </p:nvSpPr>
        <p:spPr>
          <a:xfrm>
            <a:off x="1258920" y="33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2698920" y="3213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气势磅礴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4859280" y="3213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力量无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906560" y="38354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热爱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3562200" y="38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依恋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72" name="Picture 15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6"/>
          <p:cNvPicPr/>
          <p:nvPr/>
        </p:nvPicPr>
        <p:blipFill>
          <a:blip r:embed="rId1"/>
          <a:stretch/>
        </p:blipFill>
        <p:spPr>
          <a:xfrm>
            <a:off x="457200" y="1887480"/>
            <a:ext cx="8381880" cy="390384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380880" y="1905120"/>
            <a:ext cx="3581640" cy="1363680"/>
          </a:xfrm>
          <a:custGeom>
            <a:avLst/>
            <a:gdLst/>
            <a:ahLst/>
            <a:rect l="l" t="t" r="r" b="b"/>
            <a:pathLst>
              <a:path w="2256" h="859">
                <a:moveTo>
                  <a:pt x="22" y="349"/>
                </a:moveTo>
                <a:cubicBezTo>
                  <a:pt x="88" y="371"/>
                  <a:pt x="0" y="330"/>
                  <a:pt x="70" y="361"/>
                </a:cubicBezTo>
                <a:cubicBezTo>
                  <a:pt x="82" y="366"/>
                  <a:pt x="87" y="377"/>
                  <a:pt x="106" y="382"/>
                </a:cubicBezTo>
                <a:cubicBezTo>
                  <a:pt x="116" y="387"/>
                  <a:pt x="120" y="388"/>
                  <a:pt x="127" y="388"/>
                </a:cubicBezTo>
                <a:cubicBezTo>
                  <a:pt x="134" y="388"/>
                  <a:pt x="142" y="379"/>
                  <a:pt x="151" y="379"/>
                </a:cubicBezTo>
                <a:cubicBezTo>
                  <a:pt x="160" y="379"/>
                  <a:pt x="174" y="386"/>
                  <a:pt x="184" y="391"/>
                </a:cubicBezTo>
                <a:cubicBezTo>
                  <a:pt x="188" y="397"/>
                  <a:pt x="203" y="401"/>
                  <a:pt x="208" y="406"/>
                </a:cubicBezTo>
                <a:cubicBezTo>
                  <a:pt x="219" y="415"/>
                  <a:pt x="226" y="439"/>
                  <a:pt x="226" y="439"/>
                </a:cubicBezTo>
                <a:cubicBezTo>
                  <a:pt x="232" y="448"/>
                  <a:pt x="236" y="454"/>
                  <a:pt x="247" y="463"/>
                </a:cubicBezTo>
                <a:cubicBezTo>
                  <a:pt x="258" y="472"/>
                  <a:pt x="278" y="485"/>
                  <a:pt x="292" y="493"/>
                </a:cubicBezTo>
                <a:cubicBezTo>
                  <a:pt x="305" y="500"/>
                  <a:pt x="320" y="506"/>
                  <a:pt x="334" y="511"/>
                </a:cubicBezTo>
                <a:cubicBezTo>
                  <a:pt x="346" y="515"/>
                  <a:pt x="359" y="516"/>
                  <a:pt x="370" y="523"/>
                </a:cubicBezTo>
                <a:cubicBezTo>
                  <a:pt x="383" y="528"/>
                  <a:pt x="397" y="530"/>
                  <a:pt x="412" y="535"/>
                </a:cubicBezTo>
                <a:cubicBezTo>
                  <a:pt x="427" y="540"/>
                  <a:pt x="447" y="547"/>
                  <a:pt x="460" y="553"/>
                </a:cubicBezTo>
                <a:cubicBezTo>
                  <a:pt x="473" y="557"/>
                  <a:pt x="448" y="560"/>
                  <a:pt x="487" y="571"/>
                </a:cubicBezTo>
                <a:cubicBezTo>
                  <a:pt x="506" y="578"/>
                  <a:pt x="545" y="590"/>
                  <a:pt x="574" y="595"/>
                </a:cubicBezTo>
                <a:cubicBezTo>
                  <a:pt x="603" y="600"/>
                  <a:pt x="641" y="600"/>
                  <a:pt x="661" y="604"/>
                </a:cubicBezTo>
                <a:cubicBezTo>
                  <a:pt x="681" y="608"/>
                  <a:pt x="685" y="610"/>
                  <a:pt x="694" y="619"/>
                </a:cubicBezTo>
                <a:cubicBezTo>
                  <a:pt x="704" y="626"/>
                  <a:pt x="710" y="652"/>
                  <a:pt x="718" y="661"/>
                </a:cubicBezTo>
                <a:cubicBezTo>
                  <a:pt x="726" y="670"/>
                  <a:pt x="734" y="668"/>
                  <a:pt x="742" y="673"/>
                </a:cubicBezTo>
                <a:cubicBezTo>
                  <a:pt x="748" y="678"/>
                  <a:pt x="762" y="688"/>
                  <a:pt x="766" y="694"/>
                </a:cubicBezTo>
                <a:cubicBezTo>
                  <a:pt x="772" y="701"/>
                  <a:pt x="776" y="699"/>
                  <a:pt x="778" y="712"/>
                </a:cubicBezTo>
                <a:cubicBezTo>
                  <a:pt x="782" y="723"/>
                  <a:pt x="777" y="760"/>
                  <a:pt x="781" y="775"/>
                </a:cubicBezTo>
                <a:cubicBezTo>
                  <a:pt x="785" y="790"/>
                  <a:pt x="793" y="794"/>
                  <a:pt x="802" y="802"/>
                </a:cubicBezTo>
                <a:cubicBezTo>
                  <a:pt x="811" y="810"/>
                  <a:pt x="826" y="817"/>
                  <a:pt x="835" y="823"/>
                </a:cubicBezTo>
                <a:cubicBezTo>
                  <a:pt x="842" y="828"/>
                  <a:pt x="849" y="831"/>
                  <a:pt x="856" y="835"/>
                </a:cubicBezTo>
                <a:cubicBezTo>
                  <a:pt x="862" y="838"/>
                  <a:pt x="868" y="845"/>
                  <a:pt x="874" y="847"/>
                </a:cubicBezTo>
                <a:cubicBezTo>
                  <a:pt x="880" y="850"/>
                  <a:pt x="890" y="859"/>
                  <a:pt x="895" y="856"/>
                </a:cubicBezTo>
                <a:cubicBezTo>
                  <a:pt x="903" y="854"/>
                  <a:pt x="896" y="836"/>
                  <a:pt x="904" y="829"/>
                </a:cubicBezTo>
                <a:cubicBezTo>
                  <a:pt x="906" y="821"/>
                  <a:pt x="901" y="811"/>
                  <a:pt x="904" y="805"/>
                </a:cubicBezTo>
                <a:cubicBezTo>
                  <a:pt x="907" y="799"/>
                  <a:pt x="915" y="792"/>
                  <a:pt x="922" y="793"/>
                </a:cubicBezTo>
                <a:cubicBezTo>
                  <a:pt x="929" y="794"/>
                  <a:pt x="934" y="805"/>
                  <a:pt x="946" y="811"/>
                </a:cubicBezTo>
                <a:cubicBezTo>
                  <a:pt x="958" y="815"/>
                  <a:pt x="969" y="829"/>
                  <a:pt x="991" y="829"/>
                </a:cubicBezTo>
                <a:cubicBezTo>
                  <a:pt x="1003" y="831"/>
                  <a:pt x="1008" y="833"/>
                  <a:pt x="1018" y="826"/>
                </a:cubicBezTo>
                <a:cubicBezTo>
                  <a:pt x="1028" y="819"/>
                  <a:pt x="1035" y="799"/>
                  <a:pt x="1051" y="784"/>
                </a:cubicBezTo>
                <a:cubicBezTo>
                  <a:pt x="1079" y="765"/>
                  <a:pt x="1108" y="764"/>
                  <a:pt x="1114" y="733"/>
                </a:cubicBezTo>
                <a:cubicBezTo>
                  <a:pt x="1125" y="721"/>
                  <a:pt x="1107" y="734"/>
                  <a:pt x="1108" y="715"/>
                </a:cubicBezTo>
                <a:cubicBezTo>
                  <a:pt x="1111" y="704"/>
                  <a:pt x="1133" y="680"/>
                  <a:pt x="1135" y="664"/>
                </a:cubicBezTo>
                <a:cubicBezTo>
                  <a:pt x="1137" y="648"/>
                  <a:pt x="1125" y="623"/>
                  <a:pt x="1123" y="616"/>
                </a:cubicBezTo>
                <a:cubicBezTo>
                  <a:pt x="1121" y="609"/>
                  <a:pt x="1118" y="625"/>
                  <a:pt x="1120" y="619"/>
                </a:cubicBezTo>
                <a:cubicBezTo>
                  <a:pt x="1124" y="608"/>
                  <a:pt x="1124" y="582"/>
                  <a:pt x="1135" y="577"/>
                </a:cubicBezTo>
                <a:cubicBezTo>
                  <a:pt x="1144" y="572"/>
                  <a:pt x="1159" y="574"/>
                  <a:pt x="1162" y="565"/>
                </a:cubicBezTo>
                <a:cubicBezTo>
                  <a:pt x="1170" y="558"/>
                  <a:pt x="1160" y="532"/>
                  <a:pt x="1165" y="523"/>
                </a:cubicBezTo>
                <a:cubicBezTo>
                  <a:pt x="1170" y="514"/>
                  <a:pt x="1189" y="524"/>
                  <a:pt x="1189" y="511"/>
                </a:cubicBezTo>
                <a:cubicBezTo>
                  <a:pt x="1189" y="498"/>
                  <a:pt x="1167" y="459"/>
                  <a:pt x="1165" y="442"/>
                </a:cubicBezTo>
                <a:cubicBezTo>
                  <a:pt x="1163" y="425"/>
                  <a:pt x="1170" y="416"/>
                  <a:pt x="1177" y="409"/>
                </a:cubicBezTo>
                <a:cubicBezTo>
                  <a:pt x="1179" y="403"/>
                  <a:pt x="1204" y="399"/>
                  <a:pt x="1210" y="397"/>
                </a:cubicBezTo>
                <a:cubicBezTo>
                  <a:pt x="1230" y="399"/>
                  <a:pt x="1246" y="390"/>
                  <a:pt x="1264" y="400"/>
                </a:cubicBezTo>
                <a:cubicBezTo>
                  <a:pt x="1278" y="404"/>
                  <a:pt x="1280" y="402"/>
                  <a:pt x="1288" y="409"/>
                </a:cubicBezTo>
                <a:cubicBezTo>
                  <a:pt x="1293" y="411"/>
                  <a:pt x="1290" y="409"/>
                  <a:pt x="1294" y="415"/>
                </a:cubicBezTo>
                <a:cubicBezTo>
                  <a:pt x="1298" y="421"/>
                  <a:pt x="1305" y="436"/>
                  <a:pt x="1315" y="445"/>
                </a:cubicBezTo>
                <a:cubicBezTo>
                  <a:pt x="1320" y="459"/>
                  <a:pt x="1353" y="460"/>
                  <a:pt x="1357" y="472"/>
                </a:cubicBezTo>
                <a:cubicBezTo>
                  <a:pt x="1364" y="484"/>
                  <a:pt x="1357" y="509"/>
                  <a:pt x="1360" y="520"/>
                </a:cubicBezTo>
                <a:cubicBezTo>
                  <a:pt x="1362" y="531"/>
                  <a:pt x="1373" y="533"/>
                  <a:pt x="1375" y="538"/>
                </a:cubicBezTo>
                <a:cubicBezTo>
                  <a:pt x="1378" y="546"/>
                  <a:pt x="1381" y="564"/>
                  <a:pt x="1381" y="568"/>
                </a:cubicBezTo>
                <a:cubicBezTo>
                  <a:pt x="1381" y="572"/>
                  <a:pt x="1369" y="559"/>
                  <a:pt x="1372" y="565"/>
                </a:cubicBezTo>
                <a:cubicBezTo>
                  <a:pt x="1375" y="569"/>
                  <a:pt x="1387" y="595"/>
                  <a:pt x="1399" y="604"/>
                </a:cubicBezTo>
                <a:cubicBezTo>
                  <a:pt x="1407" y="611"/>
                  <a:pt x="1416" y="605"/>
                  <a:pt x="1423" y="607"/>
                </a:cubicBezTo>
                <a:cubicBezTo>
                  <a:pt x="1430" y="609"/>
                  <a:pt x="1441" y="613"/>
                  <a:pt x="1444" y="619"/>
                </a:cubicBezTo>
                <a:cubicBezTo>
                  <a:pt x="1449" y="623"/>
                  <a:pt x="1438" y="640"/>
                  <a:pt x="1444" y="643"/>
                </a:cubicBezTo>
                <a:cubicBezTo>
                  <a:pt x="1451" y="647"/>
                  <a:pt x="1477" y="669"/>
                  <a:pt x="1486" y="670"/>
                </a:cubicBezTo>
                <a:cubicBezTo>
                  <a:pt x="1497" y="672"/>
                  <a:pt x="1503" y="659"/>
                  <a:pt x="1510" y="655"/>
                </a:cubicBezTo>
                <a:cubicBezTo>
                  <a:pt x="1522" y="659"/>
                  <a:pt x="1528" y="643"/>
                  <a:pt x="1528" y="643"/>
                </a:cubicBezTo>
                <a:cubicBezTo>
                  <a:pt x="1534" y="645"/>
                  <a:pt x="1536" y="649"/>
                  <a:pt x="1552" y="664"/>
                </a:cubicBezTo>
                <a:cubicBezTo>
                  <a:pt x="1560" y="674"/>
                  <a:pt x="1569" y="697"/>
                  <a:pt x="1579" y="703"/>
                </a:cubicBezTo>
                <a:cubicBezTo>
                  <a:pt x="1589" y="709"/>
                  <a:pt x="1608" y="696"/>
                  <a:pt x="1612" y="703"/>
                </a:cubicBezTo>
                <a:cubicBezTo>
                  <a:pt x="1616" y="710"/>
                  <a:pt x="1600" y="741"/>
                  <a:pt x="1603" y="748"/>
                </a:cubicBezTo>
                <a:cubicBezTo>
                  <a:pt x="1605" y="755"/>
                  <a:pt x="1625" y="754"/>
                  <a:pt x="1633" y="748"/>
                </a:cubicBezTo>
                <a:cubicBezTo>
                  <a:pt x="1641" y="742"/>
                  <a:pt x="1642" y="713"/>
                  <a:pt x="1654" y="709"/>
                </a:cubicBezTo>
                <a:cubicBezTo>
                  <a:pt x="1666" y="705"/>
                  <a:pt x="1693" y="721"/>
                  <a:pt x="1708" y="721"/>
                </a:cubicBezTo>
                <a:cubicBezTo>
                  <a:pt x="1723" y="721"/>
                  <a:pt x="1734" y="726"/>
                  <a:pt x="1744" y="709"/>
                </a:cubicBezTo>
                <a:cubicBezTo>
                  <a:pt x="1752" y="684"/>
                  <a:pt x="1743" y="625"/>
                  <a:pt x="1771" y="616"/>
                </a:cubicBezTo>
                <a:cubicBezTo>
                  <a:pt x="1783" y="612"/>
                  <a:pt x="1804" y="588"/>
                  <a:pt x="1816" y="586"/>
                </a:cubicBezTo>
                <a:cubicBezTo>
                  <a:pt x="1828" y="568"/>
                  <a:pt x="1861" y="573"/>
                  <a:pt x="1840" y="547"/>
                </a:cubicBezTo>
                <a:cubicBezTo>
                  <a:pt x="1835" y="541"/>
                  <a:pt x="1827" y="507"/>
                  <a:pt x="1819" y="505"/>
                </a:cubicBezTo>
                <a:cubicBezTo>
                  <a:pt x="1797" y="499"/>
                  <a:pt x="1806" y="512"/>
                  <a:pt x="1786" y="499"/>
                </a:cubicBezTo>
                <a:cubicBezTo>
                  <a:pt x="1779" y="488"/>
                  <a:pt x="1769" y="498"/>
                  <a:pt x="1762" y="487"/>
                </a:cubicBezTo>
                <a:cubicBezTo>
                  <a:pt x="1756" y="484"/>
                  <a:pt x="1756" y="488"/>
                  <a:pt x="1750" y="484"/>
                </a:cubicBezTo>
                <a:cubicBezTo>
                  <a:pt x="1744" y="480"/>
                  <a:pt x="1732" y="472"/>
                  <a:pt x="1726" y="463"/>
                </a:cubicBezTo>
                <a:cubicBezTo>
                  <a:pt x="1720" y="454"/>
                  <a:pt x="1717" y="436"/>
                  <a:pt x="1714" y="427"/>
                </a:cubicBezTo>
                <a:cubicBezTo>
                  <a:pt x="1712" y="421"/>
                  <a:pt x="1705" y="415"/>
                  <a:pt x="1708" y="409"/>
                </a:cubicBezTo>
                <a:cubicBezTo>
                  <a:pt x="1711" y="403"/>
                  <a:pt x="1705" y="383"/>
                  <a:pt x="1711" y="382"/>
                </a:cubicBezTo>
                <a:cubicBezTo>
                  <a:pt x="1722" y="379"/>
                  <a:pt x="1757" y="387"/>
                  <a:pt x="1774" y="388"/>
                </a:cubicBezTo>
                <a:cubicBezTo>
                  <a:pt x="1787" y="388"/>
                  <a:pt x="1785" y="385"/>
                  <a:pt x="1792" y="385"/>
                </a:cubicBezTo>
                <a:cubicBezTo>
                  <a:pt x="1799" y="385"/>
                  <a:pt x="1804" y="389"/>
                  <a:pt x="1816" y="391"/>
                </a:cubicBezTo>
                <a:cubicBezTo>
                  <a:pt x="1829" y="390"/>
                  <a:pt x="1847" y="403"/>
                  <a:pt x="1867" y="397"/>
                </a:cubicBezTo>
                <a:cubicBezTo>
                  <a:pt x="1882" y="402"/>
                  <a:pt x="1893" y="422"/>
                  <a:pt x="1906" y="424"/>
                </a:cubicBezTo>
                <a:cubicBezTo>
                  <a:pt x="1919" y="426"/>
                  <a:pt x="1942" y="424"/>
                  <a:pt x="1948" y="412"/>
                </a:cubicBezTo>
                <a:cubicBezTo>
                  <a:pt x="1954" y="400"/>
                  <a:pt x="1950" y="369"/>
                  <a:pt x="1939" y="352"/>
                </a:cubicBezTo>
                <a:cubicBezTo>
                  <a:pt x="1912" y="325"/>
                  <a:pt x="1856" y="332"/>
                  <a:pt x="1879" y="310"/>
                </a:cubicBezTo>
                <a:cubicBezTo>
                  <a:pt x="1872" y="301"/>
                  <a:pt x="1867" y="314"/>
                  <a:pt x="1891" y="289"/>
                </a:cubicBezTo>
                <a:cubicBezTo>
                  <a:pt x="1900" y="281"/>
                  <a:pt x="1921" y="273"/>
                  <a:pt x="1933" y="262"/>
                </a:cubicBezTo>
                <a:cubicBezTo>
                  <a:pt x="1945" y="251"/>
                  <a:pt x="1960" y="235"/>
                  <a:pt x="1966" y="223"/>
                </a:cubicBezTo>
                <a:cubicBezTo>
                  <a:pt x="1972" y="211"/>
                  <a:pt x="1963" y="202"/>
                  <a:pt x="1969" y="190"/>
                </a:cubicBezTo>
                <a:cubicBezTo>
                  <a:pt x="1975" y="178"/>
                  <a:pt x="1996" y="154"/>
                  <a:pt x="2005" y="148"/>
                </a:cubicBezTo>
                <a:cubicBezTo>
                  <a:pt x="2015" y="139"/>
                  <a:pt x="2017" y="156"/>
                  <a:pt x="2026" y="151"/>
                </a:cubicBezTo>
                <a:cubicBezTo>
                  <a:pt x="2035" y="146"/>
                  <a:pt x="2056" y="128"/>
                  <a:pt x="2062" y="115"/>
                </a:cubicBezTo>
                <a:cubicBezTo>
                  <a:pt x="2068" y="102"/>
                  <a:pt x="2059" y="85"/>
                  <a:pt x="2062" y="73"/>
                </a:cubicBezTo>
                <a:cubicBezTo>
                  <a:pt x="2064" y="61"/>
                  <a:pt x="2080" y="43"/>
                  <a:pt x="2080" y="43"/>
                </a:cubicBezTo>
                <a:cubicBezTo>
                  <a:pt x="2082" y="31"/>
                  <a:pt x="2090" y="19"/>
                  <a:pt x="2086" y="7"/>
                </a:cubicBezTo>
                <a:cubicBezTo>
                  <a:pt x="2084" y="0"/>
                  <a:pt x="2081" y="23"/>
                  <a:pt x="2074" y="25"/>
                </a:cubicBezTo>
                <a:cubicBezTo>
                  <a:pt x="2066" y="28"/>
                  <a:pt x="2058" y="20"/>
                  <a:pt x="2050" y="19"/>
                </a:cubicBezTo>
                <a:cubicBezTo>
                  <a:pt x="1986" y="11"/>
                  <a:pt x="2256" y="3"/>
                  <a:pt x="1918" y="1"/>
                </a:cubicBezTo>
                <a:lnTo>
                  <a:pt x="22" y="7"/>
                </a:lnTo>
                <a:lnTo>
                  <a:pt x="22" y="3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" name="Freeform 4"/>
          <p:cNvSpPr/>
          <p:nvPr/>
        </p:nvSpPr>
        <p:spPr>
          <a:xfrm>
            <a:off x="447840" y="4556160"/>
            <a:ext cx="1941480" cy="1220760"/>
          </a:xfrm>
          <a:custGeom>
            <a:avLst/>
            <a:gdLst/>
            <a:ahLst/>
            <a:rect l="l" t="t" r="r" b="b"/>
            <a:pathLst>
              <a:path w="1223" h="769">
                <a:moveTo>
                  <a:pt x="0" y="205"/>
                </a:moveTo>
                <a:cubicBezTo>
                  <a:pt x="9" y="198"/>
                  <a:pt x="43" y="166"/>
                  <a:pt x="56" y="157"/>
                </a:cubicBezTo>
                <a:cubicBezTo>
                  <a:pt x="69" y="148"/>
                  <a:pt x="71" y="152"/>
                  <a:pt x="80" y="149"/>
                </a:cubicBezTo>
                <a:cubicBezTo>
                  <a:pt x="88" y="148"/>
                  <a:pt x="97" y="140"/>
                  <a:pt x="108" y="141"/>
                </a:cubicBezTo>
                <a:cubicBezTo>
                  <a:pt x="118" y="144"/>
                  <a:pt x="132" y="161"/>
                  <a:pt x="140" y="165"/>
                </a:cubicBezTo>
                <a:cubicBezTo>
                  <a:pt x="145" y="166"/>
                  <a:pt x="152" y="162"/>
                  <a:pt x="156" y="165"/>
                </a:cubicBezTo>
                <a:cubicBezTo>
                  <a:pt x="159" y="168"/>
                  <a:pt x="164" y="168"/>
                  <a:pt x="168" y="169"/>
                </a:cubicBezTo>
                <a:cubicBezTo>
                  <a:pt x="192" y="173"/>
                  <a:pt x="228" y="174"/>
                  <a:pt x="252" y="177"/>
                </a:cubicBezTo>
                <a:cubicBezTo>
                  <a:pt x="298" y="192"/>
                  <a:pt x="244" y="161"/>
                  <a:pt x="288" y="205"/>
                </a:cubicBezTo>
                <a:cubicBezTo>
                  <a:pt x="301" y="217"/>
                  <a:pt x="321" y="235"/>
                  <a:pt x="332" y="249"/>
                </a:cubicBezTo>
                <a:cubicBezTo>
                  <a:pt x="343" y="263"/>
                  <a:pt x="349" y="274"/>
                  <a:pt x="356" y="289"/>
                </a:cubicBezTo>
                <a:cubicBezTo>
                  <a:pt x="358" y="300"/>
                  <a:pt x="362" y="329"/>
                  <a:pt x="372" y="337"/>
                </a:cubicBezTo>
                <a:cubicBezTo>
                  <a:pt x="377" y="346"/>
                  <a:pt x="372" y="362"/>
                  <a:pt x="380" y="365"/>
                </a:cubicBezTo>
                <a:cubicBezTo>
                  <a:pt x="388" y="368"/>
                  <a:pt x="409" y="360"/>
                  <a:pt x="420" y="357"/>
                </a:cubicBezTo>
                <a:cubicBezTo>
                  <a:pt x="432" y="356"/>
                  <a:pt x="437" y="349"/>
                  <a:pt x="448" y="345"/>
                </a:cubicBezTo>
                <a:cubicBezTo>
                  <a:pt x="453" y="343"/>
                  <a:pt x="463" y="343"/>
                  <a:pt x="468" y="341"/>
                </a:cubicBezTo>
                <a:cubicBezTo>
                  <a:pt x="475" y="338"/>
                  <a:pt x="484" y="339"/>
                  <a:pt x="492" y="337"/>
                </a:cubicBezTo>
                <a:cubicBezTo>
                  <a:pt x="525" y="330"/>
                  <a:pt x="490" y="321"/>
                  <a:pt x="524" y="309"/>
                </a:cubicBezTo>
                <a:cubicBezTo>
                  <a:pt x="538" y="304"/>
                  <a:pt x="580" y="291"/>
                  <a:pt x="592" y="289"/>
                </a:cubicBezTo>
                <a:cubicBezTo>
                  <a:pt x="619" y="284"/>
                  <a:pt x="634" y="280"/>
                  <a:pt x="660" y="273"/>
                </a:cubicBezTo>
                <a:cubicBezTo>
                  <a:pt x="671" y="270"/>
                  <a:pt x="696" y="273"/>
                  <a:pt x="696" y="273"/>
                </a:cubicBezTo>
                <a:cubicBezTo>
                  <a:pt x="701" y="269"/>
                  <a:pt x="710" y="276"/>
                  <a:pt x="716" y="273"/>
                </a:cubicBezTo>
                <a:cubicBezTo>
                  <a:pt x="726" y="269"/>
                  <a:pt x="748" y="265"/>
                  <a:pt x="748" y="265"/>
                </a:cubicBezTo>
                <a:cubicBezTo>
                  <a:pt x="755" y="258"/>
                  <a:pt x="765" y="252"/>
                  <a:pt x="772" y="245"/>
                </a:cubicBezTo>
                <a:cubicBezTo>
                  <a:pt x="779" y="237"/>
                  <a:pt x="776" y="226"/>
                  <a:pt x="784" y="217"/>
                </a:cubicBezTo>
                <a:cubicBezTo>
                  <a:pt x="792" y="208"/>
                  <a:pt x="809" y="203"/>
                  <a:pt x="820" y="193"/>
                </a:cubicBezTo>
                <a:cubicBezTo>
                  <a:pt x="836" y="188"/>
                  <a:pt x="852" y="157"/>
                  <a:pt x="852" y="157"/>
                </a:cubicBezTo>
                <a:cubicBezTo>
                  <a:pt x="873" y="143"/>
                  <a:pt x="870" y="157"/>
                  <a:pt x="880" y="133"/>
                </a:cubicBezTo>
                <a:cubicBezTo>
                  <a:pt x="891" y="129"/>
                  <a:pt x="898" y="156"/>
                  <a:pt x="920" y="157"/>
                </a:cubicBezTo>
                <a:cubicBezTo>
                  <a:pt x="940" y="157"/>
                  <a:pt x="981" y="140"/>
                  <a:pt x="1000" y="133"/>
                </a:cubicBezTo>
                <a:cubicBezTo>
                  <a:pt x="1018" y="106"/>
                  <a:pt x="1007" y="140"/>
                  <a:pt x="1036" y="117"/>
                </a:cubicBezTo>
                <a:cubicBezTo>
                  <a:pt x="1045" y="110"/>
                  <a:pt x="1051" y="99"/>
                  <a:pt x="1060" y="93"/>
                </a:cubicBezTo>
                <a:cubicBezTo>
                  <a:pt x="1064" y="90"/>
                  <a:pt x="1068" y="88"/>
                  <a:pt x="1072" y="85"/>
                </a:cubicBezTo>
                <a:cubicBezTo>
                  <a:pt x="1090" y="57"/>
                  <a:pt x="1079" y="64"/>
                  <a:pt x="1100" y="57"/>
                </a:cubicBezTo>
                <a:cubicBezTo>
                  <a:pt x="1107" y="50"/>
                  <a:pt x="1117" y="45"/>
                  <a:pt x="1124" y="37"/>
                </a:cubicBezTo>
                <a:cubicBezTo>
                  <a:pt x="1137" y="21"/>
                  <a:pt x="1128" y="12"/>
                  <a:pt x="1148" y="5"/>
                </a:cubicBezTo>
                <a:cubicBezTo>
                  <a:pt x="1156" y="1"/>
                  <a:pt x="1176" y="0"/>
                  <a:pt x="1184" y="5"/>
                </a:cubicBezTo>
                <a:cubicBezTo>
                  <a:pt x="1192" y="10"/>
                  <a:pt x="1190" y="23"/>
                  <a:pt x="1196" y="37"/>
                </a:cubicBezTo>
                <a:cubicBezTo>
                  <a:pt x="1201" y="52"/>
                  <a:pt x="1216" y="73"/>
                  <a:pt x="1220" y="89"/>
                </a:cubicBezTo>
                <a:cubicBezTo>
                  <a:pt x="1223" y="120"/>
                  <a:pt x="1205" y="131"/>
                  <a:pt x="1212" y="161"/>
                </a:cubicBezTo>
                <a:cubicBezTo>
                  <a:pt x="1210" y="190"/>
                  <a:pt x="1221" y="227"/>
                  <a:pt x="1208" y="253"/>
                </a:cubicBezTo>
                <a:cubicBezTo>
                  <a:pt x="1196" y="278"/>
                  <a:pt x="1184" y="315"/>
                  <a:pt x="1168" y="337"/>
                </a:cubicBezTo>
                <a:cubicBezTo>
                  <a:pt x="1156" y="358"/>
                  <a:pt x="1138" y="365"/>
                  <a:pt x="1128" y="377"/>
                </a:cubicBezTo>
                <a:cubicBezTo>
                  <a:pt x="1118" y="389"/>
                  <a:pt x="1114" y="396"/>
                  <a:pt x="1108" y="409"/>
                </a:cubicBezTo>
                <a:cubicBezTo>
                  <a:pt x="1099" y="422"/>
                  <a:pt x="1097" y="438"/>
                  <a:pt x="1092" y="453"/>
                </a:cubicBezTo>
                <a:cubicBezTo>
                  <a:pt x="1088" y="472"/>
                  <a:pt x="1078" y="506"/>
                  <a:pt x="1072" y="529"/>
                </a:cubicBezTo>
                <a:cubicBezTo>
                  <a:pt x="1066" y="552"/>
                  <a:pt x="1060" y="577"/>
                  <a:pt x="1056" y="593"/>
                </a:cubicBezTo>
                <a:cubicBezTo>
                  <a:pt x="1053" y="604"/>
                  <a:pt x="1051" y="614"/>
                  <a:pt x="1048" y="625"/>
                </a:cubicBezTo>
                <a:cubicBezTo>
                  <a:pt x="1047" y="630"/>
                  <a:pt x="1044" y="641"/>
                  <a:pt x="1044" y="641"/>
                </a:cubicBezTo>
                <a:cubicBezTo>
                  <a:pt x="1043" y="651"/>
                  <a:pt x="1055" y="660"/>
                  <a:pt x="1052" y="681"/>
                </a:cubicBezTo>
                <a:cubicBezTo>
                  <a:pt x="1053" y="696"/>
                  <a:pt x="1057" y="718"/>
                  <a:pt x="1052" y="733"/>
                </a:cubicBezTo>
                <a:cubicBezTo>
                  <a:pt x="1047" y="748"/>
                  <a:pt x="1030" y="762"/>
                  <a:pt x="1024" y="76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" name="Freeform 5"/>
          <p:cNvSpPr/>
          <p:nvPr/>
        </p:nvSpPr>
        <p:spPr>
          <a:xfrm>
            <a:off x="415800" y="2433600"/>
            <a:ext cx="2122560" cy="2874960"/>
          </a:xfrm>
          <a:custGeom>
            <a:avLst/>
            <a:gdLst/>
            <a:ahLst/>
            <a:rect l="l" t="t" r="r" b="b"/>
            <a:pathLst>
              <a:path w="1337" h="1811">
                <a:moveTo>
                  <a:pt x="0" y="4"/>
                </a:moveTo>
                <a:cubicBezTo>
                  <a:pt x="2" y="10"/>
                  <a:pt x="3" y="0"/>
                  <a:pt x="8" y="4"/>
                </a:cubicBezTo>
                <a:cubicBezTo>
                  <a:pt x="17" y="9"/>
                  <a:pt x="42" y="34"/>
                  <a:pt x="70" y="44"/>
                </a:cubicBezTo>
                <a:cubicBezTo>
                  <a:pt x="86" y="52"/>
                  <a:pt x="87" y="51"/>
                  <a:pt x="104" y="54"/>
                </a:cubicBezTo>
                <a:cubicBezTo>
                  <a:pt x="121" y="57"/>
                  <a:pt x="155" y="53"/>
                  <a:pt x="174" y="64"/>
                </a:cubicBezTo>
                <a:cubicBezTo>
                  <a:pt x="194" y="74"/>
                  <a:pt x="191" y="102"/>
                  <a:pt x="218" y="122"/>
                </a:cubicBezTo>
                <a:cubicBezTo>
                  <a:pt x="235" y="138"/>
                  <a:pt x="254" y="152"/>
                  <a:pt x="274" y="162"/>
                </a:cubicBezTo>
                <a:cubicBezTo>
                  <a:pt x="294" y="172"/>
                  <a:pt x="312" y="176"/>
                  <a:pt x="336" y="184"/>
                </a:cubicBezTo>
                <a:cubicBezTo>
                  <a:pt x="362" y="195"/>
                  <a:pt x="395" y="194"/>
                  <a:pt x="420" y="208"/>
                </a:cubicBezTo>
                <a:cubicBezTo>
                  <a:pt x="436" y="217"/>
                  <a:pt x="463" y="241"/>
                  <a:pt x="484" y="246"/>
                </a:cubicBezTo>
                <a:cubicBezTo>
                  <a:pt x="535" y="259"/>
                  <a:pt x="648" y="274"/>
                  <a:pt x="648" y="274"/>
                </a:cubicBezTo>
                <a:cubicBezTo>
                  <a:pt x="679" y="280"/>
                  <a:pt x="656" y="276"/>
                  <a:pt x="676" y="294"/>
                </a:cubicBezTo>
                <a:cubicBezTo>
                  <a:pt x="685" y="304"/>
                  <a:pt x="686" y="319"/>
                  <a:pt x="700" y="334"/>
                </a:cubicBezTo>
                <a:cubicBezTo>
                  <a:pt x="714" y="349"/>
                  <a:pt x="747" y="362"/>
                  <a:pt x="758" y="382"/>
                </a:cubicBezTo>
                <a:cubicBezTo>
                  <a:pt x="760" y="408"/>
                  <a:pt x="758" y="431"/>
                  <a:pt x="764" y="456"/>
                </a:cubicBezTo>
                <a:cubicBezTo>
                  <a:pt x="767" y="467"/>
                  <a:pt x="845" y="510"/>
                  <a:pt x="862" y="516"/>
                </a:cubicBezTo>
                <a:cubicBezTo>
                  <a:pt x="880" y="523"/>
                  <a:pt x="872" y="526"/>
                  <a:pt x="874" y="522"/>
                </a:cubicBezTo>
                <a:cubicBezTo>
                  <a:pt x="877" y="518"/>
                  <a:pt x="875" y="502"/>
                  <a:pt x="878" y="492"/>
                </a:cubicBezTo>
                <a:cubicBezTo>
                  <a:pt x="882" y="485"/>
                  <a:pt x="887" y="462"/>
                  <a:pt x="892" y="460"/>
                </a:cubicBezTo>
                <a:cubicBezTo>
                  <a:pt x="901" y="458"/>
                  <a:pt x="917" y="474"/>
                  <a:pt x="930" y="480"/>
                </a:cubicBezTo>
                <a:cubicBezTo>
                  <a:pt x="942" y="484"/>
                  <a:pt x="951" y="495"/>
                  <a:pt x="968" y="496"/>
                </a:cubicBezTo>
                <a:cubicBezTo>
                  <a:pt x="978" y="499"/>
                  <a:pt x="984" y="502"/>
                  <a:pt x="992" y="498"/>
                </a:cubicBezTo>
                <a:cubicBezTo>
                  <a:pt x="1000" y="494"/>
                  <a:pt x="1012" y="479"/>
                  <a:pt x="1018" y="470"/>
                </a:cubicBezTo>
                <a:cubicBezTo>
                  <a:pt x="1026" y="459"/>
                  <a:pt x="1024" y="451"/>
                  <a:pt x="1030" y="446"/>
                </a:cubicBezTo>
                <a:cubicBezTo>
                  <a:pt x="1036" y="441"/>
                  <a:pt x="1043" y="444"/>
                  <a:pt x="1052" y="438"/>
                </a:cubicBezTo>
                <a:cubicBezTo>
                  <a:pt x="1061" y="432"/>
                  <a:pt x="1077" y="424"/>
                  <a:pt x="1084" y="412"/>
                </a:cubicBezTo>
                <a:cubicBezTo>
                  <a:pt x="1092" y="390"/>
                  <a:pt x="1088" y="388"/>
                  <a:pt x="1096" y="364"/>
                </a:cubicBezTo>
                <a:cubicBezTo>
                  <a:pt x="1091" y="340"/>
                  <a:pt x="1083" y="370"/>
                  <a:pt x="1108" y="348"/>
                </a:cubicBezTo>
                <a:cubicBezTo>
                  <a:pt x="1121" y="336"/>
                  <a:pt x="1114" y="330"/>
                  <a:pt x="1114" y="330"/>
                </a:cubicBezTo>
                <a:cubicBezTo>
                  <a:pt x="1099" y="361"/>
                  <a:pt x="1134" y="300"/>
                  <a:pt x="1116" y="328"/>
                </a:cubicBezTo>
                <a:cubicBezTo>
                  <a:pt x="1127" y="331"/>
                  <a:pt x="1159" y="357"/>
                  <a:pt x="1174" y="364"/>
                </a:cubicBezTo>
                <a:cubicBezTo>
                  <a:pt x="1190" y="376"/>
                  <a:pt x="1203" y="382"/>
                  <a:pt x="1212" y="398"/>
                </a:cubicBezTo>
                <a:cubicBezTo>
                  <a:pt x="1221" y="425"/>
                  <a:pt x="1213" y="437"/>
                  <a:pt x="1230" y="460"/>
                </a:cubicBezTo>
                <a:cubicBezTo>
                  <a:pt x="1236" y="468"/>
                  <a:pt x="1243" y="475"/>
                  <a:pt x="1248" y="484"/>
                </a:cubicBezTo>
                <a:cubicBezTo>
                  <a:pt x="1257" y="499"/>
                  <a:pt x="1266" y="515"/>
                  <a:pt x="1272" y="532"/>
                </a:cubicBezTo>
                <a:cubicBezTo>
                  <a:pt x="1276" y="544"/>
                  <a:pt x="1284" y="568"/>
                  <a:pt x="1284" y="568"/>
                </a:cubicBezTo>
                <a:cubicBezTo>
                  <a:pt x="1286" y="578"/>
                  <a:pt x="1295" y="529"/>
                  <a:pt x="1292" y="564"/>
                </a:cubicBezTo>
                <a:cubicBezTo>
                  <a:pt x="1295" y="570"/>
                  <a:pt x="1306" y="592"/>
                  <a:pt x="1302" y="606"/>
                </a:cubicBezTo>
                <a:cubicBezTo>
                  <a:pt x="1298" y="620"/>
                  <a:pt x="1278" y="637"/>
                  <a:pt x="1270" y="648"/>
                </a:cubicBezTo>
                <a:cubicBezTo>
                  <a:pt x="1262" y="659"/>
                  <a:pt x="1260" y="663"/>
                  <a:pt x="1256" y="670"/>
                </a:cubicBezTo>
                <a:cubicBezTo>
                  <a:pt x="1252" y="677"/>
                  <a:pt x="1246" y="682"/>
                  <a:pt x="1248" y="694"/>
                </a:cubicBezTo>
                <a:cubicBezTo>
                  <a:pt x="1250" y="706"/>
                  <a:pt x="1262" y="728"/>
                  <a:pt x="1268" y="742"/>
                </a:cubicBezTo>
                <a:cubicBezTo>
                  <a:pt x="1274" y="756"/>
                  <a:pt x="1278" y="762"/>
                  <a:pt x="1286" y="778"/>
                </a:cubicBezTo>
                <a:cubicBezTo>
                  <a:pt x="1288" y="805"/>
                  <a:pt x="1300" y="812"/>
                  <a:pt x="1316" y="836"/>
                </a:cubicBezTo>
                <a:cubicBezTo>
                  <a:pt x="1320" y="842"/>
                  <a:pt x="1334" y="892"/>
                  <a:pt x="1334" y="892"/>
                </a:cubicBezTo>
                <a:cubicBezTo>
                  <a:pt x="1337" y="915"/>
                  <a:pt x="1329" y="955"/>
                  <a:pt x="1324" y="982"/>
                </a:cubicBezTo>
                <a:cubicBezTo>
                  <a:pt x="1319" y="1007"/>
                  <a:pt x="1308" y="1024"/>
                  <a:pt x="1302" y="1040"/>
                </a:cubicBezTo>
                <a:cubicBezTo>
                  <a:pt x="1295" y="1056"/>
                  <a:pt x="1300" y="1066"/>
                  <a:pt x="1288" y="1080"/>
                </a:cubicBezTo>
                <a:cubicBezTo>
                  <a:pt x="1282" y="1091"/>
                  <a:pt x="1272" y="1099"/>
                  <a:pt x="1268" y="1106"/>
                </a:cubicBezTo>
                <a:cubicBezTo>
                  <a:pt x="1264" y="1113"/>
                  <a:pt x="1269" y="1122"/>
                  <a:pt x="1264" y="1124"/>
                </a:cubicBezTo>
                <a:cubicBezTo>
                  <a:pt x="1259" y="1126"/>
                  <a:pt x="1246" y="1119"/>
                  <a:pt x="1236" y="1118"/>
                </a:cubicBezTo>
                <a:cubicBezTo>
                  <a:pt x="1228" y="1120"/>
                  <a:pt x="1213" y="1113"/>
                  <a:pt x="1206" y="1118"/>
                </a:cubicBezTo>
                <a:cubicBezTo>
                  <a:pt x="1199" y="1123"/>
                  <a:pt x="1197" y="1142"/>
                  <a:pt x="1194" y="1150"/>
                </a:cubicBezTo>
                <a:cubicBezTo>
                  <a:pt x="1192" y="1156"/>
                  <a:pt x="1188" y="1162"/>
                  <a:pt x="1188" y="1168"/>
                </a:cubicBezTo>
                <a:cubicBezTo>
                  <a:pt x="1187" y="1180"/>
                  <a:pt x="1193" y="1175"/>
                  <a:pt x="1192" y="1200"/>
                </a:cubicBezTo>
                <a:cubicBezTo>
                  <a:pt x="1195" y="1208"/>
                  <a:pt x="1204" y="1209"/>
                  <a:pt x="1206" y="1214"/>
                </a:cubicBezTo>
                <a:cubicBezTo>
                  <a:pt x="1208" y="1219"/>
                  <a:pt x="1208" y="1223"/>
                  <a:pt x="1204" y="1230"/>
                </a:cubicBezTo>
                <a:cubicBezTo>
                  <a:pt x="1200" y="1237"/>
                  <a:pt x="1189" y="1243"/>
                  <a:pt x="1184" y="1254"/>
                </a:cubicBezTo>
                <a:cubicBezTo>
                  <a:pt x="1179" y="1265"/>
                  <a:pt x="1174" y="1284"/>
                  <a:pt x="1172" y="1296"/>
                </a:cubicBezTo>
                <a:cubicBezTo>
                  <a:pt x="1170" y="1308"/>
                  <a:pt x="1176" y="1311"/>
                  <a:pt x="1172" y="1324"/>
                </a:cubicBezTo>
                <a:cubicBezTo>
                  <a:pt x="1166" y="1359"/>
                  <a:pt x="1155" y="1346"/>
                  <a:pt x="1146" y="1372"/>
                </a:cubicBezTo>
                <a:cubicBezTo>
                  <a:pt x="1138" y="1384"/>
                  <a:pt x="1125" y="1380"/>
                  <a:pt x="1116" y="1390"/>
                </a:cubicBezTo>
                <a:cubicBezTo>
                  <a:pt x="1107" y="1400"/>
                  <a:pt x="1102" y="1419"/>
                  <a:pt x="1094" y="1430"/>
                </a:cubicBezTo>
                <a:cubicBezTo>
                  <a:pt x="1086" y="1441"/>
                  <a:pt x="1079" y="1449"/>
                  <a:pt x="1070" y="1456"/>
                </a:cubicBezTo>
                <a:cubicBezTo>
                  <a:pt x="1061" y="1463"/>
                  <a:pt x="1048" y="1467"/>
                  <a:pt x="1038" y="1470"/>
                </a:cubicBezTo>
                <a:cubicBezTo>
                  <a:pt x="1028" y="1473"/>
                  <a:pt x="1017" y="1472"/>
                  <a:pt x="1008" y="1476"/>
                </a:cubicBezTo>
                <a:cubicBezTo>
                  <a:pt x="999" y="1480"/>
                  <a:pt x="993" y="1492"/>
                  <a:pt x="982" y="1496"/>
                </a:cubicBezTo>
                <a:cubicBezTo>
                  <a:pt x="972" y="1499"/>
                  <a:pt x="984" y="1493"/>
                  <a:pt x="944" y="1500"/>
                </a:cubicBezTo>
                <a:cubicBezTo>
                  <a:pt x="930" y="1497"/>
                  <a:pt x="915" y="1474"/>
                  <a:pt x="898" y="1476"/>
                </a:cubicBezTo>
                <a:cubicBezTo>
                  <a:pt x="881" y="1478"/>
                  <a:pt x="861" y="1499"/>
                  <a:pt x="844" y="1512"/>
                </a:cubicBezTo>
                <a:cubicBezTo>
                  <a:pt x="827" y="1525"/>
                  <a:pt x="808" y="1539"/>
                  <a:pt x="796" y="1554"/>
                </a:cubicBezTo>
                <a:cubicBezTo>
                  <a:pt x="784" y="1569"/>
                  <a:pt x="783" y="1591"/>
                  <a:pt x="774" y="1600"/>
                </a:cubicBezTo>
                <a:cubicBezTo>
                  <a:pt x="765" y="1611"/>
                  <a:pt x="759" y="1606"/>
                  <a:pt x="740" y="1608"/>
                </a:cubicBezTo>
                <a:cubicBezTo>
                  <a:pt x="721" y="1610"/>
                  <a:pt x="685" y="1610"/>
                  <a:pt x="662" y="1614"/>
                </a:cubicBezTo>
                <a:cubicBezTo>
                  <a:pt x="644" y="1617"/>
                  <a:pt x="622" y="1629"/>
                  <a:pt x="604" y="1632"/>
                </a:cubicBezTo>
                <a:cubicBezTo>
                  <a:pt x="594" y="1633"/>
                  <a:pt x="572" y="1636"/>
                  <a:pt x="562" y="1638"/>
                </a:cubicBezTo>
                <a:cubicBezTo>
                  <a:pt x="538" y="1645"/>
                  <a:pt x="475" y="1681"/>
                  <a:pt x="452" y="1688"/>
                </a:cubicBezTo>
                <a:cubicBezTo>
                  <a:pt x="427" y="1698"/>
                  <a:pt x="425" y="1701"/>
                  <a:pt x="414" y="1700"/>
                </a:cubicBezTo>
                <a:cubicBezTo>
                  <a:pt x="402" y="1700"/>
                  <a:pt x="393" y="1696"/>
                  <a:pt x="384" y="1682"/>
                </a:cubicBezTo>
                <a:cubicBezTo>
                  <a:pt x="376" y="1666"/>
                  <a:pt x="369" y="1619"/>
                  <a:pt x="364" y="1602"/>
                </a:cubicBezTo>
                <a:cubicBezTo>
                  <a:pt x="358" y="1586"/>
                  <a:pt x="361" y="1589"/>
                  <a:pt x="354" y="1582"/>
                </a:cubicBezTo>
                <a:cubicBezTo>
                  <a:pt x="347" y="1575"/>
                  <a:pt x="334" y="1571"/>
                  <a:pt x="324" y="1562"/>
                </a:cubicBezTo>
                <a:cubicBezTo>
                  <a:pt x="311" y="1549"/>
                  <a:pt x="304" y="1543"/>
                  <a:pt x="296" y="1526"/>
                </a:cubicBezTo>
                <a:cubicBezTo>
                  <a:pt x="293" y="1520"/>
                  <a:pt x="258" y="1518"/>
                  <a:pt x="254" y="1514"/>
                </a:cubicBezTo>
                <a:cubicBezTo>
                  <a:pt x="250" y="1510"/>
                  <a:pt x="214" y="1508"/>
                  <a:pt x="208" y="1506"/>
                </a:cubicBezTo>
                <a:cubicBezTo>
                  <a:pt x="195" y="1503"/>
                  <a:pt x="175" y="1516"/>
                  <a:pt x="164" y="1512"/>
                </a:cubicBezTo>
                <a:cubicBezTo>
                  <a:pt x="153" y="1508"/>
                  <a:pt x="152" y="1489"/>
                  <a:pt x="140" y="1484"/>
                </a:cubicBezTo>
                <a:cubicBezTo>
                  <a:pt x="128" y="1479"/>
                  <a:pt x="109" y="1474"/>
                  <a:pt x="90" y="1482"/>
                </a:cubicBezTo>
                <a:cubicBezTo>
                  <a:pt x="71" y="1482"/>
                  <a:pt x="43" y="1518"/>
                  <a:pt x="28" y="1530"/>
                </a:cubicBezTo>
                <a:cubicBezTo>
                  <a:pt x="14" y="1542"/>
                  <a:pt x="8" y="1551"/>
                  <a:pt x="4" y="1556"/>
                </a:cubicBezTo>
                <a:cubicBezTo>
                  <a:pt x="0" y="1561"/>
                  <a:pt x="4" y="1560"/>
                  <a:pt x="4" y="1560"/>
                </a:cubicBezTo>
                <a:cubicBezTo>
                  <a:pt x="4" y="1560"/>
                  <a:pt x="5" y="1557"/>
                  <a:pt x="4" y="1556"/>
                </a:cubicBezTo>
                <a:cubicBezTo>
                  <a:pt x="3" y="1555"/>
                  <a:pt x="1" y="1811"/>
                  <a:pt x="0" y="1552"/>
                </a:cubicBezTo>
                <a:lnTo>
                  <a:pt x="0" y="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" name="Freeform 6"/>
          <p:cNvSpPr/>
          <p:nvPr/>
        </p:nvSpPr>
        <p:spPr>
          <a:xfrm>
            <a:off x="2060640" y="4145040"/>
            <a:ext cx="2062080" cy="1665360"/>
          </a:xfrm>
          <a:custGeom>
            <a:avLst/>
            <a:gdLst/>
            <a:ahLst/>
            <a:rect l="l" t="t" r="r" b="b"/>
            <a:pathLst>
              <a:path w="1299" h="1049">
                <a:moveTo>
                  <a:pt x="256" y="0"/>
                </a:moveTo>
                <a:cubicBezTo>
                  <a:pt x="258" y="13"/>
                  <a:pt x="266" y="32"/>
                  <a:pt x="268" y="44"/>
                </a:cubicBezTo>
                <a:cubicBezTo>
                  <a:pt x="271" y="67"/>
                  <a:pt x="267" y="127"/>
                  <a:pt x="272" y="146"/>
                </a:cubicBezTo>
                <a:cubicBezTo>
                  <a:pt x="277" y="165"/>
                  <a:pt x="289" y="158"/>
                  <a:pt x="296" y="156"/>
                </a:cubicBezTo>
                <a:cubicBezTo>
                  <a:pt x="311" y="153"/>
                  <a:pt x="306" y="149"/>
                  <a:pt x="314" y="134"/>
                </a:cubicBezTo>
                <a:cubicBezTo>
                  <a:pt x="321" y="125"/>
                  <a:pt x="336" y="100"/>
                  <a:pt x="342" y="94"/>
                </a:cubicBezTo>
                <a:cubicBezTo>
                  <a:pt x="348" y="88"/>
                  <a:pt x="345" y="94"/>
                  <a:pt x="352" y="96"/>
                </a:cubicBezTo>
                <a:cubicBezTo>
                  <a:pt x="358" y="98"/>
                  <a:pt x="378" y="93"/>
                  <a:pt x="384" y="104"/>
                </a:cubicBezTo>
                <a:cubicBezTo>
                  <a:pt x="390" y="115"/>
                  <a:pt x="383" y="147"/>
                  <a:pt x="388" y="160"/>
                </a:cubicBezTo>
                <a:cubicBezTo>
                  <a:pt x="404" y="166"/>
                  <a:pt x="409" y="172"/>
                  <a:pt x="414" y="180"/>
                </a:cubicBezTo>
                <a:cubicBezTo>
                  <a:pt x="417" y="184"/>
                  <a:pt x="412" y="196"/>
                  <a:pt x="412" y="196"/>
                </a:cubicBezTo>
                <a:cubicBezTo>
                  <a:pt x="420" y="227"/>
                  <a:pt x="413" y="262"/>
                  <a:pt x="424" y="292"/>
                </a:cubicBezTo>
                <a:cubicBezTo>
                  <a:pt x="428" y="310"/>
                  <a:pt x="430" y="309"/>
                  <a:pt x="434" y="312"/>
                </a:cubicBezTo>
                <a:cubicBezTo>
                  <a:pt x="439" y="316"/>
                  <a:pt x="447" y="319"/>
                  <a:pt x="454" y="316"/>
                </a:cubicBezTo>
                <a:cubicBezTo>
                  <a:pt x="462" y="315"/>
                  <a:pt x="467" y="295"/>
                  <a:pt x="476" y="294"/>
                </a:cubicBezTo>
                <a:cubicBezTo>
                  <a:pt x="483" y="291"/>
                  <a:pt x="493" y="298"/>
                  <a:pt x="498" y="300"/>
                </a:cubicBezTo>
                <a:cubicBezTo>
                  <a:pt x="503" y="302"/>
                  <a:pt x="505" y="304"/>
                  <a:pt x="508" y="308"/>
                </a:cubicBezTo>
                <a:cubicBezTo>
                  <a:pt x="510" y="311"/>
                  <a:pt x="504" y="298"/>
                  <a:pt x="514" y="322"/>
                </a:cubicBezTo>
                <a:cubicBezTo>
                  <a:pt x="517" y="330"/>
                  <a:pt x="520" y="347"/>
                  <a:pt x="524" y="356"/>
                </a:cubicBezTo>
                <a:cubicBezTo>
                  <a:pt x="528" y="365"/>
                  <a:pt x="535" y="363"/>
                  <a:pt x="540" y="376"/>
                </a:cubicBezTo>
                <a:cubicBezTo>
                  <a:pt x="545" y="389"/>
                  <a:pt x="551" y="422"/>
                  <a:pt x="554" y="434"/>
                </a:cubicBezTo>
                <a:cubicBezTo>
                  <a:pt x="557" y="446"/>
                  <a:pt x="553" y="442"/>
                  <a:pt x="558" y="448"/>
                </a:cubicBezTo>
                <a:cubicBezTo>
                  <a:pt x="562" y="457"/>
                  <a:pt x="573" y="459"/>
                  <a:pt x="582" y="472"/>
                </a:cubicBezTo>
                <a:cubicBezTo>
                  <a:pt x="587" y="479"/>
                  <a:pt x="582" y="484"/>
                  <a:pt x="588" y="492"/>
                </a:cubicBezTo>
                <a:cubicBezTo>
                  <a:pt x="594" y="500"/>
                  <a:pt x="609" y="506"/>
                  <a:pt x="616" y="518"/>
                </a:cubicBezTo>
                <a:cubicBezTo>
                  <a:pt x="623" y="530"/>
                  <a:pt x="623" y="549"/>
                  <a:pt x="628" y="564"/>
                </a:cubicBezTo>
                <a:cubicBezTo>
                  <a:pt x="632" y="580"/>
                  <a:pt x="636" y="598"/>
                  <a:pt x="642" y="612"/>
                </a:cubicBezTo>
                <a:cubicBezTo>
                  <a:pt x="647" y="628"/>
                  <a:pt x="659" y="637"/>
                  <a:pt x="664" y="648"/>
                </a:cubicBezTo>
                <a:cubicBezTo>
                  <a:pt x="669" y="657"/>
                  <a:pt x="670" y="663"/>
                  <a:pt x="672" y="668"/>
                </a:cubicBezTo>
                <a:cubicBezTo>
                  <a:pt x="674" y="673"/>
                  <a:pt x="674" y="674"/>
                  <a:pt x="674" y="676"/>
                </a:cubicBezTo>
                <a:cubicBezTo>
                  <a:pt x="674" y="678"/>
                  <a:pt x="669" y="677"/>
                  <a:pt x="672" y="680"/>
                </a:cubicBezTo>
                <a:cubicBezTo>
                  <a:pt x="675" y="680"/>
                  <a:pt x="674" y="694"/>
                  <a:pt x="692" y="692"/>
                </a:cubicBezTo>
                <a:cubicBezTo>
                  <a:pt x="702" y="690"/>
                  <a:pt x="717" y="670"/>
                  <a:pt x="732" y="666"/>
                </a:cubicBezTo>
                <a:cubicBezTo>
                  <a:pt x="747" y="662"/>
                  <a:pt x="768" y="669"/>
                  <a:pt x="780" y="668"/>
                </a:cubicBezTo>
                <a:cubicBezTo>
                  <a:pt x="791" y="667"/>
                  <a:pt x="794" y="662"/>
                  <a:pt x="802" y="658"/>
                </a:cubicBezTo>
                <a:cubicBezTo>
                  <a:pt x="810" y="654"/>
                  <a:pt x="819" y="649"/>
                  <a:pt x="828" y="644"/>
                </a:cubicBezTo>
                <a:cubicBezTo>
                  <a:pt x="842" y="640"/>
                  <a:pt x="839" y="627"/>
                  <a:pt x="854" y="626"/>
                </a:cubicBezTo>
                <a:cubicBezTo>
                  <a:pt x="858" y="619"/>
                  <a:pt x="855" y="611"/>
                  <a:pt x="860" y="602"/>
                </a:cubicBezTo>
                <a:cubicBezTo>
                  <a:pt x="866" y="598"/>
                  <a:pt x="884" y="606"/>
                  <a:pt x="890" y="604"/>
                </a:cubicBezTo>
                <a:cubicBezTo>
                  <a:pt x="896" y="602"/>
                  <a:pt x="897" y="595"/>
                  <a:pt x="896" y="590"/>
                </a:cubicBezTo>
                <a:cubicBezTo>
                  <a:pt x="895" y="585"/>
                  <a:pt x="887" y="581"/>
                  <a:pt x="884" y="572"/>
                </a:cubicBezTo>
                <a:cubicBezTo>
                  <a:pt x="882" y="564"/>
                  <a:pt x="875" y="553"/>
                  <a:pt x="876" y="538"/>
                </a:cubicBezTo>
                <a:cubicBezTo>
                  <a:pt x="877" y="523"/>
                  <a:pt x="881" y="492"/>
                  <a:pt x="888" y="480"/>
                </a:cubicBezTo>
                <a:cubicBezTo>
                  <a:pt x="894" y="465"/>
                  <a:pt x="907" y="475"/>
                  <a:pt x="918" y="466"/>
                </a:cubicBezTo>
                <a:cubicBezTo>
                  <a:pt x="924" y="460"/>
                  <a:pt x="917" y="453"/>
                  <a:pt x="922" y="444"/>
                </a:cubicBezTo>
                <a:cubicBezTo>
                  <a:pt x="927" y="435"/>
                  <a:pt x="940" y="419"/>
                  <a:pt x="948" y="414"/>
                </a:cubicBezTo>
                <a:cubicBezTo>
                  <a:pt x="956" y="407"/>
                  <a:pt x="962" y="415"/>
                  <a:pt x="968" y="412"/>
                </a:cubicBezTo>
                <a:cubicBezTo>
                  <a:pt x="974" y="409"/>
                  <a:pt x="979" y="414"/>
                  <a:pt x="984" y="396"/>
                </a:cubicBezTo>
                <a:cubicBezTo>
                  <a:pt x="988" y="380"/>
                  <a:pt x="991" y="327"/>
                  <a:pt x="996" y="306"/>
                </a:cubicBezTo>
                <a:cubicBezTo>
                  <a:pt x="1000" y="284"/>
                  <a:pt x="1000" y="274"/>
                  <a:pt x="1008" y="266"/>
                </a:cubicBezTo>
                <a:cubicBezTo>
                  <a:pt x="1014" y="255"/>
                  <a:pt x="1030" y="264"/>
                  <a:pt x="1042" y="258"/>
                </a:cubicBezTo>
                <a:cubicBezTo>
                  <a:pt x="1052" y="257"/>
                  <a:pt x="1062" y="262"/>
                  <a:pt x="1068" y="258"/>
                </a:cubicBezTo>
                <a:cubicBezTo>
                  <a:pt x="1074" y="254"/>
                  <a:pt x="1071" y="234"/>
                  <a:pt x="1080" y="232"/>
                </a:cubicBezTo>
                <a:cubicBezTo>
                  <a:pt x="1089" y="227"/>
                  <a:pt x="1101" y="234"/>
                  <a:pt x="1120" y="248"/>
                </a:cubicBezTo>
                <a:cubicBezTo>
                  <a:pt x="1131" y="252"/>
                  <a:pt x="1139" y="249"/>
                  <a:pt x="1146" y="256"/>
                </a:cubicBezTo>
                <a:cubicBezTo>
                  <a:pt x="1153" y="263"/>
                  <a:pt x="1157" y="279"/>
                  <a:pt x="1160" y="288"/>
                </a:cubicBezTo>
                <a:cubicBezTo>
                  <a:pt x="1163" y="297"/>
                  <a:pt x="1160" y="303"/>
                  <a:pt x="1166" y="308"/>
                </a:cubicBezTo>
                <a:cubicBezTo>
                  <a:pt x="1172" y="313"/>
                  <a:pt x="1188" y="313"/>
                  <a:pt x="1196" y="316"/>
                </a:cubicBezTo>
                <a:cubicBezTo>
                  <a:pt x="1204" y="318"/>
                  <a:pt x="1200" y="323"/>
                  <a:pt x="1214" y="324"/>
                </a:cubicBezTo>
                <a:cubicBezTo>
                  <a:pt x="1226" y="324"/>
                  <a:pt x="1255" y="318"/>
                  <a:pt x="1266" y="318"/>
                </a:cubicBezTo>
                <a:cubicBezTo>
                  <a:pt x="1277" y="318"/>
                  <a:pt x="1275" y="321"/>
                  <a:pt x="1280" y="324"/>
                </a:cubicBezTo>
                <a:cubicBezTo>
                  <a:pt x="1285" y="325"/>
                  <a:pt x="1291" y="331"/>
                  <a:pt x="1294" y="334"/>
                </a:cubicBezTo>
                <a:cubicBezTo>
                  <a:pt x="1297" y="337"/>
                  <a:pt x="1299" y="333"/>
                  <a:pt x="1298" y="340"/>
                </a:cubicBezTo>
                <a:cubicBezTo>
                  <a:pt x="1297" y="347"/>
                  <a:pt x="1291" y="363"/>
                  <a:pt x="1286" y="374"/>
                </a:cubicBezTo>
                <a:cubicBezTo>
                  <a:pt x="1281" y="385"/>
                  <a:pt x="1274" y="398"/>
                  <a:pt x="1270" y="408"/>
                </a:cubicBezTo>
                <a:cubicBezTo>
                  <a:pt x="1266" y="418"/>
                  <a:pt x="1269" y="431"/>
                  <a:pt x="1260" y="436"/>
                </a:cubicBezTo>
                <a:cubicBezTo>
                  <a:pt x="1251" y="442"/>
                  <a:pt x="1229" y="437"/>
                  <a:pt x="1214" y="438"/>
                </a:cubicBezTo>
                <a:cubicBezTo>
                  <a:pt x="1199" y="439"/>
                  <a:pt x="1181" y="442"/>
                  <a:pt x="1172" y="444"/>
                </a:cubicBezTo>
                <a:cubicBezTo>
                  <a:pt x="1162" y="446"/>
                  <a:pt x="1171" y="452"/>
                  <a:pt x="1160" y="452"/>
                </a:cubicBezTo>
                <a:cubicBezTo>
                  <a:pt x="1150" y="450"/>
                  <a:pt x="1131" y="432"/>
                  <a:pt x="1112" y="432"/>
                </a:cubicBezTo>
                <a:cubicBezTo>
                  <a:pt x="1087" y="430"/>
                  <a:pt x="1064" y="446"/>
                  <a:pt x="1048" y="454"/>
                </a:cubicBezTo>
                <a:cubicBezTo>
                  <a:pt x="1034" y="458"/>
                  <a:pt x="1035" y="452"/>
                  <a:pt x="1030" y="456"/>
                </a:cubicBezTo>
                <a:cubicBezTo>
                  <a:pt x="1025" y="460"/>
                  <a:pt x="1018" y="468"/>
                  <a:pt x="1016" y="480"/>
                </a:cubicBezTo>
                <a:cubicBezTo>
                  <a:pt x="1015" y="490"/>
                  <a:pt x="1018" y="515"/>
                  <a:pt x="1020" y="530"/>
                </a:cubicBezTo>
                <a:cubicBezTo>
                  <a:pt x="1020" y="544"/>
                  <a:pt x="1014" y="551"/>
                  <a:pt x="1014" y="562"/>
                </a:cubicBezTo>
                <a:cubicBezTo>
                  <a:pt x="1014" y="573"/>
                  <a:pt x="1014" y="585"/>
                  <a:pt x="1020" y="594"/>
                </a:cubicBezTo>
                <a:cubicBezTo>
                  <a:pt x="1023" y="630"/>
                  <a:pt x="1036" y="614"/>
                  <a:pt x="1050" y="618"/>
                </a:cubicBezTo>
                <a:cubicBezTo>
                  <a:pt x="1056" y="622"/>
                  <a:pt x="1052" y="624"/>
                  <a:pt x="1060" y="622"/>
                </a:cubicBezTo>
                <a:cubicBezTo>
                  <a:pt x="1068" y="620"/>
                  <a:pt x="1088" y="609"/>
                  <a:pt x="1096" y="604"/>
                </a:cubicBezTo>
                <a:cubicBezTo>
                  <a:pt x="1106" y="600"/>
                  <a:pt x="1103" y="599"/>
                  <a:pt x="1108" y="594"/>
                </a:cubicBezTo>
                <a:cubicBezTo>
                  <a:pt x="1113" y="590"/>
                  <a:pt x="1118" y="581"/>
                  <a:pt x="1126" y="578"/>
                </a:cubicBezTo>
                <a:cubicBezTo>
                  <a:pt x="1133" y="577"/>
                  <a:pt x="1147" y="573"/>
                  <a:pt x="1156" y="578"/>
                </a:cubicBezTo>
                <a:cubicBezTo>
                  <a:pt x="1165" y="583"/>
                  <a:pt x="1177" y="591"/>
                  <a:pt x="1180" y="608"/>
                </a:cubicBezTo>
                <a:cubicBezTo>
                  <a:pt x="1174" y="656"/>
                  <a:pt x="1178" y="634"/>
                  <a:pt x="1172" y="678"/>
                </a:cubicBezTo>
                <a:cubicBezTo>
                  <a:pt x="1142" y="706"/>
                  <a:pt x="1123" y="728"/>
                  <a:pt x="1120" y="752"/>
                </a:cubicBezTo>
                <a:cubicBezTo>
                  <a:pt x="1121" y="771"/>
                  <a:pt x="1127" y="790"/>
                  <a:pt x="1132" y="808"/>
                </a:cubicBezTo>
                <a:cubicBezTo>
                  <a:pt x="1133" y="813"/>
                  <a:pt x="1140" y="813"/>
                  <a:pt x="1144" y="816"/>
                </a:cubicBezTo>
                <a:cubicBezTo>
                  <a:pt x="1161" y="830"/>
                  <a:pt x="1167" y="858"/>
                  <a:pt x="1186" y="870"/>
                </a:cubicBezTo>
                <a:cubicBezTo>
                  <a:pt x="1193" y="882"/>
                  <a:pt x="1198" y="884"/>
                  <a:pt x="1196" y="890"/>
                </a:cubicBezTo>
                <a:cubicBezTo>
                  <a:pt x="1194" y="896"/>
                  <a:pt x="1179" y="902"/>
                  <a:pt x="1174" y="906"/>
                </a:cubicBezTo>
                <a:cubicBezTo>
                  <a:pt x="1169" y="910"/>
                  <a:pt x="1167" y="910"/>
                  <a:pt x="1164" y="916"/>
                </a:cubicBezTo>
                <a:cubicBezTo>
                  <a:pt x="1160" y="922"/>
                  <a:pt x="1155" y="920"/>
                  <a:pt x="1154" y="942"/>
                </a:cubicBezTo>
                <a:cubicBezTo>
                  <a:pt x="1152" y="951"/>
                  <a:pt x="1152" y="959"/>
                  <a:pt x="1150" y="972"/>
                </a:cubicBezTo>
                <a:cubicBezTo>
                  <a:pt x="1148" y="985"/>
                  <a:pt x="1144" y="1007"/>
                  <a:pt x="1144" y="1018"/>
                </a:cubicBezTo>
                <a:cubicBezTo>
                  <a:pt x="1144" y="1029"/>
                  <a:pt x="1181" y="1033"/>
                  <a:pt x="1150" y="1038"/>
                </a:cubicBezTo>
                <a:cubicBezTo>
                  <a:pt x="1119" y="1043"/>
                  <a:pt x="1156" y="1048"/>
                  <a:pt x="956" y="1046"/>
                </a:cubicBezTo>
                <a:cubicBezTo>
                  <a:pt x="577" y="1045"/>
                  <a:pt x="399" y="1049"/>
                  <a:pt x="20" y="1044"/>
                </a:cubicBezTo>
                <a:cubicBezTo>
                  <a:pt x="0" y="1044"/>
                  <a:pt x="12" y="1005"/>
                  <a:pt x="18" y="1000"/>
                </a:cubicBezTo>
                <a:cubicBezTo>
                  <a:pt x="28" y="991"/>
                  <a:pt x="21" y="969"/>
                  <a:pt x="34" y="968"/>
                </a:cubicBezTo>
                <a:cubicBezTo>
                  <a:pt x="36" y="926"/>
                  <a:pt x="45" y="905"/>
                  <a:pt x="32" y="902"/>
                </a:cubicBezTo>
                <a:cubicBezTo>
                  <a:pt x="31" y="897"/>
                  <a:pt x="38" y="891"/>
                  <a:pt x="36" y="886"/>
                </a:cubicBezTo>
                <a:cubicBezTo>
                  <a:pt x="34" y="878"/>
                  <a:pt x="40" y="874"/>
                  <a:pt x="38" y="866"/>
                </a:cubicBezTo>
                <a:cubicBezTo>
                  <a:pt x="34" y="850"/>
                  <a:pt x="46" y="838"/>
                  <a:pt x="46" y="838"/>
                </a:cubicBezTo>
                <a:cubicBezTo>
                  <a:pt x="47" y="825"/>
                  <a:pt x="54" y="800"/>
                  <a:pt x="56" y="788"/>
                </a:cubicBezTo>
                <a:cubicBezTo>
                  <a:pt x="58" y="776"/>
                  <a:pt x="57" y="778"/>
                  <a:pt x="60" y="768"/>
                </a:cubicBezTo>
                <a:cubicBezTo>
                  <a:pt x="64" y="758"/>
                  <a:pt x="69" y="742"/>
                  <a:pt x="74" y="726"/>
                </a:cubicBezTo>
                <a:cubicBezTo>
                  <a:pt x="79" y="710"/>
                  <a:pt x="85" y="688"/>
                  <a:pt x="88" y="674"/>
                </a:cubicBezTo>
                <a:cubicBezTo>
                  <a:pt x="93" y="662"/>
                  <a:pt x="85" y="651"/>
                  <a:pt x="94" y="642"/>
                </a:cubicBezTo>
                <a:cubicBezTo>
                  <a:pt x="103" y="633"/>
                  <a:pt x="129" y="629"/>
                  <a:pt x="140" y="620"/>
                </a:cubicBezTo>
                <a:cubicBezTo>
                  <a:pt x="141" y="608"/>
                  <a:pt x="154" y="602"/>
                  <a:pt x="162" y="588"/>
                </a:cubicBezTo>
                <a:cubicBezTo>
                  <a:pt x="170" y="561"/>
                  <a:pt x="185" y="534"/>
                  <a:pt x="196" y="500"/>
                </a:cubicBezTo>
                <a:cubicBezTo>
                  <a:pt x="203" y="468"/>
                  <a:pt x="197" y="441"/>
                  <a:pt x="188" y="400"/>
                </a:cubicBezTo>
                <a:cubicBezTo>
                  <a:pt x="190" y="373"/>
                  <a:pt x="206" y="355"/>
                  <a:pt x="206" y="338"/>
                </a:cubicBezTo>
                <a:cubicBezTo>
                  <a:pt x="206" y="321"/>
                  <a:pt x="195" y="311"/>
                  <a:pt x="190" y="298"/>
                </a:cubicBezTo>
                <a:cubicBezTo>
                  <a:pt x="185" y="285"/>
                  <a:pt x="186" y="265"/>
                  <a:pt x="178" y="258"/>
                </a:cubicBezTo>
                <a:cubicBezTo>
                  <a:pt x="170" y="251"/>
                  <a:pt x="147" y="262"/>
                  <a:pt x="140" y="256"/>
                </a:cubicBezTo>
                <a:cubicBezTo>
                  <a:pt x="127" y="206"/>
                  <a:pt x="134" y="234"/>
                  <a:pt x="136" y="222"/>
                </a:cubicBezTo>
                <a:cubicBezTo>
                  <a:pt x="138" y="210"/>
                  <a:pt x="145" y="197"/>
                  <a:pt x="150" y="184"/>
                </a:cubicBezTo>
                <a:cubicBezTo>
                  <a:pt x="153" y="164"/>
                  <a:pt x="166" y="156"/>
                  <a:pt x="166" y="142"/>
                </a:cubicBezTo>
                <a:cubicBezTo>
                  <a:pt x="166" y="128"/>
                  <a:pt x="153" y="114"/>
                  <a:pt x="152" y="102"/>
                </a:cubicBezTo>
                <a:cubicBezTo>
                  <a:pt x="151" y="90"/>
                  <a:pt x="154" y="79"/>
                  <a:pt x="158" y="68"/>
                </a:cubicBezTo>
                <a:cubicBezTo>
                  <a:pt x="162" y="57"/>
                  <a:pt x="170" y="43"/>
                  <a:pt x="178" y="38"/>
                </a:cubicBezTo>
                <a:cubicBezTo>
                  <a:pt x="186" y="35"/>
                  <a:pt x="198" y="38"/>
                  <a:pt x="204" y="40"/>
                </a:cubicBezTo>
                <a:cubicBezTo>
                  <a:pt x="210" y="42"/>
                  <a:pt x="208" y="59"/>
                  <a:pt x="216" y="52"/>
                </a:cubicBezTo>
                <a:cubicBezTo>
                  <a:pt x="227" y="35"/>
                  <a:pt x="247" y="9"/>
                  <a:pt x="254" y="0"/>
                </a:cubicBezTo>
                <a:lnTo>
                  <a:pt x="2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" name="Freeform 7"/>
          <p:cNvSpPr/>
          <p:nvPr/>
        </p:nvSpPr>
        <p:spPr>
          <a:xfrm>
            <a:off x="2166840" y="2513160"/>
            <a:ext cx="2868840" cy="2738160"/>
          </a:xfrm>
          <a:custGeom>
            <a:avLst/>
            <a:gdLst/>
            <a:ahLst/>
            <a:rect l="l" t="t" r="r" b="b"/>
            <a:pathLst>
              <a:path w="1807" h="1725">
                <a:moveTo>
                  <a:pt x="707" y="154"/>
                </a:moveTo>
                <a:cubicBezTo>
                  <a:pt x="755" y="186"/>
                  <a:pt x="753" y="213"/>
                  <a:pt x="781" y="254"/>
                </a:cubicBezTo>
                <a:cubicBezTo>
                  <a:pt x="795" y="270"/>
                  <a:pt x="783" y="264"/>
                  <a:pt x="793" y="258"/>
                </a:cubicBezTo>
                <a:cubicBezTo>
                  <a:pt x="799" y="252"/>
                  <a:pt x="813" y="226"/>
                  <a:pt x="819" y="218"/>
                </a:cubicBezTo>
                <a:cubicBezTo>
                  <a:pt x="825" y="209"/>
                  <a:pt x="824" y="223"/>
                  <a:pt x="827" y="208"/>
                </a:cubicBezTo>
                <a:cubicBezTo>
                  <a:pt x="831" y="205"/>
                  <a:pt x="840" y="210"/>
                  <a:pt x="841" y="202"/>
                </a:cubicBezTo>
                <a:cubicBezTo>
                  <a:pt x="842" y="194"/>
                  <a:pt x="835" y="172"/>
                  <a:pt x="831" y="158"/>
                </a:cubicBezTo>
                <a:cubicBezTo>
                  <a:pt x="829" y="144"/>
                  <a:pt x="816" y="134"/>
                  <a:pt x="817" y="120"/>
                </a:cubicBezTo>
                <a:cubicBezTo>
                  <a:pt x="818" y="107"/>
                  <a:pt x="829" y="87"/>
                  <a:pt x="839" y="78"/>
                </a:cubicBezTo>
                <a:cubicBezTo>
                  <a:pt x="849" y="68"/>
                  <a:pt x="865" y="72"/>
                  <a:pt x="875" y="68"/>
                </a:cubicBezTo>
                <a:cubicBezTo>
                  <a:pt x="886" y="66"/>
                  <a:pt x="893" y="69"/>
                  <a:pt x="905" y="68"/>
                </a:cubicBezTo>
                <a:cubicBezTo>
                  <a:pt x="921" y="70"/>
                  <a:pt x="936" y="53"/>
                  <a:pt x="949" y="62"/>
                </a:cubicBezTo>
                <a:cubicBezTo>
                  <a:pt x="958" y="65"/>
                  <a:pt x="962" y="67"/>
                  <a:pt x="967" y="82"/>
                </a:cubicBezTo>
                <a:cubicBezTo>
                  <a:pt x="970" y="92"/>
                  <a:pt x="965" y="108"/>
                  <a:pt x="967" y="120"/>
                </a:cubicBezTo>
                <a:cubicBezTo>
                  <a:pt x="969" y="132"/>
                  <a:pt x="975" y="146"/>
                  <a:pt x="979" y="152"/>
                </a:cubicBezTo>
                <a:cubicBezTo>
                  <a:pt x="983" y="165"/>
                  <a:pt x="974" y="155"/>
                  <a:pt x="991" y="158"/>
                </a:cubicBezTo>
                <a:cubicBezTo>
                  <a:pt x="997" y="160"/>
                  <a:pt x="1004" y="165"/>
                  <a:pt x="1013" y="164"/>
                </a:cubicBezTo>
                <a:cubicBezTo>
                  <a:pt x="1022" y="163"/>
                  <a:pt x="1036" y="153"/>
                  <a:pt x="1047" y="154"/>
                </a:cubicBezTo>
                <a:cubicBezTo>
                  <a:pt x="1058" y="155"/>
                  <a:pt x="1070" y="162"/>
                  <a:pt x="1081" y="170"/>
                </a:cubicBezTo>
                <a:cubicBezTo>
                  <a:pt x="1090" y="181"/>
                  <a:pt x="1106" y="189"/>
                  <a:pt x="1113" y="202"/>
                </a:cubicBezTo>
                <a:cubicBezTo>
                  <a:pt x="1122" y="215"/>
                  <a:pt x="1122" y="219"/>
                  <a:pt x="1135" y="246"/>
                </a:cubicBezTo>
                <a:cubicBezTo>
                  <a:pt x="1141" y="310"/>
                  <a:pt x="1148" y="335"/>
                  <a:pt x="1189" y="362"/>
                </a:cubicBezTo>
                <a:cubicBezTo>
                  <a:pt x="1217" y="404"/>
                  <a:pt x="1211" y="412"/>
                  <a:pt x="1233" y="404"/>
                </a:cubicBezTo>
                <a:cubicBezTo>
                  <a:pt x="1244" y="410"/>
                  <a:pt x="1239" y="401"/>
                  <a:pt x="1253" y="398"/>
                </a:cubicBezTo>
                <a:cubicBezTo>
                  <a:pt x="1262" y="397"/>
                  <a:pt x="1275" y="400"/>
                  <a:pt x="1285" y="398"/>
                </a:cubicBezTo>
                <a:cubicBezTo>
                  <a:pt x="1295" y="396"/>
                  <a:pt x="1306" y="391"/>
                  <a:pt x="1315" y="386"/>
                </a:cubicBezTo>
                <a:cubicBezTo>
                  <a:pt x="1326" y="384"/>
                  <a:pt x="1315" y="369"/>
                  <a:pt x="1339" y="370"/>
                </a:cubicBezTo>
                <a:cubicBezTo>
                  <a:pt x="1349" y="367"/>
                  <a:pt x="1359" y="365"/>
                  <a:pt x="1375" y="370"/>
                </a:cubicBezTo>
                <a:cubicBezTo>
                  <a:pt x="1391" y="375"/>
                  <a:pt x="1423" y="395"/>
                  <a:pt x="1437" y="400"/>
                </a:cubicBezTo>
                <a:cubicBezTo>
                  <a:pt x="1451" y="405"/>
                  <a:pt x="1445" y="394"/>
                  <a:pt x="1459" y="398"/>
                </a:cubicBezTo>
                <a:cubicBezTo>
                  <a:pt x="1481" y="408"/>
                  <a:pt x="1500" y="414"/>
                  <a:pt x="1519" y="422"/>
                </a:cubicBezTo>
                <a:cubicBezTo>
                  <a:pt x="1538" y="430"/>
                  <a:pt x="1554" y="416"/>
                  <a:pt x="1571" y="422"/>
                </a:cubicBezTo>
                <a:cubicBezTo>
                  <a:pt x="1586" y="426"/>
                  <a:pt x="1595" y="444"/>
                  <a:pt x="1607" y="448"/>
                </a:cubicBezTo>
                <a:cubicBezTo>
                  <a:pt x="1617" y="453"/>
                  <a:pt x="1632" y="443"/>
                  <a:pt x="1641" y="444"/>
                </a:cubicBezTo>
                <a:cubicBezTo>
                  <a:pt x="1650" y="445"/>
                  <a:pt x="1651" y="452"/>
                  <a:pt x="1661" y="456"/>
                </a:cubicBezTo>
                <a:cubicBezTo>
                  <a:pt x="1671" y="460"/>
                  <a:pt x="1681" y="458"/>
                  <a:pt x="1699" y="466"/>
                </a:cubicBezTo>
                <a:cubicBezTo>
                  <a:pt x="1743" y="492"/>
                  <a:pt x="1769" y="502"/>
                  <a:pt x="1769" y="502"/>
                </a:cubicBezTo>
                <a:cubicBezTo>
                  <a:pt x="1783" y="514"/>
                  <a:pt x="1797" y="492"/>
                  <a:pt x="1803" y="522"/>
                </a:cubicBezTo>
                <a:cubicBezTo>
                  <a:pt x="1805" y="530"/>
                  <a:pt x="1787" y="543"/>
                  <a:pt x="1781" y="552"/>
                </a:cubicBezTo>
                <a:cubicBezTo>
                  <a:pt x="1775" y="561"/>
                  <a:pt x="1766" y="567"/>
                  <a:pt x="1769" y="578"/>
                </a:cubicBezTo>
                <a:cubicBezTo>
                  <a:pt x="1772" y="589"/>
                  <a:pt x="1796" y="602"/>
                  <a:pt x="1801" y="616"/>
                </a:cubicBezTo>
                <a:cubicBezTo>
                  <a:pt x="1806" y="630"/>
                  <a:pt x="1807" y="645"/>
                  <a:pt x="1797" y="660"/>
                </a:cubicBezTo>
                <a:cubicBezTo>
                  <a:pt x="1772" y="668"/>
                  <a:pt x="1757" y="666"/>
                  <a:pt x="1743" y="706"/>
                </a:cubicBezTo>
                <a:cubicBezTo>
                  <a:pt x="1737" y="732"/>
                  <a:pt x="1739" y="732"/>
                  <a:pt x="1711" y="732"/>
                </a:cubicBezTo>
                <a:cubicBezTo>
                  <a:pt x="1689" y="748"/>
                  <a:pt x="1683" y="778"/>
                  <a:pt x="1683" y="778"/>
                </a:cubicBezTo>
                <a:cubicBezTo>
                  <a:pt x="1667" y="802"/>
                  <a:pt x="1649" y="792"/>
                  <a:pt x="1603" y="814"/>
                </a:cubicBezTo>
                <a:cubicBezTo>
                  <a:pt x="1585" y="827"/>
                  <a:pt x="1597" y="837"/>
                  <a:pt x="1587" y="852"/>
                </a:cubicBezTo>
                <a:cubicBezTo>
                  <a:pt x="1580" y="861"/>
                  <a:pt x="1570" y="857"/>
                  <a:pt x="1559" y="866"/>
                </a:cubicBezTo>
                <a:cubicBezTo>
                  <a:pt x="1548" y="875"/>
                  <a:pt x="1531" y="899"/>
                  <a:pt x="1521" y="906"/>
                </a:cubicBezTo>
                <a:cubicBezTo>
                  <a:pt x="1506" y="914"/>
                  <a:pt x="1503" y="909"/>
                  <a:pt x="1497" y="906"/>
                </a:cubicBezTo>
                <a:cubicBezTo>
                  <a:pt x="1491" y="903"/>
                  <a:pt x="1488" y="898"/>
                  <a:pt x="1483" y="890"/>
                </a:cubicBezTo>
                <a:cubicBezTo>
                  <a:pt x="1477" y="885"/>
                  <a:pt x="1473" y="865"/>
                  <a:pt x="1467" y="860"/>
                </a:cubicBezTo>
                <a:cubicBezTo>
                  <a:pt x="1451" y="852"/>
                  <a:pt x="1400" y="873"/>
                  <a:pt x="1381" y="870"/>
                </a:cubicBezTo>
                <a:cubicBezTo>
                  <a:pt x="1360" y="869"/>
                  <a:pt x="1356" y="861"/>
                  <a:pt x="1343" y="856"/>
                </a:cubicBezTo>
                <a:cubicBezTo>
                  <a:pt x="1327" y="858"/>
                  <a:pt x="1316" y="833"/>
                  <a:pt x="1301" y="840"/>
                </a:cubicBezTo>
                <a:cubicBezTo>
                  <a:pt x="1288" y="846"/>
                  <a:pt x="1282" y="877"/>
                  <a:pt x="1279" y="890"/>
                </a:cubicBezTo>
                <a:cubicBezTo>
                  <a:pt x="1269" y="926"/>
                  <a:pt x="1264" y="988"/>
                  <a:pt x="1231" y="1010"/>
                </a:cubicBezTo>
                <a:cubicBezTo>
                  <a:pt x="1226" y="1026"/>
                  <a:pt x="1211" y="1054"/>
                  <a:pt x="1227" y="1080"/>
                </a:cubicBezTo>
                <a:cubicBezTo>
                  <a:pt x="1231" y="1092"/>
                  <a:pt x="1241" y="1084"/>
                  <a:pt x="1255" y="1086"/>
                </a:cubicBezTo>
                <a:cubicBezTo>
                  <a:pt x="1269" y="1089"/>
                  <a:pt x="1297" y="1090"/>
                  <a:pt x="1309" y="1100"/>
                </a:cubicBezTo>
                <a:cubicBezTo>
                  <a:pt x="1319" y="1150"/>
                  <a:pt x="1313" y="1103"/>
                  <a:pt x="1325" y="1144"/>
                </a:cubicBezTo>
                <a:cubicBezTo>
                  <a:pt x="1329" y="1156"/>
                  <a:pt x="1339" y="1178"/>
                  <a:pt x="1339" y="1178"/>
                </a:cubicBezTo>
                <a:cubicBezTo>
                  <a:pt x="1341" y="1188"/>
                  <a:pt x="1363" y="1172"/>
                  <a:pt x="1367" y="1198"/>
                </a:cubicBezTo>
                <a:cubicBezTo>
                  <a:pt x="1372" y="1204"/>
                  <a:pt x="1370" y="1208"/>
                  <a:pt x="1367" y="1212"/>
                </a:cubicBezTo>
                <a:cubicBezTo>
                  <a:pt x="1364" y="1216"/>
                  <a:pt x="1357" y="1210"/>
                  <a:pt x="1351" y="1220"/>
                </a:cubicBezTo>
                <a:cubicBezTo>
                  <a:pt x="1345" y="1230"/>
                  <a:pt x="1326" y="1253"/>
                  <a:pt x="1329" y="1270"/>
                </a:cubicBezTo>
                <a:cubicBezTo>
                  <a:pt x="1332" y="1287"/>
                  <a:pt x="1358" y="1313"/>
                  <a:pt x="1369" y="1324"/>
                </a:cubicBezTo>
                <a:cubicBezTo>
                  <a:pt x="1379" y="1335"/>
                  <a:pt x="1391" y="1330"/>
                  <a:pt x="1397" y="1334"/>
                </a:cubicBezTo>
                <a:cubicBezTo>
                  <a:pt x="1403" y="1338"/>
                  <a:pt x="1405" y="1344"/>
                  <a:pt x="1405" y="1350"/>
                </a:cubicBezTo>
                <a:cubicBezTo>
                  <a:pt x="1405" y="1356"/>
                  <a:pt x="1406" y="1361"/>
                  <a:pt x="1397" y="1370"/>
                </a:cubicBezTo>
                <a:cubicBezTo>
                  <a:pt x="1388" y="1379"/>
                  <a:pt x="1370" y="1401"/>
                  <a:pt x="1349" y="1406"/>
                </a:cubicBezTo>
                <a:cubicBezTo>
                  <a:pt x="1328" y="1409"/>
                  <a:pt x="1291" y="1402"/>
                  <a:pt x="1269" y="1398"/>
                </a:cubicBezTo>
                <a:cubicBezTo>
                  <a:pt x="1248" y="1392"/>
                  <a:pt x="1235" y="1379"/>
                  <a:pt x="1225" y="1370"/>
                </a:cubicBezTo>
                <a:cubicBezTo>
                  <a:pt x="1212" y="1360"/>
                  <a:pt x="1226" y="1351"/>
                  <a:pt x="1209" y="1346"/>
                </a:cubicBezTo>
                <a:cubicBezTo>
                  <a:pt x="1196" y="1343"/>
                  <a:pt x="1159" y="1353"/>
                  <a:pt x="1145" y="1352"/>
                </a:cubicBezTo>
                <a:cubicBezTo>
                  <a:pt x="1131" y="1351"/>
                  <a:pt x="1131" y="1343"/>
                  <a:pt x="1123" y="1340"/>
                </a:cubicBezTo>
                <a:cubicBezTo>
                  <a:pt x="1117" y="1335"/>
                  <a:pt x="1101" y="1344"/>
                  <a:pt x="1095" y="1336"/>
                </a:cubicBezTo>
                <a:cubicBezTo>
                  <a:pt x="1089" y="1328"/>
                  <a:pt x="1095" y="1303"/>
                  <a:pt x="1087" y="1292"/>
                </a:cubicBezTo>
                <a:cubicBezTo>
                  <a:pt x="1075" y="1282"/>
                  <a:pt x="1058" y="1277"/>
                  <a:pt x="1045" y="1268"/>
                </a:cubicBezTo>
                <a:cubicBezTo>
                  <a:pt x="1033" y="1264"/>
                  <a:pt x="1024" y="1261"/>
                  <a:pt x="1015" y="1262"/>
                </a:cubicBezTo>
                <a:cubicBezTo>
                  <a:pt x="1007" y="1265"/>
                  <a:pt x="1008" y="1282"/>
                  <a:pt x="995" y="1288"/>
                </a:cubicBezTo>
                <a:cubicBezTo>
                  <a:pt x="981" y="1293"/>
                  <a:pt x="939" y="1296"/>
                  <a:pt x="939" y="1296"/>
                </a:cubicBezTo>
                <a:cubicBezTo>
                  <a:pt x="905" y="1340"/>
                  <a:pt x="937" y="1321"/>
                  <a:pt x="919" y="1358"/>
                </a:cubicBezTo>
                <a:cubicBezTo>
                  <a:pt x="913" y="1380"/>
                  <a:pt x="922" y="1419"/>
                  <a:pt x="913" y="1436"/>
                </a:cubicBezTo>
                <a:cubicBezTo>
                  <a:pt x="906" y="1450"/>
                  <a:pt x="886" y="1438"/>
                  <a:pt x="875" y="1444"/>
                </a:cubicBezTo>
                <a:cubicBezTo>
                  <a:pt x="866" y="1451"/>
                  <a:pt x="851" y="1466"/>
                  <a:pt x="847" y="1474"/>
                </a:cubicBezTo>
                <a:cubicBezTo>
                  <a:pt x="838" y="1484"/>
                  <a:pt x="827" y="1481"/>
                  <a:pt x="823" y="1506"/>
                </a:cubicBezTo>
                <a:cubicBezTo>
                  <a:pt x="809" y="1549"/>
                  <a:pt x="801" y="1556"/>
                  <a:pt x="825" y="1624"/>
                </a:cubicBezTo>
                <a:cubicBezTo>
                  <a:pt x="819" y="1648"/>
                  <a:pt x="803" y="1622"/>
                  <a:pt x="789" y="1632"/>
                </a:cubicBezTo>
                <a:cubicBezTo>
                  <a:pt x="782" y="1639"/>
                  <a:pt x="793" y="1658"/>
                  <a:pt x="785" y="1666"/>
                </a:cubicBezTo>
                <a:cubicBezTo>
                  <a:pt x="777" y="1674"/>
                  <a:pt x="751" y="1677"/>
                  <a:pt x="739" y="1682"/>
                </a:cubicBezTo>
                <a:cubicBezTo>
                  <a:pt x="727" y="1685"/>
                  <a:pt x="734" y="1697"/>
                  <a:pt x="711" y="1696"/>
                </a:cubicBezTo>
                <a:cubicBezTo>
                  <a:pt x="699" y="1698"/>
                  <a:pt x="681" y="1690"/>
                  <a:pt x="665" y="1694"/>
                </a:cubicBezTo>
                <a:cubicBezTo>
                  <a:pt x="649" y="1698"/>
                  <a:pt x="624" y="1725"/>
                  <a:pt x="613" y="1722"/>
                </a:cubicBezTo>
                <a:cubicBezTo>
                  <a:pt x="602" y="1719"/>
                  <a:pt x="608" y="1695"/>
                  <a:pt x="601" y="1676"/>
                </a:cubicBezTo>
                <a:cubicBezTo>
                  <a:pt x="585" y="1670"/>
                  <a:pt x="576" y="1625"/>
                  <a:pt x="569" y="1610"/>
                </a:cubicBezTo>
                <a:cubicBezTo>
                  <a:pt x="539" y="1549"/>
                  <a:pt x="551" y="1544"/>
                  <a:pt x="515" y="1516"/>
                </a:cubicBezTo>
                <a:cubicBezTo>
                  <a:pt x="481" y="1474"/>
                  <a:pt x="472" y="1401"/>
                  <a:pt x="467" y="1396"/>
                </a:cubicBezTo>
                <a:cubicBezTo>
                  <a:pt x="452" y="1381"/>
                  <a:pt x="461" y="1342"/>
                  <a:pt x="443" y="1330"/>
                </a:cubicBezTo>
                <a:cubicBezTo>
                  <a:pt x="433" y="1320"/>
                  <a:pt x="418" y="1320"/>
                  <a:pt x="407" y="1322"/>
                </a:cubicBezTo>
                <a:cubicBezTo>
                  <a:pt x="396" y="1324"/>
                  <a:pt x="385" y="1342"/>
                  <a:pt x="377" y="1344"/>
                </a:cubicBezTo>
                <a:cubicBezTo>
                  <a:pt x="369" y="1346"/>
                  <a:pt x="366" y="1355"/>
                  <a:pt x="361" y="1332"/>
                </a:cubicBezTo>
                <a:cubicBezTo>
                  <a:pt x="356" y="1309"/>
                  <a:pt x="354" y="1229"/>
                  <a:pt x="347" y="1204"/>
                </a:cubicBezTo>
                <a:cubicBezTo>
                  <a:pt x="342" y="1174"/>
                  <a:pt x="321" y="1212"/>
                  <a:pt x="319" y="1184"/>
                </a:cubicBezTo>
                <a:cubicBezTo>
                  <a:pt x="314" y="1173"/>
                  <a:pt x="324" y="1150"/>
                  <a:pt x="319" y="1140"/>
                </a:cubicBezTo>
                <a:cubicBezTo>
                  <a:pt x="314" y="1130"/>
                  <a:pt x="300" y="1124"/>
                  <a:pt x="291" y="1122"/>
                </a:cubicBezTo>
                <a:cubicBezTo>
                  <a:pt x="282" y="1112"/>
                  <a:pt x="273" y="1121"/>
                  <a:pt x="265" y="1128"/>
                </a:cubicBezTo>
                <a:cubicBezTo>
                  <a:pt x="257" y="1135"/>
                  <a:pt x="254" y="1157"/>
                  <a:pt x="245" y="1166"/>
                </a:cubicBezTo>
                <a:cubicBezTo>
                  <a:pt x="235" y="1178"/>
                  <a:pt x="217" y="1199"/>
                  <a:pt x="209" y="1184"/>
                </a:cubicBezTo>
                <a:cubicBezTo>
                  <a:pt x="201" y="1169"/>
                  <a:pt x="196" y="1122"/>
                  <a:pt x="199" y="1076"/>
                </a:cubicBezTo>
                <a:cubicBezTo>
                  <a:pt x="189" y="1017"/>
                  <a:pt x="210" y="964"/>
                  <a:pt x="229" y="908"/>
                </a:cubicBezTo>
                <a:cubicBezTo>
                  <a:pt x="234" y="871"/>
                  <a:pt x="245" y="878"/>
                  <a:pt x="237" y="840"/>
                </a:cubicBezTo>
                <a:cubicBezTo>
                  <a:pt x="229" y="811"/>
                  <a:pt x="195" y="765"/>
                  <a:pt x="181" y="736"/>
                </a:cubicBezTo>
                <a:cubicBezTo>
                  <a:pt x="166" y="707"/>
                  <a:pt x="157" y="683"/>
                  <a:pt x="151" y="668"/>
                </a:cubicBezTo>
                <a:cubicBezTo>
                  <a:pt x="145" y="653"/>
                  <a:pt x="137" y="664"/>
                  <a:pt x="145" y="644"/>
                </a:cubicBezTo>
                <a:cubicBezTo>
                  <a:pt x="153" y="624"/>
                  <a:pt x="192" y="570"/>
                  <a:pt x="199" y="548"/>
                </a:cubicBezTo>
                <a:cubicBezTo>
                  <a:pt x="197" y="532"/>
                  <a:pt x="193" y="526"/>
                  <a:pt x="185" y="512"/>
                </a:cubicBezTo>
                <a:cubicBezTo>
                  <a:pt x="178" y="500"/>
                  <a:pt x="169" y="484"/>
                  <a:pt x="157" y="476"/>
                </a:cubicBezTo>
                <a:cubicBezTo>
                  <a:pt x="143" y="467"/>
                  <a:pt x="150" y="440"/>
                  <a:pt x="139" y="422"/>
                </a:cubicBezTo>
                <a:cubicBezTo>
                  <a:pt x="128" y="405"/>
                  <a:pt x="117" y="380"/>
                  <a:pt x="113" y="360"/>
                </a:cubicBezTo>
                <a:cubicBezTo>
                  <a:pt x="112" y="355"/>
                  <a:pt x="66" y="306"/>
                  <a:pt x="61" y="296"/>
                </a:cubicBezTo>
                <a:cubicBezTo>
                  <a:pt x="54" y="278"/>
                  <a:pt x="22" y="294"/>
                  <a:pt x="13" y="280"/>
                </a:cubicBezTo>
                <a:cubicBezTo>
                  <a:pt x="4" y="266"/>
                  <a:pt x="5" y="228"/>
                  <a:pt x="7" y="212"/>
                </a:cubicBezTo>
                <a:cubicBezTo>
                  <a:pt x="0" y="193"/>
                  <a:pt x="21" y="191"/>
                  <a:pt x="27" y="184"/>
                </a:cubicBezTo>
                <a:cubicBezTo>
                  <a:pt x="33" y="177"/>
                  <a:pt x="38" y="180"/>
                  <a:pt x="41" y="172"/>
                </a:cubicBezTo>
                <a:cubicBezTo>
                  <a:pt x="46" y="153"/>
                  <a:pt x="38" y="159"/>
                  <a:pt x="43" y="136"/>
                </a:cubicBezTo>
                <a:cubicBezTo>
                  <a:pt x="46" y="128"/>
                  <a:pt x="62" y="138"/>
                  <a:pt x="61" y="126"/>
                </a:cubicBezTo>
                <a:cubicBezTo>
                  <a:pt x="60" y="114"/>
                  <a:pt x="42" y="79"/>
                  <a:pt x="39" y="62"/>
                </a:cubicBezTo>
                <a:cubicBezTo>
                  <a:pt x="36" y="45"/>
                  <a:pt x="42" y="33"/>
                  <a:pt x="45" y="26"/>
                </a:cubicBezTo>
                <a:cubicBezTo>
                  <a:pt x="48" y="19"/>
                  <a:pt x="35" y="20"/>
                  <a:pt x="57" y="22"/>
                </a:cubicBezTo>
                <a:cubicBezTo>
                  <a:pt x="181" y="0"/>
                  <a:pt x="145" y="33"/>
                  <a:pt x="177" y="38"/>
                </a:cubicBezTo>
                <a:cubicBezTo>
                  <a:pt x="201" y="45"/>
                  <a:pt x="186" y="64"/>
                  <a:pt x="195" y="72"/>
                </a:cubicBezTo>
                <a:cubicBezTo>
                  <a:pt x="201" y="79"/>
                  <a:pt x="209" y="75"/>
                  <a:pt x="215" y="78"/>
                </a:cubicBezTo>
                <a:cubicBezTo>
                  <a:pt x="221" y="81"/>
                  <a:pt x="228" y="79"/>
                  <a:pt x="231" y="88"/>
                </a:cubicBezTo>
                <a:cubicBezTo>
                  <a:pt x="235" y="97"/>
                  <a:pt x="226" y="101"/>
                  <a:pt x="233" y="134"/>
                </a:cubicBezTo>
                <a:cubicBezTo>
                  <a:pt x="236" y="146"/>
                  <a:pt x="248" y="150"/>
                  <a:pt x="251" y="160"/>
                </a:cubicBezTo>
                <a:cubicBezTo>
                  <a:pt x="254" y="170"/>
                  <a:pt x="245" y="181"/>
                  <a:pt x="249" y="192"/>
                </a:cubicBezTo>
                <a:cubicBezTo>
                  <a:pt x="253" y="203"/>
                  <a:pt x="263" y="219"/>
                  <a:pt x="275" y="226"/>
                </a:cubicBezTo>
                <a:cubicBezTo>
                  <a:pt x="287" y="233"/>
                  <a:pt x="311" y="230"/>
                  <a:pt x="319" y="236"/>
                </a:cubicBezTo>
                <a:cubicBezTo>
                  <a:pt x="332" y="241"/>
                  <a:pt x="295" y="250"/>
                  <a:pt x="321" y="262"/>
                </a:cubicBezTo>
                <a:cubicBezTo>
                  <a:pt x="327" y="270"/>
                  <a:pt x="342" y="283"/>
                  <a:pt x="357" y="284"/>
                </a:cubicBezTo>
                <a:cubicBezTo>
                  <a:pt x="372" y="285"/>
                  <a:pt x="393" y="260"/>
                  <a:pt x="409" y="266"/>
                </a:cubicBezTo>
                <a:cubicBezTo>
                  <a:pt x="425" y="272"/>
                  <a:pt x="440" y="311"/>
                  <a:pt x="453" y="320"/>
                </a:cubicBezTo>
                <a:cubicBezTo>
                  <a:pt x="465" y="330"/>
                  <a:pt x="455" y="318"/>
                  <a:pt x="487" y="318"/>
                </a:cubicBezTo>
                <a:cubicBezTo>
                  <a:pt x="491" y="325"/>
                  <a:pt x="476" y="354"/>
                  <a:pt x="477" y="362"/>
                </a:cubicBezTo>
                <a:cubicBezTo>
                  <a:pt x="478" y="370"/>
                  <a:pt x="489" y="368"/>
                  <a:pt x="495" y="368"/>
                </a:cubicBezTo>
                <a:cubicBezTo>
                  <a:pt x="501" y="368"/>
                  <a:pt x="506" y="370"/>
                  <a:pt x="511" y="364"/>
                </a:cubicBezTo>
                <a:cubicBezTo>
                  <a:pt x="516" y="358"/>
                  <a:pt x="511" y="334"/>
                  <a:pt x="525" y="330"/>
                </a:cubicBezTo>
                <a:cubicBezTo>
                  <a:pt x="539" y="326"/>
                  <a:pt x="577" y="343"/>
                  <a:pt x="593" y="340"/>
                </a:cubicBezTo>
                <a:cubicBezTo>
                  <a:pt x="609" y="337"/>
                  <a:pt x="615" y="330"/>
                  <a:pt x="621" y="314"/>
                </a:cubicBezTo>
                <a:cubicBezTo>
                  <a:pt x="630" y="300"/>
                  <a:pt x="619" y="263"/>
                  <a:pt x="627" y="246"/>
                </a:cubicBezTo>
                <a:cubicBezTo>
                  <a:pt x="632" y="231"/>
                  <a:pt x="644" y="232"/>
                  <a:pt x="651" y="226"/>
                </a:cubicBezTo>
                <a:cubicBezTo>
                  <a:pt x="658" y="220"/>
                  <a:pt x="660" y="216"/>
                  <a:pt x="667" y="212"/>
                </a:cubicBezTo>
                <a:cubicBezTo>
                  <a:pt x="674" y="208"/>
                  <a:pt x="687" y="205"/>
                  <a:pt x="695" y="200"/>
                </a:cubicBezTo>
                <a:cubicBezTo>
                  <a:pt x="701" y="194"/>
                  <a:pt x="706" y="190"/>
                  <a:pt x="713" y="184"/>
                </a:cubicBezTo>
                <a:cubicBezTo>
                  <a:pt x="717" y="177"/>
                  <a:pt x="706" y="145"/>
                  <a:pt x="717" y="156"/>
                </a:cubicBezTo>
                <a:cubicBezTo>
                  <a:pt x="734" y="182"/>
                  <a:pt x="767" y="220"/>
                  <a:pt x="781" y="248"/>
                </a:cubicBezTo>
                <a:cubicBezTo>
                  <a:pt x="784" y="254"/>
                  <a:pt x="778" y="235"/>
                  <a:pt x="775" y="230"/>
                </a:cubicBezTo>
                <a:cubicBezTo>
                  <a:pt x="770" y="221"/>
                  <a:pt x="761" y="210"/>
                  <a:pt x="755" y="202"/>
                </a:cubicBezTo>
                <a:cubicBezTo>
                  <a:pt x="750" y="188"/>
                  <a:pt x="750" y="185"/>
                  <a:pt x="741" y="174"/>
                </a:cubicBezTo>
                <a:cubicBezTo>
                  <a:pt x="734" y="166"/>
                  <a:pt x="717" y="159"/>
                  <a:pt x="707" y="15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098960" y="3335400"/>
            <a:ext cx="1444680" cy="1336680"/>
          </a:xfrm>
          <a:custGeom>
            <a:avLst/>
            <a:gdLst/>
            <a:ahLst/>
            <a:rect l="l" t="t" r="r" b="b"/>
            <a:pathLst>
              <a:path w="910" h="842">
                <a:moveTo>
                  <a:pt x="584" y="0"/>
                </a:moveTo>
                <a:cubicBezTo>
                  <a:pt x="604" y="2"/>
                  <a:pt x="625" y="3"/>
                  <a:pt x="644" y="9"/>
                </a:cubicBezTo>
                <a:cubicBezTo>
                  <a:pt x="652" y="11"/>
                  <a:pt x="688" y="49"/>
                  <a:pt x="700" y="57"/>
                </a:cubicBezTo>
                <a:cubicBezTo>
                  <a:pt x="716" y="70"/>
                  <a:pt x="714" y="78"/>
                  <a:pt x="728" y="84"/>
                </a:cubicBezTo>
                <a:cubicBezTo>
                  <a:pt x="739" y="88"/>
                  <a:pt x="758" y="82"/>
                  <a:pt x="767" y="83"/>
                </a:cubicBezTo>
                <a:cubicBezTo>
                  <a:pt x="776" y="84"/>
                  <a:pt x="777" y="85"/>
                  <a:pt x="782" y="90"/>
                </a:cubicBezTo>
                <a:cubicBezTo>
                  <a:pt x="787" y="93"/>
                  <a:pt x="787" y="105"/>
                  <a:pt x="796" y="111"/>
                </a:cubicBezTo>
                <a:cubicBezTo>
                  <a:pt x="804" y="118"/>
                  <a:pt x="823" y="116"/>
                  <a:pt x="832" y="132"/>
                </a:cubicBezTo>
                <a:cubicBezTo>
                  <a:pt x="853" y="156"/>
                  <a:pt x="860" y="150"/>
                  <a:pt x="872" y="162"/>
                </a:cubicBezTo>
                <a:cubicBezTo>
                  <a:pt x="886" y="176"/>
                  <a:pt x="890" y="177"/>
                  <a:pt x="904" y="218"/>
                </a:cubicBezTo>
                <a:cubicBezTo>
                  <a:pt x="902" y="236"/>
                  <a:pt x="910" y="240"/>
                  <a:pt x="878" y="266"/>
                </a:cubicBezTo>
                <a:cubicBezTo>
                  <a:pt x="871" y="279"/>
                  <a:pt x="867" y="288"/>
                  <a:pt x="854" y="294"/>
                </a:cubicBezTo>
                <a:cubicBezTo>
                  <a:pt x="844" y="301"/>
                  <a:pt x="829" y="312"/>
                  <a:pt x="817" y="315"/>
                </a:cubicBezTo>
                <a:cubicBezTo>
                  <a:pt x="805" y="318"/>
                  <a:pt x="793" y="312"/>
                  <a:pt x="781" y="315"/>
                </a:cubicBezTo>
                <a:cubicBezTo>
                  <a:pt x="769" y="318"/>
                  <a:pt x="753" y="328"/>
                  <a:pt x="742" y="333"/>
                </a:cubicBezTo>
                <a:cubicBezTo>
                  <a:pt x="731" y="338"/>
                  <a:pt x="719" y="344"/>
                  <a:pt x="712" y="344"/>
                </a:cubicBezTo>
                <a:cubicBezTo>
                  <a:pt x="705" y="344"/>
                  <a:pt x="704" y="338"/>
                  <a:pt x="698" y="336"/>
                </a:cubicBezTo>
                <a:cubicBezTo>
                  <a:pt x="692" y="336"/>
                  <a:pt x="686" y="330"/>
                  <a:pt x="674" y="333"/>
                </a:cubicBezTo>
                <a:cubicBezTo>
                  <a:pt x="666" y="335"/>
                  <a:pt x="658" y="344"/>
                  <a:pt x="650" y="347"/>
                </a:cubicBezTo>
                <a:cubicBezTo>
                  <a:pt x="642" y="350"/>
                  <a:pt x="633" y="352"/>
                  <a:pt x="626" y="354"/>
                </a:cubicBezTo>
                <a:cubicBezTo>
                  <a:pt x="619" y="357"/>
                  <a:pt x="613" y="354"/>
                  <a:pt x="608" y="359"/>
                </a:cubicBezTo>
                <a:cubicBezTo>
                  <a:pt x="603" y="364"/>
                  <a:pt x="597" y="374"/>
                  <a:pt x="596" y="386"/>
                </a:cubicBezTo>
                <a:cubicBezTo>
                  <a:pt x="593" y="397"/>
                  <a:pt x="603" y="416"/>
                  <a:pt x="602" y="434"/>
                </a:cubicBezTo>
                <a:cubicBezTo>
                  <a:pt x="602" y="445"/>
                  <a:pt x="599" y="444"/>
                  <a:pt x="596" y="450"/>
                </a:cubicBezTo>
                <a:cubicBezTo>
                  <a:pt x="593" y="456"/>
                  <a:pt x="585" y="463"/>
                  <a:pt x="584" y="470"/>
                </a:cubicBezTo>
                <a:cubicBezTo>
                  <a:pt x="583" y="477"/>
                  <a:pt x="585" y="486"/>
                  <a:pt x="590" y="492"/>
                </a:cubicBezTo>
                <a:cubicBezTo>
                  <a:pt x="593" y="506"/>
                  <a:pt x="608" y="494"/>
                  <a:pt x="614" y="507"/>
                </a:cubicBezTo>
                <a:cubicBezTo>
                  <a:pt x="677" y="542"/>
                  <a:pt x="636" y="571"/>
                  <a:pt x="644" y="594"/>
                </a:cubicBezTo>
                <a:cubicBezTo>
                  <a:pt x="649" y="609"/>
                  <a:pt x="679" y="596"/>
                  <a:pt x="718" y="641"/>
                </a:cubicBezTo>
                <a:cubicBezTo>
                  <a:pt x="748" y="705"/>
                  <a:pt x="733" y="697"/>
                  <a:pt x="742" y="723"/>
                </a:cubicBezTo>
                <a:cubicBezTo>
                  <a:pt x="744" y="742"/>
                  <a:pt x="739" y="764"/>
                  <a:pt x="734" y="773"/>
                </a:cubicBezTo>
                <a:cubicBezTo>
                  <a:pt x="729" y="782"/>
                  <a:pt x="719" y="771"/>
                  <a:pt x="713" y="776"/>
                </a:cubicBezTo>
                <a:cubicBezTo>
                  <a:pt x="707" y="781"/>
                  <a:pt x="705" y="803"/>
                  <a:pt x="695" y="806"/>
                </a:cubicBezTo>
                <a:cubicBezTo>
                  <a:pt x="695" y="818"/>
                  <a:pt x="688" y="842"/>
                  <a:pt x="653" y="795"/>
                </a:cubicBezTo>
                <a:cubicBezTo>
                  <a:pt x="643" y="792"/>
                  <a:pt x="623" y="775"/>
                  <a:pt x="620" y="768"/>
                </a:cubicBezTo>
                <a:cubicBezTo>
                  <a:pt x="612" y="759"/>
                  <a:pt x="604" y="765"/>
                  <a:pt x="596" y="755"/>
                </a:cubicBezTo>
                <a:cubicBezTo>
                  <a:pt x="588" y="744"/>
                  <a:pt x="577" y="715"/>
                  <a:pt x="571" y="704"/>
                </a:cubicBezTo>
                <a:cubicBezTo>
                  <a:pt x="567" y="698"/>
                  <a:pt x="563" y="696"/>
                  <a:pt x="560" y="690"/>
                </a:cubicBezTo>
                <a:cubicBezTo>
                  <a:pt x="557" y="684"/>
                  <a:pt x="546" y="684"/>
                  <a:pt x="541" y="680"/>
                </a:cubicBezTo>
                <a:cubicBezTo>
                  <a:pt x="531" y="673"/>
                  <a:pt x="530" y="664"/>
                  <a:pt x="518" y="660"/>
                </a:cubicBezTo>
                <a:cubicBezTo>
                  <a:pt x="512" y="658"/>
                  <a:pt x="485" y="644"/>
                  <a:pt x="485" y="644"/>
                </a:cubicBezTo>
                <a:cubicBezTo>
                  <a:pt x="476" y="641"/>
                  <a:pt x="476" y="636"/>
                  <a:pt x="458" y="639"/>
                </a:cubicBezTo>
                <a:cubicBezTo>
                  <a:pt x="448" y="640"/>
                  <a:pt x="440" y="646"/>
                  <a:pt x="427" y="650"/>
                </a:cubicBezTo>
                <a:cubicBezTo>
                  <a:pt x="414" y="654"/>
                  <a:pt x="391" y="658"/>
                  <a:pt x="379" y="663"/>
                </a:cubicBezTo>
                <a:cubicBezTo>
                  <a:pt x="372" y="664"/>
                  <a:pt x="361" y="673"/>
                  <a:pt x="356" y="678"/>
                </a:cubicBezTo>
                <a:cubicBezTo>
                  <a:pt x="331" y="700"/>
                  <a:pt x="338" y="702"/>
                  <a:pt x="314" y="725"/>
                </a:cubicBezTo>
                <a:cubicBezTo>
                  <a:pt x="304" y="729"/>
                  <a:pt x="304" y="711"/>
                  <a:pt x="299" y="705"/>
                </a:cubicBezTo>
                <a:cubicBezTo>
                  <a:pt x="294" y="699"/>
                  <a:pt x="293" y="683"/>
                  <a:pt x="283" y="686"/>
                </a:cubicBezTo>
                <a:cubicBezTo>
                  <a:pt x="273" y="689"/>
                  <a:pt x="250" y="719"/>
                  <a:pt x="241" y="725"/>
                </a:cubicBezTo>
                <a:cubicBezTo>
                  <a:pt x="233" y="732"/>
                  <a:pt x="236" y="724"/>
                  <a:pt x="232" y="722"/>
                </a:cubicBezTo>
                <a:cubicBezTo>
                  <a:pt x="228" y="720"/>
                  <a:pt x="227" y="711"/>
                  <a:pt x="220" y="711"/>
                </a:cubicBezTo>
                <a:cubicBezTo>
                  <a:pt x="213" y="711"/>
                  <a:pt x="202" y="722"/>
                  <a:pt x="191" y="720"/>
                </a:cubicBezTo>
                <a:cubicBezTo>
                  <a:pt x="180" y="718"/>
                  <a:pt x="159" y="704"/>
                  <a:pt x="152" y="696"/>
                </a:cubicBezTo>
                <a:cubicBezTo>
                  <a:pt x="143" y="690"/>
                  <a:pt x="152" y="677"/>
                  <a:pt x="148" y="671"/>
                </a:cubicBezTo>
                <a:cubicBezTo>
                  <a:pt x="144" y="665"/>
                  <a:pt x="135" y="669"/>
                  <a:pt x="128" y="660"/>
                </a:cubicBezTo>
                <a:cubicBezTo>
                  <a:pt x="115" y="647"/>
                  <a:pt x="112" y="631"/>
                  <a:pt x="104" y="614"/>
                </a:cubicBezTo>
                <a:cubicBezTo>
                  <a:pt x="97" y="601"/>
                  <a:pt x="100" y="567"/>
                  <a:pt x="64" y="575"/>
                </a:cubicBezTo>
                <a:cubicBezTo>
                  <a:pt x="54" y="568"/>
                  <a:pt x="29" y="571"/>
                  <a:pt x="17" y="567"/>
                </a:cubicBezTo>
                <a:cubicBezTo>
                  <a:pt x="11" y="565"/>
                  <a:pt x="4" y="536"/>
                  <a:pt x="5" y="539"/>
                </a:cubicBezTo>
                <a:cubicBezTo>
                  <a:pt x="3" y="529"/>
                  <a:pt x="0" y="523"/>
                  <a:pt x="2" y="513"/>
                </a:cubicBezTo>
                <a:cubicBezTo>
                  <a:pt x="5" y="503"/>
                  <a:pt x="19" y="491"/>
                  <a:pt x="26" y="479"/>
                </a:cubicBezTo>
                <a:cubicBezTo>
                  <a:pt x="31" y="465"/>
                  <a:pt x="44" y="444"/>
                  <a:pt x="44" y="444"/>
                </a:cubicBezTo>
                <a:cubicBezTo>
                  <a:pt x="49" y="409"/>
                  <a:pt x="50" y="394"/>
                  <a:pt x="68" y="366"/>
                </a:cubicBezTo>
                <a:cubicBezTo>
                  <a:pt x="74" y="337"/>
                  <a:pt x="69" y="326"/>
                  <a:pt x="97" y="317"/>
                </a:cubicBezTo>
                <a:cubicBezTo>
                  <a:pt x="106" y="312"/>
                  <a:pt x="98" y="332"/>
                  <a:pt x="124" y="338"/>
                </a:cubicBezTo>
                <a:cubicBezTo>
                  <a:pt x="134" y="344"/>
                  <a:pt x="137" y="352"/>
                  <a:pt x="158" y="353"/>
                </a:cubicBezTo>
                <a:cubicBezTo>
                  <a:pt x="179" y="354"/>
                  <a:pt x="229" y="338"/>
                  <a:pt x="251" y="345"/>
                </a:cubicBezTo>
                <a:cubicBezTo>
                  <a:pt x="266" y="374"/>
                  <a:pt x="260" y="380"/>
                  <a:pt x="289" y="395"/>
                </a:cubicBezTo>
                <a:cubicBezTo>
                  <a:pt x="328" y="382"/>
                  <a:pt x="314" y="361"/>
                  <a:pt x="353" y="348"/>
                </a:cubicBezTo>
                <a:cubicBezTo>
                  <a:pt x="360" y="319"/>
                  <a:pt x="370" y="348"/>
                  <a:pt x="382" y="305"/>
                </a:cubicBezTo>
                <a:cubicBezTo>
                  <a:pt x="384" y="297"/>
                  <a:pt x="397" y="293"/>
                  <a:pt x="404" y="288"/>
                </a:cubicBezTo>
                <a:cubicBezTo>
                  <a:pt x="418" y="279"/>
                  <a:pt x="452" y="276"/>
                  <a:pt x="452" y="276"/>
                </a:cubicBezTo>
                <a:cubicBezTo>
                  <a:pt x="456" y="270"/>
                  <a:pt x="459" y="263"/>
                  <a:pt x="464" y="258"/>
                </a:cubicBezTo>
                <a:cubicBezTo>
                  <a:pt x="469" y="253"/>
                  <a:pt x="458" y="273"/>
                  <a:pt x="478" y="230"/>
                </a:cubicBezTo>
                <a:lnTo>
                  <a:pt x="499" y="216"/>
                </a:lnTo>
                <a:lnTo>
                  <a:pt x="517" y="219"/>
                </a:lnTo>
                <a:lnTo>
                  <a:pt x="524" y="192"/>
                </a:lnTo>
                <a:lnTo>
                  <a:pt x="538" y="162"/>
                </a:lnTo>
                <a:lnTo>
                  <a:pt x="560" y="150"/>
                </a:lnTo>
                <a:lnTo>
                  <a:pt x="581" y="144"/>
                </a:lnTo>
                <a:lnTo>
                  <a:pt x="587" y="114"/>
                </a:lnTo>
                <a:lnTo>
                  <a:pt x="580" y="90"/>
                </a:lnTo>
                <a:lnTo>
                  <a:pt x="551" y="63"/>
                </a:lnTo>
                <a:lnTo>
                  <a:pt x="559" y="45"/>
                </a:lnTo>
                <a:lnTo>
                  <a:pt x="581" y="20"/>
                </a:lnTo>
                <a:lnTo>
                  <a:pt x="58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7" name="Freeform 9"/>
          <p:cNvSpPr/>
          <p:nvPr/>
        </p:nvSpPr>
        <p:spPr>
          <a:xfrm>
            <a:off x="5019840" y="2954160"/>
            <a:ext cx="2100240" cy="1393920"/>
          </a:xfrm>
          <a:custGeom>
            <a:avLst/>
            <a:gdLst/>
            <a:ahLst/>
            <a:rect l="l" t="t" r="r" b="b"/>
            <a:pathLst>
              <a:path w="1323" h="878">
                <a:moveTo>
                  <a:pt x="205" y="330"/>
                </a:moveTo>
                <a:cubicBezTo>
                  <a:pt x="207" y="327"/>
                  <a:pt x="211" y="325"/>
                  <a:pt x="213" y="320"/>
                </a:cubicBezTo>
                <a:cubicBezTo>
                  <a:pt x="215" y="315"/>
                  <a:pt x="218" y="306"/>
                  <a:pt x="217" y="297"/>
                </a:cubicBezTo>
                <a:cubicBezTo>
                  <a:pt x="216" y="288"/>
                  <a:pt x="206" y="281"/>
                  <a:pt x="207" y="264"/>
                </a:cubicBezTo>
                <a:cubicBezTo>
                  <a:pt x="199" y="251"/>
                  <a:pt x="219" y="218"/>
                  <a:pt x="222" y="197"/>
                </a:cubicBezTo>
                <a:cubicBezTo>
                  <a:pt x="226" y="166"/>
                  <a:pt x="265" y="160"/>
                  <a:pt x="288" y="158"/>
                </a:cubicBezTo>
                <a:cubicBezTo>
                  <a:pt x="314" y="149"/>
                  <a:pt x="300" y="138"/>
                  <a:pt x="294" y="117"/>
                </a:cubicBezTo>
                <a:cubicBezTo>
                  <a:pt x="293" y="115"/>
                  <a:pt x="290" y="102"/>
                  <a:pt x="280" y="101"/>
                </a:cubicBezTo>
                <a:cubicBezTo>
                  <a:pt x="268" y="97"/>
                  <a:pt x="262" y="81"/>
                  <a:pt x="250" y="78"/>
                </a:cubicBezTo>
                <a:cubicBezTo>
                  <a:pt x="238" y="66"/>
                  <a:pt x="213" y="75"/>
                  <a:pt x="198" y="47"/>
                </a:cubicBezTo>
                <a:cubicBezTo>
                  <a:pt x="193" y="31"/>
                  <a:pt x="208" y="36"/>
                  <a:pt x="219" y="30"/>
                </a:cubicBezTo>
                <a:cubicBezTo>
                  <a:pt x="225" y="26"/>
                  <a:pt x="250" y="18"/>
                  <a:pt x="250" y="18"/>
                </a:cubicBezTo>
                <a:cubicBezTo>
                  <a:pt x="257" y="17"/>
                  <a:pt x="263" y="14"/>
                  <a:pt x="276" y="18"/>
                </a:cubicBezTo>
                <a:cubicBezTo>
                  <a:pt x="289" y="22"/>
                  <a:pt x="309" y="42"/>
                  <a:pt x="327" y="39"/>
                </a:cubicBezTo>
                <a:cubicBezTo>
                  <a:pt x="370" y="34"/>
                  <a:pt x="355" y="10"/>
                  <a:pt x="385" y="0"/>
                </a:cubicBezTo>
                <a:cubicBezTo>
                  <a:pt x="405" y="15"/>
                  <a:pt x="409" y="14"/>
                  <a:pt x="429" y="30"/>
                </a:cubicBezTo>
                <a:cubicBezTo>
                  <a:pt x="445" y="62"/>
                  <a:pt x="472" y="64"/>
                  <a:pt x="486" y="78"/>
                </a:cubicBezTo>
                <a:cubicBezTo>
                  <a:pt x="499" y="91"/>
                  <a:pt x="529" y="120"/>
                  <a:pt x="529" y="120"/>
                </a:cubicBezTo>
                <a:cubicBezTo>
                  <a:pt x="540" y="128"/>
                  <a:pt x="559" y="150"/>
                  <a:pt x="573" y="155"/>
                </a:cubicBezTo>
                <a:cubicBezTo>
                  <a:pt x="619" y="159"/>
                  <a:pt x="597" y="191"/>
                  <a:pt x="702" y="174"/>
                </a:cubicBezTo>
                <a:cubicBezTo>
                  <a:pt x="747" y="182"/>
                  <a:pt x="749" y="198"/>
                  <a:pt x="772" y="204"/>
                </a:cubicBezTo>
                <a:cubicBezTo>
                  <a:pt x="780" y="206"/>
                  <a:pt x="804" y="203"/>
                  <a:pt x="804" y="203"/>
                </a:cubicBezTo>
                <a:cubicBezTo>
                  <a:pt x="848" y="201"/>
                  <a:pt x="851" y="201"/>
                  <a:pt x="888" y="189"/>
                </a:cubicBezTo>
                <a:cubicBezTo>
                  <a:pt x="907" y="188"/>
                  <a:pt x="913" y="197"/>
                  <a:pt x="918" y="204"/>
                </a:cubicBezTo>
                <a:cubicBezTo>
                  <a:pt x="923" y="211"/>
                  <a:pt x="912" y="224"/>
                  <a:pt x="916" y="230"/>
                </a:cubicBezTo>
                <a:cubicBezTo>
                  <a:pt x="921" y="238"/>
                  <a:pt x="938" y="238"/>
                  <a:pt x="942" y="243"/>
                </a:cubicBezTo>
                <a:cubicBezTo>
                  <a:pt x="946" y="248"/>
                  <a:pt x="939" y="251"/>
                  <a:pt x="937" y="258"/>
                </a:cubicBezTo>
                <a:cubicBezTo>
                  <a:pt x="939" y="270"/>
                  <a:pt x="927" y="275"/>
                  <a:pt x="928" y="285"/>
                </a:cubicBezTo>
                <a:cubicBezTo>
                  <a:pt x="929" y="295"/>
                  <a:pt x="937" y="313"/>
                  <a:pt x="943" y="317"/>
                </a:cubicBezTo>
                <a:cubicBezTo>
                  <a:pt x="944" y="321"/>
                  <a:pt x="964" y="310"/>
                  <a:pt x="967" y="311"/>
                </a:cubicBezTo>
                <a:cubicBezTo>
                  <a:pt x="993" y="326"/>
                  <a:pt x="1006" y="321"/>
                  <a:pt x="1033" y="324"/>
                </a:cubicBezTo>
                <a:cubicBezTo>
                  <a:pt x="1059" y="333"/>
                  <a:pt x="1041" y="330"/>
                  <a:pt x="1071" y="345"/>
                </a:cubicBezTo>
                <a:cubicBezTo>
                  <a:pt x="1083" y="351"/>
                  <a:pt x="1096" y="361"/>
                  <a:pt x="1110" y="363"/>
                </a:cubicBezTo>
                <a:cubicBezTo>
                  <a:pt x="1121" y="367"/>
                  <a:pt x="1134" y="364"/>
                  <a:pt x="1146" y="366"/>
                </a:cubicBezTo>
                <a:cubicBezTo>
                  <a:pt x="1158" y="368"/>
                  <a:pt x="1168" y="367"/>
                  <a:pt x="1183" y="375"/>
                </a:cubicBezTo>
                <a:cubicBezTo>
                  <a:pt x="1207" y="383"/>
                  <a:pt x="1216" y="404"/>
                  <a:pt x="1237" y="414"/>
                </a:cubicBezTo>
                <a:cubicBezTo>
                  <a:pt x="1255" y="423"/>
                  <a:pt x="1280" y="406"/>
                  <a:pt x="1293" y="411"/>
                </a:cubicBezTo>
                <a:cubicBezTo>
                  <a:pt x="1306" y="416"/>
                  <a:pt x="1317" y="434"/>
                  <a:pt x="1318" y="444"/>
                </a:cubicBezTo>
                <a:cubicBezTo>
                  <a:pt x="1323" y="460"/>
                  <a:pt x="1311" y="466"/>
                  <a:pt x="1297" y="471"/>
                </a:cubicBezTo>
                <a:cubicBezTo>
                  <a:pt x="1293" y="478"/>
                  <a:pt x="1282" y="480"/>
                  <a:pt x="1279" y="488"/>
                </a:cubicBezTo>
                <a:cubicBezTo>
                  <a:pt x="1276" y="496"/>
                  <a:pt x="1266" y="510"/>
                  <a:pt x="1266" y="510"/>
                </a:cubicBezTo>
                <a:cubicBezTo>
                  <a:pt x="1261" y="554"/>
                  <a:pt x="1275" y="553"/>
                  <a:pt x="1279" y="569"/>
                </a:cubicBezTo>
                <a:cubicBezTo>
                  <a:pt x="1282" y="583"/>
                  <a:pt x="1287" y="603"/>
                  <a:pt x="1293" y="612"/>
                </a:cubicBezTo>
                <a:cubicBezTo>
                  <a:pt x="1299" y="621"/>
                  <a:pt x="1307" y="610"/>
                  <a:pt x="1312" y="621"/>
                </a:cubicBezTo>
                <a:cubicBezTo>
                  <a:pt x="1318" y="647"/>
                  <a:pt x="1320" y="639"/>
                  <a:pt x="1321" y="680"/>
                </a:cubicBezTo>
                <a:cubicBezTo>
                  <a:pt x="1318" y="688"/>
                  <a:pt x="1305" y="692"/>
                  <a:pt x="1297" y="690"/>
                </a:cubicBezTo>
                <a:cubicBezTo>
                  <a:pt x="1287" y="687"/>
                  <a:pt x="1267" y="681"/>
                  <a:pt x="1267" y="681"/>
                </a:cubicBezTo>
                <a:cubicBezTo>
                  <a:pt x="1240" y="683"/>
                  <a:pt x="1219" y="683"/>
                  <a:pt x="1206" y="711"/>
                </a:cubicBezTo>
                <a:cubicBezTo>
                  <a:pt x="1197" y="729"/>
                  <a:pt x="1173" y="760"/>
                  <a:pt x="1152" y="767"/>
                </a:cubicBezTo>
                <a:cubicBezTo>
                  <a:pt x="1136" y="781"/>
                  <a:pt x="1131" y="782"/>
                  <a:pt x="1117" y="788"/>
                </a:cubicBezTo>
                <a:cubicBezTo>
                  <a:pt x="1103" y="794"/>
                  <a:pt x="1081" y="799"/>
                  <a:pt x="1069" y="804"/>
                </a:cubicBezTo>
                <a:cubicBezTo>
                  <a:pt x="1049" y="812"/>
                  <a:pt x="1056" y="806"/>
                  <a:pt x="1044" y="816"/>
                </a:cubicBezTo>
                <a:cubicBezTo>
                  <a:pt x="1037" y="820"/>
                  <a:pt x="1033" y="827"/>
                  <a:pt x="1027" y="830"/>
                </a:cubicBezTo>
                <a:cubicBezTo>
                  <a:pt x="1021" y="833"/>
                  <a:pt x="1014" y="830"/>
                  <a:pt x="1009" y="836"/>
                </a:cubicBezTo>
                <a:cubicBezTo>
                  <a:pt x="1004" y="842"/>
                  <a:pt x="1003" y="861"/>
                  <a:pt x="996" y="866"/>
                </a:cubicBezTo>
                <a:cubicBezTo>
                  <a:pt x="989" y="870"/>
                  <a:pt x="975" y="865"/>
                  <a:pt x="967" y="869"/>
                </a:cubicBezTo>
                <a:cubicBezTo>
                  <a:pt x="956" y="870"/>
                  <a:pt x="932" y="876"/>
                  <a:pt x="922" y="872"/>
                </a:cubicBezTo>
                <a:cubicBezTo>
                  <a:pt x="912" y="868"/>
                  <a:pt x="906" y="858"/>
                  <a:pt x="904" y="843"/>
                </a:cubicBezTo>
                <a:cubicBezTo>
                  <a:pt x="895" y="827"/>
                  <a:pt x="908" y="795"/>
                  <a:pt x="907" y="780"/>
                </a:cubicBezTo>
                <a:cubicBezTo>
                  <a:pt x="906" y="765"/>
                  <a:pt x="904" y="754"/>
                  <a:pt x="897" y="753"/>
                </a:cubicBezTo>
                <a:cubicBezTo>
                  <a:pt x="867" y="761"/>
                  <a:pt x="881" y="755"/>
                  <a:pt x="865" y="771"/>
                </a:cubicBezTo>
                <a:cubicBezTo>
                  <a:pt x="857" y="779"/>
                  <a:pt x="837" y="769"/>
                  <a:pt x="826" y="771"/>
                </a:cubicBezTo>
                <a:cubicBezTo>
                  <a:pt x="813" y="772"/>
                  <a:pt x="813" y="764"/>
                  <a:pt x="807" y="761"/>
                </a:cubicBezTo>
                <a:cubicBezTo>
                  <a:pt x="801" y="758"/>
                  <a:pt x="797" y="755"/>
                  <a:pt x="790" y="755"/>
                </a:cubicBezTo>
                <a:cubicBezTo>
                  <a:pt x="783" y="755"/>
                  <a:pt x="771" y="761"/>
                  <a:pt x="763" y="762"/>
                </a:cubicBezTo>
                <a:cubicBezTo>
                  <a:pt x="755" y="759"/>
                  <a:pt x="739" y="761"/>
                  <a:pt x="739" y="761"/>
                </a:cubicBezTo>
                <a:cubicBezTo>
                  <a:pt x="708" y="764"/>
                  <a:pt x="704" y="777"/>
                  <a:pt x="681" y="785"/>
                </a:cubicBezTo>
                <a:cubicBezTo>
                  <a:pt x="660" y="782"/>
                  <a:pt x="636" y="769"/>
                  <a:pt x="618" y="758"/>
                </a:cubicBezTo>
                <a:cubicBezTo>
                  <a:pt x="600" y="747"/>
                  <a:pt x="584" y="727"/>
                  <a:pt x="574" y="719"/>
                </a:cubicBezTo>
                <a:cubicBezTo>
                  <a:pt x="564" y="711"/>
                  <a:pt x="563" y="714"/>
                  <a:pt x="555" y="710"/>
                </a:cubicBezTo>
                <a:cubicBezTo>
                  <a:pt x="528" y="699"/>
                  <a:pt x="538" y="696"/>
                  <a:pt x="526" y="695"/>
                </a:cubicBezTo>
                <a:cubicBezTo>
                  <a:pt x="514" y="694"/>
                  <a:pt x="499" y="704"/>
                  <a:pt x="484" y="702"/>
                </a:cubicBezTo>
                <a:cubicBezTo>
                  <a:pt x="471" y="698"/>
                  <a:pt x="460" y="701"/>
                  <a:pt x="438" y="684"/>
                </a:cubicBezTo>
                <a:cubicBezTo>
                  <a:pt x="430" y="681"/>
                  <a:pt x="414" y="692"/>
                  <a:pt x="414" y="692"/>
                </a:cubicBezTo>
                <a:cubicBezTo>
                  <a:pt x="404" y="693"/>
                  <a:pt x="391" y="686"/>
                  <a:pt x="382" y="689"/>
                </a:cubicBezTo>
                <a:cubicBezTo>
                  <a:pt x="373" y="692"/>
                  <a:pt x="358" y="699"/>
                  <a:pt x="358" y="708"/>
                </a:cubicBezTo>
                <a:cubicBezTo>
                  <a:pt x="381" y="720"/>
                  <a:pt x="384" y="732"/>
                  <a:pt x="385" y="741"/>
                </a:cubicBezTo>
                <a:cubicBezTo>
                  <a:pt x="386" y="750"/>
                  <a:pt x="373" y="759"/>
                  <a:pt x="364" y="764"/>
                </a:cubicBezTo>
                <a:cubicBezTo>
                  <a:pt x="355" y="769"/>
                  <a:pt x="344" y="769"/>
                  <a:pt x="331" y="770"/>
                </a:cubicBezTo>
                <a:cubicBezTo>
                  <a:pt x="318" y="771"/>
                  <a:pt x="297" y="769"/>
                  <a:pt x="286" y="771"/>
                </a:cubicBezTo>
                <a:cubicBezTo>
                  <a:pt x="269" y="780"/>
                  <a:pt x="271" y="781"/>
                  <a:pt x="264" y="782"/>
                </a:cubicBezTo>
                <a:cubicBezTo>
                  <a:pt x="257" y="783"/>
                  <a:pt x="256" y="776"/>
                  <a:pt x="246" y="779"/>
                </a:cubicBezTo>
                <a:cubicBezTo>
                  <a:pt x="236" y="782"/>
                  <a:pt x="216" y="796"/>
                  <a:pt x="205" y="798"/>
                </a:cubicBezTo>
                <a:cubicBezTo>
                  <a:pt x="194" y="800"/>
                  <a:pt x="185" y="793"/>
                  <a:pt x="178" y="794"/>
                </a:cubicBezTo>
                <a:cubicBezTo>
                  <a:pt x="158" y="800"/>
                  <a:pt x="170" y="795"/>
                  <a:pt x="163" y="803"/>
                </a:cubicBezTo>
                <a:cubicBezTo>
                  <a:pt x="156" y="811"/>
                  <a:pt x="139" y="833"/>
                  <a:pt x="135" y="845"/>
                </a:cubicBezTo>
                <a:cubicBezTo>
                  <a:pt x="131" y="851"/>
                  <a:pt x="142" y="871"/>
                  <a:pt x="136" y="876"/>
                </a:cubicBezTo>
                <a:cubicBezTo>
                  <a:pt x="133" y="878"/>
                  <a:pt x="113" y="861"/>
                  <a:pt x="112" y="860"/>
                </a:cubicBezTo>
                <a:cubicBezTo>
                  <a:pt x="85" y="836"/>
                  <a:pt x="96" y="854"/>
                  <a:pt x="73" y="843"/>
                </a:cubicBezTo>
                <a:cubicBezTo>
                  <a:pt x="56" y="817"/>
                  <a:pt x="65" y="832"/>
                  <a:pt x="69" y="798"/>
                </a:cubicBezTo>
                <a:cubicBezTo>
                  <a:pt x="68" y="783"/>
                  <a:pt x="61" y="776"/>
                  <a:pt x="57" y="762"/>
                </a:cubicBezTo>
                <a:cubicBezTo>
                  <a:pt x="56" y="758"/>
                  <a:pt x="49" y="753"/>
                  <a:pt x="45" y="752"/>
                </a:cubicBezTo>
                <a:cubicBezTo>
                  <a:pt x="31" y="747"/>
                  <a:pt x="22" y="737"/>
                  <a:pt x="7" y="732"/>
                </a:cubicBezTo>
                <a:cubicBezTo>
                  <a:pt x="0" y="725"/>
                  <a:pt x="1" y="719"/>
                  <a:pt x="3" y="710"/>
                </a:cubicBezTo>
                <a:cubicBezTo>
                  <a:pt x="5" y="701"/>
                  <a:pt x="19" y="686"/>
                  <a:pt x="22" y="675"/>
                </a:cubicBezTo>
                <a:cubicBezTo>
                  <a:pt x="23" y="660"/>
                  <a:pt x="20" y="651"/>
                  <a:pt x="19" y="642"/>
                </a:cubicBezTo>
                <a:cubicBezTo>
                  <a:pt x="18" y="632"/>
                  <a:pt x="17" y="625"/>
                  <a:pt x="19" y="617"/>
                </a:cubicBezTo>
                <a:cubicBezTo>
                  <a:pt x="24" y="607"/>
                  <a:pt x="19" y="597"/>
                  <a:pt x="30" y="596"/>
                </a:cubicBezTo>
                <a:cubicBezTo>
                  <a:pt x="51" y="594"/>
                  <a:pt x="81" y="576"/>
                  <a:pt x="102" y="575"/>
                </a:cubicBezTo>
                <a:cubicBezTo>
                  <a:pt x="118" y="568"/>
                  <a:pt x="130" y="583"/>
                  <a:pt x="144" y="581"/>
                </a:cubicBezTo>
                <a:cubicBezTo>
                  <a:pt x="158" y="579"/>
                  <a:pt x="169" y="567"/>
                  <a:pt x="184" y="563"/>
                </a:cubicBezTo>
                <a:cubicBezTo>
                  <a:pt x="206" y="554"/>
                  <a:pt x="224" y="559"/>
                  <a:pt x="237" y="555"/>
                </a:cubicBezTo>
                <a:cubicBezTo>
                  <a:pt x="250" y="551"/>
                  <a:pt x="254" y="545"/>
                  <a:pt x="262" y="540"/>
                </a:cubicBezTo>
                <a:cubicBezTo>
                  <a:pt x="270" y="536"/>
                  <a:pt x="278" y="526"/>
                  <a:pt x="286" y="522"/>
                </a:cubicBezTo>
                <a:cubicBezTo>
                  <a:pt x="290" y="520"/>
                  <a:pt x="295" y="510"/>
                  <a:pt x="295" y="510"/>
                </a:cubicBezTo>
                <a:cubicBezTo>
                  <a:pt x="305" y="495"/>
                  <a:pt x="314" y="487"/>
                  <a:pt x="322" y="471"/>
                </a:cubicBezTo>
                <a:cubicBezTo>
                  <a:pt x="325" y="456"/>
                  <a:pt x="323" y="441"/>
                  <a:pt x="316" y="429"/>
                </a:cubicBezTo>
                <a:cubicBezTo>
                  <a:pt x="309" y="417"/>
                  <a:pt x="294" y="412"/>
                  <a:pt x="282" y="401"/>
                </a:cubicBezTo>
                <a:cubicBezTo>
                  <a:pt x="268" y="384"/>
                  <a:pt x="255" y="373"/>
                  <a:pt x="244" y="365"/>
                </a:cubicBezTo>
                <a:cubicBezTo>
                  <a:pt x="233" y="357"/>
                  <a:pt x="223" y="357"/>
                  <a:pt x="216" y="351"/>
                </a:cubicBezTo>
                <a:cubicBezTo>
                  <a:pt x="209" y="345"/>
                  <a:pt x="204" y="333"/>
                  <a:pt x="202" y="330"/>
                </a:cubicBezTo>
                <a:cubicBezTo>
                  <a:pt x="196" y="311"/>
                  <a:pt x="209" y="326"/>
                  <a:pt x="205" y="33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8" name="Freeform 10"/>
          <p:cNvSpPr/>
          <p:nvPr/>
        </p:nvSpPr>
        <p:spPr>
          <a:xfrm>
            <a:off x="5126040" y="4033800"/>
            <a:ext cx="1522440" cy="1724040"/>
          </a:xfrm>
          <a:custGeom>
            <a:avLst/>
            <a:gdLst/>
            <a:ahLst/>
            <a:rect l="l" t="t" r="r" b="b"/>
            <a:pathLst>
              <a:path w="959" h="1086">
                <a:moveTo>
                  <a:pt x="78" y="340"/>
                </a:moveTo>
                <a:cubicBezTo>
                  <a:pt x="82" y="351"/>
                  <a:pt x="80" y="351"/>
                  <a:pt x="87" y="361"/>
                </a:cubicBezTo>
                <a:cubicBezTo>
                  <a:pt x="90" y="369"/>
                  <a:pt x="99" y="373"/>
                  <a:pt x="99" y="385"/>
                </a:cubicBezTo>
                <a:cubicBezTo>
                  <a:pt x="99" y="397"/>
                  <a:pt x="87" y="416"/>
                  <a:pt x="90" y="432"/>
                </a:cubicBezTo>
                <a:cubicBezTo>
                  <a:pt x="91" y="445"/>
                  <a:pt x="112" y="468"/>
                  <a:pt x="116" y="481"/>
                </a:cubicBezTo>
                <a:cubicBezTo>
                  <a:pt x="115" y="488"/>
                  <a:pt x="112" y="508"/>
                  <a:pt x="108" y="514"/>
                </a:cubicBezTo>
                <a:cubicBezTo>
                  <a:pt x="101" y="526"/>
                  <a:pt x="89" y="526"/>
                  <a:pt x="78" y="529"/>
                </a:cubicBezTo>
                <a:cubicBezTo>
                  <a:pt x="59" y="535"/>
                  <a:pt x="46" y="547"/>
                  <a:pt x="32" y="561"/>
                </a:cubicBezTo>
                <a:cubicBezTo>
                  <a:pt x="20" y="573"/>
                  <a:pt x="9" y="578"/>
                  <a:pt x="3" y="595"/>
                </a:cubicBezTo>
                <a:cubicBezTo>
                  <a:pt x="2" y="598"/>
                  <a:pt x="0" y="604"/>
                  <a:pt x="0" y="604"/>
                </a:cubicBezTo>
                <a:cubicBezTo>
                  <a:pt x="4" y="618"/>
                  <a:pt x="7" y="623"/>
                  <a:pt x="21" y="628"/>
                </a:cubicBezTo>
                <a:cubicBezTo>
                  <a:pt x="35" y="629"/>
                  <a:pt x="64" y="616"/>
                  <a:pt x="78" y="616"/>
                </a:cubicBezTo>
                <a:cubicBezTo>
                  <a:pt x="92" y="616"/>
                  <a:pt x="99" y="618"/>
                  <a:pt x="104" y="627"/>
                </a:cubicBezTo>
                <a:cubicBezTo>
                  <a:pt x="92" y="645"/>
                  <a:pt x="109" y="656"/>
                  <a:pt x="107" y="673"/>
                </a:cubicBezTo>
                <a:cubicBezTo>
                  <a:pt x="105" y="690"/>
                  <a:pt x="89" y="714"/>
                  <a:pt x="89" y="729"/>
                </a:cubicBezTo>
                <a:cubicBezTo>
                  <a:pt x="93" y="751"/>
                  <a:pt x="82" y="748"/>
                  <a:pt x="104" y="763"/>
                </a:cubicBezTo>
                <a:cubicBezTo>
                  <a:pt x="107" y="765"/>
                  <a:pt x="114" y="763"/>
                  <a:pt x="114" y="763"/>
                </a:cubicBezTo>
                <a:cubicBezTo>
                  <a:pt x="118" y="770"/>
                  <a:pt x="129" y="778"/>
                  <a:pt x="135" y="792"/>
                </a:cubicBezTo>
                <a:cubicBezTo>
                  <a:pt x="141" y="806"/>
                  <a:pt x="142" y="839"/>
                  <a:pt x="147" y="849"/>
                </a:cubicBezTo>
                <a:cubicBezTo>
                  <a:pt x="152" y="859"/>
                  <a:pt x="156" y="852"/>
                  <a:pt x="165" y="850"/>
                </a:cubicBezTo>
                <a:cubicBezTo>
                  <a:pt x="193" y="846"/>
                  <a:pt x="177" y="840"/>
                  <a:pt x="201" y="834"/>
                </a:cubicBezTo>
                <a:cubicBezTo>
                  <a:pt x="202" y="824"/>
                  <a:pt x="204" y="802"/>
                  <a:pt x="207" y="793"/>
                </a:cubicBezTo>
                <a:cubicBezTo>
                  <a:pt x="211" y="782"/>
                  <a:pt x="243" y="803"/>
                  <a:pt x="254" y="807"/>
                </a:cubicBezTo>
                <a:cubicBezTo>
                  <a:pt x="265" y="803"/>
                  <a:pt x="281" y="795"/>
                  <a:pt x="281" y="795"/>
                </a:cubicBezTo>
                <a:cubicBezTo>
                  <a:pt x="292" y="778"/>
                  <a:pt x="316" y="790"/>
                  <a:pt x="333" y="796"/>
                </a:cubicBezTo>
                <a:cubicBezTo>
                  <a:pt x="344" y="795"/>
                  <a:pt x="325" y="794"/>
                  <a:pt x="336" y="792"/>
                </a:cubicBezTo>
                <a:cubicBezTo>
                  <a:pt x="343" y="791"/>
                  <a:pt x="350" y="789"/>
                  <a:pt x="357" y="787"/>
                </a:cubicBezTo>
                <a:cubicBezTo>
                  <a:pt x="364" y="785"/>
                  <a:pt x="373" y="782"/>
                  <a:pt x="378" y="778"/>
                </a:cubicBezTo>
                <a:cubicBezTo>
                  <a:pt x="384" y="775"/>
                  <a:pt x="380" y="763"/>
                  <a:pt x="387" y="762"/>
                </a:cubicBezTo>
                <a:cubicBezTo>
                  <a:pt x="395" y="760"/>
                  <a:pt x="400" y="750"/>
                  <a:pt x="410" y="751"/>
                </a:cubicBezTo>
                <a:cubicBezTo>
                  <a:pt x="420" y="752"/>
                  <a:pt x="439" y="764"/>
                  <a:pt x="446" y="771"/>
                </a:cubicBezTo>
                <a:cubicBezTo>
                  <a:pt x="452" y="774"/>
                  <a:pt x="450" y="781"/>
                  <a:pt x="450" y="792"/>
                </a:cubicBezTo>
                <a:cubicBezTo>
                  <a:pt x="450" y="803"/>
                  <a:pt x="448" y="823"/>
                  <a:pt x="447" y="835"/>
                </a:cubicBezTo>
                <a:cubicBezTo>
                  <a:pt x="447" y="846"/>
                  <a:pt x="443" y="854"/>
                  <a:pt x="441" y="867"/>
                </a:cubicBezTo>
                <a:cubicBezTo>
                  <a:pt x="442" y="875"/>
                  <a:pt x="453" y="878"/>
                  <a:pt x="452" y="886"/>
                </a:cubicBezTo>
                <a:cubicBezTo>
                  <a:pt x="451" y="894"/>
                  <a:pt x="447" y="896"/>
                  <a:pt x="438" y="913"/>
                </a:cubicBezTo>
                <a:cubicBezTo>
                  <a:pt x="424" y="940"/>
                  <a:pt x="407" y="958"/>
                  <a:pt x="399" y="988"/>
                </a:cubicBezTo>
                <a:cubicBezTo>
                  <a:pt x="396" y="1020"/>
                  <a:pt x="380" y="1059"/>
                  <a:pt x="422" y="1053"/>
                </a:cubicBezTo>
                <a:cubicBezTo>
                  <a:pt x="443" y="1046"/>
                  <a:pt x="447" y="1013"/>
                  <a:pt x="468" y="1006"/>
                </a:cubicBezTo>
                <a:cubicBezTo>
                  <a:pt x="475" y="1004"/>
                  <a:pt x="475" y="1017"/>
                  <a:pt x="476" y="1026"/>
                </a:cubicBezTo>
                <a:cubicBezTo>
                  <a:pt x="477" y="1035"/>
                  <a:pt x="475" y="1054"/>
                  <a:pt x="477" y="1063"/>
                </a:cubicBezTo>
                <a:cubicBezTo>
                  <a:pt x="482" y="1074"/>
                  <a:pt x="481" y="1078"/>
                  <a:pt x="488" y="1081"/>
                </a:cubicBezTo>
                <a:cubicBezTo>
                  <a:pt x="495" y="1084"/>
                  <a:pt x="509" y="1086"/>
                  <a:pt x="519" y="1084"/>
                </a:cubicBezTo>
                <a:cubicBezTo>
                  <a:pt x="539" y="1079"/>
                  <a:pt x="538" y="1085"/>
                  <a:pt x="548" y="1072"/>
                </a:cubicBezTo>
                <a:cubicBezTo>
                  <a:pt x="556" y="1069"/>
                  <a:pt x="561" y="1069"/>
                  <a:pt x="567" y="1068"/>
                </a:cubicBezTo>
                <a:cubicBezTo>
                  <a:pt x="573" y="1067"/>
                  <a:pt x="577" y="1072"/>
                  <a:pt x="582" y="1065"/>
                </a:cubicBezTo>
                <a:cubicBezTo>
                  <a:pt x="587" y="1050"/>
                  <a:pt x="591" y="1036"/>
                  <a:pt x="599" y="1026"/>
                </a:cubicBezTo>
                <a:cubicBezTo>
                  <a:pt x="603" y="1014"/>
                  <a:pt x="603" y="1009"/>
                  <a:pt x="615" y="1005"/>
                </a:cubicBezTo>
                <a:cubicBezTo>
                  <a:pt x="629" y="1006"/>
                  <a:pt x="627" y="963"/>
                  <a:pt x="653" y="1006"/>
                </a:cubicBezTo>
                <a:cubicBezTo>
                  <a:pt x="666" y="1024"/>
                  <a:pt x="669" y="1006"/>
                  <a:pt x="680" y="1017"/>
                </a:cubicBezTo>
                <a:cubicBezTo>
                  <a:pt x="692" y="1038"/>
                  <a:pt x="698" y="1038"/>
                  <a:pt x="717" y="1041"/>
                </a:cubicBezTo>
                <a:cubicBezTo>
                  <a:pt x="743" y="1044"/>
                  <a:pt x="735" y="1024"/>
                  <a:pt x="738" y="1015"/>
                </a:cubicBezTo>
                <a:cubicBezTo>
                  <a:pt x="741" y="1006"/>
                  <a:pt x="734" y="994"/>
                  <a:pt x="738" y="984"/>
                </a:cubicBezTo>
                <a:cubicBezTo>
                  <a:pt x="743" y="960"/>
                  <a:pt x="747" y="958"/>
                  <a:pt x="761" y="952"/>
                </a:cubicBezTo>
                <a:cubicBezTo>
                  <a:pt x="775" y="946"/>
                  <a:pt x="808" y="950"/>
                  <a:pt x="824" y="946"/>
                </a:cubicBezTo>
                <a:cubicBezTo>
                  <a:pt x="840" y="942"/>
                  <a:pt x="849" y="926"/>
                  <a:pt x="858" y="925"/>
                </a:cubicBezTo>
                <a:cubicBezTo>
                  <a:pt x="867" y="924"/>
                  <a:pt x="873" y="935"/>
                  <a:pt x="881" y="937"/>
                </a:cubicBezTo>
                <a:cubicBezTo>
                  <a:pt x="889" y="939"/>
                  <a:pt x="900" y="945"/>
                  <a:pt x="905" y="936"/>
                </a:cubicBezTo>
                <a:cubicBezTo>
                  <a:pt x="929" y="915"/>
                  <a:pt x="920" y="906"/>
                  <a:pt x="909" y="883"/>
                </a:cubicBezTo>
                <a:cubicBezTo>
                  <a:pt x="910" y="874"/>
                  <a:pt x="900" y="853"/>
                  <a:pt x="911" y="844"/>
                </a:cubicBezTo>
                <a:cubicBezTo>
                  <a:pt x="931" y="828"/>
                  <a:pt x="947" y="820"/>
                  <a:pt x="959" y="790"/>
                </a:cubicBezTo>
                <a:cubicBezTo>
                  <a:pt x="953" y="767"/>
                  <a:pt x="936" y="792"/>
                  <a:pt x="917" y="754"/>
                </a:cubicBezTo>
                <a:cubicBezTo>
                  <a:pt x="924" y="744"/>
                  <a:pt x="938" y="736"/>
                  <a:pt x="948" y="729"/>
                </a:cubicBezTo>
                <a:cubicBezTo>
                  <a:pt x="950" y="722"/>
                  <a:pt x="952" y="701"/>
                  <a:pt x="944" y="696"/>
                </a:cubicBezTo>
                <a:cubicBezTo>
                  <a:pt x="934" y="689"/>
                  <a:pt x="909" y="682"/>
                  <a:pt x="909" y="682"/>
                </a:cubicBezTo>
                <a:cubicBezTo>
                  <a:pt x="903" y="672"/>
                  <a:pt x="903" y="669"/>
                  <a:pt x="899" y="658"/>
                </a:cubicBezTo>
                <a:cubicBezTo>
                  <a:pt x="896" y="646"/>
                  <a:pt x="882" y="629"/>
                  <a:pt x="882" y="615"/>
                </a:cubicBezTo>
                <a:cubicBezTo>
                  <a:pt x="882" y="601"/>
                  <a:pt x="898" y="584"/>
                  <a:pt x="897" y="574"/>
                </a:cubicBezTo>
                <a:cubicBezTo>
                  <a:pt x="895" y="558"/>
                  <a:pt x="883" y="556"/>
                  <a:pt x="876" y="552"/>
                </a:cubicBezTo>
                <a:cubicBezTo>
                  <a:pt x="869" y="548"/>
                  <a:pt x="860" y="554"/>
                  <a:pt x="855" y="547"/>
                </a:cubicBezTo>
                <a:cubicBezTo>
                  <a:pt x="850" y="540"/>
                  <a:pt x="843" y="523"/>
                  <a:pt x="843" y="511"/>
                </a:cubicBezTo>
                <a:cubicBezTo>
                  <a:pt x="840" y="498"/>
                  <a:pt x="844" y="483"/>
                  <a:pt x="855" y="474"/>
                </a:cubicBezTo>
                <a:cubicBezTo>
                  <a:pt x="875" y="475"/>
                  <a:pt x="877" y="467"/>
                  <a:pt x="884" y="445"/>
                </a:cubicBezTo>
                <a:cubicBezTo>
                  <a:pt x="889" y="430"/>
                  <a:pt x="904" y="405"/>
                  <a:pt x="915" y="394"/>
                </a:cubicBezTo>
                <a:cubicBezTo>
                  <a:pt x="920" y="382"/>
                  <a:pt x="931" y="381"/>
                  <a:pt x="932" y="370"/>
                </a:cubicBezTo>
                <a:cubicBezTo>
                  <a:pt x="933" y="359"/>
                  <a:pt x="921" y="340"/>
                  <a:pt x="920" y="325"/>
                </a:cubicBezTo>
                <a:cubicBezTo>
                  <a:pt x="919" y="310"/>
                  <a:pt x="926" y="294"/>
                  <a:pt x="924" y="280"/>
                </a:cubicBezTo>
                <a:cubicBezTo>
                  <a:pt x="920" y="267"/>
                  <a:pt x="913" y="255"/>
                  <a:pt x="909" y="241"/>
                </a:cubicBezTo>
                <a:cubicBezTo>
                  <a:pt x="907" y="235"/>
                  <a:pt x="912" y="226"/>
                  <a:pt x="912" y="226"/>
                </a:cubicBezTo>
                <a:cubicBezTo>
                  <a:pt x="916" y="213"/>
                  <a:pt x="916" y="212"/>
                  <a:pt x="927" y="205"/>
                </a:cubicBezTo>
                <a:cubicBezTo>
                  <a:pt x="942" y="175"/>
                  <a:pt x="904" y="191"/>
                  <a:pt x="888" y="193"/>
                </a:cubicBezTo>
                <a:cubicBezTo>
                  <a:pt x="874" y="192"/>
                  <a:pt x="856" y="197"/>
                  <a:pt x="846" y="187"/>
                </a:cubicBezTo>
                <a:cubicBezTo>
                  <a:pt x="841" y="182"/>
                  <a:pt x="834" y="169"/>
                  <a:pt x="834" y="169"/>
                </a:cubicBezTo>
                <a:cubicBezTo>
                  <a:pt x="826" y="136"/>
                  <a:pt x="854" y="93"/>
                  <a:pt x="828" y="73"/>
                </a:cubicBezTo>
                <a:cubicBezTo>
                  <a:pt x="797" y="94"/>
                  <a:pt x="789" y="89"/>
                  <a:pt x="771" y="94"/>
                </a:cubicBezTo>
                <a:cubicBezTo>
                  <a:pt x="741" y="91"/>
                  <a:pt x="734" y="66"/>
                  <a:pt x="695" y="78"/>
                </a:cubicBezTo>
                <a:cubicBezTo>
                  <a:pt x="664" y="82"/>
                  <a:pt x="658" y="83"/>
                  <a:pt x="633" y="94"/>
                </a:cubicBezTo>
                <a:cubicBezTo>
                  <a:pt x="624" y="98"/>
                  <a:pt x="606" y="103"/>
                  <a:pt x="606" y="103"/>
                </a:cubicBezTo>
                <a:cubicBezTo>
                  <a:pt x="598" y="104"/>
                  <a:pt x="594" y="98"/>
                  <a:pt x="588" y="96"/>
                </a:cubicBezTo>
                <a:cubicBezTo>
                  <a:pt x="582" y="94"/>
                  <a:pt x="581" y="98"/>
                  <a:pt x="572" y="93"/>
                </a:cubicBezTo>
                <a:cubicBezTo>
                  <a:pt x="563" y="88"/>
                  <a:pt x="552" y="79"/>
                  <a:pt x="534" y="66"/>
                </a:cubicBezTo>
                <a:cubicBezTo>
                  <a:pt x="516" y="40"/>
                  <a:pt x="476" y="17"/>
                  <a:pt x="464" y="16"/>
                </a:cubicBezTo>
                <a:cubicBezTo>
                  <a:pt x="432" y="22"/>
                  <a:pt x="430" y="19"/>
                  <a:pt x="408" y="18"/>
                </a:cubicBezTo>
                <a:cubicBezTo>
                  <a:pt x="386" y="24"/>
                  <a:pt x="382" y="2"/>
                  <a:pt x="371" y="1"/>
                </a:cubicBezTo>
                <a:cubicBezTo>
                  <a:pt x="360" y="0"/>
                  <a:pt x="352" y="8"/>
                  <a:pt x="342" y="9"/>
                </a:cubicBezTo>
                <a:cubicBezTo>
                  <a:pt x="321" y="13"/>
                  <a:pt x="331" y="1"/>
                  <a:pt x="308" y="9"/>
                </a:cubicBezTo>
                <a:cubicBezTo>
                  <a:pt x="300" y="11"/>
                  <a:pt x="292" y="17"/>
                  <a:pt x="293" y="27"/>
                </a:cubicBezTo>
                <a:cubicBezTo>
                  <a:pt x="294" y="37"/>
                  <a:pt x="324" y="36"/>
                  <a:pt x="315" y="70"/>
                </a:cubicBezTo>
                <a:cubicBezTo>
                  <a:pt x="307" y="79"/>
                  <a:pt x="294" y="84"/>
                  <a:pt x="287" y="87"/>
                </a:cubicBezTo>
                <a:cubicBezTo>
                  <a:pt x="280" y="90"/>
                  <a:pt x="277" y="87"/>
                  <a:pt x="270" y="88"/>
                </a:cubicBezTo>
                <a:cubicBezTo>
                  <a:pt x="263" y="89"/>
                  <a:pt x="249" y="90"/>
                  <a:pt x="242" y="91"/>
                </a:cubicBezTo>
                <a:cubicBezTo>
                  <a:pt x="235" y="92"/>
                  <a:pt x="232" y="90"/>
                  <a:pt x="228" y="91"/>
                </a:cubicBezTo>
                <a:cubicBezTo>
                  <a:pt x="224" y="92"/>
                  <a:pt x="220" y="95"/>
                  <a:pt x="216" y="96"/>
                </a:cubicBezTo>
                <a:cubicBezTo>
                  <a:pt x="212" y="97"/>
                  <a:pt x="209" y="100"/>
                  <a:pt x="203" y="100"/>
                </a:cubicBezTo>
                <a:cubicBezTo>
                  <a:pt x="197" y="100"/>
                  <a:pt x="197" y="94"/>
                  <a:pt x="182" y="96"/>
                </a:cubicBezTo>
                <a:cubicBezTo>
                  <a:pt x="120" y="136"/>
                  <a:pt x="137" y="109"/>
                  <a:pt x="114" y="115"/>
                </a:cubicBezTo>
                <a:cubicBezTo>
                  <a:pt x="102" y="117"/>
                  <a:pt x="89" y="126"/>
                  <a:pt x="69" y="156"/>
                </a:cubicBezTo>
                <a:cubicBezTo>
                  <a:pt x="60" y="170"/>
                  <a:pt x="72" y="175"/>
                  <a:pt x="74" y="187"/>
                </a:cubicBezTo>
                <a:cubicBezTo>
                  <a:pt x="76" y="199"/>
                  <a:pt x="77" y="207"/>
                  <a:pt x="81" y="226"/>
                </a:cubicBezTo>
                <a:cubicBezTo>
                  <a:pt x="84" y="248"/>
                  <a:pt x="98" y="286"/>
                  <a:pt x="98" y="304"/>
                </a:cubicBezTo>
                <a:cubicBezTo>
                  <a:pt x="100" y="319"/>
                  <a:pt x="95" y="314"/>
                  <a:pt x="92" y="319"/>
                </a:cubicBezTo>
                <a:cubicBezTo>
                  <a:pt x="89" y="324"/>
                  <a:pt x="83" y="330"/>
                  <a:pt x="81" y="334"/>
                </a:cubicBezTo>
                <a:cubicBezTo>
                  <a:pt x="80" y="346"/>
                  <a:pt x="69" y="331"/>
                  <a:pt x="78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6461280" y="3989520"/>
            <a:ext cx="1323720" cy="1787400"/>
          </a:xfrm>
          <a:custGeom>
            <a:avLst/>
            <a:gdLst/>
            <a:ahLst/>
            <a:rect l="l" t="t" r="r" b="b"/>
            <a:pathLst>
              <a:path w="834" h="1126">
                <a:moveTo>
                  <a:pt x="74" y="956"/>
                </a:moveTo>
                <a:cubicBezTo>
                  <a:pt x="106" y="952"/>
                  <a:pt x="90" y="954"/>
                  <a:pt x="113" y="946"/>
                </a:cubicBezTo>
                <a:cubicBezTo>
                  <a:pt x="168" y="949"/>
                  <a:pt x="187" y="943"/>
                  <a:pt x="220" y="976"/>
                </a:cubicBezTo>
                <a:cubicBezTo>
                  <a:pt x="225" y="990"/>
                  <a:pt x="214" y="1009"/>
                  <a:pt x="203" y="1022"/>
                </a:cubicBezTo>
                <a:cubicBezTo>
                  <a:pt x="199" y="1027"/>
                  <a:pt x="182" y="1034"/>
                  <a:pt x="176" y="1037"/>
                </a:cubicBezTo>
                <a:cubicBezTo>
                  <a:pt x="170" y="1040"/>
                  <a:pt x="158" y="1043"/>
                  <a:pt x="158" y="1043"/>
                </a:cubicBezTo>
                <a:cubicBezTo>
                  <a:pt x="152" y="1052"/>
                  <a:pt x="157" y="1060"/>
                  <a:pt x="151" y="1069"/>
                </a:cubicBezTo>
                <a:cubicBezTo>
                  <a:pt x="149" y="1078"/>
                  <a:pt x="135" y="1102"/>
                  <a:pt x="143" y="1108"/>
                </a:cubicBezTo>
                <a:cubicBezTo>
                  <a:pt x="151" y="1114"/>
                  <a:pt x="182" y="1103"/>
                  <a:pt x="197" y="1105"/>
                </a:cubicBezTo>
                <a:cubicBezTo>
                  <a:pt x="205" y="1110"/>
                  <a:pt x="232" y="1121"/>
                  <a:pt x="232" y="1121"/>
                </a:cubicBezTo>
                <a:cubicBezTo>
                  <a:pt x="256" y="1106"/>
                  <a:pt x="291" y="1098"/>
                  <a:pt x="314" y="1096"/>
                </a:cubicBezTo>
                <a:cubicBezTo>
                  <a:pt x="335" y="1096"/>
                  <a:pt x="346" y="1121"/>
                  <a:pt x="358" y="1124"/>
                </a:cubicBezTo>
                <a:cubicBezTo>
                  <a:pt x="369" y="1126"/>
                  <a:pt x="373" y="1116"/>
                  <a:pt x="382" y="1111"/>
                </a:cubicBezTo>
                <a:cubicBezTo>
                  <a:pt x="399" y="1107"/>
                  <a:pt x="400" y="1110"/>
                  <a:pt x="413" y="1097"/>
                </a:cubicBezTo>
                <a:cubicBezTo>
                  <a:pt x="416" y="1087"/>
                  <a:pt x="427" y="1057"/>
                  <a:pt x="427" y="1057"/>
                </a:cubicBezTo>
                <a:cubicBezTo>
                  <a:pt x="427" y="1042"/>
                  <a:pt x="409" y="1017"/>
                  <a:pt x="409" y="1003"/>
                </a:cubicBezTo>
                <a:cubicBezTo>
                  <a:pt x="409" y="989"/>
                  <a:pt x="424" y="979"/>
                  <a:pt x="430" y="974"/>
                </a:cubicBezTo>
                <a:cubicBezTo>
                  <a:pt x="436" y="969"/>
                  <a:pt x="440" y="974"/>
                  <a:pt x="448" y="970"/>
                </a:cubicBezTo>
                <a:cubicBezTo>
                  <a:pt x="450" y="924"/>
                  <a:pt x="452" y="977"/>
                  <a:pt x="457" y="892"/>
                </a:cubicBezTo>
                <a:cubicBezTo>
                  <a:pt x="457" y="865"/>
                  <a:pt x="454" y="867"/>
                  <a:pt x="467" y="850"/>
                </a:cubicBezTo>
                <a:cubicBezTo>
                  <a:pt x="523" y="785"/>
                  <a:pt x="486" y="799"/>
                  <a:pt x="494" y="785"/>
                </a:cubicBezTo>
                <a:cubicBezTo>
                  <a:pt x="500" y="771"/>
                  <a:pt x="503" y="773"/>
                  <a:pt x="505" y="767"/>
                </a:cubicBezTo>
                <a:cubicBezTo>
                  <a:pt x="507" y="761"/>
                  <a:pt x="504" y="770"/>
                  <a:pt x="506" y="749"/>
                </a:cubicBezTo>
                <a:cubicBezTo>
                  <a:pt x="501" y="695"/>
                  <a:pt x="484" y="682"/>
                  <a:pt x="515" y="643"/>
                </a:cubicBezTo>
                <a:cubicBezTo>
                  <a:pt x="525" y="628"/>
                  <a:pt x="553" y="617"/>
                  <a:pt x="566" y="610"/>
                </a:cubicBezTo>
                <a:cubicBezTo>
                  <a:pt x="574" y="606"/>
                  <a:pt x="599" y="602"/>
                  <a:pt x="599" y="602"/>
                </a:cubicBezTo>
                <a:cubicBezTo>
                  <a:pt x="601" y="567"/>
                  <a:pt x="623" y="598"/>
                  <a:pt x="604" y="547"/>
                </a:cubicBezTo>
                <a:cubicBezTo>
                  <a:pt x="605" y="521"/>
                  <a:pt x="607" y="523"/>
                  <a:pt x="625" y="494"/>
                </a:cubicBezTo>
                <a:cubicBezTo>
                  <a:pt x="633" y="493"/>
                  <a:pt x="630" y="489"/>
                  <a:pt x="641" y="479"/>
                </a:cubicBezTo>
                <a:cubicBezTo>
                  <a:pt x="652" y="469"/>
                  <a:pt x="677" y="441"/>
                  <a:pt x="689" y="433"/>
                </a:cubicBezTo>
                <a:cubicBezTo>
                  <a:pt x="712" y="419"/>
                  <a:pt x="692" y="438"/>
                  <a:pt x="715" y="430"/>
                </a:cubicBezTo>
                <a:cubicBezTo>
                  <a:pt x="720" y="410"/>
                  <a:pt x="737" y="412"/>
                  <a:pt x="754" y="401"/>
                </a:cubicBezTo>
                <a:cubicBezTo>
                  <a:pt x="778" y="391"/>
                  <a:pt x="768" y="385"/>
                  <a:pt x="799" y="377"/>
                </a:cubicBezTo>
                <a:cubicBezTo>
                  <a:pt x="807" y="369"/>
                  <a:pt x="821" y="362"/>
                  <a:pt x="821" y="350"/>
                </a:cubicBezTo>
                <a:cubicBezTo>
                  <a:pt x="824" y="340"/>
                  <a:pt x="819" y="324"/>
                  <a:pt x="821" y="310"/>
                </a:cubicBezTo>
                <a:cubicBezTo>
                  <a:pt x="823" y="296"/>
                  <a:pt x="834" y="277"/>
                  <a:pt x="832" y="265"/>
                </a:cubicBezTo>
                <a:cubicBezTo>
                  <a:pt x="830" y="253"/>
                  <a:pt x="814" y="243"/>
                  <a:pt x="811" y="235"/>
                </a:cubicBezTo>
                <a:cubicBezTo>
                  <a:pt x="808" y="227"/>
                  <a:pt x="816" y="224"/>
                  <a:pt x="814" y="217"/>
                </a:cubicBezTo>
                <a:cubicBezTo>
                  <a:pt x="812" y="210"/>
                  <a:pt x="804" y="204"/>
                  <a:pt x="796" y="194"/>
                </a:cubicBezTo>
                <a:cubicBezTo>
                  <a:pt x="788" y="184"/>
                  <a:pt x="767" y="168"/>
                  <a:pt x="763" y="157"/>
                </a:cubicBezTo>
                <a:cubicBezTo>
                  <a:pt x="759" y="146"/>
                  <a:pt x="769" y="138"/>
                  <a:pt x="770" y="128"/>
                </a:cubicBezTo>
                <a:cubicBezTo>
                  <a:pt x="771" y="118"/>
                  <a:pt x="780" y="105"/>
                  <a:pt x="770" y="95"/>
                </a:cubicBezTo>
                <a:cubicBezTo>
                  <a:pt x="760" y="85"/>
                  <a:pt x="736" y="78"/>
                  <a:pt x="709" y="68"/>
                </a:cubicBezTo>
                <a:cubicBezTo>
                  <a:pt x="672" y="67"/>
                  <a:pt x="649" y="25"/>
                  <a:pt x="605" y="37"/>
                </a:cubicBezTo>
                <a:cubicBezTo>
                  <a:pt x="593" y="36"/>
                  <a:pt x="578" y="60"/>
                  <a:pt x="566" y="58"/>
                </a:cubicBezTo>
                <a:cubicBezTo>
                  <a:pt x="556" y="58"/>
                  <a:pt x="539" y="73"/>
                  <a:pt x="533" y="73"/>
                </a:cubicBezTo>
                <a:cubicBezTo>
                  <a:pt x="527" y="73"/>
                  <a:pt x="525" y="68"/>
                  <a:pt x="527" y="58"/>
                </a:cubicBezTo>
                <a:cubicBezTo>
                  <a:pt x="529" y="48"/>
                  <a:pt x="548" y="22"/>
                  <a:pt x="547" y="13"/>
                </a:cubicBezTo>
                <a:cubicBezTo>
                  <a:pt x="546" y="4"/>
                  <a:pt x="530" y="1"/>
                  <a:pt x="523" y="2"/>
                </a:cubicBezTo>
                <a:cubicBezTo>
                  <a:pt x="513" y="0"/>
                  <a:pt x="513" y="18"/>
                  <a:pt x="503" y="17"/>
                </a:cubicBezTo>
                <a:cubicBezTo>
                  <a:pt x="494" y="17"/>
                  <a:pt x="495" y="20"/>
                  <a:pt x="481" y="22"/>
                </a:cubicBezTo>
                <a:cubicBezTo>
                  <a:pt x="467" y="24"/>
                  <a:pt x="441" y="26"/>
                  <a:pt x="416" y="28"/>
                </a:cubicBezTo>
                <a:cubicBezTo>
                  <a:pt x="389" y="55"/>
                  <a:pt x="410" y="28"/>
                  <a:pt x="328" y="34"/>
                </a:cubicBezTo>
                <a:cubicBezTo>
                  <a:pt x="314" y="35"/>
                  <a:pt x="301" y="53"/>
                  <a:pt x="301" y="53"/>
                </a:cubicBezTo>
                <a:cubicBezTo>
                  <a:pt x="293" y="60"/>
                  <a:pt x="290" y="69"/>
                  <a:pt x="283" y="77"/>
                </a:cubicBezTo>
                <a:cubicBezTo>
                  <a:pt x="276" y="85"/>
                  <a:pt x="281" y="92"/>
                  <a:pt x="260" y="104"/>
                </a:cubicBezTo>
                <a:cubicBezTo>
                  <a:pt x="242" y="126"/>
                  <a:pt x="185" y="145"/>
                  <a:pt x="158" y="152"/>
                </a:cubicBezTo>
                <a:cubicBezTo>
                  <a:pt x="136" y="164"/>
                  <a:pt x="143" y="165"/>
                  <a:pt x="133" y="170"/>
                </a:cubicBezTo>
                <a:cubicBezTo>
                  <a:pt x="123" y="175"/>
                  <a:pt x="107" y="180"/>
                  <a:pt x="100" y="185"/>
                </a:cubicBezTo>
                <a:cubicBezTo>
                  <a:pt x="91" y="194"/>
                  <a:pt x="99" y="192"/>
                  <a:pt x="92" y="202"/>
                </a:cubicBezTo>
                <a:cubicBezTo>
                  <a:pt x="88" y="210"/>
                  <a:pt x="89" y="226"/>
                  <a:pt x="86" y="232"/>
                </a:cubicBezTo>
                <a:cubicBezTo>
                  <a:pt x="83" y="238"/>
                  <a:pt x="79" y="233"/>
                  <a:pt x="76" y="238"/>
                </a:cubicBezTo>
                <a:cubicBezTo>
                  <a:pt x="75" y="246"/>
                  <a:pt x="70" y="252"/>
                  <a:pt x="68" y="260"/>
                </a:cubicBezTo>
                <a:cubicBezTo>
                  <a:pt x="67" y="264"/>
                  <a:pt x="68" y="272"/>
                  <a:pt x="68" y="272"/>
                </a:cubicBezTo>
                <a:cubicBezTo>
                  <a:pt x="70" y="288"/>
                  <a:pt x="76" y="293"/>
                  <a:pt x="83" y="308"/>
                </a:cubicBezTo>
                <a:cubicBezTo>
                  <a:pt x="87" y="316"/>
                  <a:pt x="75" y="329"/>
                  <a:pt x="79" y="337"/>
                </a:cubicBezTo>
                <a:cubicBezTo>
                  <a:pt x="81" y="341"/>
                  <a:pt x="80" y="359"/>
                  <a:pt x="80" y="359"/>
                </a:cubicBezTo>
                <a:cubicBezTo>
                  <a:pt x="103" y="412"/>
                  <a:pt x="89" y="400"/>
                  <a:pt x="59" y="436"/>
                </a:cubicBezTo>
                <a:cubicBezTo>
                  <a:pt x="48" y="457"/>
                  <a:pt x="42" y="471"/>
                  <a:pt x="35" y="494"/>
                </a:cubicBezTo>
                <a:cubicBezTo>
                  <a:pt x="32" y="505"/>
                  <a:pt x="2" y="514"/>
                  <a:pt x="2" y="514"/>
                </a:cubicBezTo>
                <a:cubicBezTo>
                  <a:pt x="0" y="524"/>
                  <a:pt x="5" y="544"/>
                  <a:pt x="7" y="554"/>
                </a:cubicBezTo>
                <a:cubicBezTo>
                  <a:pt x="9" y="564"/>
                  <a:pt x="12" y="573"/>
                  <a:pt x="16" y="577"/>
                </a:cubicBezTo>
                <a:cubicBezTo>
                  <a:pt x="20" y="581"/>
                  <a:pt x="25" y="579"/>
                  <a:pt x="29" y="580"/>
                </a:cubicBezTo>
                <a:cubicBezTo>
                  <a:pt x="33" y="581"/>
                  <a:pt x="37" y="579"/>
                  <a:pt x="40" y="581"/>
                </a:cubicBezTo>
                <a:cubicBezTo>
                  <a:pt x="43" y="583"/>
                  <a:pt x="46" y="585"/>
                  <a:pt x="49" y="589"/>
                </a:cubicBezTo>
                <a:cubicBezTo>
                  <a:pt x="52" y="593"/>
                  <a:pt x="56" y="595"/>
                  <a:pt x="55" y="605"/>
                </a:cubicBezTo>
                <a:cubicBezTo>
                  <a:pt x="56" y="619"/>
                  <a:pt x="39" y="634"/>
                  <a:pt x="44" y="647"/>
                </a:cubicBezTo>
                <a:cubicBezTo>
                  <a:pt x="48" y="657"/>
                  <a:pt x="60" y="698"/>
                  <a:pt x="68" y="709"/>
                </a:cubicBezTo>
                <a:cubicBezTo>
                  <a:pt x="83" y="724"/>
                  <a:pt x="98" y="721"/>
                  <a:pt x="104" y="727"/>
                </a:cubicBezTo>
                <a:cubicBezTo>
                  <a:pt x="110" y="733"/>
                  <a:pt x="109" y="736"/>
                  <a:pt x="107" y="743"/>
                </a:cubicBezTo>
                <a:cubicBezTo>
                  <a:pt x="110" y="757"/>
                  <a:pt x="99" y="761"/>
                  <a:pt x="94" y="767"/>
                </a:cubicBezTo>
                <a:cubicBezTo>
                  <a:pt x="89" y="773"/>
                  <a:pt x="76" y="776"/>
                  <a:pt x="76" y="782"/>
                </a:cubicBezTo>
                <a:cubicBezTo>
                  <a:pt x="73" y="793"/>
                  <a:pt x="88" y="797"/>
                  <a:pt x="94" y="806"/>
                </a:cubicBezTo>
                <a:cubicBezTo>
                  <a:pt x="100" y="810"/>
                  <a:pt x="112" y="804"/>
                  <a:pt x="115" y="809"/>
                </a:cubicBezTo>
                <a:cubicBezTo>
                  <a:pt x="118" y="814"/>
                  <a:pt x="114" y="827"/>
                  <a:pt x="110" y="835"/>
                </a:cubicBezTo>
                <a:cubicBezTo>
                  <a:pt x="106" y="850"/>
                  <a:pt x="100" y="844"/>
                  <a:pt x="89" y="857"/>
                </a:cubicBezTo>
                <a:cubicBezTo>
                  <a:pt x="83" y="864"/>
                  <a:pt x="68" y="869"/>
                  <a:pt x="65" y="877"/>
                </a:cubicBezTo>
                <a:cubicBezTo>
                  <a:pt x="62" y="885"/>
                  <a:pt x="66" y="898"/>
                  <a:pt x="68" y="908"/>
                </a:cubicBezTo>
                <a:cubicBezTo>
                  <a:pt x="70" y="918"/>
                  <a:pt x="78" y="929"/>
                  <a:pt x="79" y="937"/>
                </a:cubicBezTo>
                <a:cubicBezTo>
                  <a:pt x="80" y="945"/>
                  <a:pt x="75" y="952"/>
                  <a:pt x="74" y="95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6716880" y="2454120"/>
            <a:ext cx="1304640" cy="1704960"/>
          </a:xfrm>
          <a:custGeom>
            <a:avLst/>
            <a:gdLst/>
            <a:ahLst/>
            <a:rect l="l" t="t" r="r" b="b"/>
            <a:pathLst>
              <a:path w="822" h="1074">
                <a:moveTo>
                  <a:pt x="96" y="681"/>
                </a:moveTo>
                <a:lnTo>
                  <a:pt x="177" y="603"/>
                </a:lnTo>
                <a:cubicBezTo>
                  <a:pt x="177" y="603"/>
                  <a:pt x="186" y="567"/>
                  <a:pt x="186" y="567"/>
                </a:cubicBezTo>
                <a:cubicBezTo>
                  <a:pt x="187" y="563"/>
                  <a:pt x="185" y="557"/>
                  <a:pt x="185" y="557"/>
                </a:cubicBezTo>
                <a:cubicBezTo>
                  <a:pt x="192" y="510"/>
                  <a:pt x="179" y="475"/>
                  <a:pt x="138" y="461"/>
                </a:cubicBezTo>
                <a:cubicBezTo>
                  <a:pt x="114" y="437"/>
                  <a:pt x="75" y="440"/>
                  <a:pt x="60" y="425"/>
                </a:cubicBezTo>
                <a:cubicBezTo>
                  <a:pt x="71" y="401"/>
                  <a:pt x="65" y="386"/>
                  <a:pt x="33" y="375"/>
                </a:cubicBezTo>
                <a:cubicBezTo>
                  <a:pt x="25" y="364"/>
                  <a:pt x="10" y="369"/>
                  <a:pt x="6" y="365"/>
                </a:cubicBezTo>
                <a:cubicBezTo>
                  <a:pt x="2" y="361"/>
                  <a:pt x="0" y="353"/>
                  <a:pt x="6" y="348"/>
                </a:cubicBezTo>
                <a:cubicBezTo>
                  <a:pt x="12" y="319"/>
                  <a:pt x="14" y="330"/>
                  <a:pt x="45" y="336"/>
                </a:cubicBezTo>
                <a:cubicBezTo>
                  <a:pt x="53" y="331"/>
                  <a:pt x="55" y="331"/>
                  <a:pt x="59" y="324"/>
                </a:cubicBezTo>
                <a:cubicBezTo>
                  <a:pt x="63" y="317"/>
                  <a:pt x="64" y="309"/>
                  <a:pt x="68" y="296"/>
                </a:cubicBezTo>
                <a:cubicBezTo>
                  <a:pt x="74" y="282"/>
                  <a:pt x="75" y="253"/>
                  <a:pt x="81" y="245"/>
                </a:cubicBezTo>
                <a:cubicBezTo>
                  <a:pt x="87" y="237"/>
                  <a:pt x="94" y="259"/>
                  <a:pt x="102" y="245"/>
                </a:cubicBezTo>
                <a:cubicBezTo>
                  <a:pt x="116" y="192"/>
                  <a:pt x="108" y="175"/>
                  <a:pt x="128" y="161"/>
                </a:cubicBezTo>
                <a:cubicBezTo>
                  <a:pt x="160" y="163"/>
                  <a:pt x="179" y="158"/>
                  <a:pt x="206" y="195"/>
                </a:cubicBezTo>
                <a:cubicBezTo>
                  <a:pt x="233" y="194"/>
                  <a:pt x="231" y="185"/>
                  <a:pt x="258" y="180"/>
                </a:cubicBezTo>
                <a:cubicBezTo>
                  <a:pt x="272" y="173"/>
                  <a:pt x="296" y="150"/>
                  <a:pt x="302" y="140"/>
                </a:cubicBezTo>
                <a:cubicBezTo>
                  <a:pt x="308" y="130"/>
                  <a:pt x="300" y="124"/>
                  <a:pt x="294" y="117"/>
                </a:cubicBezTo>
                <a:cubicBezTo>
                  <a:pt x="291" y="102"/>
                  <a:pt x="278" y="105"/>
                  <a:pt x="267" y="98"/>
                </a:cubicBezTo>
                <a:cubicBezTo>
                  <a:pt x="256" y="91"/>
                  <a:pt x="234" y="84"/>
                  <a:pt x="228" y="78"/>
                </a:cubicBezTo>
                <a:cubicBezTo>
                  <a:pt x="216" y="69"/>
                  <a:pt x="234" y="67"/>
                  <a:pt x="233" y="63"/>
                </a:cubicBezTo>
                <a:cubicBezTo>
                  <a:pt x="232" y="59"/>
                  <a:pt x="225" y="59"/>
                  <a:pt x="219" y="53"/>
                </a:cubicBezTo>
                <a:cubicBezTo>
                  <a:pt x="213" y="47"/>
                  <a:pt x="200" y="33"/>
                  <a:pt x="198" y="27"/>
                </a:cubicBezTo>
                <a:cubicBezTo>
                  <a:pt x="201" y="9"/>
                  <a:pt x="189" y="21"/>
                  <a:pt x="207" y="15"/>
                </a:cubicBezTo>
                <a:cubicBezTo>
                  <a:pt x="213" y="10"/>
                  <a:pt x="210" y="15"/>
                  <a:pt x="216" y="9"/>
                </a:cubicBezTo>
                <a:cubicBezTo>
                  <a:pt x="225" y="0"/>
                  <a:pt x="214" y="14"/>
                  <a:pt x="230" y="3"/>
                </a:cubicBezTo>
                <a:cubicBezTo>
                  <a:pt x="236" y="30"/>
                  <a:pt x="261" y="7"/>
                  <a:pt x="278" y="30"/>
                </a:cubicBezTo>
                <a:cubicBezTo>
                  <a:pt x="300" y="59"/>
                  <a:pt x="284" y="33"/>
                  <a:pt x="302" y="51"/>
                </a:cubicBezTo>
                <a:cubicBezTo>
                  <a:pt x="318" y="67"/>
                  <a:pt x="307" y="59"/>
                  <a:pt x="324" y="65"/>
                </a:cubicBezTo>
                <a:cubicBezTo>
                  <a:pt x="338" y="76"/>
                  <a:pt x="345" y="88"/>
                  <a:pt x="360" y="98"/>
                </a:cubicBezTo>
                <a:cubicBezTo>
                  <a:pt x="370" y="105"/>
                  <a:pt x="363" y="114"/>
                  <a:pt x="380" y="122"/>
                </a:cubicBezTo>
                <a:cubicBezTo>
                  <a:pt x="397" y="130"/>
                  <a:pt x="442" y="137"/>
                  <a:pt x="461" y="144"/>
                </a:cubicBezTo>
                <a:cubicBezTo>
                  <a:pt x="474" y="152"/>
                  <a:pt x="482" y="156"/>
                  <a:pt x="495" y="165"/>
                </a:cubicBezTo>
                <a:cubicBezTo>
                  <a:pt x="498" y="167"/>
                  <a:pt x="504" y="171"/>
                  <a:pt x="504" y="171"/>
                </a:cubicBezTo>
                <a:cubicBezTo>
                  <a:pt x="508" y="193"/>
                  <a:pt x="525" y="197"/>
                  <a:pt x="536" y="210"/>
                </a:cubicBezTo>
                <a:cubicBezTo>
                  <a:pt x="534" y="217"/>
                  <a:pt x="509" y="236"/>
                  <a:pt x="509" y="243"/>
                </a:cubicBezTo>
                <a:cubicBezTo>
                  <a:pt x="508" y="249"/>
                  <a:pt x="524" y="252"/>
                  <a:pt x="530" y="260"/>
                </a:cubicBezTo>
                <a:cubicBezTo>
                  <a:pt x="536" y="268"/>
                  <a:pt x="534" y="283"/>
                  <a:pt x="546" y="294"/>
                </a:cubicBezTo>
                <a:cubicBezTo>
                  <a:pt x="558" y="305"/>
                  <a:pt x="598" y="311"/>
                  <a:pt x="603" y="324"/>
                </a:cubicBezTo>
                <a:cubicBezTo>
                  <a:pt x="603" y="347"/>
                  <a:pt x="577" y="362"/>
                  <a:pt x="575" y="371"/>
                </a:cubicBezTo>
                <a:cubicBezTo>
                  <a:pt x="573" y="380"/>
                  <a:pt x="585" y="382"/>
                  <a:pt x="593" y="381"/>
                </a:cubicBezTo>
                <a:cubicBezTo>
                  <a:pt x="604" y="380"/>
                  <a:pt x="613" y="368"/>
                  <a:pt x="624" y="366"/>
                </a:cubicBezTo>
                <a:cubicBezTo>
                  <a:pt x="630" y="365"/>
                  <a:pt x="648" y="351"/>
                  <a:pt x="648" y="351"/>
                </a:cubicBezTo>
                <a:cubicBezTo>
                  <a:pt x="680" y="314"/>
                  <a:pt x="674" y="343"/>
                  <a:pt x="707" y="348"/>
                </a:cubicBezTo>
                <a:cubicBezTo>
                  <a:pt x="718" y="351"/>
                  <a:pt x="728" y="362"/>
                  <a:pt x="728" y="372"/>
                </a:cubicBezTo>
                <a:cubicBezTo>
                  <a:pt x="728" y="382"/>
                  <a:pt x="718" y="398"/>
                  <a:pt x="708" y="408"/>
                </a:cubicBezTo>
                <a:cubicBezTo>
                  <a:pt x="694" y="418"/>
                  <a:pt x="678" y="421"/>
                  <a:pt x="666" y="432"/>
                </a:cubicBezTo>
                <a:cubicBezTo>
                  <a:pt x="661" y="437"/>
                  <a:pt x="654" y="453"/>
                  <a:pt x="654" y="453"/>
                </a:cubicBezTo>
                <a:cubicBezTo>
                  <a:pt x="640" y="474"/>
                  <a:pt x="648" y="471"/>
                  <a:pt x="626" y="479"/>
                </a:cubicBezTo>
                <a:cubicBezTo>
                  <a:pt x="623" y="491"/>
                  <a:pt x="614" y="508"/>
                  <a:pt x="617" y="524"/>
                </a:cubicBezTo>
                <a:cubicBezTo>
                  <a:pt x="620" y="540"/>
                  <a:pt x="635" y="557"/>
                  <a:pt x="645" y="573"/>
                </a:cubicBezTo>
                <a:cubicBezTo>
                  <a:pt x="651" y="591"/>
                  <a:pt x="672" y="602"/>
                  <a:pt x="678" y="621"/>
                </a:cubicBezTo>
                <a:cubicBezTo>
                  <a:pt x="684" y="634"/>
                  <a:pt x="675" y="642"/>
                  <a:pt x="686" y="651"/>
                </a:cubicBezTo>
                <a:cubicBezTo>
                  <a:pt x="687" y="660"/>
                  <a:pt x="674" y="673"/>
                  <a:pt x="684" y="677"/>
                </a:cubicBezTo>
                <a:cubicBezTo>
                  <a:pt x="694" y="681"/>
                  <a:pt x="730" y="673"/>
                  <a:pt x="746" y="675"/>
                </a:cubicBezTo>
                <a:cubicBezTo>
                  <a:pt x="772" y="684"/>
                  <a:pt x="749" y="683"/>
                  <a:pt x="779" y="687"/>
                </a:cubicBezTo>
                <a:cubicBezTo>
                  <a:pt x="822" y="686"/>
                  <a:pt x="821" y="681"/>
                  <a:pt x="813" y="728"/>
                </a:cubicBezTo>
                <a:cubicBezTo>
                  <a:pt x="817" y="744"/>
                  <a:pt x="814" y="787"/>
                  <a:pt x="810" y="803"/>
                </a:cubicBezTo>
                <a:cubicBezTo>
                  <a:pt x="806" y="819"/>
                  <a:pt x="794" y="816"/>
                  <a:pt x="789" y="822"/>
                </a:cubicBezTo>
                <a:cubicBezTo>
                  <a:pt x="786" y="839"/>
                  <a:pt x="779" y="831"/>
                  <a:pt x="777" y="837"/>
                </a:cubicBezTo>
                <a:cubicBezTo>
                  <a:pt x="775" y="843"/>
                  <a:pt x="781" y="851"/>
                  <a:pt x="777" y="857"/>
                </a:cubicBezTo>
                <a:cubicBezTo>
                  <a:pt x="773" y="863"/>
                  <a:pt x="764" y="863"/>
                  <a:pt x="755" y="872"/>
                </a:cubicBezTo>
                <a:cubicBezTo>
                  <a:pt x="749" y="884"/>
                  <a:pt x="725" y="899"/>
                  <a:pt x="722" y="912"/>
                </a:cubicBezTo>
                <a:cubicBezTo>
                  <a:pt x="720" y="920"/>
                  <a:pt x="710" y="935"/>
                  <a:pt x="710" y="935"/>
                </a:cubicBezTo>
                <a:cubicBezTo>
                  <a:pt x="706" y="947"/>
                  <a:pt x="715" y="959"/>
                  <a:pt x="711" y="971"/>
                </a:cubicBezTo>
                <a:cubicBezTo>
                  <a:pt x="707" y="983"/>
                  <a:pt x="688" y="1000"/>
                  <a:pt x="683" y="1011"/>
                </a:cubicBezTo>
                <a:cubicBezTo>
                  <a:pt x="678" y="1022"/>
                  <a:pt x="683" y="1032"/>
                  <a:pt x="678" y="1038"/>
                </a:cubicBezTo>
                <a:cubicBezTo>
                  <a:pt x="673" y="1044"/>
                  <a:pt x="662" y="1044"/>
                  <a:pt x="656" y="1047"/>
                </a:cubicBezTo>
                <a:cubicBezTo>
                  <a:pt x="651" y="1049"/>
                  <a:pt x="648" y="1054"/>
                  <a:pt x="644" y="1056"/>
                </a:cubicBezTo>
                <a:cubicBezTo>
                  <a:pt x="640" y="1058"/>
                  <a:pt x="640" y="1058"/>
                  <a:pt x="635" y="1061"/>
                </a:cubicBezTo>
                <a:cubicBezTo>
                  <a:pt x="631" y="1067"/>
                  <a:pt x="615" y="1074"/>
                  <a:pt x="615" y="1074"/>
                </a:cubicBezTo>
                <a:cubicBezTo>
                  <a:pt x="600" y="1044"/>
                  <a:pt x="578" y="1049"/>
                  <a:pt x="552" y="1035"/>
                </a:cubicBezTo>
                <a:cubicBezTo>
                  <a:pt x="538" y="1026"/>
                  <a:pt x="541" y="1036"/>
                  <a:pt x="528" y="1031"/>
                </a:cubicBezTo>
                <a:cubicBezTo>
                  <a:pt x="515" y="1026"/>
                  <a:pt x="493" y="1007"/>
                  <a:pt x="474" y="1005"/>
                </a:cubicBezTo>
                <a:cubicBezTo>
                  <a:pt x="422" y="1008"/>
                  <a:pt x="442" y="1000"/>
                  <a:pt x="411" y="1020"/>
                </a:cubicBezTo>
                <a:cubicBezTo>
                  <a:pt x="371" y="1047"/>
                  <a:pt x="430" y="1008"/>
                  <a:pt x="393" y="1029"/>
                </a:cubicBezTo>
                <a:cubicBezTo>
                  <a:pt x="387" y="1033"/>
                  <a:pt x="375" y="1041"/>
                  <a:pt x="375" y="1041"/>
                </a:cubicBezTo>
                <a:cubicBezTo>
                  <a:pt x="372" y="1040"/>
                  <a:pt x="367" y="1041"/>
                  <a:pt x="366" y="1038"/>
                </a:cubicBezTo>
                <a:cubicBezTo>
                  <a:pt x="361" y="1029"/>
                  <a:pt x="374" y="1013"/>
                  <a:pt x="374" y="1013"/>
                </a:cubicBezTo>
                <a:cubicBezTo>
                  <a:pt x="375" y="1005"/>
                  <a:pt x="386" y="982"/>
                  <a:pt x="384" y="975"/>
                </a:cubicBezTo>
                <a:cubicBezTo>
                  <a:pt x="382" y="968"/>
                  <a:pt x="369" y="970"/>
                  <a:pt x="363" y="971"/>
                </a:cubicBezTo>
                <a:cubicBezTo>
                  <a:pt x="357" y="972"/>
                  <a:pt x="358" y="976"/>
                  <a:pt x="347" y="980"/>
                </a:cubicBezTo>
                <a:cubicBezTo>
                  <a:pt x="326" y="987"/>
                  <a:pt x="316" y="995"/>
                  <a:pt x="294" y="998"/>
                </a:cubicBezTo>
                <a:cubicBezTo>
                  <a:pt x="281" y="1001"/>
                  <a:pt x="260" y="1009"/>
                  <a:pt x="252" y="1002"/>
                </a:cubicBezTo>
                <a:cubicBezTo>
                  <a:pt x="244" y="995"/>
                  <a:pt x="249" y="969"/>
                  <a:pt x="248" y="957"/>
                </a:cubicBezTo>
                <a:cubicBezTo>
                  <a:pt x="247" y="951"/>
                  <a:pt x="248" y="936"/>
                  <a:pt x="246" y="930"/>
                </a:cubicBezTo>
                <a:cubicBezTo>
                  <a:pt x="243" y="926"/>
                  <a:pt x="234" y="930"/>
                  <a:pt x="230" y="929"/>
                </a:cubicBezTo>
                <a:cubicBezTo>
                  <a:pt x="226" y="928"/>
                  <a:pt x="225" y="931"/>
                  <a:pt x="222" y="924"/>
                </a:cubicBezTo>
                <a:cubicBezTo>
                  <a:pt x="216" y="913"/>
                  <a:pt x="214" y="897"/>
                  <a:pt x="210" y="885"/>
                </a:cubicBezTo>
                <a:cubicBezTo>
                  <a:pt x="207" y="877"/>
                  <a:pt x="205" y="874"/>
                  <a:pt x="203" y="866"/>
                </a:cubicBezTo>
                <a:cubicBezTo>
                  <a:pt x="202" y="862"/>
                  <a:pt x="194" y="848"/>
                  <a:pt x="194" y="848"/>
                </a:cubicBezTo>
                <a:cubicBezTo>
                  <a:pt x="195" y="834"/>
                  <a:pt x="199" y="820"/>
                  <a:pt x="204" y="807"/>
                </a:cubicBezTo>
                <a:cubicBezTo>
                  <a:pt x="206" y="802"/>
                  <a:pt x="219" y="794"/>
                  <a:pt x="224" y="789"/>
                </a:cubicBezTo>
                <a:cubicBezTo>
                  <a:pt x="229" y="784"/>
                  <a:pt x="239" y="785"/>
                  <a:pt x="243" y="780"/>
                </a:cubicBezTo>
                <a:cubicBezTo>
                  <a:pt x="247" y="775"/>
                  <a:pt x="252" y="770"/>
                  <a:pt x="249" y="761"/>
                </a:cubicBezTo>
                <a:cubicBezTo>
                  <a:pt x="247" y="752"/>
                  <a:pt x="236" y="730"/>
                  <a:pt x="225" y="725"/>
                </a:cubicBezTo>
                <a:cubicBezTo>
                  <a:pt x="214" y="720"/>
                  <a:pt x="190" y="731"/>
                  <a:pt x="180" y="731"/>
                </a:cubicBezTo>
                <a:cubicBezTo>
                  <a:pt x="170" y="731"/>
                  <a:pt x="176" y="732"/>
                  <a:pt x="167" y="726"/>
                </a:cubicBezTo>
                <a:cubicBezTo>
                  <a:pt x="148" y="722"/>
                  <a:pt x="144" y="707"/>
                  <a:pt x="128" y="696"/>
                </a:cubicBezTo>
                <a:cubicBezTo>
                  <a:pt x="122" y="687"/>
                  <a:pt x="72" y="665"/>
                  <a:pt x="96" y="68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1" name="Freeform 13"/>
          <p:cNvSpPr/>
          <p:nvPr/>
        </p:nvSpPr>
        <p:spPr>
          <a:xfrm>
            <a:off x="7034040" y="2284560"/>
            <a:ext cx="1532160" cy="1303200"/>
          </a:xfrm>
          <a:custGeom>
            <a:avLst/>
            <a:gdLst/>
            <a:ahLst/>
            <a:rect l="l" t="t" r="r" b="b"/>
            <a:pathLst>
              <a:path w="965" h="821">
                <a:moveTo>
                  <a:pt x="21" y="113"/>
                </a:moveTo>
                <a:cubicBezTo>
                  <a:pt x="25" y="102"/>
                  <a:pt x="30" y="93"/>
                  <a:pt x="37" y="83"/>
                </a:cubicBezTo>
                <a:cubicBezTo>
                  <a:pt x="41" y="65"/>
                  <a:pt x="41" y="57"/>
                  <a:pt x="57" y="47"/>
                </a:cubicBezTo>
                <a:cubicBezTo>
                  <a:pt x="66" y="44"/>
                  <a:pt x="91" y="49"/>
                  <a:pt x="100" y="55"/>
                </a:cubicBezTo>
                <a:cubicBezTo>
                  <a:pt x="110" y="61"/>
                  <a:pt x="112" y="72"/>
                  <a:pt x="118" y="82"/>
                </a:cubicBezTo>
                <a:cubicBezTo>
                  <a:pt x="125" y="92"/>
                  <a:pt x="124" y="107"/>
                  <a:pt x="135" y="115"/>
                </a:cubicBezTo>
                <a:cubicBezTo>
                  <a:pt x="171" y="130"/>
                  <a:pt x="170" y="128"/>
                  <a:pt x="213" y="134"/>
                </a:cubicBezTo>
                <a:cubicBezTo>
                  <a:pt x="225" y="132"/>
                  <a:pt x="243" y="125"/>
                  <a:pt x="243" y="125"/>
                </a:cubicBezTo>
                <a:cubicBezTo>
                  <a:pt x="250" y="115"/>
                  <a:pt x="262" y="113"/>
                  <a:pt x="271" y="104"/>
                </a:cubicBezTo>
                <a:cubicBezTo>
                  <a:pt x="278" y="101"/>
                  <a:pt x="280" y="95"/>
                  <a:pt x="285" y="95"/>
                </a:cubicBezTo>
                <a:cubicBezTo>
                  <a:pt x="290" y="96"/>
                  <a:pt x="295" y="106"/>
                  <a:pt x="303" y="113"/>
                </a:cubicBezTo>
                <a:cubicBezTo>
                  <a:pt x="313" y="117"/>
                  <a:pt x="318" y="133"/>
                  <a:pt x="331" y="137"/>
                </a:cubicBezTo>
                <a:cubicBezTo>
                  <a:pt x="357" y="131"/>
                  <a:pt x="331" y="134"/>
                  <a:pt x="349" y="116"/>
                </a:cubicBezTo>
                <a:cubicBezTo>
                  <a:pt x="356" y="110"/>
                  <a:pt x="363" y="102"/>
                  <a:pt x="372" y="97"/>
                </a:cubicBezTo>
                <a:cubicBezTo>
                  <a:pt x="381" y="92"/>
                  <a:pt x="396" y="95"/>
                  <a:pt x="403" y="89"/>
                </a:cubicBezTo>
                <a:cubicBezTo>
                  <a:pt x="411" y="84"/>
                  <a:pt x="410" y="70"/>
                  <a:pt x="415" y="61"/>
                </a:cubicBezTo>
                <a:cubicBezTo>
                  <a:pt x="420" y="52"/>
                  <a:pt x="428" y="40"/>
                  <a:pt x="436" y="32"/>
                </a:cubicBezTo>
                <a:cubicBezTo>
                  <a:pt x="436" y="32"/>
                  <a:pt x="460" y="13"/>
                  <a:pt x="465" y="10"/>
                </a:cubicBezTo>
                <a:cubicBezTo>
                  <a:pt x="478" y="2"/>
                  <a:pt x="490" y="6"/>
                  <a:pt x="505" y="5"/>
                </a:cubicBezTo>
                <a:cubicBezTo>
                  <a:pt x="519" y="0"/>
                  <a:pt x="522" y="14"/>
                  <a:pt x="526" y="26"/>
                </a:cubicBezTo>
                <a:cubicBezTo>
                  <a:pt x="522" y="65"/>
                  <a:pt x="501" y="79"/>
                  <a:pt x="550" y="86"/>
                </a:cubicBezTo>
                <a:cubicBezTo>
                  <a:pt x="565" y="100"/>
                  <a:pt x="597" y="96"/>
                  <a:pt x="616" y="107"/>
                </a:cubicBezTo>
                <a:cubicBezTo>
                  <a:pt x="635" y="118"/>
                  <a:pt x="657" y="140"/>
                  <a:pt x="667" y="152"/>
                </a:cubicBezTo>
                <a:cubicBezTo>
                  <a:pt x="671" y="164"/>
                  <a:pt x="673" y="170"/>
                  <a:pt x="679" y="181"/>
                </a:cubicBezTo>
                <a:cubicBezTo>
                  <a:pt x="690" y="201"/>
                  <a:pt x="698" y="216"/>
                  <a:pt x="708" y="236"/>
                </a:cubicBezTo>
                <a:cubicBezTo>
                  <a:pt x="711" y="242"/>
                  <a:pt x="705" y="248"/>
                  <a:pt x="709" y="254"/>
                </a:cubicBezTo>
                <a:cubicBezTo>
                  <a:pt x="714" y="261"/>
                  <a:pt x="718" y="275"/>
                  <a:pt x="718" y="275"/>
                </a:cubicBezTo>
                <a:cubicBezTo>
                  <a:pt x="721" y="282"/>
                  <a:pt x="725" y="300"/>
                  <a:pt x="733" y="311"/>
                </a:cubicBezTo>
                <a:cubicBezTo>
                  <a:pt x="741" y="322"/>
                  <a:pt x="759" y="334"/>
                  <a:pt x="765" y="344"/>
                </a:cubicBezTo>
                <a:cubicBezTo>
                  <a:pt x="771" y="354"/>
                  <a:pt x="764" y="354"/>
                  <a:pt x="769" y="370"/>
                </a:cubicBezTo>
                <a:cubicBezTo>
                  <a:pt x="774" y="386"/>
                  <a:pt x="791" y="425"/>
                  <a:pt x="796" y="440"/>
                </a:cubicBezTo>
                <a:cubicBezTo>
                  <a:pt x="807" y="469"/>
                  <a:pt x="794" y="450"/>
                  <a:pt x="802" y="461"/>
                </a:cubicBezTo>
                <a:cubicBezTo>
                  <a:pt x="810" y="472"/>
                  <a:pt x="825" y="495"/>
                  <a:pt x="843" y="509"/>
                </a:cubicBezTo>
                <a:cubicBezTo>
                  <a:pt x="865" y="531"/>
                  <a:pt x="885" y="535"/>
                  <a:pt x="910" y="548"/>
                </a:cubicBezTo>
                <a:cubicBezTo>
                  <a:pt x="920" y="553"/>
                  <a:pt x="927" y="563"/>
                  <a:pt x="937" y="569"/>
                </a:cubicBezTo>
                <a:cubicBezTo>
                  <a:pt x="945" y="581"/>
                  <a:pt x="952" y="583"/>
                  <a:pt x="961" y="596"/>
                </a:cubicBezTo>
                <a:cubicBezTo>
                  <a:pt x="965" y="602"/>
                  <a:pt x="951" y="610"/>
                  <a:pt x="951" y="610"/>
                </a:cubicBezTo>
                <a:cubicBezTo>
                  <a:pt x="935" y="615"/>
                  <a:pt x="909" y="617"/>
                  <a:pt x="901" y="617"/>
                </a:cubicBezTo>
                <a:cubicBezTo>
                  <a:pt x="889" y="625"/>
                  <a:pt x="876" y="636"/>
                  <a:pt x="862" y="641"/>
                </a:cubicBezTo>
                <a:cubicBezTo>
                  <a:pt x="856" y="664"/>
                  <a:pt x="864" y="678"/>
                  <a:pt x="871" y="698"/>
                </a:cubicBezTo>
                <a:cubicBezTo>
                  <a:pt x="870" y="709"/>
                  <a:pt x="869" y="752"/>
                  <a:pt x="858" y="763"/>
                </a:cubicBezTo>
                <a:cubicBezTo>
                  <a:pt x="844" y="777"/>
                  <a:pt x="851" y="765"/>
                  <a:pt x="829" y="779"/>
                </a:cubicBezTo>
                <a:cubicBezTo>
                  <a:pt x="826" y="781"/>
                  <a:pt x="820" y="785"/>
                  <a:pt x="820" y="785"/>
                </a:cubicBezTo>
                <a:cubicBezTo>
                  <a:pt x="817" y="790"/>
                  <a:pt x="816" y="804"/>
                  <a:pt x="811" y="811"/>
                </a:cubicBezTo>
                <a:cubicBezTo>
                  <a:pt x="809" y="814"/>
                  <a:pt x="796" y="821"/>
                  <a:pt x="796" y="821"/>
                </a:cubicBezTo>
                <a:cubicBezTo>
                  <a:pt x="770" y="818"/>
                  <a:pt x="767" y="813"/>
                  <a:pt x="748" y="809"/>
                </a:cubicBezTo>
                <a:cubicBezTo>
                  <a:pt x="736" y="806"/>
                  <a:pt x="723" y="816"/>
                  <a:pt x="714" y="815"/>
                </a:cubicBezTo>
                <a:cubicBezTo>
                  <a:pt x="705" y="814"/>
                  <a:pt x="704" y="809"/>
                  <a:pt x="694" y="803"/>
                </a:cubicBezTo>
                <a:cubicBezTo>
                  <a:pt x="681" y="790"/>
                  <a:pt x="671" y="785"/>
                  <a:pt x="654" y="779"/>
                </a:cubicBezTo>
                <a:cubicBezTo>
                  <a:pt x="626" y="782"/>
                  <a:pt x="628" y="787"/>
                  <a:pt x="607" y="794"/>
                </a:cubicBezTo>
                <a:cubicBezTo>
                  <a:pt x="564" y="791"/>
                  <a:pt x="574" y="791"/>
                  <a:pt x="547" y="782"/>
                </a:cubicBezTo>
                <a:cubicBezTo>
                  <a:pt x="518" y="785"/>
                  <a:pt x="509" y="788"/>
                  <a:pt x="481" y="785"/>
                </a:cubicBezTo>
                <a:cubicBezTo>
                  <a:pt x="468" y="776"/>
                  <a:pt x="480" y="781"/>
                  <a:pt x="486" y="761"/>
                </a:cubicBezTo>
                <a:cubicBezTo>
                  <a:pt x="488" y="755"/>
                  <a:pt x="481" y="743"/>
                  <a:pt x="481" y="743"/>
                </a:cubicBezTo>
                <a:cubicBezTo>
                  <a:pt x="480" y="730"/>
                  <a:pt x="479" y="723"/>
                  <a:pt x="471" y="713"/>
                </a:cubicBezTo>
                <a:cubicBezTo>
                  <a:pt x="462" y="702"/>
                  <a:pt x="454" y="692"/>
                  <a:pt x="444" y="680"/>
                </a:cubicBezTo>
                <a:cubicBezTo>
                  <a:pt x="435" y="669"/>
                  <a:pt x="426" y="653"/>
                  <a:pt x="418" y="641"/>
                </a:cubicBezTo>
                <a:cubicBezTo>
                  <a:pt x="415" y="631"/>
                  <a:pt x="418" y="631"/>
                  <a:pt x="418" y="631"/>
                </a:cubicBezTo>
                <a:cubicBezTo>
                  <a:pt x="421" y="615"/>
                  <a:pt x="423" y="611"/>
                  <a:pt x="426" y="595"/>
                </a:cubicBezTo>
                <a:cubicBezTo>
                  <a:pt x="440" y="574"/>
                  <a:pt x="438" y="576"/>
                  <a:pt x="453" y="566"/>
                </a:cubicBezTo>
                <a:cubicBezTo>
                  <a:pt x="459" y="539"/>
                  <a:pt x="475" y="538"/>
                  <a:pt x="489" y="524"/>
                </a:cubicBezTo>
                <a:cubicBezTo>
                  <a:pt x="510" y="520"/>
                  <a:pt x="514" y="506"/>
                  <a:pt x="514" y="506"/>
                </a:cubicBezTo>
                <a:cubicBezTo>
                  <a:pt x="527" y="489"/>
                  <a:pt x="532" y="485"/>
                  <a:pt x="523" y="461"/>
                </a:cubicBezTo>
                <a:cubicBezTo>
                  <a:pt x="519" y="451"/>
                  <a:pt x="489" y="454"/>
                  <a:pt x="483" y="440"/>
                </a:cubicBezTo>
                <a:cubicBezTo>
                  <a:pt x="465" y="436"/>
                  <a:pt x="447" y="455"/>
                  <a:pt x="447" y="455"/>
                </a:cubicBezTo>
                <a:cubicBezTo>
                  <a:pt x="432" y="470"/>
                  <a:pt x="418" y="478"/>
                  <a:pt x="397" y="485"/>
                </a:cubicBezTo>
                <a:cubicBezTo>
                  <a:pt x="369" y="481"/>
                  <a:pt x="364" y="474"/>
                  <a:pt x="388" y="458"/>
                </a:cubicBezTo>
                <a:cubicBezTo>
                  <a:pt x="394" y="449"/>
                  <a:pt x="397" y="440"/>
                  <a:pt x="403" y="431"/>
                </a:cubicBezTo>
                <a:cubicBezTo>
                  <a:pt x="382" y="415"/>
                  <a:pt x="355" y="405"/>
                  <a:pt x="333" y="391"/>
                </a:cubicBezTo>
                <a:cubicBezTo>
                  <a:pt x="321" y="382"/>
                  <a:pt x="337" y="381"/>
                  <a:pt x="334" y="373"/>
                </a:cubicBezTo>
                <a:cubicBezTo>
                  <a:pt x="331" y="365"/>
                  <a:pt x="313" y="355"/>
                  <a:pt x="312" y="344"/>
                </a:cubicBezTo>
                <a:cubicBezTo>
                  <a:pt x="318" y="334"/>
                  <a:pt x="343" y="326"/>
                  <a:pt x="328" y="308"/>
                </a:cubicBezTo>
                <a:cubicBezTo>
                  <a:pt x="325" y="292"/>
                  <a:pt x="327" y="309"/>
                  <a:pt x="313" y="295"/>
                </a:cubicBezTo>
                <a:cubicBezTo>
                  <a:pt x="304" y="286"/>
                  <a:pt x="304" y="278"/>
                  <a:pt x="295" y="269"/>
                </a:cubicBezTo>
                <a:cubicBezTo>
                  <a:pt x="276" y="250"/>
                  <a:pt x="210" y="239"/>
                  <a:pt x="184" y="233"/>
                </a:cubicBezTo>
                <a:cubicBezTo>
                  <a:pt x="161" y="223"/>
                  <a:pt x="175" y="219"/>
                  <a:pt x="165" y="209"/>
                </a:cubicBezTo>
                <a:cubicBezTo>
                  <a:pt x="155" y="199"/>
                  <a:pt x="139" y="188"/>
                  <a:pt x="124" y="175"/>
                </a:cubicBezTo>
                <a:cubicBezTo>
                  <a:pt x="105" y="160"/>
                  <a:pt x="85" y="143"/>
                  <a:pt x="72" y="134"/>
                </a:cubicBezTo>
                <a:cubicBezTo>
                  <a:pt x="59" y="125"/>
                  <a:pt x="52" y="126"/>
                  <a:pt x="43" y="122"/>
                </a:cubicBezTo>
                <a:cubicBezTo>
                  <a:pt x="34" y="118"/>
                  <a:pt x="23" y="109"/>
                  <a:pt x="19" y="107"/>
                </a:cubicBezTo>
                <a:cubicBezTo>
                  <a:pt x="0" y="113"/>
                  <a:pt x="17" y="111"/>
                  <a:pt x="16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2" name="Freeform 14"/>
          <p:cNvSpPr/>
          <p:nvPr/>
        </p:nvSpPr>
        <p:spPr>
          <a:xfrm>
            <a:off x="568440" y="2222640"/>
            <a:ext cx="7797600" cy="3063600"/>
          </a:xfrm>
          <a:custGeom>
            <a:avLst/>
            <a:gdLst/>
            <a:ahLst/>
            <a:rect l="l" t="t" r="r" b="b"/>
            <a:pathLst>
              <a:path w="4912" h="1930">
                <a:moveTo>
                  <a:pt x="0" y="168"/>
                </a:moveTo>
                <a:cubicBezTo>
                  <a:pt x="18" y="141"/>
                  <a:pt x="22" y="115"/>
                  <a:pt x="40" y="88"/>
                </a:cubicBezTo>
                <a:cubicBezTo>
                  <a:pt x="43" y="51"/>
                  <a:pt x="62" y="44"/>
                  <a:pt x="72" y="8"/>
                </a:cubicBezTo>
                <a:cubicBezTo>
                  <a:pt x="74" y="0"/>
                  <a:pt x="118" y="26"/>
                  <a:pt x="126" y="29"/>
                </a:cubicBezTo>
                <a:cubicBezTo>
                  <a:pt x="135" y="33"/>
                  <a:pt x="103" y="20"/>
                  <a:pt x="111" y="26"/>
                </a:cubicBezTo>
                <a:cubicBezTo>
                  <a:pt x="118" y="31"/>
                  <a:pt x="131" y="28"/>
                  <a:pt x="138" y="32"/>
                </a:cubicBezTo>
                <a:cubicBezTo>
                  <a:pt x="155" y="41"/>
                  <a:pt x="143" y="23"/>
                  <a:pt x="160" y="32"/>
                </a:cubicBezTo>
                <a:cubicBezTo>
                  <a:pt x="212" y="58"/>
                  <a:pt x="243" y="62"/>
                  <a:pt x="282" y="89"/>
                </a:cubicBezTo>
                <a:cubicBezTo>
                  <a:pt x="315" y="100"/>
                  <a:pt x="315" y="81"/>
                  <a:pt x="360" y="74"/>
                </a:cubicBezTo>
                <a:cubicBezTo>
                  <a:pt x="383" y="76"/>
                  <a:pt x="391" y="105"/>
                  <a:pt x="423" y="101"/>
                </a:cubicBezTo>
                <a:cubicBezTo>
                  <a:pt x="455" y="97"/>
                  <a:pt x="509" y="55"/>
                  <a:pt x="552" y="48"/>
                </a:cubicBezTo>
                <a:cubicBezTo>
                  <a:pt x="595" y="51"/>
                  <a:pt x="638" y="49"/>
                  <a:pt x="680" y="56"/>
                </a:cubicBezTo>
                <a:cubicBezTo>
                  <a:pt x="716" y="62"/>
                  <a:pt x="715" y="133"/>
                  <a:pt x="747" y="149"/>
                </a:cubicBezTo>
                <a:cubicBezTo>
                  <a:pt x="767" y="159"/>
                  <a:pt x="822" y="222"/>
                  <a:pt x="843" y="227"/>
                </a:cubicBezTo>
                <a:cubicBezTo>
                  <a:pt x="900" y="313"/>
                  <a:pt x="953" y="311"/>
                  <a:pt x="992" y="408"/>
                </a:cubicBezTo>
                <a:cubicBezTo>
                  <a:pt x="1016" y="467"/>
                  <a:pt x="1044" y="500"/>
                  <a:pt x="1092" y="557"/>
                </a:cubicBezTo>
                <a:cubicBezTo>
                  <a:pt x="1113" y="596"/>
                  <a:pt x="1136" y="593"/>
                  <a:pt x="1149" y="632"/>
                </a:cubicBezTo>
                <a:cubicBezTo>
                  <a:pt x="1163" y="670"/>
                  <a:pt x="1171" y="748"/>
                  <a:pt x="1176" y="788"/>
                </a:cubicBezTo>
                <a:cubicBezTo>
                  <a:pt x="1184" y="827"/>
                  <a:pt x="1179" y="776"/>
                  <a:pt x="1182" y="875"/>
                </a:cubicBezTo>
                <a:cubicBezTo>
                  <a:pt x="1190" y="911"/>
                  <a:pt x="1213" y="968"/>
                  <a:pt x="1224" y="1004"/>
                </a:cubicBezTo>
                <a:cubicBezTo>
                  <a:pt x="1235" y="1040"/>
                  <a:pt x="1248" y="1059"/>
                  <a:pt x="1248" y="1091"/>
                </a:cubicBezTo>
                <a:cubicBezTo>
                  <a:pt x="1248" y="1123"/>
                  <a:pt x="1227" y="1147"/>
                  <a:pt x="1221" y="1196"/>
                </a:cubicBezTo>
                <a:cubicBezTo>
                  <a:pt x="1215" y="1245"/>
                  <a:pt x="1210" y="1338"/>
                  <a:pt x="1212" y="1385"/>
                </a:cubicBezTo>
                <a:cubicBezTo>
                  <a:pt x="1213" y="1408"/>
                  <a:pt x="1219" y="1458"/>
                  <a:pt x="1230" y="1478"/>
                </a:cubicBezTo>
                <a:cubicBezTo>
                  <a:pt x="1240" y="1511"/>
                  <a:pt x="1239" y="1579"/>
                  <a:pt x="1257" y="1610"/>
                </a:cubicBezTo>
                <a:cubicBezTo>
                  <a:pt x="1273" y="1646"/>
                  <a:pt x="1305" y="1698"/>
                  <a:pt x="1323" y="1694"/>
                </a:cubicBezTo>
                <a:cubicBezTo>
                  <a:pt x="1346" y="1664"/>
                  <a:pt x="1334" y="1604"/>
                  <a:pt x="1365" y="1583"/>
                </a:cubicBezTo>
                <a:cubicBezTo>
                  <a:pt x="1374" y="1572"/>
                  <a:pt x="1398" y="1577"/>
                  <a:pt x="1404" y="1613"/>
                </a:cubicBezTo>
                <a:cubicBezTo>
                  <a:pt x="1410" y="1633"/>
                  <a:pt x="1401" y="1678"/>
                  <a:pt x="1398" y="1703"/>
                </a:cubicBezTo>
                <a:cubicBezTo>
                  <a:pt x="1395" y="1728"/>
                  <a:pt x="1380" y="1742"/>
                  <a:pt x="1383" y="1766"/>
                </a:cubicBezTo>
                <a:cubicBezTo>
                  <a:pt x="1386" y="1790"/>
                  <a:pt x="1401" y="1833"/>
                  <a:pt x="1413" y="1847"/>
                </a:cubicBezTo>
                <a:cubicBezTo>
                  <a:pt x="1425" y="1867"/>
                  <a:pt x="1403" y="1852"/>
                  <a:pt x="1455" y="1853"/>
                </a:cubicBezTo>
                <a:cubicBezTo>
                  <a:pt x="1479" y="1850"/>
                  <a:pt x="1534" y="1834"/>
                  <a:pt x="1560" y="1829"/>
                </a:cubicBezTo>
                <a:cubicBezTo>
                  <a:pt x="1586" y="1824"/>
                  <a:pt x="1598" y="1815"/>
                  <a:pt x="1614" y="1820"/>
                </a:cubicBezTo>
                <a:cubicBezTo>
                  <a:pt x="1630" y="1825"/>
                  <a:pt x="1652" y="1845"/>
                  <a:pt x="1656" y="1862"/>
                </a:cubicBezTo>
                <a:cubicBezTo>
                  <a:pt x="1660" y="1879"/>
                  <a:pt x="1629" y="1921"/>
                  <a:pt x="1641" y="1925"/>
                </a:cubicBezTo>
                <a:cubicBezTo>
                  <a:pt x="1652" y="1930"/>
                  <a:pt x="1700" y="1893"/>
                  <a:pt x="1728" y="1889"/>
                </a:cubicBezTo>
                <a:cubicBezTo>
                  <a:pt x="1756" y="1885"/>
                  <a:pt x="1794" y="1904"/>
                  <a:pt x="1809" y="1901"/>
                </a:cubicBezTo>
                <a:cubicBezTo>
                  <a:pt x="1838" y="1891"/>
                  <a:pt x="1815" y="1891"/>
                  <a:pt x="1821" y="1871"/>
                </a:cubicBezTo>
                <a:cubicBezTo>
                  <a:pt x="1827" y="1851"/>
                  <a:pt x="1841" y="1806"/>
                  <a:pt x="1845" y="1781"/>
                </a:cubicBezTo>
                <a:cubicBezTo>
                  <a:pt x="1856" y="1757"/>
                  <a:pt x="1836" y="1745"/>
                  <a:pt x="1845" y="1721"/>
                </a:cubicBezTo>
                <a:cubicBezTo>
                  <a:pt x="1854" y="1697"/>
                  <a:pt x="1877" y="1670"/>
                  <a:pt x="1899" y="1637"/>
                </a:cubicBezTo>
                <a:cubicBezTo>
                  <a:pt x="1965" y="1588"/>
                  <a:pt x="1944" y="1600"/>
                  <a:pt x="1977" y="1523"/>
                </a:cubicBezTo>
                <a:cubicBezTo>
                  <a:pt x="2001" y="1490"/>
                  <a:pt x="2004" y="1462"/>
                  <a:pt x="2040" y="1430"/>
                </a:cubicBezTo>
                <a:cubicBezTo>
                  <a:pt x="2082" y="1410"/>
                  <a:pt x="2177" y="1412"/>
                  <a:pt x="2229" y="1403"/>
                </a:cubicBezTo>
                <a:cubicBezTo>
                  <a:pt x="2279" y="1391"/>
                  <a:pt x="2314" y="1390"/>
                  <a:pt x="2352" y="1376"/>
                </a:cubicBezTo>
                <a:cubicBezTo>
                  <a:pt x="2391" y="1359"/>
                  <a:pt x="2434" y="1323"/>
                  <a:pt x="2463" y="1301"/>
                </a:cubicBezTo>
                <a:cubicBezTo>
                  <a:pt x="2489" y="1294"/>
                  <a:pt x="2505" y="1256"/>
                  <a:pt x="2529" y="1244"/>
                </a:cubicBezTo>
                <a:cubicBezTo>
                  <a:pt x="2538" y="1240"/>
                  <a:pt x="2552" y="1233"/>
                  <a:pt x="2559" y="1226"/>
                </a:cubicBezTo>
                <a:cubicBezTo>
                  <a:pt x="2575" y="1210"/>
                  <a:pt x="2614" y="1233"/>
                  <a:pt x="2634" y="1226"/>
                </a:cubicBezTo>
                <a:cubicBezTo>
                  <a:pt x="2674" y="1231"/>
                  <a:pt x="2654" y="1184"/>
                  <a:pt x="2694" y="1190"/>
                </a:cubicBezTo>
                <a:cubicBezTo>
                  <a:pt x="2726" y="1195"/>
                  <a:pt x="2763" y="1115"/>
                  <a:pt x="2763" y="1115"/>
                </a:cubicBezTo>
                <a:cubicBezTo>
                  <a:pt x="2784" y="1090"/>
                  <a:pt x="2782" y="1050"/>
                  <a:pt x="2808" y="1028"/>
                </a:cubicBezTo>
                <a:cubicBezTo>
                  <a:pt x="2834" y="1006"/>
                  <a:pt x="2875" y="994"/>
                  <a:pt x="2919" y="986"/>
                </a:cubicBezTo>
                <a:cubicBezTo>
                  <a:pt x="2924" y="975"/>
                  <a:pt x="3060" y="983"/>
                  <a:pt x="3072" y="980"/>
                </a:cubicBezTo>
                <a:cubicBezTo>
                  <a:pt x="3096" y="975"/>
                  <a:pt x="3156" y="994"/>
                  <a:pt x="3195" y="989"/>
                </a:cubicBezTo>
                <a:cubicBezTo>
                  <a:pt x="3229" y="988"/>
                  <a:pt x="3246" y="996"/>
                  <a:pt x="3264" y="1016"/>
                </a:cubicBezTo>
                <a:cubicBezTo>
                  <a:pt x="3286" y="1036"/>
                  <a:pt x="3318" y="1076"/>
                  <a:pt x="3327" y="1106"/>
                </a:cubicBezTo>
                <a:cubicBezTo>
                  <a:pt x="3363" y="1103"/>
                  <a:pt x="3359" y="1114"/>
                  <a:pt x="3396" y="1100"/>
                </a:cubicBezTo>
                <a:cubicBezTo>
                  <a:pt x="3428" y="1116"/>
                  <a:pt x="3414" y="1088"/>
                  <a:pt x="3435" y="1109"/>
                </a:cubicBezTo>
                <a:cubicBezTo>
                  <a:pt x="3495" y="1133"/>
                  <a:pt x="3460" y="1107"/>
                  <a:pt x="3480" y="1130"/>
                </a:cubicBezTo>
                <a:cubicBezTo>
                  <a:pt x="3498" y="1150"/>
                  <a:pt x="3487" y="1220"/>
                  <a:pt x="3507" y="1238"/>
                </a:cubicBezTo>
                <a:cubicBezTo>
                  <a:pt x="3517" y="1247"/>
                  <a:pt x="3561" y="1247"/>
                  <a:pt x="3573" y="1253"/>
                </a:cubicBezTo>
                <a:cubicBezTo>
                  <a:pt x="3593" y="1262"/>
                  <a:pt x="3624" y="1256"/>
                  <a:pt x="3645" y="1259"/>
                </a:cubicBezTo>
                <a:cubicBezTo>
                  <a:pt x="3661" y="1264"/>
                  <a:pt x="3664" y="1230"/>
                  <a:pt x="3681" y="1232"/>
                </a:cubicBezTo>
                <a:cubicBezTo>
                  <a:pt x="3712" y="1235"/>
                  <a:pt x="3703" y="1220"/>
                  <a:pt x="3717" y="1202"/>
                </a:cubicBezTo>
                <a:cubicBezTo>
                  <a:pt x="3727" y="1189"/>
                  <a:pt x="3750" y="1163"/>
                  <a:pt x="3750" y="1124"/>
                </a:cubicBezTo>
                <a:cubicBezTo>
                  <a:pt x="3786" y="1106"/>
                  <a:pt x="3789" y="1052"/>
                  <a:pt x="3825" y="1034"/>
                </a:cubicBezTo>
                <a:cubicBezTo>
                  <a:pt x="3833" y="1023"/>
                  <a:pt x="3895" y="1073"/>
                  <a:pt x="3904" y="1064"/>
                </a:cubicBezTo>
                <a:cubicBezTo>
                  <a:pt x="3923" y="1070"/>
                  <a:pt x="3934" y="1076"/>
                  <a:pt x="3954" y="1094"/>
                </a:cubicBezTo>
                <a:cubicBezTo>
                  <a:pt x="3974" y="1112"/>
                  <a:pt x="3996" y="1158"/>
                  <a:pt x="4023" y="1172"/>
                </a:cubicBezTo>
                <a:cubicBezTo>
                  <a:pt x="4050" y="1184"/>
                  <a:pt x="4091" y="1179"/>
                  <a:pt x="4119" y="1178"/>
                </a:cubicBezTo>
                <a:cubicBezTo>
                  <a:pt x="4147" y="1177"/>
                  <a:pt x="4166" y="1185"/>
                  <a:pt x="4191" y="1166"/>
                </a:cubicBezTo>
                <a:cubicBezTo>
                  <a:pt x="4244" y="1163"/>
                  <a:pt x="4245" y="1103"/>
                  <a:pt x="4266" y="1064"/>
                </a:cubicBezTo>
                <a:cubicBezTo>
                  <a:pt x="4282" y="1063"/>
                  <a:pt x="4275" y="1025"/>
                  <a:pt x="4329" y="989"/>
                </a:cubicBezTo>
                <a:cubicBezTo>
                  <a:pt x="4343" y="975"/>
                  <a:pt x="4357" y="956"/>
                  <a:pt x="4362" y="938"/>
                </a:cubicBezTo>
                <a:cubicBezTo>
                  <a:pt x="4380" y="907"/>
                  <a:pt x="4467" y="836"/>
                  <a:pt x="4488" y="809"/>
                </a:cubicBezTo>
                <a:cubicBezTo>
                  <a:pt x="4509" y="782"/>
                  <a:pt x="4481" y="798"/>
                  <a:pt x="4488" y="776"/>
                </a:cubicBezTo>
                <a:cubicBezTo>
                  <a:pt x="4496" y="762"/>
                  <a:pt x="4498" y="695"/>
                  <a:pt x="4530" y="674"/>
                </a:cubicBezTo>
                <a:cubicBezTo>
                  <a:pt x="4560" y="651"/>
                  <a:pt x="4638" y="643"/>
                  <a:pt x="4671" y="638"/>
                </a:cubicBezTo>
                <a:cubicBezTo>
                  <a:pt x="4701" y="635"/>
                  <a:pt x="4716" y="636"/>
                  <a:pt x="4731" y="644"/>
                </a:cubicBezTo>
                <a:cubicBezTo>
                  <a:pt x="4746" y="652"/>
                  <a:pt x="4748" y="687"/>
                  <a:pt x="4761" y="689"/>
                </a:cubicBezTo>
                <a:cubicBezTo>
                  <a:pt x="4774" y="691"/>
                  <a:pt x="4787" y="660"/>
                  <a:pt x="4812" y="659"/>
                </a:cubicBezTo>
                <a:cubicBezTo>
                  <a:pt x="4837" y="658"/>
                  <a:pt x="4891" y="677"/>
                  <a:pt x="4912" y="682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971640" y="260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长江水系图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4" name="Freeform 16"/>
          <p:cNvSpPr/>
          <p:nvPr/>
        </p:nvSpPr>
        <p:spPr>
          <a:xfrm>
            <a:off x="539640" y="2205000"/>
            <a:ext cx="5221440" cy="3056040"/>
          </a:xfrm>
          <a:custGeom>
            <a:avLst/>
            <a:gdLst/>
            <a:ahLst/>
            <a:rect l="l" t="t" r="r" b="b"/>
            <a:pathLst>
              <a:path w="3289" h="1925">
                <a:moveTo>
                  <a:pt x="0" y="162"/>
                </a:moveTo>
                <a:cubicBezTo>
                  <a:pt x="11" y="129"/>
                  <a:pt x="32" y="85"/>
                  <a:pt x="46" y="54"/>
                </a:cubicBezTo>
                <a:cubicBezTo>
                  <a:pt x="65" y="10"/>
                  <a:pt x="58" y="26"/>
                  <a:pt x="76" y="6"/>
                </a:cubicBezTo>
                <a:cubicBezTo>
                  <a:pt x="89" y="0"/>
                  <a:pt x="111" y="20"/>
                  <a:pt x="124" y="24"/>
                </a:cubicBezTo>
                <a:cubicBezTo>
                  <a:pt x="137" y="27"/>
                  <a:pt x="127" y="14"/>
                  <a:pt x="156" y="24"/>
                </a:cubicBezTo>
                <a:cubicBezTo>
                  <a:pt x="185" y="34"/>
                  <a:pt x="265" y="76"/>
                  <a:pt x="298" y="84"/>
                </a:cubicBezTo>
                <a:cubicBezTo>
                  <a:pt x="332" y="96"/>
                  <a:pt x="339" y="70"/>
                  <a:pt x="356" y="72"/>
                </a:cubicBezTo>
                <a:cubicBezTo>
                  <a:pt x="373" y="74"/>
                  <a:pt x="378" y="100"/>
                  <a:pt x="402" y="98"/>
                </a:cubicBezTo>
                <a:cubicBezTo>
                  <a:pt x="426" y="96"/>
                  <a:pt x="477" y="69"/>
                  <a:pt x="500" y="60"/>
                </a:cubicBezTo>
                <a:cubicBezTo>
                  <a:pt x="523" y="53"/>
                  <a:pt x="528" y="46"/>
                  <a:pt x="542" y="44"/>
                </a:cubicBezTo>
                <a:cubicBezTo>
                  <a:pt x="556" y="42"/>
                  <a:pt x="565" y="45"/>
                  <a:pt x="584" y="46"/>
                </a:cubicBezTo>
                <a:cubicBezTo>
                  <a:pt x="602" y="48"/>
                  <a:pt x="637" y="40"/>
                  <a:pt x="658" y="48"/>
                </a:cubicBezTo>
                <a:cubicBezTo>
                  <a:pt x="676" y="51"/>
                  <a:pt x="682" y="58"/>
                  <a:pt x="690" y="66"/>
                </a:cubicBezTo>
                <a:cubicBezTo>
                  <a:pt x="698" y="74"/>
                  <a:pt x="700" y="83"/>
                  <a:pt x="708" y="96"/>
                </a:cubicBezTo>
                <a:cubicBezTo>
                  <a:pt x="718" y="107"/>
                  <a:pt x="723" y="127"/>
                  <a:pt x="740" y="144"/>
                </a:cubicBezTo>
                <a:cubicBezTo>
                  <a:pt x="757" y="161"/>
                  <a:pt x="789" y="181"/>
                  <a:pt x="808" y="198"/>
                </a:cubicBezTo>
                <a:cubicBezTo>
                  <a:pt x="821" y="224"/>
                  <a:pt x="838" y="219"/>
                  <a:pt x="852" y="244"/>
                </a:cubicBezTo>
                <a:cubicBezTo>
                  <a:pt x="876" y="286"/>
                  <a:pt x="923" y="304"/>
                  <a:pt x="952" y="342"/>
                </a:cubicBezTo>
                <a:cubicBezTo>
                  <a:pt x="960" y="373"/>
                  <a:pt x="1013" y="449"/>
                  <a:pt x="1032" y="474"/>
                </a:cubicBezTo>
                <a:cubicBezTo>
                  <a:pt x="1040" y="498"/>
                  <a:pt x="1072" y="526"/>
                  <a:pt x="1080" y="550"/>
                </a:cubicBezTo>
                <a:cubicBezTo>
                  <a:pt x="1083" y="559"/>
                  <a:pt x="1125" y="599"/>
                  <a:pt x="1132" y="606"/>
                </a:cubicBezTo>
                <a:cubicBezTo>
                  <a:pt x="1157" y="634"/>
                  <a:pt x="1152" y="679"/>
                  <a:pt x="1168" y="712"/>
                </a:cubicBezTo>
                <a:cubicBezTo>
                  <a:pt x="1187" y="749"/>
                  <a:pt x="1152" y="764"/>
                  <a:pt x="1176" y="802"/>
                </a:cubicBezTo>
                <a:cubicBezTo>
                  <a:pt x="1181" y="810"/>
                  <a:pt x="1171" y="818"/>
                  <a:pt x="1178" y="826"/>
                </a:cubicBezTo>
                <a:cubicBezTo>
                  <a:pt x="1185" y="835"/>
                  <a:pt x="1162" y="825"/>
                  <a:pt x="1168" y="834"/>
                </a:cubicBezTo>
                <a:cubicBezTo>
                  <a:pt x="1187" y="862"/>
                  <a:pt x="1186" y="905"/>
                  <a:pt x="1194" y="938"/>
                </a:cubicBezTo>
                <a:cubicBezTo>
                  <a:pt x="1199" y="973"/>
                  <a:pt x="1241" y="993"/>
                  <a:pt x="1246" y="1086"/>
                </a:cubicBezTo>
                <a:cubicBezTo>
                  <a:pt x="1250" y="1122"/>
                  <a:pt x="1224" y="1128"/>
                  <a:pt x="1218" y="1156"/>
                </a:cubicBezTo>
                <a:cubicBezTo>
                  <a:pt x="1212" y="1184"/>
                  <a:pt x="1212" y="1210"/>
                  <a:pt x="1210" y="1252"/>
                </a:cubicBezTo>
                <a:cubicBezTo>
                  <a:pt x="1208" y="1294"/>
                  <a:pt x="1204" y="1367"/>
                  <a:pt x="1208" y="1408"/>
                </a:cubicBezTo>
                <a:cubicBezTo>
                  <a:pt x="1212" y="1449"/>
                  <a:pt x="1219" y="1454"/>
                  <a:pt x="1232" y="1496"/>
                </a:cubicBezTo>
                <a:cubicBezTo>
                  <a:pt x="1234" y="1548"/>
                  <a:pt x="1241" y="1631"/>
                  <a:pt x="1288" y="1662"/>
                </a:cubicBezTo>
                <a:cubicBezTo>
                  <a:pt x="1318" y="1706"/>
                  <a:pt x="1308" y="1700"/>
                  <a:pt x="1328" y="1670"/>
                </a:cubicBezTo>
                <a:cubicBezTo>
                  <a:pt x="1339" y="1636"/>
                  <a:pt x="1341" y="1597"/>
                  <a:pt x="1366" y="1572"/>
                </a:cubicBezTo>
                <a:cubicBezTo>
                  <a:pt x="1374" y="1563"/>
                  <a:pt x="1396" y="1579"/>
                  <a:pt x="1400" y="1608"/>
                </a:cubicBezTo>
                <a:cubicBezTo>
                  <a:pt x="1405" y="1628"/>
                  <a:pt x="1398" y="1665"/>
                  <a:pt x="1396" y="1692"/>
                </a:cubicBezTo>
                <a:cubicBezTo>
                  <a:pt x="1394" y="1719"/>
                  <a:pt x="1382" y="1745"/>
                  <a:pt x="1386" y="1772"/>
                </a:cubicBezTo>
                <a:cubicBezTo>
                  <a:pt x="1388" y="1800"/>
                  <a:pt x="1392" y="1840"/>
                  <a:pt x="1422" y="1852"/>
                </a:cubicBezTo>
                <a:cubicBezTo>
                  <a:pt x="1452" y="1860"/>
                  <a:pt x="1537" y="1829"/>
                  <a:pt x="1566" y="1822"/>
                </a:cubicBezTo>
                <a:cubicBezTo>
                  <a:pt x="1595" y="1817"/>
                  <a:pt x="1586" y="1809"/>
                  <a:pt x="1598" y="1810"/>
                </a:cubicBezTo>
                <a:cubicBezTo>
                  <a:pt x="1610" y="1811"/>
                  <a:pt x="1628" y="1818"/>
                  <a:pt x="1638" y="1828"/>
                </a:cubicBezTo>
                <a:cubicBezTo>
                  <a:pt x="1645" y="1837"/>
                  <a:pt x="1657" y="1853"/>
                  <a:pt x="1656" y="1868"/>
                </a:cubicBezTo>
                <a:cubicBezTo>
                  <a:pt x="1655" y="1883"/>
                  <a:pt x="1619" y="1918"/>
                  <a:pt x="1630" y="1920"/>
                </a:cubicBezTo>
                <a:cubicBezTo>
                  <a:pt x="1641" y="1925"/>
                  <a:pt x="1687" y="1897"/>
                  <a:pt x="1722" y="1882"/>
                </a:cubicBezTo>
                <a:cubicBezTo>
                  <a:pt x="1752" y="1878"/>
                  <a:pt x="1795" y="1908"/>
                  <a:pt x="1812" y="1898"/>
                </a:cubicBezTo>
                <a:cubicBezTo>
                  <a:pt x="1829" y="1888"/>
                  <a:pt x="1820" y="1846"/>
                  <a:pt x="1826" y="1824"/>
                </a:cubicBezTo>
                <a:cubicBezTo>
                  <a:pt x="1829" y="1802"/>
                  <a:pt x="1844" y="1782"/>
                  <a:pt x="1846" y="1764"/>
                </a:cubicBezTo>
                <a:cubicBezTo>
                  <a:pt x="1848" y="1746"/>
                  <a:pt x="1838" y="1731"/>
                  <a:pt x="1840" y="1718"/>
                </a:cubicBezTo>
                <a:cubicBezTo>
                  <a:pt x="1842" y="1705"/>
                  <a:pt x="1845" y="1704"/>
                  <a:pt x="1858" y="1686"/>
                </a:cubicBezTo>
                <a:cubicBezTo>
                  <a:pt x="1863" y="1668"/>
                  <a:pt x="1901" y="1625"/>
                  <a:pt x="1916" y="1612"/>
                </a:cubicBezTo>
                <a:cubicBezTo>
                  <a:pt x="1946" y="1586"/>
                  <a:pt x="1948" y="1552"/>
                  <a:pt x="1976" y="1524"/>
                </a:cubicBezTo>
                <a:cubicBezTo>
                  <a:pt x="1978" y="1518"/>
                  <a:pt x="1993" y="1474"/>
                  <a:pt x="1996" y="1468"/>
                </a:cubicBezTo>
                <a:cubicBezTo>
                  <a:pt x="2003" y="1452"/>
                  <a:pt x="2013" y="1441"/>
                  <a:pt x="2030" y="1432"/>
                </a:cubicBezTo>
                <a:cubicBezTo>
                  <a:pt x="2047" y="1423"/>
                  <a:pt x="2077" y="1416"/>
                  <a:pt x="2096" y="1412"/>
                </a:cubicBezTo>
                <a:cubicBezTo>
                  <a:pt x="2114" y="1406"/>
                  <a:pt x="2124" y="1413"/>
                  <a:pt x="2146" y="1410"/>
                </a:cubicBezTo>
                <a:cubicBezTo>
                  <a:pt x="2168" y="1407"/>
                  <a:pt x="2196" y="1400"/>
                  <a:pt x="2228" y="1394"/>
                </a:cubicBezTo>
                <a:cubicBezTo>
                  <a:pt x="2264" y="1385"/>
                  <a:pt x="2301" y="1379"/>
                  <a:pt x="2338" y="1374"/>
                </a:cubicBezTo>
                <a:cubicBezTo>
                  <a:pt x="2362" y="1362"/>
                  <a:pt x="2384" y="1348"/>
                  <a:pt x="2408" y="1336"/>
                </a:cubicBezTo>
                <a:cubicBezTo>
                  <a:pt x="2443" y="1319"/>
                  <a:pt x="2445" y="1291"/>
                  <a:pt x="2484" y="1278"/>
                </a:cubicBezTo>
                <a:cubicBezTo>
                  <a:pt x="2497" y="1268"/>
                  <a:pt x="2548" y="1224"/>
                  <a:pt x="2560" y="1222"/>
                </a:cubicBezTo>
                <a:cubicBezTo>
                  <a:pt x="2584" y="1217"/>
                  <a:pt x="2606" y="1224"/>
                  <a:pt x="2630" y="1222"/>
                </a:cubicBezTo>
                <a:cubicBezTo>
                  <a:pt x="2640" y="1220"/>
                  <a:pt x="2655" y="1209"/>
                  <a:pt x="2662" y="1202"/>
                </a:cubicBezTo>
                <a:cubicBezTo>
                  <a:pt x="2675" y="1189"/>
                  <a:pt x="2678" y="1198"/>
                  <a:pt x="2686" y="1182"/>
                </a:cubicBezTo>
                <a:cubicBezTo>
                  <a:pt x="2694" y="1174"/>
                  <a:pt x="2722" y="1174"/>
                  <a:pt x="2730" y="1166"/>
                </a:cubicBezTo>
                <a:cubicBezTo>
                  <a:pt x="2741" y="1156"/>
                  <a:pt x="2742" y="1144"/>
                  <a:pt x="2752" y="1124"/>
                </a:cubicBezTo>
                <a:cubicBezTo>
                  <a:pt x="2774" y="1090"/>
                  <a:pt x="2759" y="1068"/>
                  <a:pt x="2792" y="1046"/>
                </a:cubicBezTo>
                <a:cubicBezTo>
                  <a:pt x="2797" y="1032"/>
                  <a:pt x="2803" y="1037"/>
                  <a:pt x="2812" y="1026"/>
                </a:cubicBezTo>
                <a:cubicBezTo>
                  <a:pt x="2827" y="1008"/>
                  <a:pt x="2889" y="981"/>
                  <a:pt x="2898" y="980"/>
                </a:cubicBezTo>
                <a:cubicBezTo>
                  <a:pt x="2942" y="975"/>
                  <a:pt x="2980" y="983"/>
                  <a:pt x="3022" y="972"/>
                </a:cubicBezTo>
                <a:cubicBezTo>
                  <a:pt x="3074" y="976"/>
                  <a:pt x="3136" y="975"/>
                  <a:pt x="3188" y="982"/>
                </a:cubicBezTo>
                <a:cubicBezTo>
                  <a:pt x="3197" y="983"/>
                  <a:pt x="3224" y="991"/>
                  <a:pt x="3232" y="994"/>
                </a:cubicBezTo>
                <a:cubicBezTo>
                  <a:pt x="3257" y="1002"/>
                  <a:pt x="3254" y="1012"/>
                  <a:pt x="3276" y="1028"/>
                </a:cubicBezTo>
                <a:cubicBezTo>
                  <a:pt x="3285" y="1035"/>
                  <a:pt x="3286" y="1036"/>
                  <a:pt x="3289" y="10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5" name="Freeform 17"/>
          <p:cNvSpPr/>
          <p:nvPr/>
        </p:nvSpPr>
        <p:spPr>
          <a:xfrm>
            <a:off x="5867280" y="3859200"/>
            <a:ext cx="1216080" cy="370080"/>
          </a:xfrm>
          <a:custGeom>
            <a:avLst/>
            <a:gdLst/>
            <a:ahLst/>
            <a:rect l="l" t="t" r="r" b="b"/>
            <a:pathLst>
              <a:path w="766" h="233">
                <a:moveTo>
                  <a:pt x="0" y="74"/>
                </a:moveTo>
                <a:cubicBezTo>
                  <a:pt x="21" y="88"/>
                  <a:pt x="16" y="76"/>
                  <a:pt x="48" y="75"/>
                </a:cubicBezTo>
                <a:cubicBezTo>
                  <a:pt x="69" y="72"/>
                  <a:pt x="95" y="82"/>
                  <a:pt x="116" y="85"/>
                </a:cubicBezTo>
                <a:cubicBezTo>
                  <a:pt x="129" y="92"/>
                  <a:pt x="122" y="75"/>
                  <a:pt x="136" y="89"/>
                </a:cubicBezTo>
                <a:cubicBezTo>
                  <a:pt x="139" y="92"/>
                  <a:pt x="144" y="101"/>
                  <a:pt x="144" y="101"/>
                </a:cubicBezTo>
                <a:cubicBezTo>
                  <a:pt x="149" y="115"/>
                  <a:pt x="151" y="176"/>
                  <a:pt x="162" y="195"/>
                </a:cubicBezTo>
                <a:cubicBezTo>
                  <a:pt x="173" y="214"/>
                  <a:pt x="191" y="211"/>
                  <a:pt x="208" y="217"/>
                </a:cubicBezTo>
                <a:cubicBezTo>
                  <a:pt x="227" y="222"/>
                  <a:pt x="235" y="228"/>
                  <a:pt x="264" y="229"/>
                </a:cubicBezTo>
                <a:cubicBezTo>
                  <a:pt x="282" y="233"/>
                  <a:pt x="299" y="227"/>
                  <a:pt x="316" y="219"/>
                </a:cubicBezTo>
                <a:cubicBezTo>
                  <a:pt x="333" y="210"/>
                  <a:pt x="342" y="201"/>
                  <a:pt x="368" y="193"/>
                </a:cubicBezTo>
                <a:cubicBezTo>
                  <a:pt x="379" y="182"/>
                  <a:pt x="392" y="146"/>
                  <a:pt x="398" y="141"/>
                </a:cubicBezTo>
                <a:cubicBezTo>
                  <a:pt x="409" y="131"/>
                  <a:pt x="402" y="96"/>
                  <a:pt x="416" y="91"/>
                </a:cubicBezTo>
                <a:cubicBezTo>
                  <a:pt x="433" y="78"/>
                  <a:pt x="437" y="57"/>
                  <a:pt x="448" y="41"/>
                </a:cubicBezTo>
                <a:cubicBezTo>
                  <a:pt x="454" y="31"/>
                  <a:pt x="468" y="9"/>
                  <a:pt x="478" y="3"/>
                </a:cubicBezTo>
                <a:cubicBezTo>
                  <a:pt x="483" y="0"/>
                  <a:pt x="514" y="15"/>
                  <a:pt x="514" y="15"/>
                </a:cubicBezTo>
                <a:cubicBezTo>
                  <a:pt x="549" y="18"/>
                  <a:pt x="561" y="30"/>
                  <a:pt x="592" y="45"/>
                </a:cubicBezTo>
                <a:cubicBezTo>
                  <a:pt x="611" y="57"/>
                  <a:pt x="622" y="68"/>
                  <a:pt x="634" y="81"/>
                </a:cubicBezTo>
                <a:cubicBezTo>
                  <a:pt x="646" y="94"/>
                  <a:pt x="651" y="110"/>
                  <a:pt x="664" y="121"/>
                </a:cubicBezTo>
                <a:cubicBezTo>
                  <a:pt x="679" y="136"/>
                  <a:pt x="692" y="144"/>
                  <a:pt x="712" y="149"/>
                </a:cubicBezTo>
                <a:cubicBezTo>
                  <a:pt x="727" y="159"/>
                  <a:pt x="750" y="145"/>
                  <a:pt x="766" y="145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76" name="Freeform 18"/>
          <p:cNvSpPr/>
          <p:nvPr/>
        </p:nvSpPr>
        <p:spPr>
          <a:xfrm>
            <a:off x="7169040" y="3222720"/>
            <a:ext cx="1193760" cy="866520"/>
          </a:xfrm>
          <a:custGeom>
            <a:avLst/>
            <a:gdLst/>
            <a:ahLst/>
            <a:rect l="l" t="t" r="r" b="b"/>
            <a:pathLst>
              <a:path w="752" h="546">
                <a:moveTo>
                  <a:pt x="0" y="546"/>
                </a:moveTo>
                <a:cubicBezTo>
                  <a:pt x="7" y="545"/>
                  <a:pt x="32" y="535"/>
                  <a:pt x="42" y="532"/>
                </a:cubicBezTo>
                <a:cubicBezTo>
                  <a:pt x="52" y="529"/>
                  <a:pt x="52" y="533"/>
                  <a:pt x="60" y="528"/>
                </a:cubicBezTo>
                <a:cubicBezTo>
                  <a:pt x="65" y="512"/>
                  <a:pt x="70" y="507"/>
                  <a:pt x="88" y="502"/>
                </a:cubicBezTo>
                <a:cubicBezTo>
                  <a:pt x="88" y="499"/>
                  <a:pt x="89" y="471"/>
                  <a:pt x="92" y="462"/>
                </a:cubicBezTo>
                <a:cubicBezTo>
                  <a:pt x="99" y="437"/>
                  <a:pt x="126" y="398"/>
                  <a:pt x="142" y="380"/>
                </a:cubicBezTo>
                <a:cubicBezTo>
                  <a:pt x="160" y="359"/>
                  <a:pt x="167" y="341"/>
                  <a:pt x="196" y="334"/>
                </a:cubicBezTo>
                <a:cubicBezTo>
                  <a:pt x="208" y="322"/>
                  <a:pt x="201" y="310"/>
                  <a:pt x="212" y="296"/>
                </a:cubicBezTo>
                <a:cubicBezTo>
                  <a:pt x="214" y="293"/>
                  <a:pt x="224" y="306"/>
                  <a:pt x="224" y="306"/>
                </a:cubicBezTo>
                <a:cubicBezTo>
                  <a:pt x="229" y="302"/>
                  <a:pt x="240" y="276"/>
                  <a:pt x="252" y="262"/>
                </a:cubicBezTo>
                <a:cubicBezTo>
                  <a:pt x="264" y="248"/>
                  <a:pt x="280" y="237"/>
                  <a:pt x="294" y="224"/>
                </a:cubicBezTo>
                <a:cubicBezTo>
                  <a:pt x="299" y="203"/>
                  <a:pt x="313" y="187"/>
                  <a:pt x="334" y="182"/>
                </a:cubicBezTo>
                <a:cubicBezTo>
                  <a:pt x="348" y="168"/>
                  <a:pt x="325" y="156"/>
                  <a:pt x="330" y="138"/>
                </a:cubicBezTo>
                <a:cubicBezTo>
                  <a:pt x="332" y="129"/>
                  <a:pt x="332" y="103"/>
                  <a:pt x="336" y="96"/>
                </a:cubicBezTo>
                <a:cubicBezTo>
                  <a:pt x="348" y="72"/>
                  <a:pt x="342" y="98"/>
                  <a:pt x="352" y="68"/>
                </a:cubicBezTo>
                <a:cubicBezTo>
                  <a:pt x="357" y="56"/>
                  <a:pt x="368" y="42"/>
                  <a:pt x="386" y="34"/>
                </a:cubicBezTo>
                <a:cubicBezTo>
                  <a:pt x="403" y="25"/>
                  <a:pt x="434" y="20"/>
                  <a:pt x="454" y="16"/>
                </a:cubicBezTo>
                <a:cubicBezTo>
                  <a:pt x="470" y="13"/>
                  <a:pt x="489" y="12"/>
                  <a:pt x="504" y="8"/>
                </a:cubicBezTo>
                <a:cubicBezTo>
                  <a:pt x="519" y="7"/>
                  <a:pt x="533" y="0"/>
                  <a:pt x="546" y="2"/>
                </a:cubicBezTo>
                <a:cubicBezTo>
                  <a:pt x="559" y="4"/>
                  <a:pt x="573" y="9"/>
                  <a:pt x="582" y="18"/>
                </a:cubicBezTo>
                <a:cubicBezTo>
                  <a:pt x="591" y="24"/>
                  <a:pt x="592" y="53"/>
                  <a:pt x="598" y="58"/>
                </a:cubicBezTo>
                <a:cubicBezTo>
                  <a:pt x="604" y="63"/>
                  <a:pt x="608" y="52"/>
                  <a:pt x="618" y="46"/>
                </a:cubicBezTo>
                <a:cubicBezTo>
                  <a:pt x="627" y="43"/>
                  <a:pt x="646" y="22"/>
                  <a:pt x="656" y="20"/>
                </a:cubicBezTo>
                <a:cubicBezTo>
                  <a:pt x="666" y="18"/>
                  <a:pt x="672" y="33"/>
                  <a:pt x="680" y="36"/>
                </a:cubicBezTo>
                <a:cubicBezTo>
                  <a:pt x="689" y="37"/>
                  <a:pt x="697" y="37"/>
                  <a:pt x="706" y="38"/>
                </a:cubicBezTo>
                <a:cubicBezTo>
                  <a:pt x="711" y="39"/>
                  <a:pt x="722" y="42"/>
                  <a:pt x="722" y="42"/>
                </a:cubicBezTo>
                <a:cubicBezTo>
                  <a:pt x="730" y="47"/>
                  <a:pt x="746" y="47"/>
                  <a:pt x="752" y="4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77" name="Group 25"/>
          <p:cNvGrpSpPr/>
          <p:nvPr/>
        </p:nvGrpSpPr>
        <p:grpSpPr>
          <a:xfrm>
            <a:off x="5616720" y="3550320"/>
            <a:ext cx="485640" cy="412200"/>
            <a:chOff x="5616720" y="3550320"/>
            <a:chExt cx="485640" cy="412200"/>
          </a:xfrm>
        </p:grpSpPr>
        <p:sp>
          <p:nvSpPr>
            <p:cNvPr id="78" name="Oval 26"/>
            <p:cNvSpPr/>
            <p:nvPr/>
          </p:nvSpPr>
          <p:spPr>
            <a:xfrm>
              <a:off x="5791320" y="38862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5616720" y="35503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宜昌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80" name="Group 28"/>
          <p:cNvGrpSpPr/>
          <p:nvPr/>
        </p:nvGrpSpPr>
        <p:grpSpPr>
          <a:xfrm>
            <a:off x="6877080" y="3652200"/>
            <a:ext cx="790200" cy="488160"/>
            <a:chOff x="6877080" y="3652200"/>
            <a:chExt cx="790200" cy="488160"/>
          </a:xfrm>
        </p:grpSpPr>
        <p:sp>
          <p:nvSpPr>
            <p:cNvPr id="81" name="Oval 29"/>
            <p:cNvSpPr/>
            <p:nvPr/>
          </p:nvSpPr>
          <p:spPr>
            <a:xfrm>
              <a:off x="7173360" y="4064040"/>
              <a:ext cx="9864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82" name="Text Box 30"/>
            <p:cNvSpPr/>
            <p:nvPr/>
          </p:nvSpPr>
          <p:spPr>
            <a:xfrm>
              <a:off x="6877080" y="3652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湖口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83" name="Group 31"/>
          <p:cNvGrpSpPr/>
          <p:nvPr/>
        </p:nvGrpSpPr>
        <p:grpSpPr>
          <a:xfrm>
            <a:off x="7953840" y="2772360"/>
            <a:ext cx="551160" cy="580320"/>
            <a:chOff x="7953840" y="2772360"/>
            <a:chExt cx="551160" cy="580320"/>
          </a:xfrm>
        </p:grpSpPr>
        <p:sp>
          <p:nvSpPr>
            <p:cNvPr id="84" name="Oval 32"/>
            <p:cNvSpPr/>
            <p:nvPr/>
          </p:nvSpPr>
          <p:spPr>
            <a:xfrm>
              <a:off x="8381880" y="32767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7953840" y="277236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上 海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86" name="Freeform 34"/>
          <p:cNvSpPr/>
          <p:nvPr/>
        </p:nvSpPr>
        <p:spPr>
          <a:xfrm>
            <a:off x="8458200" y="5415120"/>
            <a:ext cx="345960" cy="376200"/>
          </a:xfrm>
          <a:custGeom>
            <a:avLst/>
            <a:gdLst/>
            <a:ahLst/>
            <a:rect l="l" t="t" r="r" b="b"/>
            <a:pathLst>
              <a:path w="218" h="237">
                <a:moveTo>
                  <a:pt x="0" y="228"/>
                </a:moveTo>
                <a:cubicBezTo>
                  <a:pt x="8" y="196"/>
                  <a:pt x="15" y="162"/>
                  <a:pt x="30" y="132"/>
                </a:cubicBezTo>
                <a:cubicBezTo>
                  <a:pt x="41" y="110"/>
                  <a:pt x="67" y="79"/>
                  <a:pt x="81" y="60"/>
                </a:cubicBezTo>
                <a:cubicBezTo>
                  <a:pt x="92" y="46"/>
                  <a:pt x="99" y="30"/>
                  <a:pt x="117" y="24"/>
                </a:cubicBezTo>
                <a:cubicBezTo>
                  <a:pt x="128" y="16"/>
                  <a:pt x="133" y="7"/>
                  <a:pt x="144" y="0"/>
                </a:cubicBezTo>
                <a:cubicBezTo>
                  <a:pt x="168" y="5"/>
                  <a:pt x="156" y="16"/>
                  <a:pt x="174" y="18"/>
                </a:cubicBezTo>
                <a:cubicBezTo>
                  <a:pt x="218" y="23"/>
                  <a:pt x="216" y="7"/>
                  <a:pt x="216" y="27"/>
                </a:cubicBezTo>
                <a:lnTo>
                  <a:pt x="216" y="237"/>
                </a:lnTo>
                <a:lnTo>
                  <a:pt x="24" y="237"/>
                </a:lnTo>
              </a:path>
            </a:pathLst>
          </a:custGeom>
          <a:solidFill>
            <a:srgbClr val="0000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87" name="Group 35"/>
          <p:cNvGrpSpPr/>
          <p:nvPr/>
        </p:nvGrpSpPr>
        <p:grpSpPr>
          <a:xfrm>
            <a:off x="2362320" y="3048120"/>
            <a:ext cx="3047760" cy="901440"/>
            <a:chOff x="2362320" y="3048120"/>
            <a:chExt cx="3047760" cy="901440"/>
          </a:xfrm>
        </p:grpSpPr>
        <p:sp>
          <p:nvSpPr>
            <p:cNvPr id="88" name="Text Box 36"/>
            <p:cNvSpPr/>
            <p:nvPr/>
          </p:nvSpPr>
          <p:spPr>
            <a:xfrm>
              <a:off x="2362320" y="3048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上</a:t>
              </a: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89" name="Text Box 37"/>
            <p:cNvSpPr/>
            <p:nvPr/>
          </p:nvSpPr>
          <p:spPr>
            <a:xfrm>
              <a:off x="4724280" y="3429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游</a:t>
              </a: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90" name="Text Box 38"/>
          <p:cNvSpPr/>
          <p:nvPr/>
        </p:nvSpPr>
        <p:spPr>
          <a:xfrm>
            <a:off x="6095880" y="4129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游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91" name="Text Box 39"/>
          <p:cNvSpPr/>
          <p:nvPr/>
        </p:nvSpPr>
        <p:spPr>
          <a:xfrm>
            <a:off x="74674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游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92" name="Picture 23" descr="复件 思考"/>
          <p:cNvPicPr/>
          <p:nvPr/>
        </p:nvPicPr>
        <p:blipFill>
          <a:blip r:embed="rId2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1"/>
          <p:cNvSpPr/>
          <p:nvPr/>
        </p:nvSpPr>
        <p:spPr>
          <a:xfrm>
            <a:off x="8597880" y="3067200"/>
            <a:ext cx="5461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东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260280" y="2279520"/>
            <a:ext cx="14763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唐古拉山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95" name="Group 46"/>
          <p:cNvGrpSpPr/>
          <p:nvPr/>
        </p:nvGrpSpPr>
        <p:grpSpPr>
          <a:xfrm>
            <a:off x="4049640" y="3974040"/>
            <a:ext cx="555480" cy="398880"/>
            <a:chOff x="4049640" y="3974040"/>
            <a:chExt cx="555480" cy="398880"/>
          </a:xfrm>
        </p:grpSpPr>
        <p:sp>
          <p:nvSpPr>
            <p:cNvPr id="96" name="Oval 47"/>
            <p:cNvSpPr/>
            <p:nvPr/>
          </p:nvSpPr>
          <p:spPr>
            <a:xfrm>
              <a:off x="4528800" y="41576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97" name="Text Box 48"/>
            <p:cNvSpPr/>
            <p:nvPr/>
          </p:nvSpPr>
          <p:spPr>
            <a:xfrm>
              <a:off x="4049640" y="3974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重庆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98" name="Group 49"/>
          <p:cNvGrpSpPr/>
          <p:nvPr/>
        </p:nvGrpSpPr>
        <p:grpSpPr>
          <a:xfrm>
            <a:off x="6447240" y="3474000"/>
            <a:ext cx="551160" cy="412200"/>
            <a:chOff x="6447240" y="3474000"/>
            <a:chExt cx="551160" cy="412200"/>
          </a:xfrm>
        </p:grpSpPr>
        <p:sp>
          <p:nvSpPr>
            <p:cNvPr id="99" name="Oval 50"/>
            <p:cNvSpPr/>
            <p:nvPr/>
          </p:nvSpPr>
          <p:spPr>
            <a:xfrm>
              <a:off x="6629400" y="3809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6447240" y="347400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武 汉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01" name="Group 52"/>
          <p:cNvGrpSpPr/>
          <p:nvPr/>
        </p:nvGrpSpPr>
        <p:grpSpPr>
          <a:xfrm>
            <a:off x="7949160" y="2780280"/>
            <a:ext cx="551160" cy="580320"/>
            <a:chOff x="7949160" y="2780280"/>
            <a:chExt cx="551160" cy="580320"/>
          </a:xfrm>
        </p:grpSpPr>
        <p:sp>
          <p:nvSpPr>
            <p:cNvPr id="102" name="Oval 53"/>
            <p:cNvSpPr/>
            <p:nvPr/>
          </p:nvSpPr>
          <p:spPr>
            <a:xfrm>
              <a:off x="8377200" y="32846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03" name="Text Box 54"/>
            <p:cNvSpPr/>
            <p:nvPr/>
          </p:nvSpPr>
          <p:spPr>
            <a:xfrm>
              <a:off x="7949160" y="2780280"/>
              <a:ext cx="55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上 海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104" name="Rectangle 55"/>
          <p:cNvSpPr/>
          <p:nvPr/>
        </p:nvSpPr>
        <p:spPr>
          <a:xfrm>
            <a:off x="-49320" y="1700280"/>
            <a:ext cx="12020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</a:rPr>
              <a:t>·</a:t>
            </a:r>
            <a:endParaRPr b="0" lang="en-US" sz="4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14560" y="33984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大声读课文第一节，并用几个词语来形容一下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74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23"/>
          <p:cNvSpPr/>
          <p:nvPr/>
        </p:nvSpPr>
        <p:spPr>
          <a:xfrm>
            <a:off x="1116000" y="101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1530360" y="1052640"/>
            <a:ext cx="14000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从雪山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春潮是你的丰采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向东海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用甘甜的乳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哺育各族儿女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用健美的臂膀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挽起高山大海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3830040" y="145728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源远流长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8" name="AutoShape 21"/>
          <p:cNvSpPr/>
          <p:nvPr/>
        </p:nvSpPr>
        <p:spPr>
          <a:xfrm>
            <a:off x="5580000" y="4653000"/>
            <a:ext cx="360360" cy="914400"/>
          </a:xfrm>
          <a:custGeom>
            <a:avLst/>
            <a:gdLst>
              <a:gd name="textAreaLeft" fmla="*/ 0 w 360360"/>
              <a:gd name="textAreaRight" fmla="*/ 12996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79" name="AutoShape 23"/>
          <p:cNvSpPr/>
          <p:nvPr/>
        </p:nvSpPr>
        <p:spPr>
          <a:xfrm>
            <a:off x="1042920" y="39337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0" name="AutoShape 25"/>
          <p:cNvSpPr/>
          <p:nvPr/>
        </p:nvSpPr>
        <p:spPr>
          <a:xfrm>
            <a:off x="3492360" y="1268280"/>
            <a:ext cx="287640" cy="1224000"/>
          </a:xfrm>
          <a:custGeom>
            <a:avLst/>
            <a:gdLst>
              <a:gd name="textAreaLeft" fmla="*/ 0 w 287640"/>
              <a:gd name="textAreaRight" fmla="*/ 103680 w 287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3860280" y="260820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宏伟博大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2" name="AutoShape 29"/>
          <p:cNvSpPr/>
          <p:nvPr/>
        </p:nvSpPr>
        <p:spPr>
          <a:xfrm>
            <a:off x="3492360" y="2781360"/>
            <a:ext cx="287640" cy="503280"/>
          </a:xfrm>
          <a:custGeom>
            <a:avLst/>
            <a:gdLst>
              <a:gd name="textAreaLeft" fmla="*/ 0 w 287640"/>
              <a:gd name="textAreaRight" fmla="*/ 103680 w 287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3" name="Rectangle 30"/>
          <p:cNvSpPr/>
          <p:nvPr/>
        </p:nvSpPr>
        <p:spPr>
          <a:xfrm>
            <a:off x="3830040" y="340056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姿多彩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4" name="AutoShape 31"/>
          <p:cNvSpPr/>
          <p:nvPr/>
        </p:nvSpPr>
        <p:spPr>
          <a:xfrm>
            <a:off x="3492360" y="3571920"/>
            <a:ext cx="287640" cy="504720"/>
          </a:xfrm>
          <a:custGeom>
            <a:avLst/>
            <a:gdLst>
              <a:gd name="textAreaLeft" fmla="*/ 0 w 287640"/>
              <a:gd name="textAreaRight" fmla="*/ 103680 w 287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5" name="Text Box 32"/>
          <p:cNvSpPr/>
          <p:nvPr/>
        </p:nvSpPr>
        <p:spPr>
          <a:xfrm>
            <a:off x="1116000" y="5373720"/>
            <a:ext cx="38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这一节抒发了作者什么情怀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→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86" name="Rectangle 33"/>
          <p:cNvSpPr/>
          <p:nvPr/>
        </p:nvSpPr>
        <p:spPr>
          <a:xfrm>
            <a:off x="4788000" y="5589720"/>
            <a:ext cx="3024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赞美长江，依恋长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87" name="Picture 34" descr="西陵峡2"/>
          <p:cNvPicPr/>
          <p:nvPr/>
        </p:nvPicPr>
        <p:blipFill>
          <a:blip r:embed="rId2"/>
          <a:stretch/>
        </p:blipFill>
        <p:spPr>
          <a:xfrm>
            <a:off x="7308720" y="5611680"/>
            <a:ext cx="180036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1114560" y="33984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大声读课文第二节，并用几个词语来形容一下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48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23"/>
          <p:cNvSpPr/>
          <p:nvPr/>
        </p:nvSpPr>
        <p:spPr>
          <a:xfrm>
            <a:off x="1116000" y="101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486080" y="1052640"/>
            <a:ext cx="15523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从远古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巨浪 荡涤着尘埃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向未来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涛声回荡在天外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用纯洁的清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灌溉花的国土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用磅礴的力量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830040" y="109692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古老悠久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5580000" y="4653000"/>
            <a:ext cx="360360" cy="914400"/>
          </a:xfrm>
          <a:custGeom>
            <a:avLst/>
            <a:gdLst>
              <a:gd name="textAreaLeft" fmla="*/ 0 w 360360"/>
              <a:gd name="textAreaRight" fmla="*/ 12996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1042920" y="39337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5" name="AutoShape 9"/>
          <p:cNvSpPr/>
          <p:nvPr/>
        </p:nvSpPr>
        <p:spPr>
          <a:xfrm>
            <a:off x="3492360" y="1268280"/>
            <a:ext cx="287640" cy="505080"/>
          </a:xfrm>
          <a:custGeom>
            <a:avLst/>
            <a:gdLst>
              <a:gd name="textAreaLeft" fmla="*/ 0 w 287640"/>
              <a:gd name="textAreaRight" fmla="*/ 103680 w 287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860280" y="224784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气势磅礴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7" name="AutoShape 11"/>
          <p:cNvSpPr/>
          <p:nvPr/>
        </p:nvSpPr>
        <p:spPr>
          <a:xfrm>
            <a:off x="3492360" y="2060640"/>
            <a:ext cx="287640" cy="1224000"/>
          </a:xfrm>
          <a:custGeom>
            <a:avLst/>
            <a:gdLst>
              <a:gd name="textAreaLeft" fmla="*/ 0 w 287640"/>
              <a:gd name="textAreaRight" fmla="*/ 103680 w 287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3830040" y="3400560"/>
            <a:ext cx="15984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力量无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499" name="AutoShape 13"/>
          <p:cNvSpPr/>
          <p:nvPr/>
        </p:nvSpPr>
        <p:spPr>
          <a:xfrm>
            <a:off x="3492360" y="3571920"/>
            <a:ext cx="287640" cy="504720"/>
          </a:xfrm>
          <a:custGeom>
            <a:avLst/>
            <a:gdLst>
              <a:gd name="textAreaLeft" fmla="*/ 0 w 287640"/>
              <a:gd name="textAreaRight" fmla="*/ 103680 w 287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1116000" y="5376960"/>
            <a:ext cx="38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这一节抒发了作者什么情怀？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→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1" name="Rectangle 15"/>
          <p:cNvSpPr/>
          <p:nvPr/>
        </p:nvSpPr>
        <p:spPr>
          <a:xfrm>
            <a:off x="4788000" y="5589720"/>
            <a:ext cx="30240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赞美长江，依恋长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02" name="Picture 1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114560" y="620640"/>
            <a:ext cx="295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默读课文并思考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04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23"/>
          <p:cNvSpPr/>
          <p:nvPr/>
        </p:nvSpPr>
        <p:spPr>
          <a:xfrm>
            <a:off x="1116000" y="1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2278800" y="1341360"/>
            <a:ext cx="5256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这首诗歌中你觉得哪句话最能体现作者对长江的情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539640" y="3429000"/>
            <a:ext cx="835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再读课文，思考：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1117440" y="1989000"/>
            <a:ext cx="68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我们赞美长江，你是无穷的源泉；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我们依恋长江，你有母亲的情怀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179280" y="3973680"/>
            <a:ext cx="864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　从文中哪些地方可以看出长江是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无穷的源泉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，有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母亲的情怀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10" name="Picture 9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468360" y="37800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讨论、交流：１、从文中哪些地方可以看出长江是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无穷的源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12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23"/>
          <p:cNvSpPr/>
          <p:nvPr/>
        </p:nvSpPr>
        <p:spPr>
          <a:xfrm>
            <a:off x="1116000" y="115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395280" y="1341360"/>
            <a:ext cx="828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117440" y="981000"/>
            <a:ext cx="68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从雪山走来，春潮是你的丰采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向东海奔去，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117440" y="2565360"/>
            <a:ext cx="68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从远古走来，巨浪荡涤着尘埃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向未来奔去，涛声回荡在天外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1116000" y="4221000"/>
            <a:ext cx="68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纯洁的清流，灌溉花的国土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磅礴的力量，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84360" y="1773360"/>
            <a:ext cx="799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　　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雪山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在祖国的最西部，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东海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在祖国的最东部，长江能从祖国的最西部走来，向祖国的最东部奔去。空间跨度很大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39640" y="3284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宋体"/>
              </a:rPr>
              <a:t>　　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远古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是指很遥远的古代，长江从远古走来，向未来奔去，时间跨度很大，长江永远不会停息，所以说它是无穷的源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539640" y="49291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宋体"/>
              </a:rPr>
              <a:t>　　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灌溉花的国土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，祖国的领土那么大，长江能将它们一起灌溉，所以说它是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无穷的源泉</a:t>
            </a:r>
            <a:r>
              <a:rPr b="1" lang="zh-CN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。 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539640" y="5516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宋体"/>
              </a:rPr>
              <a:t>　　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990033"/>
                </a:solidFill>
                <a:latin typeface="黑体"/>
              </a:rPr>
              <a:t>推动新的时代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”</a:t>
            </a:r>
            <a:r>
              <a:rPr b="1" lang="en-US" sz="1800" spc="-1" strike="noStrike">
                <a:solidFill>
                  <a:srgbClr val="990033"/>
                </a:solidFill>
                <a:latin typeface="黑体"/>
              </a:rPr>
              <a:t>，长江能推动时代的发展，力量是无穷的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541440" y="597996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之所以说长江是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无穷的源泉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是因为：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081080" y="6237360"/>
            <a:ext cx="680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→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长江资源丰富，她的能源是取之不尽的，是无穷的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24" name="Picture 17" descr="西陵峡2"/>
          <p:cNvPicPr/>
          <p:nvPr/>
        </p:nvPicPr>
        <p:blipFill>
          <a:blip r:embed="rId2"/>
          <a:stretch/>
        </p:blipFill>
        <p:spPr>
          <a:xfrm>
            <a:off x="7308720" y="5665680"/>
            <a:ext cx="1800360" cy="11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116000" y="5954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黑体"/>
              </a:rPr>
              <a:t>说一说：下列句子用了什么修辞手法？这样写有什么好处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2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3"/>
          <p:cNvSpPr/>
          <p:nvPr/>
        </p:nvSpPr>
        <p:spPr>
          <a:xfrm>
            <a:off x="1116000" y="115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395280" y="1341360"/>
            <a:ext cx="828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117440" y="1197000"/>
            <a:ext cx="683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从雪山走来，春潮是你的丰采；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向东海奔去，惊涛是你的气概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117440" y="2316240"/>
            <a:ext cx="683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从远古走来，巨浪荡涤着尘埃；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向未来奔去，涛声回荡在天外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1116000" y="3429000"/>
            <a:ext cx="6838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用纯洁的清流，灌溉花的国土；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你用磅礴的力量，推动新的时代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2" name="Oval 11"/>
          <p:cNvSpPr/>
          <p:nvPr/>
        </p:nvSpPr>
        <p:spPr>
          <a:xfrm>
            <a:off x="2411280" y="1341360"/>
            <a:ext cx="64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3" name="Oval 12"/>
          <p:cNvSpPr/>
          <p:nvPr/>
        </p:nvSpPr>
        <p:spPr>
          <a:xfrm>
            <a:off x="2411280" y="1774800"/>
            <a:ext cx="64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4" name="Oval 13"/>
          <p:cNvSpPr/>
          <p:nvPr/>
        </p:nvSpPr>
        <p:spPr>
          <a:xfrm>
            <a:off x="2411280" y="2492280"/>
            <a:ext cx="64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5" name="Oval 14"/>
          <p:cNvSpPr/>
          <p:nvPr/>
        </p:nvSpPr>
        <p:spPr>
          <a:xfrm>
            <a:off x="2411280" y="2925720"/>
            <a:ext cx="64800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6" name="Oval 15"/>
          <p:cNvSpPr/>
          <p:nvPr/>
        </p:nvSpPr>
        <p:spPr>
          <a:xfrm>
            <a:off x="3637080" y="3575160"/>
            <a:ext cx="647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7" name="Oval 16"/>
          <p:cNvSpPr/>
          <p:nvPr/>
        </p:nvSpPr>
        <p:spPr>
          <a:xfrm>
            <a:off x="3637080" y="4006800"/>
            <a:ext cx="647640" cy="358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826920" y="4473720"/>
            <a:ext cx="72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１、运用了拟人的修辞手法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826920" y="494172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２、好处是：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0" name="Text Box 21"/>
          <p:cNvSpPr/>
          <p:nvPr/>
        </p:nvSpPr>
        <p:spPr>
          <a:xfrm>
            <a:off x="2916360" y="4941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使语言更加形象、生动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059280" y="1484280"/>
            <a:ext cx="3025440" cy="289080"/>
          </a:xfrm>
          <a:prstGeom prst="line">
            <a:avLst/>
          </a:prstGeom>
          <a:ln w="381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2" name="Line 24"/>
          <p:cNvSpPr/>
          <p:nvPr/>
        </p:nvSpPr>
        <p:spPr>
          <a:xfrm flipV="1">
            <a:off x="3059280" y="1844280"/>
            <a:ext cx="3025440" cy="144360"/>
          </a:xfrm>
          <a:prstGeom prst="line">
            <a:avLst/>
          </a:prstGeom>
          <a:ln w="381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3" name="Text Box 25"/>
          <p:cNvSpPr/>
          <p:nvPr/>
        </p:nvSpPr>
        <p:spPr>
          <a:xfrm>
            <a:off x="6012000" y="148428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走”和“奔”写出了长江的宏伟气势和永葆青春的活力。 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44" name="Picture 2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468360" y="37800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讨论、交流：２、从文中哪些地方可以看出长江有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母亲的情怀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4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23"/>
          <p:cNvSpPr/>
          <p:nvPr/>
        </p:nvSpPr>
        <p:spPr>
          <a:xfrm>
            <a:off x="1116000" y="1159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395280" y="1341360"/>
            <a:ext cx="828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117440" y="985680"/>
            <a:ext cx="683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甘甜的乳汁，哺育各族儿女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1116000" y="2205000"/>
            <a:ext cx="68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健美的臂膀，挽起高山大海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1116000" y="3429000"/>
            <a:ext cx="68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纯洁的清流，灌溉花的国土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1116000" y="4292640"/>
            <a:ext cx="683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用磅礴的力量，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3" name="Text Box 19"/>
          <p:cNvSpPr/>
          <p:nvPr/>
        </p:nvSpPr>
        <p:spPr>
          <a:xfrm>
            <a:off x="684360" y="1413000"/>
            <a:ext cx="8208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　　只有母亲才会哺育儿女，在这里把长江看作了母亲，而且长江哺育的是各族儿女，可见这位母亲的胸怀是多么的宽广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4" name="Text Box 20"/>
          <p:cNvSpPr/>
          <p:nvPr/>
        </p:nvSpPr>
        <p:spPr>
          <a:xfrm>
            <a:off x="684360" y="2565360"/>
            <a:ext cx="8208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　　这里又把长江拟人化了，长江很长，它就像母亲伸长那健美的臂膀，从西至东，把祖国的高山大海拉在手里，让它们紧密联系在一起，永不分离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14560" y="3789360"/>
            <a:ext cx="72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黑体"/>
              </a:rPr>
              <a:t>母爱是纯洁的、神圣的，长江像母亲一样滋润着祖国的每寸土地。 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11280" y="47242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黑体"/>
              </a:rPr>
              <a:t>　　</a:t>
            </a:r>
            <a:r>
              <a:rPr b="1" lang="en-US" sz="1800" spc="-1" strike="noStrike">
                <a:solidFill>
                  <a:srgbClr val="990033"/>
                </a:solidFill>
                <a:latin typeface="黑体"/>
              </a:rPr>
              <a:t>母亲的力量是巨大的，长江就像母亲一样，对新时代的发展起着不可估量的作用 。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541440" y="5516640"/>
            <a:ext cx="820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　　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之所以说长江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有母亲的情怀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是因为：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042920" y="5805360"/>
            <a:ext cx="662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黑体"/>
              </a:rPr>
              <a:t>→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长江就像我们的母亲一样，把这些能源都留给了我们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59" name="Picture 25" descr="西陵峡2"/>
          <p:cNvPicPr/>
          <p:nvPr/>
        </p:nvPicPr>
        <p:blipFill>
          <a:blip r:embed="rId2"/>
          <a:stretch/>
        </p:blipFill>
        <p:spPr>
          <a:xfrm>
            <a:off x="7596360" y="5848200"/>
            <a:ext cx="1512720" cy="9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8"/>
          <p:cNvSpPr/>
          <p:nvPr/>
        </p:nvSpPr>
        <p:spPr>
          <a:xfrm>
            <a:off x="1116000" y="26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611280" y="1014480"/>
            <a:ext cx="83534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资源丰富，她的能源是取之不尽的，是无穷的。所以说，长江是（　　　　　　）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1116000" y="6555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说一说：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1763640" y="15573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无穷的源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611280" y="2060640"/>
            <a:ext cx="83534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就像我们的母亲一样，把长江能源都留给了我们。所以说，长江有（　　　　　　　）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1765440" y="25876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有母亲的情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611280" y="3111480"/>
            <a:ext cx="83534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是（　　　　　　），所以我们（　　　）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2700360" y="321804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无穷的源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0" name="Text Box 25"/>
          <p:cNvSpPr/>
          <p:nvPr/>
        </p:nvSpPr>
        <p:spPr>
          <a:xfrm>
            <a:off x="608472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赞美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1116000" y="3759120"/>
            <a:ext cx="7632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因为长江有（　　　　　　　），所以我们（　　　）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2700360" y="38656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有母亲的情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6300720" y="386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依恋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74" name="Picture 29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4"/>
          <p:cNvSpPr/>
          <p:nvPr/>
        </p:nvSpPr>
        <p:spPr>
          <a:xfrm>
            <a:off x="1116000" y="26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精读课文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611280" y="1014480"/>
            <a:ext cx="7345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源远流长，历史悠久，她能用健美的臂膀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挽起高山大海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，她能用磅礴的力量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推动新的时代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。所以说：长江是（　　　　　　）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1116000" y="65556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用课文中的内容来说一说：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1187280" y="1989000"/>
            <a:ext cx="15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无穷的源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611280" y="2637000"/>
            <a:ext cx="75610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像母亲一样，用甘甜的乳汁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哺育各族儿女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，用纯洁的清流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灌溉花的国土</a:t>
            </a:r>
            <a:r>
              <a:rPr b="1" lang="zh-CN" sz="2000" spc="-1" strike="noStrike">
                <a:solidFill>
                  <a:srgbClr val="0000ff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。所以说，长江有（　　　 　　）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6156360" y="31417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有母亲的情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611280" y="3860640"/>
            <a:ext cx="835344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　　因为长江是（　　　　　　），所以我们（　　　）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2700360" y="393372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无穷的源泉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6084720" y="39337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赞美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1116000" y="4365720"/>
            <a:ext cx="7632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因为长江有（　　　　　　），所以我们（　　　）长江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2627280" y="443700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有母亲的情怀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084720" y="4437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依恋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89" name="Picture 1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042920" y="620640"/>
            <a:ext cx="72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１、在理解的基础上朗读课文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9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3"/>
          <p:cNvSpPr/>
          <p:nvPr/>
        </p:nvSpPr>
        <p:spPr>
          <a:xfrm>
            <a:off x="1116000" y="115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读背课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395280" y="1341360"/>
            <a:ext cx="828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1042920" y="1125360"/>
            <a:ext cx="72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２、出示重点段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1117440" y="1844640"/>
            <a:ext cx="683928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从雪山走来，春潮是你的丰采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向东海奔去，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从远古走来，巨浪荡涤着尘埃；</a:t>
            </a: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你向未来奔去，涛声回荡在天外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1116000" y="3789360"/>
            <a:ext cx="640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这两个分句我们该怎样读？哪些词提示了你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597" name="Rectangle 14"/>
          <p:cNvSpPr/>
          <p:nvPr/>
        </p:nvSpPr>
        <p:spPr>
          <a:xfrm>
            <a:off x="1117440" y="4346640"/>
            <a:ext cx="69836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第一个分句要读得柔和一些，因为长江是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走来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第二个分句读时要让人感觉有气概，因为长江是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奔去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598" name="Picture 15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144000" y="981000"/>
            <a:ext cx="882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长江之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这首诗是电视系列片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话说长江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主题歌的歌词。作者采用第（　　）人称，运用了（     ）的手法，把长江比作（     ），从（　　）间和（　　）间两个角度，写了长江（     　 ）、（    　  ）、（    　  ）、 （     　 ）、（    　　 ）、（　　　　）。赞美了长江的（　　　）和（　　　），充分地表达了中华儿女对长江的（     ）、（     ）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327672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01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23"/>
          <p:cNvSpPr/>
          <p:nvPr/>
        </p:nvSpPr>
        <p:spPr>
          <a:xfrm>
            <a:off x="1116000" y="18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填一填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6372360" y="18921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拟人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2340000" y="2565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母亲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4282920" y="254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空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6083280" y="254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时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40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源远流长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8" name="Text Box 27"/>
          <p:cNvSpPr/>
          <p:nvPr/>
        </p:nvSpPr>
        <p:spPr>
          <a:xfrm>
            <a:off x="4572000" y="31878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宏伟博大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6732720" y="3187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姿多彩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0" name="Text Box 29"/>
          <p:cNvSpPr/>
          <p:nvPr/>
        </p:nvSpPr>
        <p:spPr>
          <a:xfrm>
            <a:off x="611280" y="38354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古老悠久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2843280" y="3860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气势磅礴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2" name="Text Box 31"/>
          <p:cNvSpPr/>
          <p:nvPr/>
        </p:nvSpPr>
        <p:spPr>
          <a:xfrm>
            <a:off x="5003640" y="38354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力量无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684360" y="4508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宏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554200" y="4508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壮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5" name="Text Box 34"/>
          <p:cNvSpPr/>
          <p:nvPr/>
        </p:nvSpPr>
        <p:spPr>
          <a:xfrm>
            <a:off x="324000" y="5157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热爱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2050920" y="5157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依恋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17" name="Picture 36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6"/>
          <p:cNvPicPr/>
          <p:nvPr/>
        </p:nvPicPr>
        <p:blipFill>
          <a:blip r:embed="rId1"/>
          <a:stretch/>
        </p:blipFill>
        <p:spPr>
          <a:xfrm>
            <a:off x="428760" y="1928880"/>
            <a:ext cx="8381880" cy="390348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3"/>
          <p:cNvSpPr/>
          <p:nvPr/>
        </p:nvSpPr>
        <p:spPr>
          <a:xfrm>
            <a:off x="380880" y="1905120"/>
            <a:ext cx="3581640" cy="1363680"/>
          </a:xfrm>
          <a:custGeom>
            <a:avLst/>
            <a:gdLst/>
            <a:ahLst/>
            <a:rect l="l" t="t" r="r" b="b"/>
            <a:pathLst>
              <a:path w="2256" h="859">
                <a:moveTo>
                  <a:pt x="22" y="349"/>
                </a:moveTo>
                <a:cubicBezTo>
                  <a:pt x="88" y="371"/>
                  <a:pt x="0" y="330"/>
                  <a:pt x="70" y="361"/>
                </a:cubicBezTo>
                <a:cubicBezTo>
                  <a:pt x="82" y="366"/>
                  <a:pt x="87" y="377"/>
                  <a:pt x="106" y="382"/>
                </a:cubicBezTo>
                <a:cubicBezTo>
                  <a:pt x="116" y="387"/>
                  <a:pt x="120" y="388"/>
                  <a:pt x="127" y="388"/>
                </a:cubicBezTo>
                <a:cubicBezTo>
                  <a:pt x="134" y="388"/>
                  <a:pt x="142" y="379"/>
                  <a:pt x="151" y="379"/>
                </a:cubicBezTo>
                <a:cubicBezTo>
                  <a:pt x="160" y="379"/>
                  <a:pt x="174" y="386"/>
                  <a:pt x="184" y="391"/>
                </a:cubicBezTo>
                <a:cubicBezTo>
                  <a:pt x="188" y="397"/>
                  <a:pt x="203" y="401"/>
                  <a:pt x="208" y="406"/>
                </a:cubicBezTo>
                <a:cubicBezTo>
                  <a:pt x="219" y="415"/>
                  <a:pt x="226" y="439"/>
                  <a:pt x="226" y="439"/>
                </a:cubicBezTo>
                <a:cubicBezTo>
                  <a:pt x="232" y="448"/>
                  <a:pt x="236" y="454"/>
                  <a:pt x="247" y="463"/>
                </a:cubicBezTo>
                <a:cubicBezTo>
                  <a:pt x="258" y="472"/>
                  <a:pt x="278" y="485"/>
                  <a:pt x="292" y="493"/>
                </a:cubicBezTo>
                <a:cubicBezTo>
                  <a:pt x="305" y="500"/>
                  <a:pt x="320" y="506"/>
                  <a:pt x="334" y="511"/>
                </a:cubicBezTo>
                <a:cubicBezTo>
                  <a:pt x="346" y="515"/>
                  <a:pt x="359" y="516"/>
                  <a:pt x="370" y="523"/>
                </a:cubicBezTo>
                <a:cubicBezTo>
                  <a:pt x="383" y="528"/>
                  <a:pt x="397" y="530"/>
                  <a:pt x="412" y="535"/>
                </a:cubicBezTo>
                <a:cubicBezTo>
                  <a:pt x="427" y="540"/>
                  <a:pt x="447" y="547"/>
                  <a:pt x="460" y="553"/>
                </a:cubicBezTo>
                <a:cubicBezTo>
                  <a:pt x="473" y="557"/>
                  <a:pt x="448" y="560"/>
                  <a:pt x="487" y="571"/>
                </a:cubicBezTo>
                <a:cubicBezTo>
                  <a:pt x="506" y="578"/>
                  <a:pt x="545" y="590"/>
                  <a:pt x="574" y="595"/>
                </a:cubicBezTo>
                <a:cubicBezTo>
                  <a:pt x="603" y="600"/>
                  <a:pt x="641" y="600"/>
                  <a:pt x="661" y="604"/>
                </a:cubicBezTo>
                <a:cubicBezTo>
                  <a:pt x="681" y="608"/>
                  <a:pt x="685" y="610"/>
                  <a:pt x="694" y="619"/>
                </a:cubicBezTo>
                <a:cubicBezTo>
                  <a:pt x="704" y="626"/>
                  <a:pt x="710" y="652"/>
                  <a:pt x="718" y="661"/>
                </a:cubicBezTo>
                <a:cubicBezTo>
                  <a:pt x="726" y="670"/>
                  <a:pt x="734" y="668"/>
                  <a:pt x="742" y="673"/>
                </a:cubicBezTo>
                <a:cubicBezTo>
                  <a:pt x="748" y="678"/>
                  <a:pt x="762" y="688"/>
                  <a:pt x="766" y="694"/>
                </a:cubicBezTo>
                <a:cubicBezTo>
                  <a:pt x="772" y="701"/>
                  <a:pt x="776" y="699"/>
                  <a:pt x="778" y="712"/>
                </a:cubicBezTo>
                <a:cubicBezTo>
                  <a:pt x="782" y="723"/>
                  <a:pt x="777" y="760"/>
                  <a:pt x="781" y="775"/>
                </a:cubicBezTo>
                <a:cubicBezTo>
                  <a:pt x="785" y="790"/>
                  <a:pt x="793" y="794"/>
                  <a:pt x="802" y="802"/>
                </a:cubicBezTo>
                <a:cubicBezTo>
                  <a:pt x="811" y="810"/>
                  <a:pt x="826" y="817"/>
                  <a:pt x="835" y="823"/>
                </a:cubicBezTo>
                <a:cubicBezTo>
                  <a:pt x="842" y="828"/>
                  <a:pt x="849" y="831"/>
                  <a:pt x="856" y="835"/>
                </a:cubicBezTo>
                <a:cubicBezTo>
                  <a:pt x="862" y="838"/>
                  <a:pt x="868" y="845"/>
                  <a:pt x="874" y="847"/>
                </a:cubicBezTo>
                <a:cubicBezTo>
                  <a:pt x="880" y="850"/>
                  <a:pt x="890" y="859"/>
                  <a:pt x="895" y="856"/>
                </a:cubicBezTo>
                <a:cubicBezTo>
                  <a:pt x="903" y="854"/>
                  <a:pt x="896" y="836"/>
                  <a:pt x="904" y="829"/>
                </a:cubicBezTo>
                <a:cubicBezTo>
                  <a:pt x="906" y="821"/>
                  <a:pt x="901" y="811"/>
                  <a:pt x="904" y="805"/>
                </a:cubicBezTo>
                <a:cubicBezTo>
                  <a:pt x="907" y="799"/>
                  <a:pt x="915" y="792"/>
                  <a:pt x="922" y="793"/>
                </a:cubicBezTo>
                <a:cubicBezTo>
                  <a:pt x="929" y="794"/>
                  <a:pt x="934" y="805"/>
                  <a:pt x="946" y="811"/>
                </a:cubicBezTo>
                <a:cubicBezTo>
                  <a:pt x="958" y="815"/>
                  <a:pt x="969" y="829"/>
                  <a:pt x="991" y="829"/>
                </a:cubicBezTo>
                <a:cubicBezTo>
                  <a:pt x="1003" y="831"/>
                  <a:pt x="1008" y="833"/>
                  <a:pt x="1018" y="826"/>
                </a:cubicBezTo>
                <a:cubicBezTo>
                  <a:pt x="1028" y="819"/>
                  <a:pt x="1035" y="799"/>
                  <a:pt x="1051" y="784"/>
                </a:cubicBezTo>
                <a:cubicBezTo>
                  <a:pt x="1079" y="765"/>
                  <a:pt x="1108" y="764"/>
                  <a:pt x="1114" y="733"/>
                </a:cubicBezTo>
                <a:cubicBezTo>
                  <a:pt x="1125" y="721"/>
                  <a:pt x="1107" y="734"/>
                  <a:pt x="1108" y="715"/>
                </a:cubicBezTo>
                <a:cubicBezTo>
                  <a:pt x="1111" y="704"/>
                  <a:pt x="1133" y="680"/>
                  <a:pt x="1135" y="664"/>
                </a:cubicBezTo>
                <a:cubicBezTo>
                  <a:pt x="1137" y="648"/>
                  <a:pt x="1125" y="623"/>
                  <a:pt x="1123" y="616"/>
                </a:cubicBezTo>
                <a:cubicBezTo>
                  <a:pt x="1121" y="609"/>
                  <a:pt x="1118" y="625"/>
                  <a:pt x="1120" y="619"/>
                </a:cubicBezTo>
                <a:cubicBezTo>
                  <a:pt x="1124" y="608"/>
                  <a:pt x="1124" y="582"/>
                  <a:pt x="1135" y="577"/>
                </a:cubicBezTo>
                <a:cubicBezTo>
                  <a:pt x="1144" y="572"/>
                  <a:pt x="1159" y="574"/>
                  <a:pt x="1162" y="565"/>
                </a:cubicBezTo>
                <a:cubicBezTo>
                  <a:pt x="1170" y="558"/>
                  <a:pt x="1160" y="532"/>
                  <a:pt x="1165" y="523"/>
                </a:cubicBezTo>
                <a:cubicBezTo>
                  <a:pt x="1170" y="514"/>
                  <a:pt x="1189" y="524"/>
                  <a:pt x="1189" y="511"/>
                </a:cubicBezTo>
                <a:cubicBezTo>
                  <a:pt x="1189" y="498"/>
                  <a:pt x="1167" y="459"/>
                  <a:pt x="1165" y="442"/>
                </a:cubicBezTo>
                <a:cubicBezTo>
                  <a:pt x="1163" y="425"/>
                  <a:pt x="1170" y="416"/>
                  <a:pt x="1177" y="409"/>
                </a:cubicBezTo>
                <a:cubicBezTo>
                  <a:pt x="1179" y="403"/>
                  <a:pt x="1204" y="399"/>
                  <a:pt x="1210" y="397"/>
                </a:cubicBezTo>
                <a:cubicBezTo>
                  <a:pt x="1230" y="399"/>
                  <a:pt x="1246" y="390"/>
                  <a:pt x="1264" y="400"/>
                </a:cubicBezTo>
                <a:cubicBezTo>
                  <a:pt x="1278" y="404"/>
                  <a:pt x="1280" y="402"/>
                  <a:pt x="1288" y="409"/>
                </a:cubicBezTo>
                <a:cubicBezTo>
                  <a:pt x="1293" y="411"/>
                  <a:pt x="1290" y="409"/>
                  <a:pt x="1294" y="415"/>
                </a:cubicBezTo>
                <a:cubicBezTo>
                  <a:pt x="1298" y="421"/>
                  <a:pt x="1305" y="436"/>
                  <a:pt x="1315" y="445"/>
                </a:cubicBezTo>
                <a:cubicBezTo>
                  <a:pt x="1320" y="459"/>
                  <a:pt x="1353" y="460"/>
                  <a:pt x="1357" y="472"/>
                </a:cubicBezTo>
                <a:cubicBezTo>
                  <a:pt x="1364" y="484"/>
                  <a:pt x="1357" y="509"/>
                  <a:pt x="1360" y="520"/>
                </a:cubicBezTo>
                <a:cubicBezTo>
                  <a:pt x="1362" y="531"/>
                  <a:pt x="1373" y="533"/>
                  <a:pt x="1375" y="538"/>
                </a:cubicBezTo>
                <a:cubicBezTo>
                  <a:pt x="1378" y="546"/>
                  <a:pt x="1381" y="564"/>
                  <a:pt x="1381" y="568"/>
                </a:cubicBezTo>
                <a:cubicBezTo>
                  <a:pt x="1381" y="572"/>
                  <a:pt x="1369" y="559"/>
                  <a:pt x="1372" y="565"/>
                </a:cubicBezTo>
                <a:cubicBezTo>
                  <a:pt x="1375" y="569"/>
                  <a:pt x="1387" y="595"/>
                  <a:pt x="1399" y="604"/>
                </a:cubicBezTo>
                <a:cubicBezTo>
                  <a:pt x="1407" y="611"/>
                  <a:pt x="1416" y="605"/>
                  <a:pt x="1423" y="607"/>
                </a:cubicBezTo>
                <a:cubicBezTo>
                  <a:pt x="1430" y="609"/>
                  <a:pt x="1441" y="613"/>
                  <a:pt x="1444" y="619"/>
                </a:cubicBezTo>
                <a:cubicBezTo>
                  <a:pt x="1449" y="623"/>
                  <a:pt x="1438" y="640"/>
                  <a:pt x="1444" y="643"/>
                </a:cubicBezTo>
                <a:cubicBezTo>
                  <a:pt x="1451" y="647"/>
                  <a:pt x="1477" y="669"/>
                  <a:pt x="1486" y="670"/>
                </a:cubicBezTo>
                <a:cubicBezTo>
                  <a:pt x="1497" y="672"/>
                  <a:pt x="1503" y="659"/>
                  <a:pt x="1510" y="655"/>
                </a:cubicBezTo>
                <a:cubicBezTo>
                  <a:pt x="1522" y="659"/>
                  <a:pt x="1528" y="643"/>
                  <a:pt x="1528" y="643"/>
                </a:cubicBezTo>
                <a:cubicBezTo>
                  <a:pt x="1534" y="645"/>
                  <a:pt x="1536" y="649"/>
                  <a:pt x="1552" y="664"/>
                </a:cubicBezTo>
                <a:cubicBezTo>
                  <a:pt x="1560" y="674"/>
                  <a:pt x="1569" y="697"/>
                  <a:pt x="1579" y="703"/>
                </a:cubicBezTo>
                <a:cubicBezTo>
                  <a:pt x="1589" y="709"/>
                  <a:pt x="1608" y="696"/>
                  <a:pt x="1612" y="703"/>
                </a:cubicBezTo>
                <a:cubicBezTo>
                  <a:pt x="1616" y="710"/>
                  <a:pt x="1600" y="741"/>
                  <a:pt x="1603" y="748"/>
                </a:cubicBezTo>
                <a:cubicBezTo>
                  <a:pt x="1605" y="755"/>
                  <a:pt x="1625" y="754"/>
                  <a:pt x="1633" y="748"/>
                </a:cubicBezTo>
                <a:cubicBezTo>
                  <a:pt x="1641" y="742"/>
                  <a:pt x="1642" y="713"/>
                  <a:pt x="1654" y="709"/>
                </a:cubicBezTo>
                <a:cubicBezTo>
                  <a:pt x="1666" y="705"/>
                  <a:pt x="1693" y="721"/>
                  <a:pt x="1708" y="721"/>
                </a:cubicBezTo>
                <a:cubicBezTo>
                  <a:pt x="1723" y="721"/>
                  <a:pt x="1734" y="726"/>
                  <a:pt x="1744" y="709"/>
                </a:cubicBezTo>
                <a:cubicBezTo>
                  <a:pt x="1752" y="684"/>
                  <a:pt x="1743" y="625"/>
                  <a:pt x="1771" y="616"/>
                </a:cubicBezTo>
                <a:cubicBezTo>
                  <a:pt x="1783" y="612"/>
                  <a:pt x="1804" y="588"/>
                  <a:pt x="1816" y="586"/>
                </a:cubicBezTo>
                <a:cubicBezTo>
                  <a:pt x="1828" y="568"/>
                  <a:pt x="1861" y="573"/>
                  <a:pt x="1840" y="547"/>
                </a:cubicBezTo>
                <a:cubicBezTo>
                  <a:pt x="1835" y="541"/>
                  <a:pt x="1827" y="507"/>
                  <a:pt x="1819" y="505"/>
                </a:cubicBezTo>
                <a:cubicBezTo>
                  <a:pt x="1797" y="499"/>
                  <a:pt x="1806" y="512"/>
                  <a:pt x="1786" y="499"/>
                </a:cubicBezTo>
                <a:cubicBezTo>
                  <a:pt x="1779" y="488"/>
                  <a:pt x="1769" y="498"/>
                  <a:pt x="1762" y="487"/>
                </a:cubicBezTo>
                <a:cubicBezTo>
                  <a:pt x="1756" y="484"/>
                  <a:pt x="1756" y="488"/>
                  <a:pt x="1750" y="484"/>
                </a:cubicBezTo>
                <a:cubicBezTo>
                  <a:pt x="1744" y="480"/>
                  <a:pt x="1732" y="472"/>
                  <a:pt x="1726" y="463"/>
                </a:cubicBezTo>
                <a:cubicBezTo>
                  <a:pt x="1720" y="454"/>
                  <a:pt x="1717" y="436"/>
                  <a:pt x="1714" y="427"/>
                </a:cubicBezTo>
                <a:cubicBezTo>
                  <a:pt x="1712" y="421"/>
                  <a:pt x="1705" y="415"/>
                  <a:pt x="1708" y="409"/>
                </a:cubicBezTo>
                <a:cubicBezTo>
                  <a:pt x="1711" y="403"/>
                  <a:pt x="1705" y="383"/>
                  <a:pt x="1711" y="382"/>
                </a:cubicBezTo>
                <a:cubicBezTo>
                  <a:pt x="1722" y="379"/>
                  <a:pt x="1757" y="387"/>
                  <a:pt x="1774" y="388"/>
                </a:cubicBezTo>
                <a:cubicBezTo>
                  <a:pt x="1787" y="388"/>
                  <a:pt x="1785" y="385"/>
                  <a:pt x="1792" y="385"/>
                </a:cubicBezTo>
                <a:cubicBezTo>
                  <a:pt x="1799" y="385"/>
                  <a:pt x="1804" y="389"/>
                  <a:pt x="1816" y="391"/>
                </a:cubicBezTo>
                <a:cubicBezTo>
                  <a:pt x="1829" y="390"/>
                  <a:pt x="1847" y="403"/>
                  <a:pt x="1867" y="397"/>
                </a:cubicBezTo>
                <a:cubicBezTo>
                  <a:pt x="1882" y="402"/>
                  <a:pt x="1893" y="422"/>
                  <a:pt x="1906" y="424"/>
                </a:cubicBezTo>
                <a:cubicBezTo>
                  <a:pt x="1919" y="426"/>
                  <a:pt x="1942" y="424"/>
                  <a:pt x="1948" y="412"/>
                </a:cubicBezTo>
                <a:cubicBezTo>
                  <a:pt x="1954" y="400"/>
                  <a:pt x="1950" y="369"/>
                  <a:pt x="1939" y="352"/>
                </a:cubicBezTo>
                <a:cubicBezTo>
                  <a:pt x="1912" y="325"/>
                  <a:pt x="1856" y="332"/>
                  <a:pt x="1879" y="310"/>
                </a:cubicBezTo>
                <a:cubicBezTo>
                  <a:pt x="1872" y="301"/>
                  <a:pt x="1867" y="314"/>
                  <a:pt x="1891" y="289"/>
                </a:cubicBezTo>
                <a:cubicBezTo>
                  <a:pt x="1900" y="281"/>
                  <a:pt x="1921" y="273"/>
                  <a:pt x="1933" y="262"/>
                </a:cubicBezTo>
                <a:cubicBezTo>
                  <a:pt x="1945" y="251"/>
                  <a:pt x="1960" y="235"/>
                  <a:pt x="1966" y="223"/>
                </a:cubicBezTo>
                <a:cubicBezTo>
                  <a:pt x="1972" y="211"/>
                  <a:pt x="1963" y="202"/>
                  <a:pt x="1969" y="190"/>
                </a:cubicBezTo>
                <a:cubicBezTo>
                  <a:pt x="1975" y="178"/>
                  <a:pt x="1996" y="154"/>
                  <a:pt x="2005" y="148"/>
                </a:cubicBezTo>
                <a:cubicBezTo>
                  <a:pt x="2015" y="139"/>
                  <a:pt x="2017" y="156"/>
                  <a:pt x="2026" y="151"/>
                </a:cubicBezTo>
                <a:cubicBezTo>
                  <a:pt x="2035" y="146"/>
                  <a:pt x="2056" y="128"/>
                  <a:pt x="2062" y="115"/>
                </a:cubicBezTo>
                <a:cubicBezTo>
                  <a:pt x="2068" y="102"/>
                  <a:pt x="2059" y="85"/>
                  <a:pt x="2062" y="73"/>
                </a:cubicBezTo>
                <a:cubicBezTo>
                  <a:pt x="2064" y="61"/>
                  <a:pt x="2080" y="43"/>
                  <a:pt x="2080" y="43"/>
                </a:cubicBezTo>
                <a:cubicBezTo>
                  <a:pt x="2082" y="31"/>
                  <a:pt x="2090" y="19"/>
                  <a:pt x="2086" y="7"/>
                </a:cubicBezTo>
                <a:cubicBezTo>
                  <a:pt x="2084" y="0"/>
                  <a:pt x="2081" y="23"/>
                  <a:pt x="2074" y="25"/>
                </a:cubicBezTo>
                <a:cubicBezTo>
                  <a:pt x="2066" y="28"/>
                  <a:pt x="2058" y="20"/>
                  <a:pt x="2050" y="19"/>
                </a:cubicBezTo>
                <a:cubicBezTo>
                  <a:pt x="1986" y="11"/>
                  <a:pt x="2256" y="3"/>
                  <a:pt x="1918" y="1"/>
                </a:cubicBezTo>
                <a:lnTo>
                  <a:pt x="22" y="7"/>
                </a:lnTo>
                <a:lnTo>
                  <a:pt x="22" y="3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07" name="Freeform 4"/>
          <p:cNvSpPr/>
          <p:nvPr/>
        </p:nvSpPr>
        <p:spPr>
          <a:xfrm>
            <a:off x="447840" y="4556160"/>
            <a:ext cx="1941480" cy="1220760"/>
          </a:xfrm>
          <a:custGeom>
            <a:avLst/>
            <a:gdLst/>
            <a:ahLst/>
            <a:rect l="l" t="t" r="r" b="b"/>
            <a:pathLst>
              <a:path w="1223" h="769">
                <a:moveTo>
                  <a:pt x="0" y="205"/>
                </a:moveTo>
                <a:cubicBezTo>
                  <a:pt x="9" y="198"/>
                  <a:pt x="43" y="166"/>
                  <a:pt x="56" y="157"/>
                </a:cubicBezTo>
                <a:cubicBezTo>
                  <a:pt x="69" y="148"/>
                  <a:pt x="71" y="152"/>
                  <a:pt x="80" y="149"/>
                </a:cubicBezTo>
                <a:cubicBezTo>
                  <a:pt x="88" y="148"/>
                  <a:pt x="97" y="140"/>
                  <a:pt x="108" y="141"/>
                </a:cubicBezTo>
                <a:cubicBezTo>
                  <a:pt x="118" y="144"/>
                  <a:pt x="132" y="161"/>
                  <a:pt x="140" y="165"/>
                </a:cubicBezTo>
                <a:cubicBezTo>
                  <a:pt x="145" y="166"/>
                  <a:pt x="152" y="162"/>
                  <a:pt x="156" y="165"/>
                </a:cubicBezTo>
                <a:cubicBezTo>
                  <a:pt x="159" y="168"/>
                  <a:pt x="164" y="168"/>
                  <a:pt x="168" y="169"/>
                </a:cubicBezTo>
                <a:cubicBezTo>
                  <a:pt x="192" y="173"/>
                  <a:pt x="228" y="174"/>
                  <a:pt x="252" y="177"/>
                </a:cubicBezTo>
                <a:cubicBezTo>
                  <a:pt x="298" y="192"/>
                  <a:pt x="244" y="161"/>
                  <a:pt x="288" y="205"/>
                </a:cubicBezTo>
                <a:cubicBezTo>
                  <a:pt x="301" y="217"/>
                  <a:pt x="321" y="235"/>
                  <a:pt x="332" y="249"/>
                </a:cubicBezTo>
                <a:cubicBezTo>
                  <a:pt x="343" y="263"/>
                  <a:pt x="349" y="274"/>
                  <a:pt x="356" y="289"/>
                </a:cubicBezTo>
                <a:cubicBezTo>
                  <a:pt x="358" y="300"/>
                  <a:pt x="362" y="329"/>
                  <a:pt x="372" y="337"/>
                </a:cubicBezTo>
                <a:cubicBezTo>
                  <a:pt x="377" y="346"/>
                  <a:pt x="372" y="362"/>
                  <a:pt x="380" y="365"/>
                </a:cubicBezTo>
                <a:cubicBezTo>
                  <a:pt x="388" y="368"/>
                  <a:pt x="409" y="360"/>
                  <a:pt x="420" y="357"/>
                </a:cubicBezTo>
                <a:cubicBezTo>
                  <a:pt x="432" y="356"/>
                  <a:pt x="437" y="349"/>
                  <a:pt x="448" y="345"/>
                </a:cubicBezTo>
                <a:cubicBezTo>
                  <a:pt x="453" y="343"/>
                  <a:pt x="463" y="343"/>
                  <a:pt x="468" y="341"/>
                </a:cubicBezTo>
                <a:cubicBezTo>
                  <a:pt x="475" y="338"/>
                  <a:pt x="484" y="339"/>
                  <a:pt x="492" y="337"/>
                </a:cubicBezTo>
                <a:cubicBezTo>
                  <a:pt x="525" y="330"/>
                  <a:pt x="490" y="321"/>
                  <a:pt x="524" y="309"/>
                </a:cubicBezTo>
                <a:cubicBezTo>
                  <a:pt x="538" y="304"/>
                  <a:pt x="580" y="291"/>
                  <a:pt x="592" y="289"/>
                </a:cubicBezTo>
                <a:cubicBezTo>
                  <a:pt x="619" y="284"/>
                  <a:pt x="634" y="280"/>
                  <a:pt x="660" y="273"/>
                </a:cubicBezTo>
                <a:cubicBezTo>
                  <a:pt x="671" y="270"/>
                  <a:pt x="696" y="273"/>
                  <a:pt x="696" y="273"/>
                </a:cubicBezTo>
                <a:cubicBezTo>
                  <a:pt x="701" y="269"/>
                  <a:pt x="710" y="276"/>
                  <a:pt x="716" y="273"/>
                </a:cubicBezTo>
                <a:cubicBezTo>
                  <a:pt x="726" y="269"/>
                  <a:pt x="748" y="265"/>
                  <a:pt x="748" y="265"/>
                </a:cubicBezTo>
                <a:cubicBezTo>
                  <a:pt x="755" y="258"/>
                  <a:pt x="765" y="252"/>
                  <a:pt x="772" y="245"/>
                </a:cubicBezTo>
                <a:cubicBezTo>
                  <a:pt x="779" y="237"/>
                  <a:pt x="776" y="226"/>
                  <a:pt x="784" y="217"/>
                </a:cubicBezTo>
                <a:cubicBezTo>
                  <a:pt x="792" y="208"/>
                  <a:pt x="809" y="203"/>
                  <a:pt x="820" y="193"/>
                </a:cubicBezTo>
                <a:cubicBezTo>
                  <a:pt x="836" y="188"/>
                  <a:pt x="852" y="157"/>
                  <a:pt x="852" y="157"/>
                </a:cubicBezTo>
                <a:cubicBezTo>
                  <a:pt x="873" y="143"/>
                  <a:pt x="870" y="157"/>
                  <a:pt x="880" y="133"/>
                </a:cubicBezTo>
                <a:cubicBezTo>
                  <a:pt x="891" y="129"/>
                  <a:pt x="898" y="156"/>
                  <a:pt x="920" y="157"/>
                </a:cubicBezTo>
                <a:cubicBezTo>
                  <a:pt x="940" y="157"/>
                  <a:pt x="981" y="140"/>
                  <a:pt x="1000" y="133"/>
                </a:cubicBezTo>
                <a:cubicBezTo>
                  <a:pt x="1018" y="106"/>
                  <a:pt x="1007" y="140"/>
                  <a:pt x="1036" y="117"/>
                </a:cubicBezTo>
                <a:cubicBezTo>
                  <a:pt x="1045" y="110"/>
                  <a:pt x="1051" y="99"/>
                  <a:pt x="1060" y="93"/>
                </a:cubicBezTo>
                <a:cubicBezTo>
                  <a:pt x="1064" y="90"/>
                  <a:pt x="1068" y="88"/>
                  <a:pt x="1072" y="85"/>
                </a:cubicBezTo>
                <a:cubicBezTo>
                  <a:pt x="1090" y="57"/>
                  <a:pt x="1079" y="64"/>
                  <a:pt x="1100" y="57"/>
                </a:cubicBezTo>
                <a:cubicBezTo>
                  <a:pt x="1107" y="50"/>
                  <a:pt x="1117" y="45"/>
                  <a:pt x="1124" y="37"/>
                </a:cubicBezTo>
                <a:cubicBezTo>
                  <a:pt x="1137" y="21"/>
                  <a:pt x="1128" y="12"/>
                  <a:pt x="1148" y="5"/>
                </a:cubicBezTo>
                <a:cubicBezTo>
                  <a:pt x="1156" y="1"/>
                  <a:pt x="1176" y="0"/>
                  <a:pt x="1184" y="5"/>
                </a:cubicBezTo>
                <a:cubicBezTo>
                  <a:pt x="1192" y="10"/>
                  <a:pt x="1190" y="23"/>
                  <a:pt x="1196" y="37"/>
                </a:cubicBezTo>
                <a:cubicBezTo>
                  <a:pt x="1201" y="52"/>
                  <a:pt x="1216" y="73"/>
                  <a:pt x="1220" y="89"/>
                </a:cubicBezTo>
                <a:cubicBezTo>
                  <a:pt x="1223" y="120"/>
                  <a:pt x="1205" y="131"/>
                  <a:pt x="1212" y="161"/>
                </a:cubicBezTo>
                <a:cubicBezTo>
                  <a:pt x="1210" y="190"/>
                  <a:pt x="1221" y="227"/>
                  <a:pt x="1208" y="253"/>
                </a:cubicBezTo>
                <a:cubicBezTo>
                  <a:pt x="1196" y="278"/>
                  <a:pt x="1184" y="315"/>
                  <a:pt x="1168" y="337"/>
                </a:cubicBezTo>
                <a:cubicBezTo>
                  <a:pt x="1156" y="358"/>
                  <a:pt x="1138" y="365"/>
                  <a:pt x="1128" y="377"/>
                </a:cubicBezTo>
                <a:cubicBezTo>
                  <a:pt x="1118" y="389"/>
                  <a:pt x="1114" y="396"/>
                  <a:pt x="1108" y="409"/>
                </a:cubicBezTo>
                <a:cubicBezTo>
                  <a:pt x="1099" y="422"/>
                  <a:pt x="1097" y="438"/>
                  <a:pt x="1092" y="453"/>
                </a:cubicBezTo>
                <a:cubicBezTo>
                  <a:pt x="1088" y="472"/>
                  <a:pt x="1078" y="506"/>
                  <a:pt x="1072" y="529"/>
                </a:cubicBezTo>
                <a:cubicBezTo>
                  <a:pt x="1066" y="552"/>
                  <a:pt x="1060" y="577"/>
                  <a:pt x="1056" y="593"/>
                </a:cubicBezTo>
                <a:cubicBezTo>
                  <a:pt x="1053" y="604"/>
                  <a:pt x="1051" y="614"/>
                  <a:pt x="1048" y="625"/>
                </a:cubicBezTo>
                <a:cubicBezTo>
                  <a:pt x="1047" y="630"/>
                  <a:pt x="1044" y="641"/>
                  <a:pt x="1044" y="641"/>
                </a:cubicBezTo>
                <a:cubicBezTo>
                  <a:pt x="1043" y="651"/>
                  <a:pt x="1055" y="660"/>
                  <a:pt x="1052" y="681"/>
                </a:cubicBezTo>
                <a:cubicBezTo>
                  <a:pt x="1053" y="696"/>
                  <a:pt x="1057" y="718"/>
                  <a:pt x="1052" y="733"/>
                </a:cubicBezTo>
                <a:cubicBezTo>
                  <a:pt x="1047" y="748"/>
                  <a:pt x="1030" y="762"/>
                  <a:pt x="1024" y="76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08" name="Freeform 5"/>
          <p:cNvSpPr/>
          <p:nvPr/>
        </p:nvSpPr>
        <p:spPr>
          <a:xfrm>
            <a:off x="415800" y="2433600"/>
            <a:ext cx="2122560" cy="2874960"/>
          </a:xfrm>
          <a:custGeom>
            <a:avLst/>
            <a:gdLst/>
            <a:ahLst/>
            <a:rect l="l" t="t" r="r" b="b"/>
            <a:pathLst>
              <a:path w="1337" h="1811">
                <a:moveTo>
                  <a:pt x="0" y="4"/>
                </a:moveTo>
                <a:cubicBezTo>
                  <a:pt x="2" y="10"/>
                  <a:pt x="3" y="0"/>
                  <a:pt x="8" y="4"/>
                </a:cubicBezTo>
                <a:cubicBezTo>
                  <a:pt x="17" y="9"/>
                  <a:pt x="42" y="34"/>
                  <a:pt x="70" y="44"/>
                </a:cubicBezTo>
                <a:cubicBezTo>
                  <a:pt x="86" y="52"/>
                  <a:pt x="87" y="51"/>
                  <a:pt x="104" y="54"/>
                </a:cubicBezTo>
                <a:cubicBezTo>
                  <a:pt x="121" y="57"/>
                  <a:pt x="155" y="53"/>
                  <a:pt x="174" y="64"/>
                </a:cubicBezTo>
                <a:cubicBezTo>
                  <a:pt x="194" y="74"/>
                  <a:pt x="191" y="102"/>
                  <a:pt x="218" y="122"/>
                </a:cubicBezTo>
                <a:cubicBezTo>
                  <a:pt x="235" y="138"/>
                  <a:pt x="254" y="152"/>
                  <a:pt x="274" y="162"/>
                </a:cubicBezTo>
                <a:cubicBezTo>
                  <a:pt x="294" y="172"/>
                  <a:pt x="312" y="176"/>
                  <a:pt x="336" y="184"/>
                </a:cubicBezTo>
                <a:cubicBezTo>
                  <a:pt x="362" y="195"/>
                  <a:pt x="395" y="194"/>
                  <a:pt x="420" y="208"/>
                </a:cubicBezTo>
                <a:cubicBezTo>
                  <a:pt x="436" y="217"/>
                  <a:pt x="463" y="241"/>
                  <a:pt x="484" y="246"/>
                </a:cubicBezTo>
                <a:cubicBezTo>
                  <a:pt x="535" y="259"/>
                  <a:pt x="648" y="274"/>
                  <a:pt x="648" y="274"/>
                </a:cubicBezTo>
                <a:cubicBezTo>
                  <a:pt x="679" y="280"/>
                  <a:pt x="656" y="276"/>
                  <a:pt x="676" y="294"/>
                </a:cubicBezTo>
                <a:cubicBezTo>
                  <a:pt x="685" y="304"/>
                  <a:pt x="686" y="319"/>
                  <a:pt x="700" y="334"/>
                </a:cubicBezTo>
                <a:cubicBezTo>
                  <a:pt x="714" y="349"/>
                  <a:pt x="747" y="362"/>
                  <a:pt x="758" y="382"/>
                </a:cubicBezTo>
                <a:cubicBezTo>
                  <a:pt x="760" y="408"/>
                  <a:pt x="758" y="431"/>
                  <a:pt x="764" y="456"/>
                </a:cubicBezTo>
                <a:cubicBezTo>
                  <a:pt x="767" y="467"/>
                  <a:pt x="845" y="510"/>
                  <a:pt x="862" y="516"/>
                </a:cubicBezTo>
                <a:cubicBezTo>
                  <a:pt x="880" y="523"/>
                  <a:pt x="872" y="526"/>
                  <a:pt x="874" y="522"/>
                </a:cubicBezTo>
                <a:cubicBezTo>
                  <a:pt x="877" y="518"/>
                  <a:pt x="875" y="502"/>
                  <a:pt x="878" y="492"/>
                </a:cubicBezTo>
                <a:cubicBezTo>
                  <a:pt x="882" y="485"/>
                  <a:pt x="887" y="462"/>
                  <a:pt x="892" y="460"/>
                </a:cubicBezTo>
                <a:cubicBezTo>
                  <a:pt x="901" y="458"/>
                  <a:pt x="917" y="474"/>
                  <a:pt x="930" y="480"/>
                </a:cubicBezTo>
                <a:cubicBezTo>
                  <a:pt x="942" y="484"/>
                  <a:pt x="951" y="495"/>
                  <a:pt x="968" y="496"/>
                </a:cubicBezTo>
                <a:cubicBezTo>
                  <a:pt x="978" y="499"/>
                  <a:pt x="984" y="502"/>
                  <a:pt x="992" y="498"/>
                </a:cubicBezTo>
                <a:cubicBezTo>
                  <a:pt x="1000" y="494"/>
                  <a:pt x="1012" y="479"/>
                  <a:pt x="1018" y="470"/>
                </a:cubicBezTo>
                <a:cubicBezTo>
                  <a:pt x="1026" y="459"/>
                  <a:pt x="1024" y="451"/>
                  <a:pt x="1030" y="446"/>
                </a:cubicBezTo>
                <a:cubicBezTo>
                  <a:pt x="1036" y="441"/>
                  <a:pt x="1043" y="444"/>
                  <a:pt x="1052" y="438"/>
                </a:cubicBezTo>
                <a:cubicBezTo>
                  <a:pt x="1061" y="432"/>
                  <a:pt x="1077" y="424"/>
                  <a:pt x="1084" y="412"/>
                </a:cubicBezTo>
                <a:cubicBezTo>
                  <a:pt x="1092" y="390"/>
                  <a:pt x="1088" y="388"/>
                  <a:pt x="1096" y="364"/>
                </a:cubicBezTo>
                <a:cubicBezTo>
                  <a:pt x="1091" y="340"/>
                  <a:pt x="1083" y="370"/>
                  <a:pt x="1108" y="348"/>
                </a:cubicBezTo>
                <a:cubicBezTo>
                  <a:pt x="1121" y="336"/>
                  <a:pt x="1114" y="330"/>
                  <a:pt x="1114" y="330"/>
                </a:cubicBezTo>
                <a:cubicBezTo>
                  <a:pt x="1099" y="361"/>
                  <a:pt x="1134" y="300"/>
                  <a:pt x="1116" y="328"/>
                </a:cubicBezTo>
                <a:cubicBezTo>
                  <a:pt x="1127" y="331"/>
                  <a:pt x="1159" y="357"/>
                  <a:pt x="1174" y="364"/>
                </a:cubicBezTo>
                <a:cubicBezTo>
                  <a:pt x="1190" y="376"/>
                  <a:pt x="1203" y="382"/>
                  <a:pt x="1212" y="398"/>
                </a:cubicBezTo>
                <a:cubicBezTo>
                  <a:pt x="1221" y="425"/>
                  <a:pt x="1213" y="437"/>
                  <a:pt x="1230" y="460"/>
                </a:cubicBezTo>
                <a:cubicBezTo>
                  <a:pt x="1236" y="468"/>
                  <a:pt x="1243" y="475"/>
                  <a:pt x="1248" y="484"/>
                </a:cubicBezTo>
                <a:cubicBezTo>
                  <a:pt x="1257" y="499"/>
                  <a:pt x="1266" y="515"/>
                  <a:pt x="1272" y="532"/>
                </a:cubicBezTo>
                <a:cubicBezTo>
                  <a:pt x="1276" y="544"/>
                  <a:pt x="1284" y="568"/>
                  <a:pt x="1284" y="568"/>
                </a:cubicBezTo>
                <a:cubicBezTo>
                  <a:pt x="1286" y="578"/>
                  <a:pt x="1295" y="529"/>
                  <a:pt x="1292" y="564"/>
                </a:cubicBezTo>
                <a:cubicBezTo>
                  <a:pt x="1295" y="570"/>
                  <a:pt x="1306" y="592"/>
                  <a:pt x="1302" y="606"/>
                </a:cubicBezTo>
                <a:cubicBezTo>
                  <a:pt x="1298" y="620"/>
                  <a:pt x="1278" y="637"/>
                  <a:pt x="1270" y="648"/>
                </a:cubicBezTo>
                <a:cubicBezTo>
                  <a:pt x="1262" y="659"/>
                  <a:pt x="1260" y="663"/>
                  <a:pt x="1256" y="670"/>
                </a:cubicBezTo>
                <a:cubicBezTo>
                  <a:pt x="1252" y="677"/>
                  <a:pt x="1246" y="682"/>
                  <a:pt x="1248" y="694"/>
                </a:cubicBezTo>
                <a:cubicBezTo>
                  <a:pt x="1250" y="706"/>
                  <a:pt x="1262" y="728"/>
                  <a:pt x="1268" y="742"/>
                </a:cubicBezTo>
                <a:cubicBezTo>
                  <a:pt x="1274" y="756"/>
                  <a:pt x="1278" y="762"/>
                  <a:pt x="1286" y="778"/>
                </a:cubicBezTo>
                <a:cubicBezTo>
                  <a:pt x="1288" y="805"/>
                  <a:pt x="1300" y="812"/>
                  <a:pt x="1316" y="836"/>
                </a:cubicBezTo>
                <a:cubicBezTo>
                  <a:pt x="1320" y="842"/>
                  <a:pt x="1334" y="892"/>
                  <a:pt x="1334" y="892"/>
                </a:cubicBezTo>
                <a:cubicBezTo>
                  <a:pt x="1337" y="915"/>
                  <a:pt x="1329" y="955"/>
                  <a:pt x="1324" y="982"/>
                </a:cubicBezTo>
                <a:cubicBezTo>
                  <a:pt x="1319" y="1007"/>
                  <a:pt x="1308" y="1024"/>
                  <a:pt x="1302" y="1040"/>
                </a:cubicBezTo>
                <a:cubicBezTo>
                  <a:pt x="1295" y="1056"/>
                  <a:pt x="1300" y="1066"/>
                  <a:pt x="1288" y="1080"/>
                </a:cubicBezTo>
                <a:cubicBezTo>
                  <a:pt x="1282" y="1091"/>
                  <a:pt x="1272" y="1099"/>
                  <a:pt x="1268" y="1106"/>
                </a:cubicBezTo>
                <a:cubicBezTo>
                  <a:pt x="1264" y="1113"/>
                  <a:pt x="1269" y="1122"/>
                  <a:pt x="1264" y="1124"/>
                </a:cubicBezTo>
                <a:cubicBezTo>
                  <a:pt x="1259" y="1126"/>
                  <a:pt x="1246" y="1119"/>
                  <a:pt x="1236" y="1118"/>
                </a:cubicBezTo>
                <a:cubicBezTo>
                  <a:pt x="1228" y="1120"/>
                  <a:pt x="1213" y="1113"/>
                  <a:pt x="1206" y="1118"/>
                </a:cubicBezTo>
                <a:cubicBezTo>
                  <a:pt x="1199" y="1123"/>
                  <a:pt x="1197" y="1142"/>
                  <a:pt x="1194" y="1150"/>
                </a:cubicBezTo>
                <a:cubicBezTo>
                  <a:pt x="1192" y="1156"/>
                  <a:pt x="1188" y="1162"/>
                  <a:pt x="1188" y="1168"/>
                </a:cubicBezTo>
                <a:cubicBezTo>
                  <a:pt x="1187" y="1180"/>
                  <a:pt x="1193" y="1175"/>
                  <a:pt x="1192" y="1200"/>
                </a:cubicBezTo>
                <a:cubicBezTo>
                  <a:pt x="1195" y="1208"/>
                  <a:pt x="1204" y="1209"/>
                  <a:pt x="1206" y="1214"/>
                </a:cubicBezTo>
                <a:cubicBezTo>
                  <a:pt x="1208" y="1219"/>
                  <a:pt x="1208" y="1223"/>
                  <a:pt x="1204" y="1230"/>
                </a:cubicBezTo>
                <a:cubicBezTo>
                  <a:pt x="1200" y="1237"/>
                  <a:pt x="1189" y="1243"/>
                  <a:pt x="1184" y="1254"/>
                </a:cubicBezTo>
                <a:cubicBezTo>
                  <a:pt x="1179" y="1265"/>
                  <a:pt x="1174" y="1284"/>
                  <a:pt x="1172" y="1296"/>
                </a:cubicBezTo>
                <a:cubicBezTo>
                  <a:pt x="1170" y="1308"/>
                  <a:pt x="1176" y="1311"/>
                  <a:pt x="1172" y="1324"/>
                </a:cubicBezTo>
                <a:cubicBezTo>
                  <a:pt x="1166" y="1359"/>
                  <a:pt x="1155" y="1346"/>
                  <a:pt x="1146" y="1372"/>
                </a:cubicBezTo>
                <a:cubicBezTo>
                  <a:pt x="1138" y="1384"/>
                  <a:pt x="1125" y="1380"/>
                  <a:pt x="1116" y="1390"/>
                </a:cubicBezTo>
                <a:cubicBezTo>
                  <a:pt x="1107" y="1400"/>
                  <a:pt x="1102" y="1419"/>
                  <a:pt x="1094" y="1430"/>
                </a:cubicBezTo>
                <a:cubicBezTo>
                  <a:pt x="1086" y="1441"/>
                  <a:pt x="1079" y="1449"/>
                  <a:pt x="1070" y="1456"/>
                </a:cubicBezTo>
                <a:cubicBezTo>
                  <a:pt x="1061" y="1463"/>
                  <a:pt x="1048" y="1467"/>
                  <a:pt x="1038" y="1470"/>
                </a:cubicBezTo>
                <a:cubicBezTo>
                  <a:pt x="1028" y="1473"/>
                  <a:pt x="1017" y="1472"/>
                  <a:pt x="1008" y="1476"/>
                </a:cubicBezTo>
                <a:cubicBezTo>
                  <a:pt x="999" y="1480"/>
                  <a:pt x="993" y="1492"/>
                  <a:pt x="982" y="1496"/>
                </a:cubicBezTo>
                <a:cubicBezTo>
                  <a:pt x="972" y="1499"/>
                  <a:pt x="984" y="1493"/>
                  <a:pt x="944" y="1500"/>
                </a:cubicBezTo>
                <a:cubicBezTo>
                  <a:pt x="930" y="1497"/>
                  <a:pt x="915" y="1474"/>
                  <a:pt x="898" y="1476"/>
                </a:cubicBezTo>
                <a:cubicBezTo>
                  <a:pt x="881" y="1478"/>
                  <a:pt x="861" y="1499"/>
                  <a:pt x="844" y="1512"/>
                </a:cubicBezTo>
                <a:cubicBezTo>
                  <a:pt x="827" y="1525"/>
                  <a:pt x="808" y="1539"/>
                  <a:pt x="796" y="1554"/>
                </a:cubicBezTo>
                <a:cubicBezTo>
                  <a:pt x="784" y="1569"/>
                  <a:pt x="783" y="1591"/>
                  <a:pt x="774" y="1600"/>
                </a:cubicBezTo>
                <a:cubicBezTo>
                  <a:pt x="765" y="1611"/>
                  <a:pt x="759" y="1606"/>
                  <a:pt x="740" y="1608"/>
                </a:cubicBezTo>
                <a:cubicBezTo>
                  <a:pt x="721" y="1610"/>
                  <a:pt x="685" y="1610"/>
                  <a:pt x="662" y="1614"/>
                </a:cubicBezTo>
                <a:cubicBezTo>
                  <a:pt x="644" y="1617"/>
                  <a:pt x="622" y="1629"/>
                  <a:pt x="604" y="1632"/>
                </a:cubicBezTo>
                <a:cubicBezTo>
                  <a:pt x="594" y="1633"/>
                  <a:pt x="572" y="1636"/>
                  <a:pt x="562" y="1638"/>
                </a:cubicBezTo>
                <a:cubicBezTo>
                  <a:pt x="538" y="1645"/>
                  <a:pt x="475" y="1681"/>
                  <a:pt x="452" y="1688"/>
                </a:cubicBezTo>
                <a:cubicBezTo>
                  <a:pt x="427" y="1698"/>
                  <a:pt x="425" y="1701"/>
                  <a:pt x="414" y="1700"/>
                </a:cubicBezTo>
                <a:cubicBezTo>
                  <a:pt x="402" y="1700"/>
                  <a:pt x="393" y="1696"/>
                  <a:pt x="384" y="1682"/>
                </a:cubicBezTo>
                <a:cubicBezTo>
                  <a:pt x="376" y="1666"/>
                  <a:pt x="369" y="1619"/>
                  <a:pt x="364" y="1602"/>
                </a:cubicBezTo>
                <a:cubicBezTo>
                  <a:pt x="358" y="1586"/>
                  <a:pt x="361" y="1589"/>
                  <a:pt x="354" y="1582"/>
                </a:cubicBezTo>
                <a:cubicBezTo>
                  <a:pt x="347" y="1575"/>
                  <a:pt x="334" y="1571"/>
                  <a:pt x="324" y="1562"/>
                </a:cubicBezTo>
                <a:cubicBezTo>
                  <a:pt x="311" y="1549"/>
                  <a:pt x="304" y="1543"/>
                  <a:pt x="296" y="1526"/>
                </a:cubicBezTo>
                <a:cubicBezTo>
                  <a:pt x="293" y="1520"/>
                  <a:pt x="258" y="1518"/>
                  <a:pt x="254" y="1514"/>
                </a:cubicBezTo>
                <a:cubicBezTo>
                  <a:pt x="250" y="1510"/>
                  <a:pt x="214" y="1508"/>
                  <a:pt x="208" y="1506"/>
                </a:cubicBezTo>
                <a:cubicBezTo>
                  <a:pt x="195" y="1503"/>
                  <a:pt x="175" y="1516"/>
                  <a:pt x="164" y="1512"/>
                </a:cubicBezTo>
                <a:cubicBezTo>
                  <a:pt x="153" y="1508"/>
                  <a:pt x="152" y="1489"/>
                  <a:pt x="140" y="1484"/>
                </a:cubicBezTo>
                <a:cubicBezTo>
                  <a:pt x="128" y="1479"/>
                  <a:pt x="109" y="1474"/>
                  <a:pt x="90" y="1482"/>
                </a:cubicBezTo>
                <a:cubicBezTo>
                  <a:pt x="71" y="1482"/>
                  <a:pt x="43" y="1518"/>
                  <a:pt x="28" y="1530"/>
                </a:cubicBezTo>
                <a:cubicBezTo>
                  <a:pt x="14" y="1542"/>
                  <a:pt x="8" y="1551"/>
                  <a:pt x="4" y="1556"/>
                </a:cubicBezTo>
                <a:cubicBezTo>
                  <a:pt x="0" y="1561"/>
                  <a:pt x="4" y="1560"/>
                  <a:pt x="4" y="1560"/>
                </a:cubicBezTo>
                <a:cubicBezTo>
                  <a:pt x="4" y="1560"/>
                  <a:pt x="5" y="1557"/>
                  <a:pt x="4" y="1556"/>
                </a:cubicBezTo>
                <a:cubicBezTo>
                  <a:pt x="3" y="1555"/>
                  <a:pt x="1" y="1811"/>
                  <a:pt x="0" y="1552"/>
                </a:cubicBezTo>
                <a:lnTo>
                  <a:pt x="0" y="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09" name="Freeform 6"/>
          <p:cNvSpPr/>
          <p:nvPr/>
        </p:nvSpPr>
        <p:spPr>
          <a:xfrm>
            <a:off x="2060640" y="4145040"/>
            <a:ext cx="2062080" cy="1665360"/>
          </a:xfrm>
          <a:custGeom>
            <a:avLst/>
            <a:gdLst/>
            <a:ahLst/>
            <a:rect l="l" t="t" r="r" b="b"/>
            <a:pathLst>
              <a:path w="1299" h="1049">
                <a:moveTo>
                  <a:pt x="256" y="0"/>
                </a:moveTo>
                <a:cubicBezTo>
                  <a:pt x="258" y="13"/>
                  <a:pt x="266" y="32"/>
                  <a:pt x="268" y="44"/>
                </a:cubicBezTo>
                <a:cubicBezTo>
                  <a:pt x="271" y="67"/>
                  <a:pt x="267" y="127"/>
                  <a:pt x="272" y="146"/>
                </a:cubicBezTo>
                <a:cubicBezTo>
                  <a:pt x="277" y="165"/>
                  <a:pt x="289" y="158"/>
                  <a:pt x="296" y="156"/>
                </a:cubicBezTo>
                <a:cubicBezTo>
                  <a:pt x="311" y="153"/>
                  <a:pt x="306" y="149"/>
                  <a:pt x="314" y="134"/>
                </a:cubicBezTo>
                <a:cubicBezTo>
                  <a:pt x="321" y="125"/>
                  <a:pt x="336" y="100"/>
                  <a:pt x="342" y="94"/>
                </a:cubicBezTo>
                <a:cubicBezTo>
                  <a:pt x="348" y="88"/>
                  <a:pt x="345" y="94"/>
                  <a:pt x="352" y="96"/>
                </a:cubicBezTo>
                <a:cubicBezTo>
                  <a:pt x="358" y="98"/>
                  <a:pt x="378" y="93"/>
                  <a:pt x="384" y="104"/>
                </a:cubicBezTo>
                <a:cubicBezTo>
                  <a:pt x="390" y="115"/>
                  <a:pt x="383" y="147"/>
                  <a:pt x="388" y="160"/>
                </a:cubicBezTo>
                <a:cubicBezTo>
                  <a:pt x="404" y="166"/>
                  <a:pt x="409" y="172"/>
                  <a:pt x="414" y="180"/>
                </a:cubicBezTo>
                <a:cubicBezTo>
                  <a:pt x="417" y="184"/>
                  <a:pt x="412" y="196"/>
                  <a:pt x="412" y="196"/>
                </a:cubicBezTo>
                <a:cubicBezTo>
                  <a:pt x="420" y="227"/>
                  <a:pt x="413" y="262"/>
                  <a:pt x="424" y="292"/>
                </a:cubicBezTo>
                <a:cubicBezTo>
                  <a:pt x="428" y="310"/>
                  <a:pt x="430" y="309"/>
                  <a:pt x="434" y="312"/>
                </a:cubicBezTo>
                <a:cubicBezTo>
                  <a:pt x="439" y="316"/>
                  <a:pt x="447" y="319"/>
                  <a:pt x="454" y="316"/>
                </a:cubicBezTo>
                <a:cubicBezTo>
                  <a:pt x="462" y="315"/>
                  <a:pt x="467" y="295"/>
                  <a:pt x="476" y="294"/>
                </a:cubicBezTo>
                <a:cubicBezTo>
                  <a:pt x="483" y="291"/>
                  <a:pt x="493" y="298"/>
                  <a:pt x="498" y="300"/>
                </a:cubicBezTo>
                <a:cubicBezTo>
                  <a:pt x="503" y="302"/>
                  <a:pt x="505" y="304"/>
                  <a:pt x="508" y="308"/>
                </a:cubicBezTo>
                <a:cubicBezTo>
                  <a:pt x="510" y="311"/>
                  <a:pt x="504" y="298"/>
                  <a:pt x="514" y="322"/>
                </a:cubicBezTo>
                <a:cubicBezTo>
                  <a:pt x="517" y="330"/>
                  <a:pt x="520" y="347"/>
                  <a:pt x="524" y="356"/>
                </a:cubicBezTo>
                <a:cubicBezTo>
                  <a:pt x="528" y="365"/>
                  <a:pt x="535" y="363"/>
                  <a:pt x="540" y="376"/>
                </a:cubicBezTo>
                <a:cubicBezTo>
                  <a:pt x="545" y="389"/>
                  <a:pt x="551" y="422"/>
                  <a:pt x="554" y="434"/>
                </a:cubicBezTo>
                <a:cubicBezTo>
                  <a:pt x="557" y="446"/>
                  <a:pt x="553" y="442"/>
                  <a:pt x="558" y="448"/>
                </a:cubicBezTo>
                <a:cubicBezTo>
                  <a:pt x="562" y="457"/>
                  <a:pt x="573" y="459"/>
                  <a:pt x="582" y="472"/>
                </a:cubicBezTo>
                <a:cubicBezTo>
                  <a:pt x="587" y="479"/>
                  <a:pt x="582" y="484"/>
                  <a:pt x="588" y="492"/>
                </a:cubicBezTo>
                <a:cubicBezTo>
                  <a:pt x="594" y="500"/>
                  <a:pt x="609" y="506"/>
                  <a:pt x="616" y="518"/>
                </a:cubicBezTo>
                <a:cubicBezTo>
                  <a:pt x="623" y="530"/>
                  <a:pt x="623" y="549"/>
                  <a:pt x="628" y="564"/>
                </a:cubicBezTo>
                <a:cubicBezTo>
                  <a:pt x="632" y="580"/>
                  <a:pt x="636" y="598"/>
                  <a:pt x="642" y="612"/>
                </a:cubicBezTo>
                <a:cubicBezTo>
                  <a:pt x="647" y="628"/>
                  <a:pt x="659" y="637"/>
                  <a:pt x="664" y="648"/>
                </a:cubicBezTo>
                <a:cubicBezTo>
                  <a:pt x="669" y="657"/>
                  <a:pt x="670" y="663"/>
                  <a:pt x="672" y="668"/>
                </a:cubicBezTo>
                <a:cubicBezTo>
                  <a:pt x="674" y="673"/>
                  <a:pt x="674" y="674"/>
                  <a:pt x="674" y="676"/>
                </a:cubicBezTo>
                <a:cubicBezTo>
                  <a:pt x="674" y="678"/>
                  <a:pt x="669" y="677"/>
                  <a:pt x="672" y="680"/>
                </a:cubicBezTo>
                <a:cubicBezTo>
                  <a:pt x="675" y="680"/>
                  <a:pt x="674" y="694"/>
                  <a:pt x="692" y="692"/>
                </a:cubicBezTo>
                <a:cubicBezTo>
                  <a:pt x="702" y="690"/>
                  <a:pt x="717" y="670"/>
                  <a:pt x="732" y="666"/>
                </a:cubicBezTo>
                <a:cubicBezTo>
                  <a:pt x="747" y="662"/>
                  <a:pt x="768" y="669"/>
                  <a:pt x="780" y="668"/>
                </a:cubicBezTo>
                <a:cubicBezTo>
                  <a:pt x="791" y="667"/>
                  <a:pt x="794" y="662"/>
                  <a:pt x="802" y="658"/>
                </a:cubicBezTo>
                <a:cubicBezTo>
                  <a:pt x="810" y="654"/>
                  <a:pt x="819" y="649"/>
                  <a:pt x="828" y="644"/>
                </a:cubicBezTo>
                <a:cubicBezTo>
                  <a:pt x="842" y="640"/>
                  <a:pt x="839" y="627"/>
                  <a:pt x="854" y="626"/>
                </a:cubicBezTo>
                <a:cubicBezTo>
                  <a:pt x="858" y="619"/>
                  <a:pt x="855" y="611"/>
                  <a:pt x="860" y="602"/>
                </a:cubicBezTo>
                <a:cubicBezTo>
                  <a:pt x="866" y="598"/>
                  <a:pt x="884" y="606"/>
                  <a:pt x="890" y="604"/>
                </a:cubicBezTo>
                <a:cubicBezTo>
                  <a:pt x="896" y="602"/>
                  <a:pt x="897" y="595"/>
                  <a:pt x="896" y="590"/>
                </a:cubicBezTo>
                <a:cubicBezTo>
                  <a:pt x="895" y="585"/>
                  <a:pt x="887" y="581"/>
                  <a:pt x="884" y="572"/>
                </a:cubicBezTo>
                <a:cubicBezTo>
                  <a:pt x="882" y="564"/>
                  <a:pt x="875" y="553"/>
                  <a:pt x="876" y="538"/>
                </a:cubicBezTo>
                <a:cubicBezTo>
                  <a:pt x="877" y="523"/>
                  <a:pt x="881" y="492"/>
                  <a:pt x="888" y="480"/>
                </a:cubicBezTo>
                <a:cubicBezTo>
                  <a:pt x="894" y="465"/>
                  <a:pt x="907" y="475"/>
                  <a:pt x="918" y="466"/>
                </a:cubicBezTo>
                <a:cubicBezTo>
                  <a:pt x="924" y="460"/>
                  <a:pt x="917" y="453"/>
                  <a:pt x="922" y="444"/>
                </a:cubicBezTo>
                <a:cubicBezTo>
                  <a:pt x="927" y="435"/>
                  <a:pt x="940" y="419"/>
                  <a:pt x="948" y="414"/>
                </a:cubicBezTo>
                <a:cubicBezTo>
                  <a:pt x="956" y="407"/>
                  <a:pt x="962" y="415"/>
                  <a:pt x="968" y="412"/>
                </a:cubicBezTo>
                <a:cubicBezTo>
                  <a:pt x="974" y="409"/>
                  <a:pt x="979" y="414"/>
                  <a:pt x="984" y="396"/>
                </a:cubicBezTo>
                <a:cubicBezTo>
                  <a:pt x="988" y="380"/>
                  <a:pt x="991" y="327"/>
                  <a:pt x="996" y="306"/>
                </a:cubicBezTo>
                <a:cubicBezTo>
                  <a:pt x="1000" y="284"/>
                  <a:pt x="1000" y="274"/>
                  <a:pt x="1008" y="266"/>
                </a:cubicBezTo>
                <a:cubicBezTo>
                  <a:pt x="1014" y="255"/>
                  <a:pt x="1030" y="264"/>
                  <a:pt x="1042" y="258"/>
                </a:cubicBezTo>
                <a:cubicBezTo>
                  <a:pt x="1052" y="257"/>
                  <a:pt x="1062" y="262"/>
                  <a:pt x="1068" y="258"/>
                </a:cubicBezTo>
                <a:cubicBezTo>
                  <a:pt x="1074" y="254"/>
                  <a:pt x="1071" y="234"/>
                  <a:pt x="1080" y="232"/>
                </a:cubicBezTo>
                <a:cubicBezTo>
                  <a:pt x="1089" y="227"/>
                  <a:pt x="1101" y="234"/>
                  <a:pt x="1120" y="248"/>
                </a:cubicBezTo>
                <a:cubicBezTo>
                  <a:pt x="1131" y="252"/>
                  <a:pt x="1139" y="249"/>
                  <a:pt x="1146" y="256"/>
                </a:cubicBezTo>
                <a:cubicBezTo>
                  <a:pt x="1153" y="263"/>
                  <a:pt x="1157" y="279"/>
                  <a:pt x="1160" y="288"/>
                </a:cubicBezTo>
                <a:cubicBezTo>
                  <a:pt x="1163" y="297"/>
                  <a:pt x="1160" y="303"/>
                  <a:pt x="1166" y="308"/>
                </a:cubicBezTo>
                <a:cubicBezTo>
                  <a:pt x="1172" y="313"/>
                  <a:pt x="1188" y="313"/>
                  <a:pt x="1196" y="316"/>
                </a:cubicBezTo>
                <a:cubicBezTo>
                  <a:pt x="1204" y="318"/>
                  <a:pt x="1200" y="323"/>
                  <a:pt x="1214" y="324"/>
                </a:cubicBezTo>
                <a:cubicBezTo>
                  <a:pt x="1226" y="324"/>
                  <a:pt x="1255" y="318"/>
                  <a:pt x="1266" y="318"/>
                </a:cubicBezTo>
                <a:cubicBezTo>
                  <a:pt x="1277" y="318"/>
                  <a:pt x="1275" y="321"/>
                  <a:pt x="1280" y="324"/>
                </a:cubicBezTo>
                <a:cubicBezTo>
                  <a:pt x="1285" y="325"/>
                  <a:pt x="1291" y="331"/>
                  <a:pt x="1294" y="334"/>
                </a:cubicBezTo>
                <a:cubicBezTo>
                  <a:pt x="1297" y="337"/>
                  <a:pt x="1299" y="333"/>
                  <a:pt x="1298" y="340"/>
                </a:cubicBezTo>
                <a:cubicBezTo>
                  <a:pt x="1297" y="347"/>
                  <a:pt x="1291" y="363"/>
                  <a:pt x="1286" y="374"/>
                </a:cubicBezTo>
                <a:cubicBezTo>
                  <a:pt x="1281" y="385"/>
                  <a:pt x="1274" y="398"/>
                  <a:pt x="1270" y="408"/>
                </a:cubicBezTo>
                <a:cubicBezTo>
                  <a:pt x="1266" y="418"/>
                  <a:pt x="1269" y="431"/>
                  <a:pt x="1260" y="436"/>
                </a:cubicBezTo>
                <a:cubicBezTo>
                  <a:pt x="1251" y="442"/>
                  <a:pt x="1229" y="437"/>
                  <a:pt x="1214" y="438"/>
                </a:cubicBezTo>
                <a:cubicBezTo>
                  <a:pt x="1199" y="439"/>
                  <a:pt x="1181" y="442"/>
                  <a:pt x="1172" y="444"/>
                </a:cubicBezTo>
                <a:cubicBezTo>
                  <a:pt x="1162" y="446"/>
                  <a:pt x="1171" y="452"/>
                  <a:pt x="1160" y="452"/>
                </a:cubicBezTo>
                <a:cubicBezTo>
                  <a:pt x="1150" y="450"/>
                  <a:pt x="1131" y="432"/>
                  <a:pt x="1112" y="432"/>
                </a:cubicBezTo>
                <a:cubicBezTo>
                  <a:pt x="1087" y="430"/>
                  <a:pt x="1064" y="446"/>
                  <a:pt x="1048" y="454"/>
                </a:cubicBezTo>
                <a:cubicBezTo>
                  <a:pt x="1034" y="458"/>
                  <a:pt x="1035" y="452"/>
                  <a:pt x="1030" y="456"/>
                </a:cubicBezTo>
                <a:cubicBezTo>
                  <a:pt x="1025" y="460"/>
                  <a:pt x="1018" y="468"/>
                  <a:pt x="1016" y="480"/>
                </a:cubicBezTo>
                <a:cubicBezTo>
                  <a:pt x="1015" y="490"/>
                  <a:pt x="1018" y="515"/>
                  <a:pt x="1020" y="530"/>
                </a:cubicBezTo>
                <a:cubicBezTo>
                  <a:pt x="1020" y="544"/>
                  <a:pt x="1014" y="551"/>
                  <a:pt x="1014" y="562"/>
                </a:cubicBezTo>
                <a:cubicBezTo>
                  <a:pt x="1014" y="573"/>
                  <a:pt x="1014" y="585"/>
                  <a:pt x="1020" y="594"/>
                </a:cubicBezTo>
                <a:cubicBezTo>
                  <a:pt x="1023" y="630"/>
                  <a:pt x="1036" y="614"/>
                  <a:pt x="1050" y="618"/>
                </a:cubicBezTo>
                <a:cubicBezTo>
                  <a:pt x="1056" y="622"/>
                  <a:pt x="1052" y="624"/>
                  <a:pt x="1060" y="622"/>
                </a:cubicBezTo>
                <a:cubicBezTo>
                  <a:pt x="1068" y="620"/>
                  <a:pt x="1088" y="609"/>
                  <a:pt x="1096" y="604"/>
                </a:cubicBezTo>
                <a:cubicBezTo>
                  <a:pt x="1106" y="600"/>
                  <a:pt x="1103" y="599"/>
                  <a:pt x="1108" y="594"/>
                </a:cubicBezTo>
                <a:cubicBezTo>
                  <a:pt x="1113" y="590"/>
                  <a:pt x="1118" y="581"/>
                  <a:pt x="1126" y="578"/>
                </a:cubicBezTo>
                <a:cubicBezTo>
                  <a:pt x="1133" y="577"/>
                  <a:pt x="1147" y="573"/>
                  <a:pt x="1156" y="578"/>
                </a:cubicBezTo>
                <a:cubicBezTo>
                  <a:pt x="1165" y="583"/>
                  <a:pt x="1177" y="591"/>
                  <a:pt x="1180" y="608"/>
                </a:cubicBezTo>
                <a:cubicBezTo>
                  <a:pt x="1174" y="656"/>
                  <a:pt x="1178" y="634"/>
                  <a:pt x="1172" y="678"/>
                </a:cubicBezTo>
                <a:cubicBezTo>
                  <a:pt x="1142" y="706"/>
                  <a:pt x="1123" y="728"/>
                  <a:pt x="1120" y="752"/>
                </a:cubicBezTo>
                <a:cubicBezTo>
                  <a:pt x="1121" y="771"/>
                  <a:pt x="1127" y="790"/>
                  <a:pt x="1132" y="808"/>
                </a:cubicBezTo>
                <a:cubicBezTo>
                  <a:pt x="1133" y="813"/>
                  <a:pt x="1140" y="813"/>
                  <a:pt x="1144" y="816"/>
                </a:cubicBezTo>
                <a:cubicBezTo>
                  <a:pt x="1161" y="830"/>
                  <a:pt x="1167" y="858"/>
                  <a:pt x="1186" y="870"/>
                </a:cubicBezTo>
                <a:cubicBezTo>
                  <a:pt x="1193" y="882"/>
                  <a:pt x="1198" y="884"/>
                  <a:pt x="1196" y="890"/>
                </a:cubicBezTo>
                <a:cubicBezTo>
                  <a:pt x="1194" y="896"/>
                  <a:pt x="1179" y="902"/>
                  <a:pt x="1174" y="906"/>
                </a:cubicBezTo>
                <a:cubicBezTo>
                  <a:pt x="1169" y="910"/>
                  <a:pt x="1167" y="910"/>
                  <a:pt x="1164" y="916"/>
                </a:cubicBezTo>
                <a:cubicBezTo>
                  <a:pt x="1160" y="922"/>
                  <a:pt x="1155" y="920"/>
                  <a:pt x="1154" y="942"/>
                </a:cubicBezTo>
                <a:cubicBezTo>
                  <a:pt x="1152" y="951"/>
                  <a:pt x="1152" y="959"/>
                  <a:pt x="1150" y="972"/>
                </a:cubicBezTo>
                <a:cubicBezTo>
                  <a:pt x="1148" y="985"/>
                  <a:pt x="1144" y="1007"/>
                  <a:pt x="1144" y="1018"/>
                </a:cubicBezTo>
                <a:cubicBezTo>
                  <a:pt x="1144" y="1029"/>
                  <a:pt x="1181" y="1033"/>
                  <a:pt x="1150" y="1038"/>
                </a:cubicBezTo>
                <a:cubicBezTo>
                  <a:pt x="1119" y="1043"/>
                  <a:pt x="1156" y="1048"/>
                  <a:pt x="956" y="1046"/>
                </a:cubicBezTo>
                <a:cubicBezTo>
                  <a:pt x="577" y="1045"/>
                  <a:pt x="399" y="1049"/>
                  <a:pt x="20" y="1044"/>
                </a:cubicBezTo>
                <a:cubicBezTo>
                  <a:pt x="0" y="1044"/>
                  <a:pt x="12" y="1005"/>
                  <a:pt x="18" y="1000"/>
                </a:cubicBezTo>
                <a:cubicBezTo>
                  <a:pt x="28" y="991"/>
                  <a:pt x="21" y="969"/>
                  <a:pt x="34" y="968"/>
                </a:cubicBezTo>
                <a:cubicBezTo>
                  <a:pt x="36" y="926"/>
                  <a:pt x="45" y="905"/>
                  <a:pt x="32" y="902"/>
                </a:cubicBezTo>
                <a:cubicBezTo>
                  <a:pt x="31" y="897"/>
                  <a:pt x="38" y="891"/>
                  <a:pt x="36" y="886"/>
                </a:cubicBezTo>
                <a:cubicBezTo>
                  <a:pt x="34" y="878"/>
                  <a:pt x="40" y="874"/>
                  <a:pt x="38" y="866"/>
                </a:cubicBezTo>
                <a:cubicBezTo>
                  <a:pt x="34" y="850"/>
                  <a:pt x="46" y="838"/>
                  <a:pt x="46" y="838"/>
                </a:cubicBezTo>
                <a:cubicBezTo>
                  <a:pt x="47" y="825"/>
                  <a:pt x="54" y="800"/>
                  <a:pt x="56" y="788"/>
                </a:cubicBezTo>
                <a:cubicBezTo>
                  <a:pt x="58" y="776"/>
                  <a:pt x="57" y="778"/>
                  <a:pt x="60" y="768"/>
                </a:cubicBezTo>
                <a:cubicBezTo>
                  <a:pt x="64" y="758"/>
                  <a:pt x="69" y="742"/>
                  <a:pt x="74" y="726"/>
                </a:cubicBezTo>
                <a:cubicBezTo>
                  <a:pt x="79" y="710"/>
                  <a:pt x="85" y="688"/>
                  <a:pt x="88" y="674"/>
                </a:cubicBezTo>
                <a:cubicBezTo>
                  <a:pt x="93" y="662"/>
                  <a:pt x="85" y="651"/>
                  <a:pt x="94" y="642"/>
                </a:cubicBezTo>
                <a:cubicBezTo>
                  <a:pt x="103" y="633"/>
                  <a:pt x="129" y="629"/>
                  <a:pt x="140" y="620"/>
                </a:cubicBezTo>
                <a:cubicBezTo>
                  <a:pt x="141" y="608"/>
                  <a:pt x="154" y="602"/>
                  <a:pt x="162" y="588"/>
                </a:cubicBezTo>
                <a:cubicBezTo>
                  <a:pt x="170" y="561"/>
                  <a:pt x="185" y="534"/>
                  <a:pt x="196" y="500"/>
                </a:cubicBezTo>
                <a:cubicBezTo>
                  <a:pt x="203" y="468"/>
                  <a:pt x="197" y="441"/>
                  <a:pt x="188" y="400"/>
                </a:cubicBezTo>
                <a:cubicBezTo>
                  <a:pt x="190" y="373"/>
                  <a:pt x="206" y="355"/>
                  <a:pt x="206" y="338"/>
                </a:cubicBezTo>
                <a:cubicBezTo>
                  <a:pt x="206" y="321"/>
                  <a:pt x="195" y="311"/>
                  <a:pt x="190" y="298"/>
                </a:cubicBezTo>
                <a:cubicBezTo>
                  <a:pt x="185" y="285"/>
                  <a:pt x="186" y="265"/>
                  <a:pt x="178" y="258"/>
                </a:cubicBezTo>
                <a:cubicBezTo>
                  <a:pt x="170" y="251"/>
                  <a:pt x="147" y="262"/>
                  <a:pt x="140" y="256"/>
                </a:cubicBezTo>
                <a:cubicBezTo>
                  <a:pt x="127" y="206"/>
                  <a:pt x="134" y="234"/>
                  <a:pt x="136" y="222"/>
                </a:cubicBezTo>
                <a:cubicBezTo>
                  <a:pt x="138" y="210"/>
                  <a:pt x="145" y="197"/>
                  <a:pt x="150" y="184"/>
                </a:cubicBezTo>
                <a:cubicBezTo>
                  <a:pt x="153" y="164"/>
                  <a:pt x="166" y="156"/>
                  <a:pt x="166" y="142"/>
                </a:cubicBezTo>
                <a:cubicBezTo>
                  <a:pt x="166" y="128"/>
                  <a:pt x="153" y="114"/>
                  <a:pt x="152" y="102"/>
                </a:cubicBezTo>
                <a:cubicBezTo>
                  <a:pt x="151" y="90"/>
                  <a:pt x="154" y="79"/>
                  <a:pt x="158" y="68"/>
                </a:cubicBezTo>
                <a:cubicBezTo>
                  <a:pt x="162" y="57"/>
                  <a:pt x="170" y="43"/>
                  <a:pt x="178" y="38"/>
                </a:cubicBezTo>
                <a:cubicBezTo>
                  <a:pt x="186" y="35"/>
                  <a:pt x="198" y="38"/>
                  <a:pt x="204" y="40"/>
                </a:cubicBezTo>
                <a:cubicBezTo>
                  <a:pt x="210" y="42"/>
                  <a:pt x="208" y="59"/>
                  <a:pt x="216" y="52"/>
                </a:cubicBezTo>
                <a:cubicBezTo>
                  <a:pt x="227" y="35"/>
                  <a:pt x="247" y="9"/>
                  <a:pt x="254" y="0"/>
                </a:cubicBezTo>
                <a:lnTo>
                  <a:pt x="2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0" name="Freeform 7"/>
          <p:cNvSpPr/>
          <p:nvPr/>
        </p:nvSpPr>
        <p:spPr>
          <a:xfrm>
            <a:off x="2166840" y="2513160"/>
            <a:ext cx="2868840" cy="2738160"/>
          </a:xfrm>
          <a:custGeom>
            <a:avLst/>
            <a:gdLst/>
            <a:ahLst/>
            <a:rect l="l" t="t" r="r" b="b"/>
            <a:pathLst>
              <a:path w="1807" h="1725">
                <a:moveTo>
                  <a:pt x="707" y="154"/>
                </a:moveTo>
                <a:cubicBezTo>
                  <a:pt x="755" y="186"/>
                  <a:pt x="753" y="213"/>
                  <a:pt x="781" y="254"/>
                </a:cubicBezTo>
                <a:cubicBezTo>
                  <a:pt x="795" y="270"/>
                  <a:pt x="783" y="264"/>
                  <a:pt x="793" y="258"/>
                </a:cubicBezTo>
                <a:cubicBezTo>
                  <a:pt x="799" y="252"/>
                  <a:pt x="813" y="226"/>
                  <a:pt x="819" y="218"/>
                </a:cubicBezTo>
                <a:cubicBezTo>
                  <a:pt x="825" y="209"/>
                  <a:pt x="824" y="223"/>
                  <a:pt x="827" y="208"/>
                </a:cubicBezTo>
                <a:cubicBezTo>
                  <a:pt x="831" y="205"/>
                  <a:pt x="840" y="210"/>
                  <a:pt x="841" y="202"/>
                </a:cubicBezTo>
                <a:cubicBezTo>
                  <a:pt x="842" y="194"/>
                  <a:pt x="835" y="172"/>
                  <a:pt x="831" y="158"/>
                </a:cubicBezTo>
                <a:cubicBezTo>
                  <a:pt x="829" y="144"/>
                  <a:pt x="816" y="134"/>
                  <a:pt x="817" y="120"/>
                </a:cubicBezTo>
                <a:cubicBezTo>
                  <a:pt x="818" y="107"/>
                  <a:pt x="829" y="87"/>
                  <a:pt x="839" y="78"/>
                </a:cubicBezTo>
                <a:cubicBezTo>
                  <a:pt x="849" y="68"/>
                  <a:pt x="865" y="72"/>
                  <a:pt x="875" y="68"/>
                </a:cubicBezTo>
                <a:cubicBezTo>
                  <a:pt x="886" y="66"/>
                  <a:pt x="893" y="69"/>
                  <a:pt x="905" y="68"/>
                </a:cubicBezTo>
                <a:cubicBezTo>
                  <a:pt x="921" y="70"/>
                  <a:pt x="936" y="53"/>
                  <a:pt x="949" y="62"/>
                </a:cubicBezTo>
                <a:cubicBezTo>
                  <a:pt x="958" y="65"/>
                  <a:pt x="962" y="67"/>
                  <a:pt x="967" y="82"/>
                </a:cubicBezTo>
                <a:cubicBezTo>
                  <a:pt x="970" y="92"/>
                  <a:pt x="965" y="108"/>
                  <a:pt x="967" y="120"/>
                </a:cubicBezTo>
                <a:cubicBezTo>
                  <a:pt x="969" y="132"/>
                  <a:pt x="975" y="146"/>
                  <a:pt x="979" y="152"/>
                </a:cubicBezTo>
                <a:cubicBezTo>
                  <a:pt x="983" y="165"/>
                  <a:pt x="974" y="155"/>
                  <a:pt x="991" y="158"/>
                </a:cubicBezTo>
                <a:cubicBezTo>
                  <a:pt x="997" y="160"/>
                  <a:pt x="1004" y="165"/>
                  <a:pt x="1013" y="164"/>
                </a:cubicBezTo>
                <a:cubicBezTo>
                  <a:pt x="1022" y="163"/>
                  <a:pt x="1036" y="153"/>
                  <a:pt x="1047" y="154"/>
                </a:cubicBezTo>
                <a:cubicBezTo>
                  <a:pt x="1058" y="155"/>
                  <a:pt x="1070" y="162"/>
                  <a:pt x="1081" y="170"/>
                </a:cubicBezTo>
                <a:cubicBezTo>
                  <a:pt x="1090" y="181"/>
                  <a:pt x="1106" y="189"/>
                  <a:pt x="1113" y="202"/>
                </a:cubicBezTo>
                <a:cubicBezTo>
                  <a:pt x="1122" y="215"/>
                  <a:pt x="1122" y="219"/>
                  <a:pt x="1135" y="246"/>
                </a:cubicBezTo>
                <a:cubicBezTo>
                  <a:pt x="1141" y="310"/>
                  <a:pt x="1148" y="335"/>
                  <a:pt x="1189" y="362"/>
                </a:cubicBezTo>
                <a:cubicBezTo>
                  <a:pt x="1217" y="404"/>
                  <a:pt x="1211" y="412"/>
                  <a:pt x="1233" y="404"/>
                </a:cubicBezTo>
                <a:cubicBezTo>
                  <a:pt x="1244" y="410"/>
                  <a:pt x="1239" y="401"/>
                  <a:pt x="1253" y="398"/>
                </a:cubicBezTo>
                <a:cubicBezTo>
                  <a:pt x="1262" y="397"/>
                  <a:pt x="1275" y="400"/>
                  <a:pt x="1285" y="398"/>
                </a:cubicBezTo>
                <a:cubicBezTo>
                  <a:pt x="1295" y="396"/>
                  <a:pt x="1306" y="391"/>
                  <a:pt x="1315" y="386"/>
                </a:cubicBezTo>
                <a:cubicBezTo>
                  <a:pt x="1326" y="384"/>
                  <a:pt x="1315" y="369"/>
                  <a:pt x="1339" y="370"/>
                </a:cubicBezTo>
                <a:cubicBezTo>
                  <a:pt x="1349" y="367"/>
                  <a:pt x="1359" y="365"/>
                  <a:pt x="1375" y="370"/>
                </a:cubicBezTo>
                <a:cubicBezTo>
                  <a:pt x="1391" y="375"/>
                  <a:pt x="1423" y="395"/>
                  <a:pt x="1437" y="400"/>
                </a:cubicBezTo>
                <a:cubicBezTo>
                  <a:pt x="1451" y="405"/>
                  <a:pt x="1445" y="394"/>
                  <a:pt x="1459" y="398"/>
                </a:cubicBezTo>
                <a:cubicBezTo>
                  <a:pt x="1481" y="408"/>
                  <a:pt x="1500" y="414"/>
                  <a:pt x="1519" y="422"/>
                </a:cubicBezTo>
                <a:cubicBezTo>
                  <a:pt x="1538" y="430"/>
                  <a:pt x="1554" y="416"/>
                  <a:pt x="1571" y="422"/>
                </a:cubicBezTo>
                <a:cubicBezTo>
                  <a:pt x="1586" y="426"/>
                  <a:pt x="1595" y="444"/>
                  <a:pt x="1607" y="448"/>
                </a:cubicBezTo>
                <a:cubicBezTo>
                  <a:pt x="1617" y="453"/>
                  <a:pt x="1632" y="443"/>
                  <a:pt x="1641" y="444"/>
                </a:cubicBezTo>
                <a:cubicBezTo>
                  <a:pt x="1650" y="445"/>
                  <a:pt x="1651" y="452"/>
                  <a:pt x="1661" y="456"/>
                </a:cubicBezTo>
                <a:cubicBezTo>
                  <a:pt x="1671" y="460"/>
                  <a:pt x="1681" y="458"/>
                  <a:pt x="1699" y="466"/>
                </a:cubicBezTo>
                <a:cubicBezTo>
                  <a:pt x="1743" y="492"/>
                  <a:pt x="1769" y="502"/>
                  <a:pt x="1769" y="502"/>
                </a:cubicBezTo>
                <a:cubicBezTo>
                  <a:pt x="1783" y="514"/>
                  <a:pt x="1797" y="492"/>
                  <a:pt x="1803" y="522"/>
                </a:cubicBezTo>
                <a:cubicBezTo>
                  <a:pt x="1805" y="530"/>
                  <a:pt x="1787" y="543"/>
                  <a:pt x="1781" y="552"/>
                </a:cubicBezTo>
                <a:cubicBezTo>
                  <a:pt x="1775" y="561"/>
                  <a:pt x="1766" y="567"/>
                  <a:pt x="1769" y="578"/>
                </a:cubicBezTo>
                <a:cubicBezTo>
                  <a:pt x="1772" y="589"/>
                  <a:pt x="1796" y="602"/>
                  <a:pt x="1801" y="616"/>
                </a:cubicBezTo>
                <a:cubicBezTo>
                  <a:pt x="1806" y="630"/>
                  <a:pt x="1807" y="645"/>
                  <a:pt x="1797" y="660"/>
                </a:cubicBezTo>
                <a:cubicBezTo>
                  <a:pt x="1772" y="668"/>
                  <a:pt x="1757" y="666"/>
                  <a:pt x="1743" y="706"/>
                </a:cubicBezTo>
                <a:cubicBezTo>
                  <a:pt x="1737" y="732"/>
                  <a:pt x="1739" y="732"/>
                  <a:pt x="1711" y="732"/>
                </a:cubicBezTo>
                <a:cubicBezTo>
                  <a:pt x="1689" y="748"/>
                  <a:pt x="1683" y="778"/>
                  <a:pt x="1683" y="778"/>
                </a:cubicBezTo>
                <a:cubicBezTo>
                  <a:pt x="1667" y="802"/>
                  <a:pt x="1649" y="792"/>
                  <a:pt x="1603" y="814"/>
                </a:cubicBezTo>
                <a:cubicBezTo>
                  <a:pt x="1585" y="827"/>
                  <a:pt x="1597" y="837"/>
                  <a:pt x="1587" y="852"/>
                </a:cubicBezTo>
                <a:cubicBezTo>
                  <a:pt x="1580" y="861"/>
                  <a:pt x="1570" y="857"/>
                  <a:pt x="1559" y="866"/>
                </a:cubicBezTo>
                <a:cubicBezTo>
                  <a:pt x="1548" y="875"/>
                  <a:pt x="1531" y="899"/>
                  <a:pt x="1521" y="906"/>
                </a:cubicBezTo>
                <a:cubicBezTo>
                  <a:pt x="1506" y="914"/>
                  <a:pt x="1503" y="909"/>
                  <a:pt x="1497" y="906"/>
                </a:cubicBezTo>
                <a:cubicBezTo>
                  <a:pt x="1491" y="903"/>
                  <a:pt x="1488" y="898"/>
                  <a:pt x="1483" y="890"/>
                </a:cubicBezTo>
                <a:cubicBezTo>
                  <a:pt x="1477" y="885"/>
                  <a:pt x="1473" y="865"/>
                  <a:pt x="1467" y="860"/>
                </a:cubicBezTo>
                <a:cubicBezTo>
                  <a:pt x="1451" y="852"/>
                  <a:pt x="1400" y="873"/>
                  <a:pt x="1381" y="870"/>
                </a:cubicBezTo>
                <a:cubicBezTo>
                  <a:pt x="1360" y="869"/>
                  <a:pt x="1356" y="861"/>
                  <a:pt x="1343" y="856"/>
                </a:cubicBezTo>
                <a:cubicBezTo>
                  <a:pt x="1327" y="858"/>
                  <a:pt x="1316" y="833"/>
                  <a:pt x="1301" y="840"/>
                </a:cubicBezTo>
                <a:cubicBezTo>
                  <a:pt x="1288" y="846"/>
                  <a:pt x="1282" y="877"/>
                  <a:pt x="1279" y="890"/>
                </a:cubicBezTo>
                <a:cubicBezTo>
                  <a:pt x="1269" y="926"/>
                  <a:pt x="1264" y="988"/>
                  <a:pt x="1231" y="1010"/>
                </a:cubicBezTo>
                <a:cubicBezTo>
                  <a:pt x="1226" y="1026"/>
                  <a:pt x="1211" y="1054"/>
                  <a:pt x="1227" y="1080"/>
                </a:cubicBezTo>
                <a:cubicBezTo>
                  <a:pt x="1231" y="1092"/>
                  <a:pt x="1241" y="1084"/>
                  <a:pt x="1255" y="1086"/>
                </a:cubicBezTo>
                <a:cubicBezTo>
                  <a:pt x="1269" y="1089"/>
                  <a:pt x="1297" y="1090"/>
                  <a:pt x="1309" y="1100"/>
                </a:cubicBezTo>
                <a:cubicBezTo>
                  <a:pt x="1319" y="1150"/>
                  <a:pt x="1313" y="1103"/>
                  <a:pt x="1325" y="1144"/>
                </a:cubicBezTo>
                <a:cubicBezTo>
                  <a:pt x="1329" y="1156"/>
                  <a:pt x="1339" y="1178"/>
                  <a:pt x="1339" y="1178"/>
                </a:cubicBezTo>
                <a:cubicBezTo>
                  <a:pt x="1341" y="1188"/>
                  <a:pt x="1363" y="1172"/>
                  <a:pt x="1367" y="1198"/>
                </a:cubicBezTo>
                <a:cubicBezTo>
                  <a:pt x="1372" y="1204"/>
                  <a:pt x="1370" y="1208"/>
                  <a:pt x="1367" y="1212"/>
                </a:cubicBezTo>
                <a:cubicBezTo>
                  <a:pt x="1364" y="1216"/>
                  <a:pt x="1357" y="1210"/>
                  <a:pt x="1351" y="1220"/>
                </a:cubicBezTo>
                <a:cubicBezTo>
                  <a:pt x="1345" y="1230"/>
                  <a:pt x="1326" y="1253"/>
                  <a:pt x="1329" y="1270"/>
                </a:cubicBezTo>
                <a:cubicBezTo>
                  <a:pt x="1332" y="1287"/>
                  <a:pt x="1358" y="1313"/>
                  <a:pt x="1369" y="1324"/>
                </a:cubicBezTo>
                <a:cubicBezTo>
                  <a:pt x="1379" y="1335"/>
                  <a:pt x="1391" y="1330"/>
                  <a:pt x="1397" y="1334"/>
                </a:cubicBezTo>
                <a:cubicBezTo>
                  <a:pt x="1403" y="1338"/>
                  <a:pt x="1405" y="1344"/>
                  <a:pt x="1405" y="1350"/>
                </a:cubicBezTo>
                <a:cubicBezTo>
                  <a:pt x="1405" y="1356"/>
                  <a:pt x="1406" y="1361"/>
                  <a:pt x="1397" y="1370"/>
                </a:cubicBezTo>
                <a:cubicBezTo>
                  <a:pt x="1388" y="1379"/>
                  <a:pt x="1370" y="1401"/>
                  <a:pt x="1349" y="1406"/>
                </a:cubicBezTo>
                <a:cubicBezTo>
                  <a:pt x="1328" y="1409"/>
                  <a:pt x="1291" y="1402"/>
                  <a:pt x="1269" y="1398"/>
                </a:cubicBezTo>
                <a:cubicBezTo>
                  <a:pt x="1248" y="1392"/>
                  <a:pt x="1235" y="1379"/>
                  <a:pt x="1225" y="1370"/>
                </a:cubicBezTo>
                <a:cubicBezTo>
                  <a:pt x="1212" y="1360"/>
                  <a:pt x="1226" y="1351"/>
                  <a:pt x="1209" y="1346"/>
                </a:cubicBezTo>
                <a:cubicBezTo>
                  <a:pt x="1196" y="1343"/>
                  <a:pt x="1159" y="1353"/>
                  <a:pt x="1145" y="1352"/>
                </a:cubicBezTo>
                <a:cubicBezTo>
                  <a:pt x="1131" y="1351"/>
                  <a:pt x="1131" y="1343"/>
                  <a:pt x="1123" y="1340"/>
                </a:cubicBezTo>
                <a:cubicBezTo>
                  <a:pt x="1117" y="1335"/>
                  <a:pt x="1101" y="1344"/>
                  <a:pt x="1095" y="1336"/>
                </a:cubicBezTo>
                <a:cubicBezTo>
                  <a:pt x="1089" y="1328"/>
                  <a:pt x="1095" y="1303"/>
                  <a:pt x="1087" y="1292"/>
                </a:cubicBezTo>
                <a:cubicBezTo>
                  <a:pt x="1075" y="1282"/>
                  <a:pt x="1058" y="1277"/>
                  <a:pt x="1045" y="1268"/>
                </a:cubicBezTo>
                <a:cubicBezTo>
                  <a:pt x="1033" y="1264"/>
                  <a:pt x="1024" y="1261"/>
                  <a:pt x="1015" y="1262"/>
                </a:cubicBezTo>
                <a:cubicBezTo>
                  <a:pt x="1007" y="1265"/>
                  <a:pt x="1008" y="1282"/>
                  <a:pt x="995" y="1288"/>
                </a:cubicBezTo>
                <a:cubicBezTo>
                  <a:pt x="981" y="1293"/>
                  <a:pt x="939" y="1296"/>
                  <a:pt x="939" y="1296"/>
                </a:cubicBezTo>
                <a:cubicBezTo>
                  <a:pt x="905" y="1340"/>
                  <a:pt x="937" y="1321"/>
                  <a:pt x="919" y="1358"/>
                </a:cubicBezTo>
                <a:cubicBezTo>
                  <a:pt x="913" y="1380"/>
                  <a:pt x="922" y="1419"/>
                  <a:pt x="913" y="1436"/>
                </a:cubicBezTo>
                <a:cubicBezTo>
                  <a:pt x="906" y="1450"/>
                  <a:pt x="886" y="1438"/>
                  <a:pt x="875" y="1444"/>
                </a:cubicBezTo>
                <a:cubicBezTo>
                  <a:pt x="866" y="1451"/>
                  <a:pt x="851" y="1466"/>
                  <a:pt x="847" y="1474"/>
                </a:cubicBezTo>
                <a:cubicBezTo>
                  <a:pt x="838" y="1484"/>
                  <a:pt x="827" y="1481"/>
                  <a:pt x="823" y="1506"/>
                </a:cubicBezTo>
                <a:cubicBezTo>
                  <a:pt x="809" y="1549"/>
                  <a:pt x="801" y="1556"/>
                  <a:pt x="825" y="1624"/>
                </a:cubicBezTo>
                <a:cubicBezTo>
                  <a:pt x="819" y="1648"/>
                  <a:pt x="803" y="1622"/>
                  <a:pt x="789" y="1632"/>
                </a:cubicBezTo>
                <a:cubicBezTo>
                  <a:pt x="782" y="1639"/>
                  <a:pt x="793" y="1658"/>
                  <a:pt x="785" y="1666"/>
                </a:cubicBezTo>
                <a:cubicBezTo>
                  <a:pt x="777" y="1674"/>
                  <a:pt x="751" y="1677"/>
                  <a:pt x="739" y="1682"/>
                </a:cubicBezTo>
                <a:cubicBezTo>
                  <a:pt x="727" y="1685"/>
                  <a:pt x="734" y="1697"/>
                  <a:pt x="711" y="1696"/>
                </a:cubicBezTo>
                <a:cubicBezTo>
                  <a:pt x="699" y="1698"/>
                  <a:pt x="681" y="1690"/>
                  <a:pt x="665" y="1694"/>
                </a:cubicBezTo>
                <a:cubicBezTo>
                  <a:pt x="649" y="1698"/>
                  <a:pt x="624" y="1725"/>
                  <a:pt x="613" y="1722"/>
                </a:cubicBezTo>
                <a:cubicBezTo>
                  <a:pt x="602" y="1719"/>
                  <a:pt x="608" y="1695"/>
                  <a:pt x="601" y="1676"/>
                </a:cubicBezTo>
                <a:cubicBezTo>
                  <a:pt x="585" y="1670"/>
                  <a:pt x="576" y="1625"/>
                  <a:pt x="569" y="1610"/>
                </a:cubicBezTo>
                <a:cubicBezTo>
                  <a:pt x="539" y="1549"/>
                  <a:pt x="551" y="1544"/>
                  <a:pt x="515" y="1516"/>
                </a:cubicBezTo>
                <a:cubicBezTo>
                  <a:pt x="481" y="1474"/>
                  <a:pt x="472" y="1401"/>
                  <a:pt x="467" y="1396"/>
                </a:cubicBezTo>
                <a:cubicBezTo>
                  <a:pt x="452" y="1381"/>
                  <a:pt x="461" y="1342"/>
                  <a:pt x="443" y="1330"/>
                </a:cubicBezTo>
                <a:cubicBezTo>
                  <a:pt x="433" y="1320"/>
                  <a:pt x="418" y="1320"/>
                  <a:pt x="407" y="1322"/>
                </a:cubicBezTo>
                <a:cubicBezTo>
                  <a:pt x="396" y="1324"/>
                  <a:pt x="385" y="1342"/>
                  <a:pt x="377" y="1344"/>
                </a:cubicBezTo>
                <a:cubicBezTo>
                  <a:pt x="369" y="1346"/>
                  <a:pt x="366" y="1355"/>
                  <a:pt x="361" y="1332"/>
                </a:cubicBezTo>
                <a:cubicBezTo>
                  <a:pt x="356" y="1309"/>
                  <a:pt x="354" y="1229"/>
                  <a:pt x="347" y="1204"/>
                </a:cubicBezTo>
                <a:cubicBezTo>
                  <a:pt x="342" y="1174"/>
                  <a:pt x="321" y="1212"/>
                  <a:pt x="319" y="1184"/>
                </a:cubicBezTo>
                <a:cubicBezTo>
                  <a:pt x="314" y="1173"/>
                  <a:pt x="324" y="1150"/>
                  <a:pt x="319" y="1140"/>
                </a:cubicBezTo>
                <a:cubicBezTo>
                  <a:pt x="314" y="1130"/>
                  <a:pt x="300" y="1124"/>
                  <a:pt x="291" y="1122"/>
                </a:cubicBezTo>
                <a:cubicBezTo>
                  <a:pt x="282" y="1112"/>
                  <a:pt x="273" y="1121"/>
                  <a:pt x="265" y="1128"/>
                </a:cubicBezTo>
                <a:cubicBezTo>
                  <a:pt x="257" y="1135"/>
                  <a:pt x="254" y="1157"/>
                  <a:pt x="245" y="1166"/>
                </a:cubicBezTo>
                <a:cubicBezTo>
                  <a:pt x="235" y="1178"/>
                  <a:pt x="217" y="1199"/>
                  <a:pt x="209" y="1184"/>
                </a:cubicBezTo>
                <a:cubicBezTo>
                  <a:pt x="201" y="1169"/>
                  <a:pt x="196" y="1122"/>
                  <a:pt x="199" y="1076"/>
                </a:cubicBezTo>
                <a:cubicBezTo>
                  <a:pt x="189" y="1017"/>
                  <a:pt x="210" y="964"/>
                  <a:pt x="229" y="908"/>
                </a:cubicBezTo>
                <a:cubicBezTo>
                  <a:pt x="234" y="871"/>
                  <a:pt x="245" y="878"/>
                  <a:pt x="237" y="840"/>
                </a:cubicBezTo>
                <a:cubicBezTo>
                  <a:pt x="229" y="811"/>
                  <a:pt x="195" y="765"/>
                  <a:pt x="181" y="736"/>
                </a:cubicBezTo>
                <a:cubicBezTo>
                  <a:pt x="166" y="707"/>
                  <a:pt x="157" y="683"/>
                  <a:pt x="151" y="668"/>
                </a:cubicBezTo>
                <a:cubicBezTo>
                  <a:pt x="145" y="653"/>
                  <a:pt x="137" y="664"/>
                  <a:pt x="145" y="644"/>
                </a:cubicBezTo>
                <a:cubicBezTo>
                  <a:pt x="153" y="624"/>
                  <a:pt x="192" y="570"/>
                  <a:pt x="199" y="548"/>
                </a:cubicBezTo>
                <a:cubicBezTo>
                  <a:pt x="197" y="532"/>
                  <a:pt x="193" y="526"/>
                  <a:pt x="185" y="512"/>
                </a:cubicBezTo>
                <a:cubicBezTo>
                  <a:pt x="178" y="500"/>
                  <a:pt x="169" y="484"/>
                  <a:pt x="157" y="476"/>
                </a:cubicBezTo>
                <a:cubicBezTo>
                  <a:pt x="143" y="467"/>
                  <a:pt x="150" y="440"/>
                  <a:pt x="139" y="422"/>
                </a:cubicBezTo>
                <a:cubicBezTo>
                  <a:pt x="128" y="405"/>
                  <a:pt x="117" y="380"/>
                  <a:pt x="113" y="360"/>
                </a:cubicBezTo>
                <a:cubicBezTo>
                  <a:pt x="112" y="355"/>
                  <a:pt x="66" y="306"/>
                  <a:pt x="61" y="296"/>
                </a:cubicBezTo>
                <a:cubicBezTo>
                  <a:pt x="54" y="278"/>
                  <a:pt x="22" y="294"/>
                  <a:pt x="13" y="280"/>
                </a:cubicBezTo>
                <a:cubicBezTo>
                  <a:pt x="4" y="266"/>
                  <a:pt x="5" y="228"/>
                  <a:pt x="7" y="212"/>
                </a:cubicBezTo>
                <a:cubicBezTo>
                  <a:pt x="0" y="193"/>
                  <a:pt x="21" y="191"/>
                  <a:pt x="27" y="184"/>
                </a:cubicBezTo>
                <a:cubicBezTo>
                  <a:pt x="33" y="177"/>
                  <a:pt x="38" y="180"/>
                  <a:pt x="41" y="172"/>
                </a:cubicBezTo>
                <a:cubicBezTo>
                  <a:pt x="46" y="153"/>
                  <a:pt x="38" y="159"/>
                  <a:pt x="43" y="136"/>
                </a:cubicBezTo>
                <a:cubicBezTo>
                  <a:pt x="46" y="128"/>
                  <a:pt x="62" y="138"/>
                  <a:pt x="61" y="126"/>
                </a:cubicBezTo>
                <a:cubicBezTo>
                  <a:pt x="60" y="114"/>
                  <a:pt x="42" y="79"/>
                  <a:pt x="39" y="62"/>
                </a:cubicBezTo>
                <a:cubicBezTo>
                  <a:pt x="36" y="45"/>
                  <a:pt x="42" y="33"/>
                  <a:pt x="45" y="26"/>
                </a:cubicBezTo>
                <a:cubicBezTo>
                  <a:pt x="48" y="19"/>
                  <a:pt x="35" y="20"/>
                  <a:pt x="57" y="22"/>
                </a:cubicBezTo>
                <a:cubicBezTo>
                  <a:pt x="181" y="0"/>
                  <a:pt x="145" y="33"/>
                  <a:pt x="177" y="38"/>
                </a:cubicBezTo>
                <a:cubicBezTo>
                  <a:pt x="201" y="45"/>
                  <a:pt x="186" y="64"/>
                  <a:pt x="195" y="72"/>
                </a:cubicBezTo>
                <a:cubicBezTo>
                  <a:pt x="201" y="79"/>
                  <a:pt x="209" y="75"/>
                  <a:pt x="215" y="78"/>
                </a:cubicBezTo>
                <a:cubicBezTo>
                  <a:pt x="221" y="81"/>
                  <a:pt x="228" y="79"/>
                  <a:pt x="231" y="88"/>
                </a:cubicBezTo>
                <a:cubicBezTo>
                  <a:pt x="235" y="97"/>
                  <a:pt x="226" y="101"/>
                  <a:pt x="233" y="134"/>
                </a:cubicBezTo>
                <a:cubicBezTo>
                  <a:pt x="236" y="146"/>
                  <a:pt x="248" y="150"/>
                  <a:pt x="251" y="160"/>
                </a:cubicBezTo>
                <a:cubicBezTo>
                  <a:pt x="254" y="170"/>
                  <a:pt x="245" y="181"/>
                  <a:pt x="249" y="192"/>
                </a:cubicBezTo>
                <a:cubicBezTo>
                  <a:pt x="253" y="203"/>
                  <a:pt x="263" y="219"/>
                  <a:pt x="275" y="226"/>
                </a:cubicBezTo>
                <a:cubicBezTo>
                  <a:pt x="287" y="233"/>
                  <a:pt x="311" y="230"/>
                  <a:pt x="319" y="236"/>
                </a:cubicBezTo>
                <a:cubicBezTo>
                  <a:pt x="332" y="241"/>
                  <a:pt x="295" y="250"/>
                  <a:pt x="321" y="262"/>
                </a:cubicBezTo>
                <a:cubicBezTo>
                  <a:pt x="327" y="270"/>
                  <a:pt x="342" y="283"/>
                  <a:pt x="357" y="284"/>
                </a:cubicBezTo>
                <a:cubicBezTo>
                  <a:pt x="372" y="285"/>
                  <a:pt x="393" y="260"/>
                  <a:pt x="409" y="266"/>
                </a:cubicBezTo>
                <a:cubicBezTo>
                  <a:pt x="425" y="272"/>
                  <a:pt x="440" y="311"/>
                  <a:pt x="453" y="320"/>
                </a:cubicBezTo>
                <a:cubicBezTo>
                  <a:pt x="465" y="330"/>
                  <a:pt x="455" y="318"/>
                  <a:pt x="487" y="318"/>
                </a:cubicBezTo>
                <a:cubicBezTo>
                  <a:pt x="491" y="325"/>
                  <a:pt x="476" y="354"/>
                  <a:pt x="477" y="362"/>
                </a:cubicBezTo>
                <a:cubicBezTo>
                  <a:pt x="478" y="370"/>
                  <a:pt x="489" y="368"/>
                  <a:pt x="495" y="368"/>
                </a:cubicBezTo>
                <a:cubicBezTo>
                  <a:pt x="501" y="368"/>
                  <a:pt x="506" y="370"/>
                  <a:pt x="511" y="364"/>
                </a:cubicBezTo>
                <a:cubicBezTo>
                  <a:pt x="516" y="358"/>
                  <a:pt x="511" y="334"/>
                  <a:pt x="525" y="330"/>
                </a:cubicBezTo>
                <a:cubicBezTo>
                  <a:pt x="539" y="326"/>
                  <a:pt x="577" y="343"/>
                  <a:pt x="593" y="340"/>
                </a:cubicBezTo>
                <a:cubicBezTo>
                  <a:pt x="609" y="337"/>
                  <a:pt x="615" y="330"/>
                  <a:pt x="621" y="314"/>
                </a:cubicBezTo>
                <a:cubicBezTo>
                  <a:pt x="630" y="300"/>
                  <a:pt x="619" y="263"/>
                  <a:pt x="627" y="246"/>
                </a:cubicBezTo>
                <a:cubicBezTo>
                  <a:pt x="632" y="231"/>
                  <a:pt x="644" y="232"/>
                  <a:pt x="651" y="226"/>
                </a:cubicBezTo>
                <a:cubicBezTo>
                  <a:pt x="658" y="220"/>
                  <a:pt x="660" y="216"/>
                  <a:pt x="667" y="212"/>
                </a:cubicBezTo>
                <a:cubicBezTo>
                  <a:pt x="674" y="208"/>
                  <a:pt x="687" y="205"/>
                  <a:pt x="695" y="200"/>
                </a:cubicBezTo>
                <a:cubicBezTo>
                  <a:pt x="701" y="194"/>
                  <a:pt x="706" y="190"/>
                  <a:pt x="713" y="184"/>
                </a:cubicBezTo>
                <a:cubicBezTo>
                  <a:pt x="717" y="177"/>
                  <a:pt x="706" y="145"/>
                  <a:pt x="717" y="156"/>
                </a:cubicBezTo>
                <a:cubicBezTo>
                  <a:pt x="734" y="182"/>
                  <a:pt x="767" y="220"/>
                  <a:pt x="781" y="248"/>
                </a:cubicBezTo>
                <a:cubicBezTo>
                  <a:pt x="784" y="254"/>
                  <a:pt x="778" y="235"/>
                  <a:pt x="775" y="230"/>
                </a:cubicBezTo>
                <a:cubicBezTo>
                  <a:pt x="770" y="221"/>
                  <a:pt x="761" y="210"/>
                  <a:pt x="755" y="202"/>
                </a:cubicBezTo>
                <a:cubicBezTo>
                  <a:pt x="750" y="188"/>
                  <a:pt x="750" y="185"/>
                  <a:pt x="741" y="174"/>
                </a:cubicBezTo>
                <a:cubicBezTo>
                  <a:pt x="734" y="166"/>
                  <a:pt x="717" y="159"/>
                  <a:pt x="707" y="15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1" name="Freeform 8"/>
          <p:cNvSpPr/>
          <p:nvPr/>
        </p:nvSpPr>
        <p:spPr>
          <a:xfrm>
            <a:off x="4098960" y="3335400"/>
            <a:ext cx="1444680" cy="1336680"/>
          </a:xfrm>
          <a:custGeom>
            <a:avLst/>
            <a:gdLst/>
            <a:ahLst/>
            <a:rect l="l" t="t" r="r" b="b"/>
            <a:pathLst>
              <a:path w="910" h="842">
                <a:moveTo>
                  <a:pt x="584" y="0"/>
                </a:moveTo>
                <a:cubicBezTo>
                  <a:pt x="604" y="2"/>
                  <a:pt x="625" y="3"/>
                  <a:pt x="644" y="9"/>
                </a:cubicBezTo>
                <a:cubicBezTo>
                  <a:pt x="652" y="11"/>
                  <a:pt x="688" y="49"/>
                  <a:pt x="700" y="57"/>
                </a:cubicBezTo>
                <a:cubicBezTo>
                  <a:pt x="716" y="70"/>
                  <a:pt x="714" y="78"/>
                  <a:pt x="728" y="84"/>
                </a:cubicBezTo>
                <a:cubicBezTo>
                  <a:pt x="739" y="88"/>
                  <a:pt x="758" y="82"/>
                  <a:pt x="767" y="83"/>
                </a:cubicBezTo>
                <a:cubicBezTo>
                  <a:pt x="776" y="84"/>
                  <a:pt x="777" y="85"/>
                  <a:pt x="782" y="90"/>
                </a:cubicBezTo>
                <a:cubicBezTo>
                  <a:pt x="787" y="93"/>
                  <a:pt x="787" y="105"/>
                  <a:pt x="796" y="111"/>
                </a:cubicBezTo>
                <a:cubicBezTo>
                  <a:pt x="804" y="118"/>
                  <a:pt x="823" y="116"/>
                  <a:pt x="832" y="132"/>
                </a:cubicBezTo>
                <a:cubicBezTo>
                  <a:pt x="853" y="156"/>
                  <a:pt x="860" y="150"/>
                  <a:pt x="872" y="162"/>
                </a:cubicBezTo>
                <a:cubicBezTo>
                  <a:pt x="886" y="176"/>
                  <a:pt x="890" y="177"/>
                  <a:pt x="904" y="218"/>
                </a:cubicBezTo>
                <a:cubicBezTo>
                  <a:pt x="902" y="236"/>
                  <a:pt x="910" y="240"/>
                  <a:pt x="878" y="266"/>
                </a:cubicBezTo>
                <a:cubicBezTo>
                  <a:pt x="871" y="279"/>
                  <a:pt x="867" y="288"/>
                  <a:pt x="854" y="294"/>
                </a:cubicBezTo>
                <a:cubicBezTo>
                  <a:pt x="844" y="301"/>
                  <a:pt x="829" y="312"/>
                  <a:pt x="817" y="315"/>
                </a:cubicBezTo>
                <a:cubicBezTo>
                  <a:pt x="805" y="318"/>
                  <a:pt x="793" y="312"/>
                  <a:pt x="781" y="315"/>
                </a:cubicBezTo>
                <a:cubicBezTo>
                  <a:pt x="769" y="318"/>
                  <a:pt x="753" y="328"/>
                  <a:pt x="742" y="333"/>
                </a:cubicBezTo>
                <a:cubicBezTo>
                  <a:pt x="731" y="338"/>
                  <a:pt x="719" y="344"/>
                  <a:pt x="712" y="344"/>
                </a:cubicBezTo>
                <a:cubicBezTo>
                  <a:pt x="705" y="344"/>
                  <a:pt x="704" y="338"/>
                  <a:pt x="698" y="336"/>
                </a:cubicBezTo>
                <a:cubicBezTo>
                  <a:pt x="692" y="336"/>
                  <a:pt x="686" y="330"/>
                  <a:pt x="674" y="333"/>
                </a:cubicBezTo>
                <a:cubicBezTo>
                  <a:pt x="666" y="335"/>
                  <a:pt x="658" y="344"/>
                  <a:pt x="650" y="347"/>
                </a:cubicBezTo>
                <a:cubicBezTo>
                  <a:pt x="642" y="350"/>
                  <a:pt x="633" y="352"/>
                  <a:pt x="626" y="354"/>
                </a:cubicBezTo>
                <a:cubicBezTo>
                  <a:pt x="619" y="357"/>
                  <a:pt x="613" y="354"/>
                  <a:pt x="608" y="359"/>
                </a:cubicBezTo>
                <a:cubicBezTo>
                  <a:pt x="603" y="364"/>
                  <a:pt x="597" y="374"/>
                  <a:pt x="596" y="386"/>
                </a:cubicBezTo>
                <a:cubicBezTo>
                  <a:pt x="593" y="397"/>
                  <a:pt x="603" y="416"/>
                  <a:pt x="602" y="434"/>
                </a:cubicBezTo>
                <a:cubicBezTo>
                  <a:pt x="602" y="445"/>
                  <a:pt x="599" y="444"/>
                  <a:pt x="596" y="450"/>
                </a:cubicBezTo>
                <a:cubicBezTo>
                  <a:pt x="593" y="456"/>
                  <a:pt x="585" y="463"/>
                  <a:pt x="584" y="470"/>
                </a:cubicBezTo>
                <a:cubicBezTo>
                  <a:pt x="583" y="477"/>
                  <a:pt x="585" y="486"/>
                  <a:pt x="590" y="492"/>
                </a:cubicBezTo>
                <a:cubicBezTo>
                  <a:pt x="593" y="506"/>
                  <a:pt x="608" y="494"/>
                  <a:pt x="614" y="507"/>
                </a:cubicBezTo>
                <a:cubicBezTo>
                  <a:pt x="677" y="542"/>
                  <a:pt x="636" y="571"/>
                  <a:pt x="644" y="594"/>
                </a:cubicBezTo>
                <a:cubicBezTo>
                  <a:pt x="649" y="609"/>
                  <a:pt x="679" y="596"/>
                  <a:pt x="718" y="641"/>
                </a:cubicBezTo>
                <a:cubicBezTo>
                  <a:pt x="748" y="705"/>
                  <a:pt x="733" y="697"/>
                  <a:pt x="742" y="723"/>
                </a:cubicBezTo>
                <a:cubicBezTo>
                  <a:pt x="744" y="742"/>
                  <a:pt x="739" y="764"/>
                  <a:pt x="734" y="773"/>
                </a:cubicBezTo>
                <a:cubicBezTo>
                  <a:pt x="729" y="782"/>
                  <a:pt x="719" y="771"/>
                  <a:pt x="713" y="776"/>
                </a:cubicBezTo>
                <a:cubicBezTo>
                  <a:pt x="707" y="781"/>
                  <a:pt x="705" y="803"/>
                  <a:pt x="695" y="806"/>
                </a:cubicBezTo>
                <a:cubicBezTo>
                  <a:pt x="695" y="818"/>
                  <a:pt x="688" y="842"/>
                  <a:pt x="653" y="795"/>
                </a:cubicBezTo>
                <a:cubicBezTo>
                  <a:pt x="643" y="792"/>
                  <a:pt x="623" y="775"/>
                  <a:pt x="620" y="768"/>
                </a:cubicBezTo>
                <a:cubicBezTo>
                  <a:pt x="612" y="759"/>
                  <a:pt x="604" y="765"/>
                  <a:pt x="596" y="755"/>
                </a:cubicBezTo>
                <a:cubicBezTo>
                  <a:pt x="588" y="744"/>
                  <a:pt x="577" y="715"/>
                  <a:pt x="571" y="704"/>
                </a:cubicBezTo>
                <a:cubicBezTo>
                  <a:pt x="567" y="698"/>
                  <a:pt x="563" y="696"/>
                  <a:pt x="560" y="690"/>
                </a:cubicBezTo>
                <a:cubicBezTo>
                  <a:pt x="557" y="684"/>
                  <a:pt x="546" y="684"/>
                  <a:pt x="541" y="680"/>
                </a:cubicBezTo>
                <a:cubicBezTo>
                  <a:pt x="531" y="673"/>
                  <a:pt x="530" y="664"/>
                  <a:pt x="518" y="660"/>
                </a:cubicBezTo>
                <a:cubicBezTo>
                  <a:pt x="512" y="658"/>
                  <a:pt x="485" y="644"/>
                  <a:pt x="485" y="644"/>
                </a:cubicBezTo>
                <a:cubicBezTo>
                  <a:pt x="476" y="641"/>
                  <a:pt x="476" y="636"/>
                  <a:pt x="458" y="639"/>
                </a:cubicBezTo>
                <a:cubicBezTo>
                  <a:pt x="448" y="640"/>
                  <a:pt x="440" y="646"/>
                  <a:pt x="427" y="650"/>
                </a:cubicBezTo>
                <a:cubicBezTo>
                  <a:pt x="414" y="654"/>
                  <a:pt x="391" y="658"/>
                  <a:pt x="379" y="663"/>
                </a:cubicBezTo>
                <a:cubicBezTo>
                  <a:pt x="372" y="664"/>
                  <a:pt x="361" y="673"/>
                  <a:pt x="356" y="678"/>
                </a:cubicBezTo>
                <a:cubicBezTo>
                  <a:pt x="331" y="700"/>
                  <a:pt x="338" y="702"/>
                  <a:pt x="314" y="725"/>
                </a:cubicBezTo>
                <a:cubicBezTo>
                  <a:pt x="304" y="729"/>
                  <a:pt x="304" y="711"/>
                  <a:pt x="299" y="705"/>
                </a:cubicBezTo>
                <a:cubicBezTo>
                  <a:pt x="294" y="699"/>
                  <a:pt x="293" y="683"/>
                  <a:pt x="283" y="686"/>
                </a:cubicBezTo>
                <a:cubicBezTo>
                  <a:pt x="273" y="689"/>
                  <a:pt x="250" y="719"/>
                  <a:pt x="241" y="725"/>
                </a:cubicBezTo>
                <a:cubicBezTo>
                  <a:pt x="233" y="732"/>
                  <a:pt x="236" y="724"/>
                  <a:pt x="232" y="722"/>
                </a:cubicBezTo>
                <a:cubicBezTo>
                  <a:pt x="228" y="720"/>
                  <a:pt x="227" y="711"/>
                  <a:pt x="220" y="711"/>
                </a:cubicBezTo>
                <a:cubicBezTo>
                  <a:pt x="213" y="711"/>
                  <a:pt x="202" y="722"/>
                  <a:pt x="191" y="720"/>
                </a:cubicBezTo>
                <a:cubicBezTo>
                  <a:pt x="180" y="718"/>
                  <a:pt x="159" y="704"/>
                  <a:pt x="152" y="696"/>
                </a:cubicBezTo>
                <a:cubicBezTo>
                  <a:pt x="143" y="690"/>
                  <a:pt x="152" y="677"/>
                  <a:pt x="148" y="671"/>
                </a:cubicBezTo>
                <a:cubicBezTo>
                  <a:pt x="144" y="665"/>
                  <a:pt x="135" y="669"/>
                  <a:pt x="128" y="660"/>
                </a:cubicBezTo>
                <a:cubicBezTo>
                  <a:pt x="115" y="647"/>
                  <a:pt x="112" y="631"/>
                  <a:pt x="104" y="614"/>
                </a:cubicBezTo>
                <a:cubicBezTo>
                  <a:pt x="97" y="601"/>
                  <a:pt x="100" y="567"/>
                  <a:pt x="64" y="575"/>
                </a:cubicBezTo>
                <a:cubicBezTo>
                  <a:pt x="54" y="568"/>
                  <a:pt x="29" y="571"/>
                  <a:pt x="17" y="567"/>
                </a:cubicBezTo>
                <a:cubicBezTo>
                  <a:pt x="11" y="565"/>
                  <a:pt x="4" y="536"/>
                  <a:pt x="5" y="539"/>
                </a:cubicBezTo>
                <a:cubicBezTo>
                  <a:pt x="3" y="529"/>
                  <a:pt x="0" y="523"/>
                  <a:pt x="2" y="513"/>
                </a:cubicBezTo>
                <a:cubicBezTo>
                  <a:pt x="5" y="503"/>
                  <a:pt x="19" y="491"/>
                  <a:pt x="26" y="479"/>
                </a:cubicBezTo>
                <a:cubicBezTo>
                  <a:pt x="31" y="465"/>
                  <a:pt x="44" y="444"/>
                  <a:pt x="44" y="444"/>
                </a:cubicBezTo>
                <a:cubicBezTo>
                  <a:pt x="49" y="409"/>
                  <a:pt x="50" y="394"/>
                  <a:pt x="68" y="366"/>
                </a:cubicBezTo>
                <a:cubicBezTo>
                  <a:pt x="74" y="337"/>
                  <a:pt x="69" y="326"/>
                  <a:pt x="97" y="317"/>
                </a:cubicBezTo>
                <a:cubicBezTo>
                  <a:pt x="106" y="312"/>
                  <a:pt x="98" y="332"/>
                  <a:pt x="124" y="338"/>
                </a:cubicBezTo>
                <a:cubicBezTo>
                  <a:pt x="134" y="344"/>
                  <a:pt x="137" y="352"/>
                  <a:pt x="158" y="353"/>
                </a:cubicBezTo>
                <a:cubicBezTo>
                  <a:pt x="179" y="354"/>
                  <a:pt x="229" y="338"/>
                  <a:pt x="251" y="345"/>
                </a:cubicBezTo>
                <a:cubicBezTo>
                  <a:pt x="266" y="374"/>
                  <a:pt x="260" y="380"/>
                  <a:pt x="289" y="395"/>
                </a:cubicBezTo>
                <a:cubicBezTo>
                  <a:pt x="328" y="382"/>
                  <a:pt x="314" y="361"/>
                  <a:pt x="353" y="348"/>
                </a:cubicBezTo>
                <a:cubicBezTo>
                  <a:pt x="360" y="319"/>
                  <a:pt x="370" y="348"/>
                  <a:pt x="382" y="305"/>
                </a:cubicBezTo>
                <a:cubicBezTo>
                  <a:pt x="384" y="297"/>
                  <a:pt x="397" y="293"/>
                  <a:pt x="404" y="288"/>
                </a:cubicBezTo>
                <a:cubicBezTo>
                  <a:pt x="418" y="279"/>
                  <a:pt x="452" y="276"/>
                  <a:pt x="452" y="276"/>
                </a:cubicBezTo>
                <a:cubicBezTo>
                  <a:pt x="456" y="270"/>
                  <a:pt x="459" y="263"/>
                  <a:pt x="464" y="258"/>
                </a:cubicBezTo>
                <a:cubicBezTo>
                  <a:pt x="469" y="253"/>
                  <a:pt x="458" y="273"/>
                  <a:pt x="478" y="230"/>
                </a:cubicBezTo>
                <a:lnTo>
                  <a:pt x="499" y="216"/>
                </a:lnTo>
                <a:lnTo>
                  <a:pt x="517" y="219"/>
                </a:lnTo>
                <a:lnTo>
                  <a:pt x="524" y="192"/>
                </a:lnTo>
                <a:lnTo>
                  <a:pt x="538" y="162"/>
                </a:lnTo>
                <a:lnTo>
                  <a:pt x="560" y="150"/>
                </a:lnTo>
                <a:lnTo>
                  <a:pt x="581" y="144"/>
                </a:lnTo>
                <a:lnTo>
                  <a:pt x="587" y="114"/>
                </a:lnTo>
                <a:lnTo>
                  <a:pt x="580" y="90"/>
                </a:lnTo>
                <a:lnTo>
                  <a:pt x="551" y="63"/>
                </a:lnTo>
                <a:lnTo>
                  <a:pt x="559" y="45"/>
                </a:lnTo>
                <a:lnTo>
                  <a:pt x="581" y="20"/>
                </a:lnTo>
                <a:lnTo>
                  <a:pt x="58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2" name="Freeform 9"/>
          <p:cNvSpPr/>
          <p:nvPr/>
        </p:nvSpPr>
        <p:spPr>
          <a:xfrm>
            <a:off x="5019840" y="2954160"/>
            <a:ext cx="2100240" cy="1393920"/>
          </a:xfrm>
          <a:custGeom>
            <a:avLst/>
            <a:gdLst/>
            <a:ahLst/>
            <a:rect l="l" t="t" r="r" b="b"/>
            <a:pathLst>
              <a:path w="1323" h="878">
                <a:moveTo>
                  <a:pt x="205" y="330"/>
                </a:moveTo>
                <a:cubicBezTo>
                  <a:pt x="207" y="327"/>
                  <a:pt x="211" y="325"/>
                  <a:pt x="213" y="320"/>
                </a:cubicBezTo>
                <a:cubicBezTo>
                  <a:pt x="215" y="315"/>
                  <a:pt x="218" y="306"/>
                  <a:pt x="217" y="297"/>
                </a:cubicBezTo>
                <a:cubicBezTo>
                  <a:pt x="216" y="288"/>
                  <a:pt x="206" y="281"/>
                  <a:pt x="207" y="264"/>
                </a:cubicBezTo>
                <a:cubicBezTo>
                  <a:pt x="199" y="251"/>
                  <a:pt x="219" y="218"/>
                  <a:pt x="222" y="197"/>
                </a:cubicBezTo>
                <a:cubicBezTo>
                  <a:pt x="226" y="166"/>
                  <a:pt x="265" y="160"/>
                  <a:pt x="288" y="158"/>
                </a:cubicBezTo>
                <a:cubicBezTo>
                  <a:pt x="314" y="149"/>
                  <a:pt x="300" y="138"/>
                  <a:pt x="294" y="117"/>
                </a:cubicBezTo>
                <a:cubicBezTo>
                  <a:pt x="293" y="115"/>
                  <a:pt x="290" y="102"/>
                  <a:pt x="280" y="101"/>
                </a:cubicBezTo>
                <a:cubicBezTo>
                  <a:pt x="268" y="97"/>
                  <a:pt x="262" y="81"/>
                  <a:pt x="250" y="78"/>
                </a:cubicBezTo>
                <a:cubicBezTo>
                  <a:pt x="238" y="66"/>
                  <a:pt x="213" y="75"/>
                  <a:pt x="198" y="47"/>
                </a:cubicBezTo>
                <a:cubicBezTo>
                  <a:pt x="193" y="31"/>
                  <a:pt x="208" y="36"/>
                  <a:pt x="219" y="30"/>
                </a:cubicBezTo>
                <a:cubicBezTo>
                  <a:pt x="225" y="26"/>
                  <a:pt x="250" y="18"/>
                  <a:pt x="250" y="18"/>
                </a:cubicBezTo>
                <a:cubicBezTo>
                  <a:pt x="257" y="17"/>
                  <a:pt x="263" y="14"/>
                  <a:pt x="276" y="18"/>
                </a:cubicBezTo>
                <a:cubicBezTo>
                  <a:pt x="289" y="22"/>
                  <a:pt x="309" y="42"/>
                  <a:pt x="327" y="39"/>
                </a:cubicBezTo>
                <a:cubicBezTo>
                  <a:pt x="370" y="34"/>
                  <a:pt x="355" y="10"/>
                  <a:pt x="385" y="0"/>
                </a:cubicBezTo>
                <a:cubicBezTo>
                  <a:pt x="405" y="15"/>
                  <a:pt x="409" y="14"/>
                  <a:pt x="429" y="30"/>
                </a:cubicBezTo>
                <a:cubicBezTo>
                  <a:pt x="445" y="62"/>
                  <a:pt x="472" y="64"/>
                  <a:pt x="486" y="78"/>
                </a:cubicBezTo>
                <a:cubicBezTo>
                  <a:pt x="499" y="91"/>
                  <a:pt x="529" y="120"/>
                  <a:pt x="529" y="120"/>
                </a:cubicBezTo>
                <a:cubicBezTo>
                  <a:pt x="540" y="128"/>
                  <a:pt x="559" y="150"/>
                  <a:pt x="573" y="155"/>
                </a:cubicBezTo>
                <a:cubicBezTo>
                  <a:pt x="619" y="159"/>
                  <a:pt x="597" y="191"/>
                  <a:pt x="702" y="174"/>
                </a:cubicBezTo>
                <a:cubicBezTo>
                  <a:pt x="747" y="182"/>
                  <a:pt x="749" y="198"/>
                  <a:pt x="772" y="204"/>
                </a:cubicBezTo>
                <a:cubicBezTo>
                  <a:pt x="780" y="206"/>
                  <a:pt x="804" y="203"/>
                  <a:pt x="804" y="203"/>
                </a:cubicBezTo>
                <a:cubicBezTo>
                  <a:pt x="848" y="201"/>
                  <a:pt x="851" y="201"/>
                  <a:pt x="888" y="189"/>
                </a:cubicBezTo>
                <a:cubicBezTo>
                  <a:pt x="907" y="188"/>
                  <a:pt x="913" y="197"/>
                  <a:pt x="918" y="204"/>
                </a:cubicBezTo>
                <a:cubicBezTo>
                  <a:pt x="923" y="211"/>
                  <a:pt x="912" y="224"/>
                  <a:pt x="916" y="230"/>
                </a:cubicBezTo>
                <a:cubicBezTo>
                  <a:pt x="921" y="238"/>
                  <a:pt x="938" y="238"/>
                  <a:pt x="942" y="243"/>
                </a:cubicBezTo>
                <a:cubicBezTo>
                  <a:pt x="946" y="248"/>
                  <a:pt x="939" y="251"/>
                  <a:pt x="937" y="258"/>
                </a:cubicBezTo>
                <a:cubicBezTo>
                  <a:pt x="939" y="270"/>
                  <a:pt x="927" y="275"/>
                  <a:pt x="928" y="285"/>
                </a:cubicBezTo>
                <a:cubicBezTo>
                  <a:pt x="929" y="295"/>
                  <a:pt x="937" y="313"/>
                  <a:pt x="943" y="317"/>
                </a:cubicBezTo>
                <a:cubicBezTo>
                  <a:pt x="944" y="321"/>
                  <a:pt x="964" y="310"/>
                  <a:pt x="967" y="311"/>
                </a:cubicBezTo>
                <a:cubicBezTo>
                  <a:pt x="993" y="326"/>
                  <a:pt x="1006" y="321"/>
                  <a:pt x="1033" y="324"/>
                </a:cubicBezTo>
                <a:cubicBezTo>
                  <a:pt x="1059" y="333"/>
                  <a:pt x="1041" y="330"/>
                  <a:pt x="1071" y="345"/>
                </a:cubicBezTo>
                <a:cubicBezTo>
                  <a:pt x="1083" y="351"/>
                  <a:pt x="1096" y="361"/>
                  <a:pt x="1110" y="363"/>
                </a:cubicBezTo>
                <a:cubicBezTo>
                  <a:pt x="1121" y="367"/>
                  <a:pt x="1134" y="364"/>
                  <a:pt x="1146" y="366"/>
                </a:cubicBezTo>
                <a:cubicBezTo>
                  <a:pt x="1158" y="368"/>
                  <a:pt x="1168" y="367"/>
                  <a:pt x="1183" y="375"/>
                </a:cubicBezTo>
                <a:cubicBezTo>
                  <a:pt x="1207" y="383"/>
                  <a:pt x="1216" y="404"/>
                  <a:pt x="1237" y="414"/>
                </a:cubicBezTo>
                <a:cubicBezTo>
                  <a:pt x="1255" y="423"/>
                  <a:pt x="1280" y="406"/>
                  <a:pt x="1293" y="411"/>
                </a:cubicBezTo>
                <a:cubicBezTo>
                  <a:pt x="1306" y="416"/>
                  <a:pt x="1317" y="434"/>
                  <a:pt x="1318" y="444"/>
                </a:cubicBezTo>
                <a:cubicBezTo>
                  <a:pt x="1323" y="460"/>
                  <a:pt x="1311" y="466"/>
                  <a:pt x="1297" y="471"/>
                </a:cubicBezTo>
                <a:cubicBezTo>
                  <a:pt x="1293" y="478"/>
                  <a:pt x="1282" y="480"/>
                  <a:pt x="1279" y="488"/>
                </a:cubicBezTo>
                <a:cubicBezTo>
                  <a:pt x="1276" y="496"/>
                  <a:pt x="1266" y="510"/>
                  <a:pt x="1266" y="510"/>
                </a:cubicBezTo>
                <a:cubicBezTo>
                  <a:pt x="1261" y="554"/>
                  <a:pt x="1275" y="553"/>
                  <a:pt x="1279" y="569"/>
                </a:cubicBezTo>
                <a:cubicBezTo>
                  <a:pt x="1282" y="583"/>
                  <a:pt x="1287" y="603"/>
                  <a:pt x="1293" y="612"/>
                </a:cubicBezTo>
                <a:cubicBezTo>
                  <a:pt x="1299" y="621"/>
                  <a:pt x="1307" y="610"/>
                  <a:pt x="1312" y="621"/>
                </a:cubicBezTo>
                <a:cubicBezTo>
                  <a:pt x="1318" y="647"/>
                  <a:pt x="1320" y="639"/>
                  <a:pt x="1321" y="680"/>
                </a:cubicBezTo>
                <a:cubicBezTo>
                  <a:pt x="1318" y="688"/>
                  <a:pt x="1305" y="692"/>
                  <a:pt x="1297" y="690"/>
                </a:cubicBezTo>
                <a:cubicBezTo>
                  <a:pt x="1287" y="687"/>
                  <a:pt x="1267" y="681"/>
                  <a:pt x="1267" y="681"/>
                </a:cubicBezTo>
                <a:cubicBezTo>
                  <a:pt x="1240" y="683"/>
                  <a:pt x="1219" y="683"/>
                  <a:pt x="1206" y="711"/>
                </a:cubicBezTo>
                <a:cubicBezTo>
                  <a:pt x="1197" y="729"/>
                  <a:pt x="1173" y="760"/>
                  <a:pt x="1152" y="767"/>
                </a:cubicBezTo>
                <a:cubicBezTo>
                  <a:pt x="1136" y="781"/>
                  <a:pt x="1131" y="782"/>
                  <a:pt x="1117" y="788"/>
                </a:cubicBezTo>
                <a:cubicBezTo>
                  <a:pt x="1103" y="794"/>
                  <a:pt x="1081" y="799"/>
                  <a:pt x="1069" y="804"/>
                </a:cubicBezTo>
                <a:cubicBezTo>
                  <a:pt x="1049" y="812"/>
                  <a:pt x="1056" y="806"/>
                  <a:pt x="1044" y="816"/>
                </a:cubicBezTo>
                <a:cubicBezTo>
                  <a:pt x="1037" y="820"/>
                  <a:pt x="1033" y="827"/>
                  <a:pt x="1027" y="830"/>
                </a:cubicBezTo>
                <a:cubicBezTo>
                  <a:pt x="1021" y="833"/>
                  <a:pt x="1014" y="830"/>
                  <a:pt x="1009" y="836"/>
                </a:cubicBezTo>
                <a:cubicBezTo>
                  <a:pt x="1004" y="842"/>
                  <a:pt x="1003" y="861"/>
                  <a:pt x="996" y="866"/>
                </a:cubicBezTo>
                <a:cubicBezTo>
                  <a:pt x="989" y="870"/>
                  <a:pt x="975" y="865"/>
                  <a:pt x="967" y="869"/>
                </a:cubicBezTo>
                <a:cubicBezTo>
                  <a:pt x="956" y="870"/>
                  <a:pt x="932" y="876"/>
                  <a:pt x="922" y="872"/>
                </a:cubicBezTo>
                <a:cubicBezTo>
                  <a:pt x="912" y="868"/>
                  <a:pt x="906" y="858"/>
                  <a:pt x="904" y="843"/>
                </a:cubicBezTo>
                <a:cubicBezTo>
                  <a:pt x="895" y="827"/>
                  <a:pt x="908" y="795"/>
                  <a:pt x="907" y="780"/>
                </a:cubicBezTo>
                <a:cubicBezTo>
                  <a:pt x="906" y="765"/>
                  <a:pt x="904" y="754"/>
                  <a:pt x="897" y="753"/>
                </a:cubicBezTo>
                <a:cubicBezTo>
                  <a:pt x="867" y="761"/>
                  <a:pt x="881" y="755"/>
                  <a:pt x="865" y="771"/>
                </a:cubicBezTo>
                <a:cubicBezTo>
                  <a:pt x="857" y="779"/>
                  <a:pt x="837" y="769"/>
                  <a:pt x="826" y="771"/>
                </a:cubicBezTo>
                <a:cubicBezTo>
                  <a:pt x="813" y="772"/>
                  <a:pt x="813" y="764"/>
                  <a:pt x="807" y="761"/>
                </a:cubicBezTo>
                <a:cubicBezTo>
                  <a:pt x="801" y="758"/>
                  <a:pt x="797" y="755"/>
                  <a:pt x="790" y="755"/>
                </a:cubicBezTo>
                <a:cubicBezTo>
                  <a:pt x="783" y="755"/>
                  <a:pt x="771" y="761"/>
                  <a:pt x="763" y="762"/>
                </a:cubicBezTo>
                <a:cubicBezTo>
                  <a:pt x="755" y="759"/>
                  <a:pt x="739" y="761"/>
                  <a:pt x="739" y="761"/>
                </a:cubicBezTo>
                <a:cubicBezTo>
                  <a:pt x="708" y="764"/>
                  <a:pt x="704" y="777"/>
                  <a:pt x="681" y="785"/>
                </a:cubicBezTo>
                <a:cubicBezTo>
                  <a:pt x="660" y="782"/>
                  <a:pt x="636" y="769"/>
                  <a:pt x="618" y="758"/>
                </a:cubicBezTo>
                <a:cubicBezTo>
                  <a:pt x="600" y="747"/>
                  <a:pt x="584" y="727"/>
                  <a:pt x="574" y="719"/>
                </a:cubicBezTo>
                <a:cubicBezTo>
                  <a:pt x="564" y="711"/>
                  <a:pt x="563" y="714"/>
                  <a:pt x="555" y="710"/>
                </a:cubicBezTo>
                <a:cubicBezTo>
                  <a:pt x="528" y="699"/>
                  <a:pt x="538" y="696"/>
                  <a:pt x="526" y="695"/>
                </a:cubicBezTo>
                <a:cubicBezTo>
                  <a:pt x="514" y="694"/>
                  <a:pt x="499" y="704"/>
                  <a:pt x="484" y="702"/>
                </a:cubicBezTo>
                <a:cubicBezTo>
                  <a:pt x="471" y="698"/>
                  <a:pt x="460" y="701"/>
                  <a:pt x="438" y="684"/>
                </a:cubicBezTo>
                <a:cubicBezTo>
                  <a:pt x="430" y="681"/>
                  <a:pt x="414" y="692"/>
                  <a:pt x="414" y="692"/>
                </a:cubicBezTo>
                <a:cubicBezTo>
                  <a:pt x="404" y="693"/>
                  <a:pt x="391" y="686"/>
                  <a:pt x="382" y="689"/>
                </a:cubicBezTo>
                <a:cubicBezTo>
                  <a:pt x="373" y="692"/>
                  <a:pt x="358" y="699"/>
                  <a:pt x="358" y="708"/>
                </a:cubicBezTo>
                <a:cubicBezTo>
                  <a:pt x="381" y="720"/>
                  <a:pt x="384" y="732"/>
                  <a:pt x="385" y="741"/>
                </a:cubicBezTo>
                <a:cubicBezTo>
                  <a:pt x="386" y="750"/>
                  <a:pt x="373" y="759"/>
                  <a:pt x="364" y="764"/>
                </a:cubicBezTo>
                <a:cubicBezTo>
                  <a:pt x="355" y="769"/>
                  <a:pt x="344" y="769"/>
                  <a:pt x="331" y="770"/>
                </a:cubicBezTo>
                <a:cubicBezTo>
                  <a:pt x="318" y="771"/>
                  <a:pt x="297" y="769"/>
                  <a:pt x="286" y="771"/>
                </a:cubicBezTo>
                <a:cubicBezTo>
                  <a:pt x="269" y="780"/>
                  <a:pt x="271" y="781"/>
                  <a:pt x="264" y="782"/>
                </a:cubicBezTo>
                <a:cubicBezTo>
                  <a:pt x="257" y="783"/>
                  <a:pt x="256" y="776"/>
                  <a:pt x="246" y="779"/>
                </a:cubicBezTo>
                <a:cubicBezTo>
                  <a:pt x="236" y="782"/>
                  <a:pt x="216" y="796"/>
                  <a:pt x="205" y="798"/>
                </a:cubicBezTo>
                <a:cubicBezTo>
                  <a:pt x="194" y="800"/>
                  <a:pt x="185" y="793"/>
                  <a:pt x="178" y="794"/>
                </a:cubicBezTo>
                <a:cubicBezTo>
                  <a:pt x="158" y="800"/>
                  <a:pt x="170" y="795"/>
                  <a:pt x="163" y="803"/>
                </a:cubicBezTo>
                <a:cubicBezTo>
                  <a:pt x="156" y="811"/>
                  <a:pt x="139" y="833"/>
                  <a:pt x="135" y="845"/>
                </a:cubicBezTo>
                <a:cubicBezTo>
                  <a:pt x="131" y="851"/>
                  <a:pt x="142" y="871"/>
                  <a:pt x="136" y="876"/>
                </a:cubicBezTo>
                <a:cubicBezTo>
                  <a:pt x="133" y="878"/>
                  <a:pt x="113" y="861"/>
                  <a:pt x="112" y="860"/>
                </a:cubicBezTo>
                <a:cubicBezTo>
                  <a:pt x="85" y="836"/>
                  <a:pt x="96" y="854"/>
                  <a:pt x="73" y="843"/>
                </a:cubicBezTo>
                <a:cubicBezTo>
                  <a:pt x="56" y="817"/>
                  <a:pt x="65" y="832"/>
                  <a:pt x="69" y="798"/>
                </a:cubicBezTo>
                <a:cubicBezTo>
                  <a:pt x="68" y="783"/>
                  <a:pt x="61" y="776"/>
                  <a:pt x="57" y="762"/>
                </a:cubicBezTo>
                <a:cubicBezTo>
                  <a:pt x="56" y="758"/>
                  <a:pt x="49" y="753"/>
                  <a:pt x="45" y="752"/>
                </a:cubicBezTo>
                <a:cubicBezTo>
                  <a:pt x="31" y="747"/>
                  <a:pt x="22" y="737"/>
                  <a:pt x="7" y="732"/>
                </a:cubicBezTo>
                <a:cubicBezTo>
                  <a:pt x="0" y="725"/>
                  <a:pt x="1" y="719"/>
                  <a:pt x="3" y="710"/>
                </a:cubicBezTo>
                <a:cubicBezTo>
                  <a:pt x="5" y="701"/>
                  <a:pt x="19" y="686"/>
                  <a:pt x="22" y="675"/>
                </a:cubicBezTo>
                <a:cubicBezTo>
                  <a:pt x="23" y="660"/>
                  <a:pt x="20" y="651"/>
                  <a:pt x="19" y="642"/>
                </a:cubicBezTo>
                <a:cubicBezTo>
                  <a:pt x="18" y="632"/>
                  <a:pt x="17" y="625"/>
                  <a:pt x="19" y="617"/>
                </a:cubicBezTo>
                <a:cubicBezTo>
                  <a:pt x="24" y="607"/>
                  <a:pt x="19" y="597"/>
                  <a:pt x="30" y="596"/>
                </a:cubicBezTo>
                <a:cubicBezTo>
                  <a:pt x="51" y="594"/>
                  <a:pt x="81" y="576"/>
                  <a:pt x="102" y="575"/>
                </a:cubicBezTo>
                <a:cubicBezTo>
                  <a:pt x="118" y="568"/>
                  <a:pt x="130" y="583"/>
                  <a:pt x="144" y="581"/>
                </a:cubicBezTo>
                <a:cubicBezTo>
                  <a:pt x="158" y="579"/>
                  <a:pt x="169" y="567"/>
                  <a:pt x="184" y="563"/>
                </a:cubicBezTo>
                <a:cubicBezTo>
                  <a:pt x="206" y="554"/>
                  <a:pt x="224" y="559"/>
                  <a:pt x="237" y="555"/>
                </a:cubicBezTo>
                <a:cubicBezTo>
                  <a:pt x="250" y="551"/>
                  <a:pt x="254" y="545"/>
                  <a:pt x="262" y="540"/>
                </a:cubicBezTo>
                <a:cubicBezTo>
                  <a:pt x="270" y="536"/>
                  <a:pt x="278" y="526"/>
                  <a:pt x="286" y="522"/>
                </a:cubicBezTo>
                <a:cubicBezTo>
                  <a:pt x="290" y="520"/>
                  <a:pt x="295" y="510"/>
                  <a:pt x="295" y="510"/>
                </a:cubicBezTo>
                <a:cubicBezTo>
                  <a:pt x="305" y="495"/>
                  <a:pt x="314" y="487"/>
                  <a:pt x="322" y="471"/>
                </a:cubicBezTo>
                <a:cubicBezTo>
                  <a:pt x="325" y="456"/>
                  <a:pt x="323" y="441"/>
                  <a:pt x="316" y="429"/>
                </a:cubicBezTo>
                <a:cubicBezTo>
                  <a:pt x="309" y="417"/>
                  <a:pt x="294" y="412"/>
                  <a:pt x="282" y="401"/>
                </a:cubicBezTo>
                <a:cubicBezTo>
                  <a:pt x="268" y="384"/>
                  <a:pt x="255" y="373"/>
                  <a:pt x="244" y="365"/>
                </a:cubicBezTo>
                <a:cubicBezTo>
                  <a:pt x="233" y="357"/>
                  <a:pt x="223" y="357"/>
                  <a:pt x="216" y="351"/>
                </a:cubicBezTo>
                <a:cubicBezTo>
                  <a:pt x="209" y="345"/>
                  <a:pt x="204" y="333"/>
                  <a:pt x="202" y="330"/>
                </a:cubicBezTo>
                <a:cubicBezTo>
                  <a:pt x="196" y="311"/>
                  <a:pt x="209" y="326"/>
                  <a:pt x="205" y="33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3" name="Freeform 10"/>
          <p:cNvSpPr/>
          <p:nvPr/>
        </p:nvSpPr>
        <p:spPr>
          <a:xfrm>
            <a:off x="5126040" y="4033800"/>
            <a:ext cx="1522440" cy="1724040"/>
          </a:xfrm>
          <a:custGeom>
            <a:avLst/>
            <a:gdLst/>
            <a:ahLst/>
            <a:rect l="l" t="t" r="r" b="b"/>
            <a:pathLst>
              <a:path w="959" h="1086">
                <a:moveTo>
                  <a:pt x="78" y="340"/>
                </a:moveTo>
                <a:cubicBezTo>
                  <a:pt x="82" y="351"/>
                  <a:pt x="80" y="351"/>
                  <a:pt x="87" y="361"/>
                </a:cubicBezTo>
                <a:cubicBezTo>
                  <a:pt x="90" y="369"/>
                  <a:pt x="99" y="373"/>
                  <a:pt x="99" y="385"/>
                </a:cubicBezTo>
                <a:cubicBezTo>
                  <a:pt x="99" y="397"/>
                  <a:pt x="87" y="416"/>
                  <a:pt x="90" y="432"/>
                </a:cubicBezTo>
                <a:cubicBezTo>
                  <a:pt x="91" y="445"/>
                  <a:pt x="112" y="468"/>
                  <a:pt x="116" y="481"/>
                </a:cubicBezTo>
                <a:cubicBezTo>
                  <a:pt x="115" y="488"/>
                  <a:pt x="112" y="508"/>
                  <a:pt x="108" y="514"/>
                </a:cubicBezTo>
                <a:cubicBezTo>
                  <a:pt x="101" y="526"/>
                  <a:pt x="89" y="526"/>
                  <a:pt x="78" y="529"/>
                </a:cubicBezTo>
                <a:cubicBezTo>
                  <a:pt x="59" y="535"/>
                  <a:pt x="46" y="547"/>
                  <a:pt x="32" y="561"/>
                </a:cubicBezTo>
                <a:cubicBezTo>
                  <a:pt x="20" y="573"/>
                  <a:pt x="9" y="578"/>
                  <a:pt x="3" y="595"/>
                </a:cubicBezTo>
                <a:cubicBezTo>
                  <a:pt x="2" y="598"/>
                  <a:pt x="0" y="604"/>
                  <a:pt x="0" y="604"/>
                </a:cubicBezTo>
                <a:cubicBezTo>
                  <a:pt x="4" y="618"/>
                  <a:pt x="7" y="623"/>
                  <a:pt x="21" y="628"/>
                </a:cubicBezTo>
                <a:cubicBezTo>
                  <a:pt x="35" y="629"/>
                  <a:pt x="64" y="616"/>
                  <a:pt x="78" y="616"/>
                </a:cubicBezTo>
                <a:cubicBezTo>
                  <a:pt x="92" y="616"/>
                  <a:pt x="99" y="618"/>
                  <a:pt x="104" y="627"/>
                </a:cubicBezTo>
                <a:cubicBezTo>
                  <a:pt x="92" y="645"/>
                  <a:pt x="109" y="656"/>
                  <a:pt x="107" y="673"/>
                </a:cubicBezTo>
                <a:cubicBezTo>
                  <a:pt x="105" y="690"/>
                  <a:pt x="89" y="714"/>
                  <a:pt x="89" y="729"/>
                </a:cubicBezTo>
                <a:cubicBezTo>
                  <a:pt x="93" y="751"/>
                  <a:pt x="82" y="748"/>
                  <a:pt x="104" y="763"/>
                </a:cubicBezTo>
                <a:cubicBezTo>
                  <a:pt x="107" y="765"/>
                  <a:pt x="114" y="763"/>
                  <a:pt x="114" y="763"/>
                </a:cubicBezTo>
                <a:cubicBezTo>
                  <a:pt x="118" y="770"/>
                  <a:pt x="129" y="778"/>
                  <a:pt x="135" y="792"/>
                </a:cubicBezTo>
                <a:cubicBezTo>
                  <a:pt x="141" y="806"/>
                  <a:pt x="142" y="839"/>
                  <a:pt x="147" y="849"/>
                </a:cubicBezTo>
                <a:cubicBezTo>
                  <a:pt x="152" y="859"/>
                  <a:pt x="156" y="852"/>
                  <a:pt x="165" y="850"/>
                </a:cubicBezTo>
                <a:cubicBezTo>
                  <a:pt x="193" y="846"/>
                  <a:pt x="177" y="840"/>
                  <a:pt x="201" y="834"/>
                </a:cubicBezTo>
                <a:cubicBezTo>
                  <a:pt x="202" y="824"/>
                  <a:pt x="204" y="802"/>
                  <a:pt x="207" y="793"/>
                </a:cubicBezTo>
                <a:cubicBezTo>
                  <a:pt x="211" y="782"/>
                  <a:pt x="243" y="803"/>
                  <a:pt x="254" y="807"/>
                </a:cubicBezTo>
                <a:cubicBezTo>
                  <a:pt x="265" y="803"/>
                  <a:pt x="281" y="795"/>
                  <a:pt x="281" y="795"/>
                </a:cubicBezTo>
                <a:cubicBezTo>
                  <a:pt x="292" y="778"/>
                  <a:pt x="316" y="790"/>
                  <a:pt x="333" y="796"/>
                </a:cubicBezTo>
                <a:cubicBezTo>
                  <a:pt x="344" y="795"/>
                  <a:pt x="325" y="794"/>
                  <a:pt x="336" y="792"/>
                </a:cubicBezTo>
                <a:cubicBezTo>
                  <a:pt x="343" y="791"/>
                  <a:pt x="350" y="789"/>
                  <a:pt x="357" y="787"/>
                </a:cubicBezTo>
                <a:cubicBezTo>
                  <a:pt x="364" y="785"/>
                  <a:pt x="373" y="782"/>
                  <a:pt x="378" y="778"/>
                </a:cubicBezTo>
                <a:cubicBezTo>
                  <a:pt x="384" y="775"/>
                  <a:pt x="380" y="763"/>
                  <a:pt x="387" y="762"/>
                </a:cubicBezTo>
                <a:cubicBezTo>
                  <a:pt x="395" y="760"/>
                  <a:pt x="400" y="750"/>
                  <a:pt x="410" y="751"/>
                </a:cubicBezTo>
                <a:cubicBezTo>
                  <a:pt x="420" y="752"/>
                  <a:pt x="439" y="764"/>
                  <a:pt x="446" y="771"/>
                </a:cubicBezTo>
                <a:cubicBezTo>
                  <a:pt x="452" y="774"/>
                  <a:pt x="450" y="781"/>
                  <a:pt x="450" y="792"/>
                </a:cubicBezTo>
                <a:cubicBezTo>
                  <a:pt x="450" y="803"/>
                  <a:pt x="448" y="823"/>
                  <a:pt x="447" y="835"/>
                </a:cubicBezTo>
                <a:cubicBezTo>
                  <a:pt x="447" y="846"/>
                  <a:pt x="443" y="854"/>
                  <a:pt x="441" y="867"/>
                </a:cubicBezTo>
                <a:cubicBezTo>
                  <a:pt x="442" y="875"/>
                  <a:pt x="453" y="878"/>
                  <a:pt x="452" y="886"/>
                </a:cubicBezTo>
                <a:cubicBezTo>
                  <a:pt x="451" y="894"/>
                  <a:pt x="447" y="896"/>
                  <a:pt x="438" y="913"/>
                </a:cubicBezTo>
                <a:cubicBezTo>
                  <a:pt x="424" y="940"/>
                  <a:pt x="407" y="958"/>
                  <a:pt x="399" y="988"/>
                </a:cubicBezTo>
                <a:cubicBezTo>
                  <a:pt x="396" y="1020"/>
                  <a:pt x="380" y="1059"/>
                  <a:pt x="422" y="1053"/>
                </a:cubicBezTo>
                <a:cubicBezTo>
                  <a:pt x="443" y="1046"/>
                  <a:pt x="447" y="1013"/>
                  <a:pt x="468" y="1006"/>
                </a:cubicBezTo>
                <a:cubicBezTo>
                  <a:pt x="475" y="1004"/>
                  <a:pt x="475" y="1017"/>
                  <a:pt x="476" y="1026"/>
                </a:cubicBezTo>
                <a:cubicBezTo>
                  <a:pt x="477" y="1035"/>
                  <a:pt x="475" y="1054"/>
                  <a:pt x="477" y="1063"/>
                </a:cubicBezTo>
                <a:cubicBezTo>
                  <a:pt x="482" y="1074"/>
                  <a:pt x="481" y="1078"/>
                  <a:pt x="488" y="1081"/>
                </a:cubicBezTo>
                <a:cubicBezTo>
                  <a:pt x="495" y="1084"/>
                  <a:pt x="509" y="1086"/>
                  <a:pt x="519" y="1084"/>
                </a:cubicBezTo>
                <a:cubicBezTo>
                  <a:pt x="539" y="1079"/>
                  <a:pt x="538" y="1085"/>
                  <a:pt x="548" y="1072"/>
                </a:cubicBezTo>
                <a:cubicBezTo>
                  <a:pt x="556" y="1069"/>
                  <a:pt x="561" y="1069"/>
                  <a:pt x="567" y="1068"/>
                </a:cubicBezTo>
                <a:cubicBezTo>
                  <a:pt x="573" y="1067"/>
                  <a:pt x="577" y="1072"/>
                  <a:pt x="582" y="1065"/>
                </a:cubicBezTo>
                <a:cubicBezTo>
                  <a:pt x="587" y="1050"/>
                  <a:pt x="591" y="1036"/>
                  <a:pt x="599" y="1026"/>
                </a:cubicBezTo>
                <a:cubicBezTo>
                  <a:pt x="603" y="1014"/>
                  <a:pt x="603" y="1009"/>
                  <a:pt x="615" y="1005"/>
                </a:cubicBezTo>
                <a:cubicBezTo>
                  <a:pt x="629" y="1006"/>
                  <a:pt x="627" y="963"/>
                  <a:pt x="653" y="1006"/>
                </a:cubicBezTo>
                <a:cubicBezTo>
                  <a:pt x="666" y="1024"/>
                  <a:pt x="669" y="1006"/>
                  <a:pt x="680" y="1017"/>
                </a:cubicBezTo>
                <a:cubicBezTo>
                  <a:pt x="692" y="1038"/>
                  <a:pt x="698" y="1038"/>
                  <a:pt x="717" y="1041"/>
                </a:cubicBezTo>
                <a:cubicBezTo>
                  <a:pt x="743" y="1044"/>
                  <a:pt x="735" y="1024"/>
                  <a:pt x="738" y="1015"/>
                </a:cubicBezTo>
                <a:cubicBezTo>
                  <a:pt x="741" y="1006"/>
                  <a:pt x="734" y="994"/>
                  <a:pt x="738" y="984"/>
                </a:cubicBezTo>
                <a:cubicBezTo>
                  <a:pt x="743" y="960"/>
                  <a:pt x="747" y="958"/>
                  <a:pt x="761" y="952"/>
                </a:cubicBezTo>
                <a:cubicBezTo>
                  <a:pt x="775" y="946"/>
                  <a:pt x="808" y="950"/>
                  <a:pt x="824" y="946"/>
                </a:cubicBezTo>
                <a:cubicBezTo>
                  <a:pt x="840" y="942"/>
                  <a:pt x="849" y="926"/>
                  <a:pt x="858" y="925"/>
                </a:cubicBezTo>
                <a:cubicBezTo>
                  <a:pt x="867" y="924"/>
                  <a:pt x="873" y="935"/>
                  <a:pt x="881" y="937"/>
                </a:cubicBezTo>
                <a:cubicBezTo>
                  <a:pt x="889" y="939"/>
                  <a:pt x="900" y="945"/>
                  <a:pt x="905" y="936"/>
                </a:cubicBezTo>
                <a:cubicBezTo>
                  <a:pt x="929" y="915"/>
                  <a:pt x="920" y="906"/>
                  <a:pt x="909" y="883"/>
                </a:cubicBezTo>
                <a:cubicBezTo>
                  <a:pt x="910" y="874"/>
                  <a:pt x="900" y="853"/>
                  <a:pt x="911" y="844"/>
                </a:cubicBezTo>
                <a:cubicBezTo>
                  <a:pt x="931" y="828"/>
                  <a:pt x="947" y="820"/>
                  <a:pt x="959" y="790"/>
                </a:cubicBezTo>
                <a:cubicBezTo>
                  <a:pt x="953" y="767"/>
                  <a:pt x="936" y="792"/>
                  <a:pt x="917" y="754"/>
                </a:cubicBezTo>
                <a:cubicBezTo>
                  <a:pt x="924" y="744"/>
                  <a:pt x="938" y="736"/>
                  <a:pt x="948" y="729"/>
                </a:cubicBezTo>
                <a:cubicBezTo>
                  <a:pt x="950" y="722"/>
                  <a:pt x="952" y="701"/>
                  <a:pt x="944" y="696"/>
                </a:cubicBezTo>
                <a:cubicBezTo>
                  <a:pt x="934" y="689"/>
                  <a:pt x="909" y="682"/>
                  <a:pt x="909" y="682"/>
                </a:cubicBezTo>
                <a:cubicBezTo>
                  <a:pt x="903" y="672"/>
                  <a:pt x="903" y="669"/>
                  <a:pt x="899" y="658"/>
                </a:cubicBezTo>
                <a:cubicBezTo>
                  <a:pt x="896" y="646"/>
                  <a:pt x="882" y="629"/>
                  <a:pt x="882" y="615"/>
                </a:cubicBezTo>
                <a:cubicBezTo>
                  <a:pt x="882" y="601"/>
                  <a:pt x="898" y="584"/>
                  <a:pt x="897" y="574"/>
                </a:cubicBezTo>
                <a:cubicBezTo>
                  <a:pt x="895" y="558"/>
                  <a:pt x="883" y="556"/>
                  <a:pt x="876" y="552"/>
                </a:cubicBezTo>
                <a:cubicBezTo>
                  <a:pt x="869" y="548"/>
                  <a:pt x="860" y="554"/>
                  <a:pt x="855" y="547"/>
                </a:cubicBezTo>
                <a:cubicBezTo>
                  <a:pt x="850" y="540"/>
                  <a:pt x="843" y="523"/>
                  <a:pt x="843" y="511"/>
                </a:cubicBezTo>
                <a:cubicBezTo>
                  <a:pt x="840" y="498"/>
                  <a:pt x="844" y="483"/>
                  <a:pt x="855" y="474"/>
                </a:cubicBezTo>
                <a:cubicBezTo>
                  <a:pt x="875" y="475"/>
                  <a:pt x="877" y="467"/>
                  <a:pt x="884" y="445"/>
                </a:cubicBezTo>
                <a:cubicBezTo>
                  <a:pt x="889" y="430"/>
                  <a:pt x="904" y="405"/>
                  <a:pt x="915" y="394"/>
                </a:cubicBezTo>
                <a:cubicBezTo>
                  <a:pt x="920" y="382"/>
                  <a:pt x="931" y="381"/>
                  <a:pt x="932" y="370"/>
                </a:cubicBezTo>
                <a:cubicBezTo>
                  <a:pt x="933" y="359"/>
                  <a:pt x="921" y="340"/>
                  <a:pt x="920" y="325"/>
                </a:cubicBezTo>
                <a:cubicBezTo>
                  <a:pt x="919" y="310"/>
                  <a:pt x="926" y="294"/>
                  <a:pt x="924" y="280"/>
                </a:cubicBezTo>
                <a:cubicBezTo>
                  <a:pt x="920" y="267"/>
                  <a:pt x="913" y="255"/>
                  <a:pt x="909" y="241"/>
                </a:cubicBezTo>
                <a:cubicBezTo>
                  <a:pt x="907" y="235"/>
                  <a:pt x="912" y="226"/>
                  <a:pt x="912" y="226"/>
                </a:cubicBezTo>
                <a:cubicBezTo>
                  <a:pt x="916" y="213"/>
                  <a:pt x="916" y="212"/>
                  <a:pt x="927" y="205"/>
                </a:cubicBezTo>
                <a:cubicBezTo>
                  <a:pt x="942" y="175"/>
                  <a:pt x="904" y="191"/>
                  <a:pt x="888" y="193"/>
                </a:cubicBezTo>
                <a:cubicBezTo>
                  <a:pt x="874" y="192"/>
                  <a:pt x="856" y="197"/>
                  <a:pt x="846" y="187"/>
                </a:cubicBezTo>
                <a:cubicBezTo>
                  <a:pt x="841" y="182"/>
                  <a:pt x="834" y="169"/>
                  <a:pt x="834" y="169"/>
                </a:cubicBezTo>
                <a:cubicBezTo>
                  <a:pt x="826" y="136"/>
                  <a:pt x="854" y="93"/>
                  <a:pt x="828" y="73"/>
                </a:cubicBezTo>
                <a:cubicBezTo>
                  <a:pt x="797" y="94"/>
                  <a:pt x="789" y="89"/>
                  <a:pt x="771" y="94"/>
                </a:cubicBezTo>
                <a:cubicBezTo>
                  <a:pt x="741" y="91"/>
                  <a:pt x="734" y="66"/>
                  <a:pt x="695" y="78"/>
                </a:cubicBezTo>
                <a:cubicBezTo>
                  <a:pt x="664" y="82"/>
                  <a:pt x="658" y="83"/>
                  <a:pt x="633" y="94"/>
                </a:cubicBezTo>
                <a:cubicBezTo>
                  <a:pt x="624" y="98"/>
                  <a:pt x="606" y="103"/>
                  <a:pt x="606" y="103"/>
                </a:cubicBezTo>
                <a:cubicBezTo>
                  <a:pt x="598" y="104"/>
                  <a:pt x="594" y="98"/>
                  <a:pt x="588" y="96"/>
                </a:cubicBezTo>
                <a:cubicBezTo>
                  <a:pt x="582" y="94"/>
                  <a:pt x="581" y="98"/>
                  <a:pt x="572" y="93"/>
                </a:cubicBezTo>
                <a:cubicBezTo>
                  <a:pt x="563" y="88"/>
                  <a:pt x="552" y="79"/>
                  <a:pt x="534" y="66"/>
                </a:cubicBezTo>
                <a:cubicBezTo>
                  <a:pt x="516" y="40"/>
                  <a:pt x="476" y="17"/>
                  <a:pt x="464" y="16"/>
                </a:cubicBezTo>
                <a:cubicBezTo>
                  <a:pt x="432" y="22"/>
                  <a:pt x="430" y="19"/>
                  <a:pt x="408" y="18"/>
                </a:cubicBezTo>
                <a:cubicBezTo>
                  <a:pt x="386" y="24"/>
                  <a:pt x="382" y="2"/>
                  <a:pt x="371" y="1"/>
                </a:cubicBezTo>
                <a:cubicBezTo>
                  <a:pt x="360" y="0"/>
                  <a:pt x="352" y="8"/>
                  <a:pt x="342" y="9"/>
                </a:cubicBezTo>
                <a:cubicBezTo>
                  <a:pt x="321" y="13"/>
                  <a:pt x="331" y="1"/>
                  <a:pt x="308" y="9"/>
                </a:cubicBezTo>
                <a:cubicBezTo>
                  <a:pt x="300" y="11"/>
                  <a:pt x="292" y="17"/>
                  <a:pt x="293" y="27"/>
                </a:cubicBezTo>
                <a:cubicBezTo>
                  <a:pt x="294" y="37"/>
                  <a:pt x="324" y="36"/>
                  <a:pt x="315" y="70"/>
                </a:cubicBezTo>
                <a:cubicBezTo>
                  <a:pt x="307" y="79"/>
                  <a:pt x="294" y="84"/>
                  <a:pt x="287" y="87"/>
                </a:cubicBezTo>
                <a:cubicBezTo>
                  <a:pt x="280" y="90"/>
                  <a:pt x="277" y="87"/>
                  <a:pt x="270" y="88"/>
                </a:cubicBezTo>
                <a:cubicBezTo>
                  <a:pt x="263" y="89"/>
                  <a:pt x="249" y="90"/>
                  <a:pt x="242" y="91"/>
                </a:cubicBezTo>
                <a:cubicBezTo>
                  <a:pt x="235" y="92"/>
                  <a:pt x="232" y="90"/>
                  <a:pt x="228" y="91"/>
                </a:cubicBezTo>
                <a:cubicBezTo>
                  <a:pt x="224" y="92"/>
                  <a:pt x="220" y="95"/>
                  <a:pt x="216" y="96"/>
                </a:cubicBezTo>
                <a:cubicBezTo>
                  <a:pt x="212" y="97"/>
                  <a:pt x="209" y="100"/>
                  <a:pt x="203" y="100"/>
                </a:cubicBezTo>
                <a:cubicBezTo>
                  <a:pt x="197" y="100"/>
                  <a:pt x="197" y="94"/>
                  <a:pt x="182" y="96"/>
                </a:cubicBezTo>
                <a:cubicBezTo>
                  <a:pt x="120" y="136"/>
                  <a:pt x="137" y="109"/>
                  <a:pt x="114" y="115"/>
                </a:cubicBezTo>
                <a:cubicBezTo>
                  <a:pt x="102" y="117"/>
                  <a:pt x="89" y="126"/>
                  <a:pt x="69" y="156"/>
                </a:cubicBezTo>
                <a:cubicBezTo>
                  <a:pt x="60" y="170"/>
                  <a:pt x="72" y="175"/>
                  <a:pt x="74" y="187"/>
                </a:cubicBezTo>
                <a:cubicBezTo>
                  <a:pt x="76" y="199"/>
                  <a:pt x="77" y="207"/>
                  <a:pt x="81" y="226"/>
                </a:cubicBezTo>
                <a:cubicBezTo>
                  <a:pt x="84" y="248"/>
                  <a:pt x="98" y="286"/>
                  <a:pt x="98" y="304"/>
                </a:cubicBezTo>
                <a:cubicBezTo>
                  <a:pt x="100" y="319"/>
                  <a:pt x="95" y="314"/>
                  <a:pt x="92" y="319"/>
                </a:cubicBezTo>
                <a:cubicBezTo>
                  <a:pt x="89" y="324"/>
                  <a:pt x="83" y="330"/>
                  <a:pt x="81" y="334"/>
                </a:cubicBezTo>
                <a:cubicBezTo>
                  <a:pt x="80" y="346"/>
                  <a:pt x="69" y="331"/>
                  <a:pt x="78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4" name="Freeform 11"/>
          <p:cNvSpPr/>
          <p:nvPr/>
        </p:nvSpPr>
        <p:spPr>
          <a:xfrm>
            <a:off x="6461280" y="3989520"/>
            <a:ext cx="1323720" cy="1787400"/>
          </a:xfrm>
          <a:custGeom>
            <a:avLst/>
            <a:gdLst/>
            <a:ahLst/>
            <a:rect l="l" t="t" r="r" b="b"/>
            <a:pathLst>
              <a:path w="834" h="1126">
                <a:moveTo>
                  <a:pt x="74" y="956"/>
                </a:moveTo>
                <a:cubicBezTo>
                  <a:pt x="106" y="952"/>
                  <a:pt x="90" y="954"/>
                  <a:pt x="113" y="946"/>
                </a:cubicBezTo>
                <a:cubicBezTo>
                  <a:pt x="168" y="949"/>
                  <a:pt x="187" y="943"/>
                  <a:pt x="220" y="976"/>
                </a:cubicBezTo>
                <a:cubicBezTo>
                  <a:pt x="225" y="990"/>
                  <a:pt x="214" y="1009"/>
                  <a:pt x="203" y="1022"/>
                </a:cubicBezTo>
                <a:cubicBezTo>
                  <a:pt x="199" y="1027"/>
                  <a:pt x="182" y="1034"/>
                  <a:pt x="176" y="1037"/>
                </a:cubicBezTo>
                <a:cubicBezTo>
                  <a:pt x="170" y="1040"/>
                  <a:pt x="158" y="1043"/>
                  <a:pt x="158" y="1043"/>
                </a:cubicBezTo>
                <a:cubicBezTo>
                  <a:pt x="152" y="1052"/>
                  <a:pt x="157" y="1060"/>
                  <a:pt x="151" y="1069"/>
                </a:cubicBezTo>
                <a:cubicBezTo>
                  <a:pt x="149" y="1078"/>
                  <a:pt x="135" y="1102"/>
                  <a:pt x="143" y="1108"/>
                </a:cubicBezTo>
                <a:cubicBezTo>
                  <a:pt x="151" y="1114"/>
                  <a:pt x="182" y="1103"/>
                  <a:pt x="197" y="1105"/>
                </a:cubicBezTo>
                <a:cubicBezTo>
                  <a:pt x="205" y="1110"/>
                  <a:pt x="232" y="1121"/>
                  <a:pt x="232" y="1121"/>
                </a:cubicBezTo>
                <a:cubicBezTo>
                  <a:pt x="256" y="1106"/>
                  <a:pt x="291" y="1098"/>
                  <a:pt x="314" y="1096"/>
                </a:cubicBezTo>
                <a:cubicBezTo>
                  <a:pt x="335" y="1096"/>
                  <a:pt x="346" y="1121"/>
                  <a:pt x="358" y="1124"/>
                </a:cubicBezTo>
                <a:cubicBezTo>
                  <a:pt x="369" y="1126"/>
                  <a:pt x="373" y="1116"/>
                  <a:pt x="382" y="1111"/>
                </a:cubicBezTo>
                <a:cubicBezTo>
                  <a:pt x="399" y="1107"/>
                  <a:pt x="400" y="1110"/>
                  <a:pt x="413" y="1097"/>
                </a:cubicBezTo>
                <a:cubicBezTo>
                  <a:pt x="416" y="1087"/>
                  <a:pt x="427" y="1057"/>
                  <a:pt x="427" y="1057"/>
                </a:cubicBezTo>
                <a:cubicBezTo>
                  <a:pt x="427" y="1042"/>
                  <a:pt x="409" y="1017"/>
                  <a:pt x="409" y="1003"/>
                </a:cubicBezTo>
                <a:cubicBezTo>
                  <a:pt x="409" y="989"/>
                  <a:pt x="424" y="979"/>
                  <a:pt x="430" y="974"/>
                </a:cubicBezTo>
                <a:cubicBezTo>
                  <a:pt x="436" y="969"/>
                  <a:pt x="440" y="974"/>
                  <a:pt x="448" y="970"/>
                </a:cubicBezTo>
                <a:cubicBezTo>
                  <a:pt x="450" y="924"/>
                  <a:pt x="452" y="977"/>
                  <a:pt x="457" y="892"/>
                </a:cubicBezTo>
                <a:cubicBezTo>
                  <a:pt x="457" y="865"/>
                  <a:pt x="454" y="867"/>
                  <a:pt x="467" y="850"/>
                </a:cubicBezTo>
                <a:cubicBezTo>
                  <a:pt x="523" y="785"/>
                  <a:pt x="486" y="799"/>
                  <a:pt x="494" y="785"/>
                </a:cubicBezTo>
                <a:cubicBezTo>
                  <a:pt x="500" y="771"/>
                  <a:pt x="503" y="773"/>
                  <a:pt x="505" y="767"/>
                </a:cubicBezTo>
                <a:cubicBezTo>
                  <a:pt x="507" y="761"/>
                  <a:pt x="504" y="770"/>
                  <a:pt x="506" y="749"/>
                </a:cubicBezTo>
                <a:cubicBezTo>
                  <a:pt x="501" y="695"/>
                  <a:pt x="484" y="682"/>
                  <a:pt x="515" y="643"/>
                </a:cubicBezTo>
                <a:cubicBezTo>
                  <a:pt x="525" y="628"/>
                  <a:pt x="553" y="617"/>
                  <a:pt x="566" y="610"/>
                </a:cubicBezTo>
                <a:cubicBezTo>
                  <a:pt x="574" y="606"/>
                  <a:pt x="599" y="602"/>
                  <a:pt x="599" y="602"/>
                </a:cubicBezTo>
                <a:cubicBezTo>
                  <a:pt x="601" y="567"/>
                  <a:pt x="623" y="598"/>
                  <a:pt x="604" y="547"/>
                </a:cubicBezTo>
                <a:cubicBezTo>
                  <a:pt x="605" y="521"/>
                  <a:pt x="607" y="523"/>
                  <a:pt x="625" y="494"/>
                </a:cubicBezTo>
                <a:cubicBezTo>
                  <a:pt x="633" y="493"/>
                  <a:pt x="630" y="489"/>
                  <a:pt x="641" y="479"/>
                </a:cubicBezTo>
                <a:cubicBezTo>
                  <a:pt x="652" y="469"/>
                  <a:pt x="677" y="441"/>
                  <a:pt x="689" y="433"/>
                </a:cubicBezTo>
                <a:cubicBezTo>
                  <a:pt x="712" y="419"/>
                  <a:pt x="692" y="438"/>
                  <a:pt x="715" y="430"/>
                </a:cubicBezTo>
                <a:cubicBezTo>
                  <a:pt x="720" y="410"/>
                  <a:pt x="737" y="412"/>
                  <a:pt x="754" y="401"/>
                </a:cubicBezTo>
                <a:cubicBezTo>
                  <a:pt x="778" y="391"/>
                  <a:pt x="768" y="385"/>
                  <a:pt x="799" y="377"/>
                </a:cubicBezTo>
                <a:cubicBezTo>
                  <a:pt x="807" y="369"/>
                  <a:pt x="821" y="362"/>
                  <a:pt x="821" y="350"/>
                </a:cubicBezTo>
                <a:cubicBezTo>
                  <a:pt x="824" y="340"/>
                  <a:pt x="819" y="324"/>
                  <a:pt x="821" y="310"/>
                </a:cubicBezTo>
                <a:cubicBezTo>
                  <a:pt x="823" y="296"/>
                  <a:pt x="834" y="277"/>
                  <a:pt x="832" y="265"/>
                </a:cubicBezTo>
                <a:cubicBezTo>
                  <a:pt x="830" y="253"/>
                  <a:pt x="814" y="243"/>
                  <a:pt x="811" y="235"/>
                </a:cubicBezTo>
                <a:cubicBezTo>
                  <a:pt x="808" y="227"/>
                  <a:pt x="816" y="224"/>
                  <a:pt x="814" y="217"/>
                </a:cubicBezTo>
                <a:cubicBezTo>
                  <a:pt x="812" y="210"/>
                  <a:pt x="804" y="204"/>
                  <a:pt x="796" y="194"/>
                </a:cubicBezTo>
                <a:cubicBezTo>
                  <a:pt x="788" y="184"/>
                  <a:pt x="767" y="168"/>
                  <a:pt x="763" y="157"/>
                </a:cubicBezTo>
                <a:cubicBezTo>
                  <a:pt x="759" y="146"/>
                  <a:pt x="769" y="138"/>
                  <a:pt x="770" y="128"/>
                </a:cubicBezTo>
                <a:cubicBezTo>
                  <a:pt x="771" y="118"/>
                  <a:pt x="780" y="105"/>
                  <a:pt x="770" y="95"/>
                </a:cubicBezTo>
                <a:cubicBezTo>
                  <a:pt x="760" y="85"/>
                  <a:pt x="736" y="78"/>
                  <a:pt x="709" y="68"/>
                </a:cubicBezTo>
                <a:cubicBezTo>
                  <a:pt x="672" y="67"/>
                  <a:pt x="649" y="25"/>
                  <a:pt x="605" y="37"/>
                </a:cubicBezTo>
                <a:cubicBezTo>
                  <a:pt x="593" y="36"/>
                  <a:pt x="578" y="60"/>
                  <a:pt x="566" y="58"/>
                </a:cubicBezTo>
                <a:cubicBezTo>
                  <a:pt x="556" y="58"/>
                  <a:pt x="539" y="73"/>
                  <a:pt x="533" y="73"/>
                </a:cubicBezTo>
                <a:cubicBezTo>
                  <a:pt x="527" y="73"/>
                  <a:pt x="525" y="68"/>
                  <a:pt x="527" y="58"/>
                </a:cubicBezTo>
                <a:cubicBezTo>
                  <a:pt x="529" y="48"/>
                  <a:pt x="548" y="22"/>
                  <a:pt x="547" y="13"/>
                </a:cubicBezTo>
                <a:cubicBezTo>
                  <a:pt x="546" y="4"/>
                  <a:pt x="530" y="1"/>
                  <a:pt x="523" y="2"/>
                </a:cubicBezTo>
                <a:cubicBezTo>
                  <a:pt x="513" y="0"/>
                  <a:pt x="513" y="18"/>
                  <a:pt x="503" y="17"/>
                </a:cubicBezTo>
                <a:cubicBezTo>
                  <a:pt x="494" y="17"/>
                  <a:pt x="495" y="20"/>
                  <a:pt x="481" y="22"/>
                </a:cubicBezTo>
                <a:cubicBezTo>
                  <a:pt x="467" y="24"/>
                  <a:pt x="441" y="26"/>
                  <a:pt x="416" y="28"/>
                </a:cubicBezTo>
                <a:cubicBezTo>
                  <a:pt x="389" y="55"/>
                  <a:pt x="410" y="28"/>
                  <a:pt x="328" y="34"/>
                </a:cubicBezTo>
                <a:cubicBezTo>
                  <a:pt x="314" y="35"/>
                  <a:pt x="301" y="53"/>
                  <a:pt x="301" y="53"/>
                </a:cubicBezTo>
                <a:cubicBezTo>
                  <a:pt x="293" y="60"/>
                  <a:pt x="290" y="69"/>
                  <a:pt x="283" y="77"/>
                </a:cubicBezTo>
                <a:cubicBezTo>
                  <a:pt x="276" y="85"/>
                  <a:pt x="281" y="92"/>
                  <a:pt x="260" y="104"/>
                </a:cubicBezTo>
                <a:cubicBezTo>
                  <a:pt x="242" y="126"/>
                  <a:pt x="185" y="145"/>
                  <a:pt x="158" y="152"/>
                </a:cubicBezTo>
                <a:cubicBezTo>
                  <a:pt x="136" y="164"/>
                  <a:pt x="143" y="165"/>
                  <a:pt x="133" y="170"/>
                </a:cubicBezTo>
                <a:cubicBezTo>
                  <a:pt x="123" y="175"/>
                  <a:pt x="107" y="180"/>
                  <a:pt x="100" y="185"/>
                </a:cubicBezTo>
                <a:cubicBezTo>
                  <a:pt x="91" y="194"/>
                  <a:pt x="99" y="192"/>
                  <a:pt x="92" y="202"/>
                </a:cubicBezTo>
                <a:cubicBezTo>
                  <a:pt x="88" y="210"/>
                  <a:pt x="89" y="226"/>
                  <a:pt x="86" y="232"/>
                </a:cubicBezTo>
                <a:cubicBezTo>
                  <a:pt x="83" y="238"/>
                  <a:pt x="79" y="233"/>
                  <a:pt x="76" y="238"/>
                </a:cubicBezTo>
                <a:cubicBezTo>
                  <a:pt x="75" y="246"/>
                  <a:pt x="70" y="252"/>
                  <a:pt x="68" y="260"/>
                </a:cubicBezTo>
                <a:cubicBezTo>
                  <a:pt x="67" y="264"/>
                  <a:pt x="68" y="272"/>
                  <a:pt x="68" y="272"/>
                </a:cubicBezTo>
                <a:cubicBezTo>
                  <a:pt x="70" y="288"/>
                  <a:pt x="76" y="293"/>
                  <a:pt x="83" y="308"/>
                </a:cubicBezTo>
                <a:cubicBezTo>
                  <a:pt x="87" y="316"/>
                  <a:pt x="75" y="329"/>
                  <a:pt x="79" y="337"/>
                </a:cubicBezTo>
                <a:cubicBezTo>
                  <a:pt x="81" y="341"/>
                  <a:pt x="80" y="359"/>
                  <a:pt x="80" y="359"/>
                </a:cubicBezTo>
                <a:cubicBezTo>
                  <a:pt x="103" y="412"/>
                  <a:pt x="89" y="400"/>
                  <a:pt x="59" y="436"/>
                </a:cubicBezTo>
                <a:cubicBezTo>
                  <a:pt x="48" y="457"/>
                  <a:pt x="42" y="471"/>
                  <a:pt x="35" y="494"/>
                </a:cubicBezTo>
                <a:cubicBezTo>
                  <a:pt x="32" y="505"/>
                  <a:pt x="2" y="514"/>
                  <a:pt x="2" y="514"/>
                </a:cubicBezTo>
                <a:cubicBezTo>
                  <a:pt x="0" y="524"/>
                  <a:pt x="5" y="544"/>
                  <a:pt x="7" y="554"/>
                </a:cubicBezTo>
                <a:cubicBezTo>
                  <a:pt x="9" y="564"/>
                  <a:pt x="12" y="573"/>
                  <a:pt x="16" y="577"/>
                </a:cubicBezTo>
                <a:cubicBezTo>
                  <a:pt x="20" y="581"/>
                  <a:pt x="25" y="579"/>
                  <a:pt x="29" y="580"/>
                </a:cubicBezTo>
                <a:cubicBezTo>
                  <a:pt x="33" y="581"/>
                  <a:pt x="37" y="579"/>
                  <a:pt x="40" y="581"/>
                </a:cubicBezTo>
                <a:cubicBezTo>
                  <a:pt x="43" y="583"/>
                  <a:pt x="46" y="585"/>
                  <a:pt x="49" y="589"/>
                </a:cubicBezTo>
                <a:cubicBezTo>
                  <a:pt x="52" y="593"/>
                  <a:pt x="56" y="595"/>
                  <a:pt x="55" y="605"/>
                </a:cubicBezTo>
                <a:cubicBezTo>
                  <a:pt x="56" y="619"/>
                  <a:pt x="39" y="634"/>
                  <a:pt x="44" y="647"/>
                </a:cubicBezTo>
                <a:cubicBezTo>
                  <a:pt x="48" y="657"/>
                  <a:pt x="60" y="698"/>
                  <a:pt x="68" y="709"/>
                </a:cubicBezTo>
                <a:cubicBezTo>
                  <a:pt x="83" y="724"/>
                  <a:pt x="98" y="721"/>
                  <a:pt x="104" y="727"/>
                </a:cubicBezTo>
                <a:cubicBezTo>
                  <a:pt x="110" y="733"/>
                  <a:pt x="109" y="736"/>
                  <a:pt x="107" y="743"/>
                </a:cubicBezTo>
                <a:cubicBezTo>
                  <a:pt x="110" y="757"/>
                  <a:pt x="99" y="761"/>
                  <a:pt x="94" y="767"/>
                </a:cubicBezTo>
                <a:cubicBezTo>
                  <a:pt x="89" y="773"/>
                  <a:pt x="76" y="776"/>
                  <a:pt x="76" y="782"/>
                </a:cubicBezTo>
                <a:cubicBezTo>
                  <a:pt x="73" y="793"/>
                  <a:pt x="88" y="797"/>
                  <a:pt x="94" y="806"/>
                </a:cubicBezTo>
                <a:cubicBezTo>
                  <a:pt x="100" y="810"/>
                  <a:pt x="112" y="804"/>
                  <a:pt x="115" y="809"/>
                </a:cubicBezTo>
                <a:cubicBezTo>
                  <a:pt x="118" y="814"/>
                  <a:pt x="114" y="827"/>
                  <a:pt x="110" y="835"/>
                </a:cubicBezTo>
                <a:cubicBezTo>
                  <a:pt x="106" y="850"/>
                  <a:pt x="100" y="844"/>
                  <a:pt x="89" y="857"/>
                </a:cubicBezTo>
                <a:cubicBezTo>
                  <a:pt x="83" y="864"/>
                  <a:pt x="68" y="869"/>
                  <a:pt x="65" y="877"/>
                </a:cubicBezTo>
                <a:cubicBezTo>
                  <a:pt x="62" y="885"/>
                  <a:pt x="66" y="898"/>
                  <a:pt x="68" y="908"/>
                </a:cubicBezTo>
                <a:cubicBezTo>
                  <a:pt x="70" y="918"/>
                  <a:pt x="78" y="929"/>
                  <a:pt x="79" y="937"/>
                </a:cubicBezTo>
                <a:cubicBezTo>
                  <a:pt x="80" y="945"/>
                  <a:pt x="75" y="952"/>
                  <a:pt x="74" y="95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5" name="Freeform 12"/>
          <p:cNvSpPr/>
          <p:nvPr/>
        </p:nvSpPr>
        <p:spPr>
          <a:xfrm>
            <a:off x="6716880" y="2454120"/>
            <a:ext cx="1304640" cy="1704960"/>
          </a:xfrm>
          <a:custGeom>
            <a:avLst/>
            <a:gdLst/>
            <a:ahLst/>
            <a:rect l="l" t="t" r="r" b="b"/>
            <a:pathLst>
              <a:path w="822" h="1074">
                <a:moveTo>
                  <a:pt x="96" y="681"/>
                </a:moveTo>
                <a:lnTo>
                  <a:pt x="177" y="603"/>
                </a:lnTo>
                <a:cubicBezTo>
                  <a:pt x="177" y="603"/>
                  <a:pt x="186" y="567"/>
                  <a:pt x="186" y="567"/>
                </a:cubicBezTo>
                <a:cubicBezTo>
                  <a:pt x="187" y="563"/>
                  <a:pt x="185" y="557"/>
                  <a:pt x="185" y="557"/>
                </a:cubicBezTo>
                <a:cubicBezTo>
                  <a:pt x="192" y="510"/>
                  <a:pt x="179" y="475"/>
                  <a:pt x="138" y="461"/>
                </a:cubicBezTo>
                <a:cubicBezTo>
                  <a:pt x="114" y="437"/>
                  <a:pt x="75" y="440"/>
                  <a:pt x="60" y="425"/>
                </a:cubicBezTo>
                <a:cubicBezTo>
                  <a:pt x="71" y="401"/>
                  <a:pt x="65" y="386"/>
                  <a:pt x="33" y="375"/>
                </a:cubicBezTo>
                <a:cubicBezTo>
                  <a:pt x="25" y="364"/>
                  <a:pt x="10" y="369"/>
                  <a:pt x="6" y="365"/>
                </a:cubicBezTo>
                <a:cubicBezTo>
                  <a:pt x="2" y="361"/>
                  <a:pt x="0" y="353"/>
                  <a:pt x="6" y="348"/>
                </a:cubicBezTo>
                <a:cubicBezTo>
                  <a:pt x="12" y="319"/>
                  <a:pt x="14" y="330"/>
                  <a:pt x="45" y="336"/>
                </a:cubicBezTo>
                <a:cubicBezTo>
                  <a:pt x="53" y="331"/>
                  <a:pt x="55" y="331"/>
                  <a:pt x="59" y="324"/>
                </a:cubicBezTo>
                <a:cubicBezTo>
                  <a:pt x="63" y="317"/>
                  <a:pt x="64" y="309"/>
                  <a:pt x="68" y="296"/>
                </a:cubicBezTo>
                <a:cubicBezTo>
                  <a:pt x="74" y="282"/>
                  <a:pt x="75" y="253"/>
                  <a:pt x="81" y="245"/>
                </a:cubicBezTo>
                <a:cubicBezTo>
                  <a:pt x="87" y="237"/>
                  <a:pt x="94" y="259"/>
                  <a:pt x="102" y="245"/>
                </a:cubicBezTo>
                <a:cubicBezTo>
                  <a:pt x="116" y="192"/>
                  <a:pt x="108" y="175"/>
                  <a:pt x="128" y="161"/>
                </a:cubicBezTo>
                <a:cubicBezTo>
                  <a:pt x="160" y="163"/>
                  <a:pt x="179" y="158"/>
                  <a:pt x="206" y="195"/>
                </a:cubicBezTo>
                <a:cubicBezTo>
                  <a:pt x="233" y="194"/>
                  <a:pt x="231" y="185"/>
                  <a:pt x="258" y="180"/>
                </a:cubicBezTo>
                <a:cubicBezTo>
                  <a:pt x="272" y="173"/>
                  <a:pt x="296" y="150"/>
                  <a:pt x="302" y="140"/>
                </a:cubicBezTo>
                <a:cubicBezTo>
                  <a:pt x="308" y="130"/>
                  <a:pt x="300" y="124"/>
                  <a:pt x="294" y="117"/>
                </a:cubicBezTo>
                <a:cubicBezTo>
                  <a:pt x="291" y="102"/>
                  <a:pt x="278" y="105"/>
                  <a:pt x="267" y="98"/>
                </a:cubicBezTo>
                <a:cubicBezTo>
                  <a:pt x="256" y="91"/>
                  <a:pt x="234" y="84"/>
                  <a:pt x="228" y="78"/>
                </a:cubicBezTo>
                <a:cubicBezTo>
                  <a:pt x="216" y="69"/>
                  <a:pt x="234" y="67"/>
                  <a:pt x="233" y="63"/>
                </a:cubicBezTo>
                <a:cubicBezTo>
                  <a:pt x="232" y="59"/>
                  <a:pt x="225" y="59"/>
                  <a:pt x="219" y="53"/>
                </a:cubicBezTo>
                <a:cubicBezTo>
                  <a:pt x="213" y="47"/>
                  <a:pt x="200" y="33"/>
                  <a:pt x="198" y="27"/>
                </a:cubicBezTo>
                <a:cubicBezTo>
                  <a:pt x="201" y="9"/>
                  <a:pt x="189" y="21"/>
                  <a:pt x="207" y="15"/>
                </a:cubicBezTo>
                <a:cubicBezTo>
                  <a:pt x="213" y="10"/>
                  <a:pt x="210" y="15"/>
                  <a:pt x="216" y="9"/>
                </a:cubicBezTo>
                <a:cubicBezTo>
                  <a:pt x="225" y="0"/>
                  <a:pt x="214" y="14"/>
                  <a:pt x="230" y="3"/>
                </a:cubicBezTo>
                <a:cubicBezTo>
                  <a:pt x="236" y="30"/>
                  <a:pt x="261" y="7"/>
                  <a:pt x="278" y="30"/>
                </a:cubicBezTo>
                <a:cubicBezTo>
                  <a:pt x="300" y="59"/>
                  <a:pt x="284" y="33"/>
                  <a:pt x="302" y="51"/>
                </a:cubicBezTo>
                <a:cubicBezTo>
                  <a:pt x="318" y="67"/>
                  <a:pt x="307" y="59"/>
                  <a:pt x="324" y="65"/>
                </a:cubicBezTo>
                <a:cubicBezTo>
                  <a:pt x="338" y="76"/>
                  <a:pt x="345" y="88"/>
                  <a:pt x="360" y="98"/>
                </a:cubicBezTo>
                <a:cubicBezTo>
                  <a:pt x="370" y="105"/>
                  <a:pt x="363" y="114"/>
                  <a:pt x="380" y="122"/>
                </a:cubicBezTo>
                <a:cubicBezTo>
                  <a:pt x="397" y="130"/>
                  <a:pt x="442" y="137"/>
                  <a:pt x="461" y="144"/>
                </a:cubicBezTo>
                <a:cubicBezTo>
                  <a:pt x="474" y="152"/>
                  <a:pt x="482" y="156"/>
                  <a:pt x="495" y="165"/>
                </a:cubicBezTo>
                <a:cubicBezTo>
                  <a:pt x="498" y="167"/>
                  <a:pt x="504" y="171"/>
                  <a:pt x="504" y="171"/>
                </a:cubicBezTo>
                <a:cubicBezTo>
                  <a:pt x="508" y="193"/>
                  <a:pt x="525" y="197"/>
                  <a:pt x="536" y="210"/>
                </a:cubicBezTo>
                <a:cubicBezTo>
                  <a:pt x="534" y="217"/>
                  <a:pt x="509" y="236"/>
                  <a:pt x="509" y="243"/>
                </a:cubicBezTo>
                <a:cubicBezTo>
                  <a:pt x="508" y="249"/>
                  <a:pt x="524" y="252"/>
                  <a:pt x="530" y="260"/>
                </a:cubicBezTo>
                <a:cubicBezTo>
                  <a:pt x="536" y="268"/>
                  <a:pt x="534" y="283"/>
                  <a:pt x="546" y="294"/>
                </a:cubicBezTo>
                <a:cubicBezTo>
                  <a:pt x="558" y="305"/>
                  <a:pt x="598" y="311"/>
                  <a:pt x="603" y="324"/>
                </a:cubicBezTo>
                <a:cubicBezTo>
                  <a:pt x="603" y="347"/>
                  <a:pt x="577" y="362"/>
                  <a:pt x="575" y="371"/>
                </a:cubicBezTo>
                <a:cubicBezTo>
                  <a:pt x="573" y="380"/>
                  <a:pt x="585" y="382"/>
                  <a:pt x="593" y="381"/>
                </a:cubicBezTo>
                <a:cubicBezTo>
                  <a:pt x="604" y="380"/>
                  <a:pt x="613" y="368"/>
                  <a:pt x="624" y="366"/>
                </a:cubicBezTo>
                <a:cubicBezTo>
                  <a:pt x="630" y="365"/>
                  <a:pt x="648" y="351"/>
                  <a:pt x="648" y="351"/>
                </a:cubicBezTo>
                <a:cubicBezTo>
                  <a:pt x="680" y="314"/>
                  <a:pt x="674" y="343"/>
                  <a:pt x="707" y="348"/>
                </a:cubicBezTo>
                <a:cubicBezTo>
                  <a:pt x="718" y="351"/>
                  <a:pt x="728" y="362"/>
                  <a:pt x="728" y="372"/>
                </a:cubicBezTo>
                <a:cubicBezTo>
                  <a:pt x="728" y="382"/>
                  <a:pt x="718" y="398"/>
                  <a:pt x="708" y="408"/>
                </a:cubicBezTo>
                <a:cubicBezTo>
                  <a:pt x="694" y="418"/>
                  <a:pt x="678" y="421"/>
                  <a:pt x="666" y="432"/>
                </a:cubicBezTo>
                <a:cubicBezTo>
                  <a:pt x="661" y="437"/>
                  <a:pt x="654" y="453"/>
                  <a:pt x="654" y="453"/>
                </a:cubicBezTo>
                <a:cubicBezTo>
                  <a:pt x="640" y="474"/>
                  <a:pt x="648" y="471"/>
                  <a:pt x="626" y="479"/>
                </a:cubicBezTo>
                <a:cubicBezTo>
                  <a:pt x="623" y="491"/>
                  <a:pt x="614" y="508"/>
                  <a:pt x="617" y="524"/>
                </a:cubicBezTo>
                <a:cubicBezTo>
                  <a:pt x="620" y="540"/>
                  <a:pt x="635" y="557"/>
                  <a:pt x="645" y="573"/>
                </a:cubicBezTo>
                <a:cubicBezTo>
                  <a:pt x="651" y="591"/>
                  <a:pt x="672" y="602"/>
                  <a:pt x="678" y="621"/>
                </a:cubicBezTo>
                <a:cubicBezTo>
                  <a:pt x="684" y="634"/>
                  <a:pt x="675" y="642"/>
                  <a:pt x="686" y="651"/>
                </a:cubicBezTo>
                <a:cubicBezTo>
                  <a:pt x="687" y="660"/>
                  <a:pt x="674" y="673"/>
                  <a:pt x="684" y="677"/>
                </a:cubicBezTo>
                <a:cubicBezTo>
                  <a:pt x="694" y="681"/>
                  <a:pt x="730" y="673"/>
                  <a:pt x="746" y="675"/>
                </a:cubicBezTo>
                <a:cubicBezTo>
                  <a:pt x="772" y="684"/>
                  <a:pt x="749" y="683"/>
                  <a:pt x="779" y="687"/>
                </a:cubicBezTo>
                <a:cubicBezTo>
                  <a:pt x="822" y="686"/>
                  <a:pt x="821" y="681"/>
                  <a:pt x="813" y="728"/>
                </a:cubicBezTo>
                <a:cubicBezTo>
                  <a:pt x="817" y="744"/>
                  <a:pt x="814" y="787"/>
                  <a:pt x="810" y="803"/>
                </a:cubicBezTo>
                <a:cubicBezTo>
                  <a:pt x="806" y="819"/>
                  <a:pt x="794" y="816"/>
                  <a:pt x="789" y="822"/>
                </a:cubicBezTo>
                <a:cubicBezTo>
                  <a:pt x="786" y="839"/>
                  <a:pt x="779" y="831"/>
                  <a:pt x="777" y="837"/>
                </a:cubicBezTo>
                <a:cubicBezTo>
                  <a:pt x="775" y="843"/>
                  <a:pt x="781" y="851"/>
                  <a:pt x="777" y="857"/>
                </a:cubicBezTo>
                <a:cubicBezTo>
                  <a:pt x="773" y="863"/>
                  <a:pt x="764" y="863"/>
                  <a:pt x="755" y="872"/>
                </a:cubicBezTo>
                <a:cubicBezTo>
                  <a:pt x="749" y="884"/>
                  <a:pt x="725" y="899"/>
                  <a:pt x="722" y="912"/>
                </a:cubicBezTo>
                <a:cubicBezTo>
                  <a:pt x="720" y="920"/>
                  <a:pt x="710" y="935"/>
                  <a:pt x="710" y="935"/>
                </a:cubicBezTo>
                <a:cubicBezTo>
                  <a:pt x="706" y="947"/>
                  <a:pt x="715" y="959"/>
                  <a:pt x="711" y="971"/>
                </a:cubicBezTo>
                <a:cubicBezTo>
                  <a:pt x="707" y="983"/>
                  <a:pt x="688" y="1000"/>
                  <a:pt x="683" y="1011"/>
                </a:cubicBezTo>
                <a:cubicBezTo>
                  <a:pt x="678" y="1022"/>
                  <a:pt x="683" y="1032"/>
                  <a:pt x="678" y="1038"/>
                </a:cubicBezTo>
                <a:cubicBezTo>
                  <a:pt x="673" y="1044"/>
                  <a:pt x="662" y="1044"/>
                  <a:pt x="656" y="1047"/>
                </a:cubicBezTo>
                <a:cubicBezTo>
                  <a:pt x="651" y="1049"/>
                  <a:pt x="648" y="1054"/>
                  <a:pt x="644" y="1056"/>
                </a:cubicBezTo>
                <a:cubicBezTo>
                  <a:pt x="640" y="1058"/>
                  <a:pt x="640" y="1058"/>
                  <a:pt x="635" y="1061"/>
                </a:cubicBezTo>
                <a:cubicBezTo>
                  <a:pt x="631" y="1067"/>
                  <a:pt x="615" y="1074"/>
                  <a:pt x="615" y="1074"/>
                </a:cubicBezTo>
                <a:cubicBezTo>
                  <a:pt x="600" y="1044"/>
                  <a:pt x="578" y="1049"/>
                  <a:pt x="552" y="1035"/>
                </a:cubicBezTo>
                <a:cubicBezTo>
                  <a:pt x="538" y="1026"/>
                  <a:pt x="541" y="1036"/>
                  <a:pt x="528" y="1031"/>
                </a:cubicBezTo>
                <a:cubicBezTo>
                  <a:pt x="515" y="1026"/>
                  <a:pt x="493" y="1007"/>
                  <a:pt x="474" y="1005"/>
                </a:cubicBezTo>
                <a:cubicBezTo>
                  <a:pt x="422" y="1008"/>
                  <a:pt x="442" y="1000"/>
                  <a:pt x="411" y="1020"/>
                </a:cubicBezTo>
                <a:cubicBezTo>
                  <a:pt x="371" y="1047"/>
                  <a:pt x="430" y="1008"/>
                  <a:pt x="393" y="1029"/>
                </a:cubicBezTo>
                <a:cubicBezTo>
                  <a:pt x="387" y="1033"/>
                  <a:pt x="375" y="1041"/>
                  <a:pt x="375" y="1041"/>
                </a:cubicBezTo>
                <a:cubicBezTo>
                  <a:pt x="372" y="1040"/>
                  <a:pt x="367" y="1041"/>
                  <a:pt x="366" y="1038"/>
                </a:cubicBezTo>
                <a:cubicBezTo>
                  <a:pt x="361" y="1029"/>
                  <a:pt x="374" y="1013"/>
                  <a:pt x="374" y="1013"/>
                </a:cubicBezTo>
                <a:cubicBezTo>
                  <a:pt x="375" y="1005"/>
                  <a:pt x="386" y="982"/>
                  <a:pt x="384" y="975"/>
                </a:cubicBezTo>
                <a:cubicBezTo>
                  <a:pt x="382" y="968"/>
                  <a:pt x="369" y="970"/>
                  <a:pt x="363" y="971"/>
                </a:cubicBezTo>
                <a:cubicBezTo>
                  <a:pt x="357" y="972"/>
                  <a:pt x="358" y="976"/>
                  <a:pt x="347" y="980"/>
                </a:cubicBezTo>
                <a:cubicBezTo>
                  <a:pt x="326" y="987"/>
                  <a:pt x="316" y="995"/>
                  <a:pt x="294" y="998"/>
                </a:cubicBezTo>
                <a:cubicBezTo>
                  <a:pt x="281" y="1001"/>
                  <a:pt x="260" y="1009"/>
                  <a:pt x="252" y="1002"/>
                </a:cubicBezTo>
                <a:cubicBezTo>
                  <a:pt x="244" y="995"/>
                  <a:pt x="249" y="969"/>
                  <a:pt x="248" y="957"/>
                </a:cubicBezTo>
                <a:cubicBezTo>
                  <a:pt x="247" y="951"/>
                  <a:pt x="248" y="936"/>
                  <a:pt x="246" y="930"/>
                </a:cubicBezTo>
                <a:cubicBezTo>
                  <a:pt x="243" y="926"/>
                  <a:pt x="234" y="930"/>
                  <a:pt x="230" y="929"/>
                </a:cubicBezTo>
                <a:cubicBezTo>
                  <a:pt x="226" y="928"/>
                  <a:pt x="225" y="931"/>
                  <a:pt x="222" y="924"/>
                </a:cubicBezTo>
                <a:cubicBezTo>
                  <a:pt x="216" y="913"/>
                  <a:pt x="214" y="897"/>
                  <a:pt x="210" y="885"/>
                </a:cubicBezTo>
                <a:cubicBezTo>
                  <a:pt x="207" y="877"/>
                  <a:pt x="205" y="874"/>
                  <a:pt x="203" y="866"/>
                </a:cubicBezTo>
                <a:cubicBezTo>
                  <a:pt x="202" y="862"/>
                  <a:pt x="194" y="848"/>
                  <a:pt x="194" y="848"/>
                </a:cubicBezTo>
                <a:cubicBezTo>
                  <a:pt x="195" y="834"/>
                  <a:pt x="199" y="820"/>
                  <a:pt x="204" y="807"/>
                </a:cubicBezTo>
                <a:cubicBezTo>
                  <a:pt x="206" y="802"/>
                  <a:pt x="219" y="794"/>
                  <a:pt x="224" y="789"/>
                </a:cubicBezTo>
                <a:cubicBezTo>
                  <a:pt x="229" y="784"/>
                  <a:pt x="239" y="785"/>
                  <a:pt x="243" y="780"/>
                </a:cubicBezTo>
                <a:cubicBezTo>
                  <a:pt x="247" y="775"/>
                  <a:pt x="252" y="770"/>
                  <a:pt x="249" y="761"/>
                </a:cubicBezTo>
                <a:cubicBezTo>
                  <a:pt x="247" y="752"/>
                  <a:pt x="236" y="730"/>
                  <a:pt x="225" y="725"/>
                </a:cubicBezTo>
                <a:cubicBezTo>
                  <a:pt x="214" y="720"/>
                  <a:pt x="190" y="731"/>
                  <a:pt x="180" y="731"/>
                </a:cubicBezTo>
                <a:cubicBezTo>
                  <a:pt x="170" y="731"/>
                  <a:pt x="176" y="732"/>
                  <a:pt x="167" y="726"/>
                </a:cubicBezTo>
                <a:cubicBezTo>
                  <a:pt x="148" y="722"/>
                  <a:pt x="144" y="707"/>
                  <a:pt x="128" y="696"/>
                </a:cubicBezTo>
                <a:cubicBezTo>
                  <a:pt x="122" y="687"/>
                  <a:pt x="72" y="665"/>
                  <a:pt x="96" y="68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6" name="Freeform 13"/>
          <p:cNvSpPr/>
          <p:nvPr/>
        </p:nvSpPr>
        <p:spPr>
          <a:xfrm>
            <a:off x="7034040" y="2284560"/>
            <a:ext cx="1532160" cy="1303200"/>
          </a:xfrm>
          <a:custGeom>
            <a:avLst/>
            <a:gdLst/>
            <a:ahLst/>
            <a:rect l="l" t="t" r="r" b="b"/>
            <a:pathLst>
              <a:path w="965" h="821">
                <a:moveTo>
                  <a:pt x="21" y="113"/>
                </a:moveTo>
                <a:cubicBezTo>
                  <a:pt x="25" y="102"/>
                  <a:pt x="30" y="93"/>
                  <a:pt x="37" y="83"/>
                </a:cubicBezTo>
                <a:cubicBezTo>
                  <a:pt x="41" y="65"/>
                  <a:pt x="41" y="57"/>
                  <a:pt x="57" y="47"/>
                </a:cubicBezTo>
                <a:cubicBezTo>
                  <a:pt x="66" y="44"/>
                  <a:pt x="91" y="49"/>
                  <a:pt x="100" y="55"/>
                </a:cubicBezTo>
                <a:cubicBezTo>
                  <a:pt x="110" y="61"/>
                  <a:pt x="112" y="72"/>
                  <a:pt x="118" y="82"/>
                </a:cubicBezTo>
                <a:cubicBezTo>
                  <a:pt x="125" y="92"/>
                  <a:pt x="124" y="107"/>
                  <a:pt x="135" y="115"/>
                </a:cubicBezTo>
                <a:cubicBezTo>
                  <a:pt x="171" y="130"/>
                  <a:pt x="170" y="128"/>
                  <a:pt x="213" y="134"/>
                </a:cubicBezTo>
                <a:cubicBezTo>
                  <a:pt x="225" y="132"/>
                  <a:pt x="243" y="125"/>
                  <a:pt x="243" y="125"/>
                </a:cubicBezTo>
                <a:cubicBezTo>
                  <a:pt x="250" y="115"/>
                  <a:pt x="262" y="113"/>
                  <a:pt x="271" y="104"/>
                </a:cubicBezTo>
                <a:cubicBezTo>
                  <a:pt x="278" y="101"/>
                  <a:pt x="280" y="95"/>
                  <a:pt x="285" y="95"/>
                </a:cubicBezTo>
                <a:cubicBezTo>
                  <a:pt x="290" y="96"/>
                  <a:pt x="295" y="106"/>
                  <a:pt x="303" y="113"/>
                </a:cubicBezTo>
                <a:cubicBezTo>
                  <a:pt x="313" y="117"/>
                  <a:pt x="318" y="133"/>
                  <a:pt x="331" y="137"/>
                </a:cubicBezTo>
                <a:cubicBezTo>
                  <a:pt x="357" y="131"/>
                  <a:pt x="331" y="134"/>
                  <a:pt x="349" y="116"/>
                </a:cubicBezTo>
                <a:cubicBezTo>
                  <a:pt x="356" y="110"/>
                  <a:pt x="363" y="102"/>
                  <a:pt x="372" y="97"/>
                </a:cubicBezTo>
                <a:cubicBezTo>
                  <a:pt x="381" y="92"/>
                  <a:pt x="396" y="95"/>
                  <a:pt x="403" y="89"/>
                </a:cubicBezTo>
                <a:cubicBezTo>
                  <a:pt x="411" y="84"/>
                  <a:pt x="410" y="70"/>
                  <a:pt x="415" y="61"/>
                </a:cubicBezTo>
                <a:cubicBezTo>
                  <a:pt x="420" y="52"/>
                  <a:pt x="428" y="40"/>
                  <a:pt x="436" y="32"/>
                </a:cubicBezTo>
                <a:cubicBezTo>
                  <a:pt x="436" y="32"/>
                  <a:pt x="460" y="13"/>
                  <a:pt x="465" y="10"/>
                </a:cubicBezTo>
                <a:cubicBezTo>
                  <a:pt x="478" y="2"/>
                  <a:pt x="490" y="6"/>
                  <a:pt x="505" y="5"/>
                </a:cubicBezTo>
                <a:cubicBezTo>
                  <a:pt x="519" y="0"/>
                  <a:pt x="522" y="14"/>
                  <a:pt x="526" y="26"/>
                </a:cubicBezTo>
                <a:cubicBezTo>
                  <a:pt x="522" y="65"/>
                  <a:pt x="501" y="79"/>
                  <a:pt x="550" y="86"/>
                </a:cubicBezTo>
                <a:cubicBezTo>
                  <a:pt x="565" y="100"/>
                  <a:pt x="597" y="96"/>
                  <a:pt x="616" y="107"/>
                </a:cubicBezTo>
                <a:cubicBezTo>
                  <a:pt x="635" y="118"/>
                  <a:pt x="657" y="140"/>
                  <a:pt x="667" y="152"/>
                </a:cubicBezTo>
                <a:cubicBezTo>
                  <a:pt x="671" y="164"/>
                  <a:pt x="673" y="170"/>
                  <a:pt x="679" y="181"/>
                </a:cubicBezTo>
                <a:cubicBezTo>
                  <a:pt x="690" y="201"/>
                  <a:pt x="698" y="216"/>
                  <a:pt x="708" y="236"/>
                </a:cubicBezTo>
                <a:cubicBezTo>
                  <a:pt x="711" y="242"/>
                  <a:pt x="705" y="248"/>
                  <a:pt x="709" y="254"/>
                </a:cubicBezTo>
                <a:cubicBezTo>
                  <a:pt x="714" y="261"/>
                  <a:pt x="718" y="275"/>
                  <a:pt x="718" y="275"/>
                </a:cubicBezTo>
                <a:cubicBezTo>
                  <a:pt x="721" y="282"/>
                  <a:pt x="725" y="300"/>
                  <a:pt x="733" y="311"/>
                </a:cubicBezTo>
                <a:cubicBezTo>
                  <a:pt x="741" y="322"/>
                  <a:pt x="759" y="334"/>
                  <a:pt x="765" y="344"/>
                </a:cubicBezTo>
                <a:cubicBezTo>
                  <a:pt x="771" y="354"/>
                  <a:pt x="764" y="354"/>
                  <a:pt x="769" y="370"/>
                </a:cubicBezTo>
                <a:cubicBezTo>
                  <a:pt x="774" y="386"/>
                  <a:pt x="791" y="425"/>
                  <a:pt x="796" y="440"/>
                </a:cubicBezTo>
                <a:cubicBezTo>
                  <a:pt x="807" y="469"/>
                  <a:pt x="794" y="450"/>
                  <a:pt x="802" y="461"/>
                </a:cubicBezTo>
                <a:cubicBezTo>
                  <a:pt x="810" y="472"/>
                  <a:pt x="825" y="495"/>
                  <a:pt x="843" y="509"/>
                </a:cubicBezTo>
                <a:cubicBezTo>
                  <a:pt x="865" y="531"/>
                  <a:pt x="885" y="535"/>
                  <a:pt x="910" y="548"/>
                </a:cubicBezTo>
                <a:cubicBezTo>
                  <a:pt x="920" y="553"/>
                  <a:pt x="927" y="563"/>
                  <a:pt x="937" y="569"/>
                </a:cubicBezTo>
                <a:cubicBezTo>
                  <a:pt x="945" y="581"/>
                  <a:pt x="952" y="583"/>
                  <a:pt x="961" y="596"/>
                </a:cubicBezTo>
                <a:cubicBezTo>
                  <a:pt x="965" y="602"/>
                  <a:pt x="951" y="610"/>
                  <a:pt x="951" y="610"/>
                </a:cubicBezTo>
                <a:cubicBezTo>
                  <a:pt x="935" y="615"/>
                  <a:pt x="909" y="617"/>
                  <a:pt x="901" y="617"/>
                </a:cubicBezTo>
                <a:cubicBezTo>
                  <a:pt x="889" y="625"/>
                  <a:pt x="876" y="636"/>
                  <a:pt x="862" y="641"/>
                </a:cubicBezTo>
                <a:cubicBezTo>
                  <a:pt x="856" y="664"/>
                  <a:pt x="864" y="678"/>
                  <a:pt x="871" y="698"/>
                </a:cubicBezTo>
                <a:cubicBezTo>
                  <a:pt x="870" y="709"/>
                  <a:pt x="869" y="752"/>
                  <a:pt x="858" y="763"/>
                </a:cubicBezTo>
                <a:cubicBezTo>
                  <a:pt x="844" y="777"/>
                  <a:pt x="851" y="765"/>
                  <a:pt x="829" y="779"/>
                </a:cubicBezTo>
                <a:cubicBezTo>
                  <a:pt x="826" y="781"/>
                  <a:pt x="820" y="785"/>
                  <a:pt x="820" y="785"/>
                </a:cubicBezTo>
                <a:cubicBezTo>
                  <a:pt x="817" y="790"/>
                  <a:pt x="816" y="804"/>
                  <a:pt x="811" y="811"/>
                </a:cubicBezTo>
                <a:cubicBezTo>
                  <a:pt x="809" y="814"/>
                  <a:pt x="796" y="821"/>
                  <a:pt x="796" y="821"/>
                </a:cubicBezTo>
                <a:cubicBezTo>
                  <a:pt x="770" y="818"/>
                  <a:pt x="767" y="813"/>
                  <a:pt x="748" y="809"/>
                </a:cubicBezTo>
                <a:cubicBezTo>
                  <a:pt x="736" y="806"/>
                  <a:pt x="723" y="816"/>
                  <a:pt x="714" y="815"/>
                </a:cubicBezTo>
                <a:cubicBezTo>
                  <a:pt x="705" y="814"/>
                  <a:pt x="704" y="809"/>
                  <a:pt x="694" y="803"/>
                </a:cubicBezTo>
                <a:cubicBezTo>
                  <a:pt x="681" y="790"/>
                  <a:pt x="671" y="785"/>
                  <a:pt x="654" y="779"/>
                </a:cubicBezTo>
                <a:cubicBezTo>
                  <a:pt x="626" y="782"/>
                  <a:pt x="628" y="787"/>
                  <a:pt x="607" y="794"/>
                </a:cubicBezTo>
                <a:cubicBezTo>
                  <a:pt x="564" y="791"/>
                  <a:pt x="574" y="791"/>
                  <a:pt x="547" y="782"/>
                </a:cubicBezTo>
                <a:cubicBezTo>
                  <a:pt x="518" y="785"/>
                  <a:pt x="509" y="788"/>
                  <a:pt x="481" y="785"/>
                </a:cubicBezTo>
                <a:cubicBezTo>
                  <a:pt x="468" y="776"/>
                  <a:pt x="480" y="781"/>
                  <a:pt x="486" y="761"/>
                </a:cubicBezTo>
                <a:cubicBezTo>
                  <a:pt x="488" y="755"/>
                  <a:pt x="481" y="743"/>
                  <a:pt x="481" y="743"/>
                </a:cubicBezTo>
                <a:cubicBezTo>
                  <a:pt x="480" y="730"/>
                  <a:pt x="479" y="723"/>
                  <a:pt x="471" y="713"/>
                </a:cubicBezTo>
                <a:cubicBezTo>
                  <a:pt x="462" y="702"/>
                  <a:pt x="454" y="692"/>
                  <a:pt x="444" y="680"/>
                </a:cubicBezTo>
                <a:cubicBezTo>
                  <a:pt x="435" y="669"/>
                  <a:pt x="426" y="653"/>
                  <a:pt x="418" y="641"/>
                </a:cubicBezTo>
                <a:cubicBezTo>
                  <a:pt x="415" y="631"/>
                  <a:pt x="418" y="631"/>
                  <a:pt x="418" y="631"/>
                </a:cubicBezTo>
                <a:cubicBezTo>
                  <a:pt x="421" y="615"/>
                  <a:pt x="423" y="611"/>
                  <a:pt x="426" y="595"/>
                </a:cubicBezTo>
                <a:cubicBezTo>
                  <a:pt x="440" y="574"/>
                  <a:pt x="438" y="576"/>
                  <a:pt x="453" y="566"/>
                </a:cubicBezTo>
                <a:cubicBezTo>
                  <a:pt x="459" y="539"/>
                  <a:pt x="475" y="538"/>
                  <a:pt x="489" y="524"/>
                </a:cubicBezTo>
                <a:cubicBezTo>
                  <a:pt x="510" y="520"/>
                  <a:pt x="514" y="506"/>
                  <a:pt x="514" y="506"/>
                </a:cubicBezTo>
                <a:cubicBezTo>
                  <a:pt x="527" y="489"/>
                  <a:pt x="532" y="485"/>
                  <a:pt x="523" y="461"/>
                </a:cubicBezTo>
                <a:cubicBezTo>
                  <a:pt x="519" y="451"/>
                  <a:pt x="489" y="454"/>
                  <a:pt x="483" y="440"/>
                </a:cubicBezTo>
                <a:cubicBezTo>
                  <a:pt x="465" y="436"/>
                  <a:pt x="447" y="455"/>
                  <a:pt x="447" y="455"/>
                </a:cubicBezTo>
                <a:cubicBezTo>
                  <a:pt x="432" y="470"/>
                  <a:pt x="418" y="478"/>
                  <a:pt x="397" y="485"/>
                </a:cubicBezTo>
                <a:cubicBezTo>
                  <a:pt x="369" y="481"/>
                  <a:pt x="364" y="474"/>
                  <a:pt x="388" y="458"/>
                </a:cubicBezTo>
                <a:cubicBezTo>
                  <a:pt x="394" y="449"/>
                  <a:pt x="397" y="440"/>
                  <a:pt x="403" y="431"/>
                </a:cubicBezTo>
                <a:cubicBezTo>
                  <a:pt x="382" y="415"/>
                  <a:pt x="355" y="405"/>
                  <a:pt x="333" y="391"/>
                </a:cubicBezTo>
                <a:cubicBezTo>
                  <a:pt x="321" y="382"/>
                  <a:pt x="337" y="381"/>
                  <a:pt x="334" y="373"/>
                </a:cubicBezTo>
                <a:cubicBezTo>
                  <a:pt x="331" y="365"/>
                  <a:pt x="313" y="355"/>
                  <a:pt x="312" y="344"/>
                </a:cubicBezTo>
                <a:cubicBezTo>
                  <a:pt x="318" y="334"/>
                  <a:pt x="343" y="326"/>
                  <a:pt x="328" y="308"/>
                </a:cubicBezTo>
                <a:cubicBezTo>
                  <a:pt x="325" y="292"/>
                  <a:pt x="327" y="309"/>
                  <a:pt x="313" y="295"/>
                </a:cubicBezTo>
                <a:cubicBezTo>
                  <a:pt x="304" y="286"/>
                  <a:pt x="304" y="278"/>
                  <a:pt x="295" y="269"/>
                </a:cubicBezTo>
                <a:cubicBezTo>
                  <a:pt x="276" y="250"/>
                  <a:pt x="210" y="239"/>
                  <a:pt x="184" y="233"/>
                </a:cubicBezTo>
                <a:cubicBezTo>
                  <a:pt x="161" y="223"/>
                  <a:pt x="175" y="219"/>
                  <a:pt x="165" y="209"/>
                </a:cubicBezTo>
                <a:cubicBezTo>
                  <a:pt x="155" y="199"/>
                  <a:pt x="139" y="188"/>
                  <a:pt x="124" y="175"/>
                </a:cubicBezTo>
                <a:cubicBezTo>
                  <a:pt x="105" y="160"/>
                  <a:pt x="85" y="143"/>
                  <a:pt x="72" y="134"/>
                </a:cubicBezTo>
                <a:cubicBezTo>
                  <a:pt x="59" y="125"/>
                  <a:pt x="52" y="126"/>
                  <a:pt x="43" y="122"/>
                </a:cubicBezTo>
                <a:cubicBezTo>
                  <a:pt x="34" y="118"/>
                  <a:pt x="23" y="109"/>
                  <a:pt x="19" y="107"/>
                </a:cubicBezTo>
                <a:cubicBezTo>
                  <a:pt x="0" y="113"/>
                  <a:pt x="17" y="111"/>
                  <a:pt x="16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7" name="Freeform 14"/>
          <p:cNvSpPr/>
          <p:nvPr/>
        </p:nvSpPr>
        <p:spPr>
          <a:xfrm>
            <a:off x="568440" y="2222640"/>
            <a:ext cx="7797600" cy="3063600"/>
          </a:xfrm>
          <a:custGeom>
            <a:avLst/>
            <a:gdLst/>
            <a:ahLst/>
            <a:rect l="l" t="t" r="r" b="b"/>
            <a:pathLst>
              <a:path w="4912" h="1930">
                <a:moveTo>
                  <a:pt x="0" y="168"/>
                </a:moveTo>
                <a:cubicBezTo>
                  <a:pt x="18" y="141"/>
                  <a:pt x="22" y="115"/>
                  <a:pt x="40" y="88"/>
                </a:cubicBezTo>
                <a:cubicBezTo>
                  <a:pt x="43" y="51"/>
                  <a:pt x="62" y="44"/>
                  <a:pt x="72" y="8"/>
                </a:cubicBezTo>
                <a:cubicBezTo>
                  <a:pt x="74" y="0"/>
                  <a:pt x="118" y="26"/>
                  <a:pt x="126" y="29"/>
                </a:cubicBezTo>
                <a:cubicBezTo>
                  <a:pt x="135" y="33"/>
                  <a:pt x="103" y="20"/>
                  <a:pt x="111" y="26"/>
                </a:cubicBezTo>
                <a:cubicBezTo>
                  <a:pt x="118" y="31"/>
                  <a:pt x="131" y="28"/>
                  <a:pt x="138" y="32"/>
                </a:cubicBezTo>
                <a:cubicBezTo>
                  <a:pt x="155" y="41"/>
                  <a:pt x="143" y="23"/>
                  <a:pt x="160" y="32"/>
                </a:cubicBezTo>
                <a:cubicBezTo>
                  <a:pt x="212" y="58"/>
                  <a:pt x="243" y="62"/>
                  <a:pt x="282" y="89"/>
                </a:cubicBezTo>
                <a:cubicBezTo>
                  <a:pt x="315" y="100"/>
                  <a:pt x="315" y="81"/>
                  <a:pt x="360" y="74"/>
                </a:cubicBezTo>
                <a:cubicBezTo>
                  <a:pt x="383" y="76"/>
                  <a:pt x="391" y="105"/>
                  <a:pt x="423" y="101"/>
                </a:cubicBezTo>
                <a:cubicBezTo>
                  <a:pt x="455" y="97"/>
                  <a:pt x="509" y="55"/>
                  <a:pt x="552" y="48"/>
                </a:cubicBezTo>
                <a:cubicBezTo>
                  <a:pt x="595" y="51"/>
                  <a:pt x="638" y="49"/>
                  <a:pt x="680" y="56"/>
                </a:cubicBezTo>
                <a:cubicBezTo>
                  <a:pt x="716" y="62"/>
                  <a:pt x="715" y="133"/>
                  <a:pt x="747" y="149"/>
                </a:cubicBezTo>
                <a:cubicBezTo>
                  <a:pt x="767" y="159"/>
                  <a:pt x="822" y="222"/>
                  <a:pt x="843" y="227"/>
                </a:cubicBezTo>
                <a:cubicBezTo>
                  <a:pt x="900" y="313"/>
                  <a:pt x="953" y="311"/>
                  <a:pt x="992" y="408"/>
                </a:cubicBezTo>
                <a:cubicBezTo>
                  <a:pt x="1016" y="467"/>
                  <a:pt x="1044" y="500"/>
                  <a:pt x="1092" y="557"/>
                </a:cubicBezTo>
                <a:cubicBezTo>
                  <a:pt x="1113" y="596"/>
                  <a:pt x="1136" y="593"/>
                  <a:pt x="1149" y="632"/>
                </a:cubicBezTo>
                <a:cubicBezTo>
                  <a:pt x="1163" y="670"/>
                  <a:pt x="1171" y="748"/>
                  <a:pt x="1176" y="788"/>
                </a:cubicBezTo>
                <a:cubicBezTo>
                  <a:pt x="1184" y="827"/>
                  <a:pt x="1179" y="776"/>
                  <a:pt x="1182" y="875"/>
                </a:cubicBezTo>
                <a:cubicBezTo>
                  <a:pt x="1190" y="911"/>
                  <a:pt x="1213" y="968"/>
                  <a:pt x="1224" y="1004"/>
                </a:cubicBezTo>
                <a:cubicBezTo>
                  <a:pt x="1235" y="1040"/>
                  <a:pt x="1248" y="1059"/>
                  <a:pt x="1248" y="1091"/>
                </a:cubicBezTo>
                <a:cubicBezTo>
                  <a:pt x="1248" y="1123"/>
                  <a:pt x="1227" y="1147"/>
                  <a:pt x="1221" y="1196"/>
                </a:cubicBezTo>
                <a:cubicBezTo>
                  <a:pt x="1215" y="1245"/>
                  <a:pt x="1210" y="1338"/>
                  <a:pt x="1212" y="1385"/>
                </a:cubicBezTo>
                <a:cubicBezTo>
                  <a:pt x="1213" y="1408"/>
                  <a:pt x="1219" y="1458"/>
                  <a:pt x="1230" y="1478"/>
                </a:cubicBezTo>
                <a:cubicBezTo>
                  <a:pt x="1240" y="1511"/>
                  <a:pt x="1239" y="1579"/>
                  <a:pt x="1257" y="1610"/>
                </a:cubicBezTo>
                <a:cubicBezTo>
                  <a:pt x="1273" y="1646"/>
                  <a:pt x="1305" y="1698"/>
                  <a:pt x="1323" y="1694"/>
                </a:cubicBezTo>
                <a:cubicBezTo>
                  <a:pt x="1346" y="1664"/>
                  <a:pt x="1334" y="1604"/>
                  <a:pt x="1365" y="1583"/>
                </a:cubicBezTo>
                <a:cubicBezTo>
                  <a:pt x="1374" y="1572"/>
                  <a:pt x="1398" y="1577"/>
                  <a:pt x="1404" y="1613"/>
                </a:cubicBezTo>
                <a:cubicBezTo>
                  <a:pt x="1410" y="1633"/>
                  <a:pt x="1401" y="1678"/>
                  <a:pt x="1398" y="1703"/>
                </a:cubicBezTo>
                <a:cubicBezTo>
                  <a:pt x="1395" y="1728"/>
                  <a:pt x="1380" y="1742"/>
                  <a:pt x="1383" y="1766"/>
                </a:cubicBezTo>
                <a:cubicBezTo>
                  <a:pt x="1386" y="1790"/>
                  <a:pt x="1401" y="1833"/>
                  <a:pt x="1413" y="1847"/>
                </a:cubicBezTo>
                <a:cubicBezTo>
                  <a:pt x="1425" y="1867"/>
                  <a:pt x="1403" y="1852"/>
                  <a:pt x="1455" y="1853"/>
                </a:cubicBezTo>
                <a:cubicBezTo>
                  <a:pt x="1479" y="1850"/>
                  <a:pt x="1534" y="1834"/>
                  <a:pt x="1560" y="1829"/>
                </a:cubicBezTo>
                <a:cubicBezTo>
                  <a:pt x="1586" y="1824"/>
                  <a:pt x="1598" y="1815"/>
                  <a:pt x="1614" y="1820"/>
                </a:cubicBezTo>
                <a:cubicBezTo>
                  <a:pt x="1630" y="1825"/>
                  <a:pt x="1652" y="1845"/>
                  <a:pt x="1656" y="1862"/>
                </a:cubicBezTo>
                <a:cubicBezTo>
                  <a:pt x="1660" y="1879"/>
                  <a:pt x="1629" y="1921"/>
                  <a:pt x="1641" y="1925"/>
                </a:cubicBezTo>
                <a:cubicBezTo>
                  <a:pt x="1652" y="1930"/>
                  <a:pt x="1700" y="1893"/>
                  <a:pt x="1728" y="1889"/>
                </a:cubicBezTo>
                <a:cubicBezTo>
                  <a:pt x="1756" y="1885"/>
                  <a:pt x="1794" y="1904"/>
                  <a:pt x="1809" y="1901"/>
                </a:cubicBezTo>
                <a:cubicBezTo>
                  <a:pt x="1838" y="1891"/>
                  <a:pt x="1815" y="1891"/>
                  <a:pt x="1821" y="1871"/>
                </a:cubicBezTo>
                <a:cubicBezTo>
                  <a:pt x="1827" y="1851"/>
                  <a:pt x="1841" y="1806"/>
                  <a:pt x="1845" y="1781"/>
                </a:cubicBezTo>
                <a:cubicBezTo>
                  <a:pt x="1856" y="1757"/>
                  <a:pt x="1836" y="1745"/>
                  <a:pt x="1845" y="1721"/>
                </a:cubicBezTo>
                <a:cubicBezTo>
                  <a:pt x="1854" y="1697"/>
                  <a:pt x="1877" y="1670"/>
                  <a:pt x="1899" y="1637"/>
                </a:cubicBezTo>
                <a:cubicBezTo>
                  <a:pt x="1965" y="1588"/>
                  <a:pt x="1944" y="1600"/>
                  <a:pt x="1977" y="1523"/>
                </a:cubicBezTo>
                <a:cubicBezTo>
                  <a:pt x="2001" y="1490"/>
                  <a:pt x="2004" y="1462"/>
                  <a:pt x="2040" y="1430"/>
                </a:cubicBezTo>
                <a:cubicBezTo>
                  <a:pt x="2082" y="1410"/>
                  <a:pt x="2177" y="1412"/>
                  <a:pt x="2229" y="1403"/>
                </a:cubicBezTo>
                <a:cubicBezTo>
                  <a:pt x="2279" y="1391"/>
                  <a:pt x="2314" y="1390"/>
                  <a:pt x="2352" y="1376"/>
                </a:cubicBezTo>
                <a:cubicBezTo>
                  <a:pt x="2391" y="1359"/>
                  <a:pt x="2434" y="1323"/>
                  <a:pt x="2463" y="1301"/>
                </a:cubicBezTo>
                <a:cubicBezTo>
                  <a:pt x="2489" y="1294"/>
                  <a:pt x="2505" y="1256"/>
                  <a:pt x="2529" y="1244"/>
                </a:cubicBezTo>
                <a:cubicBezTo>
                  <a:pt x="2538" y="1240"/>
                  <a:pt x="2552" y="1233"/>
                  <a:pt x="2559" y="1226"/>
                </a:cubicBezTo>
                <a:cubicBezTo>
                  <a:pt x="2575" y="1210"/>
                  <a:pt x="2614" y="1233"/>
                  <a:pt x="2634" y="1226"/>
                </a:cubicBezTo>
                <a:cubicBezTo>
                  <a:pt x="2674" y="1231"/>
                  <a:pt x="2654" y="1184"/>
                  <a:pt x="2694" y="1190"/>
                </a:cubicBezTo>
                <a:cubicBezTo>
                  <a:pt x="2726" y="1195"/>
                  <a:pt x="2763" y="1115"/>
                  <a:pt x="2763" y="1115"/>
                </a:cubicBezTo>
                <a:cubicBezTo>
                  <a:pt x="2784" y="1090"/>
                  <a:pt x="2782" y="1050"/>
                  <a:pt x="2808" y="1028"/>
                </a:cubicBezTo>
                <a:cubicBezTo>
                  <a:pt x="2834" y="1006"/>
                  <a:pt x="2875" y="994"/>
                  <a:pt x="2919" y="986"/>
                </a:cubicBezTo>
                <a:cubicBezTo>
                  <a:pt x="2924" y="975"/>
                  <a:pt x="3060" y="983"/>
                  <a:pt x="3072" y="980"/>
                </a:cubicBezTo>
                <a:cubicBezTo>
                  <a:pt x="3096" y="975"/>
                  <a:pt x="3156" y="994"/>
                  <a:pt x="3195" y="989"/>
                </a:cubicBezTo>
                <a:cubicBezTo>
                  <a:pt x="3229" y="988"/>
                  <a:pt x="3246" y="996"/>
                  <a:pt x="3264" y="1016"/>
                </a:cubicBezTo>
                <a:cubicBezTo>
                  <a:pt x="3286" y="1036"/>
                  <a:pt x="3318" y="1076"/>
                  <a:pt x="3327" y="1106"/>
                </a:cubicBezTo>
                <a:cubicBezTo>
                  <a:pt x="3363" y="1103"/>
                  <a:pt x="3359" y="1114"/>
                  <a:pt x="3396" y="1100"/>
                </a:cubicBezTo>
                <a:cubicBezTo>
                  <a:pt x="3428" y="1116"/>
                  <a:pt x="3414" y="1088"/>
                  <a:pt x="3435" y="1109"/>
                </a:cubicBezTo>
                <a:cubicBezTo>
                  <a:pt x="3495" y="1133"/>
                  <a:pt x="3460" y="1107"/>
                  <a:pt x="3480" y="1130"/>
                </a:cubicBezTo>
                <a:cubicBezTo>
                  <a:pt x="3498" y="1150"/>
                  <a:pt x="3487" y="1220"/>
                  <a:pt x="3507" y="1238"/>
                </a:cubicBezTo>
                <a:cubicBezTo>
                  <a:pt x="3517" y="1247"/>
                  <a:pt x="3561" y="1247"/>
                  <a:pt x="3573" y="1253"/>
                </a:cubicBezTo>
                <a:cubicBezTo>
                  <a:pt x="3593" y="1262"/>
                  <a:pt x="3624" y="1256"/>
                  <a:pt x="3645" y="1259"/>
                </a:cubicBezTo>
                <a:cubicBezTo>
                  <a:pt x="3661" y="1264"/>
                  <a:pt x="3664" y="1230"/>
                  <a:pt x="3681" y="1232"/>
                </a:cubicBezTo>
                <a:cubicBezTo>
                  <a:pt x="3712" y="1235"/>
                  <a:pt x="3703" y="1220"/>
                  <a:pt x="3717" y="1202"/>
                </a:cubicBezTo>
                <a:cubicBezTo>
                  <a:pt x="3727" y="1189"/>
                  <a:pt x="3750" y="1163"/>
                  <a:pt x="3750" y="1124"/>
                </a:cubicBezTo>
                <a:cubicBezTo>
                  <a:pt x="3786" y="1106"/>
                  <a:pt x="3789" y="1052"/>
                  <a:pt x="3825" y="1034"/>
                </a:cubicBezTo>
                <a:cubicBezTo>
                  <a:pt x="3833" y="1023"/>
                  <a:pt x="3895" y="1073"/>
                  <a:pt x="3904" y="1064"/>
                </a:cubicBezTo>
                <a:cubicBezTo>
                  <a:pt x="3923" y="1070"/>
                  <a:pt x="3934" y="1076"/>
                  <a:pt x="3954" y="1094"/>
                </a:cubicBezTo>
                <a:cubicBezTo>
                  <a:pt x="3974" y="1112"/>
                  <a:pt x="3996" y="1158"/>
                  <a:pt x="4023" y="1172"/>
                </a:cubicBezTo>
                <a:cubicBezTo>
                  <a:pt x="4050" y="1184"/>
                  <a:pt x="4091" y="1179"/>
                  <a:pt x="4119" y="1178"/>
                </a:cubicBezTo>
                <a:cubicBezTo>
                  <a:pt x="4147" y="1177"/>
                  <a:pt x="4166" y="1185"/>
                  <a:pt x="4191" y="1166"/>
                </a:cubicBezTo>
                <a:cubicBezTo>
                  <a:pt x="4244" y="1163"/>
                  <a:pt x="4245" y="1103"/>
                  <a:pt x="4266" y="1064"/>
                </a:cubicBezTo>
                <a:cubicBezTo>
                  <a:pt x="4282" y="1063"/>
                  <a:pt x="4275" y="1025"/>
                  <a:pt x="4329" y="989"/>
                </a:cubicBezTo>
                <a:cubicBezTo>
                  <a:pt x="4343" y="975"/>
                  <a:pt x="4357" y="956"/>
                  <a:pt x="4362" y="938"/>
                </a:cubicBezTo>
                <a:cubicBezTo>
                  <a:pt x="4380" y="907"/>
                  <a:pt x="4467" y="836"/>
                  <a:pt x="4488" y="809"/>
                </a:cubicBezTo>
                <a:cubicBezTo>
                  <a:pt x="4509" y="782"/>
                  <a:pt x="4481" y="798"/>
                  <a:pt x="4488" y="776"/>
                </a:cubicBezTo>
                <a:cubicBezTo>
                  <a:pt x="4496" y="762"/>
                  <a:pt x="4498" y="695"/>
                  <a:pt x="4530" y="674"/>
                </a:cubicBezTo>
                <a:cubicBezTo>
                  <a:pt x="4560" y="651"/>
                  <a:pt x="4638" y="643"/>
                  <a:pt x="4671" y="638"/>
                </a:cubicBezTo>
                <a:cubicBezTo>
                  <a:pt x="4701" y="635"/>
                  <a:pt x="4716" y="636"/>
                  <a:pt x="4731" y="644"/>
                </a:cubicBezTo>
                <a:cubicBezTo>
                  <a:pt x="4746" y="652"/>
                  <a:pt x="4748" y="687"/>
                  <a:pt x="4761" y="689"/>
                </a:cubicBezTo>
                <a:cubicBezTo>
                  <a:pt x="4774" y="691"/>
                  <a:pt x="4787" y="660"/>
                  <a:pt x="4812" y="659"/>
                </a:cubicBezTo>
                <a:cubicBezTo>
                  <a:pt x="4837" y="658"/>
                  <a:pt x="4891" y="677"/>
                  <a:pt x="4912" y="682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42920" y="2602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长江流经省市自治区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539640" y="2205000"/>
            <a:ext cx="5221440" cy="3056040"/>
          </a:xfrm>
          <a:custGeom>
            <a:avLst/>
            <a:gdLst/>
            <a:ahLst/>
            <a:rect l="l" t="t" r="r" b="b"/>
            <a:pathLst>
              <a:path w="3289" h="1925">
                <a:moveTo>
                  <a:pt x="0" y="162"/>
                </a:moveTo>
                <a:cubicBezTo>
                  <a:pt x="11" y="129"/>
                  <a:pt x="32" y="85"/>
                  <a:pt x="46" y="54"/>
                </a:cubicBezTo>
                <a:cubicBezTo>
                  <a:pt x="65" y="10"/>
                  <a:pt x="58" y="26"/>
                  <a:pt x="76" y="6"/>
                </a:cubicBezTo>
                <a:cubicBezTo>
                  <a:pt x="89" y="0"/>
                  <a:pt x="111" y="20"/>
                  <a:pt x="124" y="24"/>
                </a:cubicBezTo>
                <a:cubicBezTo>
                  <a:pt x="137" y="27"/>
                  <a:pt x="127" y="14"/>
                  <a:pt x="156" y="24"/>
                </a:cubicBezTo>
                <a:cubicBezTo>
                  <a:pt x="185" y="34"/>
                  <a:pt x="265" y="76"/>
                  <a:pt x="298" y="84"/>
                </a:cubicBezTo>
                <a:cubicBezTo>
                  <a:pt x="332" y="96"/>
                  <a:pt x="339" y="70"/>
                  <a:pt x="356" y="72"/>
                </a:cubicBezTo>
                <a:cubicBezTo>
                  <a:pt x="373" y="74"/>
                  <a:pt x="378" y="100"/>
                  <a:pt x="402" y="98"/>
                </a:cubicBezTo>
                <a:cubicBezTo>
                  <a:pt x="426" y="96"/>
                  <a:pt x="477" y="69"/>
                  <a:pt x="500" y="60"/>
                </a:cubicBezTo>
                <a:cubicBezTo>
                  <a:pt x="523" y="53"/>
                  <a:pt x="528" y="46"/>
                  <a:pt x="542" y="44"/>
                </a:cubicBezTo>
                <a:cubicBezTo>
                  <a:pt x="556" y="42"/>
                  <a:pt x="565" y="45"/>
                  <a:pt x="584" y="46"/>
                </a:cubicBezTo>
                <a:cubicBezTo>
                  <a:pt x="602" y="48"/>
                  <a:pt x="637" y="40"/>
                  <a:pt x="658" y="48"/>
                </a:cubicBezTo>
                <a:cubicBezTo>
                  <a:pt x="676" y="51"/>
                  <a:pt x="682" y="58"/>
                  <a:pt x="690" y="66"/>
                </a:cubicBezTo>
                <a:cubicBezTo>
                  <a:pt x="698" y="74"/>
                  <a:pt x="700" y="83"/>
                  <a:pt x="708" y="96"/>
                </a:cubicBezTo>
                <a:cubicBezTo>
                  <a:pt x="718" y="107"/>
                  <a:pt x="723" y="127"/>
                  <a:pt x="740" y="144"/>
                </a:cubicBezTo>
                <a:cubicBezTo>
                  <a:pt x="757" y="161"/>
                  <a:pt x="789" y="181"/>
                  <a:pt x="808" y="198"/>
                </a:cubicBezTo>
                <a:cubicBezTo>
                  <a:pt x="821" y="224"/>
                  <a:pt x="838" y="219"/>
                  <a:pt x="852" y="244"/>
                </a:cubicBezTo>
                <a:cubicBezTo>
                  <a:pt x="876" y="286"/>
                  <a:pt x="923" y="304"/>
                  <a:pt x="952" y="342"/>
                </a:cubicBezTo>
                <a:cubicBezTo>
                  <a:pt x="960" y="373"/>
                  <a:pt x="1013" y="449"/>
                  <a:pt x="1032" y="474"/>
                </a:cubicBezTo>
                <a:cubicBezTo>
                  <a:pt x="1040" y="498"/>
                  <a:pt x="1072" y="526"/>
                  <a:pt x="1080" y="550"/>
                </a:cubicBezTo>
                <a:cubicBezTo>
                  <a:pt x="1083" y="559"/>
                  <a:pt x="1125" y="599"/>
                  <a:pt x="1132" y="606"/>
                </a:cubicBezTo>
                <a:cubicBezTo>
                  <a:pt x="1157" y="634"/>
                  <a:pt x="1152" y="679"/>
                  <a:pt x="1168" y="712"/>
                </a:cubicBezTo>
                <a:cubicBezTo>
                  <a:pt x="1187" y="749"/>
                  <a:pt x="1152" y="764"/>
                  <a:pt x="1176" y="802"/>
                </a:cubicBezTo>
                <a:cubicBezTo>
                  <a:pt x="1181" y="810"/>
                  <a:pt x="1171" y="818"/>
                  <a:pt x="1178" y="826"/>
                </a:cubicBezTo>
                <a:cubicBezTo>
                  <a:pt x="1185" y="835"/>
                  <a:pt x="1162" y="825"/>
                  <a:pt x="1168" y="834"/>
                </a:cubicBezTo>
                <a:cubicBezTo>
                  <a:pt x="1187" y="862"/>
                  <a:pt x="1186" y="905"/>
                  <a:pt x="1194" y="938"/>
                </a:cubicBezTo>
                <a:cubicBezTo>
                  <a:pt x="1199" y="973"/>
                  <a:pt x="1241" y="993"/>
                  <a:pt x="1246" y="1086"/>
                </a:cubicBezTo>
                <a:cubicBezTo>
                  <a:pt x="1250" y="1122"/>
                  <a:pt x="1224" y="1128"/>
                  <a:pt x="1218" y="1156"/>
                </a:cubicBezTo>
                <a:cubicBezTo>
                  <a:pt x="1212" y="1184"/>
                  <a:pt x="1212" y="1210"/>
                  <a:pt x="1210" y="1252"/>
                </a:cubicBezTo>
                <a:cubicBezTo>
                  <a:pt x="1208" y="1294"/>
                  <a:pt x="1204" y="1367"/>
                  <a:pt x="1208" y="1408"/>
                </a:cubicBezTo>
                <a:cubicBezTo>
                  <a:pt x="1212" y="1449"/>
                  <a:pt x="1219" y="1454"/>
                  <a:pt x="1232" y="1496"/>
                </a:cubicBezTo>
                <a:cubicBezTo>
                  <a:pt x="1234" y="1548"/>
                  <a:pt x="1241" y="1631"/>
                  <a:pt x="1288" y="1662"/>
                </a:cubicBezTo>
                <a:cubicBezTo>
                  <a:pt x="1318" y="1706"/>
                  <a:pt x="1308" y="1700"/>
                  <a:pt x="1328" y="1670"/>
                </a:cubicBezTo>
                <a:cubicBezTo>
                  <a:pt x="1339" y="1636"/>
                  <a:pt x="1341" y="1597"/>
                  <a:pt x="1366" y="1572"/>
                </a:cubicBezTo>
                <a:cubicBezTo>
                  <a:pt x="1374" y="1563"/>
                  <a:pt x="1396" y="1579"/>
                  <a:pt x="1400" y="1608"/>
                </a:cubicBezTo>
                <a:cubicBezTo>
                  <a:pt x="1405" y="1628"/>
                  <a:pt x="1398" y="1665"/>
                  <a:pt x="1396" y="1692"/>
                </a:cubicBezTo>
                <a:cubicBezTo>
                  <a:pt x="1394" y="1719"/>
                  <a:pt x="1382" y="1745"/>
                  <a:pt x="1386" y="1772"/>
                </a:cubicBezTo>
                <a:cubicBezTo>
                  <a:pt x="1388" y="1800"/>
                  <a:pt x="1392" y="1840"/>
                  <a:pt x="1422" y="1852"/>
                </a:cubicBezTo>
                <a:cubicBezTo>
                  <a:pt x="1452" y="1860"/>
                  <a:pt x="1537" y="1829"/>
                  <a:pt x="1566" y="1822"/>
                </a:cubicBezTo>
                <a:cubicBezTo>
                  <a:pt x="1595" y="1817"/>
                  <a:pt x="1586" y="1809"/>
                  <a:pt x="1598" y="1810"/>
                </a:cubicBezTo>
                <a:cubicBezTo>
                  <a:pt x="1610" y="1811"/>
                  <a:pt x="1628" y="1818"/>
                  <a:pt x="1638" y="1828"/>
                </a:cubicBezTo>
                <a:cubicBezTo>
                  <a:pt x="1645" y="1837"/>
                  <a:pt x="1657" y="1853"/>
                  <a:pt x="1656" y="1868"/>
                </a:cubicBezTo>
                <a:cubicBezTo>
                  <a:pt x="1655" y="1883"/>
                  <a:pt x="1619" y="1918"/>
                  <a:pt x="1630" y="1920"/>
                </a:cubicBezTo>
                <a:cubicBezTo>
                  <a:pt x="1641" y="1925"/>
                  <a:pt x="1687" y="1897"/>
                  <a:pt x="1722" y="1882"/>
                </a:cubicBezTo>
                <a:cubicBezTo>
                  <a:pt x="1752" y="1878"/>
                  <a:pt x="1795" y="1908"/>
                  <a:pt x="1812" y="1898"/>
                </a:cubicBezTo>
                <a:cubicBezTo>
                  <a:pt x="1829" y="1888"/>
                  <a:pt x="1820" y="1846"/>
                  <a:pt x="1826" y="1824"/>
                </a:cubicBezTo>
                <a:cubicBezTo>
                  <a:pt x="1829" y="1802"/>
                  <a:pt x="1844" y="1782"/>
                  <a:pt x="1846" y="1764"/>
                </a:cubicBezTo>
                <a:cubicBezTo>
                  <a:pt x="1848" y="1746"/>
                  <a:pt x="1838" y="1731"/>
                  <a:pt x="1840" y="1718"/>
                </a:cubicBezTo>
                <a:cubicBezTo>
                  <a:pt x="1842" y="1705"/>
                  <a:pt x="1845" y="1704"/>
                  <a:pt x="1858" y="1686"/>
                </a:cubicBezTo>
                <a:cubicBezTo>
                  <a:pt x="1863" y="1668"/>
                  <a:pt x="1901" y="1625"/>
                  <a:pt x="1916" y="1612"/>
                </a:cubicBezTo>
                <a:cubicBezTo>
                  <a:pt x="1946" y="1586"/>
                  <a:pt x="1948" y="1552"/>
                  <a:pt x="1976" y="1524"/>
                </a:cubicBezTo>
                <a:cubicBezTo>
                  <a:pt x="1978" y="1518"/>
                  <a:pt x="1993" y="1474"/>
                  <a:pt x="1996" y="1468"/>
                </a:cubicBezTo>
                <a:cubicBezTo>
                  <a:pt x="2003" y="1452"/>
                  <a:pt x="2013" y="1441"/>
                  <a:pt x="2030" y="1432"/>
                </a:cubicBezTo>
                <a:cubicBezTo>
                  <a:pt x="2047" y="1423"/>
                  <a:pt x="2077" y="1416"/>
                  <a:pt x="2096" y="1412"/>
                </a:cubicBezTo>
                <a:cubicBezTo>
                  <a:pt x="2114" y="1406"/>
                  <a:pt x="2124" y="1413"/>
                  <a:pt x="2146" y="1410"/>
                </a:cubicBezTo>
                <a:cubicBezTo>
                  <a:pt x="2168" y="1407"/>
                  <a:pt x="2196" y="1400"/>
                  <a:pt x="2228" y="1394"/>
                </a:cubicBezTo>
                <a:cubicBezTo>
                  <a:pt x="2264" y="1385"/>
                  <a:pt x="2301" y="1379"/>
                  <a:pt x="2338" y="1374"/>
                </a:cubicBezTo>
                <a:cubicBezTo>
                  <a:pt x="2362" y="1362"/>
                  <a:pt x="2384" y="1348"/>
                  <a:pt x="2408" y="1336"/>
                </a:cubicBezTo>
                <a:cubicBezTo>
                  <a:pt x="2443" y="1319"/>
                  <a:pt x="2445" y="1291"/>
                  <a:pt x="2484" y="1278"/>
                </a:cubicBezTo>
                <a:cubicBezTo>
                  <a:pt x="2497" y="1268"/>
                  <a:pt x="2548" y="1224"/>
                  <a:pt x="2560" y="1222"/>
                </a:cubicBezTo>
                <a:cubicBezTo>
                  <a:pt x="2584" y="1217"/>
                  <a:pt x="2606" y="1224"/>
                  <a:pt x="2630" y="1222"/>
                </a:cubicBezTo>
                <a:cubicBezTo>
                  <a:pt x="2640" y="1220"/>
                  <a:pt x="2655" y="1209"/>
                  <a:pt x="2662" y="1202"/>
                </a:cubicBezTo>
                <a:cubicBezTo>
                  <a:pt x="2675" y="1189"/>
                  <a:pt x="2678" y="1198"/>
                  <a:pt x="2686" y="1182"/>
                </a:cubicBezTo>
                <a:cubicBezTo>
                  <a:pt x="2694" y="1174"/>
                  <a:pt x="2722" y="1174"/>
                  <a:pt x="2730" y="1166"/>
                </a:cubicBezTo>
                <a:cubicBezTo>
                  <a:pt x="2741" y="1156"/>
                  <a:pt x="2742" y="1144"/>
                  <a:pt x="2752" y="1124"/>
                </a:cubicBezTo>
                <a:cubicBezTo>
                  <a:pt x="2774" y="1090"/>
                  <a:pt x="2759" y="1068"/>
                  <a:pt x="2792" y="1046"/>
                </a:cubicBezTo>
                <a:cubicBezTo>
                  <a:pt x="2797" y="1032"/>
                  <a:pt x="2803" y="1037"/>
                  <a:pt x="2812" y="1026"/>
                </a:cubicBezTo>
                <a:cubicBezTo>
                  <a:pt x="2827" y="1008"/>
                  <a:pt x="2889" y="981"/>
                  <a:pt x="2898" y="980"/>
                </a:cubicBezTo>
                <a:cubicBezTo>
                  <a:pt x="2942" y="975"/>
                  <a:pt x="2980" y="983"/>
                  <a:pt x="3022" y="972"/>
                </a:cubicBezTo>
                <a:cubicBezTo>
                  <a:pt x="3074" y="976"/>
                  <a:pt x="3136" y="975"/>
                  <a:pt x="3188" y="982"/>
                </a:cubicBezTo>
                <a:cubicBezTo>
                  <a:pt x="3197" y="983"/>
                  <a:pt x="3224" y="991"/>
                  <a:pt x="3232" y="994"/>
                </a:cubicBezTo>
                <a:cubicBezTo>
                  <a:pt x="3257" y="1002"/>
                  <a:pt x="3254" y="1012"/>
                  <a:pt x="3276" y="1028"/>
                </a:cubicBezTo>
                <a:cubicBezTo>
                  <a:pt x="3285" y="1035"/>
                  <a:pt x="3286" y="1036"/>
                  <a:pt x="3289" y="10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0" name="Freeform 18"/>
          <p:cNvSpPr/>
          <p:nvPr/>
        </p:nvSpPr>
        <p:spPr>
          <a:xfrm>
            <a:off x="7169040" y="3222720"/>
            <a:ext cx="1193760" cy="866520"/>
          </a:xfrm>
          <a:custGeom>
            <a:avLst/>
            <a:gdLst/>
            <a:ahLst/>
            <a:rect l="l" t="t" r="r" b="b"/>
            <a:pathLst>
              <a:path w="752" h="546">
                <a:moveTo>
                  <a:pt x="0" y="546"/>
                </a:moveTo>
                <a:cubicBezTo>
                  <a:pt x="7" y="545"/>
                  <a:pt x="32" y="535"/>
                  <a:pt x="42" y="532"/>
                </a:cubicBezTo>
                <a:cubicBezTo>
                  <a:pt x="52" y="529"/>
                  <a:pt x="52" y="533"/>
                  <a:pt x="60" y="528"/>
                </a:cubicBezTo>
                <a:cubicBezTo>
                  <a:pt x="65" y="512"/>
                  <a:pt x="70" y="507"/>
                  <a:pt x="88" y="502"/>
                </a:cubicBezTo>
                <a:cubicBezTo>
                  <a:pt x="88" y="499"/>
                  <a:pt x="89" y="471"/>
                  <a:pt x="92" y="462"/>
                </a:cubicBezTo>
                <a:cubicBezTo>
                  <a:pt x="99" y="437"/>
                  <a:pt x="126" y="398"/>
                  <a:pt x="142" y="380"/>
                </a:cubicBezTo>
                <a:cubicBezTo>
                  <a:pt x="160" y="359"/>
                  <a:pt x="167" y="341"/>
                  <a:pt x="196" y="334"/>
                </a:cubicBezTo>
                <a:cubicBezTo>
                  <a:pt x="208" y="322"/>
                  <a:pt x="201" y="310"/>
                  <a:pt x="212" y="296"/>
                </a:cubicBezTo>
                <a:cubicBezTo>
                  <a:pt x="214" y="293"/>
                  <a:pt x="224" y="306"/>
                  <a:pt x="224" y="306"/>
                </a:cubicBezTo>
                <a:cubicBezTo>
                  <a:pt x="229" y="302"/>
                  <a:pt x="240" y="276"/>
                  <a:pt x="252" y="262"/>
                </a:cubicBezTo>
                <a:cubicBezTo>
                  <a:pt x="264" y="248"/>
                  <a:pt x="280" y="237"/>
                  <a:pt x="294" y="224"/>
                </a:cubicBezTo>
                <a:cubicBezTo>
                  <a:pt x="299" y="203"/>
                  <a:pt x="313" y="187"/>
                  <a:pt x="334" y="182"/>
                </a:cubicBezTo>
                <a:cubicBezTo>
                  <a:pt x="348" y="168"/>
                  <a:pt x="325" y="156"/>
                  <a:pt x="330" y="138"/>
                </a:cubicBezTo>
                <a:cubicBezTo>
                  <a:pt x="332" y="129"/>
                  <a:pt x="332" y="103"/>
                  <a:pt x="336" y="96"/>
                </a:cubicBezTo>
                <a:cubicBezTo>
                  <a:pt x="348" y="72"/>
                  <a:pt x="342" y="98"/>
                  <a:pt x="352" y="68"/>
                </a:cubicBezTo>
                <a:cubicBezTo>
                  <a:pt x="357" y="56"/>
                  <a:pt x="368" y="42"/>
                  <a:pt x="386" y="34"/>
                </a:cubicBezTo>
                <a:cubicBezTo>
                  <a:pt x="403" y="25"/>
                  <a:pt x="434" y="20"/>
                  <a:pt x="454" y="16"/>
                </a:cubicBezTo>
                <a:cubicBezTo>
                  <a:pt x="470" y="13"/>
                  <a:pt x="489" y="12"/>
                  <a:pt x="504" y="8"/>
                </a:cubicBezTo>
                <a:cubicBezTo>
                  <a:pt x="519" y="7"/>
                  <a:pt x="533" y="0"/>
                  <a:pt x="546" y="2"/>
                </a:cubicBezTo>
                <a:cubicBezTo>
                  <a:pt x="559" y="4"/>
                  <a:pt x="573" y="9"/>
                  <a:pt x="582" y="18"/>
                </a:cubicBezTo>
                <a:cubicBezTo>
                  <a:pt x="591" y="24"/>
                  <a:pt x="592" y="53"/>
                  <a:pt x="598" y="58"/>
                </a:cubicBezTo>
                <a:cubicBezTo>
                  <a:pt x="604" y="63"/>
                  <a:pt x="608" y="52"/>
                  <a:pt x="618" y="46"/>
                </a:cubicBezTo>
                <a:cubicBezTo>
                  <a:pt x="627" y="43"/>
                  <a:pt x="646" y="22"/>
                  <a:pt x="656" y="20"/>
                </a:cubicBezTo>
                <a:cubicBezTo>
                  <a:pt x="666" y="18"/>
                  <a:pt x="672" y="33"/>
                  <a:pt x="680" y="36"/>
                </a:cubicBezTo>
                <a:cubicBezTo>
                  <a:pt x="689" y="37"/>
                  <a:pt x="697" y="37"/>
                  <a:pt x="706" y="38"/>
                </a:cubicBezTo>
                <a:cubicBezTo>
                  <a:pt x="711" y="39"/>
                  <a:pt x="722" y="42"/>
                  <a:pt x="722" y="42"/>
                </a:cubicBezTo>
                <a:cubicBezTo>
                  <a:pt x="730" y="47"/>
                  <a:pt x="746" y="47"/>
                  <a:pt x="752" y="4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1" name="Freeform 28"/>
          <p:cNvSpPr/>
          <p:nvPr/>
        </p:nvSpPr>
        <p:spPr>
          <a:xfrm>
            <a:off x="8458200" y="5415120"/>
            <a:ext cx="345960" cy="376200"/>
          </a:xfrm>
          <a:custGeom>
            <a:avLst/>
            <a:gdLst/>
            <a:ahLst/>
            <a:rect l="l" t="t" r="r" b="b"/>
            <a:pathLst>
              <a:path w="218" h="237">
                <a:moveTo>
                  <a:pt x="0" y="228"/>
                </a:moveTo>
                <a:cubicBezTo>
                  <a:pt x="8" y="196"/>
                  <a:pt x="15" y="162"/>
                  <a:pt x="30" y="132"/>
                </a:cubicBezTo>
                <a:cubicBezTo>
                  <a:pt x="41" y="110"/>
                  <a:pt x="67" y="79"/>
                  <a:pt x="81" y="60"/>
                </a:cubicBezTo>
                <a:cubicBezTo>
                  <a:pt x="92" y="46"/>
                  <a:pt x="99" y="30"/>
                  <a:pt x="117" y="24"/>
                </a:cubicBezTo>
                <a:cubicBezTo>
                  <a:pt x="128" y="16"/>
                  <a:pt x="133" y="7"/>
                  <a:pt x="144" y="0"/>
                </a:cubicBezTo>
                <a:cubicBezTo>
                  <a:pt x="168" y="5"/>
                  <a:pt x="156" y="16"/>
                  <a:pt x="174" y="18"/>
                </a:cubicBezTo>
                <a:cubicBezTo>
                  <a:pt x="218" y="23"/>
                  <a:pt x="216" y="7"/>
                  <a:pt x="216" y="27"/>
                </a:cubicBezTo>
                <a:lnTo>
                  <a:pt x="216" y="237"/>
                </a:lnTo>
                <a:lnTo>
                  <a:pt x="24" y="237"/>
                </a:lnTo>
              </a:path>
            </a:pathLst>
          </a:custGeom>
          <a:solidFill>
            <a:srgbClr val="0000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122" name="Picture 23" descr="复件 思考"/>
          <p:cNvPicPr/>
          <p:nvPr/>
        </p:nvPicPr>
        <p:blipFill>
          <a:blip r:embed="rId2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5"/>
          <p:cNvSpPr/>
          <p:nvPr/>
        </p:nvSpPr>
        <p:spPr>
          <a:xfrm>
            <a:off x="8608320" y="2781360"/>
            <a:ext cx="4546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</a:rPr>
              <a:t>东海</a:t>
            </a:r>
            <a:endParaRPr b="0" lang="en-US" sz="1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260280" y="270828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青海高原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唐古拉山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-49320" y="1700280"/>
            <a:ext cx="120204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"/>
              </a:rPr>
              <a:t>·</a:t>
            </a:r>
            <a:endParaRPr b="0" lang="en-US" sz="4400" spc="-1" strike="noStrike">
              <a:solidFill>
                <a:srgbClr val="009999"/>
              </a:solidFill>
              <a:latin typeface="黑体"/>
            </a:endParaRPr>
          </a:p>
        </p:txBody>
      </p:sp>
      <p:grpSp>
        <p:nvGrpSpPr>
          <p:cNvPr id="126" name="Group 47"/>
          <p:cNvGrpSpPr/>
          <p:nvPr/>
        </p:nvGrpSpPr>
        <p:grpSpPr>
          <a:xfrm>
            <a:off x="539640" y="2238120"/>
            <a:ext cx="863280" cy="398880"/>
            <a:chOff x="539640" y="2238120"/>
            <a:chExt cx="863280" cy="398880"/>
          </a:xfrm>
        </p:grpSpPr>
        <p:sp>
          <p:nvSpPr>
            <p:cNvPr id="127" name="Oval 48"/>
            <p:cNvSpPr/>
            <p:nvPr/>
          </p:nvSpPr>
          <p:spPr>
            <a:xfrm>
              <a:off x="1264680" y="2418840"/>
              <a:ext cx="94680" cy="8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28" name="Text Box 49"/>
            <p:cNvSpPr/>
            <p:nvPr/>
          </p:nvSpPr>
          <p:spPr>
            <a:xfrm>
              <a:off x="539640" y="223812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青海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29" name="Group 50"/>
          <p:cNvGrpSpPr/>
          <p:nvPr/>
        </p:nvGrpSpPr>
        <p:grpSpPr>
          <a:xfrm>
            <a:off x="1547640" y="3357360"/>
            <a:ext cx="863280" cy="398880"/>
            <a:chOff x="1547640" y="3357360"/>
            <a:chExt cx="863280" cy="398880"/>
          </a:xfrm>
        </p:grpSpPr>
        <p:sp>
          <p:nvSpPr>
            <p:cNvPr id="130" name="Oval 51"/>
            <p:cNvSpPr/>
            <p:nvPr/>
          </p:nvSpPr>
          <p:spPr>
            <a:xfrm>
              <a:off x="2272680" y="3538080"/>
              <a:ext cx="94680" cy="8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31" name="Text Box 52"/>
            <p:cNvSpPr/>
            <p:nvPr/>
          </p:nvSpPr>
          <p:spPr>
            <a:xfrm>
              <a:off x="1547640" y="335736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西藏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32" name="Group 59"/>
          <p:cNvGrpSpPr/>
          <p:nvPr/>
        </p:nvGrpSpPr>
        <p:grpSpPr>
          <a:xfrm>
            <a:off x="3203640" y="4039200"/>
            <a:ext cx="863280" cy="398880"/>
            <a:chOff x="3203640" y="4039200"/>
            <a:chExt cx="863280" cy="398880"/>
          </a:xfrm>
        </p:grpSpPr>
        <p:sp>
          <p:nvSpPr>
            <p:cNvPr id="133" name="Oval 60"/>
            <p:cNvSpPr/>
            <p:nvPr/>
          </p:nvSpPr>
          <p:spPr>
            <a:xfrm>
              <a:off x="3928680" y="4220640"/>
              <a:ext cx="94680" cy="8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34" name="Text Box 61"/>
            <p:cNvSpPr/>
            <p:nvPr/>
          </p:nvSpPr>
          <p:spPr>
            <a:xfrm>
              <a:off x="3203640" y="403920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四川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35" name="Group 86"/>
          <p:cNvGrpSpPr/>
          <p:nvPr/>
        </p:nvGrpSpPr>
        <p:grpSpPr>
          <a:xfrm>
            <a:off x="2844720" y="5263200"/>
            <a:ext cx="863280" cy="398880"/>
            <a:chOff x="2844720" y="5263200"/>
            <a:chExt cx="863280" cy="398880"/>
          </a:xfrm>
        </p:grpSpPr>
        <p:sp>
          <p:nvSpPr>
            <p:cNvPr id="136" name="Oval 87"/>
            <p:cNvSpPr/>
            <p:nvPr/>
          </p:nvSpPr>
          <p:spPr>
            <a:xfrm>
              <a:off x="3569760" y="5444640"/>
              <a:ext cx="94680" cy="89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37" name="Text Box 88"/>
            <p:cNvSpPr/>
            <p:nvPr/>
          </p:nvSpPr>
          <p:spPr>
            <a:xfrm>
              <a:off x="2844720" y="526320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云南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38" name="Group 89"/>
          <p:cNvGrpSpPr/>
          <p:nvPr/>
        </p:nvGrpSpPr>
        <p:grpSpPr>
          <a:xfrm>
            <a:off x="4413240" y="3859560"/>
            <a:ext cx="555480" cy="398880"/>
            <a:chOff x="4413240" y="3859560"/>
            <a:chExt cx="555480" cy="398880"/>
          </a:xfrm>
        </p:grpSpPr>
        <p:sp>
          <p:nvSpPr>
            <p:cNvPr id="139" name="Oval 90"/>
            <p:cNvSpPr/>
            <p:nvPr/>
          </p:nvSpPr>
          <p:spPr>
            <a:xfrm>
              <a:off x="4892400" y="40431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40" name="Text Box 91"/>
            <p:cNvSpPr/>
            <p:nvPr/>
          </p:nvSpPr>
          <p:spPr>
            <a:xfrm>
              <a:off x="4413240" y="3859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重庆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41" name="Group 92"/>
          <p:cNvGrpSpPr/>
          <p:nvPr/>
        </p:nvGrpSpPr>
        <p:grpSpPr>
          <a:xfrm>
            <a:off x="5925960" y="3535920"/>
            <a:ext cx="555480" cy="398880"/>
            <a:chOff x="5925960" y="3535920"/>
            <a:chExt cx="555480" cy="398880"/>
          </a:xfrm>
        </p:grpSpPr>
        <p:sp>
          <p:nvSpPr>
            <p:cNvPr id="142" name="Oval 93"/>
            <p:cNvSpPr/>
            <p:nvPr/>
          </p:nvSpPr>
          <p:spPr>
            <a:xfrm>
              <a:off x="6405120" y="37195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43" name="Text Box 94"/>
            <p:cNvSpPr/>
            <p:nvPr/>
          </p:nvSpPr>
          <p:spPr>
            <a:xfrm>
              <a:off x="5925960" y="3535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湖北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44" name="Group 95"/>
          <p:cNvGrpSpPr/>
          <p:nvPr/>
        </p:nvGrpSpPr>
        <p:grpSpPr>
          <a:xfrm>
            <a:off x="5613480" y="4254840"/>
            <a:ext cx="555480" cy="398880"/>
            <a:chOff x="5613480" y="4254840"/>
            <a:chExt cx="555480" cy="398880"/>
          </a:xfrm>
        </p:grpSpPr>
        <p:sp>
          <p:nvSpPr>
            <p:cNvPr id="145" name="Oval 96"/>
            <p:cNvSpPr/>
            <p:nvPr/>
          </p:nvSpPr>
          <p:spPr>
            <a:xfrm>
              <a:off x="6092640" y="44384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46" name="Text Box 97"/>
            <p:cNvSpPr/>
            <p:nvPr/>
          </p:nvSpPr>
          <p:spPr>
            <a:xfrm>
              <a:off x="5613480" y="4254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湖南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47" name="Group 98"/>
          <p:cNvGrpSpPr/>
          <p:nvPr/>
        </p:nvGrpSpPr>
        <p:grpSpPr>
          <a:xfrm>
            <a:off x="6934320" y="4148640"/>
            <a:ext cx="555480" cy="398880"/>
            <a:chOff x="6934320" y="4148640"/>
            <a:chExt cx="555480" cy="398880"/>
          </a:xfrm>
        </p:grpSpPr>
        <p:sp>
          <p:nvSpPr>
            <p:cNvPr id="148" name="Oval 99"/>
            <p:cNvSpPr/>
            <p:nvPr/>
          </p:nvSpPr>
          <p:spPr>
            <a:xfrm>
              <a:off x="7413480" y="43322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49" name="Text Box 100"/>
            <p:cNvSpPr/>
            <p:nvPr/>
          </p:nvSpPr>
          <p:spPr>
            <a:xfrm>
              <a:off x="6934320" y="4148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江西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50" name="Group 101"/>
          <p:cNvGrpSpPr/>
          <p:nvPr/>
        </p:nvGrpSpPr>
        <p:grpSpPr>
          <a:xfrm>
            <a:off x="7077240" y="3356640"/>
            <a:ext cx="555480" cy="398880"/>
            <a:chOff x="7077240" y="3356640"/>
            <a:chExt cx="555480" cy="398880"/>
          </a:xfrm>
        </p:grpSpPr>
        <p:sp>
          <p:nvSpPr>
            <p:cNvPr id="151" name="Oval 102"/>
            <p:cNvSpPr/>
            <p:nvPr/>
          </p:nvSpPr>
          <p:spPr>
            <a:xfrm>
              <a:off x="7556400" y="354024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52" name="Text Box 103"/>
            <p:cNvSpPr/>
            <p:nvPr/>
          </p:nvSpPr>
          <p:spPr>
            <a:xfrm>
              <a:off x="7077240" y="33566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安徽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53" name="Group 104"/>
          <p:cNvGrpSpPr/>
          <p:nvPr/>
        </p:nvGrpSpPr>
        <p:grpSpPr>
          <a:xfrm>
            <a:off x="7845480" y="2851560"/>
            <a:ext cx="555480" cy="398880"/>
            <a:chOff x="7845480" y="2851560"/>
            <a:chExt cx="555480" cy="398880"/>
          </a:xfrm>
        </p:grpSpPr>
        <p:sp>
          <p:nvSpPr>
            <p:cNvPr id="154" name="Oval 105"/>
            <p:cNvSpPr/>
            <p:nvPr/>
          </p:nvSpPr>
          <p:spPr>
            <a:xfrm>
              <a:off x="8324640" y="30351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55" name="Text Box 106"/>
            <p:cNvSpPr/>
            <p:nvPr/>
          </p:nvSpPr>
          <p:spPr>
            <a:xfrm>
              <a:off x="7845480" y="2851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江苏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56" name="Group 107"/>
          <p:cNvGrpSpPr/>
          <p:nvPr/>
        </p:nvGrpSpPr>
        <p:grpSpPr>
          <a:xfrm>
            <a:off x="8373960" y="3391560"/>
            <a:ext cx="555480" cy="398880"/>
            <a:chOff x="8373960" y="3391560"/>
            <a:chExt cx="555480" cy="398880"/>
          </a:xfrm>
        </p:grpSpPr>
        <p:sp>
          <p:nvSpPr>
            <p:cNvPr id="157" name="Oval 108"/>
            <p:cNvSpPr/>
            <p:nvPr/>
          </p:nvSpPr>
          <p:spPr>
            <a:xfrm>
              <a:off x="8853120" y="357516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58" name="Text Box 109"/>
            <p:cNvSpPr/>
            <p:nvPr/>
          </p:nvSpPr>
          <p:spPr>
            <a:xfrm>
              <a:off x="8373960" y="3391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上海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11" descr="2006120174628928"/>
          <p:cNvPicPr/>
          <p:nvPr/>
        </p:nvPicPr>
        <p:blipFill>
          <a:blip r:embed="rId1"/>
          <a:stretch/>
        </p:blipFill>
        <p:spPr>
          <a:xfrm>
            <a:off x="108000" y="836640"/>
            <a:ext cx="8891640" cy="568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5"/>
          <p:cNvSpPr/>
          <p:nvPr/>
        </p:nvSpPr>
        <p:spPr>
          <a:xfrm>
            <a:off x="3348000" y="1700280"/>
            <a:ext cx="324000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　　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李　白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天门中断楚江开，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碧水东流至此回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两岸青山相对出，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孤帆一片日边来。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20" name="Picture 17" descr="复件 思考"/>
          <p:cNvPicPr/>
          <p:nvPr/>
        </p:nvPicPr>
        <p:blipFill>
          <a:blip r:embed="rId2"/>
          <a:stretch/>
        </p:blipFill>
        <p:spPr>
          <a:xfrm>
            <a:off x="179280" y="8424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3"/>
          <p:cNvSpPr/>
          <p:nvPr/>
        </p:nvSpPr>
        <p:spPr>
          <a:xfrm>
            <a:off x="1042920" y="92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记一记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3348000" y="1268280"/>
            <a:ext cx="27748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望天门山</a:t>
            </a:r>
            <a:endParaRPr b="0" lang="en-US" sz="32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62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用线将左右两边描写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长江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的古诗句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71280" y="1773000"/>
            <a:ext cx="73436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大江东去，浪淘尽  　　  　唯见长江天际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孤帆远影碧空尽        　　不尽长江滚滚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无边落木萧萧下       　　 浪花淘尽英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滚滚长江东逝水        　　千古风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893160" y="5013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3564000" y="1989000"/>
            <a:ext cx="1439640" cy="2160720"/>
          </a:xfrm>
          <a:prstGeom prst="line">
            <a:avLst/>
          </a:prstGeom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7" name="Line 7"/>
          <p:cNvSpPr/>
          <p:nvPr/>
        </p:nvSpPr>
        <p:spPr>
          <a:xfrm flipV="1">
            <a:off x="3203640" y="1988640"/>
            <a:ext cx="1800000" cy="646200"/>
          </a:xfrm>
          <a:prstGeom prst="line">
            <a:avLst/>
          </a:prstGeom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8" name="Line 8"/>
          <p:cNvSpPr/>
          <p:nvPr/>
        </p:nvSpPr>
        <p:spPr>
          <a:xfrm flipV="1">
            <a:off x="3203640" y="2708280"/>
            <a:ext cx="1873080" cy="720720"/>
          </a:xfrm>
          <a:prstGeom prst="line">
            <a:avLst/>
          </a:prstGeom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29" name="Line 9"/>
          <p:cNvSpPr/>
          <p:nvPr/>
        </p:nvSpPr>
        <p:spPr>
          <a:xfrm flipV="1">
            <a:off x="3203640" y="3500280"/>
            <a:ext cx="1800000" cy="648000"/>
          </a:xfrm>
          <a:prstGeom prst="line">
            <a:avLst/>
          </a:prstGeom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30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32" name="Picture 12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971640" y="1413000"/>
            <a:ext cx="7561080" cy="39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星垂平野阔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山随平野尽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万里长江横渡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无边落木萧萧下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孤帆远影碧空尽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天门中断楚江开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34" name="Picture 23" descr="复件 思考"/>
          <p:cNvPicPr/>
          <p:nvPr/>
        </p:nvPicPr>
        <p:blipFill>
          <a:blip r:embed="rId1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2916360" y="16034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月涌大江流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900000" y="765000"/>
            <a:ext cx="1727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</a:rPr>
              <a:t>填写词句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2916360" y="225108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入大荒流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3205080" y="2900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极目楚天舒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3492360" y="35481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不尽长江滚滚来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3490920" y="4195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惟见长江天际流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2" name="Text Box 14"/>
          <p:cNvSpPr/>
          <p:nvPr/>
        </p:nvSpPr>
        <p:spPr>
          <a:xfrm>
            <a:off x="3492360" y="486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碧水东流至此回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43" name="Picture 15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3"/>
          <p:cNvSpPr/>
          <p:nvPr/>
        </p:nvSpPr>
        <p:spPr>
          <a:xfrm>
            <a:off x="1116000" y="189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总结全文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611280" y="620640"/>
            <a:ext cx="77058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啊！长江源远流长、宏伟博大、多姿多彩；长江古老悠久、气势磅礴、力量无穷。让我们以饱满的热情去赞美宏伟壮观的长江，表达我们对这位伟大母亲的热爱和依恋之情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47" name="Picture 7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8"/>
          <p:cNvSpPr/>
          <p:nvPr/>
        </p:nvSpPr>
        <p:spPr>
          <a:xfrm>
            <a:off x="611280" y="2997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最后，让我们再一次来聆听殷秀梅老师演唱的歌曲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长江之歌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再次感受作者对长江母亲的热爱、依恋之情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49" name="文本框 1"/>
          <p:cNvSpPr/>
          <p:nvPr/>
        </p:nvSpPr>
        <p:spPr>
          <a:xfrm>
            <a:off x="351000" y="5524560"/>
            <a:ext cx="8758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黑体"/>
              </a:rPr>
              <a:t>更多免费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</a:rPr>
              <a:t>PPT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</a:rPr>
              <a:t>模板尽在：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</a:rPr>
              <a:t>http://www.eeppt.com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西陵峡2"/>
          <p:cNvPicPr/>
          <p:nvPr/>
        </p:nvPicPr>
        <p:blipFill>
          <a:blip r:embed="rId1"/>
          <a:stretch/>
        </p:blipFill>
        <p:spPr>
          <a:xfrm>
            <a:off x="179280" y="907920"/>
            <a:ext cx="3816360" cy="532944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3"/>
          <p:cNvSpPr/>
          <p:nvPr/>
        </p:nvSpPr>
        <p:spPr>
          <a:xfrm>
            <a:off x="4557600" y="1332000"/>
            <a:ext cx="1400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从雪山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春潮是你的丰采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向东海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惊涛是你的气概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甘甜的乳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哺育各族儿女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健美的臂膀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挽起高山大海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6742080" y="1341360"/>
            <a:ext cx="155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从远古走来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巨浪 荡涤着尘埃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向未来奔去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涛声回荡在天外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纯洁的清流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灌溉花的国土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用磅礴的力量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推动新的时代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赞美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是无穷的源泉；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我们依恋长江，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你有母亲的情怀。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53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曲欣赏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5219640" y="739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江之歌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56" name="殷秀梅 - 长江之歌.mp3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5" dur="176644" fill="hold"/>
                                        <p:tgtEl>
                                          <p:spTgt spid="6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5"/>
          <p:cNvSpPr/>
          <p:nvPr/>
        </p:nvSpPr>
        <p:spPr>
          <a:xfrm>
            <a:off x="250920" y="907920"/>
            <a:ext cx="84247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抄写生字新词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有感情地背诵课文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补充习题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》 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课外收集有关长江的资料，读一读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258920" y="26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课后作业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659" name="Picture 17" descr="复件 思考"/>
          <p:cNvPicPr/>
          <p:nvPr/>
        </p:nvPicPr>
        <p:blipFill>
          <a:blip r:embed="rId1"/>
          <a:stretch/>
        </p:blipFill>
        <p:spPr>
          <a:xfrm>
            <a:off x="179280" y="189000"/>
            <a:ext cx="965160" cy="752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" descr="西陵峡2"/>
          <p:cNvPicPr/>
          <p:nvPr/>
        </p:nvPicPr>
        <p:blipFill>
          <a:blip r:embed="rId2"/>
          <a:stretch/>
        </p:blipFill>
        <p:spPr>
          <a:xfrm>
            <a:off x="7224840" y="5611680"/>
            <a:ext cx="188424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6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4C1-AAAA-4286-82C3-74A6334DAD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476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长江干流流经省市自治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6"/>
          <p:cNvPicPr/>
          <p:nvPr/>
        </p:nvPicPr>
        <p:blipFill>
          <a:blip r:embed="rId1"/>
          <a:stretch/>
        </p:blipFill>
        <p:spPr>
          <a:xfrm>
            <a:off x="457200" y="1905120"/>
            <a:ext cx="8381880" cy="390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5"/>
          <p:cNvGrpSpPr/>
          <p:nvPr/>
        </p:nvGrpSpPr>
        <p:grpSpPr>
          <a:xfrm>
            <a:off x="6713640" y="2451240"/>
            <a:ext cx="1331640" cy="1704960"/>
            <a:chOff x="6713640" y="2451240"/>
            <a:chExt cx="1331640" cy="1704960"/>
          </a:xfrm>
        </p:grpSpPr>
        <p:sp>
          <p:nvSpPr>
            <p:cNvPr id="162" name="Freeform 6"/>
            <p:cNvSpPr/>
            <p:nvPr/>
          </p:nvSpPr>
          <p:spPr>
            <a:xfrm>
              <a:off x="6713640" y="2451240"/>
              <a:ext cx="1331640" cy="1704960"/>
            </a:xfrm>
            <a:custGeom>
              <a:avLst/>
              <a:gdLst/>
              <a:ahLst/>
              <a:rect l="l" t="t" r="r" b="b"/>
              <a:pathLst>
                <a:path w="839" h="1074">
                  <a:moveTo>
                    <a:pt x="113" y="681"/>
                  </a:moveTo>
                  <a:lnTo>
                    <a:pt x="175" y="610"/>
                  </a:lnTo>
                  <a:cubicBezTo>
                    <a:pt x="175" y="610"/>
                    <a:pt x="187" y="562"/>
                    <a:pt x="187" y="562"/>
                  </a:cubicBezTo>
                  <a:cubicBezTo>
                    <a:pt x="188" y="558"/>
                    <a:pt x="189" y="516"/>
                    <a:pt x="189" y="516"/>
                  </a:cubicBezTo>
                  <a:cubicBezTo>
                    <a:pt x="165" y="472"/>
                    <a:pt x="191" y="508"/>
                    <a:pt x="143" y="470"/>
                  </a:cubicBezTo>
                  <a:cubicBezTo>
                    <a:pt x="119" y="446"/>
                    <a:pt x="80" y="443"/>
                    <a:pt x="65" y="428"/>
                  </a:cubicBezTo>
                  <a:cubicBezTo>
                    <a:pt x="76" y="404"/>
                    <a:pt x="75" y="393"/>
                    <a:pt x="43" y="382"/>
                  </a:cubicBezTo>
                  <a:cubicBezTo>
                    <a:pt x="35" y="371"/>
                    <a:pt x="8" y="368"/>
                    <a:pt x="5" y="362"/>
                  </a:cubicBezTo>
                  <a:cubicBezTo>
                    <a:pt x="0" y="354"/>
                    <a:pt x="5" y="336"/>
                    <a:pt x="15" y="332"/>
                  </a:cubicBezTo>
                  <a:cubicBezTo>
                    <a:pt x="21" y="303"/>
                    <a:pt x="31" y="330"/>
                    <a:pt x="62" y="336"/>
                  </a:cubicBezTo>
                  <a:cubicBezTo>
                    <a:pt x="70" y="331"/>
                    <a:pt x="69" y="297"/>
                    <a:pt x="73" y="290"/>
                  </a:cubicBezTo>
                  <a:cubicBezTo>
                    <a:pt x="77" y="276"/>
                    <a:pt x="79" y="259"/>
                    <a:pt x="83" y="252"/>
                  </a:cubicBezTo>
                  <a:cubicBezTo>
                    <a:pt x="89" y="238"/>
                    <a:pt x="92" y="246"/>
                    <a:pt x="98" y="245"/>
                  </a:cubicBezTo>
                  <a:cubicBezTo>
                    <a:pt x="104" y="233"/>
                    <a:pt x="113" y="192"/>
                    <a:pt x="121" y="178"/>
                  </a:cubicBezTo>
                  <a:cubicBezTo>
                    <a:pt x="135" y="125"/>
                    <a:pt x="125" y="175"/>
                    <a:pt x="145" y="161"/>
                  </a:cubicBezTo>
                  <a:cubicBezTo>
                    <a:pt x="177" y="163"/>
                    <a:pt x="196" y="158"/>
                    <a:pt x="223" y="195"/>
                  </a:cubicBezTo>
                  <a:cubicBezTo>
                    <a:pt x="250" y="194"/>
                    <a:pt x="248" y="185"/>
                    <a:pt x="275" y="180"/>
                  </a:cubicBezTo>
                  <a:cubicBezTo>
                    <a:pt x="289" y="173"/>
                    <a:pt x="295" y="146"/>
                    <a:pt x="301" y="136"/>
                  </a:cubicBezTo>
                  <a:cubicBezTo>
                    <a:pt x="300" y="123"/>
                    <a:pt x="272" y="108"/>
                    <a:pt x="269" y="102"/>
                  </a:cubicBezTo>
                  <a:cubicBezTo>
                    <a:pt x="251" y="90"/>
                    <a:pt x="291" y="103"/>
                    <a:pt x="284" y="98"/>
                  </a:cubicBezTo>
                  <a:cubicBezTo>
                    <a:pt x="277" y="93"/>
                    <a:pt x="236" y="81"/>
                    <a:pt x="227" y="74"/>
                  </a:cubicBezTo>
                  <a:cubicBezTo>
                    <a:pt x="215" y="65"/>
                    <a:pt x="232" y="64"/>
                    <a:pt x="229" y="58"/>
                  </a:cubicBezTo>
                  <a:cubicBezTo>
                    <a:pt x="226" y="52"/>
                    <a:pt x="212" y="45"/>
                    <a:pt x="207" y="38"/>
                  </a:cubicBezTo>
                  <a:cubicBezTo>
                    <a:pt x="202" y="31"/>
                    <a:pt x="198" y="22"/>
                    <a:pt x="201" y="18"/>
                  </a:cubicBezTo>
                  <a:cubicBezTo>
                    <a:pt x="204" y="0"/>
                    <a:pt x="206" y="21"/>
                    <a:pt x="224" y="15"/>
                  </a:cubicBezTo>
                  <a:cubicBezTo>
                    <a:pt x="230" y="10"/>
                    <a:pt x="227" y="15"/>
                    <a:pt x="233" y="9"/>
                  </a:cubicBezTo>
                  <a:cubicBezTo>
                    <a:pt x="242" y="0"/>
                    <a:pt x="231" y="14"/>
                    <a:pt x="247" y="3"/>
                  </a:cubicBezTo>
                  <a:cubicBezTo>
                    <a:pt x="253" y="30"/>
                    <a:pt x="278" y="7"/>
                    <a:pt x="295" y="30"/>
                  </a:cubicBezTo>
                  <a:cubicBezTo>
                    <a:pt x="317" y="59"/>
                    <a:pt x="301" y="33"/>
                    <a:pt x="319" y="51"/>
                  </a:cubicBezTo>
                  <a:cubicBezTo>
                    <a:pt x="335" y="67"/>
                    <a:pt x="324" y="59"/>
                    <a:pt x="341" y="65"/>
                  </a:cubicBezTo>
                  <a:cubicBezTo>
                    <a:pt x="355" y="76"/>
                    <a:pt x="362" y="88"/>
                    <a:pt x="377" y="98"/>
                  </a:cubicBezTo>
                  <a:cubicBezTo>
                    <a:pt x="387" y="105"/>
                    <a:pt x="380" y="114"/>
                    <a:pt x="397" y="122"/>
                  </a:cubicBezTo>
                  <a:cubicBezTo>
                    <a:pt x="414" y="130"/>
                    <a:pt x="459" y="137"/>
                    <a:pt x="478" y="144"/>
                  </a:cubicBezTo>
                  <a:cubicBezTo>
                    <a:pt x="491" y="152"/>
                    <a:pt x="499" y="156"/>
                    <a:pt x="512" y="165"/>
                  </a:cubicBezTo>
                  <a:cubicBezTo>
                    <a:pt x="515" y="167"/>
                    <a:pt x="521" y="171"/>
                    <a:pt x="521" y="171"/>
                  </a:cubicBezTo>
                  <a:cubicBezTo>
                    <a:pt x="525" y="193"/>
                    <a:pt x="542" y="197"/>
                    <a:pt x="553" y="210"/>
                  </a:cubicBezTo>
                  <a:cubicBezTo>
                    <a:pt x="551" y="217"/>
                    <a:pt x="526" y="236"/>
                    <a:pt x="526" y="243"/>
                  </a:cubicBezTo>
                  <a:cubicBezTo>
                    <a:pt x="525" y="249"/>
                    <a:pt x="541" y="252"/>
                    <a:pt x="547" y="260"/>
                  </a:cubicBezTo>
                  <a:cubicBezTo>
                    <a:pt x="553" y="268"/>
                    <a:pt x="551" y="283"/>
                    <a:pt x="563" y="294"/>
                  </a:cubicBezTo>
                  <a:cubicBezTo>
                    <a:pt x="575" y="305"/>
                    <a:pt x="615" y="311"/>
                    <a:pt x="620" y="324"/>
                  </a:cubicBezTo>
                  <a:cubicBezTo>
                    <a:pt x="620" y="347"/>
                    <a:pt x="594" y="362"/>
                    <a:pt x="592" y="371"/>
                  </a:cubicBezTo>
                  <a:cubicBezTo>
                    <a:pt x="590" y="380"/>
                    <a:pt x="602" y="382"/>
                    <a:pt x="610" y="381"/>
                  </a:cubicBezTo>
                  <a:cubicBezTo>
                    <a:pt x="621" y="380"/>
                    <a:pt x="630" y="368"/>
                    <a:pt x="641" y="366"/>
                  </a:cubicBezTo>
                  <a:cubicBezTo>
                    <a:pt x="647" y="365"/>
                    <a:pt x="665" y="351"/>
                    <a:pt x="665" y="351"/>
                  </a:cubicBezTo>
                  <a:cubicBezTo>
                    <a:pt x="697" y="314"/>
                    <a:pt x="691" y="343"/>
                    <a:pt x="724" y="348"/>
                  </a:cubicBezTo>
                  <a:cubicBezTo>
                    <a:pt x="735" y="351"/>
                    <a:pt x="745" y="362"/>
                    <a:pt x="745" y="372"/>
                  </a:cubicBezTo>
                  <a:cubicBezTo>
                    <a:pt x="745" y="382"/>
                    <a:pt x="731" y="399"/>
                    <a:pt x="725" y="408"/>
                  </a:cubicBezTo>
                  <a:cubicBezTo>
                    <a:pt x="711" y="418"/>
                    <a:pt x="721" y="413"/>
                    <a:pt x="709" y="424"/>
                  </a:cubicBezTo>
                  <a:cubicBezTo>
                    <a:pt x="704" y="429"/>
                    <a:pt x="671" y="453"/>
                    <a:pt x="671" y="453"/>
                  </a:cubicBezTo>
                  <a:cubicBezTo>
                    <a:pt x="657" y="474"/>
                    <a:pt x="665" y="471"/>
                    <a:pt x="643" y="479"/>
                  </a:cubicBezTo>
                  <a:cubicBezTo>
                    <a:pt x="640" y="491"/>
                    <a:pt x="631" y="508"/>
                    <a:pt x="634" y="524"/>
                  </a:cubicBezTo>
                  <a:cubicBezTo>
                    <a:pt x="637" y="540"/>
                    <a:pt x="652" y="557"/>
                    <a:pt x="662" y="573"/>
                  </a:cubicBezTo>
                  <a:cubicBezTo>
                    <a:pt x="668" y="591"/>
                    <a:pt x="689" y="602"/>
                    <a:pt x="695" y="621"/>
                  </a:cubicBezTo>
                  <a:cubicBezTo>
                    <a:pt x="701" y="634"/>
                    <a:pt x="692" y="642"/>
                    <a:pt x="703" y="651"/>
                  </a:cubicBezTo>
                  <a:cubicBezTo>
                    <a:pt x="704" y="660"/>
                    <a:pt x="691" y="673"/>
                    <a:pt x="701" y="677"/>
                  </a:cubicBezTo>
                  <a:cubicBezTo>
                    <a:pt x="711" y="681"/>
                    <a:pt x="747" y="673"/>
                    <a:pt x="763" y="675"/>
                  </a:cubicBezTo>
                  <a:cubicBezTo>
                    <a:pt x="789" y="684"/>
                    <a:pt x="766" y="683"/>
                    <a:pt x="796" y="687"/>
                  </a:cubicBezTo>
                  <a:cubicBezTo>
                    <a:pt x="839" y="686"/>
                    <a:pt x="838" y="681"/>
                    <a:pt x="830" y="728"/>
                  </a:cubicBezTo>
                  <a:cubicBezTo>
                    <a:pt x="834" y="744"/>
                    <a:pt x="831" y="787"/>
                    <a:pt x="827" y="803"/>
                  </a:cubicBezTo>
                  <a:cubicBezTo>
                    <a:pt x="823" y="819"/>
                    <a:pt x="811" y="816"/>
                    <a:pt x="806" y="822"/>
                  </a:cubicBezTo>
                  <a:cubicBezTo>
                    <a:pt x="803" y="839"/>
                    <a:pt x="796" y="831"/>
                    <a:pt x="794" y="837"/>
                  </a:cubicBezTo>
                  <a:cubicBezTo>
                    <a:pt x="792" y="843"/>
                    <a:pt x="798" y="851"/>
                    <a:pt x="794" y="857"/>
                  </a:cubicBezTo>
                  <a:cubicBezTo>
                    <a:pt x="790" y="863"/>
                    <a:pt x="781" y="863"/>
                    <a:pt x="772" y="872"/>
                  </a:cubicBezTo>
                  <a:cubicBezTo>
                    <a:pt x="766" y="884"/>
                    <a:pt x="742" y="899"/>
                    <a:pt x="739" y="912"/>
                  </a:cubicBezTo>
                  <a:cubicBezTo>
                    <a:pt x="737" y="920"/>
                    <a:pt x="727" y="935"/>
                    <a:pt x="727" y="935"/>
                  </a:cubicBezTo>
                  <a:cubicBezTo>
                    <a:pt x="723" y="947"/>
                    <a:pt x="732" y="959"/>
                    <a:pt x="728" y="971"/>
                  </a:cubicBezTo>
                  <a:cubicBezTo>
                    <a:pt x="724" y="983"/>
                    <a:pt x="705" y="1000"/>
                    <a:pt x="700" y="1011"/>
                  </a:cubicBezTo>
                  <a:cubicBezTo>
                    <a:pt x="695" y="1022"/>
                    <a:pt x="700" y="1032"/>
                    <a:pt x="695" y="1038"/>
                  </a:cubicBezTo>
                  <a:cubicBezTo>
                    <a:pt x="690" y="1044"/>
                    <a:pt x="679" y="1044"/>
                    <a:pt x="673" y="1047"/>
                  </a:cubicBezTo>
                  <a:cubicBezTo>
                    <a:pt x="668" y="1049"/>
                    <a:pt x="665" y="1054"/>
                    <a:pt x="661" y="1056"/>
                  </a:cubicBezTo>
                  <a:cubicBezTo>
                    <a:pt x="657" y="1058"/>
                    <a:pt x="657" y="1058"/>
                    <a:pt x="652" y="1061"/>
                  </a:cubicBezTo>
                  <a:cubicBezTo>
                    <a:pt x="648" y="1067"/>
                    <a:pt x="632" y="1074"/>
                    <a:pt x="632" y="1074"/>
                  </a:cubicBezTo>
                  <a:cubicBezTo>
                    <a:pt x="617" y="1044"/>
                    <a:pt x="595" y="1049"/>
                    <a:pt x="569" y="1035"/>
                  </a:cubicBezTo>
                  <a:cubicBezTo>
                    <a:pt x="555" y="1026"/>
                    <a:pt x="558" y="1036"/>
                    <a:pt x="545" y="1031"/>
                  </a:cubicBezTo>
                  <a:cubicBezTo>
                    <a:pt x="532" y="1026"/>
                    <a:pt x="510" y="1007"/>
                    <a:pt x="491" y="1005"/>
                  </a:cubicBezTo>
                  <a:cubicBezTo>
                    <a:pt x="439" y="1008"/>
                    <a:pt x="459" y="1000"/>
                    <a:pt x="428" y="1020"/>
                  </a:cubicBezTo>
                  <a:cubicBezTo>
                    <a:pt x="388" y="1047"/>
                    <a:pt x="447" y="1008"/>
                    <a:pt x="410" y="1029"/>
                  </a:cubicBezTo>
                  <a:cubicBezTo>
                    <a:pt x="404" y="1033"/>
                    <a:pt x="392" y="1041"/>
                    <a:pt x="392" y="1041"/>
                  </a:cubicBezTo>
                  <a:cubicBezTo>
                    <a:pt x="389" y="1040"/>
                    <a:pt x="384" y="1041"/>
                    <a:pt x="383" y="1038"/>
                  </a:cubicBezTo>
                  <a:cubicBezTo>
                    <a:pt x="378" y="1029"/>
                    <a:pt x="391" y="1013"/>
                    <a:pt x="391" y="1013"/>
                  </a:cubicBezTo>
                  <a:cubicBezTo>
                    <a:pt x="392" y="1005"/>
                    <a:pt x="403" y="982"/>
                    <a:pt x="401" y="975"/>
                  </a:cubicBezTo>
                  <a:cubicBezTo>
                    <a:pt x="399" y="968"/>
                    <a:pt x="386" y="970"/>
                    <a:pt x="380" y="971"/>
                  </a:cubicBezTo>
                  <a:cubicBezTo>
                    <a:pt x="374" y="972"/>
                    <a:pt x="375" y="976"/>
                    <a:pt x="364" y="980"/>
                  </a:cubicBezTo>
                  <a:cubicBezTo>
                    <a:pt x="343" y="987"/>
                    <a:pt x="333" y="995"/>
                    <a:pt x="311" y="998"/>
                  </a:cubicBezTo>
                  <a:cubicBezTo>
                    <a:pt x="298" y="1001"/>
                    <a:pt x="277" y="1009"/>
                    <a:pt x="269" y="1002"/>
                  </a:cubicBezTo>
                  <a:cubicBezTo>
                    <a:pt x="261" y="995"/>
                    <a:pt x="268" y="963"/>
                    <a:pt x="265" y="957"/>
                  </a:cubicBezTo>
                  <a:cubicBezTo>
                    <a:pt x="264" y="951"/>
                    <a:pt x="255" y="972"/>
                    <a:pt x="253" y="966"/>
                  </a:cubicBezTo>
                  <a:cubicBezTo>
                    <a:pt x="257" y="994"/>
                    <a:pt x="249" y="936"/>
                    <a:pt x="247" y="929"/>
                  </a:cubicBezTo>
                  <a:cubicBezTo>
                    <a:pt x="245" y="922"/>
                    <a:pt x="242" y="924"/>
                    <a:pt x="239" y="924"/>
                  </a:cubicBezTo>
                  <a:cubicBezTo>
                    <a:pt x="233" y="913"/>
                    <a:pt x="235" y="942"/>
                    <a:pt x="231" y="930"/>
                  </a:cubicBezTo>
                  <a:cubicBezTo>
                    <a:pt x="228" y="922"/>
                    <a:pt x="213" y="892"/>
                    <a:pt x="211" y="884"/>
                  </a:cubicBezTo>
                  <a:cubicBezTo>
                    <a:pt x="210" y="880"/>
                    <a:pt x="197" y="846"/>
                    <a:pt x="197" y="846"/>
                  </a:cubicBezTo>
                  <a:cubicBezTo>
                    <a:pt x="198" y="832"/>
                    <a:pt x="200" y="825"/>
                    <a:pt x="205" y="812"/>
                  </a:cubicBezTo>
                  <a:cubicBezTo>
                    <a:pt x="207" y="807"/>
                    <a:pt x="236" y="794"/>
                    <a:pt x="241" y="789"/>
                  </a:cubicBezTo>
                  <a:cubicBezTo>
                    <a:pt x="246" y="784"/>
                    <a:pt x="256" y="785"/>
                    <a:pt x="260" y="780"/>
                  </a:cubicBezTo>
                  <a:cubicBezTo>
                    <a:pt x="264" y="775"/>
                    <a:pt x="269" y="770"/>
                    <a:pt x="266" y="761"/>
                  </a:cubicBezTo>
                  <a:cubicBezTo>
                    <a:pt x="264" y="752"/>
                    <a:pt x="253" y="730"/>
                    <a:pt x="242" y="725"/>
                  </a:cubicBezTo>
                  <a:cubicBezTo>
                    <a:pt x="231" y="720"/>
                    <a:pt x="207" y="731"/>
                    <a:pt x="197" y="731"/>
                  </a:cubicBezTo>
                  <a:cubicBezTo>
                    <a:pt x="187" y="731"/>
                    <a:pt x="192" y="730"/>
                    <a:pt x="184" y="726"/>
                  </a:cubicBezTo>
                  <a:cubicBezTo>
                    <a:pt x="165" y="722"/>
                    <a:pt x="165" y="715"/>
                    <a:pt x="149" y="704"/>
                  </a:cubicBezTo>
                  <a:cubicBezTo>
                    <a:pt x="143" y="695"/>
                    <a:pt x="89" y="665"/>
                    <a:pt x="113" y="681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7112880" y="2740680"/>
              <a:ext cx="546120" cy="124020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安</a:t>
              </a:r>
              <a:r>
                <a:rPr b="1" i="1" lang="zh-CN" sz="2400" spc="-1" strike="noStrike">
                  <a:solidFill>
                    <a:srgbClr val="80808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徽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045200" y="2286000"/>
            <a:ext cx="1564920" cy="1460160"/>
            <a:chOff x="7045200" y="2286000"/>
            <a:chExt cx="1564920" cy="1460160"/>
          </a:xfrm>
        </p:grpSpPr>
        <p:sp>
          <p:nvSpPr>
            <p:cNvPr id="165" name="Freeform 9"/>
            <p:cNvSpPr/>
            <p:nvPr/>
          </p:nvSpPr>
          <p:spPr>
            <a:xfrm>
              <a:off x="7045200" y="2286000"/>
              <a:ext cx="1564920" cy="1315800"/>
            </a:xfrm>
            <a:custGeom>
              <a:avLst/>
              <a:gdLst/>
              <a:ahLst/>
              <a:rect l="l" t="t" r="r" b="b"/>
              <a:pathLst>
                <a:path w="965" h="828">
                  <a:moveTo>
                    <a:pt x="21" y="120"/>
                  </a:moveTo>
                  <a:cubicBezTo>
                    <a:pt x="25" y="109"/>
                    <a:pt x="21" y="87"/>
                    <a:pt x="28" y="77"/>
                  </a:cubicBezTo>
                  <a:cubicBezTo>
                    <a:pt x="32" y="59"/>
                    <a:pt x="40" y="57"/>
                    <a:pt x="56" y="47"/>
                  </a:cubicBezTo>
                  <a:cubicBezTo>
                    <a:pt x="65" y="44"/>
                    <a:pt x="90" y="55"/>
                    <a:pt x="100" y="62"/>
                  </a:cubicBezTo>
                  <a:cubicBezTo>
                    <a:pt x="110" y="69"/>
                    <a:pt x="112" y="79"/>
                    <a:pt x="118" y="89"/>
                  </a:cubicBezTo>
                  <a:cubicBezTo>
                    <a:pt x="125" y="99"/>
                    <a:pt x="124" y="114"/>
                    <a:pt x="135" y="122"/>
                  </a:cubicBezTo>
                  <a:cubicBezTo>
                    <a:pt x="171" y="137"/>
                    <a:pt x="173" y="127"/>
                    <a:pt x="216" y="133"/>
                  </a:cubicBezTo>
                  <a:cubicBezTo>
                    <a:pt x="228" y="131"/>
                    <a:pt x="260" y="109"/>
                    <a:pt x="260" y="109"/>
                  </a:cubicBezTo>
                  <a:cubicBezTo>
                    <a:pt x="267" y="99"/>
                    <a:pt x="262" y="120"/>
                    <a:pt x="271" y="111"/>
                  </a:cubicBezTo>
                  <a:cubicBezTo>
                    <a:pt x="278" y="108"/>
                    <a:pt x="280" y="102"/>
                    <a:pt x="285" y="102"/>
                  </a:cubicBezTo>
                  <a:cubicBezTo>
                    <a:pt x="290" y="103"/>
                    <a:pt x="295" y="113"/>
                    <a:pt x="303" y="120"/>
                  </a:cubicBezTo>
                  <a:cubicBezTo>
                    <a:pt x="313" y="124"/>
                    <a:pt x="318" y="140"/>
                    <a:pt x="331" y="144"/>
                  </a:cubicBezTo>
                  <a:cubicBezTo>
                    <a:pt x="357" y="138"/>
                    <a:pt x="332" y="117"/>
                    <a:pt x="350" y="99"/>
                  </a:cubicBezTo>
                  <a:cubicBezTo>
                    <a:pt x="357" y="93"/>
                    <a:pt x="363" y="104"/>
                    <a:pt x="372" y="104"/>
                  </a:cubicBezTo>
                  <a:cubicBezTo>
                    <a:pt x="381" y="101"/>
                    <a:pt x="394" y="94"/>
                    <a:pt x="402" y="83"/>
                  </a:cubicBezTo>
                  <a:cubicBezTo>
                    <a:pt x="410" y="78"/>
                    <a:pt x="416" y="46"/>
                    <a:pt x="422" y="39"/>
                  </a:cubicBezTo>
                  <a:cubicBezTo>
                    <a:pt x="430" y="28"/>
                    <a:pt x="441" y="21"/>
                    <a:pt x="448" y="17"/>
                  </a:cubicBezTo>
                  <a:cubicBezTo>
                    <a:pt x="448" y="17"/>
                    <a:pt x="460" y="20"/>
                    <a:pt x="465" y="17"/>
                  </a:cubicBezTo>
                  <a:cubicBezTo>
                    <a:pt x="478" y="9"/>
                    <a:pt x="491" y="6"/>
                    <a:pt x="506" y="5"/>
                  </a:cubicBezTo>
                  <a:cubicBezTo>
                    <a:pt x="520" y="0"/>
                    <a:pt x="522" y="21"/>
                    <a:pt x="526" y="33"/>
                  </a:cubicBezTo>
                  <a:cubicBezTo>
                    <a:pt x="522" y="72"/>
                    <a:pt x="501" y="86"/>
                    <a:pt x="550" y="93"/>
                  </a:cubicBezTo>
                  <a:cubicBezTo>
                    <a:pt x="565" y="107"/>
                    <a:pt x="597" y="103"/>
                    <a:pt x="616" y="114"/>
                  </a:cubicBezTo>
                  <a:cubicBezTo>
                    <a:pt x="635" y="125"/>
                    <a:pt x="657" y="147"/>
                    <a:pt x="667" y="159"/>
                  </a:cubicBezTo>
                  <a:cubicBezTo>
                    <a:pt x="671" y="171"/>
                    <a:pt x="673" y="177"/>
                    <a:pt x="679" y="188"/>
                  </a:cubicBezTo>
                  <a:cubicBezTo>
                    <a:pt x="690" y="208"/>
                    <a:pt x="698" y="223"/>
                    <a:pt x="708" y="243"/>
                  </a:cubicBezTo>
                  <a:cubicBezTo>
                    <a:pt x="711" y="249"/>
                    <a:pt x="705" y="255"/>
                    <a:pt x="709" y="261"/>
                  </a:cubicBezTo>
                  <a:cubicBezTo>
                    <a:pt x="714" y="268"/>
                    <a:pt x="718" y="282"/>
                    <a:pt x="718" y="282"/>
                  </a:cubicBezTo>
                  <a:cubicBezTo>
                    <a:pt x="721" y="289"/>
                    <a:pt x="725" y="307"/>
                    <a:pt x="733" y="318"/>
                  </a:cubicBezTo>
                  <a:cubicBezTo>
                    <a:pt x="741" y="329"/>
                    <a:pt x="759" y="341"/>
                    <a:pt x="765" y="351"/>
                  </a:cubicBezTo>
                  <a:cubicBezTo>
                    <a:pt x="771" y="361"/>
                    <a:pt x="764" y="361"/>
                    <a:pt x="769" y="377"/>
                  </a:cubicBezTo>
                  <a:cubicBezTo>
                    <a:pt x="774" y="393"/>
                    <a:pt x="791" y="432"/>
                    <a:pt x="796" y="447"/>
                  </a:cubicBezTo>
                  <a:cubicBezTo>
                    <a:pt x="807" y="476"/>
                    <a:pt x="794" y="457"/>
                    <a:pt x="802" y="468"/>
                  </a:cubicBezTo>
                  <a:cubicBezTo>
                    <a:pt x="810" y="479"/>
                    <a:pt x="825" y="502"/>
                    <a:pt x="843" y="516"/>
                  </a:cubicBezTo>
                  <a:cubicBezTo>
                    <a:pt x="865" y="538"/>
                    <a:pt x="885" y="542"/>
                    <a:pt x="910" y="555"/>
                  </a:cubicBezTo>
                  <a:cubicBezTo>
                    <a:pt x="920" y="560"/>
                    <a:pt x="927" y="570"/>
                    <a:pt x="937" y="576"/>
                  </a:cubicBezTo>
                  <a:cubicBezTo>
                    <a:pt x="945" y="588"/>
                    <a:pt x="952" y="590"/>
                    <a:pt x="961" y="603"/>
                  </a:cubicBezTo>
                  <a:cubicBezTo>
                    <a:pt x="965" y="609"/>
                    <a:pt x="951" y="617"/>
                    <a:pt x="951" y="617"/>
                  </a:cubicBezTo>
                  <a:cubicBezTo>
                    <a:pt x="935" y="622"/>
                    <a:pt x="909" y="624"/>
                    <a:pt x="901" y="624"/>
                  </a:cubicBezTo>
                  <a:cubicBezTo>
                    <a:pt x="889" y="632"/>
                    <a:pt x="876" y="643"/>
                    <a:pt x="862" y="648"/>
                  </a:cubicBezTo>
                  <a:cubicBezTo>
                    <a:pt x="856" y="671"/>
                    <a:pt x="864" y="685"/>
                    <a:pt x="871" y="705"/>
                  </a:cubicBezTo>
                  <a:cubicBezTo>
                    <a:pt x="870" y="716"/>
                    <a:pt x="869" y="759"/>
                    <a:pt x="858" y="770"/>
                  </a:cubicBezTo>
                  <a:cubicBezTo>
                    <a:pt x="844" y="784"/>
                    <a:pt x="851" y="772"/>
                    <a:pt x="829" y="786"/>
                  </a:cubicBezTo>
                  <a:cubicBezTo>
                    <a:pt x="826" y="788"/>
                    <a:pt x="820" y="792"/>
                    <a:pt x="820" y="792"/>
                  </a:cubicBezTo>
                  <a:cubicBezTo>
                    <a:pt x="817" y="797"/>
                    <a:pt x="816" y="811"/>
                    <a:pt x="811" y="818"/>
                  </a:cubicBezTo>
                  <a:cubicBezTo>
                    <a:pt x="809" y="821"/>
                    <a:pt x="796" y="828"/>
                    <a:pt x="796" y="828"/>
                  </a:cubicBezTo>
                  <a:cubicBezTo>
                    <a:pt x="770" y="825"/>
                    <a:pt x="767" y="820"/>
                    <a:pt x="748" y="816"/>
                  </a:cubicBezTo>
                  <a:cubicBezTo>
                    <a:pt x="736" y="813"/>
                    <a:pt x="723" y="823"/>
                    <a:pt x="714" y="822"/>
                  </a:cubicBezTo>
                  <a:cubicBezTo>
                    <a:pt x="705" y="821"/>
                    <a:pt x="704" y="816"/>
                    <a:pt x="694" y="810"/>
                  </a:cubicBezTo>
                  <a:cubicBezTo>
                    <a:pt x="681" y="797"/>
                    <a:pt x="671" y="792"/>
                    <a:pt x="654" y="786"/>
                  </a:cubicBezTo>
                  <a:cubicBezTo>
                    <a:pt x="626" y="789"/>
                    <a:pt x="628" y="794"/>
                    <a:pt x="607" y="801"/>
                  </a:cubicBezTo>
                  <a:cubicBezTo>
                    <a:pt x="564" y="798"/>
                    <a:pt x="574" y="798"/>
                    <a:pt x="547" y="789"/>
                  </a:cubicBezTo>
                  <a:cubicBezTo>
                    <a:pt x="518" y="792"/>
                    <a:pt x="509" y="795"/>
                    <a:pt x="481" y="792"/>
                  </a:cubicBezTo>
                  <a:cubicBezTo>
                    <a:pt x="468" y="783"/>
                    <a:pt x="480" y="788"/>
                    <a:pt x="486" y="768"/>
                  </a:cubicBezTo>
                  <a:cubicBezTo>
                    <a:pt x="488" y="762"/>
                    <a:pt x="481" y="750"/>
                    <a:pt x="481" y="750"/>
                  </a:cubicBezTo>
                  <a:cubicBezTo>
                    <a:pt x="480" y="737"/>
                    <a:pt x="479" y="730"/>
                    <a:pt x="471" y="720"/>
                  </a:cubicBezTo>
                  <a:cubicBezTo>
                    <a:pt x="462" y="709"/>
                    <a:pt x="454" y="699"/>
                    <a:pt x="444" y="687"/>
                  </a:cubicBezTo>
                  <a:cubicBezTo>
                    <a:pt x="435" y="676"/>
                    <a:pt x="426" y="660"/>
                    <a:pt x="418" y="648"/>
                  </a:cubicBezTo>
                  <a:cubicBezTo>
                    <a:pt x="415" y="638"/>
                    <a:pt x="418" y="638"/>
                    <a:pt x="418" y="638"/>
                  </a:cubicBezTo>
                  <a:cubicBezTo>
                    <a:pt x="421" y="622"/>
                    <a:pt x="423" y="618"/>
                    <a:pt x="426" y="602"/>
                  </a:cubicBezTo>
                  <a:cubicBezTo>
                    <a:pt x="440" y="581"/>
                    <a:pt x="438" y="583"/>
                    <a:pt x="453" y="573"/>
                  </a:cubicBezTo>
                  <a:cubicBezTo>
                    <a:pt x="459" y="546"/>
                    <a:pt x="475" y="545"/>
                    <a:pt x="489" y="531"/>
                  </a:cubicBezTo>
                  <a:cubicBezTo>
                    <a:pt x="510" y="527"/>
                    <a:pt x="514" y="513"/>
                    <a:pt x="514" y="513"/>
                  </a:cubicBezTo>
                  <a:cubicBezTo>
                    <a:pt x="527" y="496"/>
                    <a:pt x="532" y="492"/>
                    <a:pt x="523" y="468"/>
                  </a:cubicBezTo>
                  <a:cubicBezTo>
                    <a:pt x="519" y="458"/>
                    <a:pt x="489" y="461"/>
                    <a:pt x="483" y="447"/>
                  </a:cubicBezTo>
                  <a:cubicBezTo>
                    <a:pt x="465" y="443"/>
                    <a:pt x="447" y="462"/>
                    <a:pt x="447" y="462"/>
                  </a:cubicBezTo>
                  <a:cubicBezTo>
                    <a:pt x="432" y="477"/>
                    <a:pt x="418" y="485"/>
                    <a:pt x="397" y="492"/>
                  </a:cubicBezTo>
                  <a:cubicBezTo>
                    <a:pt x="369" y="488"/>
                    <a:pt x="364" y="481"/>
                    <a:pt x="388" y="465"/>
                  </a:cubicBezTo>
                  <a:cubicBezTo>
                    <a:pt x="394" y="456"/>
                    <a:pt x="397" y="447"/>
                    <a:pt x="403" y="438"/>
                  </a:cubicBezTo>
                  <a:cubicBezTo>
                    <a:pt x="382" y="422"/>
                    <a:pt x="355" y="412"/>
                    <a:pt x="333" y="398"/>
                  </a:cubicBezTo>
                  <a:cubicBezTo>
                    <a:pt x="321" y="389"/>
                    <a:pt x="337" y="388"/>
                    <a:pt x="334" y="380"/>
                  </a:cubicBezTo>
                  <a:cubicBezTo>
                    <a:pt x="331" y="372"/>
                    <a:pt x="313" y="362"/>
                    <a:pt x="312" y="351"/>
                  </a:cubicBezTo>
                  <a:cubicBezTo>
                    <a:pt x="318" y="341"/>
                    <a:pt x="343" y="333"/>
                    <a:pt x="328" y="315"/>
                  </a:cubicBezTo>
                  <a:cubicBezTo>
                    <a:pt x="325" y="299"/>
                    <a:pt x="327" y="316"/>
                    <a:pt x="313" y="302"/>
                  </a:cubicBezTo>
                  <a:cubicBezTo>
                    <a:pt x="304" y="293"/>
                    <a:pt x="304" y="285"/>
                    <a:pt x="295" y="276"/>
                  </a:cubicBezTo>
                  <a:cubicBezTo>
                    <a:pt x="276" y="257"/>
                    <a:pt x="210" y="246"/>
                    <a:pt x="184" y="240"/>
                  </a:cubicBezTo>
                  <a:cubicBezTo>
                    <a:pt x="161" y="230"/>
                    <a:pt x="175" y="226"/>
                    <a:pt x="165" y="216"/>
                  </a:cubicBezTo>
                  <a:cubicBezTo>
                    <a:pt x="155" y="206"/>
                    <a:pt x="139" y="195"/>
                    <a:pt x="124" y="182"/>
                  </a:cubicBezTo>
                  <a:cubicBezTo>
                    <a:pt x="105" y="167"/>
                    <a:pt x="85" y="150"/>
                    <a:pt x="72" y="141"/>
                  </a:cubicBezTo>
                  <a:cubicBezTo>
                    <a:pt x="59" y="132"/>
                    <a:pt x="52" y="133"/>
                    <a:pt x="43" y="129"/>
                  </a:cubicBezTo>
                  <a:cubicBezTo>
                    <a:pt x="34" y="125"/>
                    <a:pt x="23" y="116"/>
                    <a:pt x="19" y="114"/>
                  </a:cubicBezTo>
                  <a:cubicBezTo>
                    <a:pt x="0" y="120"/>
                    <a:pt x="17" y="118"/>
                    <a:pt x="16" y="119"/>
                  </a:cubicBezTo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7394760" y="2602080"/>
              <a:ext cx="911880" cy="11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江</a:t>
              </a:r>
              <a:r>
                <a:rPr b="1" i="1" lang="zh-CN" sz="2400" spc="-1" strike="noStrike">
                  <a:solidFill>
                    <a:srgbClr val="808080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苏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67" name="Group 11"/>
          <p:cNvGrpSpPr/>
          <p:nvPr/>
        </p:nvGrpSpPr>
        <p:grpSpPr>
          <a:xfrm>
            <a:off x="6483240" y="3975120"/>
            <a:ext cx="1323720" cy="1787400"/>
            <a:chOff x="6483240" y="3975120"/>
            <a:chExt cx="1323720" cy="1787400"/>
          </a:xfrm>
        </p:grpSpPr>
        <p:sp>
          <p:nvSpPr>
            <p:cNvPr id="168" name="Freeform 12"/>
            <p:cNvSpPr/>
            <p:nvPr/>
          </p:nvSpPr>
          <p:spPr>
            <a:xfrm>
              <a:off x="6483240" y="3975120"/>
              <a:ext cx="1323720" cy="1787400"/>
            </a:xfrm>
            <a:custGeom>
              <a:avLst/>
              <a:gdLst/>
              <a:ahLst/>
              <a:rect l="l" t="t" r="r" b="b"/>
              <a:pathLst>
                <a:path w="834" h="1126">
                  <a:moveTo>
                    <a:pt x="74" y="956"/>
                  </a:moveTo>
                  <a:cubicBezTo>
                    <a:pt x="106" y="952"/>
                    <a:pt x="90" y="954"/>
                    <a:pt x="113" y="946"/>
                  </a:cubicBezTo>
                  <a:cubicBezTo>
                    <a:pt x="168" y="949"/>
                    <a:pt x="187" y="943"/>
                    <a:pt x="220" y="976"/>
                  </a:cubicBezTo>
                  <a:cubicBezTo>
                    <a:pt x="225" y="990"/>
                    <a:pt x="214" y="1009"/>
                    <a:pt x="203" y="1022"/>
                  </a:cubicBezTo>
                  <a:cubicBezTo>
                    <a:pt x="199" y="1027"/>
                    <a:pt x="182" y="1034"/>
                    <a:pt x="176" y="1037"/>
                  </a:cubicBezTo>
                  <a:cubicBezTo>
                    <a:pt x="170" y="1040"/>
                    <a:pt x="158" y="1043"/>
                    <a:pt x="158" y="1043"/>
                  </a:cubicBezTo>
                  <a:cubicBezTo>
                    <a:pt x="152" y="1052"/>
                    <a:pt x="157" y="1060"/>
                    <a:pt x="151" y="1069"/>
                  </a:cubicBezTo>
                  <a:cubicBezTo>
                    <a:pt x="149" y="1078"/>
                    <a:pt x="135" y="1102"/>
                    <a:pt x="143" y="1108"/>
                  </a:cubicBezTo>
                  <a:cubicBezTo>
                    <a:pt x="151" y="1114"/>
                    <a:pt x="182" y="1103"/>
                    <a:pt x="197" y="1105"/>
                  </a:cubicBezTo>
                  <a:cubicBezTo>
                    <a:pt x="205" y="1110"/>
                    <a:pt x="232" y="1121"/>
                    <a:pt x="232" y="1121"/>
                  </a:cubicBezTo>
                  <a:cubicBezTo>
                    <a:pt x="256" y="1106"/>
                    <a:pt x="291" y="1098"/>
                    <a:pt x="314" y="1096"/>
                  </a:cubicBezTo>
                  <a:cubicBezTo>
                    <a:pt x="335" y="1096"/>
                    <a:pt x="346" y="1121"/>
                    <a:pt x="358" y="1124"/>
                  </a:cubicBezTo>
                  <a:cubicBezTo>
                    <a:pt x="369" y="1126"/>
                    <a:pt x="373" y="1116"/>
                    <a:pt x="382" y="1111"/>
                  </a:cubicBezTo>
                  <a:cubicBezTo>
                    <a:pt x="399" y="1107"/>
                    <a:pt x="400" y="1110"/>
                    <a:pt x="413" y="1097"/>
                  </a:cubicBezTo>
                  <a:cubicBezTo>
                    <a:pt x="416" y="1087"/>
                    <a:pt x="427" y="1057"/>
                    <a:pt x="427" y="1057"/>
                  </a:cubicBezTo>
                  <a:cubicBezTo>
                    <a:pt x="427" y="1042"/>
                    <a:pt x="409" y="1017"/>
                    <a:pt x="409" y="1003"/>
                  </a:cubicBezTo>
                  <a:cubicBezTo>
                    <a:pt x="409" y="989"/>
                    <a:pt x="424" y="979"/>
                    <a:pt x="430" y="974"/>
                  </a:cubicBezTo>
                  <a:cubicBezTo>
                    <a:pt x="436" y="969"/>
                    <a:pt x="440" y="974"/>
                    <a:pt x="448" y="970"/>
                  </a:cubicBezTo>
                  <a:cubicBezTo>
                    <a:pt x="450" y="924"/>
                    <a:pt x="452" y="977"/>
                    <a:pt x="457" y="892"/>
                  </a:cubicBezTo>
                  <a:cubicBezTo>
                    <a:pt x="457" y="865"/>
                    <a:pt x="454" y="867"/>
                    <a:pt x="467" y="850"/>
                  </a:cubicBezTo>
                  <a:cubicBezTo>
                    <a:pt x="523" y="785"/>
                    <a:pt x="486" y="799"/>
                    <a:pt x="494" y="785"/>
                  </a:cubicBezTo>
                  <a:cubicBezTo>
                    <a:pt x="500" y="771"/>
                    <a:pt x="503" y="773"/>
                    <a:pt x="505" y="767"/>
                  </a:cubicBezTo>
                  <a:cubicBezTo>
                    <a:pt x="507" y="761"/>
                    <a:pt x="504" y="770"/>
                    <a:pt x="506" y="749"/>
                  </a:cubicBezTo>
                  <a:cubicBezTo>
                    <a:pt x="501" y="695"/>
                    <a:pt x="484" y="682"/>
                    <a:pt x="515" y="643"/>
                  </a:cubicBezTo>
                  <a:cubicBezTo>
                    <a:pt x="525" y="628"/>
                    <a:pt x="553" y="617"/>
                    <a:pt x="566" y="610"/>
                  </a:cubicBezTo>
                  <a:cubicBezTo>
                    <a:pt x="574" y="606"/>
                    <a:pt x="599" y="602"/>
                    <a:pt x="599" y="602"/>
                  </a:cubicBezTo>
                  <a:cubicBezTo>
                    <a:pt x="601" y="567"/>
                    <a:pt x="623" y="598"/>
                    <a:pt x="604" y="547"/>
                  </a:cubicBezTo>
                  <a:cubicBezTo>
                    <a:pt x="605" y="521"/>
                    <a:pt x="607" y="523"/>
                    <a:pt x="625" y="494"/>
                  </a:cubicBezTo>
                  <a:cubicBezTo>
                    <a:pt x="633" y="493"/>
                    <a:pt x="630" y="489"/>
                    <a:pt x="641" y="479"/>
                  </a:cubicBezTo>
                  <a:cubicBezTo>
                    <a:pt x="652" y="469"/>
                    <a:pt x="677" y="441"/>
                    <a:pt x="689" y="433"/>
                  </a:cubicBezTo>
                  <a:cubicBezTo>
                    <a:pt x="712" y="419"/>
                    <a:pt x="692" y="438"/>
                    <a:pt x="715" y="430"/>
                  </a:cubicBezTo>
                  <a:cubicBezTo>
                    <a:pt x="720" y="410"/>
                    <a:pt x="737" y="412"/>
                    <a:pt x="754" y="401"/>
                  </a:cubicBezTo>
                  <a:cubicBezTo>
                    <a:pt x="778" y="391"/>
                    <a:pt x="768" y="385"/>
                    <a:pt x="799" y="377"/>
                  </a:cubicBezTo>
                  <a:cubicBezTo>
                    <a:pt x="807" y="369"/>
                    <a:pt x="821" y="362"/>
                    <a:pt x="821" y="350"/>
                  </a:cubicBezTo>
                  <a:cubicBezTo>
                    <a:pt x="824" y="340"/>
                    <a:pt x="819" y="324"/>
                    <a:pt x="821" y="310"/>
                  </a:cubicBezTo>
                  <a:cubicBezTo>
                    <a:pt x="823" y="296"/>
                    <a:pt x="834" y="277"/>
                    <a:pt x="832" y="265"/>
                  </a:cubicBezTo>
                  <a:cubicBezTo>
                    <a:pt x="830" y="253"/>
                    <a:pt x="814" y="243"/>
                    <a:pt x="811" y="235"/>
                  </a:cubicBezTo>
                  <a:cubicBezTo>
                    <a:pt x="808" y="227"/>
                    <a:pt x="816" y="224"/>
                    <a:pt x="814" y="217"/>
                  </a:cubicBezTo>
                  <a:cubicBezTo>
                    <a:pt x="812" y="210"/>
                    <a:pt x="804" y="204"/>
                    <a:pt x="796" y="194"/>
                  </a:cubicBezTo>
                  <a:cubicBezTo>
                    <a:pt x="788" y="184"/>
                    <a:pt x="767" y="168"/>
                    <a:pt x="763" y="157"/>
                  </a:cubicBezTo>
                  <a:cubicBezTo>
                    <a:pt x="759" y="146"/>
                    <a:pt x="769" y="138"/>
                    <a:pt x="770" y="128"/>
                  </a:cubicBezTo>
                  <a:cubicBezTo>
                    <a:pt x="771" y="118"/>
                    <a:pt x="780" y="105"/>
                    <a:pt x="770" y="95"/>
                  </a:cubicBezTo>
                  <a:cubicBezTo>
                    <a:pt x="760" y="85"/>
                    <a:pt x="736" y="78"/>
                    <a:pt x="709" y="68"/>
                  </a:cubicBezTo>
                  <a:cubicBezTo>
                    <a:pt x="672" y="67"/>
                    <a:pt x="649" y="25"/>
                    <a:pt x="605" y="37"/>
                  </a:cubicBezTo>
                  <a:cubicBezTo>
                    <a:pt x="593" y="36"/>
                    <a:pt x="578" y="60"/>
                    <a:pt x="566" y="58"/>
                  </a:cubicBezTo>
                  <a:cubicBezTo>
                    <a:pt x="556" y="58"/>
                    <a:pt x="539" y="73"/>
                    <a:pt x="533" y="73"/>
                  </a:cubicBezTo>
                  <a:cubicBezTo>
                    <a:pt x="527" y="73"/>
                    <a:pt x="525" y="68"/>
                    <a:pt x="527" y="58"/>
                  </a:cubicBezTo>
                  <a:cubicBezTo>
                    <a:pt x="529" y="48"/>
                    <a:pt x="548" y="22"/>
                    <a:pt x="547" y="13"/>
                  </a:cubicBezTo>
                  <a:cubicBezTo>
                    <a:pt x="546" y="4"/>
                    <a:pt x="530" y="1"/>
                    <a:pt x="523" y="2"/>
                  </a:cubicBezTo>
                  <a:cubicBezTo>
                    <a:pt x="513" y="0"/>
                    <a:pt x="513" y="18"/>
                    <a:pt x="503" y="17"/>
                  </a:cubicBezTo>
                  <a:cubicBezTo>
                    <a:pt x="494" y="17"/>
                    <a:pt x="495" y="20"/>
                    <a:pt x="481" y="22"/>
                  </a:cubicBezTo>
                  <a:cubicBezTo>
                    <a:pt x="467" y="24"/>
                    <a:pt x="441" y="26"/>
                    <a:pt x="416" y="28"/>
                  </a:cubicBezTo>
                  <a:cubicBezTo>
                    <a:pt x="389" y="55"/>
                    <a:pt x="410" y="28"/>
                    <a:pt x="328" y="34"/>
                  </a:cubicBezTo>
                  <a:cubicBezTo>
                    <a:pt x="314" y="35"/>
                    <a:pt x="301" y="53"/>
                    <a:pt x="301" y="53"/>
                  </a:cubicBezTo>
                  <a:cubicBezTo>
                    <a:pt x="293" y="60"/>
                    <a:pt x="290" y="69"/>
                    <a:pt x="283" y="77"/>
                  </a:cubicBezTo>
                  <a:cubicBezTo>
                    <a:pt x="276" y="85"/>
                    <a:pt x="281" y="92"/>
                    <a:pt x="260" y="104"/>
                  </a:cubicBezTo>
                  <a:cubicBezTo>
                    <a:pt x="242" y="126"/>
                    <a:pt x="185" y="145"/>
                    <a:pt x="158" y="152"/>
                  </a:cubicBezTo>
                  <a:cubicBezTo>
                    <a:pt x="136" y="164"/>
                    <a:pt x="143" y="165"/>
                    <a:pt x="133" y="170"/>
                  </a:cubicBezTo>
                  <a:cubicBezTo>
                    <a:pt x="123" y="175"/>
                    <a:pt x="107" y="180"/>
                    <a:pt x="100" y="185"/>
                  </a:cubicBezTo>
                  <a:cubicBezTo>
                    <a:pt x="91" y="194"/>
                    <a:pt x="99" y="192"/>
                    <a:pt x="92" y="202"/>
                  </a:cubicBezTo>
                  <a:cubicBezTo>
                    <a:pt x="88" y="210"/>
                    <a:pt x="89" y="226"/>
                    <a:pt x="86" y="232"/>
                  </a:cubicBezTo>
                  <a:cubicBezTo>
                    <a:pt x="83" y="238"/>
                    <a:pt x="79" y="233"/>
                    <a:pt x="76" y="238"/>
                  </a:cubicBezTo>
                  <a:cubicBezTo>
                    <a:pt x="75" y="246"/>
                    <a:pt x="70" y="252"/>
                    <a:pt x="68" y="260"/>
                  </a:cubicBezTo>
                  <a:cubicBezTo>
                    <a:pt x="67" y="264"/>
                    <a:pt x="68" y="272"/>
                    <a:pt x="68" y="272"/>
                  </a:cubicBezTo>
                  <a:cubicBezTo>
                    <a:pt x="70" y="288"/>
                    <a:pt x="76" y="293"/>
                    <a:pt x="83" y="308"/>
                  </a:cubicBezTo>
                  <a:cubicBezTo>
                    <a:pt x="87" y="316"/>
                    <a:pt x="75" y="329"/>
                    <a:pt x="79" y="337"/>
                  </a:cubicBezTo>
                  <a:cubicBezTo>
                    <a:pt x="81" y="341"/>
                    <a:pt x="80" y="359"/>
                    <a:pt x="80" y="359"/>
                  </a:cubicBezTo>
                  <a:cubicBezTo>
                    <a:pt x="103" y="412"/>
                    <a:pt x="89" y="400"/>
                    <a:pt x="59" y="436"/>
                  </a:cubicBezTo>
                  <a:cubicBezTo>
                    <a:pt x="48" y="457"/>
                    <a:pt x="42" y="471"/>
                    <a:pt x="35" y="494"/>
                  </a:cubicBezTo>
                  <a:cubicBezTo>
                    <a:pt x="32" y="505"/>
                    <a:pt x="2" y="514"/>
                    <a:pt x="2" y="514"/>
                  </a:cubicBezTo>
                  <a:cubicBezTo>
                    <a:pt x="0" y="524"/>
                    <a:pt x="5" y="544"/>
                    <a:pt x="7" y="554"/>
                  </a:cubicBezTo>
                  <a:cubicBezTo>
                    <a:pt x="9" y="564"/>
                    <a:pt x="12" y="573"/>
                    <a:pt x="16" y="577"/>
                  </a:cubicBezTo>
                  <a:cubicBezTo>
                    <a:pt x="20" y="581"/>
                    <a:pt x="25" y="579"/>
                    <a:pt x="29" y="580"/>
                  </a:cubicBezTo>
                  <a:cubicBezTo>
                    <a:pt x="33" y="581"/>
                    <a:pt x="37" y="579"/>
                    <a:pt x="40" y="581"/>
                  </a:cubicBezTo>
                  <a:cubicBezTo>
                    <a:pt x="43" y="583"/>
                    <a:pt x="46" y="585"/>
                    <a:pt x="49" y="589"/>
                  </a:cubicBezTo>
                  <a:cubicBezTo>
                    <a:pt x="52" y="593"/>
                    <a:pt x="56" y="595"/>
                    <a:pt x="55" y="605"/>
                  </a:cubicBezTo>
                  <a:cubicBezTo>
                    <a:pt x="56" y="619"/>
                    <a:pt x="39" y="634"/>
                    <a:pt x="44" y="647"/>
                  </a:cubicBezTo>
                  <a:cubicBezTo>
                    <a:pt x="48" y="657"/>
                    <a:pt x="60" y="698"/>
                    <a:pt x="68" y="709"/>
                  </a:cubicBezTo>
                  <a:cubicBezTo>
                    <a:pt x="83" y="724"/>
                    <a:pt x="98" y="721"/>
                    <a:pt x="104" y="727"/>
                  </a:cubicBezTo>
                  <a:cubicBezTo>
                    <a:pt x="110" y="733"/>
                    <a:pt x="109" y="736"/>
                    <a:pt x="107" y="743"/>
                  </a:cubicBezTo>
                  <a:cubicBezTo>
                    <a:pt x="110" y="757"/>
                    <a:pt x="99" y="761"/>
                    <a:pt x="94" y="767"/>
                  </a:cubicBezTo>
                  <a:cubicBezTo>
                    <a:pt x="89" y="773"/>
                    <a:pt x="76" y="776"/>
                    <a:pt x="76" y="782"/>
                  </a:cubicBezTo>
                  <a:cubicBezTo>
                    <a:pt x="73" y="793"/>
                    <a:pt x="88" y="797"/>
                    <a:pt x="94" y="806"/>
                  </a:cubicBezTo>
                  <a:cubicBezTo>
                    <a:pt x="100" y="810"/>
                    <a:pt x="112" y="804"/>
                    <a:pt x="115" y="809"/>
                  </a:cubicBezTo>
                  <a:cubicBezTo>
                    <a:pt x="118" y="814"/>
                    <a:pt x="114" y="827"/>
                    <a:pt x="110" y="835"/>
                  </a:cubicBezTo>
                  <a:cubicBezTo>
                    <a:pt x="106" y="850"/>
                    <a:pt x="100" y="844"/>
                    <a:pt x="89" y="857"/>
                  </a:cubicBezTo>
                  <a:cubicBezTo>
                    <a:pt x="83" y="864"/>
                    <a:pt x="68" y="869"/>
                    <a:pt x="65" y="877"/>
                  </a:cubicBezTo>
                  <a:cubicBezTo>
                    <a:pt x="62" y="885"/>
                    <a:pt x="66" y="898"/>
                    <a:pt x="68" y="908"/>
                  </a:cubicBezTo>
                  <a:cubicBezTo>
                    <a:pt x="70" y="918"/>
                    <a:pt x="78" y="929"/>
                    <a:pt x="79" y="937"/>
                  </a:cubicBezTo>
                  <a:cubicBezTo>
                    <a:pt x="80" y="945"/>
                    <a:pt x="75" y="952"/>
                    <a:pt x="74" y="956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6490440" y="4309920"/>
              <a:ext cx="911880" cy="10368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江　西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5126040" y="4051440"/>
            <a:ext cx="1538280" cy="1724040"/>
            <a:chOff x="5126040" y="4051440"/>
            <a:chExt cx="1538280" cy="1724040"/>
          </a:xfrm>
        </p:grpSpPr>
        <p:sp>
          <p:nvSpPr>
            <p:cNvPr id="171" name="Freeform 15"/>
            <p:cNvSpPr/>
            <p:nvPr/>
          </p:nvSpPr>
          <p:spPr>
            <a:xfrm>
              <a:off x="5126040" y="4051440"/>
              <a:ext cx="1538280" cy="1724040"/>
            </a:xfrm>
            <a:custGeom>
              <a:avLst/>
              <a:gdLst/>
              <a:ahLst/>
              <a:rect l="l" t="t" r="r" b="b"/>
              <a:pathLst>
                <a:path w="969" h="1086">
                  <a:moveTo>
                    <a:pt x="87" y="340"/>
                  </a:moveTo>
                  <a:cubicBezTo>
                    <a:pt x="91" y="351"/>
                    <a:pt x="89" y="351"/>
                    <a:pt x="96" y="361"/>
                  </a:cubicBezTo>
                  <a:cubicBezTo>
                    <a:pt x="99" y="369"/>
                    <a:pt x="99" y="380"/>
                    <a:pt x="99" y="392"/>
                  </a:cubicBezTo>
                  <a:cubicBezTo>
                    <a:pt x="99" y="404"/>
                    <a:pt x="96" y="417"/>
                    <a:pt x="99" y="432"/>
                  </a:cubicBezTo>
                  <a:cubicBezTo>
                    <a:pt x="100" y="445"/>
                    <a:pt x="113" y="469"/>
                    <a:pt x="117" y="482"/>
                  </a:cubicBezTo>
                  <a:cubicBezTo>
                    <a:pt x="116" y="489"/>
                    <a:pt x="93" y="514"/>
                    <a:pt x="89" y="520"/>
                  </a:cubicBezTo>
                  <a:cubicBezTo>
                    <a:pt x="82" y="532"/>
                    <a:pt x="75" y="516"/>
                    <a:pt x="61" y="532"/>
                  </a:cubicBezTo>
                  <a:cubicBezTo>
                    <a:pt x="42" y="538"/>
                    <a:pt x="29" y="550"/>
                    <a:pt x="15" y="564"/>
                  </a:cubicBezTo>
                  <a:cubicBezTo>
                    <a:pt x="3" y="576"/>
                    <a:pt x="7" y="575"/>
                    <a:pt x="1" y="592"/>
                  </a:cubicBezTo>
                  <a:cubicBezTo>
                    <a:pt x="0" y="595"/>
                    <a:pt x="9" y="604"/>
                    <a:pt x="9" y="604"/>
                  </a:cubicBezTo>
                  <a:cubicBezTo>
                    <a:pt x="13" y="618"/>
                    <a:pt x="21" y="611"/>
                    <a:pt x="35" y="616"/>
                  </a:cubicBezTo>
                  <a:cubicBezTo>
                    <a:pt x="49" y="617"/>
                    <a:pt x="74" y="614"/>
                    <a:pt x="87" y="616"/>
                  </a:cubicBezTo>
                  <a:cubicBezTo>
                    <a:pt x="99" y="619"/>
                    <a:pt x="107" y="622"/>
                    <a:pt x="109" y="634"/>
                  </a:cubicBezTo>
                  <a:cubicBezTo>
                    <a:pt x="97" y="652"/>
                    <a:pt x="103" y="674"/>
                    <a:pt x="101" y="690"/>
                  </a:cubicBezTo>
                  <a:cubicBezTo>
                    <a:pt x="97" y="707"/>
                    <a:pt x="83" y="724"/>
                    <a:pt x="85" y="736"/>
                  </a:cubicBezTo>
                  <a:cubicBezTo>
                    <a:pt x="89" y="758"/>
                    <a:pt x="91" y="748"/>
                    <a:pt x="113" y="763"/>
                  </a:cubicBezTo>
                  <a:cubicBezTo>
                    <a:pt x="116" y="765"/>
                    <a:pt x="123" y="763"/>
                    <a:pt x="123" y="763"/>
                  </a:cubicBezTo>
                  <a:cubicBezTo>
                    <a:pt x="127" y="770"/>
                    <a:pt x="138" y="778"/>
                    <a:pt x="144" y="792"/>
                  </a:cubicBezTo>
                  <a:cubicBezTo>
                    <a:pt x="150" y="806"/>
                    <a:pt x="151" y="839"/>
                    <a:pt x="156" y="849"/>
                  </a:cubicBezTo>
                  <a:cubicBezTo>
                    <a:pt x="161" y="859"/>
                    <a:pt x="165" y="852"/>
                    <a:pt x="174" y="850"/>
                  </a:cubicBezTo>
                  <a:cubicBezTo>
                    <a:pt x="202" y="846"/>
                    <a:pt x="186" y="840"/>
                    <a:pt x="210" y="834"/>
                  </a:cubicBezTo>
                  <a:cubicBezTo>
                    <a:pt x="211" y="824"/>
                    <a:pt x="213" y="802"/>
                    <a:pt x="216" y="793"/>
                  </a:cubicBezTo>
                  <a:cubicBezTo>
                    <a:pt x="220" y="782"/>
                    <a:pt x="252" y="803"/>
                    <a:pt x="263" y="807"/>
                  </a:cubicBezTo>
                  <a:cubicBezTo>
                    <a:pt x="274" y="803"/>
                    <a:pt x="290" y="795"/>
                    <a:pt x="290" y="795"/>
                  </a:cubicBezTo>
                  <a:cubicBezTo>
                    <a:pt x="301" y="778"/>
                    <a:pt x="325" y="790"/>
                    <a:pt x="342" y="796"/>
                  </a:cubicBezTo>
                  <a:cubicBezTo>
                    <a:pt x="353" y="795"/>
                    <a:pt x="334" y="794"/>
                    <a:pt x="345" y="792"/>
                  </a:cubicBezTo>
                  <a:cubicBezTo>
                    <a:pt x="352" y="791"/>
                    <a:pt x="359" y="789"/>
                    <a:pt x="366" y="787"/>
                  </a:cubicBezTo>
                  <a:cubicBezTo>
                    <a:pt x="373" y="785"/>
                    <a:pt x="382" y="782"/>
                    <a:pt x="387" y="778"/>
                  </a:cubicBezTo>
                  <a:cubicBezTo>
                    <a:pt x="393" y="775"/>
                    <a:pt x="389" y="763"/>
                    <a:pt x="396" y="762"/>
                  </a:cubicBezTo>
                  <a:cubicBezTo>
                    <a:pt x="404" y="760"/>
                    <a:pt x="409" y="750"/>
                    <a:pt x="419" y="751"/>
                  </a:cubicBezTo>
                  <a:cubicBezTo>
                    <a:pt x="429" y="752"/>
                    <a:pt x="450" y="761"/>
                    <a:pt x="455" y="771"/>
                  </a:cubicBezTo>
                  <a:cubicBezTo>
                    <a:pt x="461" y="774"/>
                    <a:pt x="449" y="799"/>
                    <a:pt x="449" y="810"/>
                  </a:cubicBezTo>
                  <a:cubicBezTo>
                    <a:pt x="449" y="821"/>
                    <a:pt x="457" y="827"/>
                    <a:pt x="456" y="835"/>
                  </a:cubicBezTo>
                  <a:cubicBezTo>
                    <a:pt x="457" y="840"/>
                    <a:pt x="446" y="853"/>
                    <a:pt x="445" y="858"/>
                  </a:cubicBezTo>
                  <a:cubicBezTo>
                    <a:pt x="444" y="863"/>
                    <a:pt x="449" y="862"/>
                    <a:pt x="450" y="867"/>
                  </a:cubicBezTo>
                  <a:cubicBezTo>
                    <a:pt x="451" y="872"/>
                    <a:pt x="454" y="879"/>
                    <a:pt x="449" y="890"/>
                  </a:cubicBezTo>
                  <a:cubicBezTo>
                    <a:pt x="444" y="901"/>
                    <a:pt x="430" y="915"/>
                    <a:pt x="421" y="934"/>
                  </a:cubicBezTo>
                  <a:cubicBezTo>
                    <a:pt x="407" y="961"/>
                    <a:pt x="403" y="976"/>
                    <a:pt x="395" y="1006"/>
                  </a:cubicBezTo>
                  <a:cubicBezTo>
                    <a:pt x="392" y="1038"/>
                    <a:pt x="389" y="1046"/>
                    <a:pt x="431" y="1040"/>
                  </a:cubicBezTo>
                  <a:cubicBezTo>
                    <a:pt x="452" y="1033"/>
                    <a:pt x="456" y="1013"/>
                    <a:pt x="477" y="1006"/>
                  </a:cubicBezTo>
                  <a:cubicBezTo>
                    <a:pt x="484" y="1004"/>
                    <a:pt x="476" y="1041"/>
                    <a:pt x="477" y="1050"/>
                  </a:cubicBezTo>
                  <a:cubicBezTo>
                    <a:pt x="478" y="1059"/>
                    <a:pt x="483" y="1058"/>
                    <a:pt x="486" y="1063"/>
                  </a:cubicBezTo>
                  <a:cubicBezTo>
                    <a:pt x="491" y="1074"/>
                    <a:pt x="490" y="1078"/>
                    <a:pt x="497" y="1081"/>
                  </a:cubicBezTo>
                  <a:cubicBezTo>
                    <a:pt x="504" y="1084"/>
                    <a:pt x="518" y="1086"/>
                    <a:pt x="528" y="1084"/>
                  </a:cubicBezTo>
                  <a:cubicBezTo>
                    <a:pt x="548" y="1079"/>
                    <a:pt x="547" y="1085"/>
                    <a:pt x="557" y="1072"/>
                  </a:cubicBezTo>
                  <a:cubicBezTo>
                    <a:pt x="565" y="1069"/>
                    <a:pt x="570" y="1069"/>
                    <a:pt x="576" y="1068"/>
                  </a:cubicBezTo>
                  <a:cubicBezTo>
                    <a:pt x="582" y="1067"/>
                    <a:pt x="586" y="1072"/>
                    <a:pt x="591" y="1065"/>
                  </a:cubicBezTo>
                  <a:cubicBezTo>
                    <a:pt x="596" y="1050"/>
                    <a:pt x="600" y="1036"/>
                    <a:pt x="608" y="1026"/>
                  </a:cubicBezTo>
                  <a:cubicBezTo>
                    <a:pt x="612" y="1014"/>
                    <a:pt x="612" y="1009"/>
                    <a:pt x="624" y="1005"/>
                  </a:cubicBezTo>
                  <a:cubicBezTo>
                    <a:pt x="638" y="1006"/>
                    <a:pt x="636" y="963"/>
                    <a:pt x="662" y="1006"/>
                  </a:cubicBezTo>
                  <a:cubicBezTo>
                    <a:pt x="675" y="1024"/>
                    <a:pt x="678" y="1006"/>
                    <a:pt x="689" y="1017"/>
                  </a:cubicBezTo>
                  <a:cubicBezTo>
                    <a:pt x="701" y="1038"/>
                    <a:pt x="707" y="1038"/>
                    <a:pt x="726" y="1041"/>
                  </a:cubicBezTo>
                  <a:cubicBezTo>
                    <a:pt x="752" y="1044"/>
                    <a:pt x="744" y="1024"/>
                    <a:pt x="747" y="1015"/>
                  </a:cubicBezTo>
                  <a:cubicBezTo>
                    <a:pt x="750" y="1006"/>
                    <a:pt x="743" y="994"/>
                    <a:pt x="747" y="984"/>
                  </a:cubicBezTo>
                  <a:cubicBezTo>
                    <a:pt x="752" y="960"/>
                    <a:pt x="756" y="958"/>
                    <a:pt x="770" y="952"/>
                  </a:cubicBezTo>
                  <a:cubicBezTo>
                    <a:pt x="784" y="946"/>
                    <a:pt x="817" y="950"/>
                    <a:pt x="833" y="946"/>
                  </a:cubicBezTo>
                  <a:cubicBezTo>
                    <a:pt x="849" y="942"/>
                    <a:pt x="858" y="926"/>
                    <a:pt x="867" y="925"/>
                  </a:cubicBezTo>
                  <a:cubicBezTo>
                    <a:pt x="876" y="924"/>
                    <a:pt x="882" y="935"/>
                    <a:pt x="890" y="937"/>
                  </a:cubicBezTo>
                  <a:cubicBezTo>
                    <a:pt x="898" y="939"/>
                    <a:pt x="908" y="946"/>
                    <a:pt x="914" y="936"/>
                  </a:cubicBezTo>
                  <a:cubicBezTo>
                    <a:pt x="938" y="915"/>
                    <a:pt x="940" y="901"/>
                    <a:pt x="929" y="878"/>
                  </a:cubicBezTo>
                  <a:cubicBezTo>
                    <a:pt x="930" y="869"/>
                    <a:pt x="909" y="853"/>
                    <a:pt x="920" y="844"/>
                  </a:cubicBezTo>
                  <a:cubicBezTo>
                    <a:pt x="940" y="828"/>
                    <a:pt x="956" y="820"/>
                    <a:pt x="968" y="790"/>
                  </a:cubicBezTo>
                  <a:cubicBezTo>
                    <a:pt x="962" y="767"/>
                    <a:pt x="969" y="762"/>
                    <a:pt x="939" y="756"/>
                  </a:cubicBezTo>
                  <a:cubicBezTo>
                    <a:pt x="946" y="746"/>
                    <a:pt x="947" y="736"/>
                    <a:pt x="957" y="729"/>
                  </a:cubicBezTo>
                  <a:cubicBezTo>
                    <a:pt x="959" y="722"/>
                    <a:pt x="961" y="701"/>
                    <a:pt x="953" y="696"/>
                  </a:cubicBezTo>
                  <a:cubicBezTo>
                    <a:pt x="943" y="689"/>
                    <a:pt x="953" y="680"/>
                    <a:pt x="953" y="680"/>
                  </a:cubicBezTo>
                  <a:cubicBezTo>
                    <a:pt x="947" y="670"/>
                    <a:pt x="925" y="667"/>
                    <a:pt x="921" y="656"/>
                  </a:cubicBezTo>
                  <a:cubicBezTo>
                    <a:pt x="918" y="644"/>
                    <a:pt x="907" y="628"/>
                    <a:pt x="905" y="614"/>
                  </a:cubicBezTo>
                  <a:cubicBezTo>
                    <a:pt x="903" y="600"/>
                    <a:pt x="906" y="585"/>
                    <a:pt x="906" y="574"/>
                  </a:cubicBezTo>
                  <a:cubicBezTo>
                    <a:pt x="904" y="558"/>
                    <a:pt x="909" y="552"/>
                    <a:pt x="907" y="546"/>
                  </a:cubicBezTo>
                  <a:cubicBezTo>
                    <a:pt x="905" y="540"/>
                    <a:pt x="898" y="543"/>
                    <a:pt x="891" y="538"/>
                  </a:cubicBezTo>
                  <a:cubicBezTo>
                    <a:pt x="884" y="533"/>
                    <a:pt x="869" y="529"/>
                    <a:pt x="865" y="518"/>
                  </a:cubicBezTo>
                  <a:cubicBezTo>
                    <a:pt x="862" y="505"/>
                    <a:pt x="853" y="483"/>
                    <a:pt x="864" y="474"/>
                  </a:cubicBezTo>
                  <a:cubicBezTo>
                    <a:pt x="884" y="475"/>
                    <a:pt x="886" y="467"/>
                    <a:pt x="893" y="445"/>
                  </a:cubicBezTo>
                  <a:cubicBezTo>
                    <a:pt x="898" y="430"/>
                    <a:pt x="913" y="405"/>
                    <a:pt x="924" y="394"/>
                  </a:cubicBezTo>
                  <a:cubicBezTo>
                    <a:pt x="929" y="382"/>
                    <a:pt x="940" y="381"/>
                    <a:pt x="941" y="370"/>
                  </a:cubicBezTo>
                  <a:cubicBezTo>
                    <a:pt x="945" y="362"/>
                    <a:pt x="947" y="355"/>
                    <a:pt x="947" y="348"/>
                  </a:cubicBezTo>
                  <a:cubicBezTo>
                    <a:pt x="947" y="341"/>
                    <a:pt x="943" y="344"/>
                    <a:pt x="941" y="330"/>
                  </a:cubicBezTo>
                  <a:cubicBezTo>
                    <a:pt x="939" y="316"/>
                    <a:pt x="939" y="275"/>
                    <a:pt x="937" y="262"/>
                  </a:cubicBezTo>
                  <a:cubicBezTo>
                    <a:pt x="933" y="249"/>
                    <a:pt x="933" y="264"/>
                    <a:pt x="929" y="250"/>
                  </a:cubicBezTo>
                  <a:cubicBezTo>
                    <a:pt x="927" y="244"/>
                    <a:pt x="921" y="226"/>
                    <a:pt x="921" y="226"/>
                  </a:cubicBezTo>
                  <a:cubicBezTo>
                    <a:pt x="925" y="213"/>
                    <a:pt x="925" y="212"/>
                    <a:pt x="936" y="205"/>
                  </a:cubicBezTo>
                  <a:cubicBezTo>
                    <a:pt x="937" y="198"/>
                    <a:pt x="937" y="180"/>
                    <a:pt x="931" y="178"/>
                  </a:cubicBezTo>
                  <a:cubicBezTo>
                    <a:pt x="925" y="176"/>
                    <a:pt x="910" y="192"/>
                    <a:pt x="897" y="193"/>
                  </a:cubicBezTo>
                  <a:cubicBezTo>
                    <a:pt x="883" y="192"/>
                    <a:pt x="865" y="197"/>
                    <a:pt x="855" y="187"/>
                  </a:cubicBezTo>
                  <a:cubicBezTo>
                    <a:pt x="850" y="182"/>
                    <a:pt x="843" y="169"/>
                    <a:pt x="843" y="169"/>
                  </a:cubicBezTo>
                  <a:cubicBezTo>
                    <a:pt x="835" y="136"/>
                    <a:pt x="845" y="126"/>
                    <a:pt x="819" y="106"/>
                  </a:cubicBezTo>
                  <a:cubicBezTo>
                    <a:pt x="821" y="76"/>
                    <a:pt x="798" y="89"/>
                    <a:pt x="780" y="94"/>
                  </a:cubicBezTo>
                  <a:cubicBezTo>
                    <a:pt x="750" y="91"/>
                    <a:pt x="744" y="76"/>
                    <a:pt x="705" y="88"/>
                  </a:cubicBezTo>
                  <a:cubicBezTo>
                    <a:pt x="674" y="92"/>
                    <a:pt x="667" y="83"/>
                    <a:pt x="642" y="94"/>
                  </a:cubicBezTo>
                  <a:cubicBezTo>
                    <a:pt x="633" y="98"/>
                    <a:pt x="615" y="103"/>
                    <a:pt x="615" y="103"/>
                  </a:cubicBezTo>
                  <a:cubicBezTo>
                    <a:pt x="607" y="104"/>
                    <a:pt x="603" y="98"/>
                    <a:pt x="597" y="96"/>
                  </a:cubicBezTo>
                  <a:cubicBezTo>
                    <a:pt x="592" y="97"/>
                    <a:pt x="599" y="111"/>
                    <a:pt x="587" y="110"/>
                  </a:cubicBezTo>
                  <a:cubicBezTo>
                    <a:pt x="575" y="109"/>
                    <a:pt x="544" y="100"/>
                    <a:pt x="525" y="88"/>
                  </a:cubicBezTo>
                  <a:cubicBezTo>
                    <a:pt x="507" y="62"/>
                    <a:pt x="483" y="37"/>
                    <a:pt x="471" y="36"/>
                  </a:cubicBezTo>
                  <a:cubicBezTo>
                    <a:pt x="439" y="28"/>
                    <a:pt x="439" y="19"/>
                    <a:pt x="417" y="18"/>
                  </a:cubicBezTo>
                  <a:cubicBezTo>
                    <a:pt x="405" y="18"/>
                    <a:pt x="409" y="15"/>
                    <a:pt x="403" y="12"/>
                  </a:cubicBezTo>
                  <a:cubicBezTo>
                    <a:pt x="397" y="9"/>
                    <a:pt x="389" y="2"/>
                    <a:pt x="380" y="1"/>
                  </a:cubicBezTo>
                  <a:cubicBezTo>
                    <a:pt x="371" y="0"/>
                    <a:pt x="361" y="8"/>
                    <a:pt x="351" y="9"/>
                  </a:cubicBezTo>
                  <a:cubicBezTo>
                    <a:pt x="330" y="13"/>
                    <a:pt x="340" y="1"/>
                    <a:pt x="317" y="9"/>
                  </a:cubicBezTo>
                  <a:cubicBezTo>
                    <a:pt x="309" y="11"/>
                    <a:pt x="301" y="17"/>
                    <a:pt x="302" y="27"/>
                  </a:cubicBezTo>
                  <a:cubicBezTo>
                    <a:pt x="302" y="36"/>
                    <a:pt x="314" y="59"/>
                    <a:pt x="315" y="66"/>
                  </a:cubicBezTo>
                  <a:cubicBezTo>
                    <a:pt x="307" y="75"/>
                    <a:pt x="313" y="67"/>
                    <a:pt x="307" y="70"/>
                  </a:cubicBezTo>
                  <a:cubicBezTo>
                    <a:pt x="301" y="73"/>
                    <a:pt x="285" y="80"/>
                    <a:pt x="277" y="82"/>
                  </a:cubicBezTo>
                  <a:cubicBezTo>
                    <a:pt x="269" y="84"/>
                    <a:pt x="265" y="80"/>
                    <a:pt x="259" y="80"/>
                  </a:cubicBezTo>
                  <a:cubicBezTo>
                    <a:pt x="253" y="80"/>
                    <a:pt x="244" y="84"/>
                    <a:pt x="239" y="84"/>
                  </a:cubicBezTo>
                  <a:cubicBezTo>
                    <a:pt x="234" y="84"/>
                    <a:pt x="232" y="82"/>
                    <a:pt x="229" y="82"/>
                  </a:cubicBezTo>
                  <a:cubicBezTo>
                    <a:pt x="226" y="82"/>
                    <a:pt x="225" y="84"/>
                    <a:pt x="219" y="86"/>
                  </a:cubicBezTo>
                  <a:cubicBezTo>
                    <a:pt x="213" y="88"/>
                    <a:pt x="201" y="94"/>
                    <a:pt x="191" y="96"/>
                  </a:cubicBezTo>
                  <a:cubicBezTo>
                    <a:pt x="182" y="98"/>
                    <a:pt x="173" y="98"/>
                    <a:pt x="161" y="100"/>
                  </a:cubicBezTo>
                  <a:cubicBezTo>
                    <a:pt x="148" y="103"/>
                    <a:pt x="125" y="107"/>
                    <a:pt x="111" y="112"/>
                  </a:cubicBezTo>
                  <a:cubicBezTo>
                    <a:pt x="95" y="118"/>
                    <a:pt x="84" y="125"/>
                    <a:pt x="79" y="132"/>
                  </a:cubicBezTo>
                  <a:cubicBezTo>
                    <a:pt x="74" y="139"/>
                    <a:pt x="79" y="146"/>
                    <a:pt x="78" y="156"/>
                  </a:cubicBezTo>
                  <a:cubicBezTo>
                    <a:pt x="69" y="170"/>
                    <a:pt x="71" y="178"/>
                    <a:pt x="73" y="190"/>
                  </a:cubicBezTo>
                  <a:cubicBezTo>
                    <a:pt x="75" y="202"/>
                    <a:pt x="86" y="206"/>
                    <a:pt x="90" y="226"/>
                  </a:cubicBezTo>
                  <a:cubicBezTo>
                    <a:pt x="93" y="248"/>
                    <a:pt x="93" y="295"/>
                    <a:pt x="95" y="310"/>
                  </a:cubicBezTo>
                  <a:cubicBezTo>
                    <a:pt x="97" y="325"/>
                    <a:pt x="102" y="315"/>
                    <a:pt x="101" y="319"/>
                  </a:cubicBezTo>
                  <a:cubicBezTo>
                    <a:pt x="100" y="323"/>
                    <a:pt x="92" y="330"/>
                    <a:pt x="90" y="334"/>
                  </a:cubicBezTo>
                  <a:cubicBezTo>
                    <a:pt x="89" y="346"/>
                    <a:pt x="78" y="331"/>
                    <a:pt x="87" y="340"/>
                  </a:cubicBez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5540040" y="4681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湖 南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73" name="Group 17"/>
          <p:cNvGrpSpPr/>
          <p:nvPr/>
        </p:nvGrpSpPr>
        <p:grpSpPr>
          <a:xfrm>
            <a:off x="4987800" y="2954160"/>
            <a:ext cx="2127240" cy="1420560"/>
            <a:chOff x="4987800" y="2954160"/>
            <a:chExt cx="2127240" cy="1420560"/>
          </a:xfrm>
        </p:grpSpPr>
        <p:sp>
          <p:nvSpPr>
            <p:cNvPr id="174" name="Freeform 18"/>
            <p:cNvSpPr/>
            <p:nvPr/>
          </p:nvSpPr>
          <p:spPr>
            <a:xfrm>
              <a:off x="4987800" y="2954160"/>
              <a:ext cx="2127240" cy="1420560"/>
            </a:xfrm>
            <a:custGeom>
              <a:avLst/>
              <a:gdLst/>
              <a:ahLst/>
              <a:rect l="l" t="t" r="r" b="b"/>
              <a:pathLst>
                <a:path w="1340" h="895">
                  <a:moveTo>
                    <a:pt x="238" y="365"/>
                  </a:moveTo>
                  <a:cubicBezTo>
                    <a:pt x="240" y="362"/>
                    <a:pt x="229" y="343"/>
                    <a:pt x="226" y="335"/>
                  </a:cubicBezTo>
                  <a:cubicBezTo>
                    <a:pt x="223" y="327"/>
                    <a:pt x="220" y="325"/>
                    <a:pt x="217" y="316"/>
                  </a:cubicBezTo>
                  <a:cubicBezTo>
                    <a:pt x="214" y="307"/>
                    <a:pt x="206" y="300"/>
                    <a:pt x="207" y="283"/>
                  </a:cubicBezTo>
                  <a:cubicBezTo>
                    <a:pt x="199" y="270"/>
                    <a:pt x="219" y="237"/>
                    <a:pt x="222" y="216"/>
                  </a:cubicBezTo>
                  <a:cubicBezTo>
                    <a:pt x="226" y="185"/>
                    <a:pt x="263" y="169"/>
                    <a:pt x="286" y="167"/>
                  </a:cubicBezTo>
                  <a:cubicBezTo>
                    <a:pt x="312" y="158"/>
                    <a:pt x="322" y="158"/>
                    <a:pt x="316" y="137"/>
                  </a:cubicBezTo>
                  <a:cubicBezTo>
                    <a:pt x="315" y="135"/>
                    <a:pt x="310" y="116"/>
                    <a:pt x="300" y="115"/>
                  </a:cubicBezTo>
                  <a:cubicBezTo>
                    <a:pt x="288" y="111"/>
                    <a:pt x="276" y="84"/>
                    <a:pt x="264" y="81"/>
                  </a:cubicBezTo>
                  <a:cubicBezTo>
                    <a:pt x="252" y="69"/>
                    <a:pt x="233" y="79"/>
                    <a:pt x="218" y="51"/>
                  </a:cubicBezTo>
                  <a:cubicBezTo>
                    <a:pt x="240" y="23"/>
                    <a:pt x="208" y="55"/>
                    <a:pt x="219" y="49"/>
                  </a:cubicBezTo>
                  <a:cubicBezTo>
                    <a:pt x="225" y="45"/>
                    <a:pt x="244" y="29"/>
                    <a:pt x="244" y="29"/>
                  </a:cubicBezTo>
                  <a:cubicBezTo>
                    <a:pt x="251" y="28"/>
                    <a:pt x="265" y="13"/>
                    <a:pt x="278" y="13"/>
                  </a:cubicBezTo>
                  <a:cubicBezTo>
                    <a:pt x="291" y="13"/>
                    <a:pt x="302" y="28"/>
                    <a:pt x="320" y="29"/>
                  </a:cubicBezTo>
                  <a:cubicBezTo>
                    <a:pt x="363" y="24"/>
                    <a:pt x="355" y="29"/>
                    <a:pt x="385" y="19"/>
                  </a:cubicBezTo>
                  <a:cubicBezTo>
                    <a:pt x="397" y="13"/>
                    <a:pt x="393" y="6"/>
                    <a:pt x="400" y="5"/>
                  </a:cubicBezTo>
                  <a:cubicBezTo>
                    <a:pt x="407" y="4"/>
                    <a:pt x="412" y="0"/>
                    <a:pt x="426" y="11"/>
                  </a:cubicBezTo>
                  <a:cubicBezTo>
                    <a:pt x="442" y="43"/>
                    <a:pt x="472" y="55"/>
                    <a:pt x="486" y="69"/>
                  </a:cubicBezTo>
                  <a:cubicBezTo>
                    <a:pt x="499" y="82"/>
                    <a:pt x="532" y="103"/>
                    <a:pt x="532" y="103"/>
                  </a:cubicBezTo>
                  <a:cubicBezTo>
                    <a:pt x="543" y="111"/>
                    <a:pt x="554" y="136"/>
                    <a:pt x="568" y="141"/>
                  </a:cubicBezTo>
                  <a:cubicBezTo>
                    <a:pt x="622" y="137"/>
                    <a:pt x="593" y="194"/>
                    <a:pt x="698" y="177"/>
                  </a:cubicBezTo>
                  <a:cubicBezTo>
                    <a:pt x="743" y="185"/>
                    <a:pt x="741" y="187"/>
                    <a:pt x="764" y="193"/>
                  </a:cubicBezTo>
                  <a:cubicBezTo>
                    <a:pt x="772" y="195"/>
                    <a:pt x="796" y="209"/>
                    <a:pt x="796" y="209"/>
                  </a:cubicBezTo>
                  <a:cubicBezTo>
                    <a:pt x="840" y="207"/>
                    <a:pt x="851" y="211"/>
                    <a:pt x="888" y="199"/>
                  </a:cubicBezTo>
                  <a:cubicBezTo>
                    <a:pt x="907" y="198"/>
                    <a:pt x="908" y="190"/>
                    <a:pt x="916" y="191"/>
                  </a:cubicBezTo>
                  <a:cubicBezTo>
                    <a:pt x="924" y="192"/>
                    <a:pt x="931" y="199"/>
                    <a:pt x="934" y="205"/>
                  </a:cubicBezTo>
                  <a:cubicBezTo>
                    <a:pt x="937" y="211"/>
                    <a:pt x="932" y="219"/>
                    <a:pt x="934" y="225"/>
                  </a:cubicBezTo>
                  <a:cubicBezTo>
                    <a:pt x="939" y="233"/>
                    <a:pt x="940" y="237"/>
                    <a:pt x="944" y="241"/>
                  </a:cubicBezTo>
                  <a:cubicBezTo>
                    <a:pt x="948" y="245"/>
                    <a:pt x="956" y="244"/>
                    <a:pt x="958" y="247"/>
                  </a:cubicBezTo>
                  <a:cubicBezTo>
                    <a:pt x="960" y="259"/>
                    <a:pt x="958" y="250"/>
                    <a:pt x="956" y="257"/>
                  </a:cubicBezTo>
                  <a:cubicBezTo>
                    <a:pt x="954" y="264"/>
                    <a:pt x="943" y="281"/>
                    <a:pt x="944" y="291"/>
                  </a:cubicBezTo>
                  <a:cubicBezTo>
                    <a:pt x="945" y="295"/>
                    <a:pt x="961" y="316"/>
                    <a:pt x="964" y="317"/>
                  </a:cubicBezTo>
                  <a:cubicBezTo>
                    <a:pt x="986" y="313"/>
                    <a:pt x="997" y="324"/>
                    <a:pt x="1024" y="327"/>
                  </a:cubicBezTo>
                  <a:cubicBezTo>
                    <a:pt x="1040" y="332"/>
                    <a:pt x="1050" y="329"/>
                    <a:pt x="1058" y="331"/>
                  </a:cubicBezTo>
                  <a:cubicBezTo>
                    <a:pt x="1066" y="333"/>
                    <a:pt x="1067" y="336"/>
                    <a:pt x="1072" y="339"/>
                  </a:cubicBezTo>
                  <a:cubicBezTo>
                    <a:pt x="1084" y="345"/>
                    <a:pt x="1074" y="347"/>
                    <a:pt x="1088" y="349"/>
                  </a:cubicBezTo>
                  <a:cubicBezTo>
                    <a:pt x="1099" y="353"/>
                    <a:pt x="1113" y="365"/>
                    <a:pt x="1130" y="367"/>
                  </a:cubicBezTo>
                  <a:cubicBezTo>
                    <a:pt x="1147" y="369"/>
                    <a:pt x="1174" y="355"/>
                    <a:pt x="1192" y="359"/>
                  </a:cubicBezTo>
                  <a:cubicBezTo>
                    <a:pt x="1236" y="371"/>
                    <a:pt x="1219" y="383"/>
                    <a:pt x="1240" y="393"/>
                  </a:cubicBezTo>
                  <a:cubicBezTo>
                    <a:pt x="1258" y="402"/>
                    <a:pt x="1283" y="412"/>
                    <a:pt x="1298" y="415"/>
                  </a:cubicBezTo>
                  <a:cubicBezTo>
                    <a:pt x="1313" y="418"/>
                    <a:pt x="1323" y="409"/>
                    <a:pt x="1330" y="411"/>
                  </a:cubicBezTo>
                  <a:cubicBezTo>
                    <a:pt x="1337" y="413"/>
                    <a:pt x="1340" y="420"/>
                    <a:pt x="1340" y="427"/>
                  </a:cubicBezTo>
                  <a:cubicBezTo>
                    <a:pt x="1340" y="434"/>
                    <a:pt x="1339" y="443"/>
                    <a:pt x="1332" y="453"/>
                  </a:cubicBezTo>
                  <a:cubicBezTo>
                    <a:pt x="1337" y="469"/>
                    <a:pt x="1311" y="485"/>
                    <a:pt x="1297" y="490"/>
                  </a:cubicBezTo>
                  <a:cubicBezTo>
                    <a:pt x="1293" y="497"/>
                    <a:pt x="1282" y="499"/>
                    <a:pt x="1279" y="507"/>
                  </a:cubicBezTo>
                  <a:cubicBezTo>
                    <a:pt x="1276" y="515"/>
                    <a:pt x="1284" y="509"/>
                    <a:pt x="1284" y="509"/>
                  </a:cubicBezTo>
                  <a:cubicBezTo>
                    <a:pt x="1279" y="553"/>
                    <a:pt x="1288" y="545"/>
                    <a:pt x="1292" y="561"/>
                  </a:cubicBezTo>
                  <a:cubicBezTo>
                    <a:pt x="1295" y="575"/>
                    <a:pt x="1302" y="591"/>
                    <a:pt x="1306" y="601"/>
                  </a:cubicBezTo>
                  <a:cubicBezTo>
                    <a:pt x="1310" y="611"/>
                    <a:pt x="1314" y="615"/>
                    <a:pt x="1318" y="619"/>
                  </a:cubicBezTo>
                  <a:cubicBezTo>
                    <a:pt x="1321" y="624"/>
                    <a:pt x="1327" y="614"/>
                    <a:pt x="1330" y="623"/>
                  </a:cubicBezTo>
                  <a:cubicBezTo>
                    <a:pt x="1333" y="632"/>
                    <a:pt x="1340" y="659"/>
                    <a:pt x="1334" y="673"/>
                  </a:cubicBezTo>
                  <a:cubicBezTo>
                    <a:pt x="1331" y="681"/>
                    <a:pt x="1305" y="711"/>
                    <a:pt x="1297" y="709"/>
                  </a:cubicBezTo>
                  <a:cubicBezTo>
                    <a:pt x="1287" y="706"/>
                    <a:pt x="1267" y="700"/>
                    <a:pt x="1267" y="700"/>
                  </a:cubicBezTo>
                  <a:cubicBezTo>
                    <a:pt x="1240" y="702"/>
                    <a:pt x="1219" y="702"/>
                    <a:pt x="1206" y="730"/>
                  </a:cubicBezTo>
                  <a:cubicBezTo>
                    <a:pt x="1197" y="748"/>
                    <a:pt x="1173" y="772"/>
                    <a:pt x="1152" y="779"/>
                  </a:cubicBezTo>
                  <a:cubicBezTo>
                    <a:pt x="1136" y="793"/>
                    <a:pt x="1130" y="786"/>
                    <a:pt x="1116" y="793"/>
                  </a:cubicBezTo>
                  <a:cubicBezTo>
                    <a:pt x="1102" y="800"/>
                    <a:pt x="1081" y="816"/>
                    <a:pt x="1069" y="823"/>
                  </a:cubicBezTo>
                  <a:cubicBezTo>
                    <a:pt x="1049" y="831"/>
                    <a:pt x="1056" y="825"/>
                    <a:pt x="1044" y="835"/>
                  </a:cubicBezTo>
                  <a:cubicBezTo>
                    <a:pt x="1037" y="843"/>
                    <a:pt x="1029" y="864"/>
                    <a:pt x="1024" y="869"/>
                  </a:cubicBezTo>
                  <a:cubicBezTo>
                    <a:pt x="1019" y="874"/>
                    <a:pt x="1019" y="864"/>
                    <a:pt x="1014" y="867"/>
                  </a:cubicBezTo>
                  <a:cubicBezTo>
                    <a:pt x="1009" y="870"/>
                    <a:pt x="1004" y="882"/>
                    <a:pt x="996" y="885"/>
                  </a:cubicBezTo>
                  <a:cubicBezTo>
                    <a:pt x="989" y="889"/>
                    <a:pt x="975" y="884"/>
                    <a:pt x="967" y="888"/>
                  </a:cubicBezTo>
                  <a:cubicBezTo>
                    <a:pt x="956" y="889"/>
                    <a:pt x="932" y="895"/>
                    <a:pt x="922" y="891"/>
                  </a:cubicBezTo>
                  <a:cubicBezTo>
                    <a:pt x="912" y="887"/>
                    <a:pt x="906" y="877"/>
                    <a:pt x="904" y="862"/>
                  </a:cubicBezTo>
                  <a:cubicBezTo>
                    <a:pt x="895" y="846"/>
                    <a:pt x="908" y="814"/>
                    <a:pt x="907" y="799"/>
                  </a:cubicBezTo>
                  <a:cubicBezTo>
                    <a:pt x="906" y="784"/>
                    <a:pt x="904" y="773"/>
                    <a:pt x="897" y="772"/>
                  </a:cubicBezTo>
                  <a:cubicBezTo>
                    <a:pt x="867" y="780"/>
                    <a:pt x="881" y="774"/>
                    <a:pt x="865" y="790"/>
                  </a:cubicBezTo>
                  <a:cubicBezTo>
                    <a:pt x="857" y="798"/>
                    <a:pt x="837" y="788"/>
                    <a:pt x="826" y="790"/>
                  </a:cubicBezTo>
                  <a:cubicBezTo>
                    <a:pt x="813" y="791"/>
                    <a:pt x="813" y="783"/>
                    <a:pt x="807" y="780"/>
                  </a:cubicBezTo>
                  <a:cubicBezTo>
                    <a:pt x="801" y="777"/>
                    <a:pt x="797" y="774"/>
                    <a:pt x="790" y="774"/>
                  </a:cubicBezTo>
                  <a:cubicBezTo>
                    <a:pt x="783" y="774"/>
                    <a:pt x="771" y="780"/>
                    <a:pt x="763" y="781"/>
                  </a:cubicBezTo>
                  <a:cubicBezTo>
                    <a:pt x="755" y="778"/>
                    <a:pt x="739" y="780"/>
                    <a:pt x="739" y="780"/>
                  </a:cubicBezTo>
                  <a:cubicBezTo>
                    <a:pt x="708" y="783"/>
                    <a:pt x="704" y="796"/>
                    <a:pt x="681" y="804"/>
                  </a:cubicBezTo>
                  <a:cubicBezTo>
                    <a:pt x="660" y="801"/>
                    <a:pt x="636" y="788"/>
                    <a:pt x="618" y="777"/>
                  </a:cubicBezTo>
                  <a:cubicBezTo>
                    <a:pt x="600" y="766"/>
                    <a:pt x="584" y="746"/>
                    <a:pt x="574" y="738"/>
                  </a:cubicBezTo>
                  <a:cubicBezTo>
                    <a:pt x="564" y="730"/>
                    <a:pt x="563" y="733"/>
                    <a:pt x="555" y="729"/>
                  </a:cubicBezTo>
                  <a:cubicBezTo>
                    <a:pt x="528" y="718"/>
                    <a:pt x="538" y="715"/>
                    <a:pt x="526" y="714"/>
                  </a:cubicBezTo>
                  <a:cubicBezTo>
                    <a:pt x="515" y="708"/>
                    <a:pt x="505" y="697"/>
                    <a:pt x="490" y="693"/>
                  </a:cubicBezTo>
                  <a:cubicBezTo>
                    <a:pt x="477" y="689"/>
                    <a:pt x="458" y="706"/>
                    <a:pt x="436" y="689"/>
                  </a:cubicBezTo>
                  <a:cubicBezTo>
                    <a:pt x="428" y="686"/>
                    <a:pt x="412" y="693"/>
                    <a:pt x="412" y="693"/>
                  </a:cubicBezTo>
                  <a:cubicBezTo>
                    <a:pt x="406" y="693"/>
                    <a:pt x="407" y="694"/>
                    <a:pt x="404" y="695"/>
                  </a:cubicBezTo>
                  <a:cubicBezTo>
                    <a:pt x="401" y="696"/>
                    <a:pt x="395" y="689"/>
                    <a:pt x="394" y="697"/>
                  </a:cubicBezTo>
                  <a:cubicBezTo>
                    <a:pt x="393" y="705"/>
                    <a:pt x="397" y="731"/>
                    <a:pt x="396" y="741"/>
                  </a:cubicBezTo>
                  <a:cubicBezTo>
                    <a:pt x="419" y="753"/>
                    <a:pt x="390" y="753"/>
                    <a:pt x="385" y="760"/>
                  </a:cubicBezTo>
                  <a:cubicBezTo>
                    <a:pt x="379" y="764"/>
                    <a:pt x="370" y="762"/>
                    <a:pt x="362" y="763"/>
                  </a:cubicBezTo>
                  <a:cubicBezTo>
                    <a:pt x="354" y="764"/>
                    <a:pt x="344" y="766"/>
                    <a:pt x="334" y="767"/>
                  </a:cubicBezTo>
                  <a:cubicBezTo>
                    <a:pt x="324" y="768"/>
                    <a:pt x="310" y="768"/>
                    <a:pt x="302" y="769"/>
                  </a:cubicBezTo>
                  <a:cubicBezTo>
                    <a:pt x="294" y="770"/>
                    <a:pt x="290" y="772"/>
                    <a:pt x="284" y="775"/>
                  </a:cubicBezTo>
                  <a:cubicBezTo>
                    <a:pt x="267" y="784"/>
                    <a:pt x="272" y="786"/>
                    <a:pt x="266" y="789"/>
                  </a:cubicBezTo>
                  <a:cubicBezTo>
                    <a:pt x="260" y="792"/>
                    <a:pt x="261" y="792"/>
                    <a:pt x="250" y="793"/>
                  </a:cubicBezTo>
                  <a:cubicBezTo>
                    <a:pt x="239" y="794"/>
                    <a:pt x="212" y="794"/>
                    <a:pt x="200" y="797"/>
                  </a:cubicBezTo>
                  <a:cubicBezTo>
                    <a:pt x="188" y="800"/>
                    <a:pt x="184" y="809"/>
                    <a:pt x="178" y="813"/>
                  </a:cubicBezTo>
                  <a:cubicBezTo>
                    <a:pt x="158" y="819"/>
                    <a:pt x="170" y="814"/>
                    <a:pt x="163" y="822"/>
                  </a:cubicBezTo>
                  <a:cubicBezTo>
                    <a:pt x="159" y="830"/>
                    <a:pt x="158" y="854"/>
                    <a:pt x="154" y="861"/>
                  </a:cubicBezTo>
                  <a:cubicBezTo>
                    <a:pt x="150" y="867"/>
                    <a:pt x="142" y="858"/>
                    <a:pt x="136" y="863"/>
                  </a:cubicBezTo>
                  <a:cubicBezTo>
                    <a:pt x="133" y="865"/>
                    <a:pt x="111" y="846"/>
                    <a:pt x="110" y="845"/>
                  </a:cubicBezTo>
                  <a:cubicBezTo>
                    <a:pt x="83" y="821"/>
                    <a:pt x="105" y="840"/>
                    <a:pt x="82" y="829"/>
                  </a:cubicBezTo>
                  <a:cubicBezTo>
                    <a:pt x="65" y="803"/>
                    <a:pt x="65" y="851"/>
                    <a:pt x="69" y="817"/>
                  </a:cubicBezTo>
                  <a:cubicBezTo>
                    <a:pt x="68" y="802"/>
                    <a:pt x="61" y="795"/>
                    <a:pt x="57" y="781"/>
                  </a:cubicBezTo>
                  <a:cubicBezTo>
                    <a:pt x="56" y="777"/>
                    <a:pt x="49" y="772"/>
                    <a:pt x="45" y="771"/>
                  </a:cubicBezTo>
                  <a:cubicBezTo>
                    <a:pt x="31" y="766"/>
                    <a:pt x="22" y="756"/>
                    <a:pt x="7" y="751"/>
                  </a:cubicBezTo>
                  <a:cubicBezTo>
                    <a:pt x="0" y="744"/>
                    <a:pt x="1" y="738"/>
                    <a:pt x="3" y="729"/>
                  </a:cubicBezTo>
                  <a:cubicBezTo>
                    <a:pt x="5" y="720"/>
                    <a:pt x="19" y="705"/>
                    <a:pt x="22" y="694"/>
                  </a:cubicBezTo>
                  <a:cubicBezTo>
                    <a:pt x="23" y="679"/>
                    <a:pt x="20" y="670"/>
                    <a:pt x="19" y="661"/>
                  </a:cubicBezTo>
                  <a:cubicBezTo>
                    <a:pt x="18" y="651"/>
                    <a:pt x="17" y="644"/>
                    <a:pt x="19" y="636"/>
                  </a:cubicBezTo>
                  <a:cubicBezTo>
                    <a:pt x="24" y="626"/>
                    <a:pt x="19" y="616"/>
                    <a:pt x="30" y="615"/>
                  </a:cubicBezTo>
                  <a:cubicBezTo>
                    <a:pt x="51" y="613"/>
                    <a:pt x="81" y="595"/>
                    <a:pt x="102" y="594"/>
                  </a:cubicBezTo>
                  <a:cubicBezTo>
                    <a:pt x="118" y="587"/>
                    <a:pt x="130" y="602"/>
                    <a:pt x="144" y="600"/>
                  </a:cubicBezTo>
                  <a:cubicBezTo>
                    <a:pt x="158" y="598"/>
                    <a:pt x="169" y="586"/>
                    <a:pt x="184" y="582"/>
                  </a:cubicBezTo>
                  <a:cubicBezTo>
                    <a:pt x="206" y="573"/>
                    <a:pt x="224" y="578"/>
                    <a:pt x="237" y="574"/>
                  </a:cubicBezTo>
                  <a:cubicBezTo>
                    <a:pt x="250" y="570"/>
                    <a:pt x="254" y="564"/>
                    <a:pt x="262" y="559"/>
                  </a:cubicBezTo>
                  <a:cubicBezTo>
                    <a:pt x="270" y="555"/>
                    <a:pt x="278" y="545"/>
                    <a:pt x="286" y="541"/>
                  </a:cubicBezTo>
                  <a:cubicBezTo>
                    <a:pt x="290" y="539"/>
                    <a:pt x="295" y="529"/>
                    <a:pt x="295" y="529"/>
                  </a:cubicBezTo>
                  <a:cubicBezTo>
                    <a:pt x="305" y="514"/>
                    <a:pt x="314" y="506"/>
                    <a:pt x="322" y="490"/>
                  </a:cubicBezTo>
                  <a:cubicBezTo>
                    <a:pt x="325" y="475"/>
                    <a:pt x="323" y="460"/>
                    <a:pt x="316" y="448"/>
                  </a:cubicBezTo>
                  <a:cubicBezTo>
                    <a:pt x="309" y="436"/>
                    <a:pt x="294" y="431"/>
                    <a:pt x="282" y="420"/>
                  </a:cubicBezTo>
                  <a:cubicBezTo>
                    <a:pt x="268" y="403"/>
                    <a:pt x="255" y="392"/>
                    <a:pt x="244" y="384"/>
                  </a:cubicBezTo>
                  <a:cubicBezTo>
                    <a:pt x="243" y="382"/>
                    <a:pt x="278" y="405"/>
                    <a:pt x="278" y="405"/>
                  </a:cubicBezTo>
                  <a:cubicBezTo>
                    <a:pt x="278" y="405"/>
                    <a:pt x="253" y="390"/>
                    <a:pt x="246" y="383"/>
                  </a:cubicBezTo>
                  <a:cubicBezTo>
                    <a:pt x="240" y="364"/>
                    <a:pt x="242" y="361"/>
                    <a:pt x="238" y="365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5691960" y="3538080"/>
              <a:ext cx="729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湖 北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4073400" y="3335400"/>
            <a:ext cx="1444680" cy="1366920"/>
            <a:chOff x="4073400" y="3335400"/>
            <a:chExt cx="1444680" cy="1366920"/>
          </a:xfrm>
        </p:grpSpPr>
        <p:sp>
          <p:nvSpPr>
            <p:cNvPr id="177" name="Freeform 21"/>
            <p:cNvSpPr/>
            <p:nvPr/>
          </p:nvSpPr>
          <p:spPr>
            <a:xfrm>
              <a:off x="4073400" y="3335400"/>
              <a:ext cx="1444680" cy="1366920"/>
            </a:xfrm>
            <a:custGeom>
              <a:avLst/>
              <a:gdLst/>
              <a:ahLst/>
              <a:rect l="l" t="t" r="r" b="b"/>
              <a:pathLst>
                <a:path w="910" h="861">
                  <a:moveTo>
                    <a:pt x="584" y="19"/>
                  </a:moveTo>
                  <a:cubicBezTo>
                    <a:pt x="589" y="15"/>
                    <a:pt x="596" y="2"/>
                    <a:pt x="606" y="1"/>
                  </a:cubicBezTo>
                  <a:cubicBezTo>
                    <a:pt x="616" y="0"/>
                    <a:pt x="632" y="11"/>
                    <a:pt x="642" y="13"/>
                  </a:cubicBezTo>
                  <a:cubicBezTo>
                    <a:pt x="652" y="17"/>
                    <a:pt x="655" y="7"/>
                    <a:pt x="666" y="13"/>
                  </a:cubicBezTo>
                  <a:cubicBezTo>
                    <a:pt x="677" y="19"/>
                    <a:pt x="697" y="36"/>
                    <a:pt x="710" y="49"/>
                  </a:cubicBezTo>
                  <a:cubicBezTo>
                    <a:pt x="726" y="62"/>
                    <a:pt x="737" y="80"/>
                    <a:pt x="746" y="89"/>
                  </a:cubicBezTo>
                  <a:cubicBezTo>
                    <a:pt x="760" y="95"/>
                    <a:pt x="783" y="84"/>
                    <a:pt x="792" y="87"/>
                  </a:cubicBezTo>
                  <a:cubicBezTo>
                    <a:pt x="801" y="90"/>
                    <a:pt x="798" y="98"/>
                    <a:pt x="802" y="105"/>
                  </a:cubicBezTo>
                  <a:cubicBezTo>
                    <a:pt x="807" y="108"/>
                    <a:pt x="809" y="121"/>
                    <a:pt x="814" y="129"/>
                  </a:cubicBezTo>
                  <a:cubicBezTo>
                    <a:pt x="819" y="137"/>
                    <a:pt x="822" y="142"/>
                    <a:pt x="832" y="151"/>
                  </a:cubicBezTo>
                  <a:cubicBezTo>
                    <a:pt x="853" y="175"/>
                    <a:pt x="860" y="169"/>
                    <a:pt x="872" y="181"/>
                  </a:cubicBezTo>
                  <a:cubicBezTo>
                    <a:pt x="886" y="195"/>
                    <a:pt x="890" y="196"/>
                    <a:pt x="904" y="237"/>
                  </a:cubicBezTo>
                  <a:cubicBezTo>
                    <a:pt x="902" y="255"/>
                    <a:pt x="910" y="259"/>
                    <a:pt x="878" y="285"/>
                  </a:cubicBezTo>
                  <a:cubicBezTo>
                    <a:pt x="871" y="298"/>
                    <a:pt x="867" y="307"/>
                    <a:pt x="854" y="313"/>
                  </a:cubicBezTo>
                  <a:cubicBezTo>
                    <a:pt x="844" y="320"/>
                    <a:pt x="829" y="331"/>
                    <a:pt x="817" y="334"/>
                  </a:cubicBezTo>
                  <a:cubicBezTo>
                    <a:pt x="805" y="337"/>
                    <a:pt x="793" y="331"/>
                    <a:pt x="781" y="334"/>
                  </a:cubicBezTo>
                  <a:cubicBezTo>
                    <a:pt x="769" y="337"/>
                    <a:pt x="753" y="347"/>
                    <a:pt x="742" y="352"/>
                  </a:cubicBezTo>
                  <a:cubicBezTo>
                    <a:pt x="731" y="357"/>
                    <a:pt x="719" y="363"/>
                    <a:pt x="712" y="363"/>
                  </a:cubicBezTo>
                  <a:cubicBezTo>
                    <a:pt x="705" y="363"/>
                    <a:pt x="704" y="357"/>
                    <a:pt x="698" y="355"/>
                  </a:cubicBezTo>
                  <a:cubicBezTo>
                    <a:pt x="692" y="355"/>
                    <a:pt x="686" y="349"/>
                    <a:pt x="674" y="352"/>
                  </a:cubicBezTo>
                  <a:cubicBezTo>
                    <a:pt x="666" y="354"/>
                    <a:pt x="658" y="363"/>
                    <a:pt x="650" y="366"/>
                  </a:cubicBezTo>
                  <a:cubicBezTo>
                    <a:pt x="642" y="369"/>
                    <a:pt x="633" y="371"/>
                    <a:pt x="626" y="373"/>
                  </a:cubicBezTo>
                  <a:cubicBezTo>
                    <a:pt x="619" y="376"/>
                    <a:pt x="613" y="373"/>
                    <a:pt x="608" y="378"/>
                  </a:cubicBezTo>
                  <a:cubicBezTo>
                    <a:pt x="603" y="383"/>
                    <a:pt x="597" y="393"/>
                    <a:pt x="596" y="405"/>
                  </a:cubicBezTo>
                  <a:cubicBezTo>
                    <a:pt x="593" y="416"/>
                    <a:pt x="603" y="435"/>
                    <a:pt x="602" y="453"/>
                  </a:cubicBezTo>
                  <a:cubicBezTo>
                    <a:pt x="602" y="464"/>
                    <a:pt x="599" y="463"/>
                    <a:pt x="596" y="469"/>
                  </a:cubicBezTo>
                  <a:cubicBezTo>
                    <a:pt x="593" y="475"/>
                    <a:pt x="585" y="482"/>
                    <a:pt x="584" y="489"/>
                  </a:cubicBezTo>
                  <a:cubicBezTo>
                    <a:pt x="583" y="496"/>
                    <a:pt x="585" y="505"/>
                    <a:pt x="590" y="511"/>
                  </a:cubicBezTo>
                  <a:cubicBezTo>
                    <a:pt x="593" y="525"/>
                    <a:pt x="608" y="513"/>
                    <a:pt x="614" y="526"/>
                  </a:cubicBezTo>
                  <a:cubicBezTo>
                    <a:pt x="677" y="561"/>
                    <a:pt x="654" y="584"/>
                    <a:pt x="662" y="607"/>
                  </a:cubicBezTo>
                  <a:cubicBezTo>
                    <a:pt x="667" y="622"/>
                    <a:pt x="691" y="600"/>
                    <a:pt x="730" y="645"/>
                  </a:cubicBezTo>
                  <a:cubicBezTo>
                    <a:pt x="760" y="709"/>
                    <a:pt x="747" y="713"/>
                    <a:pt x="756" y="739"/>
                  </a:cubicBezTo>
                  <a:cubicBezTo>
                    <a:pt x="758" y="758"/>
                    <a:pt x="741" y="783"/>
                    <a:pt x="734" y="792"/>
                  </a:cubicBezTo>
                  <a:cubicBezTo>
                    <a:pt x="726" y="802"/>
                    <a:pt x="716" y="792"/>
                    <a:pt x="710" y="797"/>
                  </a:cubicBezTo>
                  <a:cubicBezTo>
                    <a:pt x="704" y="802"/>
                    <a:pt x="704" y="822"/>
                    <a:pt x="695" y="825"/>
                  </a:cubicBezTo>
                  <a:cubicBezTo>
                    <a:pt x="695" y="837"/>
                    <a:pt x="688" y="861"/>
                    <a:pt x="653" y="814"/>
                  </a:cubicBezTo>
                  <a:cubicBezTo>
                    <a:pt x="643" y="811"/>
                    <a:pt x="623" y="794"/>
                    <a:pt x="620" y="787"/>
                  </a:cubicBezTo>
                  <a:cubicBezTo>
                    <a:pt x="612" y="778"/>
                    <a:pt x="604" y="784"/>
                    <a:pt x="596" y="774"/>
                  </a:cubicBezTo>
                  <a:cubicBezTo>
                    <a:pt x="588" y="763"/>
                    <a:pt x="577" y="734"/>
                    <a:pt x="571" y="723"/>
                  </a:cubicBezTo>
                  <a:cubicBezTo>
                    <a:pt x="567" y="717"/>
                    <a:pt x="563" y="715"/>
                    <a:pt x="560" y="709"/>
                  </a:cubicBezTo>
                  <a:cubicBezTo>
                    <a:pt x="557" y="703"/>
                    <a:pt x="546" y="703"/>
                    <a:pt x="541" y="699"/>
                  </a:cubicBezTo>
                  <a:cubicBezTo>
                    <a:pt x="531" y="692"/>
                    <a:pt x="530" y="683"/>
                    <a:pt x="518" y="679"/>
                  </a:cubicBezTo>
                  <a:cubicBezTo>
                    <a:pt x="512" y="677"/>
                    <a:pt x="485" y="663"/>
                    <a:pt x="485" y="663"/>
                  </a:cubicBezTo>
                  <a:cubicBezTo>
                    <a:pt x="476" y="660"/>
                    <a:pt x="476" y="655"/>
                    <a:pt x="458" y="658"/>
                  </a:cubicBezTo>
                  <a:cubicBezTo>
                    <a:pt x="448" y="659"/>
                    <a:pt x="440" y="665"/>
                    <a:pt x="427" y="669"/>
                  </a:cubicBezTo>
                  <a:cubicBezTo>
                    <a:pt x="414" y="673"/>
                    <a:pt x="391" y="677"/>
                    <a:pt x="379" y="682"/>
                  </a:cubicBezTo>
                  <a:cubicBezTo>
                    <a:pt x="372" y="683"/>
                    <a:pt x="361" y="692"/>
                    <a:pt x="356" y="697"/>
                  </a:cubicBezTo>
                  <a:cubicBezTo>
                    <a:pt x="331" y="719"/>
                    <a:pt x="338" y="721"/>
                    <a:pt x="314" y="744"/>
                  </a:cubicBezTo>
                  <a:cubicBezTo>
                    <a:pt x="304" y="748"/>
                    <a:pt x="304" y="730"/>
                    <a:pt x="299" y="724"/>
                  </a:cubicBezTo>
                  <a:cubicBezTo>
                    <a:pt x="294" y="718"/>
                    <a:pt x="293" y="702"/>
                    <a:pt x="283" y="705"/>
                  </a:cubicBezTo>
                  <a:cubicBezTo>
                    <a:pt x="273" y="708"/>
                    <a:pt x="250" y="738"/>
                    <a:pt x="241" y="744"/>
                  </a:cubicBezTo>
                  <a:cubicBezTo>
                    <a:pt x="233" y="751"/>
                    <a:pt x="236" y="743"/>
                    <a:pt x="232" y="741"/>
                  </a:cubicBezTo>
                  <a:cubicBezTo>
                    <a:pt x="228" y="739"/>
                    <a:pt x="227" y="730"/>
                    <a:pt x="220" y="730"/>
                  </a:cubicBezTo>
                  <a:cubicBezTo>
                    <a:pt x="213" y="730"/>
                    <a:pt x="202" y="741"/>
                    <a:pt x="191" y="739"/>
                  </a:cubicBezTo>
                  <a:cubicBezTo>
                    <a:pt x="180" y="737"/>
                    <a:pt x="159" y="723"/>
                    <a:pt x="152" y="715"/>
                  </a:cubicBezTo>
                  <a:cubicBezTo>
                    <a:pt x="143" y="709"/>
                    <a:pt x="152" y="696"/>
                    <a:pt x="148" y="690"/>
                  </a:cubicBezTo>
                  <a:cubicBezTo>
                    <a:pt x="144" y="684"/>
                    <a:pt x="135" y="688"/>
                    <a:pt x="128" y="679"/>
                  </a:cubicBezTo>
                  <a:cubicBezTo>
                    <a:pt x="115" y="666"/>
                    <a:pt x="112" y="650"/>
                    <a:pt x="104" y="633"/>
                  </a:cubicBezTo>
                  <a:cubicBezTo>
                    <a:pt x="97" y="620"/>
                    <a:pt x="100" y="586"/>
                    <a:pt x="64" y="594"/>
                  </a:cubicBezTo>
                  <a:cubicBezTo>
                    <a:pt x="54" y="587"/>
                    <a:pt x="29" y="590"/>
                    <a:pt x="17" y="586"/>
                  </a:cubicBezTo>
                  <a:cubicBezTo>
                    <a:pt x="11" y="584"/>
                    <a:pt x="4" y="555"/>
                    <a:pt x="5" y="558"/>
                  </a:cubicBezTo>
                  <a:cubicBezTo>
                    <a:pt x="3" y="548"/>
                    <a:pt x="0" y="542"/>
                    <a:pt x="2" y="532"/>
                  </a:cubicBezTo>
                  <a:cubicBezTo>
                    <a:pt x="5" y="522"/>
                    <a:pt x="19" y="510"/>
                    <a:pt x="26" y="498"/>
                  </a:cubicBezTo>
                  <a:cubicBezTo>
                    <a:pt x="31" y="484"/>
                    <a:pt x="44" y="463"/>
                    <a:pt x="44" y="463"/>
                  </a:cubicBezTo>
                  <a:cubicBezTo>
                    <a:pt x="49" y="428"/>
                    <a:pt x="50" y="413"/>
                    <a:pt x="68" y="385"/>
                  </a:cubicBezTo>
                  <a:cubicBezTo>
                    <a:pt x="74" y="356"/>
                    <a:pt x="69" y="345"/>
                    <a:pt x="97" y="336"/>
                  </a:cubicBezTo>
                  <a:cubicBezTo>
                    <a:pt x="106" y="331"/>
                    <a:pt x="98" y="351"/>
                    <a:pt x="124" y="357"/>
                  </a:cubicBezTo>
                  <a:cubicBezTo>
                    <a:pt x="134" y="363"/>
                    <a:pt x="137" y="371"/>
                    <a:pt x="158" y="372"/>
                  </a:cubicBezTo>
                  <a:cubicBezTo>
                    <a:pt x="179" y="373"/>
                    <a:pt x="229" y="357"/>
                    <a:pt x="251" y="364"/>
                  </a:cubicBezTo>
                  <a:cubicBezTo>
                    <a:pt x="266" y="393"/>
                    <a:pt x="260" y="399"/>
                    <a:pt x="289" y="414"/>
                  </a:cubicBezTo>
                  <a:cubicBezTo>
                    <a:pt x="328" y="401"/>
                    <a:pt x="314" y="380"/>
                    <a:pt x="353" y="367"/>
                  </a:cubicBezTo>
                  <a:cubicBezTo>
                    <a:pt x="360" y="338"/>
                    <a:pt x="370" y="367"/>
                    <a:pt x="382" y="324"/>
                  </a:cubicBezTo>
                  <a:cubicBezTo>
                    <a:pt x="384" y="316"/>
                    <a:pt x="397" y="312"/>
                    <a:pt x="404" y="307"/>
                  </a:cubicBezTo>
                  <a:cubicBezTo>
                    <a:pt x="418" y="298"/>
                    <a:pt x="452" y="295"/>
                    <a:pt x="452" y="295"/>
                  </a:cubicBezTo>
                  <a:cubicBezTo>
                    <a:pt x="456" y="289"/>
                    <a:pt x="459" y="282"/>
                    <a:pt x="464" y="277"/>
                  </a:cubicBezTo>
                  <a:cubicBezTo>
                    <a:pt x="469" y="272"/>
                    <a:pt x="458" y="292"/>
                    <a:pt x="478" y="249"/>
                  </a:cubicBezTo>
                  <a:lnTo>
                    <a:pt x="499" y="235"/>
                  </a:lnTo>
                  <a:lnTo>
                    <a:pt x="517" y="238"/>
                  </a:lnTo>
                  <a:lnTo>
                    <a:pt x="524" y="211"/>
                  </a:lnTo>
                  <a:lnTo>
                    <a:pt x="538" y="181"/>
                  </a:lnTo>
                  <a:lnTo>
                    <a:pt x="560" y="169"/>
                  </a:lnTo>
                  <a:lnTo>
                    <a:pt x="581" y="163"/>
                  </a:lnTo>
                  <a:lnTo>
                    <a:pt x="587" y="133"/>
                  </a:lnTo>
                  <a:lnTo>
                    <a:pt x="580" y="109"/>
                  </a:lnTo>
                  <a:lnTo>
                    <a:pt x="551" y="82"/>
                  </a:lnTo>
                  <a:lnTo>
                    <a:pt x="559" y="64"/>
                  </a:lnTo>
                  <a:lnTo>
                    <a:pt x="581" y="39"/>
                  </a:lnTo>
                  <a:lnTo>
                    <a:pt x="584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78" name="Text Box 22"/>
            <p:cNvSpPr/>
            <p:nvPr/>
          </p:nvSpPr>
          <p:spPr>
            <a:xfrm>
              <a:off x="4312800" y="388152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重庆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79" name="Group 23"/>
          <p:cNvGrpSpPr/>
          <p:nvPr/>
        </p:nvGrpSpPr>
        <p:grpSpPr>
          <a:xfrm>
            <a:off x="2092320" y="4127400"/>
            <a:ext cx="2048040" cy="1665360"/>
            <a:chOff x="2092320" y="4127400"/>
            <a:chExt cx="2048040" cy="1665360"/>
          </a:xfrm>
        </p:grpSpPr>
        <p:sp>
          <p:nvSpPr>
            <p:cNvPr id="180" name="Freeform 24"/>
            <p:cNvSpPr/>
            <p:nvPr/>
          </p:nvSpPr>
          <p:spPr>
            <a:xfrm>
              <a:off x="2092320" y="4127400"/>
              <a:ext cx="2048040" cy="1665360"/>
            </a:xfrm>
            <a:custGeom>
              <a:avLst/>
              <a:gdLst/>
              <a:ahLst/>
              <a:rect l="l" t="t" r="r" b="b"/>
              <a:pathLst>
                <a:path w="1290" h="1049">
                  <a:moveTo>
                    <a:pt x="256" y="0"/>
                  </a:moveTo>
                  <a:cubicBezTo>
                    <a:pt x="258" y="13"/>
                    <a:pt x="266" y="32"/>
                    <a:pt x="268" y="44"/>
                  </a:cubicBezTo>
                  <a:cubicBezTo>
                    <a:pt x="271" y="67"/>
                    <a:pt x="267" y="127"/>
                    <a:pt x="272" y="146"/>
                  </a:cubicBezTo>
                  <a:cubicBezTo>
                    <a:pt x="277" y="165"/>
                    <a:pt x="289" y="158"/>
                    <a:pt x="296" y="156"/>
                  </a:cubicBezTo>
                  <a:cubicBezTo>
                    <a:pt x="311" y="153"/>
                    <a:pt x="306" y="149"/>
                    <a:pt x="314" y="134"/>
                  </a:cubicBezTo>
                  <a:cubicBezTo>
                    <a:pt x="321" y="125"/>
                    <a:pt x="336" y="100"/>
                    <a:pt x="342" y="94"/>
                  </a:cubicBezTo>
                  <a:cubicBezTo>
                    <a:pt x="348" y="88"/>
                    <a:pt x="349" y="90"/>
                    <a:pt x="352" y="96"/>
                  </a:cubicBezTo>
                  <a:cubicBezTo>
                    <a:pt x="358" y="98"/>
                    <a:pt x="354" y="117"/>
                    <a:pt x="360" y="128"/>
                  </a:cubicBezTo>
                  <a:cubicBezTo>
                    <a:pt x="363" y="143"/>
                    <a:pt x="366" y="171"/>
                    <a:pt x="372" y="184"/>
                  </a:cubicBezTo>
                  <a:cubicBezTo>
                    <a:pt x="388" y="190"/>
                    <a:pt x="393" y="200"/>
                    <a:pt x="398" y="208"/>
                  </a:cubicBezTo>
                  <a:cubicBezTo>
                    <a:pt x="401" y="212"/>
                    <a:pt x="396" y="248"/>
                    <a:pt x="396" y="248"/>
                  </a:cubicBezTo>
                  <a:cubicBezTo>
                    <a:pt x="404" y="279"/>
                    <a:pt x="399" y="308"/>
                    <a:pt x="410" y="338"/>
                  </a:cubicBezTo>
                  <a:cubicBezTo>
                    <a:pt x="414" y="356"/>
                    <a:pt x="431" y="330"/>
                    <a:pt x="438" y="326"/>
                  </a:cubicBezTo>
                  <a:cubicBezTo>
                    <a:pt x="445" y="322"/>
                    <a:pt x="448" y="321"/>
                    <a:pt x="454" y="316"/>
                  </a:cubicBezTo>
                  <a:cubicBezTo>
                    <a:pt x="462" y="315"/>
                    <a:pt x="467" y="295"/>
                    <a:pt x="476" y="294"/>
                  </a:cubicBezTo>
                  <a:cubicBezTo>
                    <a:pt x="483" y="291"/>
                    <a:pt x="493" y="298"/>
                    <a:pt x="498" y="300"/>
                  </a:cubicBezTo>
                  <a:cubicBezTo>
                    <a:pt x="503" y="302"/>
                    <a:pt x="505" y="304"/>
                    <a:pt x="508" y="308"/>
                  </a:cubicBezTo>
                  <a:cubicBezTo>
                    <a:pt x="510" y="311"/>
                    <a:pt x="504" y="298"/>
                    <a:pt x="514" y="322"/>
                  </a:cubicBezTo>
                  <a:cubicBezTo>
                    <a:pt x="517" y="330"/>
                    <a:pt x="520" y="347"/>
                    <a:pt x="524" y="356"/>
                  </a:cubicBezTo>
                  <a:cubicBezTo>
                    <a:pt x="528" y="365"/>
                    <a:pt x="535" y="363"/>
                    <a:pt x="540" y="376"/>
                  </a:cubicBezTo>
                  <a:cubicBezTo>
                    <a:pt x="545" y="389"/>
                    <a:pt x="551" y="422"/>
                    <a:pt x="554" y="434"/>
                  </a:cubicBezTo>
                  <a:cubicBezTo>
                    <a:pt x="557" y="446"/>
                    <a:pt x="553" y="442"/>
                    <a:pt x="558" y="448"/>
                  </a:cubicBezTo>
                  <a:cubicBezTo>
                    <a:pt x="562" y="457"/>
                    <a:pt x="573" y="459"/>
                    <a:pt x="582" y="472"/>
                  </a:cubicBezTo>
                  <a:cubicBezTo>
                    <a:pt x="587" y="479"/>
                    <a:pt x="582" y="484"/>
                    <a:pt x="588" y="492"/>
                  </a:cubicBezTo>
                  <a:cubicBezTo>
                    <a:pt x="594" y="500"/>
                    <a:pt x="609" y="506"/>
                    <a:pt x="616" y="518"/>
                  </a:cubicBezTo>
                  <a:cubicBezTo>
                    <a:pt x="623" y="530"/>
                    <a:pt x="623" y="549"/>
                    <a:pt x="628" y="564"/>
                  </a:cubicBezTo>
                  <a:cubicBezTo>
                    <a:pt x="632" y="580"/>
                    <a:pt x="636" y="598"/>
                    <a:pt x="642" y="612"/>
                  </a:cubicBezTo>
                  <a:cubicBezTo>
                    <a:pt x="647" y="628"/>
                    <a:pt x="659" y="637"/>
                    <a:pt x="664" y="648"/>
                  </a:cubicBezTo>
                  <a:cubicBezTo>
                    <a:pt x="669" y="657"/>
                    <a:pt x="670" y="663"/>
                    <a:pt x="672" y="668"/>
                  </a:cubicBezTo>
                  <a:cubicBezTo>
                    <a:pt x="674" y="673"/>
                    <a:pt x="674" y="674"/>
                    <a:pt x="674" y="676"/>
                  </a:cubicBezTo>
                  <a:cubicBezTo>
                    <a:pt x="674" y="678"/>
                    <a:pt x="669" y="677"/>
                    <a:pt x="672" y="680"/>
                  </a:cubicBezTo>
                  <a:cubicBezTo>
                    <a:pt x="675" y="680"/>
                    <a:pt x="674" y="694"/>
                    <a:pt x="692" y="692"/>
                  </a:cubicBezTo>
                  <a:cubicBezTo>
                    <a:pt x="702" y="690"/>
                    <a:pt x="717" y="670"/>
                    <a:pt x="732" y="666"/>
                  </a:cubicBezTo>
                  <a:cubicBezTo>
                    <a:pt x="747" y="662"/>
                    <a:pt x="768" y="669"/>
                    <a:pt x="780" y="668"/>
                  </a:cubicBezTo>
                  <a:cubicBezTo>
                    <a:pt x="791" y="667"/>
                    <a:pt x="794" y="662"/>
                    <a:pt x="802" y="658"/>
                  </a:cubicBezTo>
                  <a:cubicBezTo>
                    <a:pt x="810" y="654"/>
                    <a:pt x="819" y="649"/>
                    <a:pt x="828" y="644"/>
                  </a:cubicBezTo>
                  <a:cubicBezTo>
                    <a:pt x="842" y="640"/>
                    <a:pt x="839" y="627"/>
                    <a:pt x="854" y="626"/>
                  </a:cubicBezTo>
                  <a:cubicBezTo>
                    <a:pt x="858" y="619"/>
                    <a:pt x="855" y="611"/>
                    <a:pt x="860" y="602"/>
                  </a:cubicBezTo>
                  <a:cubicBezTo>
                    <a:pt x="866" y="598"/>
                    <a:pt x="884" y="606"/>
                    <a:pt x="890" y="604"/>
                  </a:cubicBezTo>
                  <a:cubicBezTo>
                    <a:pt x="896" y="602"/>
                    <a:pt x="900" y="592"/>
                    <a:pt x="896" y="590"/>
                  </a:cubicBezTo>
                  <a:cubicBezTo>
                    <a:pt x="892" y="588"/>
                    <a:pt x="872" y="601"/>
                    <a:pt x="866" y="594"/>
                  </a:cubicBezTo>
                  <a:cubicBezTo>
                    <a:pt x="864" y="586"/>
                    <a:pt x="857" y="567"/>
                    <a:pt x="860" y="546"/>
                  </a:cubicBezTo>
                  <a:cubicBezTo>
                    <a:pt x="863" y="525"/>
                    <a:pt x="874" y="485"/>
                    <a:pt x="882" y="470"/>
                  </a:cubicBezTo>
                  <a:cubicBezTo>
                    <a:pt x="888" y="455"/>
                    <a:pt x="901" y="460"/>
                    <a:pt x="908" y="456"/>
                  </a:cubicBezTo>
                  <a:cubicBezTo>
                    <a:pt x="915" y="452"/>
                    <a:pt x="915" y="451"/>
                    <a:pt x="922" y="444"/>
                  </a:cubicBezTo>
                  <a:cubicBezTo>
                    <a:pt x="929" y="437"/>
                    <a:pt x="940" y="419"/>
                    <a:pt x="948" y="414"/>
                  </a:cubicBezTo>
                  <a:cubicBezTo>
                    <a:pt x="956" y="407"/>
                    <a:pt x="962" y="415"/>
                    <a:pt x="968" y="412"/>
                  </a:cubicBezTo>
                  <a:cubicBezTo>
                    <a:pt x="972" y="405"/>
                    <a:pt x="968" y="383"/>
                    <a:pt x="970" y="368"/>
                  </a:cubicBezTo>
                  <a:cubicBezTo>
                    <a:pt x="974" y="353"/>
                    <a:pt x="977" y="334"/>
                    <a:pt x="980" y="322"/>
                  </a:cubicBezTo>
                  <a:cubicBezTo>
                    <a:pt x="983" y="310"/>
                    <a:pt x="979" y="302"/>
                    <a:pt x="986" y="294"/>
                  </a:cubicBezTo>
                  <a:cubicBezTo>
                    <a:pt x="993" y="286"/>
                    <a:pt x="1013" y="282"/>
                    <a:pt x="1022" y="276"/>
                  </a:cubicBezTo>
                  <a:cubicBezTo>
                    <a:pt x="1028" y="265"/>
                    <a:pt x="1034" y="261"/>
                    <a:pt x="1042" y="258"/>
                  </a:cubicBezTo>
                  <a:cubicBezTo>
                    <a:pt x="1050" y="255"/>
                    <a:pt x="1061" y="258"/>
                    <a:pt x="1068" y="258"/>
                  </a:cubicBezTo>
                  <a:cubicBezTo>
                    <a:pt x="1075" y="258"/>
                    <a:pt x="1072" y="255"/>
                    <a:pt x="1082" y="258"/>
                  </a:cubicBezTo>
                  <a:cubicBezTo>
                    <a:pt x="1091" y="253"/>
                    <a:pt x="1115" y="276"/>
                    <a:pt x="1126" y="276"/>
                  </a:cubicBezTo>
                  <a:cubicBezTo>
                    <a:pt x="1136" y="287"/>
                    <a:pt x="1133" y="313"/>
                    <a:pt x="1140" y="322"/>
                  </a:cubicBezTo>
                  <a:cubicBezTo>
                    <a:pt x="1147" y="331"/>
                    <a:pt x="1160" y="329"/>
                    <a:pt x="1168" y="332"/>
                  </a:cubicBezTo>
                  <a:cubicBezTo>
                    <a:pt x="1176" y="335"/>
                    <a:pt x="1181" y="337"/>
                    <a:pt x="1188" y="338"/>
                  </a:cubicBezTo>
                  <a:cubicBezTo>
                    <a:pt x="1195" y="339"/>
                    <a:pt x="1200" y="340"/>
                    <a:pt x="1208" y="340"/>
                  </a:cubicBezTo>
                  <a:cubicBezTo>
                    <a:pt x="1216" y="342"/>
                    <a:pt x="1226" y="344"/>
                    <a:pt x="1236" y="340"/>
                  </a:cubicBezTo>
                  <a:cubicBezTo>
                    <a:pt x="1245" y="340"/>
                    <a:pt x="1258" y="338"/>
                    <a:pt x="1264" y="340"/>
                  </a:cubicBezTo>
                  <a:cubicBezTo>
                    <a:pt x="1270" y="342"/>
                    <a:pt x="1270" y="346"/>
                    <a:pt x="1272" y="350"/>
                  </a:cubicBezTo>
                  <a:cubicBezTo>
                    <a:pt x="1277" y="351"/>
                    <a:pt x="1272" y="368"/>
                    <a:pt x="1276" y="366"/>
                  </a:cubicBezTo>
                  <a:cubicBezTo>
                    <a:pt x="1279" y="370"/>
                    <a:pt x="1286" y="371"/>
                    <a:pt x="1288" y="372"/>
                  </a:cubicBezTo>
                  <a:cubicBezTo>
                    <a:pt x="1290" y="373"/>
                    <a:pt x="1289" y="368"/>
                    <a:pt x="1286" y="374"/>
                  </a:cubicBezTo>
                  <a:cubicBezTo>
                    <a:pt x="1283" y="380"/>
                    <a:pt x="1276" y="398"/>
                    <a:pt x="1270" y="408"/>
                  </a:cubicBezTo>
                  <a:cubicBezTo>
                    <a:pt x="1264" y="418"/>
                    <a:pt x="1252" y="429"/>
                    <a:pt x="1250" y="434"/>
                  </a:cubicBezTo>
                  <a:cubicBezTo>
                    <a:pt x="1248" y="439"/>
                    <a:pt x="1264" y="434"/>
                    <a:pt x="1260" y="436"/>
                  </a:cubicBezTo>
                  <a:cubicBezTo>
                    <a:pt x="1256" y="437"/>
                    <a:pt x="1236" y="448"/>
                    <a:pt x="1228" y="448"/>
                  </a:cubicBezTo>
                  <a:cubicBezTo>
                    <a:pt x="1218" y="450"/>
                    <a:pt x="1209" y="451"/>
                    <a:pt x="1200" y="450"/>
                  </a:cubicBezTo>
                  <a:cubicBezTo>
                    <a:pt x="1191" y="449"/>
                    <a:pt x="1179" y="444"/>
                    <a:pt x="1172" y="444"/>
                  </a:cubicBezTo>
                  <a:cubicBezTo>
                    <a:pt x="1162" y="446"/>
                    <a:pt x="1171" y="452"/>
                    <a:pt x="1160" y="452"/>
                  </a:cubicBezTo>
                  <a:cubicBezTo>
                    <a:pt x="1154" y="455"/>
                    <a:pt x="1145" y="461"/>
                    <a:pt x="1136" y="460"/>
                  </a:cubicBezTo>
                  <a:cubicBezTo>
                    <a:pt x="1127" y="459"/>
                    <a:pt x="1123" y="447"/>
                    <a:pt x="1108" y="446"/>
                  </a:cubicBezTo>
                  <a:cubicBezTo>
                    <a:pt x="1083" y="444"/>
                    <a:pt x="1061" y="452"/>
                    <a:pt x="1048" y="454"/>
                  </a:cubicBezTo>
                  <a:cubicBezTo>
                    <a:pt x="1035" y="456"/>
                    <a:pt x="1038" y="452"/>
                    <a:pt x="1030" y="456"/>
                  </a:cubicBezTo>
                  <a:cubicBezTo>
                    <a:pt x="1022" y="460"/>
                    <a:pt x="1004" y="469"/>
                    <a:pt x="998" y="480"/>
                  </a:cubicBezTo>
                  <a:cubicBezTo>
                    <a:pt x="997" y="490"/>
                    <a:pt x="993" y="508"/>
                    <a:pt x="992" y="522"/>
                  </a:cubicBezTo>
                  <a:cubicBezTo>
                    <a:pt x="992" y="533"/>
                    <a:pt x="998" y="537"/>
                    <a:pt x="998" y="544"/>
                  </a:cubicBezTo>
                  <a:cubicBezTo>
                    <a:pt x="998" y="551"/>
                    <a:pt x="995" y="556"/>
                    <a:pt x="994" y="566"/>
                  </a:cubicBezTo>
                  <a:cubicBezTo>
                    <a:pt x="993" y="576"/>
                    <a:pt x="992" y="592"/>
                    <a:pt x="992" y="606"/>
                  </a:cubicBezTo>
                  <a:cubicBezTo>
                    <a:pt x="995" y="642"/>
                    <a:pt x="1042" y="628"/>
                    <a:pt x="1056" y="632"/>
                  </a:cubicBezTo>
                  <a:cubicBezTo>
                    <a:pt x="1062" y="636"/>
                    <a:pt x="1067" y="631"/>
                    <a:pt x="1074" y="626"/>
                  </a:cubicBezTo>
                  <a:cubicBezTo>
                    <a:pt x="1081" y="621"/>
                    <a:pt x="1090" y="609"/>
                    <a:pt x="1096" y="604"/>
                  </a:cubicBezTo>
                  <a:cubicBezTo>
                    <a:pt x="1106" y="600"/>
                    <a:pt x="1103" y="599"/>
                    <a:pt x="1108" y="594"/>
                  </a:cubicBezTo>
                  <a:cubicBezTo>
                    <a:pt x="1113" y="590"/>
                    <a:pt x="1120" y="578"/>
                    <a:pt x="1126" y="578"/>
                  </a:cubicBezTo>
                  <a:cubicBezTo>
                    <a:pt x="1133" y="577"/>
                    <a:pt x="1139" y="587"/>
                    <a:pt x="1146" y="592"/>
                  </a:cubicBezTo>
                  <a:cubicBezTo>
                    <a:pt x="1150" y="599"/>
                    <a:pt x="1148" y="613"/>
                    <a:pt x="1150" y="618"/>
                  </a:cubicBezTo>
                  <a:cubicBezTo>
                    <a:pt x="1150" y="624"/>
                    <a:pt x="1157" y="610"/>
                    <a:pt x="1158" y="620"/>
                  </a:cubicBezTo>
                  <a:cubicBezTo>
                    <a:pt x="1159" y="630"/>
                    <a:pt x="1166" y="657"/>
                    <a:pt x="1156" y="678"/>
                  </a:cubicBezTo>
                  <a:cubicBezTo>
                    <a:pt x="1126" y="706"/>
                    <a:pt x="1112" y="720"/>
                    <a:pt x="1098" y="748"/>
                  </a:cubicBezTo>
                  <a:cubicBezTo>
                    <a:pt x="1099" y="767"/>
                    <a:pt x="1090" y="794"/>
                    <a:pt x="1114" y="826"/>
                  </a:cubicBezTo>
                  <a:cubicBezTo>
                    <a:pt x="1118" y="842"/>
                    <a:pt x="1122" y="833"/>
                    <a:pt x="1128" y="838"/>
                  </a:cubicBezTo>
                  <a:cubicBezTo>
                    <a:pt x="1133" y="844"/>
                    <a:pt x="1139" y="854"/>
                    <a:pt x="1144" y="862"/>
                  </a:cubicBezTo>
                  <a:cubicBezTo>
                    <a:pt x="1161" y="876"/>
                    <a:pt x="1153" y="879"/>
                    <a:pt x="1156" y="884"/>
                  </a:cubicBezTo>
                  <a:cubicBezTo>
                    <a:pt x="1159" y="889"/>
                    <a:pt x="1161" y="888"/>
                    <a:pt x="1164" y="890"/>
                  </a:cubicBezTo>
                  <a:cubicBezTo>
                    <a:pt x="1167" y="892"/>
                    <a:pt x="1174" y="894"/>
                    <a:pt x="1172" y="898"/>
                  </a:cubicBezTo>
                  <a:cubicBezTo>
                    <a:pt x="1170" y="902"/>
                    <a:pt x="1160" y="908"/>
                    <a:pt x="1154" y="914"/>
                  </a:cubicBezTo>
                  <a:cubicBezTo>
                    <a:pt x="1150" y="920"/>
                    <a:pt x="1138" y="926"/>
                    <a:pt x="1134" y="936"/>
                  </a:cubicBezTo>
                  <a:cubicBezTo>
                    <a:pt x="1130" y="946"/>
                    <a:pt x="1132" y="965"/>
                    <a:pt x="1130" y="976"/>
                  </a:cubicBezTo>
                  <a:cubicBezTo>
                    <a:pt x="1128" y="987"/>
                    <a:pt x="1123" y="996"/>
                    <a:pt x="1124" y="1004"/>
                  </a:cubicBezTo>
                  <a:cubicBezTo>
                    <a:pt x="1125" y="1012"/>
                    <a:pt x="1134" y="1016"/>
                    <a:pt x="1134" y="1022"/>
                  </a:cubicBezTo>
                  <a:cubicBezTo>
                    <a:pt x="1134" y="1028"/>
                    <a:pt x="1126" y="1036"/>
                    <a:pt x="1126" y="1040"/>
                  </a:cubicBezTo>
                  <a:cubicBezTo>
                    <a:pt x="1126" y="1044"/>
                    <a:pt x="1160" y="1045"/>
                    <a:pt x="1132" y="1046"/>
                  </a:cubicBezTo>
                  <a:cubicBezTo>
                    <a:pt x="1104" y="1047"/>
                    <a:pt x="1141" y="1046"/>
                    <a:pt x="956" y="1046"/>
                  </a:cubicBezTo>
                  <a:cubicBezTo>
                    <a:pt x="577" y="1045"/>
                    <a:pt x="399" y="1049"/>
                    <a:pt x="20" y="1044"/>
                  </a:cubicBezTo>
                  <a:cubicBezTo>
                    <a:pt x="0" y="1044"/>
                    <a:pt x="14" y="1038"/>
                    <a:pt x="20" y="1033"/>
                  </a:cubicBezTo>
                  <a:cubicBezTo>
                    <a:pt x="30" y="1024"/>
                    <a:pt x="22" y="992"/>
                    <a:pt x="35" y="991"/>
                  </a:cubicBezTo>
                  <a:cubicBezTo>
                    <a:pt x="37" y="949"/>
                    <a:pt x="31" y="951"/>
                    <a:pt x="18" y="948"/>
                  </a:cubicBezTo>
                  <a:cubicBezTo>
                    <a:pt x="17" y="943"/>
                    <a:pt x="31" y="927"/>
                    <a:pt x="29" y="922"/>
                  </a:cubicBezTo>
                  <a:cubicBezTo>
                    <a:pt x="27" y="914"/>
                    <a:pt x="37" y="897"/>
                    <a:pt x="35" y="889"/>
                  </a:cubicBezTo>
                  <a:cubicBezTo>
                    <a:pt x="31" y="873"/>
                    <a:pt x="38" y="880"/>
                    <a:pt x="38" y="880"/>
                  </a:cubicBezTo>
                  <a:cubicBezTo>
                    <a:pt x="39" y="867"/>
                    <a:pt x="43" y="839"/>
                    <a:pt x="47" y="820"/>
                  </a:cubicBezTo>
                  <a:cubicBezTo>
                    <a:pt x="51" y="801"/>
                    <a:pt x="59" y="781"/>
                    <a:pt x="60" y="768"/>
                  </a:cubicBezTo>
                  <a:cubicBezTo>
                    <a:pt x="64" y="758"/>
                    <a:pt x="52" y="757"/>
                    <a:pt x="54" y="740"/>
                  </a:cubicBezTo>
                  <a:cubicBezTo>
                    <a:pt x="59" y="726"/>
                    <a:pt x="85" y="699"/>
                    <a:pt x="92" y="685"/>
                  </a:cubicBezTo>
                  <a:cubicBezTo>
                    <a:pt x="97" y="673"/>
                    <a:pt x="90" y="669"/>
                    <a:pt x="98" y="658"/>
                  </a:cubicBezTo>
                  <a:cubicBezTo>
                    <a:pt x="106" y="647"/>
                    <a:pt x="129" y="632"/>
                    <a:pt x="140" y="620"/>
                  </a:cubicBezTo>
                  <a:cubicBezTo>
                    <a:pt x="141" y="608"/>
                    <a:pt x="155" y="592"/>
                    <a:pt x="164" y="586"/>
                  </a:cubicBezTo>
                  <a:cubicBezTo>
                    <a:pt x="170" y="550"/>
                    <a:pt x="177" y="551"/>
                    <a:pt x="188" y="517"/>
                  </a:cubicBezTo>
                  <a:cubicBezTo>
                    <a:pt x="195" y="485"/>
                    <a:pt x="191" y="440"/>
                    <a:pt x="191" y="415"/>
                  </a:cubicBezTo>
                  <a:cubicBezTo>
                    <a:pt x="191" y="390"/>
                    <a:pt x="188" y="381"/>
                    <a:pt x="186" y="366"/>
                  </a:cubicBezTo>
                  <a:cubicBezTo>
                    <a:pt x="184" y="351"/>
                    <a:pt x="182" y="339"/>
                    <a:pt x="179" y="325"/>
                  </a:cubicBezTo>
                  <a:cubicBezTo>
                    <a:pt x="176" y="311"/>
                    <a:pt x="179" y="294"/>
                    <a:pt x="170" y="283"/>
                  </a:cubicBezTo>
                  <a:cubicBezTo>
                    <a:pt x="161" y="272"/>
                    <a:pt x="133" y="266"/>
                    <a:pt x="125" y="256"/>
                  </a:cubicBezTo>
                  <a:cubicBezTo>
                    <a:pt x="112" y="206"/>
                    <a:pt x="121" y="233"/>
                    <a:pt x="124" y="222"/>
                  </a:cubicBezTo>
                  <a:cubicBezTo>
                    <a:pt x="127" y="211"/>
                    <a:pt x="137" y="199"/>
                    <a:pt x="142" y="188"/>
                  </a:cubicBezTo>
                  <a:cubicBezTo>
                    <a:pt x="145" y="168"/>
                    <a:pt x="153" y="172"/>
                    <a:pt x="152" y="158"/>
                  </a:cubicBezTo>
                  <a:cubicBezTo>
                    <a:pt x="151" y="144"/>
                    <a:pt x="137" y="116"/>
                    <a:pt x="136" y="102"/>
                  </a:cubicBezTo>
                  <a:cubicBezTo>
                    <a:pt x="135" y="88"/>
                    <a:pt x="139" y="83"/>
                    <a:pt x="146" y="72"/>
                  </a:cubicBezTo>
                  <a:cubicBezTo>
                    <a:pt x="153" y="61"/>
                    <a:pt x="168" y="43"/>
                    <a:pt x="178" y="38"/>
                  </a:cubicBezTo>
                  <a:cubicBezTo>
                    <a:pt x="186" y="35"/>
                    <a:pt x="198" y="38"/>
                    <a:pt x="204" y="40"/>
                  </a:cubicBezTo>
                  <a:cubicBezTo>
                    <a:pt x="210" y="42"/>
                    <a:pt x="208" y="59"/>
                    <a:pt x="216" y="52"/>
                  </a:cubicBezTo>
                  <a:cubicBezTo>
                    <a:pt x="227" y="35"/>
                    <a:pt x="247" y="9"/>
                    <a:pt x="254" y="0"/>
                  </a:cubicBezTo>
                  <a:lnTo>
                    <a:pt x="256" y="0"/>
                  </a:lnTo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81" name="Text Box 25"/>
            <p:cNvSpPr/>
            <p:nvPr/>
          </p:nvSpPr>
          <p:spPr>
            <a:xfrm>
              <a:off x="2580840" y="5219640"/>
              <a:ext cx="7293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云 南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82" name="Group 26"/>
          <p:cNvGrpSpPr/>
          <p:nvPr/>
        </p:nvGrpSpPr>
        <p:grpSpPr>
          <a:xfrm>
            <a:off x="2168640" y="2514600"/>
            <a:ext cx="2867040" cy="2751120"/>
            <a:chOff x="2168640" y="2514600"/>
            <a:chExt cx="2867040" cy="2751120"/>
          </a:xfrm>
        </p:grpSpPr>
        <p:sp>
          <p:nvSpPr>
            <p:cNvPr id="183" name="Freeform 27"/>
            <p:cNvSpPr/>
            <p:nvPr/>
          </p:nvSpPr>
          <p:spPr>
            <a:xfrm>
              <a:off x="2168640" y="2514600"/>
              <a:ext cx="2867040" cy="2751120"/>
            </a:xfrm>
            <a:custGeom>
              <a:avLst/>
              <a:gdLst/>
              <a:ahLst/>
              <a:rect l="l" t="t" r="r" b="b"/>
              <a:pathLst>
                <a:path w="1806" h="1733">
                  <a:moveTo>
                    <a:pt x="707" y="162"/>
                  </a:moveTo>
                  <a:cubicBezTo>
                    <a:pt x="755" y="194"/>
                    <a:pt x="753" y="221"/>
                    <a:pt x="781" y="262"/>
                  </a:cubicBezTo>
                  <a:cubicBezTo>
                    <a:pt x="795" y="278"/>
                    <a:pt x="783" y="272"/>
                    <a:pt x="793" y="266"/>
                  </a:cubicBezTo>
                  <a:cubicBezTo>
                    <a:pt x="799" y="260"/>
                    <a:pt x="813" y="234"/>
                    <a:pt x="819" y="226"/>
                  </a:cubicBezTo>
                  <a:cubicBezTo>
                    <a:pt x="825" y="217"/>
                    <a:pt x="824" y="231"/>
                    <a:pt x="827" y="216"/>
                  </a:cubicBezTo>
                  <a:cubicBezTo>
                    <a:pt x="831" y="213"/>
                    <a:pt x="840" y="218"/>
                    <a:pt x="841" y="210"/>
                  </a:cubicBezTo>
                  <a:cubicBezTo>
                    <a:pt x="842" y="202"/>
                    <a:pt x="835" y="180"/>
                    <a:pt x="831" y="166"/>
                  </a:cubicBezTo>
                  <a:cubicBezTo>
                    <a:pt x="829" y="152"/>
                    <a:pt x="816" y="142"/>
                    <a:pt x="817" y="128"/>
                  </a:cubicBezTo>
                  <a:cubicBezTo>
                    <a:pt x="818" y="115"/>
                    <a:pt x="828" y="95"/>
                    <a:pt x="836" y="86"/>
                  </a:cubicBezTo>
                  <a:cubicBezTo>
                    <a:pt x="846" y="76"/>
                    <a:pt x="854" y="75"/>
                    <a:pt x="866" y="72"/>
                  </a:cubicBezTo>
                  <a:cubicBezTo>
                    <a:pt x="878" y="69"/>
                    <a:pt x="895" y="68"/>
                    <a:pt x="908" y="66"/>
                  </a:cubicBezTo>
                  <a:cubicBezTo>
                    <a:pt x="924" y="68"/>
                    <a:pt x="933" y="51"/>
                    <a:pt x="946" y="60"/>
                  </a:cubicBezTo>
                  <a:cubicBezTo>
                    <a:pt x="955" y="63"/>
                    <a:pt x="964" y="79"/>
                    <a:pt x="967" y="90"/>
                  </a:cubicBezTo>
                  <a:cubicBezTo>
                    <a:pt x="970" y="101"/>
                    <a:pt x="965" y="116"/>
                    <a:pt x="967" y="128"/>
                  </a:cubicBezTo>
                  <a:cubicBezTo>
                    <a:pt x="969" y="140"/>
                    <a:pt x="975" y="154"/>
                    <a:pt x="979" y="160"/>
                  </a:cubicBezTo>
                  <a:cubicBezTo>
                    <a:pt x="983" y="173"/>
                    <a:pt x="974" y="163"/>
                    <a:pt x="991" y="166"/>
                  </a:cubicBezTo>
                  <a:cubicBezTo>
                    <a:pt x="996" y="166"/>
                    <a:pt x="1003" y="163"/>
                    <a:pt x="1012" y="162"/>
                  </a:cubicBezTo>
                  <a:cubicBezTo>
                    <a:pt x="1021" y="161"/>
                    <a:pt x="1036" y="157"/>
                    <a:pt x="1048" y="158"/>
                  </a:cubicBezTo>
                  <a:cubicBezTo>
                    <a:pt x="1060" y="159"/>
                    <a:pt x="1073" y="161"/>
                    <a:pt x="1084" y="170"/>
                  </a:cubicBezTo>
                  <a:cubicBezTo>
                    <a:pt x="1093" y="181"/>
                    <a:pt x="1105" y="196"/>
                    <a:pt x="1113" y="210"/>
                  </a:cubicBezTo>
                  <a:cubicBezTo>
                    <a:pt x="1121" y="224"/>
                    <a:pt x="1130" y="238"/>
                    <a:pt x="1135" y="254"/>
                  </a:cubicBezTo>
                  <a:cubicBezTo>
                    <a:pt x="1142" y="269"/>
                    <a:pt x="1136" y="292"/>
                    <a:pt x="1142" y="308"/>
                  </a:cubicBezTo>
                  <a:cubicBezTo>
                    <a:pt x="1148" y="324"/>
                    <a:pt x="1164" y="342"/>
                    <a:pt x="1172" y="352"/>
                  </a:cubicBezTo>
                  <a:cubicBezTo>
                    <a:pt x="1180" y="362"/>
                    <a:pt x="1179" y="361"/>
                    <a:pt x="1189" y="370"/>
                  </a:cubicBezTo>
                  <a:cubicBezTo>
                    <a:pt x="1217" y="412"/>
                    <a:pt x="1208" y="416"/>
                    <a:pt x="1230" y="408"/>
                  </a:cubicBezTo>
                  <a:cubicBezTo>
                    <a:pt x="1241" y="414"/>
                    <a:pt x="1244" y="408"/>
                    <a:pt x="1253" y="406"/>
                  </a:cubicBezTo>
                  <a:cubicBezTo>
                    <a:pt x="1262" y="404"/>
                    <a:pt x="1276" y="398"/>
                    <a:pt x="1286" y="396"/>
                  </a:cubicBezTo>
                  <a:cubicBezTo>
                    <a:pt x="1296" y="394"/>
                    <a:pt x="1308" y="398"/>
                    <a:pt x="1315" y="394"/>
                  </a:cubicBezTo>
                  <a:cubicBezTo>
                    <a:pt x="1326" y="392"/>
                    <a:pt x="1318" y="374"/>
                    <a:pt x="1328" y="370"/>
                  </a:cubicBezTo>
                  <a:cubicBezTo>
                    <a:pt x="1338" y="366"/>
                    <a:pt x="1357" y="366"/>
                    <a:pt x="1374" y="370"/>
                  </a:cubicBezTo>
                  <a:cubicBezTo>
                    <a:pt x="1391" y="374"/>
                    <a:pt x="1414" y="391"/>
                    <a:pt x="1428" y="396"/>
                  </a:cubicBezTo>
                  <a:cubicBezTo>
                    <a:pt x="1442" y="401"/>
                    <a:pt x="1443" y="396"/>
                    <a:pt x="1458" y="400"/>
                  </a:cubicBezTo>
                  <a:cubicBezTo>
                    <a:pt x="1480" y="410"/>
                    <a:pt x="1501" y="414"/>
                    <a:pt x="1520" y="422"/>
                  </a:cubicBezTo>
                  <a:cubicBezTo>
                    <a:pt x="1539" y="430"/>
                    <a:pt x="1553" y="420"/>
                    <a:pt x="1568" y="424"/>
                  </a:cubicBezTo>
                  <a:cubicBezTo>
                    <a:pt x="1583" y="428"/>
                    <a:pt x="1596" y="441"/>
                    <a:pt x="1608" y="446"/>
                  </a:cubicBezTo>
                  <a:cubicBezTo>
                    <a:pt x="1618" y="451"/>
                    <a:pt x="1632" y="450"/>
                    <a:pt x="1641" y="452"/>
                  </a:cubicBezTo>
                  <a:cubicBezTo>
                    <a:pt x="1650" y="454"/>
                    <a:pt x="1650" y="455"/>
                    <a:pt x="1660" y="458"/>
                  </a:cubicBezTo>
                  <a:cubicBezTo>
                    <a:pt x="1670" y="461"/>
                    <a:pt x="1683" y="463"/>
                    <a:pt x="1702" y="470"/>
                  </a:cubicBezTo>
                  <a:cubicBezTo>
                    <a:pt x="1746" y="496"/>
                    <a:pt x="1774" y="500"/>
                    <a:pt x="1774" y="500"/>
                  </a:cubicBezTo>
                  <a:cubicBezTo>
                    <a:pt x="1788" y="512"/>
                    <a:pt x="1802" y="520"/>
                    <a:pt x="1803" y="530"/>
                  </a:cubicBezTo>
                  <a:cubicBezTo>
                    <a:pt x="1804" y="540"/>
                    <a:pt x="1787" y="551"/>
                    <a:pt x="1781" y="560"/>
                  </a:cubicBezTo>
                  <a:cubicBezTo>
                    <a:pt x="1775" y="569"/>
                    <a:pt x="1766" y="575"/>
                    <a:pt x="1769" y="586"/>
                  </a:cubicBezTo>
                  <a:cubicBezTo>
                    <a:pt x="1772" y="597"/>
                    <a:pt x="1796" y="610"/>
                    <a:pt x="1801" y="624"/>
                  </a:cubicBezTo>
                  <a:cubicBezTo>
                    <a:pt x="1806" y="638"/>
                    <a:pt x="1801" y="658"/>
                    <a:pt x="1797" y="668"/>
                  </a:cubicBezTo>
                  <a:cubicBezTo>
                    <a:pt x="1792" y="677"/>
                    <a:pt x="1783" y="674"/>
                    <a:pt x="1774" y="682"/>
                  </a:cubicBezTo>
                  <a:cubicBezTo>
                    <a:pt x="1765" y="690"/>
                    <a:pt x="1754" y="703"/>
                    <a:pt x="1743" y="714"/>
                  </a:cubicBezTo>
                  <a:cubicBezTo>
                    <a:pt x="1737" y="740"/>
                    <a:pt x="1738" y="746"/>
                    <a:pt x="1710" y="746"/>
                  </a:cubicBezTo>
                  <a:cubicBezTo>
                    <a:pt x="1688" y="762"/>
                    <a:pt x="1683" y="786"/>
                    <a:pt x="1683" y="786"/>
                  </a:cubicBezTo>
                  <a:cubicBezTo>
                    <a:pt x="1671" y="797"/>
                    <a:pt x="1663" y="802"/>
                    <a:pt x="1650" y="808"/>
                  </a:cubicBezTo>
                  <a:cubicBezTo>
                    <a:pt x="1637" y="814"/>
                    <a:pt x="1613" y="813"/>
                    <a:pt x="1603" y="822"/>
                  </a:cubicBezTo>
                  <a:cubicBezTo>
                    <a:pt x="1585" y="835"/>
                    <a:pt x="1597" y="845"/>
                    <a:pt x="1587" y="860"/>
                  </a:cubicBezTo>
                  <a:cubicBezTo>
                    <a:pt x="1580" y="869"/>
                    <a:pt x="1570" y="865"/>
                    <a:pt x="1559" y="874"/>
                  </a:cubicBezTo>
                  <a:cubicBezTo>
                    <a:pt x="1548" y="883"/>
                    <a:pt x="1532" y="905"/>
                    <a:pt x="1521" y="914"/>
                  </a:cubicBezTo>
                  <a:cubicBezTo>
                    <a:pt x="1506" y="922"/>
                    <a:pt x="1499" y="927"/>
                    <a:pt x="1490" y="926"/>
                  </a:cubicBezTo>
                  <a:cubicBezTo>
                    <a:pt x="1481" y="925"/>
                    <a:pt x="1473" y="917"/>
                    <a:pt x="1466" y="910"/>
                  </a:cubicBezTo>
                  <a:cubicBezTo>
                    <a:pt x="1460" y="905"/>
                    <a:pt x="1452" y="887"/>
                    <a:pt x="1446" y="882"/>
                  </a:cubicBezTo>
                  <a:cubicBezTo>
                    <a:pt x="1430" y="874"/>
                    <a:pt x="1396" y="886"/>
                    <a:pt x="1378" y="886"/>
                  </a:cubicBezTo>
                  <a:cubicBezTo>
                    <a:pt x="1360" y="886"/>
                    <a:pt x="1349" y="884"/>
                    <a:pt x="1338" y="880"/>
                  </a:cubicBezTo>
                  <a:cubicBezTo>
                    <a:pt x="1327" y="877"/>
                    <a:pt x="1317" y="869"/>
                    <a:pt x="1310" y="864"/>
                  </a:cubicBezTo>
                  <a:cubicBezTo>
                    <a:pt x="1303" y="859"/>
                    <a:pt x="1301" y="842"/>
                    <a:pt x="1296" y="848"/>
                  </a:cubicBezTo>
                  <a:cubicBezTo>
                    <a:pt x="1283" y="854"/>
                    <a:pt x="1282" y="885"/>
                    <a:pt x="1279" y="898"/>
                  </a:cubicBezTo>
                  <a:cubicBezTo>
                    <a:pt x="1269" y="934"/>
                    <a:pt x="1264" y="996"/>
                    <a:pt x="1231" y="1018"/>
                  </a:cubicBezTo>
                  <a:cubicBezTo>
                    <a:pt x="1226" y="1034"/>
                    <a:pt x="1211" y="1062"/>
                    <a:pt x="1227" y="1088"/>
                  </a:cubicBezTo>
                  <a:cubicBezTo>
                    <a:pt x="1231" y="1100"/>
                    <a:pt x="1241" y="1092"/>
                    <a:pt x="1255" y="1094"/>
                  </a:cubicBezTo>
                  <a:cubicBezTo>
                    <a:pt x="1269" y="1097"/>
                    <a:pt x="1297" y="1098"/>
                    <a:pt x="1309" y="1108"/>
                  </a:cubicBezTo>
                  <a:cubicBezTo>
                    <a:pt x="1319" y="1158"/>
                    <a:pt x="1313" y="1111"/>
                    <a:pt x="1325" y="1152"/>
                  </a:cubicBezTo>
                  <a:cubicBezTo>
                    <a:pt x="1329" y="1164"/>
                    <a:pt x="1339" y="1186"/>
                    <a:pt x="1339" y="1186"/>
                  </a:cubicBezTo>
                  <a:cubicBezTo>
                    <a:pt x="1341" y="1196"/>
                    <a:pt x="1363" y="1180"/>
                    <a:pt x="1367" y="1206"/>
                  </a:cubicBezTo>
                  <a:cubicBezTo>
                    <a:pt x="1372" y="1212"/>
                    <a:pt x="1370" y="1216"/>
                    <a:pt x="1367" y="1220"/>
                  </a:cubicBezTo>
                  <a:cubicBezTo>
                    <a:pt x="1364" y="1224"/>
                    <a:pt x="1357" y="1218"/>
                    <a:pt x="1351" y="1228"/>
                  </a:cubicBezTo>
                  <a:cubicBezTo>
                    <a:pt x="1345" y="1238"/>
                    <a:pt x="1326" y="1261"/>
                    <a:pt x="1329" y="1278"/>
                  </a:cubicBezTo>
                  <a:cubicBezTo>
                    <a:pt x="1332" y="1295"/>
                    <a:pt x="1358" y="1321"/>
                    <a:pt x="1369" y="1332"/>
                  </a:cubicBezTo>
                  <a:cubicBezTo>
                    <a:pt x="1379" y="1343"/>
                    <a:pt x="1391" y="1338"/>
                    <a:pt x="1397" y="1342"/>
                  </a:cubicBezTo>
                  <a:cubicBezTo>
                    <a:pt x="1403" y="1346"/>
                    <a:pt x="1405" y="1352"/>
                    <a:pt x="1405" y="1358"/>
                  </a:cubicBezTo>
                  <a:cubicBezTo>
                    <a:pt x="1405" y="1364"/>
                    <a:pt x="1406" y="1369"/>
                    <a:pt x="1397" y="1378"/>
                  </a:cubicBezTo>
                  <a:cubicBezTo>
                    <a:pt x="1388" y="1387"/>
                    <a:pt x="1370" y="1409"/>
                    <a:pt x="1349" y="1414"/>
                  </a:cubicBezTo>
                  <a:cubicBezTo>
                    <a:pt x="1328" y="1417"/>
                    <a:pt x="1291" y="1410"/>
                    <a:pt x="1269" y="1406"/>
                  </a:cubicBezTo>
                  <a:cubicBezTo>
                    <a:pt x="1248" y="1400"/>
                    <a:pt x="1235" y="1387"/>
                    <a:pt x="1225" y="1378"/>
                  </a:cubicBezTo>
                  <a:cubicBezTo>
                    <a:pt x="1212" y="1368"/>
                    <a:pt x="1226" y="1359"/>
                    <a:pt x="1209" y="1354"/>
                  </a:cubicBezTo>
                  <a:cubicBezTo>
                    <a:pt x="1196" y="1351"/>
                    <a:pt x="1159" y="1361"/>
                    <a:pt x="1145" y="1360"/>
                  </a:cubicBezTo>
                  <a:cubicBezTo>
                    <a:pt x="1131" y="1359"/>
                    <a:pt x="1131" y="1351"/>
                    <a:pt x="1123" y="1348"/>
                  </a:cubicBezTo>
                  <a:cubicBezTo>
                    <a:pt x="1117" y="1343"/>
                    <a:pt x="1101" y="1352"/>
                    <a:pt x="1095" y="1344"/>
                  </a:cubicBezTo>
                  <a:cubicBezTo>
                    <a:pt x="1089" y="1336"/>
                    <a:pt x="1095" y="1311"/>
                    <a:pt x="1087" y="1300"/>
                  </a:cubicBezTo>
                  <a:cubicBezTo>
                    <a:pt x="1075" y="1290"/>
                    <a:pt x="1058" y="1285"/>
                    <a:pt x="1045" y="1276"/>
                  </a:cubicBezTo>
                  <a:cubicBezTo>
                    <a:pt x="1033" y="1272"/>
                    <a:pt x="1024" y="1269"/>
                    <a:pt x="1015" y="1270"/>
                  </a:cubicBezTo>
                  <a:cubicBezTo>
                    <a:pt x="1007" y="1273"/>
                    <a:pt x="1008" y="1290"/>
                    <a:pt x="995" y="1296"/>
                  </a:cubicBezTo>
                  <a:cubicBezTo>
                    <a:pt x="981" y="1301"/>
                    <a:pt x="939" y="1304"/>
                    <a:pt x="939" y="1304"/>
                  </a:cubicBezTo>
                  <a:cubicBezTo>
                    <a:pt x="905" y="1348"/>
                    <a:pt x="937" y="1329"/>
                    <a:pt x="919" y="1366"/>
                  </a:cubicBezTo>
                  <a:cubicBezTo>
                    <a:pt x="913" y="1388"/>
                    <a:pt x="922" y="1427"/>
                    <a:pt x="913" y="1444"/>
                  </a:cubicBezTo>
                  <a:cubicBezTo>
                    <a:pt x="906" y="1458"/>
                    <a:pt x="886" y="1446"/>
                    <a:pt x="875" y="1452"/>
                  </a:cubicBezTo>
                  <a:cubicBezTo>
                    <a:pt x="866" y="1459"/>
                    <a:pt x="851" y="1474"/>
                    <a:pt x="847" y="1482"/>
                  </a:cubicBezTo>
                  <a:cubicBezTo>
                    <a:pt x="838" y="1492"/>
                    <a:pt x="827" y="1489"/>
                    <a:pt x="823" y="1514"/>
                  </a:cubicBezTo>
                  <a:cubicBezTo>
                    <a:pt x="809" y="1557"/>
                    <a:pt x="798" y="1562"/>
                    <a:pt x="822" y="1630"/>
                  </a:cubicBezTo>
                  <a:cubicBezTo>
                    <a:pt x="816" y="1654"/>
                    <a:pt x="795" y="1633"/>
                    <a:pt x="789" y="1640"/>
                  </a:cubicBezTo>
                  <a:cubicBezTo>
                    <a:pt x="783" y="1647"/>
                    <a:pt x="793" y="1666"/>
                    <a:pt x="785" y="1674"/>
                  </a:cubicBezTo>
                  <a:cubicBezTo>
                    <a:pt x="777" y="1682"/>
                    <a:pt x="751" y="1685"/>
                    <a:pt x="739" y="1690"/>
                  </a:cubicBezTo>
                  <a:cubicBezTo>
                    <a:pt x="727" y="1693"/>
                    <a:pt x="734" y="1705"/>
                    <a:pt x="711" y="1704"/>
                  </a:cubicBezTo>
                  <a:cubicBezTo>
                    <a:pt x="699" y="1706"/>
                    <a:pt x="681" y="1698"/>
                    <a:pt x="665" y="1702"/>
                  </a:cubicBezTo>
                  <a:cubicBezTo>
                    <a:pt x="649" y="1706"/>
                    <a:pt x="624" y="1733"/>
                    <a:pt x="613" y="1730"/>
                  </a:cubicBezTo>
                  <a:cubicBezTo>
                    <a:pt x="602" y="1727"/>
                    <a:pt x="608" y="1703"/>
                    <a:pt x="601" y="1684"/>
                  </a:cubicBezTo>
                  <a:cubicBezTo>
                    <a:pt x="585" y="1678"/>
                    <a:pt x="576" y="1633"/>
                    <a:pt x="569" y="1618"/>
                  </a:cubicBezTo>
                  <a:cubicBezTo>
                    <a:pt x="539" y="1557"/>
                    <a:pt x="551" y="1552"/>
                    <a:pt x="515" y="1524"/>
                  </a:cubicBezTo>
                  <a:cubicBezTo>
                    <a:pt x="481" y="1482"/>
                    <a:pt x="472" y="1409"/>
                    <a:pt x="467" y="1404"/>
                  </a:cubicBezTo>
                  <a:cubicBezTo>
                    <a:pt x="452" y="1389"/>
                    <a:pt x="461" y="1350"/>
                    <a:pt x="443" y="1338"/>
                  </a:cubicBezTo>
                  <a:cubicBezTo>
                    <a:pt x="433" y="1328"/>
                    <a:pt x="418" y="1328"/>
                    <a:pt x="407" y="1330"/>
                  </a:cubicBezTo>
                  <a:cubicBezTo>
                    <a:pt x="396" y="1332"/>
                    <a:pt x="385" y="1350"/>
                    <a:pt x="377" y="1352"/>
                  </a:cubicBezTo>
                  <a:cubicBezTo>
                    <a:pt x="369" y="1354"/>
                    <a:pt x="366" y="1363"/>
                    <a:pt x="361" y="1340"/>
                  </a:cubicBezTo>
                  <a:cubicBezTo>
                    <a:pt x="356" y="1317"/>
                    <a:pt x="354" y="1237"/>
                    <a:pt x="347" y="1212"/>
                  </a:cubicBezTo>
                  <a:cubicBezTo>
                    <a:pt x="342" y="1182"/>
                    <a:pt x="321" y="1220"/>
                    <a:pt x="319" y="1192"/>
                  </a:cubicBezTo>
                  <a:cubicBezTo>
                    <a:pt x="314" y="1181"/>
                    <a:pt x="324" y="1158"/>
                    <a:pt x="319" y="1148"/>
                  </a:cubicBezTo>
                  <a:cubicBezTo>
                    <a:pt x="314" y="1138"/>
                    <a:pt x="300" y="1130"/>
                    <a:pt x="291" y="1130"/>
                  </a:cubicBezTo>
                  <a:cubicBezTo>
                    <a:pt x="282" y="1120"/>
                    <a:pt x="272" y="1139"/>
                    <a:pt x="264" y="1146"/>
                  </a:cubicBezTo>
                  <a:cubicBezTo>
                    <a:pt x="256" y="1153"/>
                    <a:pt x="254" y="1166"/>
                    <a:pt x="245" y="1174"/>
                  </a:cubicBezTo>
                  <a:cubicBezTo>
                    <a:pt x="235" y="1186"/>
                    <a:pt x="217" y="1207"/>
                    <a:pt x="209" y="1192"/>
                  </a:cubicBezTo>
                  <a:cubicBezTo>
                    <a:pt x="201" y="1177"/>
                    <a:pt x="196" y="1130"/>
                    <a:pt x="199" y="1084"/>
                  </a:cubicBezTo>
                  <a:cubicBezTo>
                    <a:pt x="189" y="1025"/>
                    <a:pt x="210" y="972"/>
                    <a:pt x="229" y="916"/>
                  </a:cubicBezTo>
                  <a:cubicBezTo>
                    <a:pt x="234" y="879"/>
                    <a:pt x="245" y="886"/>
                    <a:pt x="237" y="848"/>
                  </a:cubicBezTo>
                  <a:cubicBezTo>
                    <a:pt x="229" y="819"/>
                    <a:pt x="195" y="773"/>
                    <a:pt x="181" y="744"/>
                  </a:cubicBezTo>
                  <a:cubicBezTo>
                    <a:pt x="166" y="715"/>
                    <a:pt x="157" y="691"/>
                    <a:pt x="151" y="676"/>
                  </a:cubicBezTo>
                  <a:cubicBezTo>
                    <a:pt x="145" y="661"/>
                    <a:pt x="137" y="672"/>
                    <a:pt x="145" y="652"/>
                  </a:cubicBezTo>
                  <a:cubicBezTo>
                    <a:pt x="153" y="632"/>
                    <a:pt x="192" y="578"/>
                    <a:pt x="199" y="556"/>
                  </a:cubicBezTo>
                  <a:cubicBezTo>
                    <a:pt x="197" y="540"/>
                    <a:pt x="193" y="534"/>
                    <a:pt x="185" y="520"/>
                  </a:cubicBezTo>
                  <a:cubicBezTo>
                    <a:pt x="178" y="508"/>
                    <a:pt x="169" y="492"/>
                    <a:pt x="157" y="484"/>
                  </a:cubicBezTo>
                  <a:cubicBezTo>
                    <a:pt x="143" y="475"/>
                    <a:pt x="150" y="448"/>
                    <a:pt x="139" y="430"/>
                  </a:cubicBezTo>
                  <a:cubicBezTo>
                    <a:pt x="128" y="413"/>
                    <a:pt x="117" y="388"/>
                    <a:pt x="113" y="368"/>
                  </a:cubicBezTo>
                  <a:cubicBezTo>
                    <a:pt x="112" y="363"/>
                    <a:pt x="67" y="320"/>
                    <a:pt x="62" y="310"/>
                  </a:cubicBezTo>
                  <a:cubicBezTo>
                    <a:pt x="55" y="292"/>
                    <a:pt x="22" y="303"/>
                    <a:pt x="13" y="288"/>
                  </a:cubicBezTo>
                  <a:cubicBezTo>
                    <a:pt x="4" y="273"/>
                    <a:pt x="6" y="237"/>
                    <a:pt x="7" y="220"/>
                  </a:cubicBezTo>
                  <a:cubicBezTo>
                    <a:pt x="0" y="201"/>
                    <a:pt x="10" y="195"/>
                    <a:pt x="16" y="188"/>
                  </a:cubicBezTo>
                  <a:cubicBezTo>
                    <a:pt x="22" y="181"/>
                    <a:pt x="37" y="187"/>
                    <a:pt x="41" y="180"/>
                  </a:cubicBezTo>
                  <a:cubicBezTo>
                    <a:pt x="46" y="161"/>
                    <a:pt x="38" y="167"/>
                    <a:pt x="43" y="144"/>
                  </a:cubicBezTo>
                  <a:cubicBezTo>
                    <a:pt x="46" y="136"/>
                    <a:pt x="62" y="146"/>
                    <a:pt x="61" y="134"/>
                  </a:cubicBezTo>
                  <a:cubicBezTo>
                    <a:pt x="60" y="122"/>
                    <a:pt x="42" y="87"/>
                    <a:pt x="39" y="70"/>
                  </a:cubicBezTo>
                  <a:cubicBezTo>
                    <a:pt x="36" y="53"/>
                    <a:pt x="42" y="42"/>
                    <a:pt x="45" y="34"/>
                  </a:cubicBezTo>
                  <a:cubicBezTo>
                    <a:pt x="48" y="26"/>
                    <a:pt x="37" y="22"/>
                    <a:pt x="58" y="22"/>
                  </a:cubicBezTo>
                  <a:cubicBezTo>
                    <a:pt x="182" y="0"/>
                    <a:pt x="142" y="27"/>
                    <a:pt x="174" y="32"/>
                  </a:cubicBezTo>
                  <a:cubicBezTo>
                    <a:pt x="198" y="39"/>
                    <a:pt x="188" y="71"/>
                    <a:pt x="195" y="80"/>
                  </a:cubicBezTo>
                  <a:cubicBezTo>
                    <a:pt x="202" y="89"/>
                    <a:pt x="209" y="83"/>
                    <a:pt x="215" y="86"/>
                  </a:cubicBezTo>
                  <a:cubicBezTo>
                    <a:pt x="221" y="89"/>
                    <a:pt x="228" y="87"/>
                    <a:pt x="231" y="96"/>
                  </a:cubicBezTo>
                  <a:cubicBezTo>
                    <a:pt x="235" y="105"/>
                    <a:pt x="226" y="109"/>
                    <a:pt x="233" y="142"/>
                  </a:cubicBezTo>
                  <a:cubicBezTo>
                    <a:pt x="236" y="154"/>
                    <a:pt x="248" y="158"/>
                    <a:pt x="251" y="168"/>
                  </a:cubicBezTo>
                  <a:cubicBezTo>
                    <a:pt x="254" y="178"/>
                    <a:pt x="246" y="192"/>
                    <a:pt x="249" y="200"/>
                  </a:cubicBezTo>
                  <a:cubicBezTo>
                    <a:pt x="252" y="208"/>
                    <a:pt x="256" y="211"/>
                    <a:pt x="268" y="218"/>
                  </a:cubicBezTo>
                  <a:cubicBezTo>
                    <a:pt x="280" y="225"/>
                    <a:pt x="310" y="237"/>
                    <a:pt x="319" y="244"/>
                  </a:cubicBezTo>
                  <a:cubicBezTo>
                    <a:pt x="332" y="249"/>
                    <a:pt x="314" y="252"/>
                    <a:pt x="320" y="260"/>
                  </a:cubicBezTo>
                  <a:cubicBezTo>
                    <a:pt x="326" y="268"/>
                    <a:pt x="342" y="290"/>
                    <a:pt x="357" y="292"/>
                  </a:cubicBezTo>
                  <a:cubicBezTo>
                    <a:pt x="372" y="294"/>
                    <a:pt x="393" y="268"/>
                    <a:pt x="409" y="274"/>
                  </a:cubicBezTo>
                  <a:cubicBezTo>
                    <a:pt x="425" y="280"/>
                    <a:pt x="440" y="319"/>
                    <a:pt x="453" y="328"/>
                  </a:cubicBezTo>
                  <a:cubicBezTo>
                    <a:pt x="465" y="338"/>
                    <a:pt x="455" y="326"/>
                    <a:pt x="487" y="326"/>
                  </a:cubicBezTo>
                  <a:cubicBezTo>
                    <a:pt x="491" y="333"/>
                    <a:pt x="476" y="362"/>
                    <a:pt x="477" y="370"/>
                  </a:cubicBezTo>
                  <a:cubicBezTo>
                    <a:pt x="478" y="378"/>
                    <a:pt x="489" y="376"/>
                    <a:pt x="495" y="376"/>
                  </a:cubicBezTo>
                  <a:cubicBezTo>
                    <a:pt x="501" y="376"/>
                    <a:pt x="506" y="378"/>
                    <a:pt x="511" y="372"/>
                  </a:cubicBezTo>
                  <a:cubicBezTo>
                    <a:pt x="516" y="366"/>
                    <a:pt x="516" y="343"/>
                    <a:pt x="525" y="338"/>
                  </a:cubicBezTo>
                  <a:cubicBezTo>
                    <a:pt x="534" y="333"/>
                    <a:pt x="555" y="339"/>
                    <a:pt x="564" y="340"/>
                  </a:cubicBezTo>
                  <a:cubicBezTo>
                    <a:pt x="573" y="341"/>
                    <a:pt x="577" y="341"/>
                    <a:pt x="582" y="342"/>
                  </a:cubicBezTo>
                  <a:cubicBezTo>
                    <a:pt x="587" y="343"/>
                    <a:pt x="587" y="351"/>
                    <a:pt x="593" y="348"/>
                  </a:cubicBezTo>
                  <a:cubicBezTo>
                    <a:pt x="599" y="345"/>
                    <a:pt x="615" y="338"/>
                    <a:pt x="621" y="322"/>
                  </a:cubicBezTo>
                  <a:cubicBezTo>
                    <a:pt x="630" y="308"/>
                    <a:pt x="619" y="271"/>
                    <a:pt x="627" y="254"/>
                  </a:cubicBezTo>
                  <a:cubicBezTo>
                    <a:pt x="632" y="239"/>
                    <a:pt x="644" y="240"/>
                    <a:pt x="651" y="234"/>
                  </a:cubicBezTo>
                  <a:cubicBezTo>
                    <a:pt x="658" y="228"/>
                    <a:pt x="660" y="224"/>
                    <a:pt x="667" y="220"/>
                  </a:cubicBezTo>
                  <a:cubicBezTo>
                    <a:pt x="674" y="216"/>
                    <a:pt x="687" y="213"/>
                    <a:pt x="695" y="208"/>
                  </a:cubicBezTo>
                  <a:cubicBezTo>
                    <a:pt x="701" y="202"/>
                    <a:pt x="706" y="198"/>
                    <a:pt x="713" y="192"/>
                  </a:cubicBezTo>
                  <a:cubicBezTo>
                    <a:pt x="717" y="185"/>
                    <a:pt x="706" y="153"/>
                    <a:pt x="717" y="164"/>
                  </a:cubicBezTo>
                  <a:cubicBezTo>
                    <a:pt x="734" y="190"/>
                    <a:pt x="767" y="228"/>
                    <a:pt x="781" y="256"/>
                  </a:cubicBezTo>
                  <a:cubicBezTo>
                    <a:pt x="784" y="262"/>
                    <a:pt x="778" y="243"/>
                    <a:pt x="775" y="238"/>
                  </a:cubicBezTo>
                  <a:cubicBezTo>
                    <a:pt x="770" y="229"/>
                    <a:pt x="761" y="218"/>
                    <a:pt x="755" y="210"/>
                  </a:cubicBezTo>
                  <a:cubicBezTo>
                    <a:pt x="750" y="196"/>
                    <a:pt x="750" y="193"/>
                    <a:pt x="741" y="182"/>
                  </a:cubicBezTo>
                  <a:cubicBezTo>
                    <a:pt x="734" y="174"/>
                    <a:pt x="717" y="167"/>
                    <a:pt x="707" y="16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84" name="Text Box 28"/>
            <p:cNvSpPr/>
            <p:nvPr/>
          </p:nvSpPr>
          <p:spPr>
            <a:xfrm>
              <a:off x="2964960" y="3268800"/>
              <a:ext cx="72936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四 川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85" name="Group 29"/>
          <p:cNvGrpSpPr/>
          <p:nvPr/>
        </p:nvGrpSpPr>
        <p:grpSpPr>
          <a:xfrm>
            <a:off x="395280" y="2421000"/>
            <a:ext cx="2124000" cy="2877840"/>
            <a:chOff x="395280" y="2421000"/>
            <a:chExt cx="2124000" cy="2877840"/>
          </a:xfrm>
        </p:grpSpPr>
        <p:sp>
          <p:nvSpPr>
            <p:cNvPr id="186" name="Freeform 30"/>
            <p:cNvSpPr/>
            <p:nvPr/>
          </p:nvSpPr>
          <p:spPr>
            <a:xfrm>
              <a:off x="395280" y="2421000"/>
              <a:ext cx="2124000" cy="2877840"/>
            </a:xfrm>
            <a:custGeom>
              <a:avLst/>
              <a:gdLst/>
              <a:ahLst/>
              <a:rect l="l" t="t" r="r" b="b"/>
              <a:pathLst>
                <a:path w="1338" h="1813">
                  <a:moveTo>
                    <a:pt x="1" y="4"/>
                  </a:moveTo>
                  <a:cubicBezTo>
                    <a:pt x="3" y="10"/>
                    <a:pt x="4" y="0"/>
                    <a:pt x="9" y="4"/>
                  </a:cubicBezTo>
                  <a:cubicBezTo>
                    <a:pt x="18" y="9"/>
                    <a:pt x="59" y="30"/>
                    <a:pt x="75" y="38"/>
                  </a:cubicBezTo>
                  <a:cubicBezTo>
                    <a:pt x="92" y="45"/>
                    <a:pt x="96" y="46"/>
                    <a:pt x="109" y="48"/>
                  </a:cubicBezTo>
                  <a:cubicBezTo>
                    <a:pt x="122" y="50"/>
                    <a:pt x="142" y="45"/>
                    <a:pt x="153" y="48"/>
                  </a:cubicBezTo>
                  <a:cubicBezTo>
                    <a:pt x="164" y="51"/>
                    <a:pt x="163" y="52"/>
                    <a:pt x="175" y="64"/>
                  </a:cubicBezTo>
                  <a:cubicBezTo>
                    <a:pt x="195" y="74"/>
                    <a:pt x="206" y="104"/>
                    <a:pt x="223" y="120"/>
                  </a:cubicBezTo>
                  <a:cubicBezTo>
                    <a:pt x="240" y="135"/>
                    <a:pt x="258" y="146"/>
                    <a:pt x="277" y="156"/>
                  </a:cubicBezTo>
                  <a:cubicBezTo>
                    <a:pt x="296" y="166"/>
                    <a:pt x="315" y="171"/>
                    <a:pt x="339" y="180"/>
                  </a:cubicBezTo>
                  <a:cubicBezTo>
                    <a:pt x="365" y="191"/>
                    <a:pt x="396" y="194"/>
                    <a:pt x="421" y="208"/>
                  </a:cubicBezTo>
                  <a:cubicBezTo>
                    <a:pt x="437" y="217"/>
                    <a:pt x="466" y="235"/>
                    <a:pt x="487" y="240"/>
                  </a:cubicBezTo>
                  <a:cubicBezTo>
                    <a:pt x="635" y="264"/>
                    <a:pt x="653" y="268"/>
                    <a:pt x="653" y="268"/>
                  </a:cubicBezTo>
                  <a:cubicBezTo>
                    <a:pt x="684" y="274"/>
                    <a:pt x="669" y="283"/>
                    <a:pt x="677" y="294"/>
                  </a:cubicBezTo>
                  <a:cubicBezTo>
                    <a:pt x="687" y="305"/>
                    <a:pt x="702" y="324"/>
                    <a:pt x="711" y="332"/>
                  </a:cubicBezTo>
                  <a:cubicBezTo>
                    <a:pt x="720" y="340"/>
                    <a:pt x="723" y="334"/>
                    <a:pt x="731" y="342"/>
                  </a:cubicBezTo>
                  <a:cubicBezTo>
                    <a:pt x="739" y="350"/>
                    <a:pt x="752" y="363"/>
                    <a:pt x="759" y="382"/>
                  </a:cubicBezTo>
                  <a:cubicBezTo>
                    <a:pt x="761" y="408"/>
                    <a:pt x="765" y="433"/>
                    <a:pt x="771" y="458"/>
                  </a:cubicBezTo>
                  <a:cubicBezTo>
                    <a:pt x="774" y="472"/>
                    <a:pt x="778" y="461"/>
                    <a:pt x="785" y="464"/>
                  </a:cubicBezTo>
                  <a:cubicBezTo>
                    <a:pt x="792" y="467"/>
                    <a:pt x="803" y="471"/>
                    <a:pt x="815" y="478"/>
                  </a:cubicBezTo>
                  <a:cubicBezTo>
                    <a:pt x="827" y="485"/>
                    <a:pt x="849" y="499"/>
                    <a:pt x="859" y="506"/>
                  </a:cubicBezTo>
                  <a:cubicBezTo>
                    <a:pt x="877" y="513"/>
                    <a:pt x="872" y="524"/>
                    <a:pt x="875" y="522"/>
                  </a:cubicBezTo>
                  <a:cubicBezTo>
                    <a:pt x="878" y="520"/>
                    <a:pt x="877" y="504"/>
                    <a:pt x="879" y="492"/>
                  </a:cubicBezTo>
                  <a:cubicBezTo>
                    <a:pt x="883" y="485"/>
                    <a:pt x="876" y="452"/>
                    <a:pt x="885" y="450"/>
                  </a:cubicBezTo>
                  <a:cubicBezTo>
                    <a:pt x="894" y="447"/>
                    <a:pt x="918" y="465"/>
                    <a:pt x="931" y="472"/>
                  </a:cubicBezTo>
                  <a:cubicBezTo>
                    <a:pt x="943" y="476"/>
                    <a:pt x="955" y="487"/>
                    <a:pt x="965" y="490"/>
                  </a:cubicBezTo>
                  <a:cubicBezTo>
                    <a:pt x="975" y="493"/>
                    <a:pt x="980" y="491"/>
                    <a:pt x="989" y="488"/>
                  </a:cubicBezTo>
                  <a:cubicBezTo>
                    <a:pt x="998" y="485"/>
                    <a:pt x="1012" y="477"/>
                    <a:pt x="1019" y="470"/>
                  </a:cubicBezTo>
                  <a:cubicBezTo>
                    <a:pt x="1027" y="459"/>
                    <a:pt x="1025" y="451"/>
                    <a:pt x="1031" y="446"/>
                  </a:cubicBezTo>
                  <a:cubicBezTo>
                    <a:pt x="1037" y="439"/>
                    <a:pt x="1048" y="433"/>
                    <a:pt x="1057" y="426"/>
                  </a:cubicBezTo>
                  <a:cubicBezTo>
                    <a:pt x="1066" y="419"/>
                    <a:pt x="1078" y="414"/>
                    <a:pt x="1085" y="404"/>
                  </a:cubicBezTo>
                  <a:cubicBezTo>
                    <a:pt x="1093" y="382"/>
                    <a:pt x="1089" y="388"/>
                    <a:pt x="1097" y="364"/>
                  </a:cubicBezTo>
                  <a:cubicBezTo>
                    <a:pt x="1092" y="340"/>
                    <a:pt x="1084" y="370"/>
                    <a:pt x="1109" y="348"/>
                  </a:cubicBezTo>
                  <a:cubicBezTo>
                    <a:pt x="1122" y="336"/>
                    <a:pt x="1115" y="330"/>
                    <a:pt x="1115" y="330"/>
                  </a:cubicBezTo>
                  <a:cubicBezTo>
                    <a:pt x="1100" y="361"/>
                    <a:pt x="1135" y="300"/>
                    <a:pt x="1117" y="328"/>
                  </a:cubicBezTo>
                  <a:cubicBezTo>
                    <a:pt x="1123" y="331"/>
                    <a:pt x="1145" y="334"/>
                    <a:pt x="1155" y="340"/>
                  </a:cubicBezTo>
                  <a:cubicBezTo>
                    <a:pt x="1165" y="346"/>
                    <a:pt x="1165" y="352"/>
                    <a:pt x="1175" y="362"/>
                  </a:cubicBezTo>
                  <a:cubicBezTo>
                    <a:pt x="1185" y="372"/>
                    <a:pt x="1204" y="382"/>
                    <a:pt x="1213" y="398"/>
                  </a:cubicBezTo>
                  <a:cubicBezTo>
                    <a:pt x="1222" y="425"/>
                    <a:pt x="1214" y="437"/>
                    <a:pt x="1231" y="460"/>
                  </a:cubicBezTo>
                  <a:cubicBezTo>
                    <a:pt x="1237" y="468"/>
                    <a:pt x="1244" y="475"/>
                    <a:pt x="1249" y="484"/>
                  </a:cubicBezTo>
                  <a:cubicBezTo>
                    <a:pt x="1258" y="499"/>
                    <a:pt x="1267" y="515"/>
                    <a:pt x="1273" y="532"/>
                  </a:cubicBezTo>
                  <a:cubicBezTo>
                    <a:pt x="1277" y="544"/>
                    <a:pt x="1285" y="568"/>
                    <a:pt x="1285" y="568"/>
                  </a:cubicBezTo>
                  <a:cubicBezTo>
                    <a:pt x="1287" y="578"/>
                    <a:pt x="1280" y="558"/>
                    <a:pt x="1283" y="564"/>
                  </a:cubicBezTo>
                  <a:cubicBezTo>
                    <a:pt x="1285" y="565"/>
                    <a:pt x="1292" y="565"/>
                    <a:pt x="1295" y="572"/>
                  </a:cubicBezTo>
                  <a:cubicBezTo>
                    <a:pt x="1298" y="579"/>
                    <a:pt x="1305" y="595"/>
                    <a:pt x="1301" y="608"/>
                  </a:cubicBezTo>
                  <a:cubicBezTo>
                    <a:pt x="1297" y="621"/>
                    <a:pt x="1278" y="638"/>
                    <a:pt x="1271" y="648"/>
                  </a:cubicBezTo>
                  <a:cubicBezTo>
                    <a:pt x="1264" y="658"/>
                    <a:pt x="1261" y="663"/>
                    <a:pt x="1257" y="670"/>
                  </a:cubicBezTo>
                  <a:cubicBezTo>
                    <a:pt x="1253" y="677"/>
                    <a:pt x="1247" y="682"/>
                    <a:pt x="1249" y="694"/>
                  </a:cubicBezTo>
                  <a:cubicBezTo>
                    <a:pt x="1251" y="706"/>
                    <a:pt x="1263" y="728"/>
                    <a:pt x="1269" y="742"/>
                  </a:cubicBezTo>
                  <a:cubicBezTo>
                    <a:pt x="1275" y="756"/>
                    <a:pt x="1279" y="762"/>
                    <a:pt x="1287" y="778"/>
                  </a:cubicBezTo>
                  <a:cubicBezTo>
                    <a:pt x="1289" y="805"/>
                    <a:pt x="1301" y="812"/>
                    <a:pt x="1317" y="836"/>
                  </a:cubicBezTo>
                  <a:cubicBezTo>
                    <a:pt x="1321" y="842"/>
                    <a:pt x="1335" y="892"/>
                    <a:pt x="1335" y="892"/>
                  </a:cubicBezTo>
                  <a:cubicBezTo>
                    <a:pt x="1338" y="915"/>
                    <a:pt x="1330" y="955"/>
                    <a:pt x="1325" y="982"/>
                  </a:cubicBezTo>
                  <a:cubicBezTo>
                    <a:pt x="1320" y="1007"/>
                    <a:pt x="1309" y="1024"/>
                    <a:pt x="1303" y="1040"/>
                  </a:cubicBezTo>
                  <a:cubicBezTo>
                    <a:pt x="1296" y="1056"/>
                    <a:pt x="1301" y="1066"/>
                    <a:pt x="1289" y="1080"/>
                  </a:cubicBezTo>
                  <a:cubicBezTo>
                    <a:pt x="1283" y="1091"/>
                    <a:pt x="1273" y="1099"/>
                    <a:pt x="1269" y="1106"/>
                  </a:cubicBezTo>
                  <a:cubicBezTo>
                    <a:pt x="1265" y="1113"/>
                    <a:pt x="1270" y="1122"/>
                    <a:pt x="1265" y="1124"/>
                  </a:cubicBezTo>
                  <a:cubicBezTo>
                    <a:pt x="1260" y="1126"/>
                    <a:pt x="1247" y="1119"/>
                    <a:pt x="1237" y="1118"/>
                  </a:cubicBezTo>
                  <a:cubicBezTo>
                    <a:pt x="1229" y="1120"/>
                    <a:pt x="1214" y="1113"/>
                    <a:pt x="1207" y="1118"/>
                  </a:cubicBezTo>
                  <a:cubicBezTo>
                    <a:pt x="1200" y="1123"/>
                    <a:pt x="1198" y="1142"/>
                    <a:pt x="1195" y="1150"/>
                  </a:cubicBezTo>
                  <a:cubicBezTo>
                    <a:pt x="1193" y="1156"/>
                    <a:pt x="1189" y="1162"/>
                    <a:pt x="1189" y="1168"/>
                  </a:cubicBezTo>
                  <a:cubicBezTo>
                    <a:pt x="1188" y="1180"/>
                    <a:pt x="1194" y="1175"/>
                    <a:pt x="1193" y="1200"/>
                  </a:cubicBezTo>
                  <a:cubicBezTo>
                    <a:pt x="1196" y="1208"/>
                    <a:pt x="1205" y="1209"/>
                    <a:pt x="1207" y="1214"/>
                  </a:cubicBezTo>
                  <a:cubicBezTo>
                    <a:pt x="1209" y="1219"/>
                    <a:pt x="1209" y="1223"/>
                    <a:pt x="1205" y="1230"/>
                  </a:cubicBezTo>
                  <a:cubicBezTo>
                    <a:pt x="1201" y="1237"/>
                    <a:pt x="1190" y="1243"/>
                    <a:pt x="1185" y="1254"/>
                  </a:cubicBezTo>
                  <a:cubicBezTo>
                    <a:pt x="1180" y="1265"/>
                    <a:pt x="1175" y="1284"/>
                    <a:pt x="1173" y="1296"/>
                  </a:cubicBezTo>
                  <a:cubicBezTo>
                    <a:pt x="1171" y="1308"/>
                    <a:pt x="1175" y="1316"/>
                    <a:pt x="1170" y="1324"/>
                  </a:cubicBezTo>
                  <a:cubicBezTo>
                    <a:pt x="1137" y="1321"/>
                    <a:pt x="1149" y="1316"/>
                    <a:pt x="1140" y="1342"/>
                  </a:cubicBezTo>
                  <a:cubicBezTo>
                    <a:pt x="1132" y="1354"/>
                    <a:pt x="1133" y="1352"/>
                    <a:pt x="1125" y="1360"/>
                  </a:cubicBezTo>
                  <a:cubicBezTo>
                    <a:pt x="1117" y="1368"/>
                    <a:pt x="1097" y="1385"/>
                    <a:pt x="1089" y="1393"/>
                  </a:cubicBezTo>
                  <a:cubicBezTo>
                    <a:pt x="1081" y="1401"/>
                    <a:pt x="1082" y="1404"/>
                    <a:pt x="1074" y="1411"/>
                  </a:cubicBezTo>
                  <a:cubicBezTo>
                    <a:pt x="1066" y="1418"/>
                    <a:pt x="1048" y="1428"/>
                    <a:pt x="1038" y="1435"/>
                  </a:cubicBezTo>
                  <a:cubicBezTo>
                    <a:pt x="1028" y="1442"/>
                    <a:pt x="1020" y="1449"/>
                    <a:pt x="1011" y="1453"/>
                  </a:cubicBezTo>
                  <a:cubicBezTo>
                    <a:pt x="1002" y="1457"/>
                    <a:pt x="995" y="1453"/>
                    <a:pt x="984" y="1456"/>
                  </a:cubicBezTo>
                  <a:cubicBezTo>
                    <a:pt x="974" y="1459"/>
                    <a:pt x="955" y="1474"/>
                    <a:pt x="942" y="1474"/>
                  </a:cubicBezTo>
                  <a:cubicBezTo>
                    <a:pt x="929" y="1474"/>
                    <a:pt x="919" y="1453"/>
                    <a:pt x="903" y="1456"/>
                  </a:cubicBezTo>
                  <a:cubicBezTo>
                    <a:pt x="887" y="1459"/>
                    <a:pt x="860" y="1482"/>
                    <a:pt x="843" y="1495"/>
                  </a:cubicBezTo>
                  <a:cubicBezTo>
                    <a:pt x="826" y="1508"/>
                    <a:pt x="809" y="1525"/>
                    <a:pt x="798" y="1537"/>
                  </a:cubicBezTo>
                  <a:cubicBezTo>
                    <a:pt x="787" y="1549"/>
                    <a:pt x="783" y="1562"/>
                    <a:pt x="774" y="1570"/>
                  </a:cubicBezTo>
                  <a:cubicBezTo>
                    <a:pt x="765" y="1581"/>
                    <a:pt x="760" y="1579"/>
                    <a:pt x="744" y="1582"/>
                  </a:cubicBezTo>
                  <a:cubicBezTo>
                    <a:pt x="728" y="1585"/>
                    <a:pt x="697" y="1584"/>
                    <a:pt x="675" y="1588"/>
                  </a:cubicBezTo>
                  <a:cubicBezTo>
                    <a:pt x="657" y="1591"/>
                    <a:pt x="627" y="1603"/>
                    <a:pt x="609" y="1606"/>
                  </a:cubicBezTo>
                  <a:cubicBezTo>
                    <a:pt x="599" y="1607"/>
                    <a:pt x="586" y="1613"/>
                    <a:pt x="576" y="1615"/>
                  </a:cubicBezTo>
                  <a:cubicBezTo>
                    <a:pt x="559" y="1617"/>
                    <a:pt x="522" y="1644"/>
                    <a:pt x="504" y="1651"/>
                  </a:cubicBezTo>
                  <a:cubicBezTo>
                    <a:pt x="486" y="1658"/>
                    <a:pt x="476" y="1656"/>
                    <a:pt x="465" y="1660"/>
                  </a:cubicBezTo>
                  <a:cubicBezTo>
                    <a:pt x="454" y="1664"/>
                    <a:pt x="444" y="1674"/>
                    <a:pt x="435" y="1675"/>
                  </a:cubicBezTo>
                  <a:cubicBezTo>
                    <a:pt x="423" y="1675"/>
                    <a:pt x="418" y="1672"/>
                    <a:pt x="411" y="1666"/>
                  </a:cubicBezTo>
                  <a:cubicBezTo>
                    <a:pt x="404" y="1660"/>
                    <a:pt x="397" y="1651"/>
                    <a:pt x="393" y="1639"/>
                  </a:cubicBezTo>
                  <a:cubicBezTo>
                    <a:pt x="389" y="1627"/>
                    <a:pt x="391" y="1605"/>
                    <a:pt x="387" y="1594"/>
                  </a:cubicBezTo>
                  <a:cubicBezTo>
                    <a:pt x="381" y="1578"/>
                    <a:pt x="370" y="1575"/>
                    <a:pt x="366" y="1570"/>
                  </a:cubicBezTo>
                  <a:cubicBezTo>
                    <a:pt x="362" y="1565"/>
                    <a:pt x="366" y="1571"/>
                    <a:pt x="360" y="1564"/>
                  </a:cubicBezTo>
                  <a:cubicBezTo>
                    <a:pt x="347" y="1551"/>
                    <a:pt x="335" y="1542"/>
                    <a:pt x="327" y="1525"/>
                  </a:cubicBezTo>
                  <a:cubicBezTo>
                    <a:pt x="318" y="1519"/>
                    <a:pt x="277" y="1487"/>
                    <a:pt x="273" y="1483"/>
                  </a:cubicBezTo>
                  <a:cubicBezTo>
                    <a:pt x="265" y="1476"/>
                    <a:pt x="261" y="1486"/>
                    <a:pt x="252" y="1486"/>
                  </a:cubicBezTo>
                  <a:cubicBezTo>
                    <a:pt x="243" y="1486"/>
                    <a:pt x="228" y="1484"/>
                    <a:pt x="219" y="1483"/>
                  </a:cubicBezTo>
                  <a:cubicBezTo>
                    <a:pt x="209" y="1477"/>
                    <a:pt x="205" y="1481"/>
                    <a:pt x="198" y="1480"/>
                  </a:cubicBezTo>
                  <a:cubicBezTo>
                    <a:pt x="191" y="1479"/>
                    <a:pt x="183" y="1480"/>
                    <a:pt x="174" y="1477"/>
                  </a:cubicBezTo>
                  <a:cubicBezTo>
                    <a:pt x="165" y="1474"/>
                    <a:pt x="158" y="1463"/>
                    <a:pt x="144" y="1462"/>
                  </a:cubicBezTo>
                  <a:cubicBezTo>
                    <a:pt x="130" y="1461"/>
                    <a:pt x="107" y="1460"/>
                    <a:pt x="87" y="1468"/>
                  </a:cubicBezTo>
                  <a:cubicBezTo>
                    <a:pt x="68" y="1468"/>
                    <a:pt x="38" y="1502"/>
                    <a:pt x="24" y="1510"/>
                  </a:cubicBezTo>
                  <a:cubicBezTo>
                    <a:pt x="10" y="1518"/>
                    <a:pt x="6" y="1511"/>
                    <a:pt x="3" y="1519"/>
                  </a:cubicBezTo>
                  <a:cubicBezTo>
                    <a:pt x="0" y="1527"/>
                    <a:pt x="5" y="1554"/>
                    <a:pt x="5" y="1560"/>
                  </a:cubicBezTo>
                  <a:cubicBezTo>
                    <a:pt x="5" y="1566"/>
                    <a:pt x="6" y="1555"/>
                    <a:pt x="5" y="1556"/>
                  </a:cubicBezTo>
                  <a:cubicBezTo>
                    <a:pt x="4" y="1557"/>
                    <a:pt x="2" y="1569"/>
                    <a:pt x="1" y="1568"/>
                  </a:cubicBezTo>
                  <a:cubicBezTo>
                    <a:pt x="0" y="1567"/>
                    <a:pt x="1" y="1813"/>
                    <a:pt x="1" y="1552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87" name="Text Box 31"/>
            <p:cNvSpPr/>
            <p:nvPr/>
          </p:nvSpPr>
          <p:spPr>
            <a:xfrm>
              <a:off x="859680" y="3564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西藏自治区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88" name="Group 32"/>
          <p:cNvGrpSpPr/>
          <p:nvPr/>
        </p:nvGrpSpPr>
        <p:grpSpPr>
          <a:xfrm>
            <a:off x="415800" y="1873080"/>
            <a:ext cx="3581280" cy="1388880"/>
            <a:chOff x="415800" y="1873080"/>
            <a:chExt cx="3581280" cy="1388880"/>
          </a:xfrm>
        </p:grpSpPr>
        <p:sp>
          <p:nvSpPr>
            <p:cNvPr id="189" name="Freeform 33"/>
            <p:cNvSpPr/>
            <p:nvPr/>
          </p:nvSpPr>
          <p:spPr>
            <a:xfrm>
              <a:off x="415800" y="1873080"/>
              <a:ext cx="3581280" cy="1388880"/>
            </a:xfrm>
            <a:custGeom>
              <a:avLst/>
              <a:gdLst/>
              <a:ahLst/>
              <a:rect l="l" t="t" r="r" b="b"/>
              <a:pathLst>
                <a:path w="2256" h="847">
                  <a:moveTo>
                    <a:pt x="0" y="330"/>
                  </a:moveTo>
                  <a:cubicBezTo>
                    <a:pt x="62" y="359"/>
                    <a:pt x="12" y="335"/>
                    <a:pt x="72" y="368"/>
                  </a:cubicBezTo>
                  <a:cubicBezTo>
                    <a:pt x="84" y="373"/>
                    <a:pt x="97" y="379"/>
                    <a:pt x="106" y="382"/>
                  </a:cubicBezTo>
                  <a:cubicBezTo>
                    <a:pt x="116" y="383"/>
                    <a:pt x="124" y="377"/>
                    <a:pt x="131" y="377"/>
                  </a:cubicBezTo>
                  <a:cubicBezTo>
                    <a:pt x="138" y="377"/>
                    <a:pt x="142" y="377"/>
                    <a:pt x="151" y="379"/>
                  </a:cubicBezTo>
                  <a:cubicBezTo>
                    <a:pt x="160" y="381"/>
                    <a:pt x="175" y="384"/>
                    <a:pt x="184" y="391"/>
                  </a:cubicBezTo>
                  <a:cubicBezTo>
                    <a:pt x="188" y="397"/>
                    <a:pt x="198" y="418"/>
                    <a:pt x="203" y="423"/>
                  </a:cubicBezTo>
                  <a:cubicBezTo>
                    <a:pt x="214" y="432"/>
                    <a:pt x="222" y="453"/>
                    <a:pt x="222" y="453"/>
                  </a:cubicBezTo>
                  <a:cubicBezTo>
                    <a:pt x="228" y="462"/>
                    <a:pt x="239" y="463"/>
                    <a:pt x="251" y="470"/>
                  </a:cubicBezTo>
                  <a:cubicBezTo>
                    <a:pt x="263" y="477"/>
                    <a:pt x="278" y="486"/>
                    <a:pt x="292" y="493"/>
                  </a:cubicBezTo>
                  <a:cubicBezTo>
                    <a:pt x="305" y="500"/>
                    <a:pt x="320" y="506"/>
                    <a:pt x="334" y="511"/>
                  </a:cubicBezTo>
                  <a:cubicBezTo>
                    <a:pt x="346" y="515"/>
                    <a:pt x="359" y="516"/>
                    <a:pt x="370" y="523"/>
                  </a:cubicBezTo>
                  <a:cubicBezTo>
                    <a:pt x="383" y="528"/>
                    <a:pt x="397" y="530"/>
                    <a:pt x="412" y="535"/>
                  </a:cubicBezTo>
                  <a:cubicBezTo>
                    <a:pt x="427" y="540"/>
                    <a:pt x="447" y="547"/>
                    <a:pt x="460" y="553"/>
                  </a:cubicBezTo>
                  <a:cubicBezTo>
                    <a:pt x="473" y="557"/>
                    <a:pt x="448" y="560"/>
                    <a:pt x="487" y="571"/>
                  </a:cubicBezTo>
                  <a:cubicBezTo>
                    <a:pt x="511" y="577"/>
                    <a:pt x="577" y="586"/>
                    <a:pt x="606" y="591"/>
                  </a:cubicBezTo>
                  <a:cubicBezTo>
                    <a:pt x="635" y="596"/>
                    <a:pt x="647" y="597"/>
                    <a:pt x="661" y="604"/>
                  </a:cubicBezTo>
                  <a:cubicBezTo>
                    <a:pt x="675" y="611"/>
                    <a:pt x="683" y="626"/>
                    <a:pt x="689" y="635"/>
                  </a:cubicBezTo>
                  <a:cubicBezTo>
                    <a:pt x="696" y="643"/>
                    <a:pt x="693" y="655"/>
                    <a:pt x="698" y="659"/>
                  </a:cubicBezTo>
                  <a:cubicBezTo>
                    <a:pt x="703" y="663"/>
                    <a:pt x="710" y="657"/>
                    <a:pt x="718" y="661"/>
                  </a:cubicBezTo>
                  <a:cubicBezTo>
                    <a:pt x="726" y="665"/>
                    <a:pt x="736" y="672"/>
                    <a:pt x="744" y="683"/>
                  </a:cubicBezTo>
                  <a:cubicBezTo>
                    <a:pt x="750" y="688"/>
                    <a:pt x="761" y="714"/>
                    <a:pt x="764" y="726"/>
                  </a:cubicBezTo>
                  <a:cubicBezTo>
                    <a:pt x="767" y="738"/>
                    <a:pt x="760" y="742"/>
                    <a:pt x="762" y="753"/>
                  </a:cubicBezTo>
                  <a:cubicBezTo>
                    <a:pt x="766" y="764"/>
                    <a:pt x="767" y="781"/>
                    <a:pt x="774" y="789"/>
                  </a:cubicBezTo>
                  <a:cubicBezTo>
                    <a:pt x="781" y="797"/>
                    <a:pt x="795" y="798"/>
                    <a:pt x="802" y="802"/>
                  </a:cubicBezTo>
                  <a:cubicBezTo>
                    <a:pt x="809" y="806"/>
                    <a:pt x="811" y="812"/>
                    <a:pt x="816" y="815"/>
                  </a:cubicBezTo>
                  <a:cubicBezTo>
                    <a:pt x="821" y="818"/>
                    <a:pt x="828" y="820"/>
                    <a:pt x="835" y="823"/>
                  </a:cubicBezTo>
                  <a:cubicBezTo>
                    <a:pt x="842" y="828"/>
                    <a:pt x="849" y="831"/>
                    <a:pt x="856" y="835"/>
                  </a:cubicBezTo>
                  <a:cubicBezTo>
                    <a:pt x="862" y="838"/>
                    <a:pt x="868" y="845"/>
                    <a:pt x="874" y="847"/>
                  </a:cubicBezTo>
                  <a:cubicBezTo>
                    <a:pt x="877" y="846"/>
                    <a:pt x="874" y="837"/>
                    <a:pt x="875" y="828"/>
                  </a:cubicBezTo>
                  <a:cubicBezTo>
                    <a:pt x="883" y="826"/>
                    <a:pt x="874" y="799"/>
                    <a:pt x="879" y="795"/>
                  </a:cubicBezTo>
                  <a:cubicBezTo>
                    <a:pt x="882" y="788"/>
                    <a:pt x="889" y="782"/>
                    <a:pt x="896" y="783"/>
                  </a:cubicBezTo>
                  <a:cubicBezTo>
                    <a:pt x="903" y="784"/>
                    <a:pt x="915" y="793"/>
                    <a:pt x="923" y="798"/>
                  </a:cubicBezTo>
                  <a:cubicBezTo>
                    <a:pt x="931" y="803"/>
                    <a:pt x="938" y="807"/>
                    <a:pt x="946" y="811"/>
                  </a:cubicBezTo>
                  <a:cubicBezTo>
                    <a:pt x="954" y="814"/>
                    <a:pt x="964" y="821"/>
                    <a:pt x="972" y="822"/>
                  </a:cubicBezTo>
                  <a:cubicBezTo>
                    <a:pt x="980" y="823"/>
                    <a:pt x="984" y="825"/>
                    <a:pt x="992" y="819"/>
                  </a:cubicBezTo>
                  <a:cubicBezTo>
                    <a:pt x="1000" y="813"/>
                    <a:pt x="1009" y="797"/>
                    <a:pt x="1019" y="788"/>
                  </a:cubicBezTo>
                  <a:cubicBezTo>
                    <a:pt x="1029" y="779"/>
                    <a:pt x="1039" y="777"/>
                    <a:pt x="1050" y="765"/>
                  </a:cubicBezTo>
                  <a:cubicBezTo>
                    <a:pt x="1078" y="746"/>
                    <a:pt x="1082" y="749"/>
                    <a:pt x="1086" y="716"/>
                  </a:cubicBezTo>
                  <a:cubicBezTo>
                    <a:pt x="1097" y="704"/>
                    <a:pt x="1095" y="683"/>
                    <a:pt x="1103" y="674"/>
                  </a:cubicBezTo>
                  <a:cubicBezTo>
                    <a:pt x="1107" y="662"/>
                    <a:pt x="1112" y="653"/>
                    <a:pt x="1112" y="641"/>
                  </a:cubicBezTo>
                  <a:cubicBezTo>
                    <a:pt x="1112" y="629"/>
                    <a:pt x="1104" y="614"/>
                    <a:pt x="1104" y="603"/>
                  </a:cubicBezTo>
                  <a:cubicBezTo>
                    <a:pt x="1104" y="592"/>
                    <a:pt x="1104" y="580"/>
                    <a:pt x="1109" y="572"/>
                  </a:cubicBezTo>
                  <a:cubicBezTo>
                    <a:pt x="1113" y="561"/>
                    <a:pt x="1125" y="557"/>
                    <a:pt x="1136" y="552"/>
                  </a:cubicBezTo>
                  <a:cubicBezTo>
                    <a:pt x="1145" y="547"/>
                    <a:pt x="1140" y="524"/>
                    <a:pt x="1143" y="515"/>
                  </a:cubicBezTo>
                  <a:cubicBezTo>
                    <a:pt x="1151" y="508"/>
                    <a:pt x="1158" y="507"/>
                    <a:pt x="1166" y="506"/>
                  </a:cubicBezTo>
                  <a:cubicBezTo>
                    <a:pt x="1166" y="495"/>
                    <a:pt x="1147" y="468"/>
                    <a:pt x="1145" y="450"/>
                  </a:cubicBezTo>
                  <a:cubicBezTo>
                    <a:pt x="1143" y="432"/>
                    <a:pt x="1144" y="405"/>
                    <a:pt x="1151" y="396"/>
                  </a:cubicBezTo>
                  <a:cubicBezTo>
                    <a:pt x="1158" y="387"/>
                    <a:pt x="1174" y="394"/>
                    <a:pt x="1185" y="393"/>
                  </a:cubicBezTo>
                  <a:cubicBezTo>
                    <a:pt x="1187" y="387"/>
                    <a:pt x="1209" y="389"/>
                    <a:pt x="1215" y="387"/>
                  </a:cubicBezTo>
                  <a:cubicBezTo>
                    <a:pt x="1235" y="389"/>
                    <a:pt x="1246" y="390"/>
                    <a:pt x="1264" y="400"/>
                  </a:cubicBezTo>
                  <a:cubicBezTo>
                    <a:pt x="1278" y="404"/>
                    <a:pt x="1275" y="406"/>
                    <a:pt x="1283" y="413"/>
                  </a:cubicBezTo>
                  <a:cubicBezTo>
                    <a:pt x="1289" y="421"/>
                    <a:pt x="1292" y="441"/>
                    <a:pt x="1298" y="447"/>
                  </a:cubicBezTo>
                  <a:cubicBezTo>
                    <a:pt x="1304" y="453"/>
                    <a:pt x="1314" y="450"/>
                    <a:pt x="1320" y="452"/>
                  </a:cubicBezTo>
                  <a:cubicBezTo>
                    <a:pt x="1325" y="456"/>
                    <a:pt x="1332" y="455"/>
                    <a:pt x="1335" y="462"/>
                  </a:cubicBezTo>
                  <a:cubicBezTo>
                    <a:pt x="1338" y="469"/>
                    <a:pt x="1339" y="485"/>
                    <a:pt x="1340" y="495"/>
                  </a:cubicBezTo>
                  <a:cubicBezTo>
                    <a:pt x="1341" y="505"/>
                    <a:pt x="1341" y="516"/>
                    <a:pt x="1343" y="521"/>
                  </a:cubicBezTo>
                  <a:cubicBezTo>
                    <a:pt x="1345" y="526"/>
                    <a:pt x="1347" y="519"/>
                    <a:pt x="1350" y="525"/>
                  </a:cubicBezTo>
                  <a:cubicBezTo>
                    <a:pt x="1352" y="536"/>
                    <a:pt x="1354" y="551"/>
                    <a:pt x="1359" y="558"/>
                  </a:cubicBezTo>
                  <a:cubicBezTo>
                    <a:pt x="1361" y="565"/>
                    <a:pt x="1360" y="565"/>
                    <a:pt x="1361" y="569"/>
                  </a:cubicBezTo>
                  <a:cubicBezTo>
                    <a:pt x="1362" y="573"/>
                    <a:pt x="1359" y="576"/>
                    <a:pt x="1365" y="582"/>
                  </a:cubicBezTo>
                  <a:cubicBezTo>
                    <a:pt x="1368" y="586"/>
                    <a:pt x="1389" y="600"/>
                    <a:pt x="1399" y="604"/>
                  </a:cubicBezTo>
                  <a:cubicBezTo>
                    <a:pt x="1409" y="608"/>
                    <a:pt x="1419" y="603"/>
                    <a:pt x="1423" y="607"/>
                  </a:cubicBezTo>
                  <a:cubicBezTo>
                    <a:pt x="1427" y="611"/>
                    <a:pt x="1421" y="622"/>
                    <a:pt x="1425" y="629"/>
                  </a:cubicBezTo>
                  <a:cubicBezTo>
                    <a:pt x="1430" y="633"/>
                    <a:pt x="1439" y="645"/>
                    <a:pt x="1445" y="648"/>
                  </a:cubicBezTo>
                  <a:cubicBezTo>
                    <a:pt x="1451" y="651"/>
                    <a:pt x="1452" y="659"/>
                    <a:pt x="1460" y="659"/>
                  </a:cubicBezTo>
                  <a:cubicBezTo>
                    <a:pt x="1468" y="659"/>
                    <a:pt x="1486" y="648"/>
                    <a:pt x="1494" y="647"/>
                  </a:cubicBezTo>
                  <a:cubicBezTo>
                    <a:pt x="1502" y="646"/>
                    <a:pt x="1504" y="656"/>
                    <a:pt x="1510" y="655"/>
                  </a:cubicBezTo>
                  <a:cubicBezTo>
                    <a:pt x="1522" y="659"/>
                    <a:pt x="1528" y="643"/>
                    <a:pt x="1528" y="643"/>
                  </a:cubicBezTo>
                  <a:cubicBezTo>
                    <a:pt x="1534" y="645"/>
                    <a:pt x="1546" y="677"/>
                    <a:pt x="1554" y="687"/>
                  </a:cubicBezTo>
                  <a:cubicBezTo>
                    <a:pt x="1562" y="697"/>
                    <a:pt x="1573" y="701"/>
                    <a:pt x="1579" y="703"/>
                  </a:cubicBezTo>
                  <a:cubicBezTo>
                    <a:pt x="1585" y="705"/>
                    <a:pt x="1592" y="695"/>
                    <a:pt x="1593" y="702"/>
                  </a:cubicBezTo>
                  <a:cubicBezTo>
                    <a:pt x="1594" y="709"/>
                    <a:pt x="1582" y="742"/>
                    <a:pt x="1587" y="747"/>
                  </a:cubicBezTo>
                  <a:cubicBezTo>
                    <a:pt x="1589" y="754"/>
                    <a:pt x="1612" y="741"/>
                    <a:pt x="1623" y="735"/>
                  </a:cubicBezTo>
                  <a:cubicBezTo>
                    <a:pt x="1634" y="729"/>
                    <a:pt x="1639" y="711"/>
                    <a:pt x="1654" y="709"/>
                  </a:cubicBezTo>
                  <a:cubicBezTo>
                    <a:pt x="1669" y="707"/>
                    <a:pt x="1701" y="721"/>
                    <a:pt x="1713" y="720"/>
                  </a:cubicBezTo>
                  <a:cubicBezTo>
                    <a:pt x="1725" y="719"/>
                    <a:pt x="1718" y="722"/>
                    <a:pt x="1728" y="705"/>
                  </a:cubicBezTo>
                  <a:cubicBezTo>
                    <a:pt x="1736" y="680"/>
                    <a:pt x="1743" y="625"/>
                    <a:pt x="1771" y="616"/>
                  </a:cubicBezTo>
                  <a:cubicBezTo>
                    <a:pt x="1783" y="612"/>
                    <a:pt x="1804" y="588"/>
                    <a:pt x="1816" y="586"/>
                  </a:cubicBezTo>
                  <a:cubicBezTo>
                    <a:pt x="1828" y="568"/>
                    <a:pt x="1861" y="573"/>
                    <a:pt x="1840" y="547"/>
                  </a:cubicBezTo>
                  <a:cubicBezTo>
                    <a:pt x="1835" y="541"/>
                    <a:pt x="1827" y="507"/>
                    <a:pt x="1819" y="505"/>
                  </a:cubicBezTo>
                  <a:cubicBezTo>
                    <a:pt x="1797" y="499"/>
                    <a:pt x="1806" y="512"/>
                    <a:pt x="1786" y="499"/>
                  </a:cubicBezTo>
                  <a:cubicBezTo>
                    <a:pt x="1779" y="488"/>
                    <a:pt x="1769" y="498"/>
                    <a:pt x="1762" y="487"/>
                  </a:cubicBezTo>
                  <a:cubicBezTo>
                    <a:pt x="1756" y="484"/>
                    <a:pt x="1756" y="488"/>
                    <a:pt x="1750" y="484"/>
                  </a:cubicBezTo>
                  <a:cubicBezTo>
                    <a:pt x="1744" y="480"/>
                    <a:pt x="1732" y="472"/>
                    <a:pt x="1726" y="463"/>
                  </a:cubicBezTo>
                  <a:cubicBezTo>
                    <a:pt x="1720" y="454"/>
                    <a:pt x="1717" y="436"/>
                    <a:pt x="1714" y="427"/>
                  </a:cubicBezTo>
                  <a:cubicBezTo>
                    <a:pt x="1712" y="421"/>
                    <a:pt x="1705" y="415"/>
                    <a:pt x="1708" y="409"/>
                  </a:cubicBezTo>
                  <a:cubicBezTo>
                    <a:pt x="1711" y="403"/>
                    <a:pt x="1705" y="383"/>
                    <a:pt x="1711" y="382"/>
                  </a:cubicBezTo>
                  <a:cubicBezTo>
                    <a:pt x="1722" y="379"/>
                    <a:pt x="1757" y="387"/>
                    <a:pt x="1774" y="388"/>
                  </a:cubicBezTo>
                  <a:cubicBezTo>
                    <a:pt x="1787" y="388"/>
                    <a:pt x="1785" y="385"/>
                    <a:pt x="1792" y="385"/>
                  </a:cubicBezTo>
                  <a:cubicBezTo>
                    <a:pt x="1799" y="385"/>
                    <a:pt x="1803" y="387"/>
                    <a:pt x="1816" y="391"/>
                  </a:cubicBezTo>
                  <a:cubicBezTo>
                    <a:pt x="1829" y="390"/>
                    <a:pt x="1857" y="403"/>
                    <a:pt x="1872" y="408"/>
                  </a:cubicBezTo>
                  <a:cubicBezTo>
                    <a:pt x="1887" y="413"/>
                    <a:pt x="1893" y="423"/>
                    <a:pt x="1906" y="424"/>
                  </a:cubicBezTo>
                  <a:cubicBezTo>
                    <a:pt x="1919" y="425"/>
                    <a:pt x="1942" y="424"/>
                    <a:pt x="1948" y="412"/>
                  </a:cubicBezTo>
                  <a:cubicBezTo>
                    <a:pt x="1954" y="400"/>
                    <a:pt x="1950" y="369"/>
                    <a:pt x="1939" y="352"/>
                  </a:cubicBezTo>
                  <a:cubicBezTo>
                    <a:pt x="1912" y="325"/>
                    <a:pt x="1856" y="332"/>
                    <a:pt x="1879" y="310"/>
                  </a:cubicBezTo>
                  <a:cubicBezTo>
                    <a:pt x="1872" y="301"/>
                    <a:pt x="1867" y="314"/>
                    <a:pt x="1891" y="289"/>
                  </a:cubicBezTo>
                  <a:cubicBezTo>
                    <a:pt x="1900" y="281"/>
                    <a:pt x="1921" y="273"/>
                    <a:pt x="1933" y="262"/>
                  </a:cubicBezTo>
                  <a:cubicBezTo>
                    <a:pt x="1945" y="251"/>
                    <a:pt x="1960" y="235"/>
                    <a:pt x="1966" y="223"/>
                  </a:cubicBezTo>
                  <a:cubicBezTo>
                    <a:pt x="1972" y="211"/>
                    <a:pt x="1963" y="202"/>
                    <a:pt x="1969" y="190"/>
                  </a:cubicBezTo>
                  <a:cubicBezTo>
                    <a:pt x="1975" y="178"/>
                    <a:pt x="1996" y="154"/>
                    <a:pt x="2005" y="148"/>
                  </a:cubicBezTo>
                  <a:cubicBezTo>
                    <a:pt x="2015" y="139"/>
                    <a:pt x="2017" y="156"/>
                    <a:pt x="2026" y="151"/>
                  </a:cubicBezTo>
                  <a:cubicBezTo>
                    <a:pt x="2035" y="146"/>
                    <a:pt x="2056" y="128"/>
                    <a:pt x="2062" y="115"/>
                  </a:cubicBezTo>
                  <a:cubicBezTo>
                    <a:pt x="2068" y="102"/>
                    <a:pt x="2059" y="85"/>
                    <a:pt x="2062" y="73"/>
                  </a:cubicBezTo>
                  <a:cubicBezTo>
                    <a:pt x="2064" y="61"/>
                    <a:pt x="2080" y="43"/>
                    <a:pt x="2080" y="43"/>
                  </a:cubicBezTo>
                  <a:cubicBezTo>
                    <a:pt x="2082" y="31"/>
                    <a:pt x="2090" y="19"/>
                    <a:pt x="2086" y="7"/>
                  </a:cubicBezTo>
                  <a:cubicBezTo>
                    <a:pt x="2084" y="0"/>
                    <a:pt x="2081" y="23"/>
                    <a:pt x="2074" y="25"/>
                  </a:cubicBezTo>
                  <a:cubicBezTo>
                    <a:pt x="2066" y="28"/>
                    <a:pt x="2058" y="20"/>
                    <a:pt x="2050" y="19"/>
                  </a:cubicBezTo>
                  <a:cubicBezTo>
                    <a:pt x="1986" y="11"/>
                    <a:pt x="2256" y="3"/>
                    <a:pt x="1918" y="1"/>
                  </a:cubicBezTo>
                  <a:lnTo>
                    <a:pt x="4" y="4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0" name="Text Box 34"/>
            <p:cNvSpPr/>
            <p:nvPr/>
          </p:nvSpPr>
          <p:spPr>
            <a:xfrm>
              <a:off x="2187000" y="2051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青 海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191" name="Group 35"/>
          <p:cNvGrpSpPr/>
          <p:nvPr/>
        </p:nvGrpSpPr>
        <p:grpSpPr>
          <a:xfrm>
            <a:off x="539640" y="2133720"/>
            <a:ext cx="7992720" cy="3742920"/>
            <a:chOff x="539640" y="2133720"/>
            <a:chExt cx="7992720" cy="3742920"/>
          </a:xfrm>
        </p:grpSpPr>
        <p:sp>
          <p:nvSpPr>
            <p:cNvPr id="192" name="Freeform 36"/>
            <p:cNvSpPr/>
            <p:nvPr/>
          </p:nvSpPr>
          <p:spPr>
            <a:xfrm>
              <a:off x="539640" y="2133720"/>
              <a:ext cx="7992720" cy="3300120"/>
            </a:xfrm>
            <a:custGeom>
              <a:avLst/>
              <a:gdLst/>
              <a:ahLst/>
              <a:rect l="l" t="t" r="r" b="b"/>
              <a:pathLst>
                <a:path w="4917" h="1930">
                  <a:moveTo>
                    <a:pt x="0" y="168"/>
                  </a:moveTo>
                  <a:cubicBezTo>
                    <a:pt x="18" y="141"/>
                    <a:pt x="22" y="115"/>
                    <a:pt x="40" y="88"/>
                  </a:cubicBezTo>
                  <a:cubicBezTo>
                    <a:pt x="43" y="51"/>
                    <a:pt x="62" y="44"/>
                    <a:pt x="72" y="8"/>
                  </a:cubicBezTo>
                  <a:cubicBezTo>
                    <a:pt x="74" y="0"/>
                    <a:pt x="118" y="26"/>
                    <a:pt x="126" y="29"/>
                  </a:cubicBezTo>
                  <a:cubicBezTo>
                    <a:pt x="135" y="33"/>
                    <a:pt x="103" y="20"/>
                    <a:pt x="111" y="26"/>
                  </a:cubicBezTo>
                  <a:cubicBezTo>
                    <a:pt x="118" y="31"/>
                    <a:pt x="131" y="28"/>
                    <a:pt x="138" y="32"/>
                  </a:cubicBezTo>
                  <a:cubicBezTo>
                    <a:pt x="155" y="41"/>
                    <a:pt x="143" y="23"/>
                    <a:pt x="160" y="32"/>
                  </a:cubicBezTo>
                  <a:cubicBezTo>
                    <a:pt x="212" y="58"/>
                    <a:pt x="243" y="62"/>
                    <a:pt x="282" y="89"/>
                  </a:cubicBezTo>
                  <a:cubicBezTo>
                    <a:pt x="315" y="100"/>
                    <a:pt x="315" y="81"/>
                    <a:pt x="360" y="74"/>
                  </a:cubicBezTo>
                  <a:cubicBezTo>
                    <a:pt x="383" y="76"/>
                    <a:pt x="391" y="105"/>
                    <a:pt x="423" y="101"/>
                  </a:cubicBezTo>
                  <a:cubicBezTo>
                    <a:pt x="455" y="97"/>
                    <a:pt x="509" y="55"/>
                    <a:pt x="552" y="48"/>
                  </a:cubicBezTo>
                  <a:cubicBezTo>
                    <a:pt x="595" y="51"/>
                    <a:pt x="638" y="49"/>
                    <a:pt x="680" y="56"/>
                  </a:cubicBezTo>
                  <a:cubicBezTo>
                    <a:pt x="716" y="62"/>
                    <a:pt x="715" y="133"/>
                    <a:pt x="747" y="149"/>
                  </a:cubicBezTo>
                  <a:cubicBezTo>
                    <a:pt x="767" y="159"/>
                    <a:pt x="822" y="222"/>
                    <a:pt x="843" y="227"/>
                  </a:cubicBezTo>
                  <a:cubicBezTo>
                    <a:pt x="900" y="313"/>
                    <a:pt x="953" y="311"/>
                    <a:pt x="992" y="408"/>
                  </a:cubicBezTo>
                  <a:cubicBezTo>
                    <a:pt x="1016" y="467"/>
                    <a:pt x="1044" y="500"/>
                    <a:pt x="1092" y="557"/>
                  </a:cubicBezTo>
                  <a:cubicBezTo>
                    <a:pt x="1113" y="596"/>
                    <a:pt x="1136" y="593"/>
                    <a:pt x="1149" y="632"/>
                  </a:cubicBezTo>
                  <a:cubicBezTo>
                    <a:pt x="1163" y="670"/>
                    <a:pt x="1171" y="748"/>
                    <a:pt x="1176" y="788"/>
                  </a:cubicBezTo>
                  <a:cubicBezTo>
                    <a:pt x="1184" y="827"/>
                    <a:pt x="1179" y="776"/>
                    <a:pt x="1182" y="875"/>
                  </a:cubicBezTo>
                  <a:cubicBezTo>
                    <a:pt x="1190" y="911"/>
                    <a:pt x="1213" y="968"/>
                    <a:pt x="1224" y="1004"/>
                  </a:cubicBezTo>
                  <a:cubicBezTo>
                    <a:pt x="1235" y="1040"/>
                    <a:pt x="1248" y="1059"/>
                    <a:pt x="1248" y="1091"/>
                  </a:cubicBezTo>
                  <a:cubicBezTo>
                    <a:pt x="1248" y="1123"/>
                    <a:pt x="1227" y="1147"/>
                    <a:pt x="1221" y="1196"/>
                  </a:cubicBezTo>
                  <a:cubicBezTo>
                    <a:pt x="1215" y="1245"/>
                    <a:pt x="1210" y="1338"/>
                    <a:pt x="1212" y="1385"/>
                  </a:cubicBezTo>
                  <a:cubicBezTo>
                    <a:pt x="1213" y="1408"/>
                    <a:pt x="1219" y="1458"/>
                    <a:pt x="1230" y="1478"/>
                  </a:cubicBezTo>
                  <a:cubicBezTo>
                    <a:pt x="1240" y="1511"/>
                    <a:pt x="1239" y="1579"/>
                    <a:pt x="1257" y="1610"/>
                  </a:cubicBezTo>
                  <a:cubicBezTo>
                    <a:pt x="1273" y="1646"/>
                    <a:pt x="1305" y="1698"/>
                    <a:pt x="1323" y="1694"/>
                  </a:cubicBezTo>
                  <a:cubicBezTo>
                    <a:pt x="1346" y="1664"/>
                    <a:pt x="1334" y="1604"/>
                    <a:pt x="1365" y="1583"/>
                  </a:cubicBezTo>
                  <a:cubicBezTo>
                    <a:pt x="1374" y="1572"/>
                    <a:pt x="1398" y="1577"/>
                    <a:pt x="1404" y="1613"/>
                  </a:cubicBezTo>
                  <a:cubicBezTo>
                    <a:pt x="1410" y="1633"/>
                    <a:pt x="1401" y="1678"/>
                    <a:pt x="1398" y="1703"/>
                  </a:cubicBezTo>
                  <a:cubicBezTo>
                    <a:pt x="1395" y="1728"/>
                    <a:pt x="1380" y="1742"/>
                    <a:pt x="1383" y="1766"/>
                  </a:cubicBezTo>
                  <a:cubicBezTo>
                    <a:pt x="1386" y="1790"/>
                    <a:pt x="1401" y="1833"/>
                    <a:pt x="1413" y="1847"/>
                  </a:cubicBezTo>
                  <a:cubicBezTo>
                    <a:pt x="1425" y="1867"/>
                    <a:pt x="1403" y="1852"/>
                    <a:pt x="1455" y="1853"/>
                  </a:cubicBezTo>
                  <a:cubicBezTo>
                    <a:pt x="1479" y="1850"/>
                    <a:pt x="1534" y="1834"/>
                    <a:pt x="1560" y="1829"/>
                  </a:cubicBezTo>
                  <a:cubicBezTo>
                    <a:pt x="1586" y="1824"/>
                    <a:pt x="1598" y="1815"/>
                    <a:pt x="1614" y="1820"/>
                  </a:cubicBezTo>
                  <a:cubicBezTo>
                    <a:pt x="1630" y="1825"/>
                    <a:pt x="1652" y="1845"/>
                    <a:pt x="1656" y="1862"/>
                  </a:cubicBezTo>
                  <a:cubicBezTo>
                    <a:pt x="1660" y="1879"/>
                    <a:pt x="1629" y="1921"/>
                    <a:pt x="1641" y="1925"/>
                  </a:cubicBezTo>
                  <a:cubicBezTo>
                    <a:pt x="1652" y="1930"/>
                    <a:pt x="1700" y="1893"/>
                    <a:pt x="1728" y="1889"/>
                  </a:cubicBezTo>
                  <a:cubicBezTo>
                    <a:pt x="1756" y="1885"/>
                    <a:pt x="1794" y="1904"/>
                    <a:pt x="1809" y="1901"/>
                  </a:cubicBezTo>
                  <a:cubicBezTo>
                    <a:pt x="1838" y="1891"/>
                    <a:pt x="1815" y="1891"/>
                    <a:pt x="1821" y="1871"/>
                  </a:cubicBezTo>
                  <a:cubicBezTo>
                    <a:pt x="1827" y="1851"/>
                    <a:pt x="1841" y="1806"/>
                    <a:pt x="1845" y="1781"/>
                  </a:cubicBezTo>
                  <a:cubicBezTo>
                    <a:pt x="1856" y="1757"/>
                    <a:pt x="1836" y="1745"/>
                    <a:pt x="1845" y="1721"/>
                  </a:cubicBezTo>
                  <a:cubicBezTo>
                    <a:pt x="1854" y="1697"/>
                    <a:pt x="1877" y="1670"/>
                    <a:pt x="1899" y="1637"/>
                  </a:cubicBezTo>
                  <a:cubicBezTo>
                    <a:pt x="1965" y="1588"/>
                    <a:pt x="1944" y="1600"/>
                    <a:pt x="1977" y="1523"/>
                  </a:cubicBezTo>
                  <a:cubicBezTo>
                    <a:pt x="2001" y="1490"/>
                    <a:pt x="2004" y="1462"/>
                    <a:pt x="2040" y="1430"/>
                  </a:cubicBezTo>
                  <a:cubicBezTo>
                    <a:pt x="2082" y="1410"/>
                    <a:pt x="2177" y="1412"/>
                    <a:pt x="2229" y="1403"/>
                  </a:cubicBezTo>
                  <a:cubicBezTo>
                    <a:pt x="2279" y="1391"/>
                    <a:pt x="2314" y="1390"/>
                    <a:pt x="2352" y="1376"/>
                  </a:cubicBezTo>
                  <a:cubicBezTo>
                    <a:pt x="2391" y="1359"/>
                    <a:pt x="2434" y="1323"/>
                    <a:pt x="2463" y="1301"/>
                  </a:cubicBezTo>
                  <a:cubicBezTo>
                    <a:pt x="2489" y="1294"/>
                    <a:pt x="2505" y="1256"/>
                    <a:pt x="2529" y="1244"/>
                  </a:cubicBezTo>
                  <a:cubicBezTo>
                    <a:pt x="2538" y="1240"/>
                    <a:pt x="2552" y="1233"/>
                    <a:pt x="2559" y="1226"/>
                  </a:cubicBezTo>
                  <a:cubicBezTo>
                    <a:pt x="2575" y="1210"/>
                    <a:pt x="2614" y="1233"/>
                    <a:pt x="2634" y="1226"/>
                  </a:cubicBezTo>
                  <a:cubicBezTo>
                    <a:pt x="2674" y="1231"/>
                    <a:pt x="2654" y="1184"/>
                    <a:pt x="2694" y="1190"/>
                  </a:cubicBezTo>
                  <a:cubicBezTo>
                    <a:pt x="2726" y="1195"/>
                    <a:pt x="2763" y="1115"/>
                    <a:pt x="2763" y="1115"/>
                  </a:cubicBezTo>
                  <a:cubicBezTo>
                    <a:pt x="2784" y="1090"/>
                    <a:pt x="2782" y="1050"/>
                    <a:pt x="2808" y="1028"/>
                  </a:cubicBezTo>
                  <a:cubicBezTo>
                    <a:pt x="2834" y="1006"/>
                    <a:pt x="2875" y="994"/>
                    <a:pt x="2919" y="986"/>
                  </a:cubicBezTo>
                  <a:cubicBezTo>
                    <a:pt x="2924" y="975"/>
                    <a:pt x="3060" y="983"/>
                    <a:pt x="3072" y="980"/>
                  </a:cubicBezTo>
                  <a:cubicBezTo>
                    <a:pt x="3096" y="975"/>
                    <a:pt x="3156" y="994"/>
                    <a:pt x="3195" y="989"/>
                  </a:cubicBezTo>
                  <a:cubicBezTo>
                    <a:pt x="3229" y="988"/>
                    <a:pt x="3246" y="996"/>
                    <a:pt x="3264" y="1016"/>
                  </a:cubicBezTo>
                  <a:cubicBezTo>
                    <a:pt x="3286" y="1036"/>
                    <a:pt x="3318" y="1076"/>
                    <a:pt x="3327" y="1106"/>
                  </a:cubicBezTo>
                  <a:cubicBezTo>
                    <a:pt x="3363" y="1103"/>
                    <a:pt x="3359" y="1114"/>
                    <a:pt x="3396" y="1100"/>
                  </a:cubicBezTo>
                  <a:cubicBezTo>
                    <a:pt x="3428" y="1116"/>
                    <a:pt x="3414" y="1088"/>
                    <a:pt x="3435" y="1109"/>
                  </a:cubicBezTo>
                  <a:cubicBezTo>
                    <a:pt x="3495" y="1133"/>
                    <a:pt x="3460" y="1107"/>
                    <a:pt x="3480" y="1130"/>
                  </a:cubicBezTo>
                  <a:cubicBezTo>
                    <a:pt x="3498" y="1150"/>
                    <a:pt x="3487" y="1220"/>
                    <a:pt x="3507" y="1238"/>
                  </a:cubicBezTo>
                  <a:cubicBezTo>
                    <a:pt x="3517" y="1247"/>
                    <a:pt x="3561" y="1247"/>
                    <a:pt x="3573" y="1253"/>
                  </a:cubicBezTo>
                  <a:cubicBezTo>
                    <a:pt x="3593" y="1262"/>
                    <a:pt x="3624" y="1256"/>
                    <a:pt x="3645" y="1259"/>
                  </a:cubicBezTo>
                  <a:cubicBezTo>
                    <a:pt x="3661" y="1264"/>
                    <a:pt x="3664" y="1230"/>
                    <a:pt x="3681" y="1232"/>
                  </a:cubicBezTo>
                  <a:cubicBezTo>
                    <a:pt x="3712" y="1235"/>
                    <a:pt x="3703" y="1220"/>
                    <a:pt x="3717" y="1202"/>
                  </a:cubicBezTo>
                  <a:cubicBezTo>
                    <a:pt x="3727" y="1189"/>
                    <a:pt x="3750" y="1163"/>
                    <a:pt x="3750" y="1124"/>
                  </a:cubicBezTo>
                  <a:cubicBezTo>
                    <a:pt x="3786" y="1106"/>
                    <a:pt x="3789" y="1052"/>
                    <a:pt x="3825" y="1034"/>
                  </a:cubicBezTo>
                  <a:cubicBezTo>
                    <a:pt x="3833" y="1023"/>
                    <a:pt x="3895" y="1073"/>
                    <a:pt x="3904" y="1064"/>
                  </a:cubicBezTo>
                  <a:cubicBezTo>
                    <a:pt x="3923" y="1070"/>
                    <a:pt x="3934" y="1076"/>
                    <a:pt x="3954" y="1094"/>
                  </a:cubicBezTo>
                  <a:cubicBezTo>
                    <a:pt x="3974" y="1112"/>
                    <a:pt x="3996" y="1158"/>
                    <a:pt x="4023" y="1172"/>
                  </a:cubicBezTo>
                  <a:cubicBezTo>
                    <a:pt x="4050" y="1184"/>
                    <a:pt x="4091" y="1179"/>
                    <a:pt x="4119" y="1178"/>
                  </a:cubicBezTo>
                  <a:cubicBezTo>
                    <a:pt x="4147" y="1177"/>
                    <a:pt x="4166" y="1185"/>
                    <a:pt x="4191" y="1166"/>
                  </a:cubicBezTo>
                  <a:cubicBezTo>
                    <a:pt x="4244" y="1163"/>
                    <a:pt x="4245" y="1103"/>
                    <a:pt x="4266" y="1064"/>
                  </a:cubicBezTo>
                  <a:cubicBezTo>
                    <a:pt x="4282" y="1063"/>
                    <a:pt x="4275" y="1025"/>
                    <a:pt x="4329" y="989"/>
                  </a:cubicBezTo>
                  <a:cubicBezTo>
                    <a:pt x="4343" y="975"/>
                    <a:pt x="4357" y="956"/>
                    <a:pt x="4362" y="938"/>
                  </a:cubicBezTo>
                  <a:cubicBezTo>
                    <a:pt x="4380" y="907"/>
                    <a:pt x="4467" y="836"/>
                    <a:pt x="4488" y="809"/>
                  </a:cubicBezTo>
                  <a:cubicBezTo>
                    <a:pt x="4509" y="782"/>
                    <a:pt x="4481" y="798"/>
                    <a:pt x="4488" y="776"/>
                  </a:cubicBezTo>
                  <a:cubicBezTo>
                    <a:pt x="4496" y="762"/>
                    <a:pt x="4498" y="695"/>
                    <a:pt x="4530" y="674"/>
                  </a:cubicBezTo>
                  <a:cubicBezTo>
                    <a:pt x="4560" y="651"/>
                    <a:pt x="4638" y="643"/>
                    <a:pt x="4671" y="638"/>
                  </a:cubicBezTo>
                  <a:cubicBezTo>
                    <a:pt x="4701" y="635"/>
                    <a:pt x="4716" y="636"/>
                    <a:pt x="4731" y="644"/>
                  </a:cubicBezTo>
                  <a:cubicBezTo>
                    <a:pt x="4746" y="652"/>
                    <a:pt x="4748" y="687"/>
                    <a:pt x="4761" y="689"/>
                  </a:cubicBezTo>
                  <a:cubicBezTo>
                    <a:pt x="4774" y="691"/>
                    <a:pt x="4786" y="655"/>
                    <a:pt x="4812" y="659"/>
                  </a:cubicBezTo>
                  <a:cubicBezTo>
                    <a:pt x="4838" y="663"/>
                    <a:pt x="4895" y="702"/>
                    <a:pt x="4917" y="713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3577680" y="3036240"/>
              <a:ext cx="472680" cy="1571400"/>
            </a:xfrm>
            <a:custGeom>
              <a:avLst/>
              <a:gdLst/>
              <a:ahLst/>
              <a:rect l="l" t="t" r="r" b="b"/>
              <a:pathLst>
                <a:path w="291" h="919">
                  <a:moveTo>
                    <a:pt x="129" y="0"/>
                  </a:moveTo>
                  <a:cubicBezTo>
                    <a:pt x="134" y="29"/>
                    <a:pt x="150" y="48"/>
                    <a:pt x="159" y="75"/>
                  </a:cubicBezTo>
                  <a:cubicBezTo>
                    <a:pt x="164" y="91"/>
                    <a:pt x="171" y="123"/>
                    <a:pt x="171" y="123"/>
                  </a:cubicBezTo>
                  <a:cubicBezTo>
                    <a:pt x="176" y="173"/>
                    <a:pt x="183" y="224"/>
                    <a:pt x="195" y="273"/>
                  </a:cubicBezTo>
                  <a:cubicBezTo>
                    <a:pt x="194" y="305"/>
                    <a:pt x="195" y="337"/>
                    <a:pt x="192" y="369"/>
                  </a:cubicBezTo>
                  <a:cubicBezTo>
                    <a:pt x="190" y="391"/>
                    <a:pt x="186" y="382"/>
                    <a:pt x="180" y="396"/>
                  </a:cubicBezTo>
                  <a:cubicBezTo>
                    <a:pt x="169" y="421"/>
                    <a:pt x="160" y="447"/>
                    <a:pt x="153" y="474"/>
                  </a:cubicBezTo>
                  <a:cubicBezTo>
                    <a:pt x="155" y="513"/>
                    <a:pt x="149" y="550"/>
                    <a:pt x="171" y="582"/>
                  </a:cubicBezTo>
                  <a:cubicBezTo>
                    <a:pt x="175" y="624"/>
                    <a:pt x="180" y="667"/>
                    <a:pt x="168" y="708"/>
                  </a:cubicBezTo>
                  <a:cubicBezTo>
                    <a:pt x="164" y="723"/>
                    <a:pt x="160" y="738"/>
                    <a:pt x="156" y="753"/>
                  </a:cubicBezTo>
                  <a:cubicBezTo>
                    <a:pt x="154" y="759"/>
                    <a:pt x="150" y="771"/>
                    <a:pt x="150" y="771"/>
                  </a:cubicBezTo>
                  <a:cubicBezTo>
                    <a:pt x="153" y="793"/>
                    <a:pt x="154" y="796"/>
                    <a:pt x="171" y="807"/>
                  </a:cubicBezTo>
                  <a:cubicBezTo>
                    <a:pt x="178" y="817"/>
                    <a:pt x="183" y="821"/>
                    <a:pt x="195" y="825"/>
                  </a:cubicBezTo>
                  <a:cubicBezTo>
                    <a:pt x="204" y="834"/>
                    <a:pt x="215" y="839"/>
                    <a:pt x="222" y="849"/>
                  </a:cubicBezTo>
                  <a:cubicBezTo>
                    <a:pt x="247" y="881"/>
                    <a:pt x="223" y="856"/>
                    <a:pt x="243" y="876"/>
                  </a:cubicBezTo>
                  <a:cubicBezTo>
                    <a:pt x="247" y="888"/>
                    <a:pt x="261" y="900"/>
                    <a:pt x="273" y="906"/>
                  </a:cubicBezTo>
                  <a:cubicBezTo>
                    <a:pt x="276" y="907"/>
                    <a:pt x="279" y="908"/>
                    <a:pt x="282" y="909"/>
                  </a:cubicBezTo>
                  <a:cubicBezTo>
                    <a:pt x="285" y="911"/>
                    <a:pt x="291" y="919"/>
                    <a:pt x="291" y="915"/>
                  </a:cubicBezTo>
                  <a:cubicBezTo>
                    <a:pt x="291" y="911"/>
                    <a:pt x="285" y="909"/>
                    <a:pt x="282" y="906"/>
                  </a:cubicBezTo>
                  <a:cubicBezTo>
                    <a:pt x="267" y="894"/>
                    <a:pt x="251" y="887"/>
                    <a:pt x="237" y="873"/>
                  </a:cubicBezTo>
                  <a:cubicBezTo>
                    <a:pt x="224" y="834"/>
                    <a:pt x="193" y="812"/>
                    <a:pt x="162" y="786"/>
                  </a:cubicBezTo>
                  <a:cubicBezTo>
                    <a:pt x="152" y="778"/>
                    <a:pt x="148" y="769"/>
                    <a:pt x="138" y="762"/>
                  </a:cubicBezTo>
                  <a:cubicBezTo>
                    <a:pt x="126" y="743"/>
                    <a:pt x="124" y="721"/>
                    <a:pt x="108" y="705"/>
                  </a:cubicBezTo>
                  <a:cubicBezTo>
                    <a:pt x="101" y="685"/>
                    <a:pt x="111" y="707"/>
                    <a:pt x="96" y="690"/>
                  </a:cubicBezTo>
                  <a:cubicBezTo>
                    <a:pt x="81" y="672"/>
                    <a:pt x="88" y="668"/>
                    <a:pt x="66" y="654"/>
                  </a:cubicBezTo>
                  <a:cubicBezTo>
                    <a:pt x="51" y="644"/>
                    <a:pt x="37" y="637"/>
                    <a:pt x="24" y="624"/>
                  </a:cubicBezTo>
                  <a:cubicBezTo>
                    <a:pt x="16" y="601"/>
                    <a:pt x="24" y="576"/>
                    <a:pt x="27" y="552"/>
                  </a:cubicBezTo>
                  <a:cubicBezTo>
                    <a:pt x="23" y="527"/>
                    <a:pt x="17" y="515"/>
                    <a:pt x="0" y="498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4362840" y="4267440"/>
              <a:ext cx="797760" cy="1256760"/>
            </a:xfrm>
            <a:custGeom>
              <a:avLst/>
              <a:gdLst/>
              <a:ahLst/>
              <a:rect l="l" t="t" r="r" b="b"/>
              <a:pathLst>
                <a:path w="491" h="735">
                  <a:moveTo>
                    <a:pt x="279" y="0"/>
                  </a:moveTo>
                  <a:cubicBezTo>
                    <a:pt x="283" y="38"/>
                    <a:pt x="293" y="46"/>
                    <a:pt x="327" y="57"/>
                  </a:cubicBezTo>
                  <a:cubicBezTo>
                    <a:pt x="345" y="75"/>
                    <a:pt x="366" y="72"/>
                    <a:pt x="387" y="81"/>
                  </a:cubicBezTo>
                  <a:cubicBezTo>
                    <a:pt x="402" y="88"/>
                    <a:pt x="416" y="98"/>
                    <a:pt x="429" y="108"/>
                  </a:cubicBezTo>
                  <a:cubicBezTo>
                    <a:pt x="440" y="142"/>
                    <a:pt x="461" y="172"/>
                    <a:pt x="480" y="201"/>
                  </a:cubicBezTo>
                  <a:cubicBezTo>
                    <a:pt x="486" y="226"/>
                    <a:pt x="491" y="233"/>
                    <a:pt x="483" y="261"/>
                  </a:cubicBezTo>
                  <a:cubicBezTo>
                    <a:pt x="480" y="271"/>
                    <a:pt x="465" y="288"/>
                    <a:pt x="465" y="288"/>
                  </a:cubicBezTo>
                  <a:cubicBezTo>
                    <a:pt x="461" y="304"/>
                    <a:pt x="465" y="333"/>
                    <a:pt x="453" y="345"/>
                  </a:cubicBezTo>
                  <a:cubicBezTo>
                    <a:pt x="435" y="363"/>
                    <a:pt x="406" y="388"/>
                    <a:pt x="384" y="399"/>
                  </a:cubicBezTo>
                  <a:cubicBezTo>
                    <a:pt x="369" y="421"/>
                    <a:pt x="341" y="421"/>
                    <a:pt x="321" y="435"/>
                  </a:cubicBezTo>
                  <a:cubicBezTo>
                    <a:pt x="307" y="445"/>
                    <a:pt x="315" y="440"/>
                    <a:pt x="294" y="447"/>
                  </a:cubicBezTo>
                  <a:cubicBezTo>
                    <a:pt x="291" y="448"/>
                    <a:pt x="285" y="450"/>
                    <a:pt x="285" y="450"/>
                  </a:cubicBezTo>
                  <a:cubicBezTo>
                    <a:pt x="272" y="463"/>
                    <a:pt x="259" y="472"/>
                    <a:pt x="252" y="489"/>
                  </a:cubicBezTo>
                  <a:cubicBezTo>
                    <a:pt x="246" y="503"/>
                    <a:pt x="241" y="528"/>
                    <a:pt x="228" y="537"/>
                  </a:cubicBezTo>
                  <a:cubicBezTo>
                    <a:pt x="209" y="550"/>
                    <a:pt x="193" y="569"/>
                    <a:pt x="177" y="585"/>
                  </a:cubicBezTo>
                  <a:cubicBezTo>
                    <a:pt x="168" y="594"/>
                    <a:pt x="156" y="597"/>
                    <a:pt x="147" y="606"/>
                  </a:cubicBezTo>
                  <a:cubicBezTo>
                    <a:pt x="142" y="622"/>
                    <a:pt x="117" y="644"/>
                    <a:pt x="102" y="654"/>
                  </a:cubicBezTo>
                  <a:cubicBezTo>
                    <a:pt x="97" y="661"/>
                    <a:pt x="60" y="721"/>
                    <a:pt x="54" y="726"/>
                  </a:cubicBezTo>
                  <a:cubicBezTo>
                    <a:pt x="42" y="735"/>
                    <a:pt x="9" y="732"/>
                    <a:pt x="0" y="732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5235840" y="3123720"/>
              <a:ext cx="1511640" cy="855000"/>
            </a:xfrm>
            <a:custGeom>
              <a:avLst/>
              <a:gdLst/>
              <a:ahLst/>
              <a:rect l="l" t="t" r="r" b="b"/>
              <a:pathLst>
                <a:path w="930" h="500">
                  <a:moveTo>
                    <a:pt x="930" y="455"/>
                  </a:moveTo>
                  <a:cubicBezTo>
                    <a:pt x="920" y="452"/>
                    <a:pt x="900" y="446"/>
                    <a:pt x="900" y="446"/>
                  </a:cubicBezTo>
                  <a:cubicBezTo>
                    <a:pt x="884" y="447"/>
                    <a:pt x="868" y="446"/>
                    <a:pt x="852" y="449"/>
                  </a:cubicBezTo>
                  <a:cubicBezTo>
                    <a:pt x="839" y="451"/>
                    <a:pt x="827" y="473"/>
                    <a:pt x="816" y="479"/>
                  </a:cubicBezTo>
                  <a:cubicBezTo>
                    <a:pt x="810" y="482"/>
                    <a:pt x="797" y="498"/>
                    <a:pt x="789" y="500"/>
                  </a:cubicBezTo>
                  <a:cubicBezTo>
                    <a:pt x="765" y="499"/>
                    <a:pt x="738" y="489"/>
                    <a:pt x="714" y="485"/>
                  </a:cubicBezTo>
                  <a:cubicBezTo>
                    <a:pt x="694" y="482"/>
                    <a:pt x="686" y="457"/>
                    <a:pt x="678" y="443"/>
                  </a:cubicBezTo>
                  <a:cubicBezTo>
                    <a:pt x="661" y="413"/>
                    <a:pt x="656" y="394"/>
                    <a:pt x="645" y="362"/>
                  </a:cubicBezTo>
                  <a:cubicBezTo>
                    <a:pt x="643" y="333"/>
                    <a:pt x="654" y="306"/>
                    <a:pt x="630" y="290"/>
                  </a:cubicBezTo>
                  <a:cubicBezTo>
                    <a:pt x="622" y="278"/>
                    <a:pt x="613" y="264"/>
                    <a:pt x="606" y="251"/>
                  </a:cubicBezTo>
                  <a:cubicBezTo>
                    <a:pt x="594" y="227"/>
                    <a:pt x="590" y="197"/>
                    <a:pt x="567" y="182"/>
                  </a:cubicBezTo>
                  <a:cubicBezTo>
                    <a:pt x="561" y="173"/>
                    <a:pt x="560" y="170"/>
                    <a:pt x="549" y="164"/>
                  </a:cubicBezTo>
                  <a:cubicBezTo>
                    <a:pt x="543" y="161"/>
                    <a:pt x="531" y="158"/>
                    <a:pt x="531" y="158"/>
                  </a:cubicBezTo>
                  <a:cubicBezTo>
                    <a:pt x="514" y="141"/>
                    <a:pt x="454" y="87"/>
                    <a:pt x="429" y="83"/>
                  </a:cubicBezTo>
                  <a:cubicBezTo>
                    <a:pt x="416" y="81"/>
                    <a:pt x="403" y="76"/>
                    <a:pt x="390" y="74"/>
                  </a:cubicBezTo>
                  <a:cubicBezTo>
                    <a:pt x="374" y="71"/>
                    <a:pt x="354" y="53"/>
                    <a:pt x="354" y="53"/>
                  </a:cubicBezTo>
                  <a:cubicBezTo>
                    <a:pt x="343" y="47"/>
                    <a:pt x="327" y="47"/>
                    <a:pt x="315" y="44"/>
                  </a:cubicBezTo>
                  <a:cubicBezTo>
                    <a:pt x="297" y="32"/>
                    <a:pt x="273" y="32"/>
                    <a:pt x="252" y="29"/>
                  </a:cubicBezTo>
                  <a:cubicBezTo>
                    <a:pt x="238" y="23"/>
                    <a:pt x="233" y="12"/>
                    <a:pt x="222" y="8"/>
                  </a:cubicBezTo>
                  <a:cubicBezTo>
                    <a:pt x="211" y="4"/>
                    <a:pt x="200" y="5"/>
                    <a:pt x="186" y="5"/>
                  </a:cubicBezTo>
                  <a:cubicBezTo>
                    <a:pt x="170" y="2"/>
                    <a:pt x="135" y="5"/>
                    <a:pt x="135" y="5"/>
                  </a:cubicBezTo>
                  <a:cubicBezTo>
                    <a:pt x="119" y="0"/>
                    <a:pt x="99" y="52"/>
                    <a:pt x="84" y="56"/>
                  </a:cubicBezTo>
                  <a:cubicBezTo>
                    <a:pt x="58" y="74"/>
                    <a:pt x="16" y="52"/>
                    <a:pt x="0" y="53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6150960" y="4302000"/>
              <a:ext cx="330120" cy="29232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75" y="0"/>
                  </a:moveTo>
                  <a:cubicBezTo>
                    <a:pt x="160" y="23"/>
                    <a:pt x="154" y="18"/>
                    <a:pt x="136" y="36"/>
                  </a:cubicBezTo>
                  <a:cubicBezTo>
                    <a:pt x="135" y="54"/>
                    <a:pt x="139" y="73"/>
                    <a:pt x="133" y="90"/>
                  </a:cubicBezTo>
                  <a:cubicBezTo>
                    <a:pt x="131" y="96"/>
                    <a:pt x="120" y="92"/>
                    <a:pt x="115" y="96"/>
                  </a:cubicBezTo>
                  <a:cubicBezTo>
                    <a:pt x="71" y="125"/>
                    <a:pt x="73" y="123"/>
                    <a:pt x="10" y="126"/>
                  </a:cubicBezTo>
                  <a:cubicBezTo>
                    <a:pt x="0" y="155"/>
                    <a:pt x="17" y="160"/>
                    <a:pt x="40" y="168"/>
                  </a:cubicBezTo>
                  <a:cubicBezTo>
                    <a:pt x="109" y="165"/>
                    <a:pt x="105" y="171"/>
                    <a:pt x="151" y="141"/>
                  </a:cubicBezTo>
                  <a:cubicBezTo>
                    <a:pt x="165" y="120"/>
                    <a:pt x="160" y="124"/>
                    <a:pt x="187" y="117"/>
                  </a:cubicBezTo>
                  <a:cubicBezTo>
                    <a:pt x="196" y="99"/>
                    <a:pt x="192" y="109"/>
                    <a:pt x="199" y="87"/>
                  </a:cubicBezTo>
                  <a:cubicBezTo>
                    <a:pt x="200" y="84"/>
                    <a:pt x="202" y="78"/>
                    <a:pt x="202" y="78"/>
                  </a:cubicBezTo>
                  <a:cubicBezTo>
                    <a:pt x="201" y="60"/>
                    <a:pt x="203" y="42"/>
                    <a:pt x="199" y="24"/>
                  </a:cubicBezTo>
                  <a:cubicBezTo>
                    <a:pt x="197" y="16"/>
                    <a:pt x="167" y="8"/>
                    <a:pt x="175" y="0"/>
                  </a:cubicBez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5923440" y="4592520"/>
              <a:ext cx="550800" cy="1284120"/>
            </a:xfrm>
            <a:custGeom>
              <a:avLst/>
              <a:gdLst/>
              <a:ahLst/>
              <a:rect l="l" t="t" r="r" b="b"/>
              <a:pathLst>
                <a:path w="339" h="751">
                  <a:moveTo>
                    <a:pt x="0" y="103"/>
                  </a:moveTo>
                  <a:cubicBezTo>
                    <a:pt x="15" y="96"/>
                    <a:pt x="22" y="85"/>
                    <a:pt x="36" y="76"/>
                  </a:cubicBezTo>
                  <a:cubicBezTo>
                    <a:pt x="45" y="70"/>
                    <a:pt x="75" y="61"/>
                    <a:pt x="87" y="58"/>
                  </a:cubicBezTo>
                  <a:cubicBezTo>
                    <a:pt x="105" y="46"/>
                    <a:pt x="129" y="45"/>
                    <a:pt x="150" y="43"/>
                  </a:cubicBezTo>
                  <a:cubicBezTo>
                    <a:pt x="169" y="37"/>
                    <a:pt x="190" y="36"/>
                    <a:pt x="210" y="31"/>
                  </a:cubicBezTo>
                  <a:cubicBezTo>
                    <a:pt x="222" y="28"/>
                    <a:pt x="231" y="22"/>
                    <a:pt x="243" y="19"/>
                  </a:cubicBezTo>
                  <a:cubicBezTo>
                    <a:pt x="248" y="3"/>
                    <a:pt x="237" y="0"/>
                    <a:pt x="252" y="7"/>
                  </a:cubicBezTo>
                  <a:cubicBezTo>
                    <a:pt x="265" y="32"/>
                    <a:pt x="302" y="51"/>
                    <a:pt x="309" y="79"/>
                  </a:cubicBezTo>
                  <a:cubicBezTo>
                    <a:pt x="319" y="100"/>
                    <a:pt x="287" y="126"/>
                    <a:pt x="291" y="148"/>
                  </a:cubicBezTo>
                  <a:cubicBezTo>
                    <a:pt x="296" y="168"/>
                    <a:pt x="338" y="177"/>
                    <a:pt x="339" y="202"/>
                  </a:cubicBezTo>
                  <a:cubicBezTo>
                    <a:pt x="334" y="236"/>
                    <a:pt x="322" y="276"/>
                    <a:pt x="297" y="301"/>
                  </a:cubicBezTo>
                  <a:cubicBezTo>
                    <a:pt x="289" y="322"/>
                    <a:pt x="283" y="324"/>
                    <a:pt x="282" y="334"/>
                  </a:cubicBezTo>
                  <a:cubicBezTo>
                    <a:pt x="281" y="344"/>
                    <a:pt x="298" y="348"/>
                    <a:pt x="288" y="364"/>
                  </a:cubicBezTo>
                  <a:cubicBezTo>
                    <a:pt x="279" y="377"/>
                    <a:pt x="249" y="424"/>
                    <a:pt x="225" y="433"/>
                  </a:cubicBezTo>
                  <a:cubicBezTo>
                    <a:pt x="201" y="442"/>
                    <a:pt x="161" y="418"/>
                    <a:pt x="141" y="421"/>
                  </a:cubicBezTo>
                  <a:cubicBezTo>
                    <a:pt x="128" y="424"/>
                    <a:pt x="108" y="438"/>
                    <a:pt x="102" y="451"/>
                  </a:cubicBezTo>
                  <a:cubicBezTo>
                    <a:pt x="99" y="457"/>
                    <a:pt x="108" y="460"/>
                    <a:pt x="108" y="460"/>
                  </a:cubicBezTo>
                  <a:cubicBezTo>
                    <a:pt x="108" y="466"/>
                    <a:pt x="85" y="454"/>
                    <a:pt x="84" y="502"/>
                  </a:cubicBezTo>
                  <a:cubicBezTo>
                    <a:pt x="83" y="523"/>
                    <a:pt x="95" y="563"/>
                    <a:pt x="102" y="586"/>
                  </a:cubicBezTo>
                  <a:cubicBezTo>
                    <a:pt x="109" y="609"/>
                    <a:pt x="126" y="616"/>
                    <a:pt x="126" y="643"/>
                  </a:cubicBezTo>
                  <a:cubicBezTo>
                    <a:pt x="126" y="670"/>
                    <a:pt x="107" y="729"/>
                    <a:pt x="102" y="751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7205760" y="4147920"/>
              <a:ext cx="289080" cy="427320"/>
            </a:xfrm>
            <a:custGeom>
              <a:avLst/>
              <a:gdLst/>
              <a:ahLst/>
              <a:rect l="l" t="t" r="r" b="b"/>
              <a:pathLst>
                <a:path w="178" h="250">
                  <a:moveTo>
                    <a:pt x="57" y="0"/>
                  </a:moveTo>
                  <a:cubicBezTo>
                    <a:pt x="45" y="4"/>
                    <a:pt x="42" y="12"/>
                    <a:pt x="33" y="21"/>
                  </a:cubicBezTo>
                  <a:cubicBezTo>
                    <a:pt x="24" y="48"/>
                    <a:pt x="16" y="75"/>
                    <a:pt x="9" y="102"/>
                  </a:cubicBezTo>
                  <a:cubicBezTo>
                    <a:pt x="0" y="138"/>
                    <a:pt x="13" y="116"/>
                    <a:pt x="0" y="135"/>
                  </a:cubicBezTo>
                  <a:cubicBezTo>
                    <a:pt x="4" y="154"/>
                    <a:pt x="9" y="157"/>
                    <a:pt x="27" y="162"/>
                  </a:cubicBezTo>
                  <a:cubicBezTo>
                    <a:pt x="42" y="173"/>
                    <a:pt x="61" y="200"/>
                    <a:pt x="72" y="216"/>
                  </a:cubicBezTo>
                  <a:cubicBezTo>
                    <a:pt x="74" y="226"/>
                    <a:pt x="72" y="238"/>
                    <a:pt x="78" y="246"/>
                  </a:cubicBezTo>
                  <a:cubicBezTo>
                    <a:pt x="81" y="250"/>
                    <a:pt x="88" y="244"/>
                    <a:pt x="90" y="240"/>
                  </a:cubicBezTo>
                  <a:cubicBezTo>
                    <a:pt x="94" y="233"/>
                    <a:pt x="94" y="224"/>
                    <a:pt x="96" y="216"/>
                  </a:cubicBezTo>
                  <a:cubicBezTo>
                    <a:pt x="96" y="215"/>
                    <a:pt x="128" y="203"/>
                    <a:pt x="135" y="198"/>
                  </a:cubicBezTo>
                  <a:cubicBezTo>
                    <a:pt x="138" y="188"/>
                    <a:pt x="136" y="177"/>
                    <a:pt x="141" y="168"/>
                  </a:cubicBezTo>
                  <a:cubicBezTo>
                    <a:pt x="145" y="162"/>
                    <a:pt x="159" y="156"/>
                    <a:pt x="159" y="156"/>
                  </a:cubicBezTo>
                  <a:cubicBezTo>
                    <a:pt x="162" y="149"/>
                    <a:pt x="178" y="136"/>
                    <a:pt x="177" y="129"/>
                  </a:cubicBezTo>
                  <a:cubicBezTo>
                    <a:pt x="176" y="122"/>
                    <a:pt x="170" y="110"/>
                    <a:pt x="153" y="111"/>
                  </a:cubicBezTo>
                  <a:cubicBezTo>
                    <a:pt x="105" y="78"/>
                    <a:pt x="103" y="126"/>
                    <a:pt x="75" y="135"/>
                  </a:cubicBezTo>
                  <a:cubicBezTo>
                    <a:pt x="56" y="97"/>
                    <a:pt x="75" y="138"/>
                    <a:pt x="63" y="42"/>
                  </a:cubicBezTo>
                  <a:cubicBezTo>
                    <a:pt x="62" y="35"/>
                    <a:pt x="57" y="21"/>
                    <a:pt x="51" y="15"/>
                  </a:cubicBezTo>
                  <a:cubicBezTo>
                    <a:pt x="48" y="12"/>
                    <a:pt x="41" y="12"/>
                    <a:pt x="42" y="9"/>
                  </a:cubicBezTo>
                  <a:cubicBezTo>
                    <a:pt x="44" y="4"/>
                    <a:pt x="52" y="3"/>
                    <a:pt x="57" y="0"/>
                  </a:cubicBez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742800" y="4471200"/>
              <a:ext cx="521280" cy="912960"/>
            </a:xfrm>
            <a:custGeom>
              <a:avLst/>
              <a:gdLst/>
              <a:ahLst/>
              <a:rect l="l" t="t" r="r" b="b"/>
              <a:pathLst>
                <a:path w="321" h="534">
                  <a:moveTo>
                    <a:pt x="321" y="0"/>
                  </a:moveTo>
                  <a:cubicBezTo>
                    <a:pt x="287" y="23"/>
                    <a:pt x="293" y="61"/>
                    <a:pt x="267" y="87"/>
                  </a:cubicBezTo>
                  <a:cubicBezTo>
                    <a:pt x="261" y="105"/>
                    <a:pt x="250" y="103"/>
                    <a:pt x="231" y="105"/>
                  </a:cubicBezTo>
                  <a:cubicBezTo>
                    <a:pt x="212" y="111"/>
                    <a:pt x="204" y="126"/>
                    <a:pt x="186" y="132"/>
                  </a:cubicBezTo>
                  <a:cubicBezTo>
                    <a:pt x="148" y="146"/>
                    <a:pt x="103" y="148"/>
                    <a:pt x="63" y="150"/>
                  </a:cubicBezTo>
                  <a:cubicBezTo>
                    <a:pt x="57" y="151"/>
                    <a:pt x="51" y="152"/>
                    <a:pt x="45" y="153"/>
                  </a:cubicBezTo>
                  <a:cubicBezTo>
                    <a:pt x="39" y="155"/>
                    <a:pt x="27" y="159"/>
                    <a:pt x="27" y="159"/>
                  </a:cubicBezTo>
                  <a:cubicBezTo>
                    <a:pt x="27" y="158"/>
                    <a:pt x="36" y="153"/>
                    <a:pt x="45" y="152"/>
                  </a:cubicBezTo>
                  <a:cubicBezTo>
                    <a:pt x="54" y="151"/>
                    <a:pt x="62" y="151"/>
                    <a:pt x="78" y="150"/>
                  </a:cubicBezTo>
                  <a:cubicBezTo>
                    <a:pt x="99" y="147"/>
                    <a:pt x="120" y="146"/>
                    <a:pt x="141" y="144"/>
                  </a:cubicBezTo>
                  <a:cubicBezTo>
                    <a:pt x="155" y="139"/>
                    <a:pt x="173" y="139"/>
                    <a:pt x="185" y="131"/>
                  </a:cubicBezTo>
                  <a:cubicBezTo>
                    <a:pt x="190" y="127"/>
                    <a:pt x="202" y="126"/>
                    <a:pt x="207" y="122"/>
                  </a:cubicBezTo>
                  <a:cubicBezTo>
                    <a:pt x="212" y="120"/>
                    <a:pt x="209" y="115"/>
                    <a:pt x="216" y="111"/>
                  </a:cubicBezTo>
                  <a:cubicBezTo>
                    <a:pt x="224" y="107"/>
                    <a:pt x="248" y="103"/>
                    <a:pt x="258" y="99"/>
                  </a:cubicBezTo>
                  <a:cubicBezTo>
                    <a:pt x="268" y="95"/>
                    <a:pt x="271" y="82"/>
                    <a:pt x="273" y="90"/>
                  </a:cubicBezTo>
                  <a:cubicBezTo>
                    <a:pt x="279" y="113"/>
                    <a:pt x="281" y="116"/>
                    <a:pt x="273" y="150"/>
                  </a:cubicBezTo>
                  <a:cubicBezTo>
                    <a:pt x="272" y="153"/>
                    <a:pt x="245" y="171"/>
                    <a:pt x="240" y="183"/>
                  </a:cubicBezTo>
                  <a:cubicBezTo>
                    <a:pt x="237" y="190"/>
                    <a:pt x="232" y="210"/>
                    <a:pt x="231" y="210"/>
                  </a:cubicBezTo>
                  <a:cubicBezTo>
                    <a:pt x="215" y="213"/>
                    <a:pt x="202" y="217"/>
                    <a:pt x="186" y="219"/>
                  </a:cubicBezTo>
                  <a:cubicBezTo>
                    <a:pt x="152" y="230"/>
                    <a:pt x="122" y="239"/>
                    <a:pt x="87" y="243"/>
                  </a:cubicBezTo>
                  <a:cubicBezTo>
                    <a:pt x="66" y="248"/>
                    <a:pt x="70" y="246"/>
                    <a:pt x="60" y="248"/>
                  </a:cubicBezTo>
                  <a:cubicBezTo>
                    <a:pt x="50" y="250"/>
                    <a:pt x="34" y="250"/>
                    <a:pt x="24" y="255"/>
                  </a:cubicBezTo>
                  <a:cubicBezTo>
                    <a:pt x="14" y="262"/>
                    <a:pt x="7" y="269"/>
                    <a:pt x="0" y="279"/>
                  </a:cubicBezTo>
                  <a:cubicBezTo>
                    <a:pt x="0" y="280"/>
                    <a:pt x="8" y="270"/>
                    <a:pt x="14" y="266"/>
                  </a:cubicBezTo>
                  <a:cubicBezTo>
                    <a:pt x="20" y="262"/>
                    <a:pt x="21" y="259"/>
                    <a:pt x="36" y="255"/>
                  </a:cubicBezTo>
                  <a:cubicBezTo>
                    <a:pt x="49" y="242"/>
                    <a:pt x="83" y="243"/>
                    <a:pt x="102" y="242"/>
                  </a:cubicBezTo>
                  <a:cubicBezTo>
                    <a:pt x="121" y="236"/>
                    <a:pt x="135" y="240"/>
                    <a:pt x="153" y="228"/>
                  </a:cubicBezTo>
                  <a:cubicBezTo>
                    <a:pt x="159" y="224"/>
                    <a:pt x="168" y="229"/>
                    <a:pt x="174" y="225"/>
                  </a:cubicBezTo>
                  <a:cubicBezTo>
                    <a:pt x="177" y="223"/>
                    <a:pt x="183" y="219"/>
                    <a:pt x="183" y="219"/>
                  </a:cubicBezTo>
                  <a:cubicBezTo>
                    <a:pt x="194" y="220"/>
                    <a:pt x="207" y="216"/>
                    <a:pt x="216" y="222"/>
                  </a:cubicBezTo>
                  <a:cubicBezTo>
                    <a:pt x="217" y="222"/>
                    <a:pt x="212" y="249"/>
                    <a:pt x="210" y="252"/>
                  </a:cubicBezTo>
                  <a:cubicBezTo>
                    <a:pt x="195" y="282"/>
                    <a:pt x="193" y="306"/>
                    <a:pt x="185" y="339"/>
                  </a:cubicBezTo>
                  <a:cubicBezTo>
                    <a:pt x="184" y="350"/>
                    <a:pt x="183" y="367"/>
                    <a:pt x="180" y="378"/>
                  </a:cubicBezTo>
                  <a:cubicBezTo>
                    <a:pt x="179" y="382"/>
                    <a:pt x="150" y="383"/>
                    <a:pt x="147" y="384"/>
                  </a:cubicBezTo>
                  <a:cubicBezTo>
                    <a:pt x="126" y="389"/>
                    <a:pt x="118" y="394"/>
                    <a:pt x="93" y="396"/>
                  </a:cubicBezTo>
                  <a:cubicBezTo>
                    <a:pt x="32" y="409"/>
                    <a:pt x="90" y="401"/>
                    <a:pt x="105" y="399"/>
                  </a:cubicBezTo>
                  <a:cubicBezTo>
                    <a:pt x="111" y="397"/>
                    <a:pt x="117" y="395"/>
                    <a:pt x="123" y="393"/>
                  </a:cubicBezTo>
                  <a:cubicBezTo>
                    <a:pt x="131" y="390"/>
                    <a:pt x="147" y="387"/>
                    <a:pt x="147" y="387"/>
                  </a:cubicBezTo>
                  <a:cubicBezTo>
                    <a:pt x="153" y="388"/>
                    <a:pt x="181" y="371"/>
                    <a:pt x="183" y="377"/>
                  </a:cubicBezTo>
                  <a:cubicBezTo>
                    <a:pt x="191" y="397"/>
                    <a:pt x="164" y="393"/>
                    <a:pt x="152" y="473"/>
                  </a:cubicBezTo>
                  <a:cubicBezTo>
                    <a:pt x="154" y="493"/>
                    <a:pt x="150" y="514"/>
                    <a:pt x="150" y="534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200" name="Group 44"/>
          <p:cNvGrpSpPr/>
          <p:nvPr/>
        </p:nvGrpSpPr>
        <p:grpSpPr>
          <a:xfrm>
            <a:off x="7924680" y="3200400"/>
            <a:ext cx="838080" cy="963720"/>
            <a:chOff x="7924680" y="3200400"/>
            <a:chExt cx="838080" cy="963720"/>
          </a:xfrm>
        </p:grpSpPr>
        <p:sp>
          <p:nvSpPr>
            <p:cNvPr id="201" name="Freeform 45"/>
            <p:cNvSpPr/>
            <p:nvPr/>
          </p:nvSpPr>
          <p:spPr>
            <a:xfrm>
              <a:off x="8376840" y="3200400"/>
              <a:ext cx="343080" cy="398520"/>
            </a:xfrm>
            <a:custGeom>
              <a:avLst/>
              <a:gdLst/>
              <a:ahLst/>
              <a:rect l="l" t="t" r="r" b="b"/>
              <a:pathLst>
                <a:path w="216" h="251">
                  <a:moveTo>
                    <a:pt x="143" y="0"/>
                  </a:moveTo>
                  <a:cubicBezTo>
                    <a:pt x="148" y="5"/>
                    <a:pt x="153" y="6"/>
                    <a:pt x="158" y="10"/>
                  </a:cubicBezTo>
                  <a:cubicBezTo>
                    <a:pt x="162" y="17"/>
                    <a:pt x="167" y="20"/>
                    <a:pt x="170" y="27"/>
                  </a:cubicBezTo>
                  <a:cubicBezTo>
                    <a:pt x="173" y="47"/>
                    <a:pt x="156" y="52"/>
                    <a:pt x="140" y="57"/>
                  </a:cubicBezTo>
                  <a:cubicBezTo>
                    <a:pt x="123" y="56"/>
                    <a:pt x="99" y="58"/>
                    <a:pt x="81" y="52"/>
                  </a:cubicBezTo>
                  <a:cubicBezTo>
                    <a:pt x="76" y="48"/>
                    <a:pt x="71" y="48"/>
                    <a:pt x="65" y="45"/>
                  </a:cubicBezTo>
                  <a:cubicBezTo>
                    <a:pt x="61" y="43"/>
                    <a:pt x="23" y="37"/>
                    <a:pt x="23" y="37"/>
                  </a:cubicBezTo>
                  <a:cubicBezTo>
                    <a:pt x="6" y="41"/>
                    <a:pt x="44" y="53"/>
                    <a:pt x="54" y="63"/>
                  </a:cubicBezTo>
                  <a:cubicBezTo>
                    <a:pt x="70" y="79"/>
                    <a:pt x="86" y="84"/>
                    <a:pt x="108" y="85"/>
                  </a:cubicBezTo>
                  <a:cubicBezTo>
                    <a:pt x="121" y="88"/>
                    <a:pt x="133" y="90"/>
                    <a:pt x="146" y="91"/>
                  </a:cubicBezTo>
                  <a:cubicBezTo>
                    <a:pt x="156" y="94"/>
                    <a:pt x="166" y="99"/>
                    <a:pt x="176" y="100"/>
                  </a:cubicBezTo>
                  <a:cubicBezTo>
                    <a:pt x="186" y="103"/>
                    <a:pt x="193" y="102"/>
                    <a:pt x="200" y="109"/>
                  </a:cubicBezTo>
                  <a:cubicBezTo>
                    <a:pt x="203" y="118"/>
                    <a:pt x="209" y="125"/>
                    <a:pt x="213" y="133"/>
                  </a:cubicBezTo>
                  <a:cubicBezTo>
                    <a:pt x="216" y="144"/>
                    <a:pt x="214" y="167"/>
                    <a:pt x="213" y="175"/>
                  </a:cubicBezTo>
                  <a:cubicBezTo>
                    <a:pt x="212" y="183"/>
                    <a:pt x="212" y="178"/>
                    <a:pt x="206" y="183"/>
                  </a:cubicBezTo>
                  <a:cubicBezTo>
                    <a:pt x="201" y="195"/>
                    <a:pt x="189" y="201"/>
                    <a:pt x="177" y="207"/>
                  </a:cubicBezTo>
                  <a:cubicBezTo>
                    <a:pt x="165" y="213"/>
                    <a:pt x="146" y="215"/>
                    <a:pt x="135" y="220"/>
                  </a:cubicBezTo>
                  <a:cubicBezTo>
                    <a:pt x="119" y="228"/>
                    <a:pt x="121" y="237"/>
                    <a:pt x="113" y="240"/>
                  </a:cubicBezTo>
                  <a:cubicBezTo>
                    <a:pt x="105" y="243"/>
                    <a:pt x="97" y="243"/>
                    <a:pt x="84" y="241"/>
                  </a:cubicBezTo>
                  <a:cubicBezTo>
                    <a:pt x="63" y="251"/>
                    <a:pt x="47" y="247"/>
                    <a:pt x="38" y="229"/>
                  </a:cubicBezTo>
                  <a:cubicBezTo>
                    <a:pt x="35" y="223"/>
                    <a:pt x="37" y="223"/>
                    <a:pt x="33" y="217"/>
                  </a:cubicBezTo>
                  <a:cubicBezTo>
                    <a:pt x="27" y="209"/>
                    <a:pt x="17" y="200"/>
                    <a:pt x="9" y="195"/>
                  </a:cubicBezTo>
                  <a:cubicBezTo>
                    <a:pt x="0" y="179"/>
                    <a:pt x="29" y="164"/>
                    <a:pt x="41" y="157"/>
                  </a:cubicBezTo>
                  <a:cubicBezTo>
                    <a:pt x="42" y="150"/>
                    <a:pt x="44" y="145"/>
                    <a:pt x="47" y="139"/>
                  </a:cubicBezTo>
                  <a:cubicBezTo>
                    <a:pt x="48" y="122"/>
                    <a:pt x="52" y="96"/>
                    <a:pt x="45" y="81"/>
                  </a:cubicBezTo>
                  <a:cubicBezTo>
                    <a:pt x="41" y="63"/>
                    <a:pt x="44" y="29"/>
                    <a:pt x="68" y="24"/>
                  </a:cubicBezTo>
                  <a:cubicBezTo>
                    <a:pt x="74" y="21"/>
                    <a:pt x="82" y="19"/>
                    <a:pt x="89" y="18"/>
                  </a:cubicBezTo>
                  <a:cubicBezTo>
                    <a:pt x="104" y="11"/>
                    <a:pt x="122" y="9"/>
                    <a:pt x="138" y="6"/>
                  </a:cubicBezTo>
                  <a:cubicBezTo>
                    <a:pt x="144" y="4"/>
                    <a:pt x="143" y="6"/>
                    <a:pt x="143" y="0"/>
                  </a:cubicBezTo>
                  <a:close/>
                </a:path>
              </a:pathLst>
            </a:custGeom>
            <a:solidFill>
              <a:srgbClr val="ff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8381880" y="3211560"/>
              <a:ext cx="342720" cy="419040"/>
            </a:xfrm>
            <a:custGeom>
              <a:avLst/>
              <a:gdLst/>
              <a:ahLst/>
              <a:rect l="l" t="t" r="r" b="b"/>
              <a:pathLst>
                <a:path w="216" h="264">
                  <a:moveTo>
                    <a:pt x="143" y="13"/>
                  </a:moveTo>
                  <a:cubicBezTo>
                    <a:pt x="148" y="18"/>
                    <a:pt x="153" y="19"/>
                    <a:pt x="158" y="23"/>
                  </a:cubicBezTo>
                  <a:cubicBezTo>
                    <a:pt x="162" y="30"/>
                    <a:pt x="167" y="33"/>
                    <a:pt x="170" y="40"/>
                  </a:cubicBezTo>
                  <a:cubicBezTo>
                    <a:pt x="173" y="60"/>
                    <a:pt x="156" y="65"/>
                    <a:pt x="140" y="70"/>
                  </a:cubicBezTo>
                  <a:cubicBezTo>
                    <a:pt x="123" y="69"/>
                    <a:pt x="99" y="71"/>
                    <a:pt x="81" y="65"/>
                  </a:cubicBezTo>
                  <a:cubicBezTo>
                    <a:pt x="76" y="61"/>
                    <a:pt x="71" y="61"/>
                    <a:pt x="65" y="58"/>
                  </a:cubicBezTo>
                  <a:cubicBezTo>
                    <a:pt x="61" y="56"/>
                    <a:pt x="23" y="50"/>
                    <a:pt x="23" y="50"/>
                  </a:cubicBezTo>
                  <a:cubicBezTo>
                    <a:pt x="6" y="54"/>
                    <a:pt x="56" y="58"/>
                    <a:pt x="66" y="68"/>
                  </a:cubicBezTo>
                  <a:cubicBezTo>
                    <a:pt x="82" y="84"/>
                    <a:pt x="96" y="77"/>
                    <a:pt x="118" y="78"/>
                  </a:cubicBezTo>
                  <a:cubicBezTo>
                    <a:pt x="131" y="81"/>
                    <a:pt x="141" y="87"/>
                    <a:pt x="154" y="88"/>
                  </a:cubicBezTo>
                  <a:cubicBezTo>
                    <a:pt x="164" y="91"/>
                    <a:pt x="182" y="101"/>
                    <a:pt x="192" y="102"/>
                  </a:cubicBezTo>
                  <a:cubicBezTo>
                    <a:pt x="202" y="105"/>
                    <a:pt x="193" y="115"/>
                    <a:pt x="200" y="122"/>
                  </a:cubicBezTo>
                  <a:cubicBezTo>
                    <a:pt x="203" y="131"/>
                    <a:pt x="209" y="138"/>
                    <a:pt x="213" y="146"/>
                  </a:cubicBezTo>
                  <a:cubicBezTo>
                    <a:pt x="216" y="157"/>
                    <a:pt x="214" y="180"/>
                    <a:pt x="213" y="188"/>
                  </a:cubicBezTo>
                  <a:cubicBezTo>
                    <a:pt x="212" y="196"/>
                    <a:pt x="212" y="191"/>
                    <a:pt x="206" y="196"/>
                  </a:cubicBezTo>
                  <a:cubicBezTo>
                    <a:pt x="201" y="208"/>
                    <a:pt x="189" y="214"/>
                    <a:pt x="177" y="220"/>
                  </a:cubicBezTo>
                  <a:cubicBezTo>
                    <a:pt x="165" y="226"/>
                    <a:pt x="146" y="228"/>
                    <a:pt x="135" y="233"/>
                  </a:cubicBezTo>
                  <a:cubicBezTo>
                    <a:pt x="119" y="241"/>
                    <a:pt x="121" y="250"/>
                    <a:pt x="113" y="253"/>
                  </a:cubicBezTo>
                  <a:cubicBezTo>
                    <a:pt x="105" y="256"/>
                    <a:pt x="97" y="256"/>
                    <a:pt x="84" y="254"/>
                  </a:cubicBezTo>
                  <a:cubicBezTo>
                    <a:pt x="63" y="264"/>
                    <a:pt x="47" y="260"/>
                    <a:pt x="38" y="242"/>
                  </a:cubicBezTo>
                  <a:cubicBezTo>
                    <a:pt x="35" y="236"/>
                    <a:pt x="37" y="236"/>
                    <a:pt x="33" y="230"/>
                  </a:cubicBezTo>
                  <a:cubicBezTo>
                    <a:pt x="27" y="222"/>
                    <a:pt x="17" y="213"/>
                    <a:pt x="9" y="208"/>
                  </a:cubicBezTo>
                  <a:cubicBezTo>
                    <a:pt x="0" y="192"/>
                    <a:pt x="8" y="173"/>
                    <a:pt x="20" y="166"/>
                  </a:cubicBezTo>
                  <a:cubicBezTo>
                    <a:pt x="21" y="159"/>
                    <a:pt x="44" y="158"/>
                    <a:pt x="47" y="152"/>
                  </a:cubicBezTo>
                  <a:cubicBezTo>
                    <a:pt x="48" y="135"/>
                    <a:pt x="52" y="109"/>
                    <a:pt x="45" y="94"/>
                  </a:cubicBezTo>
                  <a:cubicBezTo>
                    <a:pt x="41" y="76"/>
                    <a:pt x="36" y="25"/>
                    <a:pt x="60" y="20"/>
                  </a:cubicBezTo>
                  <a:cubicBezTo>
                    <a:pt x="66" y="17"/>
                    <a:pt x="81" y="13"/>
                    <a:pt x="88" y="12"/>
                  </a:cubicBezTo>
                  <a:cubicBezTo>
                    <a:pt x="103" y="5"/>
                    <a:pt x="118" y="5"/>
                    <a:pt x="134" y="2"/>
                  </a:cubicBezTo>
                  <a:cubicBezTo>
                    <a:pt x="140" y="0"/>
                    <a:pt x="143" y="19"/>
                    <a:pt x="143" y="13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203" name="AutoShape 47"/>
            <p:cNvSpPr/>
            <p:nvPr/>
          </p:nvSpPr>
          <p:spPr>
            <a:xfrm>
              <a:off x="7924680" y="3783240"/>
              <a:ext cx="838080" cy="380880"/>
            </a:xfrm>
            <a:prstGeom prst="wedgeRoundRectCallout">
              <a:avLst>
                <a:gd name="adj1" fmla="val 25000"/>
                <a:gd name="adj2" fmla="val -125000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</a:rPr>
                <a:t>上海</a:t>
              </a:r>
              <a:endParaRPr b="0" lang="en-US" sz="24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grpSp>
        <p:nvGrpSpPr>
          <p:cNvPr id="204" name="Group 48"/>
          <p:cNvGrpSpPr/>
          <p:nvPr/>
        </p:nvGrpSpPr>
        <p:grpSpPr>
          <a:xfrm>
            <a:off x="152280" y="2362320"/>
            <a:ext cx="1682640" cy="703440"/>
            <a:chOff x="152280" y="2362320"/>
            <a:chExt cx="1682640" cy="703440"/>
          </a:xfrm>
        </p:grpSpPr>
        <p:sp>
          <p:nvSpPr>
            <p:cNvPr id="205" name="Freeform 49"/>
            <p:cNvSpPr/>
            <p:nvPr/>
          </p:nvSpPr>
          <p:spPr>
            <a:xfrm>
              <a:off x="462240" y="2457360"/>
              <a:ext cx="1328400" cy="495360"/>
            </a:xfrm>
            <a:custGeom>
              <a:avLst/>
              <a:gdLst/>
              <a:ahLst/>
              <a:rect l="l" t="t" r="r" b="b"/>
              <a:pathLst>
                <a:path w="720" h="312">
                  <a:moveTo>
                    <a:pt x="0" y="0"/>
                  </a:moveTo>
                  <a:cubicBezTo>
                    <a:pt x="56" y="19"/>
                    <a:pt x="112" y="29"/>
                    <a:pt x="168" y="48"/>
                  </a:cubicBezTo>
                  <a:cubicBezTo>
                    <a:pt x="246" y="164"/>
                    <a:pt x="434" y="216"/>
                    <a:pt x="564" y="240"/>
                  </a:cubicBezTo>
                  <a:cubicBezTo>
                    <a:pt x="593" y="245"/>
                    <a:pt x="720" y="271"/>
                    <a:pt x="720" y="312"/>
                  </a:cubicBezTo>
                </a:path>
              </a:pathLst>
            </a:custGeom>
            <a:noFill/>
            <a:ln cap="sq" w="76320">
              <a:solidFill>
                <a:srgbClr val="7845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206" name="AutoShape 50"/>
            <p:cNvSpPr/>
            <p:nvPr/>
          </p:nvSpPr>
          <p:spPr>
            <a:xfrm>
              <a:off x="506520" y="2362320"/>
              <a:ext cx="17676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6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sp>
          <p:nvSpPr>
            <p:cNvPr id="207" name="Text Box 51"/>
            <p:cNvSpPr/>
            <p:nvPr/>
          </p:nvSpPr>
          <p:spPr>
            <a:xfrm>
              <a:off x="152280" y="2666880"/>
              <a:ext cx="168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唐古拉山脉</a:t>
              </a:r>
              <a:endParaRPr b="0" lang="en-US" sz="2000" spc="-1" strike="noStrike">
                <a:solidFill>
                  <a:srgbClr val="009999"/>
                </a:solidFill>
                <a:latin typeface="黑体"/>
              </a:endParaRPr>
            </a:p>
          </p:txBody>
        </p:sp>
      </p:grpSp>
      <p:sp>
        <p:nvSpPr>
          <p:cNvPr id="208" name="Text Box 52"/>
          <p:cNvSpPr/>
          <p:nvPr/>
        </p:nvSpPr>
        <p:spPr>
          <a:xfrm>
            <a:off x="8536320" y="2608200"/>
            <a:ext cx="4852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</a:t>
            </a:r>
            <a:endParaRPr b="0" lang="en-US" sz="20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09" name="Freeform 53"/>
          <p:cNvSpPr/>
          <p:nvPr/>
        </p:nvSpPr>
        <p:spPr>
          <a:xfrm>
            <a:off x="8454960" y="5425920"/>
            <a:ext cx="346320" cy="376560"/>
          </a:xfrm>
          <a:custGeom>
            <a:avLst/>
            <a:gdLst/>
            <a:ahLst/>
            <a:rect l="l" t="t" r="r" b="b"/>
            <a:pathLst>
              <a:path w="218" h="237">
                <a:moveTo>
                  <a:pt x="0" y="228"/>
                </a:moveTo>
                <a:cubicBezTo>
                  <a:pt x="8" y="196"/>
                  <a:pt x="15" y="162"/>
                  <a:pt x="30" y="132"/>
                </a:cubicBezTo>
                <a:cubicBezTo>
                  <a:pt x="41" y="110"/>
                  <a:pt x="67" y="79"/>
                  <a:pt x="81" y="60"/>
                </a:cubicBezTo>
                <a:cubicBezTo>
                  <a:pt x="92" y="46"/>
                  <a:pt x="99" y="30"/>
                  <a:pt x="117" y="24"/>
                </a:cubicBezTo>
                <a:cubicBezTo>
                  <a:pt x="128" y="16"/>
                  <a:pt x="133" y="7"/>
                  <a:pt x="144" y="0"/>
                </a:cubicBezTo>
                <a:cubicBezTo>
                  <a:pt x="168" y="5"/>
                  <a:pt x="156" y="16"/>
                  <a:pt x="174" y="18"/>
                </a:cubicBezTo>
                <a:cubicBezTo>
                  <a:pt x="218" y="23"/>
                  <a:pt x="216" y="7"/>
                  <a:pt x="216" y="27"/>
                </a:cubicBezTo>
                <a:lnTo>
                  <a:pt x="216" y="237"/>
                </a:lnTo>
                <a:lnTo>
                  <a:pt x="24" y="237"/>
                </a:lnTo>
              </a:path>
            </a:pathLst>
          </a:custGeom>
          <a:solidFill>
            <a:srgbClr val="0000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10" name="Picture 23" descr="复件 思考"/>
          <p:cNvPicPr/>
          <p:nvPr/>
        </p:nvPicPr>
        <p:blipFill>
          <a:blip r:embed="rId2"/>
          <a:stretch/>
        </p:blipFill>
        <p:spPr>
          <a:xfrm>
            <a:off x="179280" y="228600"/>
            <a:ext cx="965160" cy="752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-33480" y="0"/>
            <a:ext cx="9140760" cy="6857640"/>
            <a:chOff x="-33480" y="0"/>
            <a:chExt cx="9140760" cy="6857640"/>
          </a:xfrm>
        </p:grpSpPr>
        <p:sp>
          <p:nvSpPr>
            <p:cNvPr id="212" name="Rectangle 13"/>
            <p:cNvSpPr/>
            <p:nvPr/>
          </p:nvSpPr>
          <p:spPr>
            <a:xfrm>
              <a:off x="-33480" y="0"/>
              <a:ext cx="914076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pic>
          <p:nvPicPr>
            <p:cNvPr id="213" name="Picture 11" descr="1长江之歌01"/>
            <p:cNvPicPr/>
            <p:nvPr/>
          </p:nvPicPr>
          <p:blipFill>
            <a:blip r:embed="rId1"/>
            <a:stretch/>
          </p:blipFill>
          <p:spPr>
            <a:xfrm>
              <a:off x="-33480" y="0"/>
              <a:ext cx="91407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5" descr="20070509092651617"/>
            <p:cNvPicPr/>
            <p:nvPr/>
          </p:nvPicPr>
          <p:blipFill>
            <a:blip r:embed="rId2"/>
            <a:stretch/>
          </p:blipFill>
          <p:spPr>
            <a:xfrm>
              <a:off x="45360" y="5363280"/>
              <a:ext cx="1094760" cy="13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Text Box 18"/>
          <p:cNvSpPr/>
          <p:nvPr/>
        </p:nvSpPr>
        <p:spPr>
          <a:xfrm>
            <a:off x="1116000" y="1557360"/>
            <a:ext cx="716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50920" y="1143000"/>
            <a:ext cx="8713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长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我国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大河。发源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青藏高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上的唐古拉山脉，流经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青海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西藏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四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云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重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湖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湖南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西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安徽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苏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上海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1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个省、市、自治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，注入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东海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，河流全长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多千米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是一条名符其实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长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为世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三大河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在世界大河中长度仅次于非洲的尼罗河和南美洲的亚马逊河。但尼罗河流域跨非洲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9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国，亚马孙河流域跨南美洲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7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国，长江则为中国所独有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17" name="Picture 23" descr="复件 思考"/>
          <p:cNvPicPr/>
          <p:nvPr/>
        </p:nvPicPr>
        <p:blipFill>
          <a:blip r:embed="rId3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19" name="图片 3" descr=""/>
          <p:cNvPicPr/>
          <p:nvPr/>
        </p:nvPicPr>
        <p:blipFill>
          <a:blip r:embed="rId4"/>
          <a:stretch/>
        </p:blipFill>
        <p:spPr>
          <a:xfrm>
            <a:off x="4965840" y="4873680"/>
            <a:ext cx="324792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33480" y="0"/>
            <a:ext cx="9140760" cy="6857640"/>
            <a:chOff x="-33480" y="0"/>
            <a:chExt cx="9140760" cy="6857640"/>
          </a:xfrm>
        </p:grpSpPr>
        <p:sp>
          <p:nvSpPr>
            <p:cNvPr id="221" name="Rectangle 13"/>
            <p:cNvSpPr/>
            <p:nvPr/>
          </p:nvSpPr>
          <p:spPr>
            <a:xfrm>
              <a:off x="-33480" y="0"/>
              <a:ext cx="914076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9999"/>
                </a:solidFill>
                <a:latin typeface="黑体"/>
              </a:endParaRPr>
            </a:p>
          </p:txBody>
        </p:sp>
        <p:pic>
          <p:nvPicPr>
            <p:cNvPr id="222" name="Picture 11" descr="1长江之歌01"/>
            <p:cNvPicPr/>
            <p:nvPr/>
          </p:nvPicPr>
          <p:blipFill>
            <a:blip r:embed="rId1"/>
            <a:stretch/>
          </p:blipFill>
          <p:spPr>
            <a:xfrm>
              <a:off x="-33480" y="0"/>
              <a:ext cx="91407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5" descr="20070509092651617"/>
            <p:cNvPicPr/>
            <p:nvPr/>
          </p:nvPicPr>
          <p:blipFill>
            <a:blip r:embed="rId2"/>
            <a:stretch/>
          </p:blipFill>
          <p:spPr>
            <a:xfrm>
              <a:off x="45360" y="5363280"/>
              <a:ext cx="1094760" cy="13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Text Box 18"/>
          <p:cNvSpPr/>
          <p:nvPr/>
        </p:nvSpPr>
        <p:spPr>
          <a:xfrm>
            <a:off x="1116000" y="1557360"/>
            <a:ext cx="716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134136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长江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是我国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大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发源于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上的唐古拉山脉，流经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　　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1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个省、市、自治区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注入　　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河流全长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多千米，是一条名符其实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长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，为世界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黑体"/>
              </a:rPr>
              <a:t>　　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大河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。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26" name="Picture 23" descr="复件 思考"/>
          <p:cNvPicPr/>
          <p:nvPr/>
        </p:nvPicPr>
        <p:blipFill>
          <a:blip r:embed="rId3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28" name="图片 3" descr=""/>
          <p:cNvPicPr/>
          <p:nvPr/>
        </p:nvPicPr>
        <p:blipFill>
          <a:blip r:embed="rId4"/>
          <a:stretch/>
        </p:blipFill>
        <p:spPr>
          <a:xfrm>
            <a:off x="4965840" y="4378320"/>
            <a:ext cx="3247920" cy="30924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" descr=""/>
          <p:cNvPicPr/>
          <p:nvPr/>
        </p:nvPicPr>
        <p:blipFill>
          <a:blip r:embed="rId5"/>
          <a:stretch/>
        </p:blipFill>
        <p:spPr>
          <a:xfrm>
            <a:off x="855720" y="4375080"/>
            <a:ext cx="3333600" cy="3062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5"/>
          <p:cNvSpPr/>
          <p:nvPr/>
        </p:nvSpPr>
        <p:spPr>
          <a:xfrm>
            <a:off x="2124000" y="148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一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32360" y="1531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青藏高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82692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青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183528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西藏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3059280" y="2133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四川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28472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云南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550872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重庆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673272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湖北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7956720" y="2133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湖南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24000" y="26845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西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1547640" y="2684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安徽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2771640" y="2684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江苏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4068720" y="2684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上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324000" y="31878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东海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2914560" y="3141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63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0</a:t>
            </a:r>
            <a:endParaRPr b="0" lang="en-US" sz="2800" spc="-1" strike="noStrike">
              <a:solidFill>
                <a:srgbClr val="009999"/>
              </a:solidFill>
              <a:latin typeface="黑体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75564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第三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长江上游最大的城市——重庆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989520" y="6272280"/>
            <a:ext cx="10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雪山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48" name="Picture 23" descr="复件 思考"/>
          <p:cNvPicPr/>
          <p:nvPr/>
        </p:nvPicPr>
        <p:blipFill>
          <a:blip r:embed="rId2"/>
          <a:stretch/>
        </p:blipFill>
        <p:spPr>
          <a:xfrm>
            <a:off x="179280" y="1159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23"/>
          <p:cNvSpPr/>
          <p:nvPr/>
        </p:nvSpPr>
        <p:spPr>
          <a:xfrm>
            <a:off x="10429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了解长江</a:t>
            </a:r>
            <a:endParaRPr b="0" lang="en-US" sz="2400" spc="-1" strike="noStrike">
              <a:solidFill>
                <a:srgbClr val="009999"/>
              </a:solidFill>
              <a:latin typeface="黑体"/>
            </a:endParaRPr>
          </a:p>
        </p:txBody>
      </p:sp>
      <p:pic>
        <p:nvPicPr>
          <p:cNvPr id="250" name="Picture 6" descr="长江中游最大的城市——武汉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403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20080401144544013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8:57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7:57Z</dcterms:modified>
  <cp:revision>8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