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8.gif" ContentType="image/gif"/>
  <Override PartName="/ppt/media/image18.jpeg" ContentType="image/jpeg"/>
  <Override PartName="/ppt/media/image26.jpeg" ContentType="image/jpeg"/>
  <Override PartName="/ppt/media/image32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17.wmf" ContentType="image/x-wmf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7.gif" ContentType="image/gif"/>
  <Override PartName="/ppt/media/image2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3C3E-1D98-465E-ABEA-5DD1F7F0F7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3BD-5497-4B87-BF03-51379A06AB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6C1-29AA-463F-A567-17091160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572-817B-457D-AF75-9E2A89F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DA4-CA37-4B08-8586-06C52649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E3C-B8AC-46DE-84F2-251F6C85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848-434F-4818-804E-6DD371D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95D-D2A0-4206-8323-E92A542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379-FE38-4E4A-A09C-B906EC61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9D0-31BC-426E-8E0F-0676B345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1FA-B138-4739-B250-B7013E17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936-5B3D-4FB3-A407-60F5CA57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5CB-134D-4481-A5A1-76619D4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1DB-2B53-4092-9C91-B8DD3A2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07DE-206C-4507-8971-444393901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6.gif"/><Relationship Id="rId5" Type="http://schemas.openxmlformats.org/officeDocument/2006/relationships/slide" Target="slide6.xml"/><Relationship Id="rId6" Type="http://schemas.openxmlformats.org/officeDocument/2006/relationships/image" Target="../media/image7.gif"/><Relationship Id="rId7" Type="http://schemas.openxmlformats.org/officeDocument/2006/relationships/slide" Target="slide15.xml"/><Relationship Id="rId8" Type="http://schemas.openxmlformats.org/officeDocument/2006/relationships/image" Target="../media/image8.gif"/><Relationship Id="rId9" Type="http://schemas.openxmlformats.org/officeDocument/2006/relationships/slide" Target="slide18.xml"/><Relationship Id="rId10" Type="http://schemas.openxmlformats.org/officeDocument/2006/relationships/image" Target="../media/image9.gif"/><Relationship Id="rId11" Type="http://schemas.openxmlformats.org/officeDocument/2006/relationships/slide" Target="slide27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69025_1558313473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905120" y="1771560"/>
            <a:ext cx="533376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春日晨景</a:t>
            </a:r>
            <a:endParaRPr b="1" lang="en-US" sz="5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8" descr=""/>
          <p:cNvPicPr/>
          <p:nvPr/>
        </p:nvPicPr>
        <p:blipFill>
          <a:blip r:embed="rId2"/>
          <a:stretch/>
        </p:blipFill>
        <p:spPr>
          <a:xfrm>
            <a:off x="1736640" y="5562720"/>
            <a:ext cx="640080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e4dde71190ef76c6690e76ab9d16fdfaae51f3deb58f476e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DefaultOcx" descr=""/>
          <p:cNvPicPr/>
          <p:nvPr/>
        </p:nvPicPr>
        <p:blipFill>
          <a:blip r:embed="rId2"/>
          <a:stretch/>
        </p:blipFill>
        <p:spPr>
          <a:xfrm>
            <a:off x="-469800" y="-560520"/>
            <a:ext cx="914400" cy="228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50735fae6cd7b897bc4f5070f2442a7d833c895d0432e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DefaultOcx" descr=""/>
          <p:cNvPicPr/>
          <p:nvPr/>
        </p:nvPicPr>
        <p:blipFill>
          <a:blip r:embed="rId2"/>
          <a:stretch/>
        </p:blipFill>
        <p:spPr>
          <a:xfrm>
            <a:off x="-469800" y="101520"/>
            <a:ext cx="914400" cy="228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457331_110143876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3520" y="5334120"/>
            <a:ext cx="61722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一园细雨杏花红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70317205610471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杏花1"/>
          <p:cNvPicPr/>
          <p:nvPr/>
        </p:nvPicPr>
        <p:blipFill>
          <a:blip r:embed="rId2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杨柳"/>
          <p:cNvPicPr/>
          <p:nvPr/>
        </p:nvPicPr>
        <p:blipFill>
          <a:blip r:embed="rId3"/>
          <a:stretch/>
        </p:blipFill>
        <p:spPr>
          <a:xfrm>
            <a:off x="0" y="0"/>
            <a:ext cx="4716360" cy="3446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4716360" y="220500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轻烟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杨柳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963400" y="378936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园细雨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杏花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>
            <a:hlinkClick r:id="rId4" action="ppaction://hlinksldjump"/>
          </p:cNvPr>
          <p:cNvSpPr/>
          <p:nvPr/>
        </p:nvSpPr>
        <p:spPr>
          <a:xfrm>
            <a:off x="7812000" y="5950080"/>
            <a:ext cx="1332000" cy="907920"/>
          </a:xfrm>
          <a:custGeom>
            <a:avLst/>
            <a:gdLst>
              <a:gd name="textAreaLeft" fmla="*/ 58680 w 1332000"/>
              <a:gd name="textAreaRight" fmla="*/ 1273320 w 1332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85" h="21600">
                <a:moveTo>
                  <a:pt x="0" y="0"/>
                </a:moveTo>
                <a:lnTo>
                  <a:pt x="31685" y="0"/>
                </a:lnTo>
                <a:lnTo>
                  <a:pt x="31685" y="21600"/>
                </a:lnTo>
                <a:lnTo>
                  <a:pt x="0" y="21600"/>
                </a:lnTo>
                <a:close/>
              </a:path>
              <a:path fill="lightenLess" w="31685" h="21600">
                <a:moveTo>
                  <a:pt x="0" y="0"/>
                </a:moveTo>
                <a:lnTo>
                  <a:pt x="31685" y="0"/>
                </a:lnTo>
                <a:lnTo>
                  <a:pt x="30285" y="1400"/>
                </a:lnTo>
                <a:lnTo>
                  <a:pt x="1400" y="1400"/>
                </a:lnTo>
                <a:close/>
              </a:path>
              <a:path fill="darken" w="31685" h="21600">
                <a:moveTo>
                  <a:pt x="31685" y="0"/>
                </a:moveTo>
                <a:lnTo>
                  <a:pt x="31685" y="21600"/>
                </a:lnTo>
                <a:lnTo>
                  <a:pt x="30285" y="20200"/>
                </a:lnTo>
                <a:lnTo>
                  <a:pt x="30285" y="1400"/>
                </a:lnTo>
                <a:close/>
              </a:path>
              <a:path fill="darkenLess" w="31685" h="21600">
                <a:moveTo>
                  <a:pt x="3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5" y="20200"/>
                </a:lnTo>
                <a:close/>
              </a:path>
              <a:path fill="lighten" w="3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5" h="21600">
                <a:moveTo>
                  <a:pt x="8836" y="3794"/>
                </a:moveTo>
                <a:lnTo>
                  <a:pt x="22849" y="10800"/>
                </a:lnTo>
                <a:lnTo>
                  <a:pt x="88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04040" y="594360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4211640" cy="3649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3e58e69507769022d31b703e"/>
          <p:cNvPicPr/>
          <p:nvPr/>
        </p:nvPicPr>
        <p:blipFill>
          <a:blip r:embed="rId2"/>
          <a:stretch/>
        </p:blipFill>
        <p:spPr>
          <a:xfrm>
            <a:off x="4356000" y="0"/>
            <a:ext cx="4594320" cy="364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xin_2503060209461253214216"/>
          <p:cNvPicPr/>
          <p:nvPr/>
        </p:nvPicPr>
        <p:blipFill>
          <a:blip r:embed="rId3"/>
          <a:stretch/>
        </p:blipFill>
        <p:spPr>
          <a:xfrm>
            <a:off x="4572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图片2"/>
          <p:cNvPicPr/>
          <p:nvPr/>
        </p:nvPicPr>
        <p:blipFill>
          <a:blip r:embed="rId4"/>
          <a:stretch/>
        </p:blipFill>
        <p:spPr>
          <a:xfrm>
            <a:off x="17928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清晨.mp3" descr=""/>
          <p:cNvPicPr/>
          <p:nvPr/>
        </p:nvPicPr>
        <p:blipFill>
          <a:blip r:embed="rId5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07k04"/>
          <p:cNvPicPr/>
          <p:nvPr/>
        </p:nvPicPr>
        <p:blipFill>
          <a:blip r:embed="rId1"/>
          <a:stretch/>
        </p:blipFill>
        <p:spPr>
          <a:xfrm>
            <a:off x="4643280" y="260280"/>
            <a:ext cx="4140360" cy="595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C20090403140258390"/>
          <p:cNvPicPr/>
          <p:nvPr/>
        </p:nvPicPr>
        <p:blipFill>
          <a:blip r:embed="rId2"/>
          <a:stretch/>
        </p:blipFill>
        <p:spPr>
          <a:xfrm>
            <a:off x="179280" y="260280"/>
            <a:ext cx="4138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2012011411274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600200" y="1828800"/>
            <a:ext cx="61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堂前住燕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篱下飞鸣虫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m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31120" y="6095880"/>
            <a:ext cx="6350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2012011410570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209680" y="1828800"/>
            <a:ext cx="669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新荷浮水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层层碧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小草漫坡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片片青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3168_1311481799cCDR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7" descr="d73d4cd103f22ecf562c8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908000" y="53352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9 </a:t>
            </a: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日晨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788000" y="1984320"/>
            <a:ext cx="4968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堂前住燕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篱下飞鸣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新荷浮水层层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小草漫坡片片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984320"/>
            <a:ext cx="5184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五更天欲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三月春渐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两岸轻烟杨柳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园细雨杏花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rId2" action="ppaction://hlinksldjump"/>
          </p:cNvPr>
          <p:cNvSpPr/>
          <p:nvPr/>
        </p:nvSpPr>
        <p:spPr>
          <a:xfrm>
            <a:off x="7812000" y="5950080"/>
            <a:ext cx="1332000" cy="907920"/>
          </a:xfrm>
          <a:custGeom>
            <a:avLst/>
            <a:gdLst>
              <a:gd name="textAreaLeft" fmla="*/ 58680 w 1332000"/>
              <a:gd name="textAreaRight" fmla="*/ 1273320 w 1332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85" h="21600">
                <a:moveTo>
                  <a:pt x="0" y="0"/>
                </a:moveTo>
                <a:lnTo>
                  <a:pt x="31685" y="0"/>
                </a:lnTo>
                <a:lnTo>
                  <a:pt x="31685" y="21600"/>
                </a:lnTo>
                <a:lnTo>
                  <a:pt x="0" y="21600"/>
                </a:lnTo>
                <a:close/>
              </a:path>
              <a:path fill="lightenLess" w="31685" h="21600">
                <a:moveTo>
                  <a:pt x="0" y="0"/>
                </a:moveTo>
                <a:lnTo>
                  <a:pt x="31685" y="0"/>
                </a:lnTo>
                <a:lnTo>
                  <a:pt x="30285" y="1400"/>
                </a:lnTo>
                <a:lnTo>
                  <a:pt x="1400" y="1400"/>
                </a:lnTo>
                <a:close/>
              </a:path>
              <a:path fill="darken" w="31685" h="21600">
                <a:moveTo>
                  <a:pt x="31685" y="0"/>
                </a:moveTo>
                <a:lnTo>
                  <a:pt x="31685" y="21600"/>
                </a:lnTo>
                <a:lnTo>
                  <a:pt x="30285" y="20200"/>
                </a:lnTo>
                <a:lnTo>
                  <a:pt x="30285" y="1400"/>
                </a:lnTo>
                <a:close/>
              </a:path>
              <a:path fill="darkenLess" w="31685" h="21600">
                <a:moveTo>
                  <a:pt x="3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5" y="20200"/>
                </a:lnTo>
                <a:close/>
              </a:path>
              <a:path fill="lighten" w="3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5" h="21600">
                <a:moveTo>
                  <a:pt x="8836" y="3794"/>
                </a:moveTo>
                <a:lnTo>
                  <a:pt x="22849" y="10800"/>
                </a:lnTo>
                <a:lnTo>
                  <a:pt x="88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6946593_14533542810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6946593_14571750813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8300542_001531939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q%e6%88%aa%e5%9b%be%e6%9c%aa%e5%91%bd%e5%90%8d%2832%29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4190714_09583553512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2468488_16461626333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2012032915081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09680" y="1828800"/>
            <a:ext cx="669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新荷浮水层层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小草漫坡片片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m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04040" y="594360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73d4cd103f22ecf562c8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908000" y="53352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9 </a:t>
            </a: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日晨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788000" y="1984320"/>
            <a:ext cx="4968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堂前住燕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篱下飞鸣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新荷浮水层层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小草漫坡片片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0920" y="1984320"/>
            <a:ext cx="5184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五更天欲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三月春渐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两岸轻烟杨柳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园细雨杏花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>
            <a:hlinkClick r:id="rId2" action="ppaction://hlinksldjump"/>
          </p:cNvPr>
          <p:cNvSpPr/>
          <p:nvPr/>
        </p:nvSpPr>
        <p:spPr>
          <a:xfrm>
            <a:off x="7812000" y="5950080"/>
            <a:ext cx="1332000" cy="907920"/>
          </a:xfrm>
          <a:custGeom>
            <a:avLst/>
            <a:gdLst>
              <a:gd name="textAreaLeft" fmla="*/ 58680 w 1332000"/>
              <a:gd name="textAreaRight" fmla="*/ 1273320 w 1332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85" h="21600">
                <a:moveTo>
                  <a:pt x="0" y="0"/>
                </a:moveTo>
                <a:lnTo>
                  <a:pt x="31685" y="0"/>
                </a:lnTo>
                <a:lnTo>
                  <a:pt x="31685" y="21600"/>
                </a:lnTo>
                <a:lnTo>
                  <a:pt x="0" y="21600"/>
                </a:lnTo>
                <a:close/>
              </a:path>
              <a:path fill="lightenLess" w="31685" h="21600">
                <a:moveTo>
                  <a:pt x="0" y="0"/>
                </a:moveTo>
                <a:lnTo>
                  <a:pt x="31685" y="0"/>
                </a:lnTo>
                <a:lnTo>
                  <a:pt x="30285" y="1400"/>
                </a:lnTo>
                <a:lnTo>
                  <a:pt x="1400" y="1400"/>
                </a:lnTo>
                <a:close/>
              </a:path>
              <a:path fill="darken" w="31685" h="21600">
                <a:moveTo>
                  <a:pt x="31685" y="0"/>
                </a:moveTo>
                <a:lnTo>
                  <a:pt x="31685" y="21600"/>
                </a:lnTo>
                <a:lnTo>
                  <a:pt x="30285" y="20200"/>
                </a:lnTo>
                <a:lnTo>
                  <a:pt x="30285" y="1400"/>
                </a:lnTo>
                <a:close/>
              </a:path>
              <a:path fill="darkenLess" w="31685" h="21600">
                <a:moveTo>
                  <a:pt x="3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5" y="20200"/>
                </a:lnTo>
                <a:close/>
              </a:path>
              <a:path fill="lighten" w="3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5" h="21600">
                <a:moveTo>
                  <a:pt x="8836" y="3794"/>
                </a:moveTo>
                <a:lnTo>
                  <a:pt x="22849" y="10800"/>
                </a:lnTo>
                <a:lnTo>
                  <a:pt x="88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1117862_114108985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981080" y="609480"/>
            <a:ext cx="6121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春日晨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五更天欲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057400" y="3809880"/>
            <a:ext cx="61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三月春渐浓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>
            <a:hlinkClick r:id="rId2" action="ppaction://hlinksldjump"/>
          </p:cNvPr>
          <p:cNvSpPr/>
          <p:nvPr/>
        </p:nvSpPr>
        <p:spPr>
          <a:xfrm>
            <a:off x="6877080" y="5589720"/>
            <a:ext cx="2519280" cy="1268280"/>
          </a:xfrm>
          <a:custGeom>
            <a:avLst/>
            <a:gdLst>
              <a:gd name="textAreaLeft" fmla="*/ 82080 w 2519280"/>
              <a:gd name="textAreaRight" fmla="*/ 2437200 w 251928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42900" h="21600">
                <a:moveTo>
                  <a:pt x="0" y="0"/>
                </a:moveTo>
                <a:lnTo>
                  <a:pt x="42900" y="0"/>
                </a:lnTo>
                <a:lnTo>
                  <a:pt x="42900" y="21600"/>
                </a:lnTo>
                <a:lnTo>
                  <a:pt x="0" y="21600"/>
                </a:lnTo>
                <a:close/>
              </a:path>
              <a:path fill="lightenLess" w="42900" h="21600">
                <a:moveTo>
                  <a:pt x="0" y="0"/>
                </a:moveTo>
                <a:lnTo>
                  <a:pt x="42900" y="0"/>
                </a:lnTo>
                <a:lnTo>
                  <a:pt x="41500" y="1400"/>
                </a:lnTo>
                <a:lnTo>
                  <a:pt x="1400" y="1400"/>
                </a:lnTo>
                <a:close/>
              </a:path>
              <a:path fill="darken" w="42900" h="21600">
                <a:moveTo>
                  <a:pt x="42900" y="0"/>
                </a:moveTo>
                <a:lnTo>
                  <a:pt x="42900" y="21600"/>
                </a:lnTo>
                <a:lnTo>
                  <a:pt x="41500" y="20200"/>
                </a:lnTo>
                <a:lnTo>
                  <a:pt x="41500" y="1400"/>
                </a:lnTo>
                <a:close/>
              </a:path>
              <a:path fill="darkenLess" w="42900" h="21600">
                <a:moveTo>
                  <a:pt x="4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00" y="20200"/>
                </a:lnTo>
                <a:close/>
              </a:path>
              <a:path fill="lighten" w="4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00" h="21600">
                <a:moveTo>
                  <a:pt x="14443" y="3794"/>
                </a:moveTo>
                <a:lnTo>
                  <a:pt x="28456" y="10800"/>
                </a:lnTo>
                <a:lnTo>
                  <a:pt x="144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清晨.mp3" descr=""/>
          <p:cNvPicPr/>
          <p:nvPr/>
        </p:nvPicPr>
        <p:blipFill>
          <a:blip r:embed="rId3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2012032915081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杏花1"/>
          <p:cNvPicPr/>
          <p:nvPr/>
        </p:nvPicPr>
        <p:blipFill>
          <a:blip r:embed="rId2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杨柳"/>
          <p:cNvPicPr/>
          <p:nvPr/>
        </p:nvPicPr>
        <p:blipFill>
          <a:blip r:embed="rId3"/>
          <a:stretch/>
        </p:blipFill>
        <p:spPr>
          <a:xfrm>
            <a:off x="0" y="0"/>
            <a:ext cx="4716360" cy="3446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4724280" y="144792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轻烟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杨柳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963400" y="457200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园细雨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杏花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rId4" action="ppaction://hlinksldjump"/>
          </p:cNvPr>
          <p:cNvSpPr/>
          <p:nvPr/>
        </p:nvSpPr>
        <p:spPr>
          <a:xfrm>
            <a:off x="7812000" y="5950080"/>
            <a:ext cx="1332000" cy="907920"/>
          </a:xfrm>
          <a:custGeom>
            <a:avLst/>
            <a:gdLst>
              <a:gd name="textAreaLeft" fmla="*/ 58680 w 1332000"/>
              <a:gd name="textAreaRight" fmla="*/ 1273320 w 1332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85" h="21600">
                <a:moveTo>
                  <a:pt x="0" y="0"/>
                </a:moveTo>
                <a:lnTo>
                  <a:pt x="31685" y="0"/>
                </a:lnTo>
                <a:lnTo>
                  <a:pt x="31685" y="21600"/>
                </a:lnTo>
                <a:lnTo>
                  <a:pt x="0" y="21600"/>
                </a:lnTo>
                <a:close/>
              </a:path>
              <a:path fill="lightenLess" w="31685" h="21600">
                <a:moveTo>
                  <a:pt x="0" y="0"/>
                </a:moveTo>
                <a:lnTo>
                  <a:pt x="31685" y="0"/>
                </a:lnTo>
                <a:lnTo>
                  <a:pt x="30285" y="1400"/>
                </a:lnTo>
                <a:lnTo>
                  <a:pt x="1400" y="1400"/>
                </a:lnTo>
                <a:close/>
              </a:path>
              <a:path fill="darken" w="31685" h="21600">
                <a:moveTo>
                  <a:pt x="31685" y="0"/>
                </a:moveTo>
                <a:lnTo>
                  <a:pt x="31685" y="21600"/>
                </a:lnTo>
                <a:lnTo>
                  <a:pt x="30285" y="20200"/>
                </a:lnTo>
                <a:lnTo>
                  <a:pt x="30285" y="1400"/>
                </a:lnTo>
                <a:close/>
              </a:path>
              <a:path fill="darkenLess" w="31685" h="21600">
                <a:moveTo>
                  <a:pt x="3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5" y="20200"/>
                </a:lnTo>
                <a:close/>
              </a:path>
              <a:path fill="lighten" w="3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5" h="21600">
                <a:moveTo>
                  <a:pt x="8836" y="3794"/>
                </a:moveTo>
                <a:lnTo>
                  <a:pt x="22849" y="10800"/>
                </a:lnTo>
                <a:lnTo>
                  <a:pt x="88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73d4cd103f22ecf562c8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908000" y="53352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9 </a:t>
            </a: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春日晨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788000" y="1984320"/>
            <a:ext cx="4968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堂前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燕子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篱下飞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鸣虫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新荷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浮水层层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草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漫坡片片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1984320"/>
            <a:ext cx="5184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五更天欲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三月春渐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两岸轻烟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杨柳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园细雨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杏花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>
            <a:hlinkClick r:id="rId2" action="ppaction://hlinksldjump"/>
          </p:cNvPr>
          <p:cNvSpPr/>
          <p:nvPr/>
        </p:nvSpPr>
        <p:spPr>
          <a:xfrm>
            <a:off x="7812000" y="5950080"/>
            <a:ext cx="1332000" cy="907920"/>
          </a:xfrm>
          <a:custGeom>
            <a:avLst/>
            <a:gdLst>
              <a:gd name="textAreaLeft" fmla="*/ 58680 w 1332000"/>
              <a:gd name="textAreaRight" fmla="*/ 1273320 w 1332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1685" h="21600">
                <a:moveTo>
                  <a:pt x="0" y="0"/>
                </a:moveTo>
                <a:lnTo>
                  <a:pt x="31685" y="0"/>
                </a:lnTo>
                <a:lnTo>
                  <a:pt x="31685" y="21600"/>
                </a:lnTo>
                <a:lnTo>
                  <a:pt x="0" y="21600"/>
                </a:lnTo>
                <a:close/>
              </a:path>
              <a:path fill="lightenLess" w="31685" h="21600">
                <a:moveTo>
                  <a:pt x="0" y="0"/>
                </a:moveTo>
                <a:lnTo>
                  <a:pt x="31685" y="0"/>
                </a:lnTo>
                <a:lnTo>
                  <a:pt x="30285" y="1400"/>
                </a:lnTo>
                <a:lnTo>
                  <a:pt x="1400" y="1400"/>
                </a:lnTo>
                <a:close/>
              </a:path>
              <a:path fill="darken" w="31685" h="21600">
                <a:moveTo>
                  <a:pt x="31685" y="0"/>
                </a:moveTo>
                <a:lnTo>
                  <a:pt x="31685" y="21600"/>
                </a:lnTo>
                <a:lnTo>
                  <a:pt x="30285" y="20200"/>
                </a:lnTo>
                <a:lnTo>
                  <a:pt x="30285" y="1400"/>
                </a:lnTo>
                <a:close/>
              </a:path>
              <a:path fill="darkenLess" w="31685" h="21600">
                <a:moveTo>
                  <a:pt x="3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85" y="20200"/>
                </a:lnTo>
                <a:close/>
              </a:path>
              <a:path fill="lighten" w="3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85" h="21600">
                <a:moveTo>
                  <a:pt x="8836" y="3794"/>
                </a:moveTo>
                <a:lnTo>
                  <a:pt x="22849" y="10800"/>
                </a:lnTo>
                <a:lnTo>
                  <a:pt x="88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2012032915081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4267080" y="1752480"/>
            <a:ext cx="5791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堂前住燕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篱下飞鸣虫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4211640" cy="364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xin_2503060209461253214216"/>
          <p:cNvPicPr/>
          <p:nvPr/>
        </p:nvPicPr>
        <p:blipFill>
          <a:blip r:embed="rId3"/>
          <a:stretch/>
        </p:blipFill>
        <p:spPr>
          <a:xfrm>
            <a:off x="0" y="3505320"/>
            <a:ext cx="424800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1"/>
          <p:cNvSpPr/>
          <p:nvPr/>
        </p:nvSpPr>
        <p:spPr>
          <a:xfrm>
            <a:off x="2633760" y="608796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2012032915081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3962520" y="2514600"/>
            <a:ext cx="669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新荷浮水层层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小草漫坡片片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2687926_092412000_2"/>
          <p:cNvPicPr/>
          <p:nvPr/>
        </p:nvPicPr>
        <p:blipFill>
          <a:blip r:embed="rId2"/>
          <a:stretch/>
        </p:blipFill>
        <p:spPr>
          <a:xfrm>
            <a:off x="0" y="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04ceae90t81453af43a6d&amp;690"/>
          <p:cNvPicPr/>
          <p:nvPr/>
        </p:nvPicPr>
        <p:blipFill>
          <a:blip r:embed="rId3"/>
          <a:stretch/>
        </p:blipFill>
        <p:spPr>
          <a:xfrm>
            <a:off x="0" y="3860640"/>
            <a:ext cx="40384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2012011411274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62120" y="1828800"/>
            <a:ext cx="76960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下搜集两首描写春天的诗句整理在采蜜集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一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日晨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配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中的笔写一写现在身边的美景，并配上图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523880" y="685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娃娃篆"/>
              </a:rPr>
              <a:t>作业自选超市（三选一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N_183"/>
          <p:cNvPicPr/>
          <p:nvPr/>
        </p:nvPicPr>
        <p:blipFill>
          <a:blip r:embed="rId2"/>
          <a:stretch/>
        </p:blipFill>
        <p:spPr>
          <a:xfrm>
            <a:off x="457200" y="609480"/>
            <a:ext cx="990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D1D-E133-4899-B0CA-C9C15A923B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2012032915081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迷你简娃娃篆"/>
              </a:rPr>
              <a:t>中心话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N_183"/>
          <p:cNvPicPr/>
          <p:nvPr/>
        </p:nvPicPr>
        <p:blipFill>
          <a:blip r:embed="rId2"/>
          <a:stretch/>
        </p:blipFill>
        <p:spPr>
          <a:xfrm>
            <a:off x="1066680" y="762120"/>
            <a:ext cx="990720" cy="93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371600" y="1828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读课文，把你感觉最美的句子多读几遍，边读边想你仿佛看到了什么？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m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9320" y="5029200"/>
            <a:ext cx="1131840" cy="135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udi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343400" y="5181480"/>
            <a:ext cx="99072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m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38680" y="5791320"/>
            <a:ext cx="739800" cy="88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20085182041340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629400" y="5334120"/>
            <a:ext cx="68580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200811710630967_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772400" y="5715000"/>
            <a:ext cx="10666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9"/>
          <p:cNvSpPr/>
          <p:nvPr/>
        </p:nvSpPr>
        <p:spPr>
          <a:xfrm>
            <a:off x="1143000" y="191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11117862_114108985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90920" y="1447920"/>
            <a:ext cx="6121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五更天欲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590920" y="2895480"/>
            <a:ext cx="61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三月春渐浓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>
            <a:hlinkClick r:id="rId2" action="ppaction://hlinksldjump"/>
          </p:cNvPr>
          <p:cNvSpPr/>
          <p:nvPr/>
        </p:nvSpPr>
        <p:spPr>
          <a:xfrm>
            <a:off x="6877080" y="5589720"/>
            <a:ext cx="2519280" cy="1268280"/>
          </a:xfrm>
          <a:custGeom>
            <a:avLst/>
            <a:gdLst>
              <a:gd name="textAreaLeft" fmla="*/ 82080 w 2519280"/>
              <a:gd name="textAreaRight" fmla="*/ 2437200 w 251928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42900" h="21600">
                <a:moveTo>
                  <a:pt x="0" y="0"/>
                </a:moveTo>
                <a:lnTo>
                  <a:pt x="42900" y="0"/>
                </a:lnTo>
                <a:lnTo>
                  <a:pt x="42900" y="21600"/>
                </a:lnTo>
                <a:lnTo>
                  <a:pt x="0" y="21600"/>
                </a:lnTo>
                <a:close/>
              </a:path>
              <a:path fill="lightenLess" w="42900" h="21600">
                <a:moveTo>
                  <a:pt x="0" y="0"/>
                </a:moveTo>
                <a:lnTo>
                  <a:pt x="42900" y="0"/>
                </a:lnTo>
                <a:lnTo>
                  <a:pt x="41500" y="1400"/>
                </a:lnTo>
                <a:lnTo>
                  <a:pt x="1400" y="1400"/>
                </a:lnTo>
                <a:close/>
              </a:path>
              <a:path fill="darken" w="42900" h="21600">
                <a:moveTo>
                  <a:pt x="42900" y="0"/>
                </a:moveTo>
                <a:lnTo>
                  <a:pt x="42900" y="21600"/>
                </a:lnTo>
                <a:lnTo>
                  <a:pt x="41500" y="20200"/>
                </a:lnTo>
                <a:lnTo>
                  <a:pt x="41500" y="1400"/>
                </a:lnTo>
                <a:close/>
              </a:path>
              <a:path fill="darkenLess" w="42900" h="21600">
                <a:moveTo>
                  <a:pt x="4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00" y="20200"/>
                </a:lnTo>
                <a:close/>
              </a:path>
              <a:path fill="lighten" w="4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00" h="21600">
                <a:moveTo>
                  <a:pt x="14443" y="3794"/>
                </a:moveTo>
                <a:lnTo>
                  <a:pt x="28456" y="10800"/>
                </a:lnTo>
                <a:lnTo>
                  <a:pt x="144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m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7760" y="6019920"/>
            <a:ext cx="698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烟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0100405_af735796aab58ce18449qmKndesuLj6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8205374_221019318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65981813729116871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523880" y="4419720"/>
            <a:ext cx="61722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两岸轻烟烟柳绿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2:51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41Z</dcterms:modified>
  <cp:revision>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