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61B9-4A88-46BF-984C-D43F6E4336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EA7C-D97C-487D-BE59-CBC9692A01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98F-0E5E-44B9-AF67-E08AEB98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F9F-563D-4C13-AA68-5A450CFA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287-CE67-4A57-A466-617582D9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801-01FE-4862-9EE8-F0DCF49F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162-0392-45F0-8179-A773C392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701-D6A3-47EB-80FF-3334638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D91-D7B5-44C2-AE5B-7DBEE142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B90-7408-4930-AAAE-20462275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E3E-8BA8-4C11-8DB3-80FA4755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2D6-F248-4069-809E-003301E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9A7-26D4-47EE-BF2C-376178F6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801-7B7D-44AB-AC83-C787E68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3378-32B1-4325-9F73-F8B740384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908000" y="2276640"/>
            <a:ext cx="52563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城市的明眸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79208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44560" y="907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900000" y="256536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风、海韵、海趣、海涛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青岛6"/>
          <p:cNvPicPr/>
          <p:nvPr/>
        </p:nvPicPr>
        <p:blipFill>
          <a:blip r:embed="rId1"/>
          <a:stretch/>
        </p:blipFill>
        <p:spPr>
          <a:xfrm>
            <a:off x="1619280" y="3284640"/>
            <a:ext cx="453528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99564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853920" y="765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859280" y="1628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韵园、浪琴园、银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900000" y="2349360"/>
            <a:ext cx="144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花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海韵园"/>
          <p:cNvPicPr/>
          <p:nvPr/>
        </p:nvPicPr>
        <p:blipFill>
          <a:blip r:embed="rId1"/>
          <a:stretch/>
        </p:blipFill>
        <p:spPr>
          <a:xfrm>
            <a:off x="3203640" y="2997360"/>
            <a:ext cx="3889440" cy="22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4284720" y="53737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海韵园景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859280" y="1628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韵园、浪琴园、银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900000" y="2349360"/>
            <a:ext cx="144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花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1763640" y="2565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2627280" y="2276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涛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青岛东海路雕塑"/>
          <p:cNvPicPr/>
          <p:nvPr/>
        </p:nvPicPr>
        <p:blipFill>
          <a:blip r:embed="rId1"/>
          <a:stretch/>
        </p:blipFill>
        <p:spPr>
          <a:xfrm>
            <a:off x="4859280" y="2276640"/>
            <a:ext cx="3273480" cy="4005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397320" y="3284640"/>
            <a:ext cx="1253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天地间”青铜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19280" y="9079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4328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东海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95640" y="191628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859280" y="16286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韵园、浪琴园、银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900000" y="2349360"/>
            <a:ext cx="144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花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1763640" y="2565360"/>
            <a:ext cx="792360" cy="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2627280" y="2276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涛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975240" y="3716280"/>
            <a:ext cx="48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世纪长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4" descr="世纪长廊"/>
          <p:cNvPicPr/>
          <p:nvPr/>
        </p:nvPicPr>
        <p:blipFill>
          <a:blip r:embed="rId1"/>
          <a:srcRect l="0" t="0" r="-13" b="0"/>
          <a:stretch/>
        </p:blipFill>
        <p:spPr>
          <a:xfrm>
            <a:off x="1979640" y="2924280"/>
            <a:ext cx="5472000" cy="3430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757080" y="8701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001880" y="11476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42920" y="2492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全文，说说“城市的明眸”指的是什么？为什么说它是城市的明眸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MCj04206400000[1]"/>
          <p:cNvPicPr/>
          <p:nvPr/>
        </p:nvPicPr>
        <p:blipFill>
          <a:blip r:embed="rId1"/>
          <a:stretch/>
        </p:blipFill>
        <p:spPr>
          <a:xfrm>
            <a:off x="6300720" y="4941720"/>
            <a:ext cx="182736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900000" y="944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16000" y="2276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完课文，你是否能像作者那样介绍一下家乡的著名景点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MCj04198760000[1]"/>
          <p:cNvPicPr/>
          <p:nvPr/>
        </p:nvPicPr>
        <p:blipFill>
          <a:blip r:embed="rId1"/>
          <a:stretch/>
        </p:blipFill>
        <p:spPr>
          <a:xfrm>
            <a:off x="7093080" y="5013360"/>
            <a:ext cx="1514520" cy="10303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"/>
          <p:cNvSpPr/>
          <p:nvPr/>
        </p:nvSpPr>
        <p:spPr>
          <a:xfrm>
            <a:off x="728640" y="5210280"/>
            <a:ext cx="56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4"/>
          <p:cNvSpPr txBox="1"/>
          <p:nvPr/>
        </p:nvSpPr>
        <p:spPr>
          <a:xfrm>
            <a:off x="2916360" y="2565360"/>
            <a:ext cx="3600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28" name="Picture 5" descr="MCj03444610000[1]"/>
          <p:cNvPicPr/>
          <p:nvPr/>
        </p:nvPicPr>
        <p:blipFill>
          <a:blip r:embed="rId1"/>
          <a:stretch/>
        </p:blipFill>
        <p:spPr>
          <a:xfrm>
            <a:off x="6732720" y="4941720"/>
            <a:ext cx="1809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2779-B7C2-420D-A012-DE972F6042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981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971640" y="1916280"/>
            <a:ext cx="76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、会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眸、辟、韵、矗、廊、禹、襟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七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流利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会什么叫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城市的明眸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258920" y="2205000"/>
            <a:ext cx="6769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眸  辟  韵  矗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廊  禹  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87280" y="184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m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843280" y="1773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p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67280" y="177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y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435640" y="17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c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33200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l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771640" y="42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y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140360" y="422100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j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236600" y="8301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3" descr="MCj04260180000[1]"/>
          <p:cNvPicPr/>
          <p:nvPr/>
        </p:nvPicPr>
        <p:blipFill>
          <a:blip r:embed="rId1"/>
          <a:stretch/>
        </p:blipFill>
        <p:spPr>
          <a:xfrm>
            <a:off x="7020000" y="4941720"/>
            <a:ext cx="112860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青岛4"/>
          <p:cNvPicPr/>
          <p:nvPr/>
        </p:nvPicPr>
        <p:blipFill>
          <a:blip r:embed="rId1"/>
          <a:stretch/>
        </p:blipFill>
        <p:spPr>
          <a:xfrm>
            <a:off x="1332000" y="1700280"/>
            <a:ext cx="5869080" cy="3846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843280" y="10526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3564000" y="3141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青岛"/>
          <p:cNvPicPr/>
          <p:nvPr/>
        </p:nvPicPr>
        <p:blipFill>
          <a:blip r:embed="rId1"/>
          <a:stretch/>
        </p:blipFill>
        <p:spPr>
          <a:xfrm>
            <a:off x="1258920" y="1773360"/>
            <a:ext cx="5904000" cy="4211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2843280" y="10526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843280" y="10526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青岛6"/>
          <p:cNvPicPr/>
          <p:nvPr/>
        </p:nvPicPr>
        <p:blipFill>
          <a:blip r:embed="rId1"/>
          <a:stretch/>
        </p:blipFill>
        <p:spPr>
          <a:xfrm>
            <a:off x="1187280" y="1700280"/>
            <a:ext cx="565488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青岛火炬"/>
          <p:cNvPicPr/>
          <p:nvPr/>
        </p:nvPicPr>
        <p:blipFill>
          <a:blip r:embed="rId1"/>
          <a:stretch/>
        </p:blipFill>
        <p:spPr>
          <a:xfrm>
            <a:off x="1547640" y="1916280"/>
            <a:ext cx="5715000" cy="4292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843280" y="10526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美丽的青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84360" y="9079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71640" y="2276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课文并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课文主要介绍了那些雕塑园区，写得最详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的是哪一个雕塑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MCj04187300000[1]"/>
          <p:cNvPicPr/>
          <p:nvPr/>
        </p:nvPicPr>
        <p:blipFill>
          <a:blip r:embed="rId1"/>
          <a:stretch/>
        </p:blipFill>
        <p:spPr>
          <a:xfrm>
            <a:off x="7164360" y="4653000"/>
            <a:ext cx="15843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806400" y="9079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826920" y="1700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百花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826920" y="249228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文豪的雕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老舍雕像"/>
          <p:cNvPicPr/>
          <p:nvPr/>
        </p:nvPicPr>
        <p:blipFill>
          <a:blip r:embed="rId1"/>
          <a:srcRect l="0" t="0" r="-392" b="0"/>
          <a:stretch/>
        </p:blipFill>
        <p:spPr>
          <a:xfrm>
            <a:off x="663480" y="3068640"/>
            <a:ext cx="2395800" cy="2952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沈从文雕像"/>
          <p:cNvPicPr/>
          <p:nvPr/>
        </p:nvPicPr>
        <p:blipFill>
          <a:blip r:embed="rId2"/>
          <a:srcRect l="0" t="0" r="0" b="-24"/>
          <a:stretch/>
        </p:blipFill>
        <p:spPr>
          <a:xfrm>
            <a:off x="3635280" y="3068640"/>
            <a:ext cx="208908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闻一多雕像"/>
          <p:cNvPicPr/>
          <p:nvPr/>
        </p:nvPicPr>
        <p:blipFill>
          <a:blip r:embed="rId3"/>
          <a:stretch/>
        </p:blipFill>
        <p:spPr>
          <a:xfrm>
            <a:off x="6443640" y="3068640"/>
            <a:ext cx="2160720" cy="2952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1"/>
          <p:cNvSpPr/>
          <p:nvPr/>
        </p:nvSpPr>
        <p:spPr>
          <a:xfrm>
            <a:off x="3136320" y="3716280"/>
            <a:ext cx="45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沈从文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11960" y="3716280"/>
            <a:ext cx="4546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老舍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917680" y="3645000"/>
            <a:ext cx="4546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闻一多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2:57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5:10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