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32BE-89CE-4A71-B604-1C141F8707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2719-95FA-4C90-B82E-67E9D456D9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6F7-7478-4C7A-99A3-A761FE88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E2D-2C15-4716-85DE-F709AEA2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5D7-6738-4EB9-BC79-0FF383A5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547-BA84-43D3-B48F-A66CE016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F13-FFAE-45B4-AD98-C86E1830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738-A02E-4770-BCFC-C6600F8E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F6C-8239-4B26-BE94-DDE242BA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63B-9E24-4468-8240-97CA4E2F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BD89-8FCA-4D71-96F6-1B75D39E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961-C3B7-49B5-920C-485BC22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EDEF-58B0-4D79-A56F-B856FD84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ADE-1B6F-47DF-83AA-5198E340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785-7D77-4793-BD7E-15A877268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334960" y="1295280"/>
            <a:ext cx="42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 彩色的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620720" y="419112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534960" y="29257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34800" y="2286000"/>
            <a:ext cx="335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niú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219320" y="22860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303560" y="3429000"/>
            <a:ext cx="322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liú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820080" y="380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正确的读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30640" y="29257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693400" y="2286000"/>
            <a:ext cx="343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zuò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5715000" y="22860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670720" y="3429000"/>
            <a:ext cx="366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zhuò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665360" y="11365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批  改  抬  密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295280" y="7430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025960" y="7430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t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179120" y="76212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m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484280" y="3935520"/>
            <a:ext cx="6467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  辰  飘  校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2193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3050640" y="35053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20040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ɡǎ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024880" y="350532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iā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6942960" y="35053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x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ShockwaveFlash1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ShockwaveFlash2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ShockwaveFlash3" descr=""/>
          <p:cNvPicPr/>
          <p:nvPr/>
        </p:nvPicPr>
        <p:blipFill>
          <a:blip r:embed="rId4"/>
          <a:stretch/>
        </p:blipFill>
        <p:spPr>
          <a:xfrm>
            <a:off x="52578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ShockwaveFlash4" descr=""/>
          <p:cNvPicPr/>
          <p:nvPr/>
        </p:nvPicPr>
        <p:blipFill>
          <a:blip r:embed="rId5"/>
          <a:stretch/>
        </p:blipFill>
        <p:spPr>
          <a:xfrm>
            <a:off x="71629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ShockwaveFlash6" descr=""/>
          <p:cNvPicPr/>
          <p:nvPr/>
        </p:nvPicPr>
        <p:blipFill>
          <a:blip r:embed="rId6"/>
          <a:stretch/>
        </p:blipFill>
        <p:spPr>
          <a:xfrm>
            <a:off x="13716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ShockwaveFlash7" descr=""/>
          <p:cNvPicPr/>
          <p:nvPr/>
        </p:nvPicPr>
        <p:blipFill>
          <a:blip r:embed="rId7"/>
          <a:stretch/>
        </p:blipFill>
        <p:spPr>
          <a:xfrm>
            <a:off x="320040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ShockwaveFlash8" descr=""/>
          <p:cNvPicPr/>
          <p:nvPr/>
        </p:nvPicPr>
        <p:blipFill>
          <a:blip r:embed="rId8"/>
          <a:stretch/>
        </p:blipFill>
        <p:spPr>
          <a:xfrm>
            <a:off x="5181480" y="51055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ShockwaveFlash9" descr=""/>
          <p:cNvPicPr/>
          <p:nvPr/>
        </p:nvPicPr>
        <p:blipFill>
          <a:blip r:embed="rId9"/>
          <a:stretch/>
        </p:blipFill>
        <p:spPr>
          <a:xfrm>
            <a:off x="7086600" y="51055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001"/>
          <p:cNvPicPr/>
          <p:nvPr/>
        </p:nvPicPr>
        <p:blipFill>
          <a:blip r:embed="rId1"/>
          <a:stretch/>
        </p:blipFill>
        <p:spPr>
          <a:xfrm>
            <a:off x="2209680" y="609480"/>
            <a:ext cx="4243680" cy="6019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6981480" y="594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雨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76320" y="-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3301920" y="3108240"/>
            <a:ext cx="52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05F7-4D6D-4D7F-A850-DA2C253F98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80880" y="16765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放学了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liú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老师还在办公室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pī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ɡǎi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zuò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yè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她不时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tái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起头，望望窗外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mì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密的雨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咚咚咚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pínɡ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敲门进来了，说：“刘老师，我俩共用一把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sǎ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吧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bɑ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咚咚咚！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chén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辰拿着雨伞进来了，说：“刘老师，我们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hé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用一把伞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604680" y="380880"/>
            <a:ext cx="190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彩色的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yú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80880" y="18921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咚咚咚！十几个小朋友拥进办公室。大家争着说：“刘老师，用我的伞！”“刘老师，用我的伞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刘老师高兴地说：“好吧，我和小朋友们一起回家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十几把小花伞撑开了，像一片彩色的云，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piāo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出校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xiào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47640" y="2438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放学了，刘老师还在办公室批改作业。她不时抬起头，望望窗外密密的雨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11680" y="930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彩色的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648320" y="3657600"/>
            <a:ext cx="3124080" cy="1752480"/>
          </a:xfrm>
          <a:prstGeom prst="cloudCallout">
            <a:avLst>
              <a:gd name="adj1" fmla="val 50458"/>
              <a:gd name="adj2" fmla="val 57518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观察画面上刘老师的表情，想象她会想些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7162920" y="2895480"/>
            <a:ext cx="5331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2590920" y="32767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0880" y="13906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咚咚咚！平平敲门进来了，说：“刘老师，我俩共用一把伞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咚咚咚！辰辰拿着雨伞进来了，说：“刘老师，我们合用一把伞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咚咚咚！十几个小朋友拥进办公室。大家争着说：“刘老师，用我的伞！”“刘老师，用我的伞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刘老师高兴地说：“好吧，我和小朋友们一起回家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5105520" y="3962520"/>
            <a:ext cx="3581280" cy="1828800"/>
          </a:xfrm>
          <a:prstGeom prst="cloudCallout">
            <a:avLst>
              <a:gd name="adj1" fmla="val 50388"/>
              <a:gd name="adj2" fmla="val 49305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拥进”“争着”这两个词语表达了孩子们什么样的心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267080" y="327672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705720" y="32767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43080" y="2438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十几把小花伞撑开了，像一片彩色的云，飘出校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914400" y="3200400"/>
            <a:ext cx="3809880" cy="2286000"/>
          </a:xfrm>
          <a:prstGeom prst="cloudCallout">
            <a:avLst>
              <a:gd name="adj1" fmla="val -50958"/>
              <a:gd name="adj2" fmla="val 47361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刘老师在小朋友们的簇拥下走出了学校，那会是怎样的一幅场景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863800" y="1752480"/>
            <a:ext cx="93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花伞像一片彩色的云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16400" y="3154320"/>
            <a:ext cx="42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圆圆的月亮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＿＿＿＿＿＿＿＿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92360" y="4952880"/>
            <a:ext cx="452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＿＿＿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＿＿＿＿＿＿＿＿＿＿＿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567240" y="167652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小花伞像彩色的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024440" y="365760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师生情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45720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534960" y="30020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296000" y="2362320"/>
            <a:ext cx="323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tá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219320" y="23623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247040" y="3505320"/>
            <a:ext cx="33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dá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814320" y="6858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正确的读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030640" y="300204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676840" y="2362320"/>
            <a:ext cx="365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hé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5715000" y="23623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666040" y="3505320"/>
            <a:ext cx="386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ché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6:57:28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10:53Z</dcterms:modified>
  <cp:revision>9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