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A56C-48A6-4DB6-82E2-8A6113CBC3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8000-44C0-45E7-8250-7C8BFFF1BE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103-B945-4323-BD0E-82D7735E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863-E323-41C4-AD60-31D40E0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D9A-1EB6-49E9-B400-3012EABC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F00-AC3F-4FE5-9AEA-C70D89EF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9A4-5C0A-4295-91E9-E115D3DF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B1C4-E10E-4485-9DBC-1F21965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3B6-80DD-452F-A85A-73F8A2F5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B92-9A38-4969-804D-832B4AE5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389-D3CE-44A3-A0FF-A9F7746E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2B2-CB8E-4A9D-859D-1A970689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CE2-EC2B-467B-9BF5-447090B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114-7423-4815-ABBD-F608065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C47A-EA05-4FD9-B111-A14D6A2E0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38360" y="63036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华文隶书"/>
                <a:ea typeface="华文隶书"/>
              </a:rPr>
              <a:t>从天气预报说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3" descr=""/>
          <p:cNvPicPr/>
          <p:nvPr/>
        </p:nvPicPr>
        <p:blipFill>
          <a:blip r:embed="rId2"/>
          <a:stretch/>
        </p:blipFill>
        <p:spPr>
          <a:xfrm>
            <a:off x="1755720" y="60958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" descr="t0149bdd54460ea599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3330000" y="167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天气预报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277520" y="2666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渗透情感、折射关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852640" y="3505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达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020400" y="4343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格言般的漫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483080" y="5181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拟人化描述、想象丰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80880" y="24832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⒅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您不要担心，我们会像往常一样密切注视东南部的暴风雨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美国预报员这两句亲切的话语，表现了一种热情而又细致的服务态度。也许，这些有色彩、有温度的语言，已超越了天气变化的本身，它的感染力也大大超越了那些枯燥的套话、术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见，语言是一门艺术。精彩的讲话，优秀的文章，就是组织得很精当的一串语言。平日里，只要我们多留心、多学习、多积累、多练习，就会使自己的语言丰富、生动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3886200" y="2362320"/>
            <a:ext cx="4572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533520" y="2743200"/>
            <a:ext cx="33526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666880" y="4038480"/>
            <a:ext cx="274320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057400" y="4876920"/>
            <a:ext cx="533412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2" descr="2011051707561802_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3634920" y="380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天气预报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362840" y="1523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渗透情感、折射关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15800" y="21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达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63760" y="2666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言般的漫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390560" y="3276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拟人化描述、想象丰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91760" y="3886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热情细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362320" y="1676520"/>
            <a:ext cx="228600" cy="2590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36400" y="27432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语言是一门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（精神享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400800" y="1676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644600" y="2666880"/>
            <a:ext cx="3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多留心、多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多积累、多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371600" y="5335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2396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62396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顷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67864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凑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67864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奉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1600" y="5335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2396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2396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惨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67864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届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7864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庙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371600" y="5335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62396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拟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62396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678640" y="21366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叙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678640" y="333684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述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371600" y="530712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71600" y="533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出句子中的错别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371600" y="190512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们见面的时候，通常会寒喧几句天气。                      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71600" y="403848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在评价中溶入了太多的个人感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71600" y="5335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出句子中的错别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47920" y="1905120"/>
            <a:ext cx="655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种平铺直述的话怎么会生动呢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403848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是一个负有爱心的人。（     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196E-03F2-47E5-9FBC-0AAD2B5ABF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1640" y="306000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话是很有讲究的，它除了表达意义外，还要追求语言的色彩、形象、感情，让它又动听，又有味道，还有格调品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拿天气来说吧，人们见了面，往往寒暄几句，太平常了。我们中国人自古就有将天气融入个人情感的倾向，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风起兮云飞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萧萧兮易水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很自然，天气对人产生了感染力，语言也总是带情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201480" y="663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琥珀"/>
                <a:ea typeface="华文琥珀"/>
              </a:rPr>
              <a:t>从天气预报说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04920" y="202824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由此，我们想到天天都听的天气预报，世界上许多国家就十分重视天气预报节目的语言艺术，节目主持人的播讲逐渐走向人性化、艺术化之路。紧凑之中有松弛，平淡之中见突兀，那些“老生常谈”变得生动诙谐，使人听天气预报的同时，得到一种精神的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让我们对一些国家的天气预报“闲话”一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⑸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我们一起来看一下预报结果，但愿能听到您所期望的天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⑹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现在我们拥有着可爱的天气，愿您珍视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样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开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渗透着人的情感，折射出一种关爱的光泽，使人一听就被吸引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5410080" y="5257800"/>
            <a:ext cx="3314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380880" y="5715000"/>
            <a:ext cx="3429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" descr="20090618081529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40632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天气预报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420800" y="15238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渗透情感、折射关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7"/>
          <p:cNvSpPr/>
          <p:nvPr/>
        </p:nvSpPr>
        <p:spPr>
          <a:xfrm>
            <a:off x="23623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90440" y="202860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⑻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从今天起将进入北风刺骨的寒冷天气，作为预报人员，真该说声‘对不起’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素以正襟危坐、不苟言笑著称的日本气象预报员也能以如此亲切的表达方式，道出预报人员对寒来暑往的责任感，短短一句话，就将他和听众融合在一起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⑽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我们盼了很久，它终于要来了，带着人们的欣喜来了，它就是雨</a:t>
            </a:r>
            <a:r>
              <a:rPr b="1" lang="en-US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爱玩耍的孩子们又可以到雨中踩水花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位塞内加尔预报员的话，与朱自清先生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盼望着，盼望着，东风来了，春天的脚步近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异曲同工之妙。它呼之欲出地表现了人们在久旱之后，看到甘霖忽从天降的心情。这个节目曾获得第二届世界气象电视节大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572000" y="2286000"/>
            <a:ext cx="4191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>
            <a:off x="304920" y="2743200"/>
            <a:ext cx="1143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543480" y="5257800"/>
            <a:ext cx="53719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28600" y="5715000"/>
            <a:ext cx="2666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6" descr="17d8dddcd6c396b580f3e2f3c1a839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32460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天气预报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01200" y="15238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渗透情感、折射关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852640" y="2286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达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4920" y="18414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⑿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月是阴沉昏暗的代名词，它紧随着夏季的最后一丝炎热而来，又在冬日的严寒之前离去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比利时播讲人是主持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气象节目的老者。这种有如格言般的漫谈，使观众好像在阅读内涵丰富的书籍，同时也吻合他的身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209680" y="2971800"/>
            <a:ext cx="63248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57200" y="3429000"/>
            <a:ext cx="5715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7" descr="2007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40632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天气预报说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353840" y="1447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渗透情感、折射关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92860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表达心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096720" y="2819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格言般的漫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0880" y="2830320"/>
            <a:ext cx="838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⒁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明天，雨带将离我们而去，接着我们见到的将是寒流的面孔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预报员这种拟人化描述，活灵活现地使观众感受到天气变化的节奏。这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雨带将向偏东方向移动，另外有一股冷空气，其前锋已经移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类平铺直叙的话，要形象得多，有趣得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⒃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周末天气的格局将是：晴朗而寒冷。风很冷，就像是从冬天克隆来的一样。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来如简洁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句话新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像报刊的通栏标题，醒目而不失准确，对风的描述，更表现出了丰富的想象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733920" y="2438280"/>
            <a:ext cx="4952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33520" y="2819520"/>
            <a:ext cx="3657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1981080" y="5867280"/>
            <a:ext cx="6324840" cy="4608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990720" y="6324480"/>
            <a:ext cx="19047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13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05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