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type.wav" ContentType="audio/x-wav"/>
  <Override PartName="/ppt/media/image14.gif" ContentType="image/gif"/>
  <Override PartName="/ppt/media/image9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11.png" ContentType="image/png"/>
  <Override PartName="/ppt/media/image7.jpeg" ContentType="image/jpeg"/>
  <Override PartName="/ppt/media/image1.jpeg" ContentType="image/jpeg"/>
  <Override PartName="/ppt/media/camera.wav" ContentType="audio/x-wav"/>
  <Override PartName="/ppt/media/image17.gif" ContentType="image/gif"/>
  <Override PartName="/ppt/media/image2.wmf" ContentType="image/x-wmf"/>
  <Override PartName="/ppt/media/image16.jpeg" ContentType="image/jpeg"/>
  <Override PartName="/ppt/media/image13.gif" ContentType="image/gif"/>
  <Override PartName="/ppt/media/chimes.wav" ContentType="audio/x-wav"/>
  <Override PartName="/ppt/media/image10.png" ContentType="image/png"/>
  <Override PartName="/ppt/media/image6.jpeg" ContentType="image/jpeg"/>
  <Override PartName="/ppt/media/image3.jpeg" ContentType="image/jpeg"/>
  <Override PartName="/ppt/media/image12.gif" ContentType="image/gif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EDFF-C943-4310-962D-88077E6036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30E3-5036-4D6C-ADE1-2F8408000E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C4E-D0EB-46FD-9114-EABC778E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88D-F6DE-4D9F-9409-20ABC474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C36-EF28-40B8-A5CC-57F27C70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B51-66A9-45C1-A702-1E7513B7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D6E-A598-4A8D-A64F-774A4EB6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576-5F22-4BEC-9941-E15DECB8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A92-CB3D-4D4F-BAD9-BC3F6EC2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DA6-3D24-4C23-82C6-F36447B1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26E-3860-4D66-8EFE-B50BEF22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845-9C85-4D33-B6A4-6B5F94D8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84B-2B7F-4637-9362-CB91F2AC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74B-1A19-4899-A0AC-032FDB37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05D3-D7F5-4815-98A2-6977CD702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4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4520" y="242100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丑 小 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31"/>
          <p:cNvSpPr/>
          <p:nvPr/>
        </p:nvSpPr>
        <p:spPr>
          <a:xfrm>
            <a:off x="1403280" y="1125360"/>
            <a:ext cx="619308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湘教版三年级语文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943280" y="5661000"/>
            <a:ext cx="511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1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从丑小鸭的经历中，感悟人生道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要不懈追求，努力进取，即使身处逆境，也终实现自己的理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金子，总会发光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天生我材必有用</a:t>
            </a: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逆境之中不沮丧，赞扬声中不骄傲，永远拥有一颗善良平常心，才能健康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红蘑菇"/>
          <p:cNvPicPr/>
          <p:nvPr/>
        </p:nvPicPr>
        <p:blipFill>
          <a:blip r:embed="rId1"/>
          <a:stretch/>
        </p:blipFill>
        <p:spPr>
          <a:xfrm>
            <a:off x="7315200" y="5562720"/>
            <a:ext cx="12952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09480" y="1066680"/>
            <a:ext cx="7543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57200" y="1219320"/>
            <a:ext cx="7238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116000" y="2349360"/>
            <a:ext cx="67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我们的现实生活中，也有许多丑小鸭，他们经过自己的拚搏奋斗，最后也成为了美丽的白天鹅。你能举出一些这样的例子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617220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900000" y="76500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思维拓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花链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3880" y="6248520"/>
            <a:ext cx="6324840" cy="380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1454040"/>
            <a:ext cx="5562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Arial"/>
              </a:rPr>
              <a:t>丑小鸭与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2349360"/>
            <a:ext cx="822960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Arial"/>
                <a:ea typeface="隶书"/>
              </a:rPr>
              <a:t>结合“成长的烦恼”以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隶书"/>
              </a:rPr>
              <a:t>《</a:t>
            </a:r>
            <a:r>
              <a:rPr b="0" lang="zh-CN" sz="3600" spc="-1" strike="noStrike">
                <a:solidFill>
                  <a:srgbClr val="808080"/>
                </a:solidFill>
                <a:latin typeface="Arial"/>
                <a:ea typeface="隶书"/>
              </a:rPr>
              <a:t>我也是丑小鸭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隶书"/>
              </a:rPr>
              <a:t>》</a:t>
            </a:r>
            <a:r>
              <a:rPr b="0" lang="zh-CN" sz="3600" spc="-1" strike="noStrike">
                <a:solidFill>
                  <a:srgbClr val="808080"/>
                </a:solidFill>
                <a:latin typeface="Arial"/>
                <a:ea typeface="隶书"/>
              </a:rPr>
              <a:t>或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隶书"/>
              </a:rPr>
              <a:t>《</a:t>
            </a:r>
            <a:r>
              <a:rPr b="0" lang="zh-CN" sz="3600" spc="-1" strike="noStrike">
                <a:solidFill>
                  <a:srgbClr val="808080"/>
                </a:solidFill>
                <a:latin typeface="Arial"/>
                <a:ea typeface="隶书"/>
              </a:rPr>
              <a:t>我也会变成白天鹅的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隶书"/>
              </a:rPr>
              <a:t>》</a:t>
            </a:r>
            <a:r>
              <a:rPr b="0" lang="zh-CN" sz="3600" spc="-1" strike="noStrike">
                <a:solidFill>
                  <a:srgbClr val="808080"/>
                </a:solidFill>
                <a:latin typeface="Arial"/>
                <a:ea typeface="隶书"/>
              </a:rPr>
              <a:t>说一段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Arial"/>
                <a:ea typeface="隶书"/>
              </a:rPr>
              <a:t>以“丑小鸭”为话题说一段话，或发挥想象，或表达观点。（任选一题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花链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3880" y="6248520"/>
            <a:ext cx="6324840" cy="380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685800" y="9810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80"/>
                </a:solidFill>
                <a:latin typeface="华文行楷"/>
                <a:ea typeface="华文行楷"/>
              </a:rPr>
              <a:t>推荐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"/>
          <p:cNvSpPr/>
          <p:nvPr/>
        </p:nvSpPr>
        <p:spPr>
          <a:xfrm>
            <a:off x="841320" y="5394240"/>
            <a:ext cx="58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26"/>
          <p:cNvSpPr/>
          <p:nvPr/>
        </p:nvSpPr>
        <p:spPr>
          <a:xfrm>
            <a:off x="2066760" y="914400"/>
            <a:ext cx="50104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逆境成才名言警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27"/>
          <p:cNvSpPr/>
          <p:nvPr/>
        </p:nvSpPr>
        <p:spPr>
          <a:xfrm>
            <a:off x="347760" y="20574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一番寒彻骨，怎得梅花扑鼻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28"/>
          <p:cNvSpPr/>
          <p:nvPr/>
        </p:nvSpPr>
        <p:spPr>
          <a:xfrm>
            <a:off x="347760" y="2743200"/>
            <a:ext cx="47242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斐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苦难是人生的老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巴尔扎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患难困苦，是磨炼人格之最高学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梁启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29"/>
          <p:cNvSpPr/>
          <p:nvPr/>
        </p:nvSpPr>
        <p:spPr>
          <a:xfrm>
            <a:off x="4995720" y="205740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在逆境里比在顺境里更能坚持不屈。遭厄运时比交好运时更容易保全身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雨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30"/>
          <p:cNvSpPr/>
          <p:nvPr/>
        </p:nvSpPr>
        <p:spPr>
          <a:xfrm>
            <a:off x="5148360" y="45720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记住，环境愈艰难困苦，就愈需要坚强、毅 力和信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托尔斯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2666880" y="0"/>
            <a:ext cx="3733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巩固练习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03" name="Picture 3" descr="040"/>
          <p:cNvPicPr/>
          <p:nvPr/>
        </p:nvPicPr>
        <p:blipFill>
          <a:blip r:embed="rId3"/>
          <a:stretch/>
        </p:blipFill>
        <p:spPr>
          <a:xfrm>
            <a:off x="1219320" y="1219320"/>
            <a:ext cx="6781680" cy="301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838080" y="21337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914400" y="1752480"/>
            <a:ext cx="7696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文出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                       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者安徒生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国文学巨匠，世界著名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家 ，其代表作，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523880" y="3581280"/>
            <a:ext cx="7239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笑    吐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鸡     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草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    丑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陋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妹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篱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嫉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飕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沮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兰花"/>
          <p:cNvPicPr/>
          <p:nvPr/>
        </p:nvPicPr>
        <p:blipFill>
          <a:blip r:embed="rId4"/>
          <a:stretch/>
        </p:blipFill>
        <p:spPr>
          <a:xfrm>
            <a:off x="6629400" y="41911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B961-936F-4379-A2EE-7DF351F23C9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-360" y="1341000"/>
            <a:ext cx="8924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安徒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7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丹麦童话作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生于鞋匠家里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2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开始文学创作写有诗歌、戏剧、小说、游记等各类体裁作品，以童话创作成就最大，共一百六十余篇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皇帝的新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夜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卖火柴的小女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丑小鸭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均为脍炙人口的名篇。因有底层生活经历，作品多能站在劳苦人民的立场。暴露统治阶段的奢侈，残暴和愚蠢，描述劳动人民的贫困与智慧。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丰富的想像、生动的情节、深刻的内容、简洁而明快的艺术形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著称于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444600" y="47628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作者作品简介</a:t>
            </a:r>
            <a:endParaRPr b="1" lang="en-US" sz="1800" spc="1" strike="noStrike">
              <a:ln w="19080">
                <a:solidFill>
                  <a:srgbClr val="bbe0e3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E02043_"/>
          <p:cNvPicPr/>
          <p:nvPr/>
        </p:nvPicPr>
        <p:blipFill>
          <a:blip r:embed="rId1"/>
          <a:stretch/>
        </p:blipFill>
        <p:spPr>
          <a:xfrm>
            <a:off x="6242040" y="2438280"/>
            <a:ext cx="2921040" cy="4267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160" y="191592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童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12100e"/>
                </a:solidFill>
                <a:latin typeface="Arial"/>
              </a:rPr>
              <a:t>儿童文学的一种。它按照儿童的心理特点，通过丰富的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想象、幻想和夸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600" spc="-1" strike="noStrike">
                <a:solidFill>
                  <a:srgbClr val="12100e"/>
                </a:solidFill>
                <a:latin typeface="Arial"/>
              </a:rPr>
              <a:t>采用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拟人化</a:t>
            </a:r>
            <a:r>
              <a:rPr b="0" lang="zh-CN" sz="3600" spc="-1" strike="noStrike">
                <a:solidFill>
                  <a:srgbClr val="12100e"/>
                </a:solidFill>
                <a:latin typeface="Arial"/>
              </a:rPr>
              <a:t>的手法。</a:t>
            </a:r>
            <a:br>
              <a:rPr sz="3600"/>
            </a:br>
            <a:r>
              <a:rPr b="0" lang="zh-CN" sz="3600" spc="-1" strike="noStrike">
                <a:solidFill>
                  <a:srgbClr val="12100e"/>
                </a:solidFill>
                <a:latin typeface="Arial"/>
              </a:rPr>
              <a:t>主人公可以让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动物、植物</a:t>
            </a:r>
            <a:r>
              <a:rPr b="0" lang="zh-CN" sz="3600" spc="-1" strike="noStrike">
                <a:solidFill>
                  <a:srgbClr val="12100e"/>
                </a:solidFill>
                <a:latin typeface="Arial"/>
              </a:rPr>
              <a:t>像人</a:t>
            </a:r>
            <a:br>
              <a:rPr sz="3600"/>
            </a:br>
            <a:r>
              <a:rPr b="0" lang="zh-CN" sz="3600" spc="-1" strike="noStrike">
                <a:solidFill>
                  <a:srgbClr val="12100e"/>
                </a:solidFill>
                <a:latin typeface="Arial"/>
              </a:rPr>
              <a:t>一样地说话、活动，故事情节</a:t>
            </a:r>
            <a:br>
              <a:rPr sz="3600"/>
            </a:br>
            <a:r>
              <a:rPr b="0" lang="zh-CN" sz="3600" spc="-1" strike="noStrike">
                <a:solidFill>
                  <a:srgbClr val="12100e"/>
                </a:solidFill>
                <a:latin typeface="Arial"/>
              </a:rPr>
              <a:t>曲折离奇，激发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孩子</a:t>
            </a:r>
            <a:r>
              <a:rPr b="0" lang="zh-CN" sz="3600" spc="-1" strike="noStrike">
                <a:solidFill>
                  <a:srgbClr val="12100e"/>
                </a:solidFill>
                <a:latin typeface="Arial"/>
              </a:rPr>
              <a:t>的想象，</a:t>
            </a:r>
            <a:br>
              <a:rPr sz="3600"/>
            </a:br>
            <a:r>
              <a:rPr b="0" lang="zh-CN" sz="3600" spc="-1" strike="noStrike">
                <a:solidFill>
                  <a:srgbClr val="12100e"/>
                </a:solidFill>
                <a:latin typeface="Arial"/>
              </a:rPr>
              <a:t>并对他们进行思想和知识的教</a:t>
            </a:r>
            <a:br>
              <a:rPr sz="3600"/>
            </a:br>
            <a:r>
              <a:rPr b="0" lang="zh-CN" sz="3600" spc="-1" strike="noStrike">
                <a:solidFill>
                  <a:srgbClr val="12100e"/>
                </a:solidFill>
                <a:latin typeface="Arial"/>
              </a:rPr>
              <a:t>育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xy"/>
          <p:cNvPicPr/>
          <p:nvPr/>
        </p:nvPicPr>
        <p:blipFill>
          <a:blip r:embed="rId1"/>
          <a:stretch/>
        </p:blipFill>
        <p:spPr>
          <a:xfrm>
            <a:off x="684360" y="2781360"/>
            <a:ext cx="4895640" cy="3673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447840" y="620640"/>
            <a:ext cx="808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速读课文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根据图片提示，复述故事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或分角色朗读在这个地方发生的故事。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2"/>
          <p:cNvSpPr/>
          <p:nvPr/>
        </p:nvSpPr>
        <p:spPr>
          <a:xfrm>
            <a:off x="3290760" y="2701800"/>
            <a:ext cx="73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pic_17038"/>
          <p:cNvPicPr/>
          <p:nvPr/>
        </p:nvPicPr>
        <p:blipFill>
          <a:blip r:embed="rId1"/>
          <a:srcRect l="5468" t="12741" r="4801" b="5130"/>
          <a:stretch/>
        </p:blipFill>
        <p:spPr>
          <a:xfrm>
            <a:off x="4427640" y="0"/>
            <a:ext cx="471636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pic_17039"/>
          <p:cNvPicPr/>
          <p:nvPr/>
        </p:nvPicPr>
        <p:blipFill>
          <a:blip r:embed="rId2"/>
          <a:srcRect l="7353" t="11021" r="455" b="0"/>
          <a:stretch/>
        </p:blipFill>
        <p:spPr>
          <a:xfrm>
            <a:off x="343080" y="3141720"/>
            <a:ext cx="3400200" cy="371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pic_36a"/>
          <p:cNvPicPr/>
          <p:nvPr/>
        </p:nvPicPr>
        <p:blipFill>
          <a:blip r:embed="rId3"/>
          <a:stretch/>
        </p:blipFill>
        <p:spPr>
          <a:xfrm>
            <a:off x="3924360" y="3429000"/>
            <a:ext cx="303984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hou-6"/>
          <p:cNvPicPr/>
          <p:nvPr/>
        </p:nvPicPr>
        <p:blipFill>
          <a:blip r:embed="rId4"/>
          <a:stretch/>
        </p:blipFill>
        <p:spPr>
          <a:xfrm>
            <a:off x="250920" y="189000"/>
            <a:ext cx="4066920" cy="2968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970640" y="253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496200" y="33336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783160" y="3789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4643280" y="436572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it"/>
          <p:cNvPicPr/>
          <p:nvPr/>
        </p:nvPicPr>
        <p:blipFill>
          <a:blip r:embed="rId5"/>
          <a:stretch/>
        </p:blipFill>
        <p:spPr>
          <a:xfrm>
            <a:off x="7236000" y="3933720"/>
            <a:ext cx="1733400" cy="2133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3"/>
          <p:cNvSpPr/>
          <p:nvPr/>
        </p:nvSpPr>
        <p:spPr>
          <a:xfrm>
            <a:off x="8399880" y="5373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4280" y="907920"/>
            <a:ext cx="80773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章为何用许多篇幅写丑小鸭遭受的歧视和打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2895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更能突出丑小鸭不屈不挠，乐观向上，不懈追求的精神，从而激励那些身处逆境的人们去不断进取追求美好的生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hudie"/>
          <p:cNvPicPr/>
          <p:nvPr/>
        </p:nvPicPr>
        <p:blipFill>
          <a:blip r:embed="rId1"/>
          <a:stretch/>
        </p:blipFill>
        <p:spPr>
          <a:xfrm>
            <a:off x="7543800" y="5715000"/>
            <a:ext cx="96048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822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请找出童话中的若干人物（动物）形象，结合具体语句谈谈自己的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ject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7118640" cy="3768480"/>
          </a:xfrm>
          <a:prstGeom prst="rect">
            <a:avLst/>
          </a:prstGeom>
          <a:ln w="0">
            <a:noFill/>
          </a:ln>
        </p:spPr>
      </p:pic>
      <p:sp>
        <p:nvSpPr>
          <p:cNvPr id="73" name="WordArt 6"/>
          <p:cNvSpPr txBox="1"/>
          <p:nvPr/>
        </p:nvSpPr>
        <p:spPr>
          <a:xfrm>
            <a:off x="2895480" y="476280"/>
            <a:ext cx="373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latin typeface="隶书"/>
              </a:rPr>
              <a:t>辨形象</a:t>
            </a:r>
            <a:endParaRPr b="0" lang="en-US" sz="5400" spc="-1" strike="noStrike">
              <a:ln w="0">
                <a:noFill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533160" y="685440"/>
            <a:ext cx="7391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人说，丑小鸭变成白天鹅是它自己努力追求的结果；有人说，既使它一直生活在最初的地方，也会变成白天鹅。你同意哪种看法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00000" y="2708280"/>
            <a:ext cx="756756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明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丑小鸭之所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是用鸭氏家族的审美标准来评价的；之所以在猫绅士和鸡太太眼里是无能的，也是用猫族及鸡族的能力标准来衡量的。所以人们永远也不可能承认它的美丽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丑小鸭如果不离开老太婆家，去追求自己想要的生活，从而在灌木林中认识白天鹅的话，他永远也不能正确认识自己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 rot="5400000">
            <a:off x="7352640" y="1714320"/>
            <a:ext cx="236232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华文行楷"/>
              </a:rPr>
              <a:t>合作探究 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262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丑小鸭告诉我们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914040"/>
            <a:ext cx="4876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天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要经过自身的努力，重要的是要有天鹅一般高贵的灵魂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命运无轨道，三分天注定，七分靠自己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拼搏中才能真正认识自己原来也可以变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天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bject 4" descr=""/>
          <p:cNvPicPr/>
          <p:nvPr/>
        </p:nvPicPr>
        <p:blipFill>
          <a:blip r:embed="rId1"/>
          <a:stretch/>
        </p:blipFill>
        <p:spPr>
          <a:xfrm>
            <a:off x="4724280" y="762120"/>
            <a:ext cx="4419720" cy="34671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819680" y="4149720"/>
            <a:ext cx="4324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      </a:t>
            </a:r>
            <a:r>
              <a:rPr b="0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胸怀大志，不懈追求，谦虚谨慎，正是丑小鸭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安徒生的本色！</a:t>
            </a:r>
            <a:r>
              <a:rPr b="0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hua4"/>
          <p:cNvPicPr/>
          <p:nvPr/>
        </p:nvPicPr>
        <p:blipFill>
          <a:blip r:embed="rId2"/>
          <a:stretch/>
        </p:blipFill>
        <p:spPr>
          <a:xfrm>
            <a:off x="1143000" y="5943600"/>
            <a:ext cx="477720" cy="422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hua4"/>
          <p:cNvPicPr/>
          <p:nvPr/>
        </p:nvPicPr>
        <p:blipFill>
          <a:blip r:embed="rId3"/>
          <a:stretch/>
        </p:blipFill>
        <p:spPr>
          <a:xfrm>
            <a:off x="2362320" y="5638680"/>
            <a:ext cx="47772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2:44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3:32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