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73A-543A-4241-9B23-BD81E16D24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AE9-3E07-4CC3-9415-3EACF8B122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617-2684-4AB0-8C6C-B08E29E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A9A-0F89-44A7-AB82-030A7DFF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446-7DC9-409B-91EB-B64FF803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FE6-83C4-46D0-8DDD-D06101CA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736-D491-4A4E-9BF8-4813A8CC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29DB-856D-4CE3-8CF7-855C029F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B863-5CA7-4012-BD8B-514C945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B33-DCA4-4C1A-BA78-C47DE64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064A-A2F5-4657-A0B7-C168D97C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AF8E-0852-4B61-98B1-8CFBCD1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E84-92C6-4DFD-B36A-8FDDD8A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3AF-A7EA-4A7F-9E6D-0453379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7D08-F9C8-4511-926B-0E3747D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E6D-EA7F-4C33-8522-049EEE8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D8A5-9E21-4231-9B46-C19CDDA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347-4983-4436-B69F-252074E6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052F-B482-442F-B6F3-91D3A680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1F3-450D-4D03-A1A2-12FBD27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C4C-08C5-4148-9D0F-3E870005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EF6-348F-4325-9265-039280A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1B2-75DC-4E9E-9178-924B44D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F1E-E14B-49F2-801D-CF4A9C2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B9D-C380-489B-9560-8D5D13D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186-9570-4B4B-AE01-9076F0C4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微软雅黑"/>
              </a:rPr>
              <a:t>Click to edit the title text format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1" marL="476280" indent="477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2" marL="954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3" marL="1432080" indent="-4780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4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5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6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7960"/>
            <a:ext cx="289584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C751-8D7A-49D8-A504-101D814303A5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微软雅黑"/>
              </a:rPr>
              <a:t>Click to edit the title text format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1" marL="476280" indent="477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2" marL="954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3" marL="1432080" indent="-4780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4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5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6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7EC-04EF-4A6A-8363-BC998F5A6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xiaogushi.com/Special/xiatian/" TargetMode="External"/><Relationship Id="rId2" Type="http://schemas.openxmlformats.org/officeDocument/2006/relationships/hyperlink" Target="http://www.xiaogushi.com/Special/yun/" TargetMode="External"/><Relationship Id="rId3" Type="http://schemas.openxmlformats.org/officeDocument/2006/relationships/hyperlink" Target="http://www.xiaogushi.com/Special/yangguang/" TargetMode="External"/><Relationship Id="rId4" Type="http://schemas.openxmlformats.org/officeDocument/2006/relationships/hyperlink" Target="http://www.xiaogushi.com/Special/shibing/" TargetMode="External"/><Relationship Id="rId5" Type="http://schemas.openxmlformats.org/officeDocument/2006/relationships/hyperlink" Target="http://www.xiaogushi.com/Special/yifu/" TargetMode="External"/><Relationship Id="rId6" Type="http://schemas.openxmlformats.org/officeDocument/2006/relationships/hyperlink" Target="http://www.xiaogushi.com/Special/shudu/" TargetMode="External"/><Relationship Id="rId7" Type="http://schemas.openxmlformats.org/officeDocument/2006/relationships/hyperlink" Target="http://www.xiaogushi.com/Special/shijian/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518080" y="2014560"/>
            <a:ext cx="461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434720" y="61884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成语故事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099280" y="4075200"/>
            <a:ext cx="4302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1755360" y="6162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微软雅黑"/>
              </a:rPr>
              <a:t>评一评   改一改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要求：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语句是否通畅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情节是否完整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内容是否具体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想象是否合理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                    </a:t>
            </a:r>
            <a:r>
              <a:rPr b="0" lang="zh-CN" sz="2500" spc="-1" strike="noStrike">
                <a:solidFill>
                  <a:srgbClr val="ff0066"/>
                </a:solidFill>
                <a:latin typeface="微软雅黑"/>
              </a:rPr>
              <a:t>一诺千金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秦末有个叫季布的人，一向说话算数，信誉非常高，许多人都同他建立起了浓厚的友情。当时甚至流传着这样的谚语：“得黄金百斤，不如得季布一诺。”（这就是成语“一诺千斤”的由来）后来，他得罪了汉高祖刘邦，被悬赏捉拿。结果他的旧日的朋友不仅不被重金所惑，而且冒着灭九族的危险来保护他，缍使他免遭祸殃。       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一个人诚实有信，自然得道多助，能获得大家的尊重和友谊。反过来，如果贪图一时的安逸或小便宜，而失信于朋友，表面上是得到了“实惠”。但为了这点实惠他毁了自己的声誉，而声誉相比于物质是重要得多的。所以，失信于朋友，无异于失去了西瓜捡芝麻，得不偿失的。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160" y="307800"/>
            <a:ext cx="9107280" cy="640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微软雅黑"/>
              </a:rPr>
              <a:t>亡羊补牢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从前有一个孩童，名叫张三，他家里养了许多羊，但他做事马马虎虎的。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一天，羊圈上的栏杆上塌了一个洞，张三的邻居看见了，就提醒他赶快修羊圈，他呢，摇摇头说：“只有一个小小的洞，没关系的，过几天再修吧。”邻居没办法，只好走开了。 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当张三准备修补羊圈的栏杆，顺便看看小宝贝羊羔长的怎么样时，发现羊跑掉了不少，没剩几只了，他看到这番景象，不禁伤心地大哭起来：“我的羊儿呢？哇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……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哇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……” </a:t>
            </a:r>
            <a:br>
              <a:rPr sz="2100"/>
            </a:b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有一位老人家听到了张三的哭声，就走了过来，关心地问他： “你怎么啦？哭得这么伤心？吵得我没法睡觉了。”张三挂着眼泪珠子把事情的经过说给了那位老人家听，老人家听了，笑着对张三说：“你的羊儿不见了，是因为羊圈上栏杆的洞修得太迟了。你一旦发现，就要及时修补，否则羊就一只一只地跑走了，你现在修补还不算晚，还能挽救剩下的羊只。”张三顿时醒悟过来，谢过老人家，拿起锤子，把羊圈上的栏杆修得牢牢的。 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从此以后，张三家的羊再也不少了，他也彻底改掉了这个拖拉的坏毛病。虽然张三丢了不少羊，但他从这件事情吸取了很大的教训，从此养成了有错即改的好习惯。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文本框 1"/>
          <p:cNvSpPr/>
          <p:nvPr/>
        </p:nvSpPr>
        <p:spPr>
          <a:xfrm>
            <a:off x="233280" y="6039000"/>
            <a:ext cx="96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306360"/>
            <a:ext cx="8229600" cy="581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百闻不如一见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西汉汉宣帝时期，羌人侵入边界。攻城夺地，烧杀抢掠。宣帝召集群巨计议，询问谁愿领兵前去拒敌。七十六岁的老将赵充国，曾在边界和羌人打过几十年的交道。他自告奋勇，担当这一重任。宣帝问他要派多少兵马，他说：“听别人讲一百次，不如亲眼一见。用兵是很难在遥远的地方算计好的。我愿意亲自到那里去看看，然后确定攻守计划，画好作战地图，再向陛下上奏。”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经宣帝同意，赵充国带领一队人马出发。队伍渡过黄河，遇到羌人的小股军队。赵充国下令冲击，一下子捉到不少俘虏。兵士们准备 乘胜追击，赵充国阻拦说：“我军长途跋涉到此，不可远追。如果遭到敌兵伏击，就要吃大亏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!”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部下听了，都很佩眼他的见识。赵充国观察了地形，又从俘虏口中得知敌人内部的情况，了解到敌军的兵力部署，然后制定出屯兵把守、整治边境、分化瓦解羌人的策略，上奏宣帝。不久，朝廷就派兵平定了羌人的侵扰，安定了西北边疆。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6360" y="77400"/>
            <a:ext cx="9074160" cy="662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望梅止渴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有一年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1"/>
              </a:rPr>
              <a:t>夏天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，曹操率领部队去讨伐张绣，天气热得出奇，骄阳似火，天上一丝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云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彩也没有，部队在弯弯曲曲的山道上行走，两边密密的树木和被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阳光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晒得滚烫的山石，让人透不过气来。到了中午时分，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士兵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的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衣服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都湿透了，行军的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速度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也慢下来，有几个体弱的士兵竟晕倒在路边。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曹操看行军的速度越来越慢，担心贻误战机，心里很是着急。可是，眼下几万人马连水都喝不上，又怎么能加快速度呢？他立刻叫来向导，悄悄问他：“这附近可有水源？”向导摇摇头说：“泉水在山谷的那一边，要绕道过去还有很远的路程。”曹操想了一下说，“不行，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时间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来不及。”他看了看前边的树林，沉思了一会儿，对向导说：“你什么也别说，我来想办法。”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他知道此刻即使下命令要求部队加快速度也无济于事。脑筋一转，办法来了，他一夹马肚子，快速赶到队伍前面，用马鞭指着前方说：“士兵们，我知道前面有一大片梅林，那里的梅子又大又好吃，我们快点赶路，绕过这个山丘就到梅林了！”士兵们一听，仿佛已经吃到嘴里，精神大振，步伐不由得加快了许多。 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300" spc="-1" strike="noStrike">
                <a:solidFill>
                  <a:srgbClr val="ff6600"/>
                </a:solidFill>
                <a:latin typeface="微软雅黑"/>
              </a:rPr>
              <a:t>使用规范说明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7EB-0B0B-41EC-BD9D-3574002DCD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zh-CN" sz="3300" spc="-1" strike="noStrike">
              <a:solidFill>
                <a:srgbClr val="ff6600"/>
              </a:solidFill>
              <a:latin typeface="微软雅黑"/>
            </a:endParaRPr>
          </a:p>
        </p:txBody>
      </p:sp>
      <p:pic>
        <p:nvPicPr>
          <p:cNvPr id="170" name="Picture 3" descr="5005607_09184806979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24000" y="357336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如虎添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29275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喻力量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352160" y="169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u=3733412927,2217246895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52360" y="2852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喻事情越来越严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3790800"/>
            <a:ext cx="25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火上加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2268360" y="5257800"/>
            <a:ext cx="733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300" spc="-1" strike="noStrike">
                <a:solidFill>
                  <a:srgbClr val="ff0066"/>
                </a:solidFill>
                <a:latin typeface="微软雅黑"/>
              </a:rPr>
              <a:t>说一说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读过的成语故事是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故事中的主人公：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这个故事的内容是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这个成语故事的意思是：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还知道在那些情况下可以用这个成语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981440" y="32544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想一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怎样讲成语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5280" y="167616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微软雅黑"/>
              </a:rPr>
              <a:t>讲一讲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微软雅黑"/>
              </a:rPr>
              <a:t>讲成语故事要注意那些方面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c0504d"/>
                </a:solidFill>
                <a:latin typeface="微软雅黑"/>
              </a:rPr>
              <a:t>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</a:rPr>
              <a:t>、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讲清故事发生的时间、地点、人物、故事情节（发生、发展、结局），还可以讲故事给人们的启示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2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声音响亮、举止大方、文明礼貌、绘声绘色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3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活灵活现地模仿故事人物的语言、动作、神态、心理，再现故事的经过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4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讲故事既要完整清楚，又要具体生动，还应表现个人特点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000" y="914040"/>
            <a:ext cx="8218440" cy="5211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</a:rPr>
              <a:t>写一写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微软雅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微软雅黑"/>
              </a:rPr>
              <a:t>从故事会中选择一个自己最喜欢、印象深的故事写下来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、用自己的话再现一个完整、具体的成语故事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、在某个成语的基础上，续写一段新的故事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69800" y="35654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05:35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09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