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013-DE83-4C4F-93DE-E1A5C9C13D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BF8-0826-4065-BC94-9641BBBDF0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A07-6BDB-4AEC-9F88-59437185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BF2-EE11-4D7C-8AF7-C91FFE8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20E-6086-4FCE-8A49-1981C988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516-734D-431F-ACD0-F26F7B91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E99-F745-4521-9FD8-14C22144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3D1-AD24-4BF8-8B92-96CC958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896-DC12-43EF-8041-444338E8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89D-8C28-4718-B29F-A043D80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584-637F-4A46-AC05-3A212B8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3C7-AD38-4ED5-B50A-8240B4A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185-4ADE-4180-A22A-B73946E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2CA-12AC-4FE4-8D46-E91D661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D5F-D17F-4179-908D-67FF590D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image" Target="../media/image2.jpeg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slide" Target="slide12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592280" y="817560"/>
            <a:ext cx="57592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楷体_GB2312"/>
              </a:rPr>
              <a:t>东北大森林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234792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32000" y="2637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  <a:ea typeface="黑体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524720" y="249228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黑体"/>
              </a:rPr>
              <a:t>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292720" y="227664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黑体"/>
              </a:rPr>
              <a:t>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冬季森林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49600"/>
            <a:ext cx="2195640" cy="239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春季森林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4680" y="3805200"/>
            <a:ext cx="2232000" cy="224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密密麻麻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571920"/>
            <a:ext cx="216036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秋季森林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28000" y="3716280"/>
            <a:ext cx="2016000" cy="2309760"/>
          </a:xfrm>
          <a:prstGeom prst="rect">
            <a:avLst/>
          </a:prstGeom>
          <a:ln w="0">
            <a:noFill/>
          </a:ln>
        </p:spPr>
      </p:pic>
      <p:sp>
        <p:nvSpPr>
          <p:cNvPr id="57" name="矩形 10"/>
          <p:cNvSpPr/>
          <p:nvPr/>
        </p:nvSpPr>
        <p:spPr>
          <a:xfrm>
            <a:off x="1728360" y="6116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阳光射入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4000" y="5661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阳出来了，千万缕金色的光透过树梢，像利剑一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刺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了浓雾，照在湿漉漉的草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rId2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95280" y="0"/>
            <a:ext cx="849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学习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描写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夏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季的东北大森林时，作者首先描写了茂密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树木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然后描写了森林里的浓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雾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阳光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。这一段开始对树木茂密的描写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直接描写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那么后面对雾和阳光的描写就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侧面描写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。作者就是通过对树木茂密的直接描写和对浓雾、阳光的侧面描写，反映出夏季的东北大森林的葱郁蓬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密密麻麻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"/>
          <p:cNvSpPr/>
          <p:nvPr/>
        </p:nvSpPr>
        <p:spPr>
          <a:xfrm>
            <a:off x="395280" y="462600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秋季森林2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889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0" y="0"/>
            <a:ext cx="88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秋天，许多树的叶子变成了黄色，有的却变得火一样红。这时，松柏显得更加苍翠了。秋风吹拂着树林，发出哗哗的声响，就像海边的浪涛。各种山果子都熟了：榛子、野枣、山里红、山葡萄，说也说不完。松鼠忙起来了，不停地把山果子搬进树洞里。它们这是在为度过漫长的冬天做准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野枣4"/>
          <p:cNvPicPr/>
          <p:nvPr/>
        </p:nvPicPr>
        <p:blipFill>
          <a:blip r:embed="rId2"/>
          <a:stretch/>
        </p:blipFill>
        <p:spPr>
          <a:xfrm>
            <a:off x="395280" y="537372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山楂"/>
          <p:cNvPicPr/>
          <p:nvPr/>
        </p:nvPicPr>
        <p:blipFill>
          <a:blip r:embed="rId3"/>
          <a:stretch/>
        </p:blipFill>
        <p:spPr>
          <a:xfrm>
            <a:off x="2700360" y="5373720"/>
            <a:ext cx="180036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榛子树2"/>
          <p:cNvPicPr/>
          <p:nvPr/>
        </p:nvPicPr>
        <p:blipFill>
          <a:blip r:embed="rId4"/>
          <a:stretch/>
        </p:blipFill>
        <p:spPr>
          <a:xfrm>
            <a:off x="4859280" y="537372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野枣"/>
          <p:cNvPicPr/>
          <p:nvPr/>
        </p:nvPicPr>
        <p:blipFill>
          <a:blip r:embed="rId5"/>
          <a:stretch/>
        </p:blipFill>
        <p:spPr>
          <a:xfrm>
            <a:off x="7093080" y="5373720"/>
            <a:ext cx="172872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250920" y="260280"/>
            <a:ext cx="87138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背诵课文，积累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把东北大森林四季美丽的景色介绍给你身边的亲朋好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春天到了，利用清明假期去踏青或春游吧。记得运用今天所学的方法把你所见到的景物描写出来，和我们一起分享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梨花"/>
          <p:cNvPicPr/>
          <p:nvPr/>
        </p:nvPicPr>
        <p:blipFill>
          <a:blip r:embed="rId1"/>
          <a:stretch/>
        </p:blipFill>
        <p:spPr>
          <a:xfrm>
            <a:off x="2124000" y="4437000"/>
            <a:ext cx="230976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桃花"/>
          <p:cNvPicPr/>
          <p:nvPr/>
        </p:nvPicPr>
        <p:blipFill>
          <a:blip r:embed="rId2"/>
          <a:stretch/>
        </p:blipFill>
        <p:spPr>
          <a:xfrm>
            <a:off x="0" y="4437000"/>
            <a:ext cx="21528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柳树3"/>
          <p:cNvPicPr/>
          <p:nvPr/>
        </p:nvPicPr>
        <p:blipFill>
          <a:blip r:embed="rId3"/>
          <a:stretch/>
        </p:blipFill>
        <p:spPr>
          <a:xfrm>
            <a:off x="4427640" y="4437000"/>
            <a:ext cx="2376360" cy="242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油菜花2"/>
          <p:cNvPicPr/>
          <p:nvPr/>
        </p:nvPicPr>
        <p:blipFill>
          <a:blip r:embed="rId4"/>
          <a:stretch/>
        </p:blipFill>
        <p:spPr>
          <a:xfrm>
            <a:off x="6804000" y="4437000"/>
            <a:ext cx="2484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D46-D12E-47C8-AA24-B3FF213228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冬季森林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832360" y="0"/>
            <a:ext cx="331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冬天，许多阔叶树的叶子都落尽了，落叶松也光秃秃的，粗大的树干，像一根根支撑天空的圆柱。枞树上，压满了软绵绵的白雪。西北风呼呼地刮过，雪花便从树上飞舞下来。雪地上，有各种野兽的足迹。冬天，是动物们生活最困难的季节。熊躲在大树洞里，用它的舌头舔着自己又肥又厚的脚掌，不耐烦地等待着春天的来临。松鼠在树枝上迟钝地爬着，它靠秋天收藏在树洞里的山果过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冬季森林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832360" y="0"/>
            <a:ext cx="3311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冬天，许多阔叶树的叶子都落尽了，落叶松也光秃秃的，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粗大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的树干，像一根根支撑天空的圆柱。枞树上，压满了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软绵绵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的白雪。西北风呼呼地刮过，雪花便从树上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飞舞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下来。雪地上，有各种野兽的足迹。冬天，是动物们生活最困难的季节。熊躲在大树洞里，用它的舌头舔着自己又肥又厚的脚掌，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不耐烦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地等待着春天的来临。松鼠在树枝上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迟钝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地爬着，它靠秋天收藏在树洞里的山果过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春季森林3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33336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燕子从南方飞来了，野草的叶尖从积雪下面冒出来了，树木抽出了新的枝条，长出了嫩叶。春天来了！森林里一切都活跃起来。小溪里涨满了春水，哗哗地流着。草地上，到处开着红的、黄的、白的野花，有野玫瑰、野百合，还有许多你连名字也叫不出来的花。小蚂蚁出来觅食了，蜜蜂忙着酿蜜了，黑熊踱来踱去，想着法子找蜂窝偷蜜吃。小鹿的头上长出了一对嫩角，它们是最爱美的。你看，它们一边在溪中喝水，一边侧着脑袋欣赏着自己映在水里的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464328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春季森林3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0" y="33336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燕子从南方飞来了，野草的叶尖从积雪下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冒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出来了，树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抽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出了新的枝条，长出了嫩叶。春天来了！森林里一切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活跃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起来。小溪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涨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满了春水，哗哗地流着。草地上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到处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开着红的、黄的、白的野花，有野玫瑰、野百合，还有许多你连名字也叫不出来的花。小蚂蚁出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觅食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了，蜜蜂忙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酿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了，黑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踱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踱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去，想着法子找蜂窝偷蜜吃。小鹿的头上长出了一对嫩角，它们是最爱美的。你看，它们一边在溪中喝水，一边侧着脑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欣赏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着自己映在水里的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春季森林3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79280" y="0"/>
            <a:ext cx="871380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学习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描写</a:t>
            </a:r>
            <a:r>
              <a:rPr b="0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春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季的东北大森林时，作者紧紧围绕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春天来了，森林里一切都活跃起来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句话，先略写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野草、树木、小溪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然后详写了各式各样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野花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最后详写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动物们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春天的活动。通过对这些景物的具体描写，反映出东北大森林春天生机勃勃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森林01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53053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夏天，一层又一层的树叶把森林封得严严实实，空气又闷又湿，几乎一点儿也不流动。早晨，雾从山谷里升起来，整个森林浸在了奶白色的浓雾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森林01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4000" y="53053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夏天，一层又一层的树叶把森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得严严实实，空气又闷又湿，几乎一点儿也不流动。早晨，雾从山谷里升起来，整个森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了奶白色的浓雾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阳光射入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24000" y="5661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阳出来了，千万缕金色的光透过树梢，像利剑一样刺透了浓雾，照在湿漉漉的草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rId2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2:19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21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