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5DBC-58A0-4A53-B8B5-D0078D689E2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1FA9-5693-4D10-8962-765AC9D3F52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774D-EE54-4E1B-915B-9392C70FA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7483-89E9-4C3B-B35C-DFC63A66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AAFE-B548-4E67-97BF-E3550ABD8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839A-169E-4B67-BDE4-3DAD4BF3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BCEC-2465-47E5-8077-87AF2C14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CFC3-825E-47C9-B328-D31D8CA5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D02C-B406-4223-804A-BD25A66F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26F7-0100-4179-9862-E901E14E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E756-4AE0-4142-A35E-9BD450A1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ADB2-02B3-4B84-AB59-EF8EC0FA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ABF3-BCDA-48DC-921A-CCD1DD1F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A3D1-BB3B-4637-A2D3-EF1B5FB5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476E-EBEE-49B0-90AB-E6D734D78A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大海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990720" y="1371600"/>
            <a:ext cx="71625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ff00"/>
                </a:solidFill>
                <a:latin typeface="隶书"/>
                <a:ea typeface="隶书"/>
              </a:rPr>
              <a:t>大海的歌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006280" y="59626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海浪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3"/>
          <p:cNvSpPr/>
          <p:nvPr/>
        </p:nvSpPr>
        <p:spPr>
          <a:xfrm>
            <a:off x="6248520" y="685800"/>
            <a:ext cx="2514600" cy="15238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04920" y="2362320"/>
            <a:ext cx="8381880" cy="2806920"/>
          </a:xfrm>
          <a:prstGeom prst="rect">
            <a:avLst/>
          </a:prstGeom>
          <a:solidFill>
            <a:srgbClr val="ff00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，          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深夜里， 大海睡觉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她抱着    ，她背着    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那轻轻的     啊，是她睡熟的鼾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80880" y="457200"/>
            <a:ext cx="8534520" cy="521280"/>
          </a:xfrm>
          <a:prstGeom prst="rect">
            <a:avLst/>
          </a:prstGeom>
          <a:solidFill>
            <a:srgbClr val="ffff00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《大海睡了》并没有直接描述大海夜景（睡了），而是用一些事物来衬托，用的是哪些事物？用“……”批注出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620640" y="2362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风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1540080" y="23623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不闹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2895480" y="2362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浪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3903840" y="2332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不笑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1679400" y="3822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明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3978360" y="3809880"/>
            <a:ext cx="9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星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2142360" y="4530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潮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620640" y="2362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隶书"/>
                <a:ea typeface="黑体"/>
              </a:rPr>
              <a:t>风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2895480" y="2362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隶书"/>
                <a:ea typeface="黑体"/>
              </a:rPr>
              <a:t>浪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1687320" y="3809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隶书"/>
                <a:ea typeface="黑体"/>
              </a:rPr>
              <a:t>明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3962520" y="3809880"/>
            <a:ext cx="99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隶书"/>
                <a:ea typeface="黑体"/>
              </a:rPr>
              <a:t>星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2144520" y="4495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隶书"/>
                <a:ea typeface="黑体"/>
              </a:rPr>
              <a:t>潮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1722960" y="584208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隶书"/>
                <a:ea typeface="黑体"/>
              </a:rPr>
              <a:t>这首诗歌用了什么样的修辞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591640" y="464832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黑体"/>
              </a:rPr>
              <a:t>这首诗歌用了什么样的修辞手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114360" y="762120"/>
            <a:ext cx="3350520" cy="3506760"/>
          </a:xfrm>
          <a:prstGeom prst="rect">
            <a:avLst/>
          </a:prstGeom>
          <a:solidFill>
            <a:srgbClr val="ff99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风儿不闹了， 浪儿不笑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深夜里， 大海睡觉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她抱着明月，她背着星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那轻轻的潮声啊，是她睡熟的鼾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530800" y="7621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黑体"/>
                <a:ea typeface="黑体"/>
              </a:rPr>
              <a:t>不闹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5144400" y="731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黑体"/>
                <a:ea typeface="黑体"/>
              </a:rPr>
              <a:t>不笑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534920" y="17226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黑体"/>
                <a:ea typeface="黑体"/>
              </a:rPr>
              <a:t>睡觉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5916600" y="37036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黑体"/>
                <a:ea typeface="黑体"/>
              </a:rPr>
              <a:t>睡熟的鼾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2448360" y="5334120"/>
            <a:ext cx="4326120" cy="582120"/>
          </a:xfrm>
          <a:prstGeom prst="rect">
            <a:avLst/>
          </a:prstGeom>
          <a:solidFill>
            <a:srgbClr val="ff99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黑体"/>
                <a:ea typeface="黑体"/>
              </a:rPr>
              <a:t>拟人的修辞手法，使大海有了人的性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977120" y="27129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黑体"/>
                <a:ea typeface="黑体"/>
              </a:rPr>
              <a:t>抱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4491720" y="27129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黑体"/>
                <a:ea typeface="黑体"/>
              </a:rPr>
              <a:t>背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>
              <a:alpha val="36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海上的风都被比喻成了什么用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......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画出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564640" y="1523880"/>
            <a:ext cx="4475160" cy="4787280"/>
          </a:xfrm>
          <a:prstGeom prst="rect">
            <a:avLst/>
          </a:prstGeom>
          <a:solidFill>
            <a:srgbClr val="9933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海上的风是花神，他一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就绽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zhà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开万朵浪花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海上的风是琴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qí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师，他一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就奏出万种乐曲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海上的风是大力士，他一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就送走万片渔帆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yúfā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海上的风是狮子，他一吼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就掀起滔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tāo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天波浪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4105440" y="1523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花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4261680" y="2819520"/>
            <a:ext cx="18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琴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qín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329000" y="4114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大力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258080" y="5334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狮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533520" y="730440"/>
            <a:ext cx="83818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花神一来会是怎样情景？用“～～～”画出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绽开万朵浪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琴师一来会是怎样的？用“～～～”画出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奏出万朵乐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大力士一来是怎样的？用“～～～”画出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送走万片鱼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狮子一来会是怎样？用“～～～”画出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掀起波浪滔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大海2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64680" cy="1676520"/>
          </a:xfrm>
          <a:prstGeom prst="rect">
            <a:avLst/>
          </a:prstGeom>
          <a:solidFill>
            <a:srgbClr val="800080">
              <a:alpha val="40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如果说《大海睡了》是一种静谧之美，那么《海上的风》就是雄浑壮阔之美。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看看谁能把这种气势读出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52280" y="1981080"/>
            <a:ext cx="4270320" cy="4208400"/>
          </a:xfrm>
          <a:prstGeom prst="rect">
            <a:avLst/>
          </a:prstGeom>
          <a:solidFill>
            <a:srgbClr val="ff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海上的风是花神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他一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就绽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zhà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开万朵浪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海上的风是琴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qí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他一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就奏出万种乐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876920" y="1981080"/>
            <a:ext cx="4270320" cy="3934080"/>
          </a:xfrm>
          <a:prstGeom prst="rect">
            <a:avLst/>
          </a:prstGeom>
          <a:solidFill>
            <a:srgbClr val="ff0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海上的风是大力士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他一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就送走万片渔帆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yúfā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海上的风是狮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他一吼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就掀起滔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tāo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天波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4572000" y="1905120"/>
            <a:ext cx="76320" cy="4952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01680" y="1142640"/>
            <a:ext cx="8540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Arial"/>
              </a:rPr>
              <a:t>《海上的风》有什么特点？你能仿照着写写自己喜爱的事物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海上的风是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花神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他一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就绽开万朵浪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思维拓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4495680" y="3048120"/>
            <a:ext cx="4114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海上的风是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_____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他一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"/>
          <p:cNvSpPr/>
          <p:nvPr/>
        </p:nvSpPr>
        <p:spPr>
          <a:xfrm>
            <a:off x="1751040" y="6197760"/>
            <a:ext cx="564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905120"/>
            <a:ext cx="86104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熟睡的大海和海上的风给你留下怎样的印象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905120" y="990720"/>
            <a:ext cx="259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思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8839080" cy="35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同学样我们通过两首诗歌感受到了大海不同时间的各种美，那么大海又是由什么汇聚而成的呢？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279480" y="25527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小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6320" y="327672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我们一起来读一读《小溪流的歌》看看小溪流成长壮大需要几个过程“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-----”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勾画出来，遇到了哪些艰难险阻“～～”勾画出来。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谈谈读完之后的感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457200" y="1781280"/>
            <a:ext cx="838188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按课文内容填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．她抱着（      ），她背着（      ），那轻轻的（      ）啊，是她熟睡的鼾声。</a:t>
            </a:r>
            <a:r>
              <a:rPr b="0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．海上的风是（      ），它一来，就绽开万朵浪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海上的风是（      ），它一来，就奏出万种乐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海上的风是（      ），它一来，就送走万片鱼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海上的风是（      ），它一吼，就掀起波浪滔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228600" y="821880"/>
            <a:ext cx="818532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 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选词填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宋体"/>
              </a:rPr>
              <a:t>平静   安静   宁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．房间里非常（　），只听见钟表的嘀哒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．几只小船飘荡在（　）的湖面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．夜晚，（　）的乡间小路上连一个人影都没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457200" y="1066680"/>
            <a:ext cx="815328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感受大自然的美好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28440" y="456840"/>
            <a:ext cx="85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幼圆"/>
              </a:rPr>
              <a:t>欣赏诗句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829880"/>
            <a:ext cx="5068800" cy="42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她抱着明月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她背着星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轻轻的潮水啊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是她熟睡的鼾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876920" y="1752480"/>
            <a:ext cx="3733560" cy="2133720"/>
          </a:xfrm>
          <a:prstGeom prst="cloudCallout">
            <a:avLst>
              <a:gd name="adj1" fmla="val -19046"/>
              <a:gd name="adj2" fmla="val 7470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Arial"/>
              </a:rPr>
              <a:t>看到这些美丽的海天景色，会有什么样的心情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04CF-6C14-497B-BED4-7EBB14566E9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大海4"/>
          <p:cNvPicPr/>
          <p:nvPr/>
        </p:nvPicPr>
        <p:blipFill>
          <a:blip r:embed="rId1"/>
          <a:stretch/>
        </p:blipFill>
        <p:spPr>
          <a:xfrm>
            <a:off x="762120" y="888840"/>
            <a:ext cx="7848360" cy="52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大海5"/>
          <p:cNvPicPr/>
          <p:nvPr/>
        </p:nvPicPr>
        <p:blipFill>
          <a:blip r:embed="rId1"/>
          <a:stretch/>
        </p:blipFill>
        <p:spPr>
          <a:xfrm>
            <a:off x="1219320" y="762120"/>
            <a:ext cx="731520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5"/>
          <p:cNvSpPr/>
          <p:nvPr/>
        </p:nvSpPr>
        <p:spPr>
          <a:xfrm>
            <a:off x="878040" y="373392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大海6"/>
          <p:cNvPicPr/>
          <p:nvPr/>
        </p:nvPicPr>
        <p:blipFill>
          <a:blip r:embed="rId1"/>
          <a:stretch/>
        </p:blipFill>
        <p:spPr>
          <a:xfrm>
            <a:off x="838080" y="304920"/>
            <a:ext cx="792504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大海2"/>
          <p:cNvPicPr/>
          <p:nvPr/>
        </p:nvPicPr>
        <p:blipFill>
          <a:blip r:embed="rId1"/>
          <a:stretch/>
        </p:blipFill>
        <p:spPr>
          <a:xfrm>
            <a:off x="1371600" y="762120"/>
            <a:ext cx="697068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作者介绍   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刘饶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教员、校长，青岛台东六路小学教导主任，山东大学附设工农刘饶民山东莱西人。中共党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著有儿童诗集</a:t>
            </a:r>
            <a:r>
              <a:rPr b="0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《</a:t>
            </a:r>
            <a:r>
              <a:rPr b="0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写给少先队员的诗</a:t>
            </a:r>
            <a:r>
              <a:rPr b="0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》</a:t>
            </a:r>
            <a:r>
              <a:rPr b="0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《</a:t>
            </a:r>
            <a:r>
              <a:rPr b="0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海边儿歌</a:t>
            </a:r>
            <a:r>
              <a:rPr b="0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》</a:t>
            </a:r>
            <a:r>
              <a:rPr b="0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《</a:t>
            </a:r>
            <a:r>
              <a:rPr b="0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儿歌一百首</a:t>
            </a:r>
            <a:r>
              <a:rPr b="0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》</a:t>
            </a:r>
            <a:r>
              <a:rPr b="0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《</a:t>
            </a:r>
            <a:r>
              <a:rPr b="0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百子图</a:t>
            </a:r>
            <a:r>
              <a:rPr b="0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》</a:t>
            </a:r>
            <a:r>
              <a:rPr b="0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《</a:t>
            </a:r>
            <a:r>
              <a:rPr b="0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农村散歌</a:t>
            </a:r>
            <a:r>
              <a:rPr b="0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》</a:t>
            </a:r>
            <a:r>
              <a:rPr b="0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《</a:t>
            </a:r>
            <a:r>
              <a:rPr b="0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孩子们的歌</a:t>
            </a:r>
            <a:r>
              <a:rPr b="0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》</a:t>
            </a:r>
            <a:r>
              <a:rPr b="0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组诗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大海的歌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获全国第二届少儿文艺创作二等奖</a:t>
            </a:r>
            <a:r>
              <a:rPr b="0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066680" y="1676520"/>
            <a:ext cx="6782040" cy="24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感情的朗读  谈谈自已的感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《大海睡了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《海上的凤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大海睡了.wav" descr=""/>
          <p:cNvPicPr/>
          <p:nvPr/>
        </p:nvPicPr>
        <p:blipFill>
          <a:blip r:embed="rId1"/>
          <a:stretch/>
        </p:blipFill>
        <p:spPr>
          <a:xfrm>
            <a:off x="6019920" y="27432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61" name="海上的风.wav" descr=""/>
          <p:cNvPicPr/>
          <p:nvPr/>
        </p:nvPicPr>
        <p:blipFill>
          <a:blip r:embed="rId2"/>
          <a:stretch/>
        </p:blipFill>
        <p:spPr>
          <a:xfrm>
            <a:off x="6019920" y="37339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8359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67318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海浪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990720" y="9907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《大海睡了》写的是大海的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990720" y="1752480"/>
            <a:ext cx="7238880" cy="582120"/>
          </a:xfrm>
          <a:prstGeom prst="rect">
            <a:avLst/>
          </a:prstGeom>
          <a:solidFill>
            <a:srgbClr val="ff00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你是从哪里看出来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990720" y="2438280"/>
            <a:ext cx="7238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《海上的风》写的是大海的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066680" y="4191120"/>
            <a:ext cx="7239240" cy="582120"/>
          </a:xfrm>
          <a:prstGeom prst="rect">
            <a:avLst/>
          </a:prstGeom>
          <a:solidFill>
            <a:srgbClr val="ff00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你是从哪里看出来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477120" y="1066680"/>
            <a:ext cx="1447560" cy="521280"/>
          </a:xfrm>
          <a:prstGeom prst="rect">
            <a:avLst/>
          </a:prstGeom>
          <a:solidFill>
            <a:srgbClr val="00000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黑体"/>
              </a:rPr>
              <a:t>静态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6324480" y="3200400"/>
            <a:ext cx="1447920" cy="521280"/>
          </a:xfrm>
          <a:prstGeom prst="rect">
            <a:avLst/>
          </a:prstGeom>
          <a:solidFill>
            <a:srgbClr val="000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黑体"/>
              </a:rPr>
              <a:t>动态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3T23:34:1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7:00Z</dcterms:modified>
  <cp:revision>6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