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A1E4-AC7E-4A88-BFC3-99E62F195F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6AE-F48F-4893-950B-E602357C28B0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AA3-B4E2-4970-B0B3-C951757C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47A-FFA2-4C87-978E-2A69FFDF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990-1D03-412B-9681-3360785B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2AA-3543-427F-9C31-6D8BA066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B42A-EFA0-4926-B49B-CA65216C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9B8-94EE-4A81-A21C-FF2CC1C7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B94C-E7F6-4EE0-B30A-7A8C5AF0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4266-011D-495B-8901-A1072F4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E8CC-E1C3-446A-ABA0-E51259A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C796-9E2D-4AE7-A935-94F7381F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3D7A-9091-40B1-A132-DE1E6A0B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8C0-D0A1-46F5-91A1-9FBF9490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85F7-9D8B-4C56-A981-71D53967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850-2478-4EEB-9D80-DA16EEF7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B19B-F2C2-4600-BC5E-07CD19B2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FF85-6A16-4791-9A80-9062D099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E68A-F0ED-49E6-BC57-125B6782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580-9EE3-4470-8CD7-6E663E2A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B38-7154-41F8-AD48-931F6821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247-139E-4234-ADEE-DD8B6487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980-09C5-408E-93B4-7C8AEC13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F0B-63C1-416F-9252-28DEEA88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DF8-931F-42B9-A32E-8040D0E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F73-1659-4302-BC96-72663CDA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7FA4-DF79-4FC4-A3A0-460155C28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9F65-3B1D-4D2E-A4C2-EF8450EC6B5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048120" y="5334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-1180080" y="965160"/>
            <a:ext cx="3685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华文行楷"/>
              </a:rPr>
              <a:t>灯祭</a:t>
            </a:r>
            <a:endParaRPr b="0" lang="en-US" sz="115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1827000" y="57024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533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拓展延伸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90720" y="182880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积累你认为最感人的词语或句子。</a:t>
            </a:r>
            <a:br>
              <a:rPr sz="4000"/>
            </a:b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．迟子建的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白雪的墓园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不灭的家族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遥渡相思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重温草莓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等。 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9480-4619-4F1B-ACCB-0E4DDEA178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油灯1"/>
          <p:cNvPicPr/>
          <p:nvPr/>
        </p:nvPicPr>
        <p:blipFill>
          <a:blip r:embed="rId1"/>
          <a:stretch/>
        </p:blipFill>
        <p:spPr>
          <a:xfrm>
            <a:off x="6343560" y="4267080"/>
            <a:ext cx="2800440" cy="2057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学习目标：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知识与技能目标：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生字新词，并能联系上下文和生活实际理解词语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联系上下文，理解文中感情充沛的句子，体会作者在字里行间透露的对父亲无限怀念的挚爱真情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过程与方法目标：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培养学生阅读的能力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培养学生有感情地朗读课文的能力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感悟作者的表达方法，体会文章语言的魅力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情感态度与价值观目标：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理解课文内容，了解课文所表现出的朴实的父女之情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----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父亲对我无言的爱，我对父亲无限的依恋及怀念。培养学生的对亲情的珍爱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教学重点、难点：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重点：理解两代人阴阳两界无法阻隔的亲情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难点：体会“那灯是不寻常的”在作者心中的位置。</a:t>
            </a:r>
            <a:br>
              <a:rPr sz="1800"/>
            </a:b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3399"/>
                </a:solidFill>
                <a:latin typeface="Arial"/>
              </a:rPr>
              <a:t>）关键：通过对文章内容的理解，正确体会课题的含义。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101520" y="595944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Picture 5" descr="http://pictorial.tengfei.org.cn/20050527/fuqin/image/fuqinjie01.jfif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837160" y="685800"/>
            <a:ext cx="40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父子俩面对生活的艰辛相依为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父亲刘和刚原唱.mp3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Picture 3" descr="http://pictorial.tengfei.org.cn/20050527/fuqin/image/fuqinjie05.jfif"/>
          <p:cNvPicPr/>
          <p:nvPr/>
        </p:nvPicPr>
        <p:blipFill>
          <a:blip r:embed="rId1"/>
          <a:stretch/>
        </p:blipFill>
        <p:spPr>
          <a:xfrm>
            <a:off x="685800" y="1752480"/>
            <a:ext cx="784872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2404080" y="457200"/>
            <a:ext cx="51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果说父爱还有别的表达方式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那应该还有对我们心甘情愿的纵容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4" name="Picture 3" descr="http://www.364000.com/UpLoadFiles/ys/6%20yue/fu%20qin%20jie/1%20(4).jpg"/>
          <p:cNvPicPr/>
          <p:nvPr/>
        </p:nvPicPr>
        <p:blipFill>
          <a:blip r:embed="rId1"/>
          <a:stretch/>
        </p:blipFill>
        <p:spPr>
          <a:xfrm>
            <a:off x="685800" y="380880"/>
            <a:ext cx="3313080" cy="457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pictorial.tengfei.org.cn/20050527/fuqin/image/fuqinjie08.jfif"/>
          <p:cNvPicPr/>
          <p:nvPr/>
        </p:nvPicPr>
        <p:blipFill>
          <a:blip r:embed="rId2"/>
          <a:stretch/>
        </p:blipFill>
        <p:spPr>
          <a:xfrm>
            <a:off x="5181480" y="2286000"/>
            <a:ext cx="320040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118840" y="355680"/>
            <a:ext cx="246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如今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当我们已慢慢长大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是否依然记得依靠老爸肩膀的感觉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是否依然记起老爸背上的感觉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那种温暖的感觉</a:t>
            </a:r>
            <a:br>
              <a:rPr sz="2000"/>
            </a:b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惬意的感觉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…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8" name="Picture 3" descr="http://www.snxw.com/ds/UploadFiles_5932/200811/2008110823323754.jpg"/>
          <p:cNvPicPr/>
          <p:nvPr/>
        </p:nvPicPr>
        <p:blipFill>
          <a:blip r:embed="rId1"/>
          <a:stretch/>
        </p:blipFill>
        <p:spPr>
          <a:xfrm>
            <a:off x="6858000" y="3657600"/>
            <a:ext cx="1698480" cy="2548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762120" y="60948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迟子建：女，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964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元宵节出生于北极村，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983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年开始写作，至今已发表以小说为主的文学作品五百余万字，出版四十余部单行本。从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白雪的墓园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中，读懂了父亲的去世带给她及整个家庭的痛苦，文中字字透露着对父亲的怀念，句句留着父亲的影子。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北极村的童话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中，看到了一个调皮可爱聪明的小女孩儿。迎灯，父亲让她迎来了千盏万盏的灯，却再也迎不来父亲亲手做的那盏灯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父亲去世时，离春节仅仅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0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天，那一年的年，别人家灯火通明，只有他们家黑漆漆的，父亲的去世，带走了光明，带走了有声有色的年，带走了妖娆迷人的年。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我多想提着父亲送我的灯到路上接他回来啊。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令人哽咽，令人心酸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灯祭，用盏灯祭奠父亲。当作者看到那苍老的卖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灯人，当看到了那盏玻璃灯，买下它，送到了父亲的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墓地，颤动的夜色是父亲深沉的回应，更是女儿思念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父亲的心</a:t>
            </a:r>
            <a:r>
              <a:rPr b="1" lang="en-US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‥ ‥ ‥</a:t>
            </a:r>
            <a:r>
              <a:rPr b="1" lang="zh-CN" sz="2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是送给父亲的第一盏灯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19320" y="17524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作者与父亲有着怎样的深厚感情？结合文中子、词、句来说一说，可在旁边做批注，并体会着读一读。并想一想，那盏灯不寻常在哪？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4" descr="油灯1"/>
          <p:cNvPicPr/>
          <p:nvPr/>
        </p:nvPicPr>
        <p:blipFill>
          <a:blip r:embed="rId1"/>
          <a:stretch/>
        </p:blipFill>
        <p:spPr>
          <a:xfrm>
            <a:off x="6095880" y="4343400"/>
            <a:ext cx="2514600" cy="199224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762120" y="457200"/>
            <a:ext cx="20955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中心问题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53352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因为有了年，就觉得日子是有盼头的；而因为有了父亲，年也就显得有声有色；而如果又有了父亲送给我的灯，年则妖娆迷人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6" name="Picture 5" descr="honor08181647"/>
          <p:cNvPicPr/>
          <p:nvPr/>
        </p:nvPicPr>
        <p:blipFill>
          <a:blip r:embed="rId1"/>
          <a:stretch/>
        </p:blipFill>
        <p:spPr>
          <a:xfrm>
            <a:off x="6781680" y="4191120"/>
            <a:ext cx="190512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57200" y="228600"/>
            <a:ext cx="8305920" cy="62096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14400" y="6094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父亲去世的当年我们没有点灯。别人家的院子里灯火辉煌，我们家却黑漆漆的。我多想提着父亲送我的灯到路上接他回来呀。</a:t>
            </a: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9" name="Picture 4" descr="油灯1"/>
          <p:cNvPicPr/>
          <p:nvPr/>
        </p:nvPicPr>
        <p:blipFill>
          <a:blip r:embed="rId1"/>
          <a:stretch/>
        </p:blipFill>
        <p:spPr>
          <a:xfrm>
            <a:off x="5791320" y="3809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35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1:59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