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2E64-C7EC-4941-B375-4E6F6BBBC0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A878-2037-473D-B89F-856F38C1229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AD5-682D-4F61-82A8-3B2F2A78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465-1F16-4306-9348-D9DF117E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A165-1B80-4CB3-A850-BA90C15B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AC2A-9C15-4CB9-8DFF-C62DF89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C42-28C6-4473-ABD3-15E9FC87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5F6-164D-4E30-8B2A-861269E5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0A2-A1B0-46FF-BA2C-338C1C8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580-9938-41AE-93A3-F10AE6BD3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067-F034-4A68-9441-4E93A7CC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BD21-0D69-4DD8-A763-A987D54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B5C-6B82-41C9-8CC9-716FB9DB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50C3-5BE4-4ACC-A442-5EC5D596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5A95-11BA-44D0-A650-F9DB64645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洞庭湖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黑体"/>
              </a:rPr>
              <a:t>洞庭鱼米乡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762120" y="6066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湘教版二年级语文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748520" y="54864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1440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佳句品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美丽的洞庭湖，是祖国江南大地上的一颗明珠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宽阔的湖面上，碧波荡漾，船儿来往，鱼儿蹦跳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洞庭湖畔，是一望无际的稻田。春天，禾苗青青；夏季，稻浪滚滚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是呀，鱼汛季节，鲜活的鱼儿，一筐筐，一担担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真的，收割季节，金黄的谷子，一袋袋，一车车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、美丽富饶的洞庭，是祖国的大鱼库、大粮仓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自读感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小朋友，请你们再读课文，想一想：为什么说洞庭湖是鱼米乡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理解和感悟重点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宽阔的湖面上，碧波荡漾，船儿来往，鱼儿蹦跳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说明了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船儿来往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理解捕鱼的人很多。从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鱼儿蹦跳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理解洞庭湖的鱼儿鲜活肥美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（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是呀，鱼汛季节，鲜活的鱼儿，一筐筐，一担担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又说明了什么呢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筐筐，一担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这么的鱼，难怪爷爷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是个大鱼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湖畔，是一望无际的稻田。春天，禾苗青青；夏季，稻浪滚滚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除说明洞庭是个大鱼库，还告诉我们写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望无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禾苗青青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稻浪滚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来理解洞庭粮食作物的多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真的，收割积极，金黄的谷子，一袋袋，一车车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方正楷体_GBK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这句话中你能明白什么呢？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是个大粮仓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米1"/>
          <p:cNvPicPr/>
          <p:nvPr/>
        </p:nvPicPr>
        <p:blipFill>
          <a:blip r:embed="rId1"/>
          <a:stretch/>
        </p:blipFill>
        <p:spPr>
          <a:xfrm>
            <a:off x="2286000" y="1066680"/>
            <a:ext cx="4332240" cy="472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小结提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洞庭湖不光是</a:t>
            </a:r>
            <a:r>
              <a:rPr b="0" lang="zh-CN" sz="3200" spc="-1" strike="noStrike">
                <a:solidFill>
                  <a:srgbClr val="000000"/>
                </a:solidFill>
                <a:latin typeface="方正楷体_GBK"/>
              </a:rPr>
              <a:t>大鱼库、大粮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洞庭湖还有更多的画面让你惊叹。谁能说一说呢？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楷体_GBK"/>
              </a:rPr>
              <a:t>花园、果园、菜园、荷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440" y="990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望洞庭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唐）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湖光秋月两相和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洞庭湖的水色和秋天的月色交融在一起，互相辉应，显得多么和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潭面无风镜未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无风的湖面平静得如一面没经过打磨的铜镜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遥望洞庭山水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远远望去洞庭湖山水一片翠绿</a:t>
            </a:r>
            <a:r>
              <a:rPr b="0" lang="en-US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白银盘里一青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就好像白银盘里盛放着一枚青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动听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473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BF13-DE25-4DE6-9EEB-E847D44963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　　　　　　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学会本课生字及由生字组成的词语；正确、流利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了解洞庭湖盛产鱼米的特点，体会作者热爱自己家乡的思想感情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21337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_GBK"/>
              </a:rPr>
              <a:t>孩子们，你见过洞庭湖吗，它美丽、富饶是有名的鱼米之乡，你想去看看吗？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楷体_GBK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905040" y="518148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洞庭湖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鱼米之乡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洞庭湖 封底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5"/>
          <p:cNvSpPr/>
          <p:nvPr/>
        </p:nvSpPr>
        <p:spPr>
          <a:xfrm>
            <a:off x="3505320" y="35053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初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自由轻声读，不认识的字多读几遍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看看课文中有几幅图，有几个自然段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读一读，写一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dòng  tíng  h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洞    庭   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400" spc="-1" strike="noStrike">
                <a:solidFill>
                  <a:srgbClr val="ff0000"/>
                </a:solidFill>
                <a:latin typeface="宋体"/>
              </a:rPr>
              <a:t>zǔ   dàn  cāng  g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祖    担   仓   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语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明珠　宽阔　鲜活　美丽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一望无际　富饶　来往　稻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40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8:48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