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5193-4FF9-4814-A03B-CBB69E4477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4EAA-12DA-4EDA-B0F7-7CCC19F04A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471-8F86-4E2B-B5AC-11D70064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E0F-99DB-4A66-8CB5-9DF82584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528-B4CB-4196-B9A7-6FCD3743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A57B-DCFA-4931-BEFA-A023E131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C84-EC1F-4370-8936-0A485606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DEE-AE2F-46CB-AD51-DF92F821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733-5593-41D0-A9C7-9A78DB40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BA7-D8DA-4CB5-93D1-92807F8C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901-E6D5-4666-9A09-6A40570B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DC5-DD37-4596-98A1-EBA933EC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354-9B9C-4EAA-9E1F-BF2A1FA2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685-5587-4C6D-AC10-957025DB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7BE4-4C60-40BE-9A2D-79D2C58D1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9a3ed49a5bf52e92c8eaf4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145418fcadcf2adffc037f0f"/>
          <p:cNvPicPr/>
          <p:nvPr/>
        </p:nvPicPr>
        <p:blipFill>
          <a:blip r:embed="rId2"/>
          <a:stretch/>
        </p:blipFill>
        <p:spPr>
          <a:xfrm>
            <a:off x="457200" y="1371600"/>
            <a:ext cx="3473280" cy="4991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0" name="WordArt 6"/>
          <p:cNvSpPr txBox="1"/>
          <p:nvPr/>
        </p:nvSpPr>
        <p:spPr>
          <a:xfrm>
            <a:off x="4262400" y="3255840"/>
            <a:ext cx="4568760" cy="115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3300"/>
                </a:solidFill>
                <a:latin typeface="华文新魏"/>
              </a:rPr>
              <a:t>大舞台</a:t>
            </a:r>
            <a:endParaRPr b="1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ff3300"/>
              </a:solidFill>
              <a:latin typeface="华文新魏"/>
              <a:ea typeface="华文新魏"/>
            </a:endParaRPr>
          </a:p>
        </p:txBody>
      </p:sp>
      <p:pic>
        <p:nvPicPr>
          <p:cNvPr id="51" name="矩形 8" descr=""/>
          <p:cNvPicPr/>
          <p:nvPr/>
        </p:nvPicPr>
        <p:blipFill>
          <a:blip r:embed="rId3"/>
          <a:stretch/>
        </p:blipFill>
        <p:spPr>
          <a:xfrm>
            <a:off x="4130640" y="5791320"/>
            <a:ext cx="482436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533520" y="50450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黄昏的时候，海军军营里休息的号声吹起，声音悲壮而悠长。那熟悉的调子，常使她莫名其妙地要落泪。此时，她只觉得自己很小，很小，不知不觉中，她成了大海最小的女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bc389588db166d9b0e244402"/>
          <p:cNvPicPr/>
          <p:nvPr/>
        </p:nvPicPr>
        <p:blipFill>
          <a:blip r:embed="rId1"/>
          <a:stretch/>
        </p:blipFill>
        <p:spPr>
          <a:xfrm>
            <a:off x="1766880" y="380880"/>
            <a:ext cx="5334120" cy="3867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914400" y="15796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海上的风光，海上的人，吸引着冰心，使她成了一个关不住的孩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29 大舞台 拷贝1"/>
          <p:cNvPicPr/>
          <p:nvPr/>
        </p:nvPicPr>
        <p:blipFill>
          <a:blip r:embed="rId1"/>
          <a:srcRect l="0" t="0" r="0" b="-37"/>
          <a:stretch/>
        </p:blipFill>
        <p:spPr>
          <a:xfrm>
            <a:off x="326880" y="3333600"/>
            <a:ext cx="851220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45418fcadcf2adffc037f0f"/>
          <p:cNvPicPr/>
          <p:nvPr/>
        </p:nvPicPr>
        <p:blipFill>
          <a:blip r:embed="rId1"/>
          <a:stretch/>
        </p:blipFill>
        <p:spPr>
          <a:xfrm>
            <a:off x="457200" y="1071720"/>
            <a:ext cx="3019320" cy="4525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6" name="Rectangle 5"/>
          <p:cNvSpPr/>
          <p:nvPr/>
        </p:nvSpPr>
        <p:spPr>
          <a:xfrm>
            <a:off x="3581280" y="10778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冰心晚年回忆童年的这段生活时，曾经感情依依地说，营房、旗台、炮台、码头和周围的海边、山上，是她童年时期的活动舞台。在这个无边辽阔的舞台上，她感到了无限的欢畅与自由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200812110204095009"/>
          <p:cNvPicPr/>
          <p:nvPr/>
        </p:nvPicPr>
        <p:blipFill>
          <a:blip r:embed="rId1"/>
          <a:srcRect l="0" t="0" r="0" b="-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611280" y="15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华文新魏"/>
              </a:rPr>
              <a:t>畅谈自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914400" y="243900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冰心奶奶童年的世界真大呀！在这里，她的生活是那样丰富多彩，在这里，她感到了无限的欢畅和自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解了冰心奶奶童年生活，你是否想到自己的“童年舞台”，想到自己的童年舞台正在上演的童年故事？说一说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>
            <a:hlinkClick r:id="rId2" action="ppaction://hlinksldjump"/>
          </p:cNvPr>
          <p:cNvSpPr/>
          <p:nvPr/>
        </p:nvSpPr>
        <p:spPr>
          <a:xfrm>
            <a:off x="75438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无标题9"/>
          <p:cNvPicPr/>
          <p:nvPr/>
        </p:nvPicPr>
        <p:blipFill>
          <a:blip r:embed="rId1"/>
          <a:srcRect l="0" t="0" r="-42" b="-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1225800" y="7621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050"/>
                </a:solidFill>
                <a:latin typeface="Arial"/>
                <a:ea typeface="楷体_GB2312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659960" y="4038480"/>
            <a:ext cx="56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把自己的童年舞台上正在上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童年故事写一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1535040" y="6175440"/>
            <a:ext cx="49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7F2C-3A3E-4F2F-A86D-2A5D116797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2008121006989759"/>
          <p:cNvPicPr/>
          <p:nvPr/>
        </p:nvPicPr>
        <p:blipFill>
          <a:blip r:embed="rId1"/>
          <a:srcRect l="0" t="0" r="0" b="-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1097280" y="6858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华文新魏"/>
              </a:rPr>
              <a:t>我会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33520" y="213264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蕊、茸毛、古董、稚气、聊天、辽阔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合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438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课文介绍了作者童年生活的哪几件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冰心童年的“大舞台”指的是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28600" y="1021320"/>
            <a:ext cx="88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课文介绍了作者童年生活的哪几件事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181240" y="17265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上赏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29 大舞台 拷贝1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"/>
          <p:cNvSpPr/>
          <p:nvPr/>
        </p:nvSpPr>
        <p:spPr>
          <a:xfrm>
            <a:off x="2587320" y="2270160"/>
            <a:ext cx="191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边听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2587320" y="2879640"/>
            <a:ext cx="191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听军号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2790360" y="3413160"/>
            <a:ext cx="25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水兵做朋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2790360" y="4022640"/>
            <a:ext cx="25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打鱼人聊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4076640" y="28954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大海睡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1831320" y="379800"/>
            <a:ext cx="551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冰心童年的“大舞台”指的是什么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33520" y="236124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心童年的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舞台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的就是营房、旗台、炮台、码头和周围的海边、山上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>
            <a:hlinkClick r:id="rId2" action="ppaction://hlinksldjump"/>
          </p:cNvPr>
          <p:cNvSpPr/>
          <p:nvPr/>
        </p:nvSpPr>
        <p:spPr>
          <a:xfrm>
            <a:off x="754380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5a1ecfa70ddfff759152eeb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779400" y="58572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自读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09480" y="175248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默读课文，感受在这个“大舞台”上，童年冰心过着怎样的童年生活？你是从文中什么地方体会到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找到相关的词句画下来。把自己的感受写在书的旁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4648320" y="30798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上的一草一木，都是冰心所熟悉的。早春开放的白头翁有紫色的花、艳黄的蕊，茎上长着发亮的茸毛，看起来像是一件工艺品，老乡叫它是“老么古董花”。蒲公英和苦菜一齐开花的日子，山上像是撒满了星星，这会引得冰心跑东又跑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d710651243f7caf8f6039e93"/>
          <p:cNvPicPr/>
          <p:nvPr/>
        </p:nvPicPr>
        <p:blipFill>
          <a:blip r:embed="rId1"/>
          <a:stretch/>
        </p:blipFill>
        <p:spPr>
          <a:xfrm>
            <a:off x="380880" y="690480"/>
            <a:ext cx="4114800" cy="5300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80880" y="314784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冰心也常一个人跑到海边，看潮起潮落。潮来的时候，仿佛天地都漂浮起来；潮退的时候，仿佛海岸和她自已都被吸卷了去。此时，她童稚的心感受到了大海的亲切与伟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007091417033161412"/>
          <p:cNvPicPr/>
          <p:nvPr/>
        </p:nvPicPr>
        <p:blipFill>
          <a:blip r:embed="rId1"/>
          <a:stretch/>
        </p:blipFill>
        <p:spPr>
          <a:xfrm>
            <a:off x="4100400" y="1330200"/>
            <a:ext cx="463716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20094140234351041"/>
          <p:cNvPicPr/>
          <p:nvPr/>
        </p:nvPicPr>
        <p:blipFill>
          <a:blip r:embed="rId1"/>
          <a:srcRect l="0" t="0" r="0" b="-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11080" y="228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冰心与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28600" y="26571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0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，因随父母移居上海，还在七个月襁褓中的冰心，就在福州往上海的轮船上见到了日后令她痴迷的海。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0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其父由舰长奉调烟台创办海军学校，全家移居烟台。冰心童年在烟台海边生活了近十年，海成为她童年生活的最好的伴侣。她终日所见只是海，她常常在海边散步，在海隅游玩，或者和着浪涛声给弟妹给水兵讲自己创作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落草山英雄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冰心的诗文中写海写得多。无论是她的独创一格的诗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繁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还是脍炙人口的散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往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山中杂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小读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都有许多处写到海，有的篇章是专门歌咏海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海，在冰心的心中，在冰心的笔下，成了一种完美的、崇高的性格和情操的化身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03:32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7:35Z</dcterms:modified>
  <cp:revision>2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b807000000000001024100</vt:lpwstr>
  </property>
  <property fmtid="{D5CDD505-2E9C-101B-9397-08002B2CF9AE}" pid="4" name="Version">
    <vt:r8>1</vt:r8>
  </property>
</Properties>
</file>